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554-469B-452D-9CBF-6ED9B481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630-F8FC-41E2-93BD-30EF7885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31A-1C27-4963-BEE7-6F686FF9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F87-2D2C-48DA-AE86-B8BB60B9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D3F-F4FC-49AF-9EDC-4E1F9798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283-7E7B-4C1A-92A5-0D60ABE1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5B3-E6F8-42E4-BE12-7E02E2CE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2D4-BE38-43CF-8C0D-14D14C5F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148-6503-4888-A7DF-B03EFD23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D60-C078-465E-A0FD-D80532AF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49C-29F6-4CE5-9411-41C21517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32F-5618-4414-9679-BFA75CC9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8274-55AA-4ABE-9D35-0CF382F4D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8062920" cy="25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8800" spc="-1" strike="noStrike">
                <a:solidFill>
                  <a:srgbClr val="000000"/>
                </a:solidFill>
                <a:latin typeface="Times New Roman"/>
              </a:rPr>
              <a:t>Ребёнок </a:t>
            </a:r>
            <a:br>
              <a:rPr sz="8800"/>
            </a:br>
            <a:r>
              <a:rPr b="0" i="1" lang="ru-RU" sz="8800" spc="-1" strike="noStrike">
                <a:solidFill>
                  <a:srgbClr val="000000"/>
                </a:solidFill>
                <a:latin typeface="Times New Roman"/>
              </a:rPr>
              <a:t>со всех сторон</a:t>
            </a:r>
            <a:endParaRPr b="0" i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42920" y="5157720"/>
            <a:ext cx="73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деловая игр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учитель"/>
          <p:cNvPicPr/>
          <p:nvPr/>
        </p:nvPicPr>
        <p:blipFill>
          <a:blip r:embed="rId2"/>
          <a:stretch/>
        </p:blipFill>
        <p:spPr>
          <a:xfrm>
            <a:off x="392040" y="189000"/>
            <a:ext cx="2733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0611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Работаем в группах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Активно высказываемся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Внимательно слушаем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school10-01"/>
          <p:cNvPicPr/>
          <p:nvPr/>
        </p:nvPicPr>
        <p:blipFill>
          <a:blip r:embed="rId1"/>
          <a:stretch/>
        </p:blipFill>
        <p:spPr>
          <a:xfrm>
            <a:off x="6516720" y="4581360"/>
            <a:ext cx="20509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удности младших школьников с ОВЗ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278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выкания к новому коллективу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внимательность, трудности запомина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 решении зада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усидчивост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формирования навыко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сьма и чт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выкания к новому режиму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рушение звукопроизнош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в звуковом анализе и синтез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усвоения зрительного образа букв, замены, смешения букв в процессе чт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еркальное написание букв, пропуски или приписывание элементов бук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916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 rot="20599800">
            <a:off x="6012000" y="404640"/>
            <a:ext cx="2571480" cy="1424160"/>
          </a:xfrm>
          <a:prstGeom prst="cloudCallout">
            <a:avLst>
              <a:gd name="adj1" fmla="val -79995"/>
              <a:gd name="adj2" fmla="val 649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 rot="1297200">
            <a:off x="6084720" y="5084280"/>
            <a:ext cx="2737080" cy="1368720"/>
          </a:xfrm>
          <a:prstGeom prst="cloudCallout">
            <a:avLst>
              <a:gd name="adj1" fmla="val -96115"/>
              <a:gd name="adj2" fmla="val -38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гопе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 rot="889800">
            <a:off x="468000" y="620640"/>
            <a:ext cx="2808360" cy="1368360"/>
          </a:xfrm>
          <a:prstGeom prst="cloudCallout">
            <a:avLst>
              <a:gd name="adj1" fmla="val 67453"/>
              <a:gd name="adj2" fmla="val 62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 rot="20581800">
            <a:off x="365040" y="4955760"/>
            <a:ext cx="2444760" cy="1327320"/>
          </a:xfrm>
          <a:prstGeom prst="cloudCallout">
            <a:avLst>
              <a:gd name="adj1" fmla="val 100476"/>
              <a:gd name="adj2" fmla="val -44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фекто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250920" y="2924280"/>
            <a:ext cx="2736720" cy="1114200"/>
          </a:xfrm>
          <a:prstGeom prst="cloudCallout">
            <a:avLst>
              <a:gd name="adj1" fmla="val 72564"/>
              <a:gd name="adj2" fmla="val 26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6443640" y="2997360"/>
            <a:ext cx="2519280" cy="969840"/>
          </a:xfrm>
          <a:prstGeom prst="cloudCallout">
            <a:avLst>
              <a:gd name="adj1" fmla="val -90518"/>
              <a:gd name="adj2" fmla="val 31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д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29764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753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 rot="20599800">
            <a:off x="6012000" y="404640"/>
            <a:ext cx="2571480" cy="1424160"/>
          </a:xfrm>
          <a:prstGeom prst="cloudCallout">
            <a:avLst>
              <a:gd name="adj1" fmla="val -79995"/>
              <a:gd name="adj2" fmla="val 649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/>
          <p:cNvSpPr/>
          <p:nvPr/>
        </p:nvSpPr>
        <p:spPr>
          <a:xfrm rot="1297200">
            <a:off x="6084720" y="5084280"/>
            <a:ext cx="2737080" cy="1368720"/>
          </a:xfrm>
          <a:prstGeom prst="cloudCallout">
            <a:avLst>
              <a:gd name="adj1" fmla="val -96115"/>
              <a:gd name="adj2" fmla="val -38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гопе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"/>
          <p:cNvSpPr/>
          <p:nvPr/>
        </p:nvSpPr>
        <p:spPr>
          <a:xfrm rot="889800">
            <a:off x="468000" y="620640"/>
            <a:ext cx="2808360" cy="1368360"/>
          </a:xfrm>
          <a:prstGeom prst="cloudCallout">
            <a:avLst>
              <a:gd name="adj1" fmla="val 67453"/>
              <a:gd name="adj2" fmla="val 62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"/>
          <p:cNvSpPr/>
          <p:nvPr/>
        </p:nvSpPr>
        <p:spPr>
          <a:xfrm rot="20581800">
            <a:off x="365040" y="4955760"/>
            <a:ext cx="2444760" cy="1327320"/>
          </a:xfrm>
          <a:prstGeom prst="cloudCallout">
            <a:avLst>
              <a:gd name="adj1" fmla="val 100476"/>
              <a:gd name="adj2" fmla="val -44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фекто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250920" y="2924280"/>
            <a:ext cx="2736720" cy="1114200"/>
          </a:xfrm>
          <a:prstGeom prst="cloudCallout">
            <a:avLst>
              <a:gd name="adj1" fmla="val 72564"/>
              <a:gd name="adj2" fmla="val 26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443640" y="2997360"/>
            <a:ext cx="2519280" cy="969840"/>
          </a:xfrm>
          <a:prstGeom prst="cloudCallout">
            <a:avLst>
              <a:gd name="adj1" fmla="val -90518"/>
              <a:gd name="adj2" fmla="val 31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д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30286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Я сегодня вспомнила ….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Меня порадовало….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Мне было трудно…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за работу!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4T06:35:35Z</dcterms:created>
  <dc:creator>Admin</dc:creator>
  <dc:description/>
  <dc:language>en-US</dc:language>
  <cp:lastModifiedBy>Admin</cp:lastModifiedBy>
  <dcterms:modified xsi:type="dcterms:W3CDTF">2018-03-15T17:47:21Z</dcterms:modified>
  <cp:revision>8</cp:revision>
  <dc:subject/>
  <dc:title>Your Title Here…</dc:title>
</cp:coreProperties>
</file>