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0F9-ED3A-4A75-A4A2-C7045B03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477-82A5-41D6-A074-4CF6C158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BDD-D192-4400-88AB-2F91D374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252-43F7-4406-BD6D-1CDC326F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32C-7C10-4D39-976B-7C60B95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C72-845C-4365-A933-05A26365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D14-17D3-4EA4-A091-277875AC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441-DFDA-491F-86F9-3B5F160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35D-B075-4F03-9886-434CD6E5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AB5-0E06-461A-B8B5-070C4DF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9D4-BBD3-41A5-98A9-E76A51D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6A1-0C0A-4CC5-BD94-A2A3401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2D28-AF83-46B4-86DE-65297183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8062920" cy="25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Ребёнок </a:t>
            </a:r>
            <a:br>
              <a:rPr sz="8800"/>
            </a:br>
            <a:r>
              <a:rPr b="0" i="1" lang="ru-RU" sz="8800" spc="-1" strike="noStrike">
                <a:solidFill>
                  <a:srgbClr val="000000"/>
                </a:solidFill>
                <a:latin typeface="Times New Roman"/>
              </a:rPr>
              <a:t>со всех сторон</a:t>
            </a:r>
            <a:endParaRPr b="0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2920" y="5157720"/>
            <a:ext cx="73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деловая иг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учитель"/>
          <p:cNvPicPr/>
          <p:nvPr/>
        </p:nvPicPr>
        <p:blipFill>
          <a:blip r:embed="rId2"/>
          <a:stretch/>
        </p:blipFill>
        <p:spPr>
          <a:xfrm>
            <a:off x="392040" y="189000"/>
            <a:ext cx="2733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061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аботаем в группах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Активно высказываемс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Внимательно слушаем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school10-01"/>
          <p:cNvPicPr/>
          <p:nvPr/>
        </p:nvPicPr>
        <p:blipFill>
          <a:blip r:embed="rId1"/>
          <a:stretch/>
        </p:blipFill>
        <p:spPr>
          <a:xfrm>
            <a:off x="6516720" y="4581360"/>
            <a:ext cx="20509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удности младших школьников с ОВЗ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278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коллектив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, трудности запомина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 решении зада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усидчивос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формирования навык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сьма и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режим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ушение звукопроизнош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в звуковом анализе и синтез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усвоения зрительного образа букв, замены, смешения букв в процессе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еркальное написание букв, пропуски или приписывание элементов бук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976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0286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годня вспомнила 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ня порадовало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не было трудно…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за работу!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Admin</cp:lastModifiedBy>
  <dcterms:modified xsi:type="dcterms:W3CDTF">2018-03-15T17:47:21Z</dcterms:modified>
  <cp:revision>8</cp:revision>
  <dc:subject/>
  <dc:title>Your Title Here…</dc:title>
</cp:coreProperties>
</file>