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BBD-01A7-4C79-955E-0ECB27B6F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0BAD-73F8-40AC-B7BB-76F181AA1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116-A453-4A64-B87D-5B2CF3F3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276-695C-4756-B3D2-CD7FAA94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1CB-0258-4980-8534-5E24001F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C37-84FD-4963-A89F-9069225A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47A-58D4-467F-8F35-FCC79FF1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971-1FDA-4605-822D-920F68A0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BEAC-23C5-4CF0-A4B3-42EBFD0B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5B5C-470E-4C1B-862A-4B90016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AC27-D02A-4FAC-8E42-7927202B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BB8-BF97-46D9-A985-5E94FEC6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3E2E-A685-45DA-B012-C6D7AAE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840-A5D3-491D-B092-037C8DC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F13E-28F6-4945-B02D-6AC59D31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A9E-5425-4AE4-9064-05961C1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985-9CDC-4302-B786-DF082F3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2E00-D492-47EB-8BE5-267216F8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6169-6C1B-4551-AFBE-DD710DD7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0D4A-B873-43C9-9DF0-7F8072C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B0CC-9713-41F9-8CE9-79F08A7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DB88-AEBF-466D-BFB6-E07DD088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6DE0-0B3F-410B-8125-9DC449D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C727-6EBE-406D-90F8-58C4B27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38E-3DA3-4151-9B32-1E98FF8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1CA6-20A8-4B63-9728-AF44FF62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741D-1487-4A1C-9F8F-434213C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5B6D-2806-48F6-847A-4059A86A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13E2-7C27-468C-A0A4-7F3BD6B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EC08-4E8F-4BD7-8E22-12D95F6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6280-6734-40E2-89F7-67308545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F2C4-5F86-4513-9A55-86881E3C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1406-2100-4F54-A305-AD1DFC44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00D2-51A6-4E01-AF2B-5072197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BC57-1D7A-4C75-A0A9-D60888A0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BA3-D52E-433F-80BC-CB250E75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24DA-4454-402F-B79E-DA8EE60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C59B-9A19-4EC1-A6A0-33B9411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3DD2-A99A-4557-B229-897E6BA3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22CB-F331-46AE-BD74-433DB9E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CB1D-979E-4554-A8D8-725DA67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264F-2D60-41A6-8885-ED9034F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1891-5BE0-47FB-8699-C6F52E29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4BEF-0CA8-44A0-878A-B55B9439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6963-E706-4CF4-8900-9C571A27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F693-3F26-4406-A7BE-5050EE87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9DB-FE63-4FDC-B0F5-6C0CBC6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5E5A-57D4-48CC-AAB5-6DA93F6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6CC0-BDE0-4B5D-B2BF-9DBB94D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973C-C5F0-4B7F-86BB-1F51710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0662-1DD5-4B1F-9883-5D1AC81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C761-71F1-450A-A899-03954A04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005D-3AB3-4A64-A3E1-59BD38C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8B5B-0B9F-4ECF-BE5F-D83EEB0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89AA-DA06-42DF-B5C2-D3503D8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2641-34AC-42A6-83BA-FD55F788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BF12-F98A-412B-98C4-4B12C08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374-6BA0-44CE-A554-5F96A43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43F8-BBEE-46F4-B9ED-D014BF5C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BE5C4-EE33-4A63-A9A0-8B375FB1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C126D-A469-4DF7-AB07-158DAE4B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B5088-7B33-42C9-8F55-99E5377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CC516-C77E-49E5-A13C-CE8B2AD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950FB-A584-47CC-8BEA-A6A31B1E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BA662-E84A-4A4B-B87B-331722C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1CE93-1860-4FD3-BE36-994B0C8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88171-F8D0-4BDB-9D9F-A6241877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37CBF-CBB6-4120-A5CA-93CCA21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42E-CFF8-43CE-831C-17D785C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97AFC-68A7-405D-9B9F-D5B0E7A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CD48B-F6A5-46ED-BE55-1DA06532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A8218-D536-4742-B675-EC846D9F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9A7C-7238-4A9D-8622-5AD8461F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0C93-DA52-4299-B255-627043A3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499F-2FCC-4172-AA04-9EC8251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2E998-C5EC-4D41-86DA-600BAA91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1151-F331-4E3B-8211-F6D44C1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2B09-5213-444C-8B10-C3859FB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0296-B43C-4DAE-8831-666ED4A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EAA-99C6-4044-8D4A-753D9C6B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C878-0DBF-42EE-A418-7BC8B7D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32E1-388C-48C2-8348-E902B17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08842-5CE5-4D28-B3BC-2E37CE9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EC906-12AB-4462-9EB4-A91C025D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BB45-5072-46DB-8F16-900472F7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0A7-B7CB-4FF3-A5A0-33C8F78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449-D9FD-4C92-9B7B-AF539585793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C48-1B0B-4190-848A-68ABCB2C7C5D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8D01-44DA-48CC-A985-E2520E24C6C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F561-AE84-4828-90DE-38703812DEF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94E-BBA8-42BE-8123-19295A24C09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E183-E2BE-4E7F-8AC9-A30D73C598E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EF16-AA37-4C5C-A693-A57645D3215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6480360" cy="23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534c"/>
                </a:solidFill>
                <a:latin typeface="Book Antiqua"/>
              </a:rPr>
              <a:t>ПОЛИТИЧЕСКИЕ ПАРТИИ</a:t>
            </a:r>
            <a:br>
              <a:rPr sz="3600"/>
            </a:br>
            <a:r>
              <a:rPr b="0" lang="ru-RU" sz="3600" spc="-1" strike="noStrike">
                <a:solidFill>
                  <a:srgbClr val="47534c"/>
                </a:solidFill>
                <a:latin typeface="Book Antiqua"/>
              </a:rPr>
              <a:t> И ДВИЖЕНИЯ.</a:t>
            </a:r>
            <a:br>
              <a:rPr sz="36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826920" y="357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СПЕКТР ПОЛИТИЧЕСКИХ ИДЕОЛОГ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1268280"/>
          <a:ext cx="8496360" cy="1616040"/>
        </p:xfrm>
        <a:graphic>
          <a:graphicData uri="http://schemas.openxmlformats.org/drawingml/2006/table">
            <a:tbl>
              <a:tblPr/>
              <a:tblGrid>
                <a:gridCol w="2984400"/>
                <a:gridCol w="2449440"/>
                <a:gridCol w="3062520"/>
              </a:tblGrid>
              <a:tr h="161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В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ЕНТР-ИСТ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АВ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79280" y="3068640"/>
          <a:ext cx="8496360" cy="1608120"/>
        </p:xfrm>
        <a:graphic>
          <a:graphicData uri="http://schemas.openxmlformats.org/drawingml/2006/table">
            <a:tbl>
              <a:tblPr/>
              <a:tblGrid>
                <a:gridCol w="1608120"/>
                <a:gridCol w="1376640"/>
                <a:gridCol w="2449440"/>
                <a:gridCol w="1531800"/>
                <a:gridCol w="1530360"/>
              </a:tblGrid>
              <a:tr h="16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Й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РАДИ-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-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-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Й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РАДИ-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250920" y="4869000"/>
          <a:ext cx="8496360" cy="1608120"/>
        </p:xfrm>
        <a:graphic>
          <a:graphicData uri="http://schemas.openxmlformats.org/drawingml/2006/table">
            <a:tbl>
              <a:tblPr/>
              <a:tblGrid>
                <a:gridCol w="1608120"/>
                <a:gridCol w="1376280"/>
                <a:gridCol w="2449440"/>
                <a:gridCol w="1532160"/>
                <a:gridCol w="1530360"/>
              </a:tblGrid>
              <a:tr h="16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КОММУ-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СОЦИ-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ЛИБЕР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КОНСЕРВА-Т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ФАШ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ОММУНИСТИЧЕСКАЯ ИДЕОЛОГИЯ(КОММУНИЗМ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ный контроль государства над всеми сферами жизни обществ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ничтожение частной собствен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ционализация предприят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щеобязательность труд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сударственное воспитание дете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щежит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пределение богатств с учетом интересов всех слоев населен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ммунизм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еннадий Зюган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3" descr="C:\Users\Ольга\Desktop\кпрф.png"/>
          <p:cNvPicPr/>
          <p:nvPr/>
        </p:nvPicPr>
        <p:blipFill>
          <a:blip r:embed="rId1"/>
          <a:srcRect l="0" t="0" r="49554" b="0"/>
          <a:stretch/>
        </p:blipFill>
        <p:spPr>
          <a:xfrm>
            <a:off x="250920" y="189000"/>
            <a:ext cx="4825800" cy="4419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Ольга\Pictures\Зюганов в обращение 2012.jpg"/>
          <p:cNvPicPr/>
          <p:nvPr/>
        </p:nvPicPr>
        <p:blipFill>
          <a:blip r:embed="rId2"/>
          <a:stretch/>
        </p:blipFill>
        <p:spPr>
          <a:xfrm>
            <a:off x="5940360" y="692280"/>
            <a:ext cx="2968560" cy="3698640"/>
          </a:xfrm>
          <a:prstGeom prst="rect">
            <a:avLst/>
          </a:prstGeom>
          <a:ln w="0">
            <a:noFill/>
          </a:ln>
        </p:spPr>
      </p:pic>
      <p:grpSp>
        <p:nvGrpSpPr>
          <p:cNvPr id="393" name="Скругленный прямоугольник 7"/>
          <p:cNvGrpSpPr/>
          <p:nvPr/>
        </p:nvGrpSpPr>
        <p:grpSpPr>
          <a:xfrm>
            <a:off x="5767560" y="165240"/>
            <a:ext cx="3224160" cy="699840"/>
            <a:chOff x="5767560" y="165240"/>
            <a:chExt cx="3224160" cy="699840"/>
          </a:xfrm>
        </p:grpSpPr>
        <p:pic>
          <p:nvPicPr>
            <p:cNvPr id="394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767560" y="165240"/>
              <a:ext cx="32241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827680" y="22068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Геннадий Зюга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Скругленный прямоугольник 9"/>
          <p:cNvSpPr/>
          <p:nvPr/>
        </p:nvSpPr>
        <p:spPr>
          <a:xfrm>
            <a:off x="3419640" y="3716280"/>
            <a:ext cx="374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оссия, труд, народовластие, социализ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324000" y="486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ь страны. Дружба с другими стра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ение вооруженных сил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изация ключевых отрасле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бождение бедных от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справедливость. Жилье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чее питание и повышение стипендий для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534c"/>
                </a:solidFill>
                <a:latin typeface="Book Antiqua"/>
              </a:rPr>
              <a:t>СОЦИАЛИСТИЧЕСКАЯ ИДЕОЛОГИЯ.</a:t>
            </a:r>
            <a:br>
              <a:rPr sz="2800"/>
            </a:br>
            <a:r>
              <a:rPr b="0" lang="ru-RU" sz="2800" spc="-1" strike="noStrike">
                <a:solidFill>
                  <a:srgbClr val="47534c"/>
                </a:solidFill>
                <a:latin typeface="Book Antiqua"/>
              </a:rPr>
              <a:t>(СОЦИАЛИЗМ. СОЦИАЛ-ДЕМОКРАТ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меренное государственное регулирование экономи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итие рыночных отношен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обода. Равенство. Справедливост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циальная защищенность трудящихс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держка малоимущи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кращение разрыва между богатыми и бедны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лог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Users\Ольга\Pictures\img1266246183.jpg"/>
          <p:cNvPicPr/>
          <p:nvPr/>
        </p:nvPicPr>
        <p:blipFill>
          <a:blip r:embed="rId1"/>
          <a:stretch/>
        </p:blipFill>
        <p:spPr>
          <a:xfrm>
            <a:off x="6588000" y="476280"/>
            <a:ext cx="2016360" cy="3024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360" y="3357720"/>
            <a:ext cx="82072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Культуру под защиту государств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ласть под контроль народ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окращение разрыва между богатыми и бедны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ддержка профсоюзов. Защита трудящихся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мышленность под контроль государств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оциальная защита семь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беспечить население жильем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платное образование и медицин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3" name="Picture 4" descr="C:\Users\Ольга\Desktop\ср.png"/>
          <p:cNvPicPr/>
          <p:nvPr/>
        </p:nvPicPr>
        <p:blipFill>
          <a:blip r:embed="rId2"/>
          <a:srcRect l="0" t="0" r="41143" b="0"/>
          <a:stretch/>
        </p:blipFill>
        <p:spPr>
          <a:xfrm>
            <a:off x="324000" y="189000"/>
            <a:ext cx="55432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404" name="Скругленный прямоугольник 7"/>
          <p:cNvGrpSpPr/>
          <p:nvPr/>
        </p:nvGrpSpPr>
        <p:grpSpPr>
          <a:xfrm>
            <a:off x="5767560" y="165240"/>
            <a:ext cx="3224160" cy="699840"/>
            <a:chOff x="5767560" y="165240"/>
            <a:chExt cx="3224160" cy="699840"/>
          </a:xfrm>
        </p:grpSpPr>
        <p:pic>
          <p:nvPicPr>
            <p:cNvPr id="40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767560" y="165240"/>
              <a:ext cx="32241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827680" y="22068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ергей Миро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Скругленный прямоугольник 8"/>
          <p:cNvSpPr/>
          <p:nvPr/>
        </p:nvSpPr>
        <p:spPr>
          <a:xfrm>
            <a:off x="3203640" y="2349360"/>
            <a:ext cx="3744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праведливость. Свобода. Солида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ЛИБЕРАЛЬНАЯ ИДЕОЛОГИЯ (ЛИБЕРАЛИЗМ, ЛИБЕРАЛ-ДЕМОКРАТ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ндивид важнее обществ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знание права на жизнь, собственность и свобод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основе свободы лежит частная собственност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итический плюрал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сенародное обсуждение закон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ободная рыночная экономик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зрачность государственной вла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C:\Users\Ольга\Pictures\pic_1358357091.jpg"/>
          <p:cNvPicPr/>
          <p:nvPr/>
        </p:nvPicPr>
        <p:blipFill>
          <a:blip r:embed="rId1"/>
          <a:stretch/>
        </p:blipFill>
        <p:spPr>
          <a:xfrm>
            <a:off x="6035760" y="1484280"/>
            <a:ext cx="3108240" cy="23320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560" y="278100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динить русских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дарить по засилью западной культур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дарить по корруп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ать развитие малому бизнес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итие аграрного сектор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здать культ семь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менить ЕГЭ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высить стипенд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менить мораторий на смертную каз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3" name="Picture 5" descr="C:\Users\Ольга\Desktop\лдпр.png"/>
          <p:cNvPicPr/>
          <p:nvPr/>
        </p:nvPicPr>
        <p:blipFill>
          <a:blip r:embed="rId2"/>
          <a:stretch/>
        </p:blipFill>
        <p:spPr>
          <a:xfrm>
            <a:off x="250920" y="260280"/>
            <a:ext cx="7542000" cy="1513080"/>
          </a:xfrm>
          <a:prstGeom prst="rect">
            <a:avLst/>
          </a:prstGeom>
          <a:ln w="0">
            <a:noFill/>
          </a:ln>
        </p:spPr>
      </p:pic>
      <p:grpSp>
        <p:nvGrpSpPr>
          <p:cNvPr id="414" name="Скругленный прямоугольник 7"/>
          <p:cNvGrpSpPr/>
          <p:nvPr/>
        </p:nvGrpSpPr>
        <p:grpSpPr>
          <a:xfrm>
            <a:off x="5950080" y="3833640"/>
            <a:ext cx="3217680" cy="702000"/>
            <a:chOff x="5950080" y="3833640"/>
            <a:chExt cx="3217680" cy="702000"/>
          </a:xfrm>
        </p:grpSpPr>
        <p:pic>
          <p:nvPicPr>
            <p:cNvPr id="41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950080" y="3833640"/>
              <a:ext cx="321768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06960" y="3892680"/>
              <a:ext cx="3105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ладимир Жиринов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Скругленный прямоугольник 8"/>
          <p:cNvSpPr/>
          <p:nvPr/>
        </p:nvSpPr>
        <p:spPr>
          <a:xfrm>
            <a:off x="2484360" y="1773360"/>
            <a:ext cx="374328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Ы ЗА РУССКИ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КОНСЕРВАТИВНАЯ ИДЕОЛОГИЯ (КОНСЕРВАТИЗМ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верженность традиционным ценностям и порядка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дея национального велич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дленные и осторожные изменен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иентация на государственный авторитет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астная собственность – гарант личной свободы и социального порядк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средоточение политической вла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249192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оссия должна войти в 5-ку крупнейших экономик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ная независимость</a:t>
            </a: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страны по видам продовольств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остойная зарплата работающем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еформа образования, спорта, здравоохранения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оступное жиль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оходный налог -13%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езопасность стран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2" name="Picture 3" descr="C:\Users\Ольга\Pictures\280px-Dmitry_Medvedev_official_large_photo_-1.jpg"/>
          <p:cNvPicPr/>
          <p:nvPr/>
        </p:nvPicPr>
        <p:blipFill>
          <a:blip r:embed="rId1"/>
          <a:stretch/>
        </p:blipFill>
        <p:spPr>
          <a:xfrm>
            <a:off x="6372360" y="189000"/>
            <a:ext cx="2571480" cy="2935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Users\Ольга\Desktop\ер.png"/>
          <p:cNvPicPr/>
          <p:nvPr/>
        </p:nvPicPr>
        <p:blipFill>
          <a:blip r:embed="rId2"/>
          <a:stretch/>
        </p:blipFill>
        <p:spPr>
          <a:xfrm>
            <a:off x="324000" y="189000"/>
            <a:ext cx="6287760" cy="2104920"/>
          </a:xfrm>
          <a:prstGeom prst="rect">
            <a:avLst/>
          </a:prstGeom>
          <a:ln w="0">
            <a:noFill/>
          </a:ln>
        </p:spPr>
      </p:pic>
      <p:grpSp>
        <p:nvGrpSpPr>
          <p:cNvPr id="424" name="Скругленный прямоугольник 7"/>
          <p:cNvGrpSpPr/>
          <p:nvPr/>
        </p:nvGrpSpPr>
        <p:grpSpPr>
          <a:xfrm>
            <a:off x="5950080" y="2968560"/>
            <a:ext cx="3217680" cy="701640"/>
            <a:chOff x="5950080" y="2968560"/>
            <a:chExt cx="3217680" cy="701640"/>
          </a:xfrm>
        </p:grpSpPr>
        <p:pic>
          <p:nvPicPr>
            <p:cNvPr id="42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950080" y="2968560"/>
              <a:ext cx="3217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006960" y="302904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Дмитрий Медвед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ФАШИСТСКАЯ ИДЕОЛОГИЯ (ФАШИЗМ, НАЦИОНАЛ-СОЦИАЛ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аво нации на самоопределен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грессивное стремление к покорению и уничтожению других нац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оритет интересов государства над интересами личност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ие прав и свобод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оталитар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9"/>
          <p:cNvSpPr/>
          <p:nvPr/>
        </p:nvSpPr>
        <p:spPr>
          <a:xfrm>
            <a:off x="324000" y="4437000"/>
            <a:ext cx="828036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534c"/>
                </a:solidFill>
                <a:latin typeface="Century Gothic"/>
              </a:rPr>
              <a:t>Задание 1. </a:t>
            </a: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Сформулировать в 3-х понятиях и зафиксировать на ватамне</a:t>
            </a:r>
            <a:br>
              <a:rPr sz="2400"/>
            </a:b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 </a:t>
            </a:r>
            <a:r>
              <a:rPr b="1" i="1" lang="ru-RU" sz="2400" spc="-1" strike="noStrike" u="sng">
                <a:solidFill>
                  <a:srgbClr val="47534c"/>
                </a:solidFill>
                <a:uFillTx/>
                <a:latin typeface="Century Gothic"/>
              </a:rPr>
              <a:t>интересы своей социальной группы</a:t>
            </a: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, а затем поясн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СОЦИАЛЬНАЯ СТРУКТУРА</a:t>
            </a:r>
            <a:br>
              <a:rPr sz="3200"/>
            </a:b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 ГОСУДАРСТ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5280" y="1700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олодеж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нсионер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изнесмен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редний класс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ли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pSp>
        <p:nvGrpSpPr>
          <p:cNvPr id="343" name="Группа 8"/>
          <p:cNvGrpSpPr/>
          <p:nvPr/>
        </p:nvGrpSpPr>
        <p:grpSpPr>
          <a:xfrm>
            <a:off x="4427640" y="1700280"/>
            <a:ext cx="2160360" cy="2592360"/>
            <a:chOff x="4427640" y="1700280"/>
            <a:chExt cx="2160360" cy="2592360"/>
          </a:xfrm>
        </p:grpSpPr>
        <p:sp>
          <p:nvSpPr>
            <p:cNvPr id="344" name="Прямоугольник 3"/>
            <p:cNvSpPr/>
            <p:nvPr/>
          </p:nvSpPr>
          <p:spPr>
            <a:xfrm>
              <a:off x="4427640" y="1700280"/>
              <a:ext cx="2160360" cy="4316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оугольник 4"/>
            <p:cNvSpPr/>
            <p:nvPr/>
          </p:nvSpPr>
          <p:spPr>
            <a:xfrm>
              <a:off x="4427640" y="2205000"/>
              <a:ext cx="2160360" cy="431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оугольник 5"/>
            <p:cNvSpPr/>
            <p:nvPr/>
          </p:nvSpPr>
          <p:spPr>
            <a:xfrm>
              <a:off x="4427640" y="2779560"/>
              <a:ext cx="2160360" cy="433440"/>
            </a:xfrm>
            <a:prstGeom prst="rect">
              <a:avLst/>
            </a:prstGeom>
            <a:solidFill>
              <a:srgbClr val="ecbbb2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6"/>
            <p:cNvSpPr/>
            <p:nvPr/>
          </p:nvSpPr>
          <p:spPr>
            <a:xfrm>
              <a:off x="4427640" y="3355920"/>
              <a:ext cx="2160360" cy="431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7"/>
            <p:cNvSpPr/>
            <p:nvPr/>
          </p:nvSpPr>
          <p:spPr>
            <a:xfrm>
              <a:off x="4427640" y="3861000"/>
              <a:ext cx="2160360" cy="431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ОЛИТИЧЕСКИЕ ПАРТИИ РОССИИ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9280" y="1699920"/>
            <a:ext cx="7931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одная партия «За женщин России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льянс зелены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пенсионеров Росс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олодая Росс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грарная партия Росс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ПРОТИВ ВСЕ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налогоплательщик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ветеран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ожденные в СССР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ЛАКАТ ПРЕДВЫБОРНОЙ КАМПАН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94920" y="2997360"/>
            <a:ext cx="8147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Название партии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ФИ лидера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Слой общества, чьи интересы представляют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Типы, к которым относятся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деология. 3 лозунга. Обоснование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РЕЧЬ: доказать, что именно ваша партия должна занять место в Парламенте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3" name="Скругленный прямоугольник 3"/>
          <p:cNvSpPr/>
          <p:nvPr/>
        </p:nvSpPr>
        <p:spPr>
          <a:xfrm>
            <a:off x="324000" y="1628640"/>
            <a:ext cx="83516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адание 4. Создать плакат предвыборной кампании партии и подготовить краткую речь-защ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ВЫБОРЫ</a:t>
            </a:r>
            <a:br>
              <a:rPr sz="3200"/>
            </a:b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В ПАРЛАМЕНТ ГОСУДАРСТ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ай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в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сеобщ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Скругленный прямоугольник 3"/>
          <p:cNvSpPr/>
          <p:nvPr/>
        </p:nvSpPr>
        <p:spPr>
          <a:xfrm>
            <a:off x="1042920" y="4005360"/>
            <a:ext cx="705816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дводим ит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читаем, сколько мест в Парламенте займет каждая партия (в процен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7534c"/>
                </a:solidFill>
                <a:latin typeface="Book Antiqua"/>
              </a:rPr>
              <a:t>ПОЛИТИЧЕСКАЯ ПАРТИЯ - ЭТО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иболее активная и организованная часть социальной группы или класса, выражающая их интересы,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язанная идеологической общностью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 борющаяся за политическую вла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РИЗНАКИ ПОЛИТИЧЕСКОЙ ПАРТ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00160" y="1544400"/>
            <a:ext cx="8712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1. О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бщественная организация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2. Носитель определенной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политической идеологии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3. Наличие 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политической программы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4. Открытая ориентация на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борьбу за государственную власть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 в рамках закона, т.е. посредством участия в выборах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5.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 Некоммерческий характер деятельности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6. Наличие определенной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структуры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руководящих органов, членства, норм внутренней жизни, фиксируемых в уставе, и т.д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217440" y="5864400"/>
            <a:ext cx="8425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дание 2. Выбрать название партии и лидера, указав на критерии выбора. Сформулировать функции политической пар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1520" y="33300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ФУНКЦИИ ПОЛИТИЧЕСКИХ ПАРТИЙ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Скругленный прямоугольник 3"/>
          <p:cNvSpPr/>
          <p:nvPr/>
        </p:nvSpPr>
        <p:spPr>
          <a:xfrm>
            <a:off x="647640" y="1484280"/>
            <a:ext cx="33116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ли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5"/>
          <p:cNvSpPr/>
          <p:nvPr/>
        </p:nvSpPr>
        <p:spPr>
          <a:xfrm>
            <a:off x="5472000" y="3213000"/>
            <a:ext cx="316872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лекто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6"/>
          <p:cNvSpPr/>
          <p:nvPr/>
        </p:nvSpPr>
        <p:spPr>
          <a:xfrm>
            <a:off x="684360" y="3213000"/>
            <a:ext cx="324000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оци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5292720" y="5006880"/>
            <a:ext cx="35272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екру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8"/>
          <p:cNvSpPr/>
          <p:nvPr/>
        </p:nvSpPr>
        <p:spPr>
          <a:xfrm>
            <a:off x="5472000" y="1495440"/>
            <a:ext cx="30956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стави-тель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9"/>
          <p:cNvSpPr/>
          <p:nvPr/>
        </p:nvSpPr>
        <p:spPr>
          <a:xfrm>
            <a:off x="395280" y="5013360"/>
            <a:ext cx="3816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Иде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C:\Users\Ольга\Pictures\flag_kitaya_china_Abali.ru_.png"/>
          <p:cNvPicPr/>
          <p:nvPr/>
        </p:nvPicPr>
        <p:blipFill>
          <a:blip r:embed="rId1"/>
          <a:srcRect l="0" t="0" r="0" b="10923"/>
          <a:stretch/>
        </p:blipFill>
        <p:spPr>
          <a:xfrm>
            <a:off x="684360" y="3949560"/>
            <a:ext cx="2303280" cy="1366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7534c"/>
                </a:solidFill>
                <a:latin typeface="Book Antiqua"/>
              </a:rPr>
              <a:t>ПАРТИЙНАЯ СИСТЕМА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3" name="Picture 2" descr="C:\Users\Ольга\Pictures\3.gif"/>
          <p:cNvPicPr/>
          <p:nvPr/>
        </p:nvPicPr>
        <p:blipFill>
          <a:blip r:embed="rId2"/>
          <a:stretch/>
        </p:blipFill>
        <p:spPr>
          <a:xfrm>
            <a:off x="3255840" y="3968640"/>
            <a:ext cx="2487600" cy="1312920"/>
          </a:xfrm>
          <a:prstGeom prst="rect">
            <a:avLst/>
          </a:prstGeom>
          <a:ln w="0">
            <a:noFill/>
          </a:ln>
        </p:spPr>
      </p:pic>
      <p:grpSp>
        <p:nvGrpSpPr>
          <p:cNvPr id="364" name="Группа 15"/>
          <p:cNvGrpSpPr/>
          <p:nvPr/>
        </p:nvGrpSpPr>
        <p:grpSpPr>
          <a:xfrm>
            <a:off x="468360" y="2133720"/>
            <a:ext cx="7991280" cy="1511280"/>
            <a:chOff x="468360" y="2133720"/>
            <a:chExt cx="7991280" cy="1511280"/>
          </a:xfrm>
        </p:grpSpPr>
        <p:sp>
          <p:nvSpPr>
            <p:cNvPr id="365" name="Скругленный прямоугольник 5"/>
            <p:cNvSpPr/>
            <p:nvPr/>
          </p:nvSpPr>
          <p:spPr>
            <a:xfrm>
              <a:off x="46836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Одно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Скругленный прямоугольник 6"/>
            <p:cNvSpPr/>
            <p:nvPr/>
          </p:nvSpPr>
          <p:spPr>
            <a:xfrm>
              <a:off x="320400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Двух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Скругленный прямоугольник 7"/>
            <p:cNvSpPr/>
            <p:nvPr/>
          </p:nvSpPr>
          <p:spPr>
            <a:xfrm>
              <a:off x="594000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Много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19"/>
          <p:cNvGrpSpPr/>
          <p:nvPr/>
        </p:nvGrpSpPr>
        <p:grpSpPr>
          <a:xfrm>
            <a:off x="1619280" y="1268280"/>
            <a:ext cx="5761080" cy="720720"/>
            <a:chOff x="1619280" y="1268280"/>
            <a:chExt cx="5761080" cy="720720"/>
          </a:xfrm>
        </p:grpSpPr>
        <p:sp>
          <p:nvSpPr>
            <p:cNvPr id="369" name="Прямая соединительная линия 9"/>
            <p:cNvSpPr/>
            <p:nvPr/>
          </p:nvSpPr>
          <p:spPr>
            <a:xfrm>
              <a:off x="4427640" y="126828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14"/>
            <p:cNvSpPr/>
            <p:nvPr/>
          </p:nvSpPr>
          <p:spPr>
            <a:xfrm>
              <a:off x="1619280" y="1628640"/>
              <a:ext cx="5761080" cy="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16"/>
            <p:cNvSpPr/>
            <p:nvPr/>
          </p:nvSpPr>
          <p:spPr>
            <a:xfrm>
              <a:off x="442764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17"/>
            <p:cNvSpPr/>
            <p:nvPr/>
          </p:nvSpPr>
          <p:spPr>
            <a:xfrm>
              <a:off x="738036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8"/>
            <p:cNvSpPr/>
            <p:nvPr/>
          </p:nvSpPr>
          <p:spPr>
            <a:xfrm>
              <a:off x="161928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3" descr="C:\Users\Ольга\Pictures\409002_original.gif"/>
          <p:cNvPicPr/>
          <p:nvPr/>
        </p:nvPicPr>
        <p:blipFill>
          <a:blip r:embed="rId3"/>
          <a:stretch/>
        </p:blipFill>
        <p:spPr>
          <a:xfrm>
            <a:off x="6084720" y="3933720"/>
            <a:ext cx="2374920" cy="1382760"/>
          </a:xfrm>
          <a:prstGeom prst="rect">
            <a:avLst/>
          </a:prstGeom>
          <a:ln w="0">
            <a:noFill/>
          </a:ln>
        </p:spPr>
      </p:pic>
      <p:sp>
        <p:nvSpPr>
          <p:cNvPr id="375" name="Скругленный прямоугольник 23"/>
          <p:cNvSpPr/>
          <p:nvPr/>
        </p:nvSpPr>
        <p:spPr>
          <a:xfrm>
            <a:off x="250920" y="5516640"/>
            <a:ext cx="849780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адание 3. Определить место своей партии в классификации политических пар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7" name="Схема 3" descr=""/>
          <p:cNvPicPr/>
          <p:nvPr/>
        </p:nvPicPr>
        <p:blipFill>
          <a:blip r:embed="rId1"/>
          <a:stretch/>
        </p:blipFill>
        <p:spPr>
          <a:xfrm>
            <a:off x="817560" y="1554120"/>
            <a:ext cx="7223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9" name="Схема 3" descr=""/>
          <p:cNvPicPr/>
          <p:nvPr/>
        </p:nvPicPr>
        <p:blipFill>
          <a:blip r:embed="rId1"/>
          <a:stretch/>
        </p:blipFill>
        <p:spPr>
          <a:xfrm>
            <a:off x="817560" y="1554120"/>
            <a:ext cx="73026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82" name="Схема 4" descr=""/>
          <p:cNvPicPr/>
          <p:nvPr/>
        </p:nvPicPr>
        <p:blipFill>
          <a:blip r:embed="rId2"/>
          <a:stretch/>
        </p:blipFill>
        <p:spPr>
          <a:xfrm>
            <a:off x="817560" y="1554120"/>
            <a:ext cx="7381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8:17:01Z</dcterms:created>
  <dc:creator>Ольга</dc:creator>
  <dc:description/>
  <dc:language>en-US</dc:language>
  <cp:lastModifiedBy>Белькова Ольга Сергеевна</cp:lastModifiedBy>
  <dcterms:modified xsi:type="dcterms:W3CDTF">2019-05-21T16:01:12Z</dcterms:modified>
  <cp:revision>9</cp:revision>
  <dc:subject/>
  <dc:title>Политические партии  и движения, их классификация</dc:title>
</cp:coreProperties>
</file>