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EE0-F1AB-4762-B3AE-644BBE77B1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A63-9540-4904-84BE-05261BB2D9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006-6BF6-4C57-9405-57E0DB5F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CD5-53EB-4FE6-809A-6493800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7C-BC00-472F-B09F-6A6D409F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F66-FFE5-4B62-858F-7E646606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F33A-9F52-43FF-9088-E2552A3B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C505-1D00-43D4-BBF1-DB159DB1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D0C2-2DC1-4725-82C1-4FA7C1AA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2A00-76A3-4737-82AC-ECE623B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2005-7C5E-4B1F-92FB-E968A61A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FA3C-3042-4534-9E21-A123A7A4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56AD-D6B6-4DB8-8B8A-AC734BD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D29-FA29-42B0-8D78-0792572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0044-D225-478D-817B-940666B7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BCA-ACB5-41BB-AE69-B417BEA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AC7-32B2-4FCD-845F-503B76A6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5F79-C45B-47C8-B81C-66C3D999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9454-086E-4E3D-A6A4-9EF5AA31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40BE-A681-4830-BDB2-F859A030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8C8B-3E61-44E6-BC59-37B8A75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BA1B-38A4-4F01-A23F-13F721F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AFC1-5BCF-4217-8BB8-B0A4FA5E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010E-49C5-4E2B-8168-CCC91650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18E-2C15-4DE6-AA42-FCD88D5C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C455-0F84-485B-A455-E909516E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DAF6-6996-4C1A-B34B-0C78AE9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50D0-FF91-4277-AF32-1BA07C0C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F0D2-5C0D-41F4-A71E-4679C4D2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A106-CFAF-4278-9A0C-B2164B14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FF22-974E-4045-881D-06C8BD35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837D-0474-40AD-A040-016EAAA3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2B2C-75B0-4A64-B9F8-1F00D246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A30FE-3DFC-4D20-B8F4-36800D80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D15B8-19B3-474B-B897-BBBFF8B3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427-4E31-42B6-AD57-0AB371A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A43E0-E739-4F67-B331-1973814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8C64-3524-43A2-86F9-4D68051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1E53-4515-4117-B291-C9A1B5D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7B24-3BBF-45E4-83FE-625F065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F6DF1-DD74-4D5D-8744-B4541F90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664E-4538-48B4-A3B7-BFB4523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7201-1AC4-4AF3-8EFA-D529313F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E6D7-4643-4024-8129-370778AE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D034-5C19-4EA3-A63D-C19AEF56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71B5-84B0-4257-A13A-D3104775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C25-ED6A-46E6-9376-32AD4ED3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E4E5-0F65-4890-B9F1-38EE2AA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E3A3-C909-4CCD-8C12-87C65B8A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23EB-783E-4948-A6E2-48B05F5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F846-2DA6-42C7-9C5D-8FC797B5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D802-517A-4361-AA4E-83E39086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C98AD-DE5F-44E6-9570-A83F63A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A6F7-EED1-44ED-B721-0C69087E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D822-F779-4604-87A7-0A2F63B7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1C1EA-2D99-4F2B-9D86-DCA420C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DCA5-C478-48CF-8AF3-AAD4AD37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109-5CD8-4091-AB21-80CDD2A0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A727-F15B-44B3-BDED-E53CD512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C58A9-6137-4439-8EEB-F868A73F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54EA1-E4A9-49DD-BE22-818343A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F0473-FF63-4FA7-ADC5-D4DD42B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1AD29-03FC-44F5-AD14-0962158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9F08E-C40C-458C-A341-BB66581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88459-2370-4B27-AEEB-861E6CCA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49600-006A-4DEA-A16E-7F25AD83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87FD1-4480-4874-AC15-419A731E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413F2-1DDF-44A9-A360-47A6E5C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3E8-7199-499E-844A-E16F994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92667-B29B-4207-8E91-F5D1AD3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37027-4AA4-4CA6-808D-ED3ED78A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00E73-1209-42AD-A221-7FF24F23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89E8F-556D-4CF8-B79F-8B349029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C584-CFAD-4C0B-B4C5-D5345D35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F4CE9-5606-4136-B33C-A4E18E7F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2B9C-972B-4392-BCAB-8851B2C1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35A73-AD08-4A77-87F1-D7AF31F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F9CD5-F1A4-46CC-830A-F58746F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626A-8015-4117-AF5E-B7980204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C05-A10B-4C54-89DE-635FB056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35EC1-ACB7-495C-A089-98084CE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65A4D-0A7B-4C7A-8857-B529143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EF022-6C39-4106-8B76-D64D492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000D-94B1-4CE1-A839-7F7F3A69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B9A3-F5A4-4590-9CA8-280D753D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117-92AD-4B12-8C57-FD3B909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D529-FC59-42B4-ACD6-44AB0E12E98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4A7-EFCE-48F3-BFA4-5159AF997BAE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BF65-CC50-4020-868F-11C24578F36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AC94-5F22-4CA6-872A-E2A0478ABD0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39E-7630-40F8-9436-6B826A1D86D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4428-86B5-4EC2-8012-34EBA2B55E8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B5A-E606-41F9-9D59-86417D5BD16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6480360" cy="23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534c"/>
                </a:solidFill>
                <a:latin typeface="Book Antiqua"/>
              </a:rPr>
              <a:t>ПОЛИТИЧЕСКИЕ ПАРТИИ</a:t>
            </a:r>
            <a:br>
              <a:rPr sz="3600"/>
            </a:br>
            <a:r>
              <a:rPr b="0" lang="ru-RU" sz="3600" spc="-1" strike="noStrike">
                <a:solidFill>
                  <a:srgbClr val="47534c"/>
                </a:solidFill>
                <a:latin typeface="Book Antiqua"/>
              </a:rPr>
              <a:t> И ДВИЖЕНИЯ.</a:t>
            </a:r>
            <a:br>
              <a:rPr sz="36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826920" y="357336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СПЕКТР ПОЛИТИЧЕСКИХ ИДЕОЛОГ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1268280"/>
          <a:ext cx="8496360" cy="1616040"/>
        </p:xfrm>
        <a:graphic>
          <a:graphicData uri="http://schemas.openxmlformats.org/drawingml/2006/table">
            <a:tbl>
              <a:tblPr/>
              <a:tblGrid>
                <a:gridCol w="2984400"/>
                <a:gridCol w="2449440"/>
                <a:gridCol w="3062520"/>
              </a:tblGrid>
              <a:tr h="161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В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805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ЦЕНТР-ИСТС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805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АВ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805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79280" y="3068640"/>
          <a:ext cx="8496360" cy="1608120"/>
        </p:xfrm>
        <a:graphic>
          <a:graphicData uri="http://schemas.openxmlformats.org/drawingml/2006/table">
            <a:tbl>
              <a:tblPr/>
              <a:tblGrid>
                <a:gridCol w="1608120"/>
                <a:gridCol w="1376640"/>
                <a:gridCol w="2449440"/>
                <a:gridCol w="1531800"/>
                <a:gridCol w="1530360"/>
              </a:tblGrid>
              <a:tr h="16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Й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РАДИ-К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-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-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Й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РАДИ-К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ec7c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250920" y="4869000"/>
          <a:ext cx="8496360" cy="1608120"/>
        </p:xfrm>
        <a:graphic>
          <a:graphicData uri="http://schemas.openxmlformats.org/drawingml/2006/table">
            <a:tbl>
              <a:tblPr/>
              <a:tblGrid>
                <a:gridCol w="1608120"/>
                <a:gridCol w="1376280"/>
                <a:gridCol w="2449440"/>
                <a:gridCol w="1532160"/>
                <a:gridCol w="1530360"/>
              </a:tblGrid>
              <a:tr h="16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КОММУ-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СОЦИ-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ЛИБЕР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КОНСЕРВА-Т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ФАШ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1dfb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ОММУНИСТИЧЕСКАЯ ИДЕОЛОГИЯ(КОММУНИЗМ)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лный контроль государства над всеми сферами жизни обществ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ничтожение частной собствен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ционализация предприяти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щеобязательность труд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осударственное воспитание дете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щежит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пределение богатств с учетом интересов всех слоев населен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ммунизм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еннадий Зюгано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3" descr="C:\Users\Ольга\Desktop\кпрф.png"/>
          <p:cNvPicPr/>
          <p:nvPr/>
        </p:nvPicPr>
        <p:blipFill>
          <a:blip r:embed="rId1"/>
          <a:srcRect l="0" t="0" r="49554" b="0"/>
          <a:stretch/>
        </p:blipFill>
        <p:spPr>
          <a:xfrm>
            <a:off x="250920" y="189000"/>
            <a:ext cx="4825800" cy="4419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Ольга\Pictures\Зюганов в обращение 2012.jpg"/>
          <p:cNvPicPr/>
          <p:nvPr/>
        </p:nvPicPr>
        <p:blipFill>
          <a:blip r:embed="rId2"/>
          <a:stretch/>
        </p:blipFill>
        <p:spPr>
          <a:xfrm>
            <a:off x="5940360" y="692280"/>
            <a:ext cx="2968560" cy="3698640"/>
          </a:xfrm>
          <a:prstGeom prst="rect">
            <a:avLst/>
          </a:prstGeom>
          <a:ln w="0">
            <a:noFill/>
          </a:ln>
        </p:spPr>
      </p:pic>
      <p:grpSp>
        <p:nvGrpSpPr>
          <p:cNvPr id="393" name="Скругленный прямоугольник 7"/>
          <p:cNvGrpSpPr/>
          <p:nvPr/>
        </p:nvGrpSpPr>
        <p:grpSpPr>
          <a:xfrm>
            <a:off x="5767560" y="165240"/>
            <a:ext cx="3224160" cy="699840"/>
            <a:chOff x="5767560" y="165240"/>
            <a:chExt cx="3224160" cy="699840"/>
          </a:xfrm>
        </p:grpSpPr>
        <p:pic>
          <p:nvPicPr>
            <p:cNvPr id="394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767560" y="165240"/>
              <a:ext cx="32241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827680" y="220680"/>
              <a:ext cx="3105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Геннадий Зюга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Скругленный прямоугольник 9"/>
          <p:cNvSpPr/>
          <p:nvPr/>
        </p:nvSpPr>
        <p:spPr>
          <a:xfrm>
            <a:off x="3419640" y="3716280"/>
            <a:ext cx="374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1e4e2"/>
              </a:gs>
            </a:gsLst>
            <a:lin ang="5400000"/>
          </a:gradFill>
          <a:ln w="9360">
            <a:solidFill>
              <a:srgbClr val="8f9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оссия, труд, народовластие, социализ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324000" y="4869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сть страны. Дружба с другими стра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ление вооруженных сил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изация ключевых отраслей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бождение бедных от 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справедливость. Жилье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ячее питание и повышение стипендий для сту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534c"/>
                </a:solidFill>
                <a:latin typeface="Book Antiqua"/>
              </a:rPr>
              <a:t>СОЦИАЛИСТИЧЕСКАЯ ИДЕОЛОГИЯ.</a:t>
            </a:r>
            <a:br>
              <a:rPr sz="2800"/>
            </a:br>
            <a:r>
              <a:rPr b="0" lang="ru-RU" sz="2800" spc="-1" strike="noStrike">
                <a:solidFill>
                  <a:srgbClr val="47534c"/>
                </a:solidFill>
                <a:latin typeface="Book Antiqua"/>
              </a:rPr>
              <a:t>(СОЦИАЛИЗМ. СОЦИАЛ-ДЕМОКРАТИЗМ)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меренное государственное регулирование экономи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итие рыночных отношени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вобода. Равенство. Справедливост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циальная защищенность трудящихс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держка малоимущих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кращение разрыва между богатыми и бедным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лог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C:\Users\Ольга\Pictures\img1266246183.jpg"/>
          <p:cNvPicPr/>
          <p:nvPr/>
        </p:nvPicPr>
        <p:blipFill>
          <a:blip r:embed="rId1"/>
          <a:stretch/>
        </p:blipFill>
        <p:spPr>
          <a:xfrm>
            <a:off x="6588000" y="476280"/>
            <a:ext cx="2016360" cy="3024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68360" y="3357720"/>
            <a:ext cx="82072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Культуру под защиту государств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Власть под контроль народ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окращение разрыва между богатыми и бедным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ддержка профсоюзов. Защита трудящихся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ромышленность под контроль государств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Социальная защита семьи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беспечить население жильем.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545040" indent="-50904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Бесплатное образование и медицина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3" name="Picture 4" descr="C:\Users\Ольга\Desktop\ср.png"/>
          <p:cNvPicPr/>
          <p:nvPr/>
        </p:nvPicPr>
        <p:blipFill>
          <a:blip r:embed="rId2"/>
          <a:srcRect l="0" t="0" r="41143" b="0"/>
          <a:stretch/>
        </p:blipFill>
        <p:spPr>
          <a:xfrm>
            <a:off x="324000" y="189000"/>
            <a:ext cx="55432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404" name="Скругленный прямоугольник 7"/>
          <p:cNvGrpSpPr/>
          <p:nvPr/>
        </p:nvGrpSpPr>
        <p:grpSpPr>
          <a:xfrm>
            <a:off x="5767560" y="165240"/>
            <a:ext cx="3224160" cy="699840"/>
            <a:chOff x="5767560" y="165240"/>
            <a:chExt cx="3224160" cy="699840"/>
          </a:xfrm>
        </p:grpSpPr>
        <p:pic>
          <p:nvPicPr>
            <p:cNvPr id="405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767560" y="165240"/>
              <a:ext cx="32241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827680" y="220680"/>
              <a:ext cx="3105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ергей Миро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Скругленный прямоугольник 8"/>
          <p:cNvSpPr/>
          <p:nvPr/>
        </p:nvSpPr>
        <p:spPr>
          <a:xfrm>
            <a:off x="3203640" y="2349360"/>
            <a:ext cx="3744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1e4e2"/>
              </a:gs>
            </a:gsLst>
            <a:lin ang="5400000"/>
          </a:gradFill>
          <a:ln w="9360">
            <a:solidFill>
              <a:srgbClr val="8f9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праведливость. Свобода. Солидар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Book Antiqua"/>
              </a:rPr>
              <a:t>ЛИБЕРАЛЬНАЯ ИДЕОЛОГИЯ (ЛИБЕРАЛИЗМ, ЛИБЕРАЛ-ДЕМОКРАТИЗМ)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ндивид важнее обществ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знание права на жизнь, собственность и свобод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основе свободы лежит частная собственност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литический плюрализ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сенародное обсуждение закон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вободная рыночная экономик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зрачность государственной вла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C:\Users\Ольга\Pictures\pic_1358357091.jpg"/>
          <p:cNvPicPr/>
          <p:nvPr/>
        </p:nvPicPr>
        <p:blipFill>
          <a:blip r:embed="rId1"/>
          <a:stretch/>
        </p:blipFill>
        <p:spPr>
          <a:xfrm>
            <a:off x="6035760" y="1484280"/>
            <a:ext cx="3108240" cy="23320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560" y="278100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динить русских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дарить по засилью западной культур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дарить по корруп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ать развитие малому бизнес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итие аграрного сектор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здать культ семь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тменить ЕГЭ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высить стипенд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тменить мораторий на смертную каз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3" name="Picture 5" descr="C:\Users\Ольга\Desktop\лдпр.png"/>
          <p:cNvPicPr/>
          <p:nvPr/>
        </p:nvPicPr>
        <p:blipFill>
          <a:blip r:embed="rId2"/>
          <a:stretch/>
        </p:blipFill>
        <p:spPr>
          <a:xfrm>
            <a:off x="250920" y="260280"/>
            <a:ext cx="7542000" cy="1513080"/>
          </a:xfrm>
          <a:prstGeom prst="rect">
            <a:avLst/>
          </a:prstGeom>
          <a:ln w="0">
            <a:noFill/>
          </a:ln>
        </p:spPr>
      </p:pic>
      <p:grpSp>
        <p:nvGrpSpPr>
          <p:cNvPr id="414" name="Скругленный прямоугольник 7"/>
          <p:cNvGrpSpPr/>
          <p:nvPr/>
        </p:nvGrpSpPr>
        <p:grpSpPr>
          <a:xfrm>
            <a:off x="5950080" y="3833640"/>
            <a:ext cx="3217680" cy="702000"/>
            <a:chOff x="5950080" y="3833640"/>
            <a:chExt cx="3217680" cy="702000"/>
          </a:xfrm>
        </p:grpSpPr>
        <p:pic>
          <p:nvPicPr>
            <p:cNvPr id="415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950080" y="3833640"/>
              <a:ext cx="321768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06960" y="3892680"/>
              <a:ext cx="3105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ладимир Жириновск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Скругленный прямоугольник 8"/>
          <p:cNvSpPr/>
          <p:nvPr/>
        </p:nvSpPr>
        <p:spPr>
          <a:xfrm>
            <a:off x="2484360" y="1773360"/>
            <a:ext cx="374328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1e4e2"/>
              </a:gs>
            </a:gsLst>
            <a:lin ang="5400000"/>
          </a:gradFill>
          <a:ln w="9360">
            <a:solidFill>
              <a:srgbClr val="8f9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Ы ЗА РУССКИ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КОНСЕРВАТИВНАЯ ИДЕОЛОГИЯ (КОНСЕРВАТИЗМ)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верженность традиционным ценностям и порядка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дея национального велич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дленные и осторожные изменен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риентация на государственный авторитет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астная собственность – гарант личной свободы и социального порядка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средоточение политической вла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249192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оссия должна войти в 5-ку крупнейших экономик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лная независимость</a:t>
            </a:r>
            <a:br>
              <a:rPr sz="2400"/>
            </a:b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страны по видам продовольств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остойная зарплата работающем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еформа образования, спорта, здравоохранения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оступное жиль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оходный налог -13%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50800" indent="-51444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езопасность стран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2" name="Picture 3" descr="C:\Users\Ольга\Pictures\280px-Dmitry_Medvedev_official_large_photo_-1.jpg"/>
          <p:cNvPicPr/>
          <p:nvPr/>
        </p:nvPicPr>
        <p:blipFill>
          <a:blip r:embed="rId1"/>
          <a:stretch/>
        </p:blipFill>
        <p:spPr>
          <a:xfrm>
            <a:off x="6372360" y="189000"/>
            <a:ext cx="2571480" cy="2935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C:\Users\Ольга\Desktop\ер.png"/>
          <p:cNvPicPr/>
          <p:nvPr/>
        </p:nvPicPr>
        <p:blipFill>
          <a:blip r:embed="rId2"/>
          <a:stretch/>
        </p:blipFill>
        <p:spPr>
          <a:xfrm>
            <a:off x="324000" y="189000"/>
            <a:ext cx="6287760" cy="2104920"/>
          </a:xfrm>
          <a:prstGeom prst="rect">
            <a:avLst/>
          </a:prstGeom>
          <a:ln w="0">
            <a:noFill/>
          </a:ln>
        </p:spPr>
      </p:pic>
      <p:grpSp>
        <p:nvGrpSpPr>
          <p:cNvPr id="424" name="Скругленный прямоугольник 7"/>
          <p:cNvGrpSpPr/>
          <p:nvPr/>
        </p:nvGrpSpPr>
        <p:grpSpPr>
          <a:xfrm>
            <a:off x="5950080" y="2968560"/>
            <a:ext cx="3217680" cy="701640"/>
            <a:chOff x="5950080" y="2968560"/>
            <a:chExt cx="3217680" cy="701640"/>
          </a:xfrm>
        </p:grpSpPr>
        <p:pic>
          <p:nvPicPr>
            <p:cNvPr id="425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950080" y="2968560"/>
              <a:ext cx="3217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006960" y="3029040"/>
              <a:ext cx="3105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Дмитрий Медведе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7d72"/>
                </a:solidFill>
                <a:latin typeface="Book Antiqua"/>
              </a:rPr>
              <a:t>ФАШИСТСКАЯ ИДЕОЛОГИЯ (ФАШИЗМ, НАЦИОНАЛ-СОЦИАЛИЗМ)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аво нации на самоопределени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из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Агрессивное стремление к покорению и уничтожению других наци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оритет интересов государства над интересами личности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авление прав и свобод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оталитаризм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9"/>
          <p:cNvSpPr/>
          <p:nvPr/>
        </p:nvSpPr>
        <p:spPr>
          <a:xfrm>
            <a:off x="324000" y="4437000"/>
            <a:ext cx="828036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efe"/>
              </a:gs>
              <a:gs pos="100000">
                <a:srgbClr val="f0d7d5"/>
              </a:gs>
            </a:gsLst>
            <a:lin ang="5400000"/>
          </a:gradFill>
          <a:ln w="9360">
            <a:solidFill>
              <a:srgbClr val="ce4f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534c"/>
                </a:solidFill>
                <a:latin typeface="Century Gothic"/>
              </a:rPr>
              <a:t>Задание 1. </a:t>
            </a:r>
            <a:r>
              <a:rPr b="1" i="1" lang="ru-RU" sz="2400" spc="-1" strike="noStrike">
                <a:solidFill>
                  <a:srgbClr val="47534c"/>
                </a:solidFill>
                <a:latin typeface="Century Gothic"/>
              </a:rPr>
              <a:t>Сформулировать в 3-х понятиях и зафиксировать на ватамне</a:t>
            </a:r>
            <a:br>
              <a:rPr sz="2400"/>
            </a:br>
            <a:r>
              <a:rPr b="1" i="1" lang="ru-RU" sz="2400" spc="-1" strike="noStrike">
                <a:solidFill>
                  <a:srgbClr val="47534c"/>
                </a:solidFill>
                <a:latin typeface="Century Gothic"/>
              </a:rPr>
              <a:t> </a:t>
            </a:r>
            <a:r>
              <a:rPr b="1" i="1" lang="ru-RU" sz="2400" spc="-1" strike="noStrike" u="sng">
                <a:solidFill>
                  <a:srgbClr val="47534c"/>
                </a:solidFill>
                <a:uFillTx/>
                <a:latin typeface="Century Gothic"/>
              </a:rPr>
              <a:t>интересы своей социальной группы</a:t>
            </a:r>
            <a:r>
              <a:rPr b="1" i="1" lang="ru-RU" sz="2400" spc="-1" strike="noStrike">
                <a:solidFill>
                  <a:srgbClr val="47534c"/>
                </a:solidFill>
                <a:latin typeface="Century Gothic"/>
              </a:rPr>
              <a:t>, а затем поясн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СОЦИАЛЬНАЯ СТРУКТУРА</a:t>
            </a:r>
            <a:br>
              <a:rPr sz="3200"/>
            </a:b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 ГОСУДАРСТВ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5280" y="170028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олодеж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нсионер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изнесмен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редний класс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Эли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grpSp>
        <p:nvGrpSpPr>
          <p:cNvPr id="343" name="Группа 8"/>
          <p:cNvGrpSpPr/>
          <p:nvPr/>
        </p:nvGrpSpPr>
        <p:grpSpPr>
          <a:xfrm>
            <a:off x="4427640" y="1700280"/>
            <a:ext cx="2160360" cy="2592360"/>
            <a:chOff x="4427640" y="1700280"/>
            <a:chExt cx="2160360" cy="2592360"/>
          </a:xfrm>
        </p:grpSpPr>
        <p:sp>
          <p:nvSpPr>
            <p:cNvPr id="344" name="Прямоугольник 3"/>
            <p:cNvSpPr/>
            <p:nvPr/>
          </p:nvSpPr>
          <p:spPr>
            <a:xfrm>
              <a:off x="4427640" y="1700280"/>
              <a:ext cx="2160360" cy="4316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Прямоугольник 4"/>
            <p:cNvSpPr/>
            <p:nvPr/>
          </p:nvSpPr>
          <p:spPr>
            <a:xfrm>
              <a:off x="4427640" y="2205000"/>
              <a:ext cx="2160360" cy="431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оугольник 5"/>
            <p:cNvSpPr/>
            <p:nvPr/>
          </p:nvSpPr>
          <p:spPr>
            <a:xfrm>
              <a:off x="4427640" y="2779560"/>
              <a:ext cx="2160360" cy="433440"/>
            </a:xfrm>
            <a:prstGeom prst="rect">
              <a:avLst/>
            </a:prstGeom>
            <a:solidFill>
              <a:srgbClr val="ecbbb2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6"/>
            <p:cNvSpPr/>
            <p:nvPr/>
          </p:nvSpPr>
          <p:spPr>
            <a:xfrm>
              <a:off x="4427640" y="3355920"/>
              <a:ext cx="2160360" cy="431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7"/>
            <p:cNvSpPr/>
            <p:nvPr/>
          </p:nvSpPr>
          <p:spPr>
            <a:xfrm>
              <a:off x="4427640" y="3861000"/>
              <a:ext cx="2160360" cy="431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ПОЛИТИЧЕСКИЕ ПАРТИИ РОССИИ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9280" y="1699920"/>
            <a:ext cx="7931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родная партия «За женщин России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Альянс зеленых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пенсионеров Росс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олодая Россия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Аграрная партия Росс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ПРОТИВ ВСЕХ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налогоплательщик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артия ветеран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ожденные в СССР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419040" indent="-382680">
              <a:spcBef>
                <a:spcPts val="601"/>
              </a:spcBef>
              <a:buClr>
                <a:srgbClr val="93a299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ПЛАКАТ ПРЕДВЫБОРНОЙ КАМПАН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94920" y="2997360"/>
            <a:ext cx="81471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Название партии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ФИ лидера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Слой общества, чьи интересы представляют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Типы, к которым относятся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Идеология. 3 лозунга. Обоснование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РЕЧЬ: доказать, что именно ваша партия должна занять место в Парламенте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3" name="Скругленный прямоугольник 3"/>
          <p:cNvSpPr/>
          <p:nvPr/>
        </p:nvSpPr>
        <p:spPr>
          <a:xfrm>
            <a:off x="324000" y="1628640"/>
            <a:ext cx="83516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Задание 4. Создать плакат предвыборной кампании партии и подготовить краткую речь-защи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ВЫБОРЫ</a:t>
            </a:r>
            <a:br>
              <a:rPr sz="3200"/>
            </a:b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В ПАРЛАМЕНТ ГОСУДАРСТВ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Тайно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вно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сеобщно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6" name="Скругленный прямоугольник 3"/>
          <p:cNvSpPr/>
          <p:nvPr/>
        </p:nvSpPr>
        <p:spPr>
          <a:xfrm>
            <a:off x="1042920" y="4005360"/>
            <a:ext cx="705816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дводим итог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читаем, сколько мест в Парламенте займет каждая партия (в процен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7534c"/>
                </a:solidFill>
                <a:latin typeface="Book Antiqua"/>
              </a:rPr>
              <a:t>ПОЛИТИЧЕСКАЯ ПАРТИЯ - ЭТО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иболее активная и организованная часть социальной группы или класса, выражающая их интересы,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вязанная идеологической общностью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 борющаяся за политическую власть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ПРИЗНАКИ ПОЛИТИЧЕСКОЙ ПАРТ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00160" y="1544400"/>
            <a:ext cx="8712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1. О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бщественная организация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2. Носитель определенной 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политической идеологии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3. Наличие 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политической программы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4. Открытая ориентация на 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борьбу за государственную власть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 в рамках закона, т.е. посредством участия в выборах;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5.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 Некоммерческий характер деятельности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6. Наличие определенной </a:t>
            </a:r>
            <a:r>
              <a:rPr b="1" lang="ru-RU" sz="2000" spc="-1" strike="noStrike">
                <a:solidFill>
                  <a:srgbClr val="564b3c"/>
                </a:solidFill>
                <a:latin typeface="Century Gothic"/>
              </a:rPr>
              <a:t>структуры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руководящих органов, членства, норм внутренней жизни, фиксируемых в уставе, и т.д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217440" y="5864400"/>
            <a:ext cx="84250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efe"/>
              </a:gs>
              <a:gs pos="100000">
                <a:srgbClr val="f0d7d5"/>
              </a:gs>
            </a:gsLst>
            <a:lin ang="5400000"/>
          </a:gradFill>
          <a:ln w="9360">
            <a:solidFill>
              <a:srgbClr val="ce4f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Здание 2. Выбрать название партии и лидера, указав на критерии выбора. Сформулировать функции политической пар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1520" y="33300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ФУНКЦИИ ПОЛИТИЧЕСКИХ ПАРТИЙ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5" name="Скругленный прямоугольник 3"/>
          <p:cNvSpPr/>
          <p:nvPr/>
        </p:nvSpPr>
        <p:spPr>
          <a:xfrm>
            <a:off x="647640" y="1484280"/>
            <a:ext cx="33116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ли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5"/>
          <p:cNvSpPr/>
          <p:nvPr/>
        </p:nvSpPr>
        <p:spPr>
          <a:xfrm>
            <a:off x="5472000" y="3213000"/>
            <a:ext cx="316872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Электо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6"/>
          <p:cNvSpPr/>
          <p:nvPr/>
        </p:nvSpPr>
        <p:spPr>
          <a:xfrm>
            <a:off x="684360" y="3213000"/>
            <a:ext cx="324000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оци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5292720" y="5006880"/>
            <a:ext cx="35272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екру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8"/>
          <p:cNvSpPr/>
          <p:nvPr/>
        </p:nvSpPr>
        <p:spPr>
          <a:xfrm>
            <a:off x="5472000" y="1495440"/>
            <a:ext cx="30956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едстави-тель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9"/>
          <p:cNvSpPr/>
          <p:nvPr/>
        </p:nvSpPr>
        <p:spPr>
          <a:xfrm>
            <a:off x="395280" y="5013360"/>
            <a:ext cx="3816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9e7d7"/>
              </a:gs>
            </a:gsLst>
            <a:lin ang="5400000"/>
          </a:gradFill>
          <a:ln w="9360">
            <a:solidFill>
              <a:srgbClr val="b3a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Иде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C:\Users\Ольга\Pictures\flag_kitaya_china_Abali.ru_.png"/>
          <p:cNvPicPr/>
          <p:nvPr/>
        </p:nvPicPr>
        <p:blipFill>
          <a:blip r:embed="rId1"/>
          <a:srcRect l="0" t="0" r="0" b="10923"/>
          <a:stretch/>
        </p:blipFill>
        <p:spPr>
          <a:xfrm>
            <a:off x="684360" y="3949560"/>
            <a:ext cx="2303280" cy="1366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47534c"/>
                </a:solidFill>
                <a:latin typeface="Book Antiqua"/>
              </a:rPr>
              <a:t>ПАРТИЙНАЯ СИСТЕМА: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63" name="Picture 2" descr="C:\Users\Ольга\Pictures\3.gif"/>
          <p:cNvPicPr/>
          <p:nvPr/>
        </p:nvPicPr>
        <p:blipFill>
          <a:blip r:embed="rId2"/>
          <a:stretch/>
        </p:blipFill>
        <p:spPr>
          <a:xfrm>
            <a:off x="3255840" y="3968640"/>
            <a:ext cx="2487600" cy="1312920"/>
          </a:xfrm>
          <a:prstGeom prst="rect">
            <a:avLst/>
          </a:prstGeom>
          <a:ln w="0">
            <a:noFill/>
          </a:ln>
        </p:spPr>
      </p:pic>
      <p:grpSp>
        <p:nvGrpSpPr>
          <p:cNvPr id="364" name="Группа 15"/>
          <p:cNvGrpSpPr/>
          <p:nvPr/>
        </p:nvGrpSpPr>
        <p:grpSpPr>
          <a:xfrm>
            <a:off x="468360" y="2133720"/>
            <a:ext cx="7991280" cy="1511280"/>
            <a:chOff x="468360" y="2133720"/>
            <a:chExt cx="7991280" cy="1511280"/>
          </a:xfrm>
        </p:grpSpPr>
        <p:sp>
          <p:nvSpPr>
            <p:cNvPr id="365" name="Скругленный прямоугольник 5"/>
            <p:cNvSpPr/>
            <p:nvPr/>
          </p:nvSpPr>
          <p:spPr>
            <a:xfrm>
              <a:off x="468360" y="2133720"/>
              <a:ext cx="2519640" cy="15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deddd8"/>
                </a:gs>
              </a:gsLst>
              <a:lin ang="5400000"/>
            </a:gradFill>
            <a:ln w="9360">
              <a:solidFill>
                <a:srgbClr val="827e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Однопар-тий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Скругленный прямоугольник 6"/>
            <p:cNvSpPr/>
            <p:nvPr/>
          </p:nvSpPr>
          <p:spPr>
            <a:xfrm>
              <a:off x="3204000" y="2133720"/>
              <a:ext cx="2519640" cy="15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deddd8"/>
                </a:gs>
              </a:gsLst>
              <a:lin ang="5400000"/>
            </a:gradFill>
            <a:ln w="9360">
              <a:solidFill>
                <a:srgbClr val="827e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Двухпар-тий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Скругленный прямоугольник 7"/>
            <p:cNvSpPr/>
            <p:nvPr/>
          </p:nvSpPr>
          <p:spPr>
            <a:xfrm>
              <a:off x="5940000" y="2133720"/>
              <a:ext cx="2519640" cy="1511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deddd8"/>
                </a:gs>
              </a:gsLst>
              <a:lin ang="5400000"/>
            </a:gradFill>
            <a:ln w="9360">
              <a:solidFill>
                <a:srgbClr val="827e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entury Gothic"/>
                </a:rPr>
                <a:t>Многопар-тий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19"/>
          <p:cNvGrpSpPr/>
          <p:nvPr/>
        </p:nvGrpSpPr>
        <p:grpSpPr>
          <a:xfrm>
            <a:off x="1619280" y="1268280"/>
            <a:ext cx="5761080" cy="720720"/>
            <a:chOff x="1619280" y="1268280"/>
            <a:chExt cx="5761080" cy="720720"/>
          </a:xfrm>
        </p:grpSpPr>
        <p:sp>
          <p:nvSpPr>
            <p:cNvPr id="369" name="Прямая соединительная линия 9"/>
            <p:cNvSpPr/>
            <p:nvPr/>
          </p:nvSpPr>
          <p:spPr>
            <a:xfrm>
              <a:off x="4427640" y="126828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14"/>
            <p:cNvSpPr/>
            <p:nvPr/>
          </p:nvSpPr>
          <p:spPr>
            <a:xfrm>
              <a:off x="1619280" y="1628640"/>
              <a:ext cx="5761080" cy="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16"/>
            <p:cNvSpPr/>
            <p:nvPr/>
          </p:nvSpPr>
          <p:spPr>
            <a:xfrm>
              <a:off x="4427640" y="162864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17"/>
            <p:cNvSpPr/>
            <p:nvPr/>
          </p:nvSpPr>
          <p:spPr>
            <a:xfrm>
              <a:off x="7380360" y="162864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8"/>
            <p:cNvSpPr/>
            <p:nvPr/>
          </p:nvSpPr>
          <p:spPr>
            <a:xfrm>
              <a:off x="1619280" y="1628640"/>
              <a:ext cx="0" cy="360360"/>
            </a:xfrm>
            <a:prstGeom prst="line">
              <a:avLst/>
            </a:prstGeom>
            <a:ln w="57240">
              <a:solidFill>
                <a:srgbClr val="8f9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3" descr="C:\Users\Ольга\Pictures\409002_original.gif"/>
          <p:cNvPicPr/>
          <p:nvPr/>
        </p:nvPicPr>
        <p:blipFill>
          <a:blip r:embed="rId3"/>
          <a:stretch/>
        </p:blipFill>
        <p:spPr>
          <a:xfrm>
            <a:off x="6084720" y="3933720"/>
            <a:ext cx="2374920" cy="1382760"/>
          </a:xfrm>
          <a:prstGeom prst="rect">
            <a:avLst/>
          </a:prstGeom>
          <a:ln w="0">
            <a:noFill/>
          </a:ln>
        </p:spPr>
      </p:pic>
      <p:sp>
        <p:nvSpPr>
          <p:cNvPr id="375" name="Скругленный прямоугольник 23"/>
          <p:cNvSpPr/>
          <p:nvPr/>
        </p:nvSpPr>
        <p:spPr>
          <a:xfrm>
            <a:off x="250920" y="5516640"/>
            <a:ext cx="849780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efe"/>
              </a:gs>
              <a:gs pos="100000">
                <a:srgbClr val="f0d7d5"/>
              </a:gs>
            </a:gsLst>
            <a:lin ang="5400000"/>
          </a:gradFill>
          <a:ln w="9360">
            <a:solidFill>
              <a:srgbClr val="ce4f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Задание 3. Определить место своей партии в классификации политических пар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ЛАССИФИКАЦИЯ ПОЛИТИЧЕСКИЙ ПАРТ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7" name="Схема 3" descr=""/>
          <p:cNvPicPr/>
          <p:nvPr/>
        </p:nvPicPr>
        <p:blipFill>
          <a:blip r:embed="rId1"/>
          <a:stretch/>
        </p:blipFill>
        <p:spPr>
          <a:xfrm>
            <a:off x="817560" y="1554120"/>
            <a:ext cx="7223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ЛАССИФИКАЦИЯ ПОЛИТИЧЕСКИЙ ПАРТ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9" name="Схема 3" descr=""/>
          <p:cNvPicPr/>
          <p:nvPr/>
        </p:nvPicPr>
        <p:blipFill>
          <a:blip r:embed="rId1"/>
          <a:stretch/>
        </p:blipFill>
        <p:spPr>
          <a:xfrm>
            <a:off x="817560" y="1554120"/>
            <a:ext cx="73026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534c"/>
                </a:solidFill>
                <a:latin typeface="Book Antiqua"/>
              </a:rPr>
              <a:t>КЛАССИФИКАЦИЯ ПОЛИТИЧЕСКИЙ ПАРТИЙ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82" name="Схема 4" descr=""/>
          <p:cNvPicPr/>
          <p:nvPr/>
        </p:nvPicPr>
        <p:blipFill>
          <a:blip r:embed="rId2"/>
          <a:stretch/>
        </p:blipFill>
        <p:spPr>
          <a:xfrm>
            <a:off x="817560" y="1554120"/>
            <a:ext cx="73818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9T18:17:01Z</dcterms:created>
  <dc:creator>Ольга</dc:creator>
  <dc:description/>
  <dc:language>en-US</dc:language>
  <cp:lastModifiedBy>Белькова Ольга Сергеевна</cp:lastModifiedBy>
  <dcterms:modified xsi:type="dcterms:W3CDTF">2019-05-21T16:01:12Z</dcterms:modified>
  <cp:revision>9</cp:revision>
  <dc:subject/>
  <dc:title>Политические партии  и движения, их классификация</dc:title>
</cp:coreProperties>
</file>