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43B-C729-4CB7-B769-8044D3C9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2F6-EE99-48FC-9988-14C6CB90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D7C-855A-4E57-843D-C146527A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A64-F604-4C04-98B3-6AA4A556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E691-5B77-490E-96A4-31B52F0C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1AB-C1FE-46C4-8B5C-7872C55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4C4-7ACE-41CF-A146-31A204B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97BD-AC80-4286-8D69-344B1B4C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2FB-1624-427A-89A7-D9D499D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A99-7339-4C71-B54B-768A827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8F50-E9FD-4BD2-A87F-0C7A6148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5F2-4014-4E55-ABF0-A1410A4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ADE6-DC8D-49A4-81E1-D49F1A7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F9DF-8D5B-4333-AAA7-6E42B5D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709-B730-41C8-8CE2-EECF5F8A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C91-0214-4D0A-A18C-385CB67D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8EE5-8617-4603-AD08-505D3802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3B64-01FE-44A1-89F0-7F3C8F42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2FB3-2067-4F90-A939-F4BE5971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F587-267C-4575-A84D-FE54D508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9691-8893-4D88-9309-2F3F65A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6783-C4A5-4845-A59B-D3736026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CC1-ECA0-4B65-81C4-880DAA0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1B44-F242-4924-8824-D75F25E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EF2C-0F65-4E2A-9254-6A7094F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1948-ACB0-42C2-9139-9146D08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A639-31ED-467C-A5CF-DCF0795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F5B4-1BB2-4562-B9BD-9504DFF7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B753-F52C-4941-B622-96D72093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0C24-BD59-48D5-A0A2-AD9AA51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68FB-B673-47BE-97E2-8462A3CB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0443-667D-4351-A2BD-2596BCA2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4402-B8DB-4DA1-B4EB-192CE99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76D-F5E5-4B9A-81A6-FEBEDCE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9651-A6C2-41FF-8A56-ED856B6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1D04-85C2-4E67-B8FC-C170161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247D-634A-4E26-8CEE-643D58AB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1F28-83FD-40CC-8441-A94B8A0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7C47-38F0-4D88-A20C-C456224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04C74-BD50-4D2C-BD1C-670BF18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062E-6524-486B-A6DE-F34304D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6841-96DD-49AE-B045-E116490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C431-1A00-4250-AC24-7B35575C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9FB1-F760-4F3D-AC15-5A780A7D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0BE-F5D9-4690-8776-618AF3E9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38CC0-F1CE-4B4D-A612-E0971F05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AD12-52B1-4DCF-9F64-2E03468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5A9A7-2BF4-4464-906F-DB6FECF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4AC2-0DBC-48C6-9269-679A9136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2BA0-03E2-43D9-8CBF-BCDC387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614C-C94D-4950-814A-3B2F865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10D5-1F02-4A9A-A727-A82142E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CA63-23E2-4F77-9A29-90B9EED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F159-18CF-4835-B442-EE441428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5C41-727A-4559-91FB-8D174E24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A9F-63D4-4F4B-A2BB-F074854E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6FC8-85E4-4611-8240-37AD51EC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07696-2BDC-49FB-B5B8-336C702E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FC69-9E9D-4EC1-A487-9778DF5F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4C1A5-0F22-457A-8748-CEFCE7B5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08FB-F459-4440-ADD0-D82738F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9745F-F4BC-47B4-B836-B783B8E1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7D8E-BBD9-4B4B-8D99-8D5A7F9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759E-9AD6-4AE0-8AE1-3FC1668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D487-AFAE-4757-8701-18FA2455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CD65B-798B-45A1-A357-AA9E4DD1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BB7-08D9-4348-9AD1-DA43AF2F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64688-2820-4541-B1B4-F258CF66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A3830-D57E-4226-84D2-4FB981FE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FBF6C-BDCE-44FC-9F2B-AD2CE80C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91936-A9A3-4A65-AA5D-39A7B81B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2BDED-77EE-4139-9E97-2DFA60C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3F68-4533-4D4E-B3B0-2819CD46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7FED-9C59-4EA1-9808-2957C57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A825-1000-422F-A3CC-26EB1665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1573-0A4F-440B-B587-18247A7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E268-18DA-422A-9192-093F38B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45F-DEC6-4849-9301-FDE9F6E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EF38-BEA1-4DAA-8F16-C99FE02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068E0-FD72-490A-ABB5-67D1011C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4496-BF5C-4D0C-85D8-B76C7286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EC65-41FA-41B6-8585-4B7DD62C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4B45-6804-4ACA-BB11-938ABE1B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64E-3931-47AE-AB78-F34F89D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0E6F-0ECA-4CFD-A8F8-4FB1C9E2C85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A8B-714F-4D5A-835A-78C91ABC76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DFC6-55FF-4419-9C36-E303C58758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C88-FC17-4D8C-8F57-CF9CC57EE7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75D-EEE8-4213-869E-D19D8AF000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AFE-657B-402F-8C1D-C12C38D9B3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66E-5B2F-4D42-A931-EE12115B23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1042920" y="44280"/>
            <a:ext cx="810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Челябинский педагогический колледж №1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"/>
          <p:cNvSpPr/>
          <p:nvPr/>
        </p:nvSpPr>
        <p:spPr>
          <a:xfrm>
            <a:off x="1042920" y="1197000"/>
            <a:ext cx="8101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итова М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23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ПОЛЬЗОВАНИЕ НАГЛЯДНОСТИ НА УРОКАХ АНГЛИЙСКОГО ЯЗЫКА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1198800" y="551664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Иваненко Н.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042920" y="651672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ябинск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3"/>
          <p:cNvSpPr/>
          <p:nvPr/>
        </p:nvSpPr>
        <p:spPr>
          <a:xfrm>
            <a:off x="1042920" y="0"/>
            <a:ext cx="8101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1042920" y="1989000"/>
            <a:ext cx="810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TextBox 3"/>
          <p:cNvGrpSpPr/>
          <p:nvPr/>
        </p:nvGrpSpPr>
        <p:grpSpPr>
          <a:xfrm>
            <a:off x="396720" y="1762200"/>
            <a:ext cx="8472600" cy="3419280"/>
            <a:chOff x="396720" y="1762200"/>
            <a:chExt cx="8472600" cy="3419280"/>
          </a:xfrm>
        </p:grpSpPr>
        <p:pic>
          <p:nvPicPr>
            <p:cNvPr id="345" name="TextBox 3" descr=""/>
            <p:cNvPicPr/>
            <p:nvPr/>
          </p:nvPicPr>
          <p:blipFill>
            <a:blip r:embed="rId1"/>
            <a:stretch/>
          </p:blipFill>
          <p:spPr>
            <a:xfrm>
              <a:off x="396720" y="1762200"/>
              <a:ext cx="8472600" cy="34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755640" y="2060640"/>
              <a:ext cx="8101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асибо за внимание 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971640" y="765000"/>
            <a:ext cx="8101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следнее время понимание роли наглядности в учебном процессе значительно изменилось. Оно стало рассматриваться в тесной связи с методическими задачами, которые ставятся перед тем или иным средством наглядности, с необходимостью и целесообразностью применения именно данного средства наглядности на данном конкретном этапе учебно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"/>
          <p:cNvSpPr/>
          <p:nvPr/>
        </p:nvSpPr>
        <p:spPr>
          <a:xfrm>
            <a:off x="1042920" y="771480"/>
            <a:ext cx="7956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анализа методической литературы изучить теоретические основы наглядности и рассмотреть современные подходы к использованию наглядности на уроках английского языка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7"/>
          <p:cNvSpPr/>
          <p:nvPr/>
        </p:nvSpPr>
        <p:spPr>
          <a:xfrm>
            <a:off x="1042920" y="260280"/>
            <a:ext cx="81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1042920" y="1628640"/>
            <a:ext cx="81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 раскрыть сущность понятия «наглядность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рассмотреть особенности формирования лексического и грамматического нав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рассмотреть классификацию наглядности и ее функции на уроках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роанализировать существующие методы и требования к применению наглядности на уроках английского язы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1042920" y="18900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971640" y="162864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и чтение методической литерат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сравнение точек зрения учённы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матери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Картинки по запросу Я.А. Коменский"/>
          <p:cNvPicPr/>
          <p:nvPr/>
        </p:nvPicPr>
        <p:blipFill>
          <a:blip r:embed="rId1"/>
          <a:stretch/>
        </p:blipFill>
        <p:spPr>
          <a:xfrm>
            <a:off x="907920" y="133200"/>
            <a:ext cx="2567160" cy="36705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4"/>
          <p:cNvSpPr/>
          <p:nvPr/>
        </p:nvSpPr>
        <p:spPr>
          <a:xfrm>
            <a:off x="1125000" y="2997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.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3926880" y="30686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Д. Уш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Похожее изображение"/>
          <p:cNvPicPr/>
          <p:nvPr/>
        </p:nvPicPr>
        <p:blipFill>
          <a:blip r:embed="rId2"/>
          <a:stretch/>
        </p:blipFill>
        <p:spPr>
          <a:xfrm>
            <a:off x="3554280" y="152280"/>
            <a:ext cx="2462400" cy="3730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Картинки по запросу Е.Н.Медынский"/>
          <p:cNvPicPr/>
          <p:nvPr/>
        </p:nvPicPr>
        <p:blipFill>
          <a:blip r:embed="rId3"/>
          <a:stretch/>
        </p:blipFill>
        <p:spPr>
          <a:xfrm>
            <a:off x="6345360" y="133200"/>
            <a:ext cx="2280960" cy="380556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8"/>
          <p:cNvSpPr/>
          <p:nvPr/>
        </p:nvSpPr>
        <p:spPr>
          <a:xfrm>
            <a:off x="6524280" y="29973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Н.Меды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1" descr="Похожее изображение"/>
          <p:cNvPicPr/>
          <p:nvPr/>
        </p:nvPicPr>
        <p:blipFill>
          <a:blip r:embed="rId4"/>
          <a:stretch/>
        </p:blipFill>
        <p:spPr>
          <a:xfrm>
            <a:off x="3097080" y="3664080"/>
            <a:ext cx="3376800" cy="3992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10"/>
          <p:cNvSpPr/>
          <p:nvPr/>
        </p:nvSpPr>
        <p:spPr>
          <a:xfrm>
            <a:off x="3846240" y="6488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есталоцц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243080" y="1676520"/>
            <a:ext cx="3554280" cy="4211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Картинки по запросу В.И. Загвязинский"/>
          <p:cNvPicPr/>
          <p:nvPr/>
        </p:nvPicPr>
        <p:blipFill>
          <a:blip r:embed="rId2"/>
          <a:stretch/>
        </p:blipFill>
        <p:spPr>
          <a:xfrm>
            <a:off x="5430960" y="712800"/>
            <a:ext cx="3097080" cy="53895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5"/>
          <p:cNvSpPr/>
          <p:nvPr/>
        </p:nvSpPr>
        <p:spPr>
          <a:xfrm>
            <a:off x="5948280" y="5157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Загвяз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1902240" y="52293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есталоц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1042920" y="260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СОВРЕМЕННЫЕ ПОДХОДЫ К ИСПОЛЬЗОВАНИЮ НАГЛЯДНОСТИ НА УРОКАХ АНГЛИЙСКОГО ЯЗЫКА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"/>
          <p:cNvSpPr/>
          <p:nvPr/>
        </p:nvSpPr>
        <p:spPr>
          <a:xfrm>
            <a:off x="1042920" y="191628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ены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ы нагля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восприятия младшими школьниками нагляд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наглядных сред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применению наглядности на уроках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терактив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5T10:27:11Z</dcterms:created>
  <dc:creator>мразь</dc:creator>
  <dc:description/>
  <dc:language>en-US</dc:language>
  <cp:lastModifiedBy>Komp</cp:lastModifiedBy>
  <dcterms:modified xsi:type="dcterms:W3CDTF">2017-06-01T18:43:05Z</dcterms:modified>
  <cp:revision>30</cp:revision>
  <dc:subject/>
  <dc:title>Слайд 1</dc:title>
</cp:coreProperties>
</file>