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E96-259F-416C-A5C7-2A9A47EF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9D6-C25D-4F40-95D4-8ED086EE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4BD-2330-46B4-8A6D-101A815B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AF5-4DF5-41D9-88E1-52BB4606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F74D-8307-4696-A6FE-E5ABDAC8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A968-FE76-4447-B727-A6C43B65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900C-5AA5-4A8C-AFAC-EDCAA9C9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4F4C-AA64-48ED-801C-D00D0D6E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7D4F-AA4E-461E-95B7-4F8ED289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1B32-4CF8-4C77-B07D-E36E371F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1828-DC11-449C-91EE-A796D0FD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ABF-DC65-4012-B40E-F614C91F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6AB9-7EC4-4F37-9346-D176273A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080D-5031-448F-AAB6-07CCA4D0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BE26-49D2-4CE4-92D8-AD5546D4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BFA5-A051-40DC-9830-BF5CA43B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57B8-1A65-4A7D-B511-7A26BADA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E33E-B274-4411-B3F6-229BB322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787F-1D25-4795-87F3-B76899C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97EC-081B-432B-B246-71A2AA08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154D0-DDD7-4776-89B4-42DFDCF4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EC87-A5DA-49D0-A750-7C9E2C92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057-F675-4AB1-A3F0-F576A82E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496A0-D249-4173-AD6F-B7DEED85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5D0A4-C1AB-4428-BB03-B1B6CD50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15EE-F899-46EE-AF3C-9D5D2CF6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751AB-7F16-448A-A822-5A0E6BAE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2DF3-493A-4E0B-8B30-528FA150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313B-CA0D-42E9-89CA-66550B9E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4993-0072-4F7D-AAD1-D86F1217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B018-0666-4237-8ACB-A147D0A1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F99B1-B643-4F6C-81A1-B52216E2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35AD-C227-470A-BF8D-DE624DFF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DE9-E4C8-486A-A9F8-D46875E3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E51F7-1D56-4FF7-A6E3-8F4E6907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8B343-968B-48ED-AB13-BED1C596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65AD-4D98-4053-A1B3-BE9E36C6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56CF-3D4A-4C8E-B3D5-57DCCA4F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1E76-E988-4FD3-97BE-A97126F6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87945-6FB4-4C87-BD85-D41FD614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FC9D-C106-4648-8576-EAF5BB69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D1E3-5304-471B-83B2-36968333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39A26-5C2B-4BFA-AB53-985936DB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485C2-D96F-405B-B7D6-A0462032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0B0-0B5E-4D34-8500-22317DC6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9086C-0758-4078-B032-9FE56B4C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A6B88-63E9-4A05-A071-2806B0C4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45E35-C4D7-428D-AE94-D06A0F4D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E9F88-81F6-4CDE-8F34-9280583A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A6D2-AC3A-4804-8274-37DB1C1D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AD54E-8E9E-45D9-BB55-5C9222C4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D7267-266A-4379-A233-3A0583B6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49BC6-EE1F-4FEE-B6BA-0BC01FA3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03DD-1C20-48AB-B63B-737EEF76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5AF7C-035D-4D9B-9FBF-7839D07C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688-3A85-4A8B-883B-37070E3B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6FD7B-5FF6-47A2-BC4F-34039604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10E46-EB5F-4777-A7A6-EA40CBA8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652F4-D63E-4F63-9433-C55260F5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367A2-39F9-443A-86C5-FEAF4D5B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0CBA4-561C-4104-96A1-39908D44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A7F7E-F028-4492-BA4F-DC47F951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B401C-53E7-477E-A837-FD050B97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C07F2-44D3-4A84-BD55-CE56E0C3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BCC66-DFE9-4CE0-B6FF-11D00470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D0AE1-73B3-4B0E-93AA-5CF87AB0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82C-050B-40F3-AC69-E05E9B9C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B320F-17C4-4DEF-983D-E3D1D610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3B23D-EEC1-4A81-8D2B-BFF047DF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6AB40-599B-4E5E-B6CE-F442A4C8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CB2FE-28B4-4F9A-8A2C-915C58E2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53C15-1BE9-42FA-BF7F-646990AC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91212-F919-49B7-85F4-FB71847F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10DA7-1C48-4CCF-8441-6E608F31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32705-9D86-4646-97A6-2C1FBAC6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0C94C-4E42-4E74-B178-1891679C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CA560-05F1-45C3-9C7F-D8B61CD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C90-078F-4F0B-807D-740BBF00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024BE-8D3A-4601-BE52-0BD70A3B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2A2A0-C1D3-43E5-93E1-8EBDC1CB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FBEBA-1914-4A8D-8192-6C37332E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7F725-6E90-462F-8037-F11DA23F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1C2B9-E072-49B7-B732-165FEA50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94C-898D-4410-97EE-0282626A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B632-469B-42AF-BF60-FE8CE0333E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8F06-3BD2-4301-BB6B-E97D5E463BE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C466-C1F0-4A1D-B2FE-BAA5CD0FFE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9049-4266-4F27-BCB5-59B2B89F3A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9D2B-2B93-4E59-8C96-02908F1A13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7EE2-63DD-4992-B009-8DABF19D81E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B3E-6973-45D5-8B10-F61DD40C5DD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1042920" y="44280"/>
            <a:ext cx="810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Челябин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«Челябинский педагогический колледж №1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1042920" y="1197000"/>
            <a:ext cx="8101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итова М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а 23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ПОЛЬЗОВАНИЕ НАГЛЯДНОСТИ НА УРОКАХ АНГЛИЙСКОГО ЯЗЫКА В НАЧАЛЬНОЙ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1198800" y="5516640"/>
            <a:ext cx="44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Иваненко Н.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1042920" y="651672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ябинск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3"/>
          <p:cNvSpPr/>
          <p:nvPr/>
        </p:nvSpPr>
        <p:spPr>
          <a:xfrm>
            <a:off x="1042920" y="0"/>
            <a:ext cx="8101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1042920" y="1989000"/>
            <a:ext cx="8101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TextBox 3"/>
          <p:cNvGrpSpPr/>
          <p:nvPr/>
        </p:nvGrpSpPr>
        <p:grpSpPr>
          <a:xfrm>
            <a:off x="396720" y="1762200"/>
            <a:ext cx="8472600" cy="3419280"/>
            <a:chOff x="396720" y="1762200"/>
            <a:chExt cx="8472600" cy="3419280"/>
          </a:xfrm>
        </p:grpSpPr>
        <p:pic>
          <p:nvPicPr>
            <p:cNvPr id="345" name="TextBox 3" descr=""/>
            <p:cNvPicPr/>
            <p:nvPr/>
          </p:nvPicPr>
          <p:blipFill>
            <a:blip r:embed="rId1"/>
            <a:stretch/>
          </p:blipFill>
          <p:spPr>
            <a:xfrm>
              <a:off x="396720" y="1762200"/>
              <a:ext cx="8472600" cy="34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755640" y="2060640"/>
              <a:ext cx="810108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асибо за внимание 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971640" y="765000"/>
            <a:ext cx="8101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блемы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оследнее время понимание роли наглядности в учебном процессе значительно изменилось. Оно стало рассматриваться в тесной связи с методическими задачами, которые ставятся перед тем или иным средством наглядности, с необходимостью и целесообразностью применения именно данного средства наглядности на данном конкретном этапе учебн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3"/>
          <p:cNvSpPr/>
          <p:nvPr/>
        </p:nvSpPr>
        <p:spPr>
          <a:xfrm>
            <a:off x="1042920" y="771480"/>
            <a:ext cx="7956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анализа методической литературы изучить теоретические основы наглядности и рассмотреть современные подходы к использованию наглядности на уроках английского языка в начальной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7"/>
          <p:cNvSpPr/>
          <p:nvPr/>
        </p:nvSpPr>
        <p:spPr>
          <a:xfrm>
            <a:off x="1042920" y="260280"/>
            <a:ext cx="81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1042920" y="1628640"/>
            <a:ext cx="81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  раскрыть сущность понятия «наглядность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 рассмотреть особенности формирования лексического и грамматического нав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рассмотреть классификацию наглядности и ее функции на уроках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роанализировать существующие методы и требования к применению наглядности на уроках английского язык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1042920" y="18900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971640" y="1628640"/>
            <a:ext cx="81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и чтение методической литерату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сравнение точек зрения учённы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материа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матери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Картинки по запросу Я.А. Коменский"/>
          <p:cNvPicPr/>
          <p:nvPr/>
        </p:nvPicPr>
        <p:blipFill>
          <a:blip r:embed="rId1"/>
          <a:stretch/>
        </p:blipFill>
        <p:spPr>
          <a:xfrm>
            <a:off x="907920" y="133200"/>
            <a:ext cx="2567160" cy="367056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4"/>
          <p:cNvSpPr/>
          <p:nvPr/>
        </p:nvSpPr>
        <p:spPr>
          <a:xfrm>
            <a:off x="1125000" y="2997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.А. Ком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3926880" y="306864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Д. Уш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Похожее изображение"/>
          <p:cNvPicPr/>
          <p:nvPr/>
        </p:nvPicPr>
        <p:blipFill>
          <a:blip r:embed="rId2"/>
          <a:stretch/>
        </p:blipFill>
        <p:spPr>
          <a:xfrm>
            <a:off x="3554280" y="152280"/>
            <a:ext cx="2462400" cy="3730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Картинки по запросу Е.Н.Медынский"/>
          <p:cNvPicPr/>
          <p:nvPr/>
        </p:nvPicPr>
        <p:blipFill>
          <a:blip r:embed="rId3"/>
          <a:stretch/>
        </p:blipFill>
        <p:spPr>
          <a:xfrm>
            <a:off x="6345360" y="133200"/>
            <a:ext cx="2280960" cy="380556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8"/>
          <p:cNvSpPr/>
          <p:nvPr/>
        </p:nvSpPr>
        <p:spPr>
          <a:xfrm>
            <a:off x="6524280" y="299736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Н.Меды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1" descr="Похожее изображение"/>
          <p:cNvPicPr/>
          <p:nvPr/>
        </p:nvPicPr>
        <p:blipFill>
          <a:blip r:embed="rId4"/>
          <a:stretch/>
        </p:blipFill>
        <p:spPr>
          <a:xfrm>
            <a:off x="3097080" y="3664080"/>
            <a:ext cx="3376800" cy="399240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10"/>
          <p:cNvSpPr/>
          <p:nvPr/>
        </p:nvSpPr>
        <p:spPr>
          <a:xfrm>
            <a:off x="3846240" y="6488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есталоцц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1243080" y="1676520"/>
            <a:ext cx="3554280" cy="4211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Картинки по запросу В.И. Загвязинский"/>
          <p:cNvPicPr/>
          <p:nvPr/>
        </p:nvPicPr>
        <p:blipFill>
          <a:blip r:embed="rId2"/>
          <a:stretch/>
        </p:blipFill>
        <p:spPr>
          <a:xfrm>
            <a:off x="5430960" y="712800"/>
            <a:ext cx="3097080" cy="53895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5"/>
          <p:cNvSpPr/>
          <p:nvPr/>
        </p:nvSpPr>
        <p:spPr>
          <a:xfrm>
            <a:off x="5948280" y="515772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И. Загвяз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1902240" y="52293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есталоц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3"/>
          <p:cNvSpPr/>
          <p:nvPr/>
        </p:nvSpPr>
        <p:spPr>
          <a:xfrm>
            <a:off x="1042920" y="26028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СОВРЕМЕННЫЕ ПОДХОДЫ К ИСПОЛЬЗОВАНИЮ НАГЛЯДНОСТИ НА УРОКАХ АНГЛИЙСКОГО ЯЗЫКА В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1042920" y="1916280"/>
            <a:ext cx="8101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ены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ы нагля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восприятия младшими школьниками наглядны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а наглядных сред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применению наглядности на уроках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интерактив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5T10:27:11Z</dcterms:created>
  <dc:creator>мразь</dc:creator>
  <dc:description/>
  <dc:language>en-US</dc:language>
  <cp:lastModifiedBy>Komp</cp:lastModifiedBy>
  <dcterms:modified xsi:type="dcterms:W3CDTF">2017-06-01T18:43:05Z</dcterms:modified>
  <cp:revision>30</cp:revision>
  <dc:subject/>
  <dc:title>Слайд 1</dc:title>
</cp:coreProperties>
</file>