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50.wmf" ContentType="image/x-wmf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0.gif" ContentType="image/gif"/>
  <Override PartName="/ppt/media/image41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5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7F6-53E1-4C93-BD06-4AD1E41E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DD8-8E84-4417-9ADA-6060677F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AA0-3736-4935-B645-400810E1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6BF-578C-4E1C-A2BE-F616B0C0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B40-7F51-4864-8C59-E9BB485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4D0-4FC6-4D39-BD2C-25190266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248-70B3-4015-95FF-A2C35E0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97F-9B66-495E-BE15-86C5FEA9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A12-5966-463C-A420-3AF09B0C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F00-19DA-4E07-BD34-699D65D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D4D-9269-4780-BB3D-F26B87E2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42E-7C65-4F22-9983-698DF2F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3E8F-A151-429D-BCAA-6D7A6B1AA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copypast.ru%2Ffoto5%2F7333%2FBelki%2Fbelki_004.jpg&amp;pageurl=http%3A%2F%2Fzverilesa.ru%2F%3Fp%3D26&amp;id=71537658&amp;iid=3&amp;imgwidth=300&amp;imgheight=216&amp;imgsize=86900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go.mail.ru/frame.html?&amp;imgurl=http%3A%2F%2Fwww.tiga.by%2Fimages%2Fnews%2Fc2fc3beer.jpg&amp;pageurl=http%3A%2F%2Fwww.liveinternet.ru%2Fusers%2F2853611%2F&amp;id=269591&amp;iid=3&amp;imgwidth=300&amp;imgheight=203&amp;imgsize=49871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go.mail.ru/frame.html?&amp;imgurl=http%3A%2F%2Fimg-fotki.yandex.ru%2Fget%2F11%2Fivassh.0%2F0_405f_eab83e9_L.jpg&amp;pageurl=http%3A%2F%2Fagol.ucoz.ru%2Findex%2F0-4&amp;id=51161876&amp;iid=8&amp;imgwidth=350&amp;imgheight=305&amp;imgsize=8475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upload.wikimedia.org%2Fwikipedia%2Fcommons%2Fthumb%2F9%2F96%2FMountain_Hare_Scotland.jpg%2F275px-Mountain_Hare_Scotland.jpg&amp;pageurl=http%3A%2F%2Fdic.academic.ru%2Fdic.nsf%2Fruwiki%2F105970&amp;id=40907417&amp;iid=2&amp;imgwidth=441&amp;imgheight=357&amp;imgsize=6980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go.mail.ru/frame.html?&amp;imgurl=http%3A%2F%2Fzhurnal.lib.ru%2Fimg%2Fk%2Fkozlow_p_w%2Fptica%2Fptica.gif&amp;pageurl=http%3A%2F%2F900igr.net%2FDetskie_prezentatsii%2Fnasekomye_i_ptitsy%2FPtitsy_3.files%2Fskachat_prezentatsiju_dlja_detej_Ptitsy.html&amp;id=23357721&amp;iid=0&amp;imgwidth=74&amp;imgheight=95&amp;imgsize=42092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go.mail.ru/frame.html?&amp;imgurl=http%3A%2F%2Fimg0.liveinternet.ru%2Fimages%2Fattach%2Fc%2F0%2F47%2F992%2F47992029_30.jpg&amp;pageurl=http%3A%2F%2Flesfleurs.ucoz.ru%2Fforum%2F100-408-26&amp;id=21855731&amp;iid=6&amp;imgwidth=600&amp;imgheight=450&amp;imgsize=30527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go.mail.ru/frame.html?&amp;imgurl=http%3A%2F%2Fi033.radikal.ru%2F0805%2Fc8%2Fe9f55be0af01t.jpg&amp;pageurl=http%3A%2F%2Fwww.blogdex.ru%2F%3Fp%3D3496%26page%3D3&amp;id=30796994&amp;iid=6&amp;imgwidth=180&amp;imgheight=120&amp;imgsize=35758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go.mail.ru/frame.html?&amp;imgurl=http%3A%2F%2Fz2.foto.rambler.ru%2Fpublic%2Flilysha2006%2F_photos%2F3%2F1-prev.jpg&amp;pageurl=http%3A%2F%2Fwww.pil.ru%2Fcards%2Fpage_card-3_5.html&amp;id=19072682&amp;iid=5&amp;imgwidth=100&amp;imgheight=75&amp;imgsize=28115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ctv.by%2Fimg%2F16%2F%7Eotlet-ptic_15386_250x150_mc.jpg&amp;pageurl=http%3A%2F%2Fwww.ctv.by%2Fnews%2F%7Epage__m11%3D300%7Enews__m11%3D15531&amp;id=141300823&amp;iid=5&amp;imgwidth=250&amp;imgheight=150&amp;imgsize=4008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go.mail.ru/frame.html?&amp;imgurl=http%3A%2F%2Fimg-fotki.yandex.ru%2Fget%2F3301%2Fastra-alaya.1d%2F0_165ba_e65f8aeb_S&amp;pageurl=http%3A%2F%2Ffotki.yandex.ru%2Fusers%2Fastra-alaya%2Fview%2F91578%2F&amp;id=134221766&amp;iid=8&amp;imgwidth=700&amp;imgheight=525&amp;imgsize=48813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go.mail.ru/frame.html?&amp;imgurl=http%3A%2F%2Fimg-fotki.yandex.ru%2Fget%2F3100%2Fvalka51.0%2F0_318d_6f7de997_XL&amp;pageurl=http%3A%2F%2Fza-rukodeliem.com.ua%2Fosnov.php%3Fidnews%3D38&amp;id=11026622&amp;iid=0&amp;imgwidth=145&amp;imgheight=107&amp;imgsize=99517" TargetMode="External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0.gi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9900ff"/>
                </a:solidFill>
                <a:latin typeface="Arial"/>
              </a:rPr>
              <a:t>ЖИВОТНЫЕ  </a:t>
            </a:r>
            <a:br>
              <a:rPr sz="6000"/>
            </a:br>
            <a:r>
              <a:rPr b="1" lang="ru-RU" sz="6000" spc="-1" strike="noStrike">
                <a:solidFill>
                  <a:srgbClr val="9900ff"/>
                </a:solidFill>
                <a:latin typeface="Arial"/>
              </a:rPr>
              <a:t>ОСЕНЬ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78280" y="4941360"/>
            <a:ext cx="524016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ДОУ детский сад «Тополе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ирован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ева Валенти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?id=71537658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440" y="4541760"/>
            <a:ext cx="2676240" cy="1914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?id=269591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4240" y="2395440"/>
            <a:ext cx="274968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?id=51161876&amp;tov=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20000" y="2492280"/>
            <a:ext cx="18730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26920" y="189000"/>
            <a:ext cx="78487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Я очень осторожный зверь. Охочусь ночью. Тело покрыто серебристо-серой жёсткой щетиной. От носа тянутся белые полосы. Осенью нагуливаю жир – готовлюсь к зиме. Питаюсь грызунами, лягушками, ящерицами, выкапываю червей. К холодам ложусь сп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barsuk"/>
          <p:cNvPicPr/>
          <p:nvPr/>
        </p:nvPicPr>
        <p:blipFill>
          <a:blip r:embed="rId1"/>
          <a:stretch/>
        </p:blipFill>
        <p:spPr>
          <a:xfrm>
            <a:off x="755640" y="189000"/>
            <a:ext cx="8066160" cy="5554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5" name="WordArt 4"/>
          <p:cNvSpPr txBox="1"/>
          <p:nvPr/>
        </p:nvSpPr>
        <p:spPr>
          <a:xfrm>
            <a:off x="2484360" y="5805360"/>
            <a:ext cx="4105440" cy="9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рс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0015548"/>
          <p:cNvPicPr/>
          <p:nvPr/>
        </p:nvPicPr>
        <p:blipFill>
          <a:blip r:embed="rId1"/>
          <a:stretch/>
        </p:blipFill>
        <p:spPr>
          <a:xfrm>
            <a:off x="4356000" y="189000"/>
            <a:ext cx="4565880" cy="340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7" name="Picture 3" descr="00015495"/>
          <p:cNvPicPr/>
          <p:nvPr/>
        </p:nvPicPr>
        <p:blipFill>
          <a:blip r:embed="rId2"/>
          <a:stretch/>
        </p:blipFill>
        <p:spPr>
          <a:xfrm>
            <a:off x="250920" y="3357720"/>
            <a:ext cx="4787640" cy="3284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8" name="WordArt 4"/>
          <p:cNvSpPr txBox="1"/>
          <p:nvPr/>
        </p:nvSpPr>
        <p:spPr>
          <a:xfrm>
            <a:off x="900000" y="234936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ме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5508720" y="3860640"/>
            <a:ext cx="331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ягуш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barsuk"/>
          <p:cNvPicPr/>
          <p:nvPr/>
        </p:nvPicPr>
        <p:blipFill>
          <a:blip r:embed="rId1"/>
          <a:stretch/>
        </p:blipFill>
        <p:spPr>
          <a:xfrm>
            <a:off x="4932360" y="3933720"/>
            <a:ext cx="3997440" cy="2752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1" name="Picture 3" descr="00015548"/>
          <p:cNvPicPr/>
          <p:nvPr/>
        </p:nvPicPr>
        <p:blipFill>
          <a:blip r:embed="rId2"/>
          <a:stretch/>
        </p:blipFill>
        <p:spPr>
          <a:xfrm>
            <a:off x="250920" y="1052640"/>
            <a:ext cx="3240000" cy="2736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2" name="Picture 4" descr="00015495"/>
          <p:cNvPicPr/>
          <p:nvPr/>
        </p:nvPicPr>
        <p:blipFill>
          <a:blip r:embed="rId3"/>
          <a:stretch/>
        </p:blipFill>
        <p:spPr>
          <a:xfrm>
            <a:off x="250920" y="3933720"/>
            <a:ext cx="4103640" cy="273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5292720" y="765000"/>
            <a:ext cx="3600360" cy="30117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19640" y="2491920"/>
            <a:ext cx="230328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979640" y="-360"/>
            <a:ext cx="446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1640" y="189000"/>
            <a:ext cx="7272360" cy="48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 у мен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Целых тридцать три кладов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 каждой семечки леж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ля моих же малы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Ешьте, детки, ешьте вволю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ого семечек на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mysh"/>
          <p:cNvPicPr/>
          <p:nvPr/>
        </p:nvPicPr>
        <p:blipFill>
          <a:blip r:embed="rId1"/>
          <a:stretch/>
        </p:blipFill>
        <p:spPr>
          <a:xfrm>
            <a:off x="971640" y="93600"/>
            <a:ext cx="7272360" cy="601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8" name="WordArt 4"/>
          <p:cNvSpPr txBox="1"/>
          <p:nvPr/>
        </p:nvSpPr>
        <p:spPr>
          <a:xfrm>
            <a:off x="3132000" y="616572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6920" y="189000"/>
            <a:ext cx="75614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ы меняем шубку на более тёплую и пушистую. Свою главную добычу – мышей-полёвок – находим без всяких уловок. Нос и уши помогают. А зайца нам догнать трудно, разве что случайно столкнёмся с косым или набредём на зайчо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0018316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77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1" name="WordArt 4"/>
          <p:cNvSpPr txBox="1"/>
          <p:nvPr/>
        </p:nvSpPr>
        <p:spPr>
          <a:xfrm>
            <a:off x="3132000" y="6093000"/>
            <a:ext cx="25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лось"/>
          <p:cNvPicPr/>
          <p:nvPr/>
        </p:nvPicPr>
        <p:blipFill>
          <a:blip r:embed="rId1"/>
          <a:stretch/>
        </p:blipFill>
        <p:spPr>
          <a:xfrm>
            <a:off x="4211640" y="620640"/>
            <a:ext cx="4622760" cy="5256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3" name="Text Box 3"/>
          <p:cNvSpPr/>
          <p:nvPr/>
        </p:nvSpPr>
        <p:spPr>
          <a:xfrm>
            <a:off x="611280" y="620640"/>
            <a:ext cx="3097080" cy="52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 него рога ветвист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а копыта быстр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оловой качая, 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Задевает небосклон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8360" y="333360"/>
            <a:ext cx="324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5724360" y="602136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Кабан"/>
          <p:cNvPicPr/>
          <p:nvPr/>
        </p:nvPicPr>
        <p:blipFill>
          <a:blip r:embed="rId1"/>
          <a:stretch/>
        </p:blipFill>
        <p:spPr>
          <a:xfrm>
            <a:off x="3984480" y="404640"/>
            <a:ext cx="4954680" cy="5112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0920" y="333360"/>
            <a:ext cx="3384360" cy="534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пускается т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Просыпается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оет землю у ре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Точит острые кл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5148360" y="5589720"/>
            <a:ext cx="230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б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58920" y="476280"/>
            <a:ext cx="540072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н носит мех блестящ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сторожно воду пь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ом его в кедровой чащ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Жизнь он скрытную ве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sobol"/>
          <p:cNvPicPr/>
          <p:nvPr/>
        </p:nvPicPr>
        <p:blipFill>
          <a:blip r:embed="rId1"/>
          <a:stretch/>
        </p:blipFill>
        <p:spPr>
          <a:xfrm>
            <a:off x="1042920" y="260280"/>
            <a:ext cx="6264360" cy="5545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1" name="WordArt 4"/>
          <p:cNvSpPr txBox="1"/>
          <p:nvPr/>
        </p:nvSpPr>
        <p:spPr>
          <a:xfrm>
            <a:off x="2771640" y="5757840"/>
            <a:ext cx="381816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о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692360" y="260280"/>
            <a:ext cx="554508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по лесу рыщ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добычу ищ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Ходит-бродит он мол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ши серые – тор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volk"/>
          <p:cNvPicPr/>
          <p:nvPr/>
        </p:nvPicPr>
        <p:blipFill>
          <a:blip r:embed="rId1"/>
          <a:stretch/>
        </p:blipFill>
        <p:spPr>
          <a:xfrm>
            <a:off x="1042920" y="260280"/>
            <a:ext cx="6624720" cy="5349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4" name="WordArt 4"/>
          <p:cNvSpPr txBox="1"/>
          <p:nvPr/>
        </p:nvSpPr>
        <p:spPr>
          <a:xfrm>
            <a:off x="3635280" y="5805360"/>
            <a:ext cx="1476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00000" y="981000"/>
            <a:ext cx="74170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Звери от врагов спасаются по-разному: кто в дуплах, кто прячется под снегом, кто в норах. А я ничего этого делать не умею. Врагов у меня полным-полно. И всё-таки, я живу, не тужу. Выручают меня нос, чуткие уши, быстрые ноги и неприметная шу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zayac2"/>
          <p:cNvPicPr/>
          <p:nvPr/>
        </p:nvPicPr>
        <p:blipFill>
          <a:blip r:embed="rId1"/>
          <a:stretch/>
        </p:blipFill>
        <p:spPr>
          <a:xfrm>
            <a:off x="250920" y="189000"/>
            <a:ext cx="4573440" cy="33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7" name="Picture 4" descr="zayac"/>
          <p:cNvPicPr/>
          <p:nvPr/>
        </p:nvPicPr>
        <p:blipFill>
          <a:blip r:embed="rId2"/>
          <a:stretch/>
        </p:blipFill>
        <p:spPr>
          <a:xfrm>
            <a:off x="5148360" y="1268280"/>
            <a:ext cx="3541680" cy="5373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8" name="WordArt 5"/>
          <p:cNvSpPr txBox="1"/>
          <p:nvPr/>
        </p:nvSpPr>
        <p:spPr>
          <a:xfrm>
            <a:off x="1258920" y="5589720"/>
            <a:ext cx="2519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яц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ГРУППЫ  ЖИВОТ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 И ЗЕМ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?id=40907417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1584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?id=23357721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844640"/>
            <a:ext cx="109872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?id=21855731&amp;tov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314172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?id=30796994&amp;tov=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3789360"/>
            <a:ext cx="2125800" cy="122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i?id=19072682&amp;tov=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5499000"/>
            <a:ext cx="201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260280"/>
            <a:ext cx="4067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zayac"/>
          <p:cNvPicPr/>
          <p:nvPr/>
        </p:nvPicPr>
        <p:blipFill>
          <a:blip r:embed="rId1"/>
          <a:stretch/>
        </p:blipFill>
        <p:spPr>
          <a:xfrm>
            <a:off x="7164360" y="189000"/>
            <a:ext cx="1755720" cy="26654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1" name="Picture 4" descr="volk"/>
          <p:cNvPicPr/>
          <p:nvPr/>
        </p:nvPicPr>
        <p:blipFill>
          <a:blip r:embed="rId2"/>
          <a:stretch/>
        </p:blipFill>
        <p:spPr>
          <a:xfrm>
            <a:off x="179280" y="1484280"/>
            <a:ext cx="2881440" cy="2106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2" name="Picture 5" descr="sobol"/>
          <p:cNvPicPr/>
          <p:nvPr/>
        </p:nvPicPr>
        <p:blipFill>
          <a:blip r:embed="rId3"/>
          <a:stretch/>
        </p:blipFill>
        <p:spPr>
          <a:xfrm>
            <a:off x="6443640" y="4076640"/>
            <a:ext cx="2347920" cy="2619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84720" y="2492280"/>
            <a:ext cx="280836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кормить себ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лось"/>
          <p:cNvPicPr/>
          <p:nvPr/>
        </p:nvPicPr>
        <p:blipFill>
          <a:blip r:embed="rId4"/>
          <a:stretch/>
        </p:blipFill>
        <p:spPr>
          <a:xfrm>
            <a:off x="179280" y="3716280"/>
            <a:ext cx="2571840" cy="2925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5" name="Picture 8" descr="00018316"/>
          <p:cNvPicPr/>
          <p:nvPr/>
        </p:nvPicPr>
        <p:blipFill>
          <a:blip r:embed="rId5"/>
          <a:stretch/>
        </p:blipFill>
        <p:spPr>
          <a:xfrm>
            <a:off x="2987640" y="4437000"/>
            <a:ext cx="3168720" cy="22748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6" name="Picture 9" descr="Кабан"/>
          <p:cNvPicPr/>
          <p:nvPr/>
        </p:nvPicPr>
        <p:blipFill>
          <a:blip r:embed="rId6"/>
          <a:stretch/>
        </p:blipFill>
        <p:spPr>
          <a:xfrm>
            <a:off x="3276720" y="1989000"/>
            <a:ext cx="2520720" cy="2314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7" name="Picture 10" descr="mysh"/>
          <p:cNvPicPr/>
          <p:nvPr/>
        </p:nvPicPr>
        <p:blipFill>
          <a:blip r:embed="rId7"/>
          <a:stretch/>
        </p:blipFill>
        <p:spPr>
          <a:xfrm>
            <a:off x="4716360" y="189000"/>
            <a:ext cx="2159280" cy="1673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27080" y="573120"/>
            <a:ext cx="75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ябрь ещё называют месяцем с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нтябре синица просит осень в г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олоден батюшка сентябрь, да кормить гора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51920" y="5105520"/>
            <a:ext cx="760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Сентябрь птиц в дорогу торопит»- гла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а. Как ни хороша осенняя пог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не сытен сентябрьский лес, а улетать над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ть предстоит неблиз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004"/>
          <p:cNvPicPr/>
          <p:nvPr/>
        </p:nvPicPr>
        <p:blipFill>
          <a:blip r:embed="rId1"/>
          <a:stretch/>
        </p:blipFill>
        <p:spPr>
          <a:xfrm>
            <a:off x="3714840" y="270360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Отлёт птиц"/>
          <p:cNvPicPr/>
          <p:nvPr/>
        </p:nvPicPr>
        <p:blipFill>
          <a:blip r:embed="rId2"/>
          <a:stretch/>
        </p:blipFill>
        <p:spPr>
          <a:xfrm>
            <a:off x="1908000" y="1773360"/>
            <a:ext cx="5791320" cy="309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ird10"/>
          <p:cNvPicPr/>
          <p:nvPr/>
        </p:nvPicPr>
        <p:blipFill>
          <a:blip r:embed="rId3"/>
          <a:stretch/>
        </p:blipFill>
        <p:spPr>
          <a:xfrm>
            <a:off x="7596360" y="479736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ird10"/>
          <p:cNvPicPr/>
          <p:nvPr/>
        </p:nvPicPr>
        <p:blipFill>
          <a:blip r:embed="rId4"/>
          <a:stretch/>
        </p:blipFill>
        <p:spPr>
          <a:xfrm>
            <a:off x="7905600" y="4076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ird10"/>
          <p:cNvPicPr/>
          <p:nvPr/>
        </p:nvPicPr>
        <p:blipFill>
          <a:blip r:embed="rId5"/>
          <a:stretch/>
        </p:blipFill>
        <p:spPr>
          <a:xfrm>
            <a:off x="7667640" y="404640"/>
            <a:ext cx="1238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92360" y="620640"/>
            <a:ext cx="6102360" cy="82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Звери  осен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1618920" y="1484280"/>
            <a:ext cx="115236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572000" y="148428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659640" y="1484280"/>
            <a:ext cx="100800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40" name="Text Box 7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WordArt 8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3132000" y="4581360"/>
            <a:ext cx="2519280" cy="701640"/>
            <a:chOff x="3132000" y="4581360"/>
            <a:chExt cx="2519280" cy="701640"/>
          </a:xfrm>
        </p:grpSpPr>
        <p:sp>
          <p:nvSpPr>
            <p:cNvPr id="143" name="Text Box 10"/>
            <p:cNvSpPr/>
            <p:nvPr/>
          </p:nvSpPr>
          <p:spPr>
            <a:xfrm>
              <a:off x="3132000" y="458136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WordArt 11"/>
            <p:cNvSpPr txBox="1"/>
            <p:nvPr/>
          </p:nvSpPr>
          <p:spPr>
            <a:xfrm>
              <a:off x="4068360" y="465444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6084720" y="3429000"/>
            <a:ext cx="2519280" cy="701640"/>
            <a:chOff x="6084720" y="3429000"/>
            <a:chExt cx="2519280" cy="701640"/>
          </a:xfrm>
        </p:grpSpPr>
        <p:sp>
          <p:nvSpPr>
            <p:cNvPr id="146" name="Text Box 13"/>
            <p:cNvSpPr/>
            <p:nvPr/>
          </p:nvSpPr>
          <p:spPr>
            <a:xfrm>
              <a:off x="6084720" y="342900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WordArt 14"/>
            <p:cNvSpPr txBox="1"/>
            <p:nvPr/>
          </p:nvSpPr>
          <p:spPr>
            <a:xfrm>
              <a:off x="7021080" y="350208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15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49" name="Text Box 16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1" name="Rectangle 18"/>
          <p:cNvSpPr/>
          <p:nvPr/>
        </p:nvSpPr>
        <p:spPr>
          <a:xfrm>
            <a:off x="3132000" y="4508640"/>
            <a:ext cx="259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л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а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250920" y="2781360"/>
            <a:ext cx="26636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я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867280" y="2924280"/>
            <a:ext cx="30974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г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корм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ПТИЦЫ  ОСЕН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ХОЛО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ЧЕЗАЮТ 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ЯДАЮТ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РЗАЮТ ВОДО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ОТЛЁТ  ПТИ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i?id=141300823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25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i?id=134221766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2852640"/>
            <a:ext cx="2341440" cy="175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i?id=11026622&amp;tov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4221000"/>
            <a:ext cx="2952720" cy="2171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i?id=124166625&amp;tov=4"/>
          <p:cNvPicPr/>
          <p:nvPr/>
        </p:nvPicPr>
        <p:blipFill>
          <a:blip r:embed="rId7"/>
          <a:stretch/>
        </p:blipFill>
        <p:spPr>
          <a:xfrm>
            <a:off x="4211640" y="1197000"/>
            <a:ext cx="2376360" cy="1544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i?id=69802266&amp;tov=7"/>
          <p:cNvPicPr/>
          <p:nvPr/>
        </p:nvPicPr>
        <p:blipFill>
          <a:blip r:embed="rId8"/>
          <a:stretch/>
        </p:blipFill>
        <p:spPr>
          <a:xfrm>
            <a:off x="4643280" y="4714920"/>
            <a:ext cx="273708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1547640" y="3016440"/>
            <a:ext cx="56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сей крикливых карава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нулся к юг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0004"/>
          <p:cNvPicPr/>
          <p:nvPr/>
        </p:nvPicPr>
        <p:blipFill>
          <a:blip r:embed="rId9"/>
          <a:stretch/>
        </p:blipFill>
        <p:spPr>
          <a:xfrm>
            <a:off x="7164360" y="189000"/>
            <a:ext cx="171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тицы улетают на юг, туда, где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duck_art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38080" y="380880"/>
            <a:ext cx="7543800" cy="526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434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17184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Значит скоро придет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Cj02500990000[1]"/>
          <p:cNvPicPr/>
          <p:nvPr/>
        </p:nvPicPr>
        <p:blipFill>
          <a:blip r:embed="rId1"/>
          <a:stretch/>
        </p:blipFill>
        <p:spPr>
          <a:xfrm>
            <a:off x="1371600" y="152280"/>
            <a:ext cx="6934320" cy="579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91440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362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1834920" y="692280"/>
            <a:ext cx="5976720" cy="3168000"/>
            <a:chOff x="1834920" y="692280"/>
            <a:chExt cx="5976720" cy="3168000"/>
          </a:xfrm>
        </p:grpSpPr>
        <p:sp>
          <p:nvSpPr>
            <p:cNvPr id="54" name="Text Box 3"/>
            <p:cNvSpPr/>
            <p:nvPr/>
          </p:nvSpPr>
          <p:spPr>
            <a:xfrm>
              <a:off x="2627280" y="692280"/>
              <a:ext cx="4824000" cy="703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3300"/>
                  </a:solidFill>
                  <a:latin typeface="Times New Roman"/>
                </a:rPr>
                <a:t>Животные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"/>
            <p:cNvSpPr/>
            <p:nvPr/>
          </p:nvSpPr>
          <p:spPr>
            <a:xfrm flipH="1">
              <a:off x="1834920" y="1412640"/>
              <a:ext cx="2663640" cy="151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H="1">
              <a:off x="4714560" y="1412640"/>
              <a:ext cx="70920" cy="24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5290920" y="1484280"/>
              <a:ext cx="2520720" cy="179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7"/>
          <p:cNvSpPr/>
          <p:nvPr/>
        </p:nvSpPr>
        <p:spPr>
          <a:xfrm>
            <a:off x="179280" y="299736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012000" y="3284640"/>
            <a:ext cx="2952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132000" y="393372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38560" cy="5977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2" name="Text Box 3"/>
          <p:cNvSpPr/>
          <p:nvPr/>
        </p:nvSpPr>
        <p:spPr>
          <a:xfrm>
            <a:off x="250920" y="333360"/>
            <a:ext cx="36734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Меняю шубку на серую. Собираю грибы, ягоды, шишки, развешиваю их на ветках и храню в дупл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2268360" y="6021360"/>
            <a:ext cx="2184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68360" y="260280"/>
            <a:ext cx="4174920" cy="534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 него смешные щё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а спине полосок п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 за щёчками – мешо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Чтобы семечки таск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1547640" y="6165720"/>
            <a:ext cx="2787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рунд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4" descr="burunduk"/>
          <p:cNvPicPr/>
          <p:nvPr/>
        </p:nvPicPr>
        <p:blipFill>
          <a:blip r:embed="rId1"/>
          <a:stretch/>
        </p:blipFill>
        <p:spPr>
          <a:xfrm>
            <a:off x="4932360" y="260280"/>
            <a:ext cx="3897360" cy="6264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5640" y="1413000"/>
            <a:ext cx="741672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Это животное запасает летом сено на зиму. Собирает травянистые растения и просушивает их на солнце и складывает в стожок в особом месте. Запасов пищи хватает обычно на четыре меся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pichuha"/>
          <p:cNvPicPr/>
          <p:nvPr/>
        </p:nvPicPr>
        <p:blipFill>
          <a:blip r:embed="rId1"/>
          <a:stretch/>
        </p:blipFill>
        <p:spPr>
          <a:xfrm>
            <a:off x="755640" y="333360"/>
            <a:ext cx="7416720" cy="5948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9" name="WordArt 4"/>
          <p:cNvSpPr txBox="1"/>
          <p:nvPr/>
        </p:nvSpPr>
        <p:spPr>
          <a:xfrm>
            <a:off x="2340000" y="6334200"/>
            <a:ext cx="331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щух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00000" y="836640"/>
            <a:ext cx="7056720" cy="45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Я умею строить на речках и ручьях плотины, прокладывать в лесу каналы и валить толстые деревья, сооружать хатки для жилья. Упавшее дерево старательно разделываю, запасаю себе на зиму ветки, ствол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бобр/Красная%20Книга%20России.files/374.jpg"/>
          <p:cNvPicPr/>
          <p:nvPr/>
        </p:nvPicPr>
        <p:blipFill>
          <a:blip r:embed="rId1"/>
          <a:stretch/>
        </p:blipFill>
        <p:spPr>
          <a:xfrm>
            <a:off x="826920" y="476280"/>
            <a:ext cx="7128000" cy="5554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72" name="WordArt 4"/>
          <p:cNvSpPr txBox="1"/>
          <p:nvPr/>
        </p:nvSpPr>
        <p:spPr>
          <a:xfrm>
            <a:off x="3203640" y="6118200"/>
            <a:ext cx="244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бё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403236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400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делают запасы на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792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6" name="Picture 5" descr="burunduk"/>
          <p:cNvPicPr/>
          <p:nvPr/>
        </p:nvPicPr>
        <p:blipFill>
          <a:blip r:embed="rId2"/>
          <a:stretch/>
        </p:blipFill>
        <p:spPr>
          <a:xfrm>
            <a:off x="3276720" y="2637000"/>
            <a:ext cx="2509560" cy="4033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7" name="Picture 6" descr="pichuha"/>
          <p:cNvPicPr/>
          <p:nvPr/>
        </p:nvPicPr>
        <p:blipFill>
          <a:blip r:embed="rId3"/>
          <a:stretch/>
        </p:blipFill>
        <p:spPr>
          <a:xfrm>
            <a:off x="179280" y="2637000"/>
            <a:ext cx="2846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8" name="Picture 7" descr="бобр/Красная%20Книга%20России.files/374.jpg"/>
          <p:cNvPicPr/>
          <p:nvPr/>
        </p:nvPicPr>
        <p:blipFill>
          <a:blip r:embed="rId4"/>
          <a:stretch/>
        </p:blipFill>
        <p:spPr>
          <a:xfrm>
            <a:off x="6012000" y="189000"/>
            <a:ext cx="2806560" cy="2307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651640" y="62064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84360" y="476280"/>
            <a:ext cx="7848360" cy="49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Мы осенью линя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Надо позаботиться о надёжном убежище, где можно проспать до весны, но для этого нам нужно накопить запас жир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Жир – это запас пищи на всю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69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2" name="WordArt 5"/>
          <p:cNvSpPr txBox="1"/>
          <p:nvPr/>
        </p:nvSpPr>
        <p:spPr>
          <a:xfrm>
            <a:off x="2484360" y="5757840"/>
            <a:ext cx="410544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двед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8:43:18Z</dcterms:created>
  <dc:creator>***</dc:creator>
  <dc:description/>
  <dc:language>en-US</dc:language>
  <cp:lastModifiedBy>Пользователь Windows</cp:lastModifiedBy>
  <dcterms:modified xsi:type="dcterms:W3CDTF">2019-05-21T09:29:00Z</dcterms:modified>
  <cp:revision>8</cp:revision>
  <dc:subject/>
  <dc:title>ЖИВОТНЫЕ  ОСЕНЬЮ</dc:title>
</cp:coreProperties>
</file>