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07E-282E-4A94-9EFA-0EEE1FEEAB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EF7E-BBA9-4F99-A65D-AFACDB0F1F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4F9-5722-4137-A039-D9F17EF2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20E-3F92-4AC5-A904-66FA6A55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FE2-45B8-4E6E-BDFF-FE22F32A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F4C-22BF-44C2-BCA0-7C807482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6BF4-15AB-4178-BD51-91652E54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1AC3-FA08-4570-85CE-236566ED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306C-89F2-4767-A417-23A3401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3CBA-51E1-42C9-8008-5FFCA172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1186-4111-43B1-8FD1-281273E2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82C5-BCC6-4BEE-9C6E-BDF1CD6A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1C43-0F53-42DB-95BB-754E9962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12E-B6CF-450F-AD1D-90139C3E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A0BC-EB98-48DC-A4A4-FC5CEF01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B45A-6789-4506-81C2-A6BDB49D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6773-5A08-4FF4-9289-F4AC287D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ADBD-4A4A-48D8-BC0D-FF112780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2F29-EBAE-4E4E-9118-30C7D94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988C-AF33-47DA-B52F-102A9AD2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21BB-6793-45D4-B117-91E7263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27FC-A753-4F24-AFF8-5E38557A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A3B5-1AA8-4E36-87CD-41620C45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FAC1-DCFB-4C08-94B7-C1ABE9EB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837-B6EC-4506-851F-3371F968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7710-253D-4AFA-8555-F1F25889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6379-402E-426E-B241-5FFB66F9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DE76-2302-4434-A74F-32911F5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13A8-24D6-40EF-A158-4307EFBB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85BB-C44C-4543-B26D-662DDCBF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A9617-9FF0-4AEE-A650-767F2851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873B-4A64-44A6-B023-27385D9B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DC99-39EC-4168-AED7-C7D4A00C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58B9-C4D9-44A0-896D-19E0F1B7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6FF3-CA5F-4E4C-9662-A7FAC6D5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3C4-1421-468C-AE0A-80F0D470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AB3D-E0C1-4FBD-B689-68F753C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D190-D764-4F63-989A-6A39DCBF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FEDF-B356-4F70-893B-F9F30D33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3A41-08A7-42F4-9F78-DFABD68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16E9-002D-4520-AABE-9C284F74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1FAF4-DD88-47BC-AA86-0B296F6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66D5B-EE96-4E24-9FE9-793BA0A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B560D-6F89-490A-96B8-8F713D63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1068-620E-4D66-B9BD-FE3D34C7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C883-8514-4550-84B4-28497C6D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0AD-AD09-4DB1-AA9E-2EE10518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A8C6-8279-4CB9-80AA-AD8F65C0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A967A-7912-44DD-BF98-6CF42DC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775A1-DDA7-447A-9EEF-1FBE4EA4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132F2-83BA-4E27-9C3C-6342BCA8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0F50C-895A-4C20-A64F-E314F8FB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CFDE-72EB-4CF9-9A66-8488A591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AE78-84F1-4249-8EE2-4A4F27B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E50F-C584-4416-85B9-697C0F9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472C-7084-43B2-A309-97D50ED9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5F1E8-B9D0-45D6-A21A-AD96799C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F91-C7F7-4C76-BE7E-B7F7889C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E512-F08E-493B-8535-9C62AA05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EA0E6-3C5E-4B89-A28C-E3ED6575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5715-4E71-4B33-9A54-DA50D8C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C3353-D528-4A4C-9482-34642B63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A4BDD-7CDA-4935-8738-89946059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D026C-4B7A-4166-8EF1-BD2CFE24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F38E-95C6-48CC-8EF1-31497312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FCF3-BC4C-4707-80F9-CC5C012D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45E5B-4DB9-42AD-8555-4768F00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40322-31A9-4EAD-B1E4-2F96C032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FE8-46C2-434B-8CCF-CD15BC6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E2B3E-FB37-4144-835E-3C0E9274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1A67-C0C2-4821-BC4C-317957A1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856D-F0DC-42E1-83FD-E91D7402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44258-C5B1-4C5D-933A-974DC005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B5101-6361-4276-A0B6-6706D87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62D3-5CE4-4DB8-9C7E-BD483FBA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9B320-67CE-42E8-9ECE-3671CAE8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8FDA-6687-432A-AFCF-13C61DD8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86E22-FE2E-4EC9-A11B-A502A2A6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D41DA-D806-4369-87EE-A1A0209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422-F416-480D-85AC-9FDFDADB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5BB5-2C81-440C-845A-96BD3644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5349-4AF7-40B7-9144-C66F05B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5B7AB-93AF-4770-A5CD-8234B609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FB98-CE0B-43C6-8635-F6BC3411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815B1-16FD-4B3C-9DE1-F0FF2BD8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FEF-4BA2-4D58-932E-2829E5D9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9E87-2624-4458-88FA-9A3BF89A9F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0E9D-940A-4AF8-A0E0-339B262D494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CD8-100D-4503-B755-DCAAF1D6D89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81E3-F7FC-4E42-9EE7-0A534945689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89D8-9094-4FBB-99A6-813DC8AED9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566B-E12E-4FB5-B4F6-072A01B145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819D-5CFA-4E7C-893A-92FA3350452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ОБЩЕРАЗВИВАЮЩЕГО ВИДА №6 Г.ТЕМЮКА МУНИЦИПАЛЬНОГО ОБРАЗОВАНИЯ ТЕМРЮКСКИЙ РАЙОН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 «Читающая мама -  читающая страна»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МИНАЦИЯ  «Русская культура в жизни ребенка»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 старшей группы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ельченко В.И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539640" y="474840"/>
            <a:ext cx="842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.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– ПОДГОТОВИТЕЛЬНЫЙ (январь 2019 год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нкетирование родителей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суждение проекта, выяснение возможностей, средств, необходимых для реализации проект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учение литературы (журналы, книги, Интернет)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ключение договора с центральной городской детской библиотекой им.О.Кошевог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оставление перспективного плана работы по проведению проект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одбор литературы, пособий, атрибутов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одбор и приобретение русских народных сказок в разном издании,  художественной детской литературы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ивлечение родителей к созданию развивающей предметно-пространственной среды по теме проект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.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— ОСНОВНОЙ (с 01февраля 2019 года по 31 мая 2020 года)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 по приобщению ребят к книге был разделен на блоки: работа с библиотеко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3" descr="C:\Users\admin\Desktop\Библиотека\IMG-20190203-WA0053.jpg"/>
          <p:cNvPicPr/>
          <p:nvPr/>
        </p:nvPicPr>
        <p:blipFill>
          <a:blip r:embed="rId1"/>
          <a:stretch/>
        </p:blipFill>
        <p:spPr>
          <a:xfrm>
            <a:off x="4917960" y="1844640"/>
            <a:ext cx="3975120" cy="46087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2" descr=""/>
          <p:cNvPicPr/>
          <p:nvPr/>
        </p:nvPicPr>
        <p:blipFill>
          <a:blip r:embed="rId2"/>
          <a:stretch/>
        </p:blipFill>
        <p:spPr>
          <a:xfrm>
            <a:off x="250920" y="1808280"/>
            <a:ext cx="4197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действие с родителям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C:\Users\admin\Desktop\Библиотека\IMG-20190203-WA0059.jpg"/>
          <p:cNvPicPr/>
          <p:nvPr/>
        </p:nvPicPr>
        <p:blipFill>
          <a:blip r:embed="rId1"/>
          <a:stretch/>
        </p:blipFill>
        <p:spPr>
          <a:xfrm>
            <a:off x="1763640" y="1557360"/>
            <a:ext cx="49690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местная деятельность с детьми</a:t>
            </a:r>
            <a:br>
              <a:rPr sz="36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ЕМ В БИБЛИОТЕКУ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Объект 5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4105080" cy="4752720"/>
          </a:xfrm>
          <a:prstGeom prst="rect">
            <a:avLst/>
          </a:prstGeom>
          <a:ln w="0">
            <a:noFill/>
          </a:ln>
        </p:spPr>
      </p:pic>
      <p:pic>
        <p:nvPicPr>
          <p:cNvPr id="362" name="Объект 4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62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РАБО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Индивидуальные беседы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Беседы у книжных полок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Книжные выставк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Викторины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Родительские встреч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Экскурсии в библиотеку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Участие библиотекаря И.Н. Арживикиной в родительских собраниях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Литературно-поэтические гостины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Заголовок 1"/>
          <p:cNvSpPr/>
          <p:nvPr/>
        </p:nvSpPr>
        <p:spPr>
          <a:xfrm>
            <a:off x="83808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98864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НТРАЛЬНАЯ ГОРОДСКАЯ ДЕТСКАЯ БИБЛИОТЕКА ИМЕНИ О.КОШЕВОГО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Объект 4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19640" cy="3672000"/>
          </a:xfrm>
          <a:prstGeom prst="rect">
            <a:avLst/>
          </a:prstGeom>
          <a:ln w="0">
            <a:noFill/>
          </a:ln>
        </p:spPr>
      </p:pic>
      <p:pic>
        <p:nvPicPr>
          <p:cNvPr id="368" name="Объект 5" descr=""/>
          <p:cNvPicPr/>
          <p:nvPr/>
        </p:nvPicPr>
        <p:blipFill>
          <a:blip r:embed="rId2"/>
          <a:stretch/>
        </p:blipFill>
        <p:spPr>
          <a:xfrm>
            <a:off x="4645080" y="2276640"/>
            <a:ext cx="4248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Н.АРЖИВИКИНА ПРИГЛАШАЕТ РЕБЯТ В ГОСТ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 rot="10800000">
            <a:off x="684360" y="5735160"/>
            <a:ext cx="777528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Городск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828800" y="333360"/>
            <a:ext cx="5486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КУРСИЯ ПО БИБЛИОТЕКЕ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Объект 5" descr=""/>
          <p:cNvPicPr/>
          <p:nvPr/>
        </p:nvPicPr>
        <p:blipFill>
          <a:blip r:embed="rId1"/>
          <a:stretch/>
        </p:blipFill>
        <p:spPr>
          <a:xfrm>
            <a:off x="1295280" y="2060640"/>
            <a:ext cx="3492720" cy="4065480"/>
          </a:xfrm>
          <a:prstGeom prst="rect">
            <a:avLst/>
          </a:prstGeom>
          <a:ln w="0">
            <a:noFill/>
          </a:ln>
        </p:spPr>
      </p:pic>
      <p:pic>
        <p:nvPicPr>
          <p:cNvPr id="374" name="Объект 1" descr=""/>
          <p:cNvPicPr/>
          <p:nvPr/>
        </p:nvPicPr>
        <p:blipFill>
          <a:blip r:embed="rId2"/>
          <a:stretch/>
        </p:blipFill>
        <p:spPr>
          <a:xfrm>
            <a:off x="5264280" y="2060640"/>
            <a:ext cx="34113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иблио» – книга, «тека» - хранилищ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960720" cy="453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37148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 «Юный Книголюб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Объект 7" descr=""/>
          <p:cNvPicPr/>
          <p:nvPr/>
        </p:nvPicPr>
        <p:blipFill>
          <a:blip r:embed="rId1"/>
          <a:stretch/>
        </p:blipFill>
        <p:spPr>
          <a:xfrm>
            <a:off x="5264280" y="2679840"/>
            <a:ext cx="2584440" cy="3446280"/>
          </a:xfrm>
          <a:prstGeom prst="rect">
            <a:avLst/>
          </a:prstGeom>
          <a:ln w="0">
            <a:noFill/>
          </a:ln>
        </p:spPr>
      </p:pic>
      <p:pic>
        <p:nvPicPr>
          <p:cNvPr id="346" name="Объект 9" descr=""/>
          <p:cNvPicPr/>
          <p:nvPr/>
        </p:nvPicPr>
        <p:blipFill>
          <a:blip r:embed="rId2"/>
          <a:stretch/>
        </p:blipFill>
        <p:spPr>
          <a:xfrm>
            <a:off x="1295280" y="2679840"/>
            <a:ext cx="258444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4"/>
          <p:cNvSpPr/>
          <p:nvPr/>
        </p:nvSpPr>
        <p:spPr>
          <a:xfrm>
            <a:off x="2286000" y="28288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ющие дети –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чшие на свете!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йте, девчонки, читайте, мальчишки!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хому не учат любимые книж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СЕДА С И.Н.АРЖИВИКИНОЙ В БИБЛИОТЕКЕ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Объект 4" descr=""/>
          <p:cNvPicPr/>
          <p:nvPr/>
        </p:nvPicPr>
        <p:blipFill>
          <a:blip r:embed="rId1"/>
          <a:stretch/>
        </p:blipFill>
        <p:spPr>
          <a:xfrm>
            <a:off x="826920" y="2174760"/>
            <a:ext cx="3816360" cy="4349880"/>
          </a:xfrm>
          <a:prstGeom prst="rect">
            <a:avLst/>
          </a:prstGeom>
          <a:ln w="0">
            <a:noFill/>
          </a:ln>
        </p:spPr>
      </p:pic>
      <p:pic>
        <p:nvPicPr>
          <p:cNvPr id="381" name="Объект 7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456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6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680000" cy="49435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ЛЮДЕНИЕ ЗА РАБОТОЙ БИБЛИОТЕКАРЯ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Н.АРЖИВИКИНА С НОВИНКАМИ В ДЕТСКОМ САДУ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Объект 7" descr=""/>
          <p:cNvPicPr/>
          <p:nvPr/>
        </p:nvPicPr>
        <p:blipFill>
          <a:blip r:embed="rId1"/>
          <a:stretch/>
        </p:blipFill>
        <p:spPr>
          <a:xfrm>
            <a:off x="5122800" y="2492280"/>
            <a:ext cx="3552840" cy="4105440"/>
          </a:xfrm>
          <a:prstGeom prst="rect">
            <a:avLst/>
          </a:prstGeom>
          <a:ln w="0">
            <a:noFill/>
          </a:ln>
        </p:spPr>
      </p:pic>
      <p:pic>
        <p:nvPicPr>
          <p:cNvPr id="386" name="Объект 9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Заголовок 1"/>
          <p:cNvSpPr/>
          <p:nvPr/>
        </p:nvSpPr>
        <p:spPr>
          <a:xfrm>
            <a:off x="83808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98864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3"/>
          <p:cNvSpPr/>
          <p:nvPr/>
        </p:nvSpPr>
        <p:spPr>
          <a:xfrm>
            <a:off x="1835280" y="2828880"/>
            <a:ext cx="59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ение -это окошко, через которое дети видят и познают мир и самих себя»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 Сухомлинский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3"/>
          <p:cNvSpPr/>
          <p:nvPr/>
        </p:nvSpPr>
        <p:spPr>
          <a:xfrm>
            <a:off x="1071720" y="2786040"/>
            <a:ext cx="75610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равление проекта: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о-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й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 проекта: Долгосрочный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 реализации проекта: январь 2019год – май 2020год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611280" y="2967120"/>
            <a:ext cx="828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и проекта: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и, дети старшей группы, родители, библиотекарь центральной детской городской библиотеки имени О. Кошевого Арживикина Инна Никола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539640" y="612720"/>
            <a:ext cx="80647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щение детей к чтению, возрождение семейного чтения, является сегодня актуальной темой. У многих современных детей совершенно отсутствует интерес к книге. Многие родители забыли о существовании библиотек. На первый план выступают телевидение, интернет. Любовь к чтению, приобщению к книге, художественному слову необходимо воспитывать у детей, начиная с дошкольного возраста.  В художественной литературе, как нигде, сохранились особенные черты русского характера, присущие ему нравственные ценности, представления о добре, зле, уважительное отношение к труду, в них восхваляются положительные качества и т. д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468360" y="310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щение детей к русской и зарубежной литературе, возрождение семейного чтения, повышение престижа библиотек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250920" y="612720"/>
            <a:ext cx="8353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у детей  интерес к русской и зарубежной литератур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гащение детского замысла яркими впечатлениями через художественную литературу, театральную деятельност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детей с разнообразием русских народных сказок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воображение, творческую фантаз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рмонизация отношений между взрослыми и детьми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39640" y="130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полагаемый результат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интереса к русской культуре, к русскому быт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у детей познавательной активности, творческих способностей, коммуникативных навыков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йствие творческому развитию дете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эмоциональной отзывчивост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рмонизация отношений между взрослыми и детьми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0T01:58:39Z</dcterms:created>
  <dc:creator>Пользователь Windows</dc:creator>
  <dc:description/>
  <dc:language>en-US</dc:language>
  <cp:lastModifiedBy>Admin</cp:lastModifiedBy>
  <dcterms:modified xsi:type="dcterms:W3CDTF">2019-05-21T19:08:19Z</dcterms:modified>
  <cp:revision>33</cp:revision>
  <dc:subject/>
  <dc:title>МУНИЦИПАЛЬНОЕ БЮДЖЕТНОЕ ДОШКОЛЬНОЕ ОБРАЗОВАТЕЛЬНОЕ УЧРЕЖДЕНИЕ ДЕТСКИЙ САД ОБЩЕРАЗВИВАЮЩЕГО ВИДА №6 Г.ТЕМЮКА МУНИЦИПАЛЬНОГО ОБРАЗОВАНИЯ ТЕМРЮКСКИЙ РАЙОН</dc:title>
</cp:coreProperties>
</file>