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13D1-9F7F-4C7C-A826-F5942F1053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025D-2591-4C83-9BC2-40357CD413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AA6-DEF9-4D05-8003-175765EE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BED-38CF-4385-869F-6FBE592A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6E1-DEBE-422F-BFE4-4A86CEB9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BB0-9BF2-41DE-8A87-A9465C17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E4AA-B14D-4892-A994-C01B1B94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E79B-B24E-4FE9-83AA-90726CAF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5D6F-3799-4AF2-BC5F-C6F9EFD5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C646-7814-4145-803A-659CEC43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A5A6-8D61-40D7-BC97-12BFDF82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5119-5B0C-48A1-9BDD-16AC2701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F264-4CDB-4510-A553-A7C4C63D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714-83D7-4D27-9876-CBC35D9A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17BE-F8E5-4993-A358-D59B20C0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764D-EAA1-44A6-A615-02260D5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D3A9-C7D1-46A3-875A-4466F275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B2CB-8887-4FD4-97EE-92F6F046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C7DB-BE62-427B-A35F-17D0B69D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D51AB-CF95-44F0-8BD3-3CEA337F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D897-11AB-4F14-8192-62750E08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39FA-08C7-45DC-BA08-ABC8996B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2563-8F07-492C-9F9C-77E4CD07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120F-167E-4F23-8DE9-EE82C140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01B-1DE1-43A0-BD83-9D7DA73F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2628-B989-427A-BB5D-3723FD61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5384-719E-46A3-967B-EDDEAA64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0EC7-EFDA-42AE-8970-A4130B6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5D52-2546-4995-8C0E-295D9F1B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7982-5C21-45EF-AB82-38F09BE5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18DDA-8656-449A-BC5B-85BAEFFA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EDB3-971C-4A60-9541-2E8A0DF8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4671-24E3-4394-8641-E3EB4C79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2C32-F908-4D40-A2E2-A7D27966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21E69-B50A-4144-A784-35C60501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D5C-5E76-443A-ABCB-314305D4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17FC-7F2F-4444-9124-07408BE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8E21-33FF-47EB-B6A8-5B420A95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12D8D-AC8D-49DA-B026-83829B31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71CB-166E-4EEA-9373-8F08A079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F434-5BD5-4996-9632-E8AFEE64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531B-1CF4-4CE5-919A-6759624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2FAF-671B-48BF-A3A8-A5F52E07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A6B06-D6F4-4D06-BB75-4A36466E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6AAD-DB46-4EDA-99A9-9D67D21D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D8F97-08C0-4E43-8D2D-3AC20762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9D7-7D95-4087-90B7-136A9D8D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85B4B-F18A-4FE2-B0F6-C1D7B4D5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DF2A4-60E8-4932-8EE1-042DD380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59F4B-1345-46FB-B346-F8E569B4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E3DD-72DD-4D1F-9B72-28E10F21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C81B2-1663-465D-8168-996D7D8D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CC8F6-3E48-42E4-88F0-9B8CAFA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D5419-BC38-4870-A20E-EB2F2D72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CB77-0EE5-445F-99B3-87C7EC06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4E06-3F6A-4856-9404-CBED0C46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63F0-500A-46CE-B424-DD3F7457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A84-8D0E-41DE-99E1-D87F1AF0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BF43-D64F-4F24-80EA-5DA7B687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5692-12F3-4CE2-B2EC-FD1974D3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9E75-FE1F-4AFA-BF7C-71DD6F2A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6E91D-A7A6-4DBE-923E-215273DC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D8E58-9DC3-4455-AB84-0FD42F08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06F6F-98F3-41EE-9270-43B63860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483A8-041D-4166-8788-90DDEAAA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1E1A-90E8-49FE-9E8A-96395174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DAF79-CE3F-4D7B-BEAF-EED2557B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A0E0F-8C5D-431A-AA49-28203753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EBA-3CE2-44CC-8427-A0EBC5B8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6912E-7D0E-45D6-B263-758A0BEA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8FF7B-CEB0-4835-B673-8B0FA5D3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752A9-9B96-4B50-B35C-5D740438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F7BA-3868-4A0D-9357-BAF057CE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0AC86-B106-4DB2-A05A-501DBD23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1EB48-D41D-4644-8D7F-0A68435C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172D8-A528-46B8-A014-4B5E75A6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FC04D-65ED-4660-A90B-F5D5B8D1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CFC06-4391-4955-865B-BBA5CA9B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35907-ECCD-44F8-A985-A6D1488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921-C472-48AE-BD09-41B591A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2462B-2323-49CB-BD55-46B1A72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954F7-37C9-4495-90A9-B5FB99F8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68EF5-9659-40BB-84C6-B1AFC582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A2B1F-DFD6-4AF2-977B-CAD3FBE1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4B789-D73E-4370-9667-A723B693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AD6-A1E2-4D65-93B1-EAC03DED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DC31-A63E-45A5-90EA-C8836DAD7A8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4CE0-BDEF-4AEE-B3EF-30A17AD1D0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BF9F-D040-4E1C-99E1-D2E7A8D5E1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E8DC-5A9D-4CE8-A3CD-9E60DE523C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090A-8A2A-4040-800D-FAC8AD546A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42E1-3FB5-449B-AE58-605E594F67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0230-6AD9-457A-BB93-53769CA2B54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ОБЩЕРАЗВИВАЮЩЕГО ВИДА №6 Г.ТЕМЮКА МУНИЦИПАЛЬНОГО ОБРАЗОВАНИЯ ТЕМРЮКСКИЙ РАЙОН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С «Читающая мама -  читающая страна»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МИНАЦИЯ  «Русская культура в жизни ребенка»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 старшей группы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мельченко В.И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539640" y="474840"/>
            <a:ext cx="842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РЕАЛИЗАЦИИ ПРОЕКТА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.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– ПОДГОТОВИТЕЛЬНЫЙ (январь 2019 год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нкетирование родителей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суждение проекта, выяснение возможностей, средств, необходимых для реализации проект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зучение литературы (журналы, книги, Интернет)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ключение договора с центральной городской детской библиотекой им.О.Кошевог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оставление перспективного плана работы по проведению проект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одбор литературы, пособий, атрибутов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Подбор и приобретение русских народных сказок в разном издании,  художественной детской литературы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ивлечение родителей к созданию развивающей предметно-пространственной среды по теме проект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.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— ОСНОВНОЙ (с 01февраля 2019 года по 31 мая 2020 года)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 по приобщению ребят к книге был разделен на блоки: работа с библиотеко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3" descr="C:\Users\admin\Desktop\Библиотека\IMG-20190203-WA0053.jpg"/>
          <p:cNvPicPr/>
          <p:nvPr/>
        </p:nvPicPr>
        <p:blipFill>
          <a:blip r:embed="rId1"/>
          <a:stretch/>
        </p:blipFill>
        <p:spPr>
          <a:xfrm>
            <a:off x="4917960" y="1844640"/>
            <a:ext cx="3975120" cy="46087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2" descr=""/>
          <p:cNvPicPr/>
          <p:nvPr/>
        </p:nvPicPr>
        <p:blipFill>
          <a:blip r:embed="rId2"/>
          <a:stretch/>
        </p:blipFill>
        <p:spPr>
          <a:xfrm>
            <a:off x="250920" y="1808280"/>
            <a:ext cx="4197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действие с родителям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C:\Users\admin\Desktop\Библиотека\IMG-20190203-WA0059.jpg"/>
          <p:cNvPicPr/>
          <p:nvPr/>
        </p:nvPicPr>
        <p:blipFill>
          <a:blip r:embed="rId1"/>
          <a:stretch/>
        </p:blipFill>
        <p:spPr>
          <a:xfrm>
            <a:off x="1763640" y="1557360"/>
            <a:ext cx="49690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местная деятельность с детьми</a:t>
            </a:r>
            <a:br>
              <a:rPr sz="36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ЕМ В БИБЛИОТЕКУ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Объект 5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4105080" cy="4752720"/>
          </a:xfrm>
          <a:prstGeom prst="rect">
            <a:avLst/>
          </a:prstGeom>
          <a:ln w="0">
            <a:noFill/>
          </a:ln>
        </p:spPr>
      </p:pic>
      <p:pic>
        <p:nvPicPr>
          <p:cNvPr id="362" name="Объект 4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96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620120" cy="62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РАБО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Индивидуальные беседы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Беседы у книжных полок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Книжные выставк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Викторины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Родительские встреч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Экскурсии в библиотеку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Участие библиотекаря И.Н. Арживикиной в родительских собраниях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Литературно-поэтические гостины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Заголовок 1"/>
          <p:cNvSpPr/>
          <p:nvPr/>
        </p:nvSpPr>
        <p:spPr>
          <a:xfrm>
            <a:off x="83808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98864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НТРАЛЬНАЯ ГОРОДСКАЯ ДЕТСКАЯ БИБЛИОТЕКА ИМЕНИ О.КОШЕВОГО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Объект 4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319640" cy="3672000"/>
          </a:xfrm>
          <a:prstGeom prst="rect">
            <a:avLst/>
          </a:prstGeom>
          <a:ln w="0">
            <a:noFill/>
          </a:ln>
        </p:spPr>
      </p:pic>
      <p:pic>
        <p:nvPicPr>
          <p:cNvPr id="368" name="Объект 5" descr=""/>
          <p:cNvPicPr/>
          <p:nvPr/>
        </p:nvPicPr>
        <p:blipFill>
          <a:blip r:embed="rId2"/>
          <a:stretch/>
        </p:blipFill>
        <p:spPr>
          <a:xfrm>
            <a:off x="4645080" y="2276640"/>
            <a:ext cx="4248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.Н.АРЖИВИКИНА ПРИГЛАШАЕТ РЕБЯТ В ГОСТ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 rot="10800000">
            <a:off x="684360" y="5735160"/>
            <a:ext cx="777528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Городск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828800" y="333360"/>
            <a:ext cx="5486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КУРСИЯ ПО БИБЛИОТЕКЕ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3" name="Объект 5" descr=""/>
          <p:cNvPicPr/>
          <p:nvPr/>
        </p:nvPicPr>
        <p:blipFill>
          <a:blip r:embed="rId1"/>
          <a:stretch/>
        </p:blipFill>
        <p:spPr>
          <a:xfrm>
            <a:off x="1295280" y="2060640"/>
            <a:ext cx="3492720" cy="4065480"/>
          </a:xfrm>
          <a:prstGeom prst="rect">
            <a:avLst/>
          </a:prstGeom>
          <a:ln w="0">
            <a:noFill/>
          </a:ln>
        </p:spPr>
      </p:pic>
      <p:pic>
        <p:nvPicPr>
          <p:cNvPr id="374" name="Объект 1" descr=""/>
          <p:cNvPicPr/>
          <p:nvPr/>
        </p:nvPicPr>
        <p:blipFill>
          <a:blip r:embed="rId2"/>
          <a:stretch/>
        </p:blipFill>
        <p:spPr>
          <a:xfrm>
            <a:off x="5264280" y="2060640"/>
            <a:ext cx="34113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иблио» – книга, «тека» - хранилищ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960720" cy="453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37148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 «Юный Книголюб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Объект 7" descr=""/>
          <p:cNvPicPr/>
          <p:nvPr/>
        </p:nvPicPr>
        <p:blipFill>
          <a:blip r:embed="rId1"/>
          <a:stretch/>
        </p:blipFill>
        <p:spPr>
          <a:xfrm>
            <a:off x="5264280" y="2679840"/>
            <a:ext cx="2584440" cy="3446280"/>
          </a:xfrm>
          <a:prstGeom prst="rect">
            <a:avLst/>
          </a:prstGeom>
          <a:ln w="0">
            <a:noFill/>
          </a:ln>
        </p:spPr>
      </p:pic>
      <p:pic>
        <p:nvPicPr>
          <p:cNvPr id="346" name="Объект 9" descr=""/>
          <p:cNvPicPr/>
          <p:nvPr/>
        </p:nvPicPr>
        <p:blipFill>
          <a:blip r:embed="rId2"/>
          <a:stretch/>
        </p:blipFill>
        <p:spPr>
          <a:xfrm>
            <a:off x="1295280" y="2679840"/>
            <a:ext cx="258444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4"/>
          <p:cNvSpPr/>
          <p:nvPr/>
        </p:nvSpPr>
        <p:spPr>
          <a:xfrm>
            <a:off x="2286000" y="282888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ющие дети –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чшие на свете!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йте, девчонки, читайте, мальчишки!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хому не учат любимые книж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СЕДА С И.Н.АРЖИВИКИНОЙ В БИБЛИОТЕКЕ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0" name="Объект 4" descr=""/>
          <p:cNvPicPr/>
          <p:nvPr/>
        </p:nvPicPr>
        <p:blipFill>
          <a:blip r:embed="rId1"/>
          <a:stretch/>
        </p:blipFill>
        <p:spPr>
          <a:xfrm>
            <a:off x="826920" y="2174760"/>
            <a:ext cx="3816360" cy="4349880"/>
          </a:xfrm>
          <a:prstGeom prst="rect">
            <a:avLst/>
          </a:prstGeom>
          <a:ln w="0">
            <a:noFill/>
          </a:ln>
        </p:spPr>
      </p:pic>
      <p:pic>
        <p:nvPicPr>
          <p:cNvPr id="381" name="Объект 7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3456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Объект 6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680000" cy="49435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ЛЮДЕНИЕ ЗА РАБОТОЙ БИБЛИОТЕКАРЯ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.Н.АРЖИВИКИНА С НОВИНКАМИ В ДЕТСКОМ САДУ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Объект 7" descr=""/>
          <p:cNvPicPr/>
          <p:nvPr/>
        </p:nvPicPr>
        <p:blipFill>
          <a:blip r:embed="rId1"/>
          <a:stretch/>
        </p:blipFill>
        <p:spPr>
          <a:xfrm>
            <a:off x="5122800" y="2492280"/>
            <a:ext cx="3552840" cy="4105440"/>
          </a:xfrm>
          <a:prstGeom prst="rect">
            <a:avLst/>
          </a:prstGeom>
          <a:ln w="0">
            <a:noFill/>
          </a:ln>
        </p:spPr>
      </p:pic>
      <p:pic>
        <p:nvPicPr>
          <p:cNvPr id="386" name="Объект 9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Заголовок 1"/>
          <p:cNvSpPr/>
          <p:nvPr/>
        </p:nvSpPr>
        <p:spPr>
          <a:xfrm>
            <a:off x="838080" y="76320"/>
            <a:ext cx="76201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98864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3"/>
          <p:cNvSpPr/>
          <p:nvPr/>
        </p:nvSpPr>
        <p:spPr>
          <a:xfrm>
            <a:off x="1835280" y="2828880"/>
            <a:ext cx="59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ение -это окошко, через которое дети видят и познают мир и самих себя»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 Сухомлинский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3"/>
          <p:cNvSpPr/>
          <p:nvPr/>
        </p:nvSpPr>
        <p:spPr>
          <a:xfrm>
            <a:off x="1071720" y="2786040"/>
            <a:ext cx="75610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правление проекта: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о-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й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 проекта: Долгосрочный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 реализации проекта: январь 2019год – май 2020год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611280" y="2967120"/>
            <a:ext cx="828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ники проекта: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и, дети старшей группы, родители, библиотекарь центральной детской городской библиотеки имени О. Кошевого Арживикина Инна Николаевна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1"/>
          <p:cNvSpPr/>
          <p:nvPr/>
        </p:nvSpPr>
        <p:spPr>
          <a:xfrm>
            <a:off x="539640" y="612720"/>
            <a:ext cx="80647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щение детей к чтению, возрождение семейного чтения, является сегодня актуальной темой. У многих современных детей совершенно отсутствует интерес к книге. Многие родители забыли о существовании библиотек. На первый план выступают телевидение, интернет. Любовь к чтению, приобщению к книге, художественному слову необходимо воспитывать у детей, начиная с дошкольного возраста.  В художественной литературе, как нигде, сохранились особенные черты русского характера, присущие ему нравственные ценности, представления о добре, зле, уважительное отношение к труду, в них восхваляются положительные качества и т. д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468360" y="3105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проекта: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щение детей к русской и зарубежной литературе, возрождение семейного чтения, повышение престижа библиотек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250920" y="612720"/>
            <a:ext cx="83534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у детей  интерес к русской и зарубежной литератур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гащение детского замысла яркими впечатлениями через художественную литературу, театральную деятельность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 детей с разнообразием русских народных сказок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воображение, творческую фантазию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рмонизация отношений между взрослыми и детьми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39640" y="130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полагаемый результат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интереса к русской культуре, к русскому быт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у детей познавательной активности, творческих способностей, коммуникативных навыков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йствие творческому развитию детей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эмоциональной отзывчивост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рмонизация отношений между взрослыми и детьми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0T01:58:39Z</dcterms:created>
  <dc:creator>Пользователь Windows</dc:creator>
  <dc:description/>
  <dc:language>en-US</dc:language>
  <cp:lastModifiedBy>Admin</cp:lastModifiedBy>
  <dcterms:modified xsi:type="dcterms:W3CDTF">2019-05-21T19:08:19Z</dcterms:modified>
  <cp:revision>33</cp:revision>
  <dc:subject/>
  <dc:title>МУНИЦИПАЛЬНОЕ БЮДЖЕТНОЕ ДОШКОЛЬНОЕ ОБРАЗОВАТЕЛЬНОЕ УЧРЕЖДЕНИЕ ДЕТСКИЙ САД ОБЩЕРАЗВИВАЮЩЕГО ВИДА №6 Г.ТЕМЮКА МУНИЦИПАЛЬНОГО ОБРАЗОВАНИЯ ТЕМРЮКСКИЙ РАЙОН</dc:title>
</cp:coreProperties>
</file>