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139-6870-45D3-BB60-5B700EA5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1F7-D745-4345-B22C-EA32DFD2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69E-72FD-4F35-A0E6-C1F4B90E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6C3-C481-41CF-AF28-68ED8CA5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E9A-97BA-42D9-B701-5DC554F2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F98-6B7D-4F6C-8FCC-C3DCABB7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76D-56E6-4773-BD05-891C22BF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909-5451-4600-ADC3-A7B0EB2B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107-30F9-4CB7-B1AE-22FB3F2F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B46-7C31-461B-A703-035E3B12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063-67E4-4BA5-83C5-39B87C2C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690-543B-4C2C-AF45-C86C86B6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C1FE-7ECB-4BD1-BA68-730A8C78F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71640" y="3851280"/>
            <a:ext cx="679608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a35"/>
                </a:solidFill>
                <a:latin typeface="Cambria Math"/>
                <a:ea typeface="Cambria Math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a35"/>
                </a:solidFill>
                <a:latin typeface="Cambria Math"/>
                <a:ea typeface="Cambria Math"/>
              </a:rPr>
              <a:t>Воспитатель  Супруненко О.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a35"/>
                </a:solidFill>
                <a:latin typeface="Cambria Math"/>
                <a:ea typeface="Cambria Math"/>
              </a:rPr>
              <a:t>Лесосибирск ,</a:t>
            </a:r>
            <a:r>
              <a:rPr b="0" lang="ru-RU" sz="2400" spc="-1" strike="noStrike">
                <a:solidFill>
                  <a:srgbClr val="222a35"/>
                </a:solidFill>
                <a:latin typeface="Cambria Math"/>
                <a:ea typeface="Cambria Math"/>
              </a:rPr>
              <a:t> </a:t>
            </a:r>
            <a:r>
              <a:rPr b="1" lang="ru-RU" sz="2400" spc="-1" strike="noStrike">
                <a:solidFill>
                  <a:srgbClr val="222a35"/>
                </a:solidFill>
                <a:latin typeface="Cambria Math"/>
                <a:ea typeface="Cambria Math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401840" y="41292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МАДОУ«Детский сад 43 «Журавушка»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584360" y="1481040"/>
            <a:ext cx="561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ПРЕДМЕТНО-ПРОСТРАНСТВЕННАЯ РАЗВИВАЮЩАЯ СРЕДА подготовительной к школе групп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06960" y="-39960"/>
            <a:ext cx="4741920" cy="32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центром конструирования расположен многофункциональ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безопас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авленный на закрепление ПДД, правил пожарной безопасности,  ознакомление с объектами социального окружения ДОУ, настольные игры, закрепляющие правила безопасности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4230720" y="3381480"/>
            <a:ext cx="4718160" cy="3305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168120" y="3352680"/>
            <a:ext cx="3222720" cy="3333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73160" y="0"/>
            <a:ext cx="32223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166320"/>
            <a:ext cx="85341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нтр природы и экспериментирова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включает в себя календарь природы, настольные игры, тематические альбомы, инвентарь для ухода за комнатными растениями, природный материал и все необходимое для экспериментирования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262240" y="1219320"/>
            <a:ext cx="4919760" cy="276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260280" y="4095720"/>
            <a:ext cx="3619440" cy="2608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172120" y="4106880"/>
            <a:ext cx="37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22640" y="272880"/>
            <a:ext cx="4694400" cy="31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ованной деятельнос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различные виды театра: пальчиковый, магнитный, перчаточный,  театр масок (маски героев русских народных сказок); ширмы разной величины, атрибуты для инсценирования. Дети с удовольствие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показывают друг другу сказки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3000240" cy="365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3475080" y="3949560"/>
            <a:ext cx="5516640" cy="2749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182520" y="3924360"/>
            <a:ext cx="30654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840280" y="2297160"/>
            <a:ext cx="3127680" cy="440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158760" y="541440"/>
            <a:ext cx="3790800" cy="3103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182520" y="3859200"/>
            <a:ext cx="4224240" cy="2833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560" y="365040"/>
            <a:ext cx="503568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«Грамотейка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настольные игры на развитие фонематического слуха , игры на диафрагментальное  дыхание , книги для чтения по слогам, фотографии с артикуляционной гимнастикой, домик для подбора картинок на данный  звук, атрибуты для игры «Я учитель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31840" y="2354400"/>
            <a:ext cx="3376440" cy="435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917960" y="3621240"/>
            <a:ext cx="4056120" cy="304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4935600" y="158760"/>
            <a:ext cx="4051080" cy="3040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920" y="231840"/>
            <a:ext cx="46213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«Размышляйка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ыщен играми математического содержания, развивающими играми: палочками Кюизенера, кубиками Никитина, блоками Дьенеша, счетными палочками, головоломками, ребусами, играми на развитие памяти, внимания, мышления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236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лняемость центров меняется в зависимости от темы недел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недели «День Защитников Отечества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сюжетно ролевых игр  внесен китель , подобрана  военная техника,  в литературном  центре совместно с родителями  организована выставка фотографий дедушек, принимавших участие в Великой Отечественной войне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4197240"/>
            <a:ext cx="2652840" cy="2660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2792520" y="1736640"/>
            <a:ext cx="2962080" cy="2932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5870520" y="3963960"/>
            <a:ext cx="33098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8600" y="-304920"/>
            <a:ext cx="5280120" cy="38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JhengHei"/>
              </a:rPr>
              <a:t>Неделя «Русское народное творчество» . Центр творческой активно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JhengHei"/>
              </a:rPr>
              <a:t>внесены демонстрационный материал и дидактические пособия, рисунки детей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JhengHei"/>
              </a:rPr>
              <a:t>Центр развития реч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JhengHei"/>
              </a:rPr>
              <a:t>добавлены игры: «Народные промыслы», лото «Веселые мастера», «Вятское лото»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JhengHei"/>
              </a:rPr>
              <a:t>Центр «Размышляйка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JhengHei"/>
              </a:rPr>
              <a:t>дидактические игры «Собери картинку», «Найди по фрагменту» по народным промыслам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962680" y="628560"/>
            <a:ext cx="3181320" cy="286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5192640" y="4379760"/>
            <a:ext cx="3951360" cy="2478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0" y="4494240"/>
            <a:ext cx="46022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07880" y="6588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Развивающая предметно – пространственная среда группы обеспечивает возможность общения и совместной деятельности детей, взрослых, содержательно насыщена, трансформируема, полифункциональна, вариативна, доступна и безопасна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Содержание предметно-пространственной развивающей среды соответствует интересам мальчиков и девочек, периодически в соответствии с темой недели изменяется, дополняется, постоянно обогащается для поддержки интереса детей, д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обеспеч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«зоны ближайшего развития», для развития инициативы и самостоятельност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одержимое 3"/>
          <p:cNvSpPr/>
          <p:nvPr/>
        </p:nvSpPr>
        <p:spPr>
          <a:xfrm>
            <a:off x="331920" y="422280"/>
            <a:ext cx="850716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Правильно организованная развивающая среда позволяет каждому малышу найти занятие по душе, поверить в свои силы и способности, научиться взаимодействовать с педагогами и сверстниками, понимать и оценивать их чувства и поступк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Развивающая среда способствует развитию индивидуальности каждого ребенка с учетом его интересов и уровня акти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Пользователь\Desktop\111.jpg"/>
          <p:cNvPicPr/>
          <p:nvPr/>
        </p:nvPicPr>
        <p:blipFill>
          <a:blip r:embed="rId1"/>
          <a:stretch/>
        </p:blipFill>
        <p:spPr>
          <a:xfrm>
            <a:off x="1673280" y="2328840"/>
            <a:ext cx="56181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D:\ТАНЯ рабочая\АТТЕСТАЦИЯ 2017-2018\Фото\Рисуно.jpg"/>
          <p:cNvPicPr/>
          <p:nvPr/>
        </p:nvPicPr>
        <p:blipFill>
          <a:blip r:embed="rId1"/>
          <a:stretch/>
        </p:blipFill>
        <p:spPr>
          <a:xfrm>
            <a:off x="90360" y="331920"/>
            <a:ext cx="4378320" cy="3289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22320" y="-276480"/>
            <a:ext cx="462132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Предметно-пространственная развивающая среда группы разделена на центры для самостоятельной деятельности детей.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нтр сюжетно-ролевых  иг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содержит все необходимое для совместных игр дете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Атрибуты к играм регулярно пополняются, в их создании активно принимают участие родители наших воспитанник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4597560" y="3811680"/>
            <a:ext cx="4564080" cy="304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90360" y="3811680"/>
            <a:ext cx="435636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42920" y="182520"/>
            <a:ext cx="513252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нтре физ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находится спортивный инвентарь, «дорожки здоровья», предметы для комплексов утренней гимнастики, картотеки, оборудование для подвижных игр и т.д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056280" y="1905120"/>
            <a:ext cx="2924280" cy="479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2535120" y="3255840"/>
            <a:ext cx="3405240" cy="342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12760" y="203040"/>
            <a:ext cx="25747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3800" y="620640"/>
            <a:ext cx="4895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литературном центр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подобраны книги и настольные игры , которые обновляются в соответствии с темой недели, книги и портрет писателя, с творчеством которого знакомятся дети, формуляры для игры в библиотеку, государственная символика России и города Лесосибирска, фотоальбомы: «Мой город», «Дом в котором я живу», «Моя семья»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435640" y="504720"/>
            <a:ext cx="3708360" cy="29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435640" y="3917880"/>
            <a:ext cx="3708360" cy="294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0" y="3917880"/>
            <a:ext cx="519120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70360" y="291960"/>
            <a:ext cx="5054400" cy="26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В центре развития реч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подобраны дидактические игры на развитие лексико- грамматического строя речи, координацию речи с движением, развитие слухового и зрительного внимания, памяти, интонационной выразительности речи; комплексы пальчиковой гимнастики, мнемотаблицы; загадки, предметные и сюжетные картинки на разные лексические темы; схемы для составления рассказа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166680" y="200160"/>
            <a:ext cx="3322800" cy="356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4140360" y="3841920"/>
            <a:ext cx="4795560" cy="28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171360" y="3892680"/>
            <a:ext cx="37609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2280" y="-514800"/>
            <a:ext cx="8272440" cy="33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нтр творческой активнос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содержит разнообразный демонстрационный материал, различные материалы для рисования, в том числе и нетрадиционного: краски, кисточки разной величины, карандаши, «тычки», трубочки, мелки, трафареты, фломастеры, раскраски, бумагу разной фактуры, цвета и размера, листы оргстекла и другие материалы для творческой деятельности детей, продукты детского творчества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5230800" y="3430440"/>
            <a:ext cx="3657600" cy="3246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271440" y="2344680"/>
            <a:ext cx="44942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182520" y="3371760"/>
            <a:ext cx="4281480" cy="326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4971960" y="3406680"/>
            <a:ext cx="3952800" cy="32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612720" y="399960"/>
            <a:ext cx="788688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21120" y="534960"/>
            <a:ext cx="3981600" cy="25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центре  конструирования</a:t>
            </a:r>
            <a:r>
              <a:rPr b="0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находятся разные виды конструкторов, схемы конструирования, машины. Мелкие конструкторы убраны в контейнеры, которые легко перемещаются в нужную часть группы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584600" y="3662280"/>
            <a:ext cx="4314960" cy="302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208080" y="182520"/>
            <a:ext cx="4002120" cy="3328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158760" y="366408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12:46:22Z</dcterms:created>
  <dc:creator>Инна</dc:creator>
  <dc:description/>
  <dc:language>en-US</dc:language>
  <cp:lastModifiedBy>Vesta7</cp:lastModifiedBy>
  <dcterms:modified xsi:type="dcterms:W3CDTF">2019-05-20T07:54:12Z</dcterms:modified>
  <cp:revision>112</cp:revision>
  <dc:subject/>
  <dc:title>Презентация PowerPoint</dc:title>
</cp:coreProperties>
</file>