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043-6D27-4E5A-A758-25C187DE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E47-EB53-4544-95A4-2A9E372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D17-CC68-429D-BD0A-B110C650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115-99EB-4E2E-A30B-E9CD8204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87D-A999-4076-8239-BFF6E93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7C2-2E8B-4BCC-80CA-C31BE2CA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0BC-CC14-4A3C-A89A-A9B3F0C7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82D-77CA-4E7A-9643-D168E9F1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2B5-68B6-4A08-8EDF-13D940F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552-B335-476B-B6BA-33473FF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26B-B632-4A77-B632-C35F8C5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A16-27CC-4A52-9498-A95A2A6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12D4-9BE1-4C86-8389-2113A58B84C5}" type="slidenum"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8858160" cy="36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в системе воспитания школьни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roerichs.com/Sodr/N22-23/7-1a_Large.jpg"/>
          <p:cNvPicPr/>
          <p:nvPr/>
        </p:nvPicPr>
        <p:blipFill>
          <a:blip r:embed="rId1"/>
          <a:stretch/>
        </p:blipFill>
        <p:spPr>
          <a:xfrm>
            <a:off x="285840" y="206280"/>
            <a:ext cx="3278160" cy="491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480" y="5143320"/>
            <a:ext cx="8358120" cy="128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ВА   АЛЕКСАНДРОВИЧ АМОНАШВИ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08000" y="213840"/>
            <a:ext cx="50785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РАО, известный советский и грузинский педагог – ученый и практик. Разработал и воплотил в своей экспериментальной школе педагогику сотрудничества, личностный подход, оригинальные методики обучения языку и математике. Своеобразным итогом, идеологией его педагогической деятельности является технология «Школа жизни», изложенная в его «Трактате о начальной ступени образования, построенного на принципах гуманно-личностной педагоги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324000" y="260280"/>
            <a:ext cx="8424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ая реализация гуманистического принципа, в основе которого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о имя развития личности школьника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гуманных, нравственных отношений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к людям, природе, труду, окружающей жизни)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к внутреннему миру ребенка, его интересам и потребностям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его духовного и душевного потенциал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– значительная часть жизни ребенк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50920" y="279000"/>
            <a:ext cx="87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манизм –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дагогическая любовь к детям, заинтересованность в их судьбе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истическая вера в ребенка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трудничество, мастерство обще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сутствие прямого принужде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оритет положительного стимулирова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ерпимость к детским недостаткам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24000" y="433800"/>
            <a:ext cx="864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подход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личности, путем применения психолого-педагогической диагностики (интересы, качества характера, особенностей мыслительных процессов и др.) развитие способностей ребенка, учет его психологических и физических возможностей и особенно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терство общ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 взаимности и гласности. В классе должна быть непринужденная обстановка. Если учитель создает такую обстановку, дети лучше общаются, делятся своими мыслями, переживаниями, не боятся отвечать на уроках, даже если ответ неверный, спорить, доказывать свою правот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50920" y="531360"/>
            <a:ext cx="8713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целями данной технологии являются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 воспитание в ребенке благородного человека, путем раскрытия его личностных качеств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лагораживание» души и сердца ребенка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 становление познавательных сил ребенка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условий для расширенного и углубленного объема знаний и умений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ал воспитания – самовоспитание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150840"/>
            <a:ext cx="8856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 Амонашвили Ш.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ребенка, будь человеком доброй душ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оптимистом, олицетворяй человека будущ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онимать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луйся родителям на учени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ли детей по способност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  отставания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й чувство успеха у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ищи в ребенке богатство душ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надеждой для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 семью ребенка, все тайны, связанные с ребенком, характер взаимоотношений в семье с целью заботы о ребен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терпелив в ожидании чуда и будь готов к втрече с ним в ребен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2:41:26Z</dcterms:created>
  <dc:creator>ф</dc:creator>
  <dc:description/>
  <dc:language>en-US</dc:language>
  <cp:lastModifiedBy>admin</cp:lastModifiedBy>
  <dcterms:modified xsi:type="dcterms:W3CDTF">2019-05-21T00:05:27Z</dcterms:modified>
  <cp:revision>21</cp:revision>
  <dc:subject/>
  <dc:title>Гуманно-личностная технология в системе воспитания школьников</dc:title>
</cp:coreProperties>
</file>