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98D9-AD56-4AF2-ADE5-DECE05E3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0F0E-BD97-40CC-8A20-B14AB8EF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7349-25DA-4D17-AB75-FF727003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912E-7FA8-4FAB-93E1-09A53B18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C1E3-9871-4E2B-8CA3-157FE468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48AC-DB10-4D6D-91B8-A33A08C4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E1AD-D03D-44A1-AEF0-55E39A27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5471-709D-407F-BEB5-86EAF27C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D491-5D61-4353-A633-61786F3F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3F67-D794-40DC-86D9-B5A8EEAC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D5A-52D5-4436-933B-0B15C859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91A-C6F9-4E44-A60F-055D59C1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3E5A-8641-4DBB-98ED-A7A843DF5C60}" type="slidenum"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8858160" cy="36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анно-личностная технология в системе воспитания школьников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www.roerichs.com/Sodr/N22-23/7-1a_Large.jpg"/>
          <p:cNvPicPr/>
          <p:nvPr/>
        </p:nvPicPr>
        <p:blipFill>
          <a:blip r:embed="rId1"/>
          <a:stretch/>
        </p:blipFill>
        <p:spPr>
          <a:xfrm>
            <a:off x="285840" y="206280"/>
            <a:ext cx="3278160" cy="4918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5480" y="5143320"/>
            <a:ext cx="8358120" cy="128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18960"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ЛВА   АЛЕКСАНДРОВИЧ АМОНАШВИЛИ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08000" y="213840"/>
            <a:ext cx="507852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 algn="just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адемик РАО, известный советский и грузинский педагог – ученый и практик. Разработал и воплотил в своей экспериментальной школе педагогику сотрудничества, личностный подход, оригинальные методики обучения языку и математике. Своеобразным итогом, идеологией его педагогической деятельности является технология «Школа жизни», изложенная в его «Трактате о начальной ступени образования, построенного на принципах гуманно-личностной педагогик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4"/>
          <p:cNvSpPr/>
          <p:nvPr/>
        </p:nvSpPr>
        <p:spPr>
          <a:xfrm>
            <a:off x="324000" y="260280"/>
            <a:ext cx="84247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ая реализация гуманистического принципа, в основе которого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во имя развития личности школьника;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ение гуманных, нравственных отношений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к людям, природе, труду, окружающей жизни);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жное отношение к внутреннему миру ребенка, его интересам и потребностям;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ение его духовного и душевного потенциала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е – значительная часть жизни ребенка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250920" y="279000"/>
            <a:ext cx="8785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Гуманизм –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едагогическая любовь к детям, заинтересованность в их судьбе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птимистическая вера в ребенка,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отрудничество, мастерство общения,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тсутствие прямого принуждения,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иоритет положительного стимулирования,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терпимость к детским недостаткам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24000" y="433800"/>
            <a:ext cx="8640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дивидуальный подход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учение личности, путем применения психолого-педагогической диагностики (интересы, качества характера, особенностей мыслительных процессов и др.) развитие способностей ребенка, учет его психологических и физических возможностей и особенностей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стерство общения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кон взаимности и гласности. В классе должна быть непринужденная обстановка. Если учитель создает такую обстановку, дети лучше общаются, делятся своими мыслями, переживаниями, не боятся отвечать на уроках, даже если ответ неверный, спорить, доказывать свою правоту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250920" y="531360"/>
            <a:ext cx="871380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ыми целями данной технологии являются: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и воспитание в ребенке благородного человека, путем раскрытия его личностных качеств;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облагораживание» души и сердца ребенка;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и становление познавательных сил ребенка;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еспечение условий для расширенного и углубленного объема знаний и умений;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деал воспитания – самовоспитание.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79280" y="150840"/>
            <a:ext cx="885672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й подход Амонашвили Ш.А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 ребенка, будь человеком доброй душ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 оптимистом, олицетворяй человека будущег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й понимать дет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жалуйся родителям на ученик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ели детей по способностя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й  отставания дет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й чувство успеха у ребенк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ищи в ребенке богатство душ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 надеждой для ребенк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й семью ребенка, все тайны, связанные с ребенком, характер взаимоотношений в семье с целью заботы о ребенк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 терпелив в ожидании чуда и будь готов к втрече с ним в ребенк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12:41:26Z</dcterms:created>
  <dc:creator>ф</dc:creator>
  <dc:description/>
  <dc:language>en-US</dc:language>
  <cp:lastModifiedBy>admin</cp:lastModifiedBy>
  <dcterms:modified xsi:type="dcterms:W3CDTF">2019-05-21T00:05:27Z</dcterms:modified>
  <cp:revision>21</cp:revision>
  <dc:subject/>
  <dc:title>Гуманно-личностная технология в системе воспитания школьников</dc:title>
</cp:coreProperties>
</file>