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D006-E094-47E3-A85A-58DD5FDC9A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CF65-81F5-486C-8D43-BE82C7F56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4F7-8A04-4983-825B-B0AA562E0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2155-D066-4DEA-9B34-7B15FDC4B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6188-5495-4824-BD97-9A9B17FFF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17D-F9B9-4677-8275-D9A4E8C0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634-739E-4CFC-B429-B91E5942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D75-B926-4286-85DD-C29DACB8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7C0-4E9B-49C1-BE10-04D6A30F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698B-7283-4E2A-9E35-474082DC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0DA8-C397-4AD7-80D6-2D59A497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D6A9-0E14-4390-B7C4-DF16DABD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955D-2092-4CE0-8598-DA2211F7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E52-E980-428E-A7D7-707E492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E643-5384-4C55-BB27-29D4FFA2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E70D-29BC-40DA-B726-BC0F192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1939-B530-4C41-AE53-D8A4B0E5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EF29-1628-4B7F-AB07-085F6B2A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E99F-3F5E-402F-8D0C-FDBB630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AEAF-92A3-4AE6-B899-C5949E39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D4D9-4D0E-472E-999A-B0FE1A53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DB91-C766-44FF-A306-9E16D26F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54AEA-8895-41B1-9EC6-612BB96F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5685A-8D44-4C42-9EEC-53D2ACEA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E1EF0-DF0E-482B-886D-6D32B340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C0AAD-D53C-499F-80DB-268D0D6D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FD124-6A2B-4F62-B909-724AD74E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6D6-E09A-433E-B1B3-23B77213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E30E6-B272-490A-B191-4CFC93B1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D4063-A76A-4DC7-B5F7-28AD104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7BA6D-2767-4BE5-BF25-C1E1E3E0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7F64E-6E73-4527-9865-DF8D14FE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ED778-1C51-490B-893A-B1084125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8A9C4-8017-4E0A-972F-0005CC02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B877C-98B6-468E-83B8-218C0E8B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0F6B1-2A84-44F1-AC1D-818212AD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343C-C9AE-425D-BF8B-9EBC61A0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5D1CD-6A1B-4FFA-B838-553EAB8E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03E-4835-41AD-B5B9-5864301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667A-0A1D-46EB-9A47-03B6923C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4CD90-0693-4EC1-9068-3BB4908B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D363-B1C0-4B1C-80A0-4CF5441F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B578A-C984-4B6C-9DDF-31881189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7626-8E6A-4438-93A6-3D63CF94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EE1C-1279-4C2E-9BDC-2E0DE4C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8BD5-C692-4127-9A58-DAAB022B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BC68-5D5E-4A01-BEF2-AA4CD9FE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DB62C-E98E-4F78-B7E0-884F651A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0635F-D131-48A1-8818-A256162A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5ED-0CF2-4DCB-B1EE-427941AD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6DC89-4F8F-4AEB-B425-9F220D08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FE782-F3A5-4A25-BD19-99E11F1C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6028D-BB4C-450E-9DBE-137F43DC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A89A8-C8D0-4D33-9393-2887EBB1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EAE40-4623-4939-ABFA-41DDBE71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51EC5-9DD5-4D05-945F-FD9F6BB8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21AAEA-B342-439F-BC27-4EBC5C9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A03D6-D72F-4010-A5F9-2C9AEB6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93B9E-A176-4F9F-A36A-3DC86D47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46824-AFB2-491A-B4A8-F4CDFCCE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630-C620-4A42-8EDE-111C5419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D3006-6804-415B-84EF-F145CAFE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4889A-F4A3-4C5F-B817-7A1143D7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AF991-517C-4AE2-AEE6-6293DF3D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88C46-D543-4AF5-8214-9213A2C8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20CF2-3F71-4C7B-AB48-92D91FC7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66B64-C05F-407E-B406-ADF065B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E4824-485A-45C3-A8B0-F80C19FE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98571-8DDA-452B-9EAA-C553FAB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0CBCB-DB74-4619-84EF-8BFBD77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01A11-6F63-4F86-8419-39F34AF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8A0-A2A9-4B1D-BCDB-2E01005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73C025-7FD9-42ED-A72E-93DCC291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4E443-573D-44A0-AACA-869C0A77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B8AF7-2E07-4D92-9064-AC05CCB7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38B6D-814E-40B6-8346-4E2E51C9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2559D-9356-46C3-9F43-8520CEB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8ADE5-152E-4617-888A-97F9940C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682BF-B370-426F-98F2-1AE59566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C4540-728F-4CA1-9969-152FFD76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03027-506B-4202-B628-7A02D4E2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4D1F2-C735-4815-9D59-A32043AB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AFE-F18A-44D6-819D-BD3AC82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8843F-D2E2-4E1C-9B12-E694618A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1D210-CE30-4166-BEB0-10008854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9081F-A604-45B1-B41B-23B3FEEF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D0F1F-D3BF-4B64-B939-70147FAB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37901-AAB1-46FE-ADA0-1EA0B6DE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99E-B4E4-4CF1-AE11-33F3672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FD86-0AE4-4E48-8A78-C4C379D756A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912E-2CA3-45E4-93C8-F11CD27BE2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3B99-E561-477D-950F-E27D8CB721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4FA2-FCF3-424F-B3F3-22684B9E9A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4963-09EE-40F3-817A-EC5782A6DE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EBD7-FEA2-450A-8955-34976005E7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D56D-2D91-45F0-83B3-956153BD80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9"/>
          <p:cNvSpPr/>
          <p:nvPr/>
        </p:nvSpPr>
        <p:spPr>
          <a:xfrm>
            <a:off x="611280" y="16358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Учебно-методический комплекс «Перспектив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977160" y="0"/>
            <a:ext cx="2017440" cy="858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sun1"/>
          <p:cNvPicPr/>
          <p:nvPr/>
        </p:nvPicPr>
        <p:blipFill>
          <a:blip r:embed="rId2"/>
          <a:stretch/>
        </p:blipFill>
        <p:spPr>
          <a:xfrm>
            <a:off x="7380360" y="504828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4"/>
          <p:cNvSpPr/>
          <p:nvPr/>
        </p:nvSpPr>
        <p:spPr>
          <a:xfrm>
            <a:off x="900000" y="1844640"/>
            <a:ext cx="76327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мире, и мир во м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у учи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бщаюсь, значит, я учу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оровом теле здоровый ду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539640" y="189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тическое единство предметных ли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sun1"/>
          <p:cNvPicPr/>
          <p:nvPr/>
        </p:nvPicPr>
        <p:blipFill>
          <a:blip r:embed="rId1"/>
          <a:stretch/>
        </p:blipFill>
        <p:spPr>
          <a:xfrm>
            <a:off x="7380360" y="504828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6" descr="sun1"/>
          <p:cNvPicPr/>
          <p:nvPr/>
        </p:nvPicPr>
        <p:blipFill>
          <a:blip r:embed="rId1"/>
          <a:stretch/>
        </p:blipFill>
        <p:spPr>
          <a:xfrm>
            <a:off x="7380360" y="5048280"/>
            <a:ext cx="1844640" cy="1844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5217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Ы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08000" y="765000"/>
            <a:ext cx="8856720" cy="594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нова Л.Ф., Макеева С.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нова Л.Ф., Макеева С.Г., Бабушкина Т.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нова Л.Ф., Горецкий В.Г., Виноградская Л.А., Бойкина М.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феев Г.В., Миракова Т.Н., Бука Т.Б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ченко Т.А., Семенов А.Л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аков А.А., Новицкая М.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пикалова Т.Я., Ершова Л.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овцева Н.И., Богданова Н.В., Фрейтаг И.П., Добромыслова Н.В., Шипилова Н.В., Анащенкова С.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веев А.П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ер И.А., Горбулина Н.М., Цыганкова О.Д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ЦЕЛЬ 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К «ПЕРСПЕКТИВА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0560" y="1341360"/>
            <a:ext cx="87138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формационно-образовательной среды, обеспечивающей включение каждого ребенка в самостоятельную учебную деятельность, в процессе которой создаются условия для надежного достижения определенных ФГОС личностных, метапредметных и предметных результатов освоения основной образовательной программы начального общего образования посредством формирования универсальных учебных действий как основы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дущей образовательной компетенции - умения учить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6" descr="sun1"/>
          <p:cNvPicPr/>
          <p:nvPr/>
        </p:nvPicPr>
        <p:blipFill>
          <a:blip r:embed="rId1"/>
          <a:stretch/>
        </p:blipFill>
        <p:spPr>
          <a:xfrm>
            <a:off x="7561440" y="5084640"/>
            <a:ext cx="16635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un1"/>
          <p:cNvPicPr/>
          <p:nvPr/>
        </p:nvPicPr>
        <p:blipFill>
          <a:blip r:embed="rId1"/>
          <a:stretch/>
        </p:blipFill>
        <p:spPr>
          <a:xfrm>
            <a:off x="7561440" y="5229360"/>
            <a:ext cx="1663560" cy="16635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32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УМК «ПЕРСПЕКТИВА»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результатов учащихся: готовность и способность обучающихся к саморазвитию; сформированность мотивации  к обучению и познанию; осмысление и принятие основных базовых ценностей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метапредметных результатов обучающихся: освоение универсальных учебных действий (регулятивных, познавательных, коммуникативных)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редметных результатов: освоение опыта предметной деятельности по получению нового знания, его преобразования и применения на основе элементов научного знания, современной научной картины мира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90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НО –ДЕЯТЕЛЬНОСТНЫЙ ПОДХОД:</a:t>
            </a:r>
            <a:br>
              <a:rPr sz="2700"/>
            </a:b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спектива»  это учебно-методический комплекс (УМК) для начальных классов общеобразовательных учреждений, который представляет собой целостную информационно-образовательную среду, реализующую единые идеологические, дидактические и методические принципы, отвечающие требованиям Федерального государственного образовательного стандарта(ФГОС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6" descr="sun1"/>
          <p:cNvPicPr/>
          <p:nvPr/>
        </p:nvPicPr>
        <p:blipFill>
          <a:blip r:embed="rId1"/>
          <a:stretch/>
        </p:blipFill>
        <p:spPr>
          <a:xfrm>
            <a:off x="7088040" y="4756320"/>
            <a:ext cx="2136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20520" y="18900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ополагающими принципами комплекта являются: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844640"/>
            <a:ext cx="8074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стический;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сторизма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;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ворческой активности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6" descr="sun1"/>
          <p:cNvPicPr/>
          <p:nvPr/>
        </p:nvPicPr>
        <p:blipFill>
          <a:blip r:embed="rId1"/>
          <a:stretch/>
        </p:blipFill>
        <p:spPr>
          <a:xfrm>
            <a:off x="7489800" y="5157720"/>
            <a:ext cx="17352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И УМК «ПЕРСПЕКТИВА»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УЮТ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детей к истории своей семьи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й и большой Родины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м и обычаям народов России, культурному наследию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еятельности и т.д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6" descr="sun1"/>
          <p:cNvPicPr/>
          <p:nvPr/>
        </p:nvPicPr>
        <p:blipFill>
          <a:blip r:embed="rId1"/>
          <a:stretch/>
        </p:blipFill>
        <p:spPr>
          <a:xfrm>
            <a:off x="7380360" y="4995720"/>
            <a:ext cx="19526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sun1"/>
          <p:cNvPicPr/>
          <p:nvPr/>
        </p:nvPicPr>
        <p:blipFill>
          <a:blip r:embed="rId1"/>
          <a:stretch/>
        </p:blipFill>
        <p:spPr>
          <a:xfrm>
            <a:off x="7451640" y="5013360"/>
            <a:ext cx="1881360" cy="18795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151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ЧЕБНИКИ ВКЛЮЧЕН:</a:t>
            </a:r>
            <a:r>
              <a:rPr b="1" lang="ru-RU" sz="5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764640"/>
            <a:ext cx="7777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применять полученные знания в практической деятельности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 условия для реализации творческого потенциала ученика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 ценностное мировоззрение и нравственную позицию личности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чебник снабжен системой заданий, направленных на развитие как логического, так и образного мышления, воображения ребёнк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sun1"/>
          <p:cNvPicPr/>
          <p:nvPr/>
        </p:nvPicPr>
        <p:blipFill>
          <a:blip r:embed="rId1"/>
          <a:stretch/>
        </p:blipFill>
        <p:spPr>
          <a:xfrm>
            <a:off x="7451640" y="5048280"/>
            <a:ext cx="1881360" cy="1881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ИМУЩЕСТВА УМК «ПЕРСПЕКТИВА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280" y="1701360"/>
            <a:ext cx="820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6" descr="sun1"/>
          <p:cNvPicPr/>
          <p:nvPr/>
        </p:nvPicPr>
        <p:blipFill>
          <a:blip r:embed="rId1"/>
          <a:stretch/>
        </p:blipFill>
        <p:spPr>
          <a:xfrm>
            <a:off x="7451640" y="5119560"/>
            <a:ext cx="1773360" cy="17733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"/>
          <p:cNvSpPr/>
          <p:nvPr/>
        </p:nvSpPr>
        <p:spPr>
          <a:xfrm>
            <a:off x="179280" y="0"/>
            <a:ext cx="511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МК «Перспектива» разработано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вое методическое сопровожд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Технологические карты», помогающие учителю реализовывать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в образователь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6443640" y="735120"/>
            <a:ext cx="2232000" cy="36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5289480" y="2259000"/>
            <a:ext cx="2308320" cy="374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787920" y="3535200"/>
            <a:ext cx="221616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6:11:43Z</dcterms:created>
  <dc:creator>Stroganov</dc:creator>
  <dc:description/>
  <dc:language>en-US</dc:language>
  <cp:lastModifiedBy>Пользователь Windows</cp:lastModifiedBy>
  <dcterms:modified xsi:type="dcterms:W3CDTF">2019-05-21T14:45:00Z</dcterms:modified>
  <cp:revision>319</cp:revision>
  <dc:subject/>
  <dc:title>Слайд 1</dc:title>
</cp:coreProperties>
</file>