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9D39-38C2-488C-A8D2-5844945224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1A7B-AC5C-40CA-A99E-057898605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CCBC-78FF-46AE-8A7C-42CBE58A8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D3D1-FA77-41A1-B3C3-EFEC6069E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0A7-F6CA-4279-B6FE-BB1363BDF7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FA4-D918-4ED9-ADAE-3ABB2614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F99-7F3C-499E-8645-6C84E853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0DE-E7E3-4674-BC8C-840029B2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527-76E4-4AC7-9B62-D020FE4F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4A3B-8A5F-4A81-B754-DE1CEB42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4281-D18A-43DF-868F-17DFCA71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F24B-12EC-4304-ADEA-956A1130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3815-418D-43D4-97E5-CD88E58E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A0FA-E453-4A0D-B312-31C59C51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F41F-45E1-40EA-9C47-98DDE0E6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606B-392A-46E4-A4E7-BC1FCC7D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C99-75A7-4BB0-999C-EB47A756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FFC5-3921-4290-8959-5263B3A1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D807-0D0E-4D3E-A882-1D3FB90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8017-698B-480F-967D-B9D0B212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CD2E-A6D7-40C6-8565-300B02A4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4CEF-B75C-42B6-91EB-8DB0E4F6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62327-FA92-4A4C-850E-F0BABE0B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13155-2F7C-4E13-A83E-F345DBA9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5F9E8-F689-4F60-B0BF-BD9C8C90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F9962-AE9C-4AA0-ABA4-9AAA716B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41945-DFA1-4C31-82BB-B2FC8980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A12-878E-4133-A05C-BD2B573E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15D1F-5446-43AC-8D56-D11FB4B3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3D1D5-2EED-4A90-A6C7-179969C0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BD54B-C10B-49C4-ABBD-0AAABA24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5D0CF-99A3-49A2-B882-036B136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0450B-1844-467C-8D15-63DB50B7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30A75-41C7-48E6-BB47-9CEE484D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9F314-CBC4-417F-8F72-2F426790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D1DE-267A-4D91-9B88-74C2D7D5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7FC5-AB95-40A7-94D8-9AF82D4A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4F91-CAA1-4BB2-80FC-993D98A8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7FE-B064-44A1-9F9C-7B66AF2D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07AD9-F62F-4CDF-B081-EC116A65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666F4-6759-46A7-BCA5-BFE3EF93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7259-5264-41DE-8B91-0BFDC09D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1B374-1662-4F04-8EBB-6601B1C1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89FFB-3727-4774-B292-DBB5F9F1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E929F-B89E-4F3C-9B38-F4046C2F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F0DD-CD11-4E4D-B043-C5DC064B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CE2C-8B18-4997-9BFF-E47E8F20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D30A-C64A-4CD4-A9F5-1DDFC20B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58CA6-55C3-470C-BDE4-46A6EC7D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FDB-2A65-4028-A2A9-67AC3891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DAB52-AD87-40D5-A62F-AE58479C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1F377-00DA-4445-86B4-8EC5C224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92DA4-F179-4EAA-A7DA-C8288E06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5C115-8E18-49F0-8650-0EFFD796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A2333-EDCF-47B4-820C-238376AF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F1426-7490-47F8-82D7-167DF448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B26F4-3702-479F-937C-7293766D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06F75-FDB8-42C4-9A52-DD312C19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38347-BC81-4F81-9367-3F4E90E9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4FBDC-975B-423F-8229-6C7A34E7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4F7-1065-4B57-82B3-C6CA0805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E2089-F151-42BF-AAAF-F6717320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BF398-2E6A-4ECC-BDBE-9FF52987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14CD6-2DAF-4469-AD9B-54FD9E8F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41FF0-F15E-4F14-BD4D-9511211D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1155B-9473-4FA3-B9CE-23757429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F7C87-2178-4CF9-A8A3-F4788601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80E09-BDEF-42EF-AE61-669B7DF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74331-6F49-4EC1-BF53-90B2A11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42626-1F0C-4A77-BDA7-CEFCCB36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27C91-3C79-4523-A158-7C48216E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E46-1114-4213-BB87-31625DC6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9D597-7C51-4B6A-872C-7C480D77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1A58A-51DA-4B3D-BA85-735755AB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5CB57-95CE-468D-9FC4-7B4CA927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28074-C65A-49A5-BEC4-BD3D0D9B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B4015-147C-4A7B-B322-AACA698E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41A8D-EC73-4FC9-BD33-C2E12438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0B067-DDA0-4DEB-B044-8B72CF8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6C4BE-D8EF-4AFB-B6E2-26AEC12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7DECD-3268-4B85-87AD-FD67AF21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38BF4-53BF-4283-9426-267A333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82A-EB2C-4F1B-9BFF-FD54ED31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D18FA-60D2-49F9-A32C-8A7AAB3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E7CC2-B151-4364-88D9-F0B9B753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ED7EA-5427-4C7D-A5CF-F7B50860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3FDA8-BC3C-4B35-A205-3311ECFB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04CC9-71FA-468F-9D75-DCA2B5A2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DE0-7CA5-4B23-863D-F6900F91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8483-93B9-4C9C-8E2E-95FE32E0C1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26C4-43CE-4A52-B959-428583E413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DA2F-70D5-4145-8441-0B866E778F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5C97-EBC7-4580-ABD7-3B82BE8B01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2A84-14BD-4693-A64B-AE03DE9C51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820A-D2A4-4FE1-B402-366CCA370F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27A3-7D91-4D42-BE81-19E0A8F050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9"/>
          <p:cNvSpPr/>
          <p:nvPr/>
        </p:nvSpPr>
        <p:spPr>
          <a:xfrm>
            <a:off x="611280" y="16358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Учебно-методический комплекс «Перспектив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6977160" y="0"/>
            <a:ext cx="2017440" cy="858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sun1"/>
          <p:cNvPicPr/>
          <p:nvPr/>
        </p:nvPicPr>
        <p:blipFill>
          <a:blip r:embed="rId2"/>
          <a:stretch/>
        </p:blipFill>
        <p:spPr>
          <a:xfrm>
            <a:off x="7380360" y="504828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4"/>
          <p:cNvSpPr/>
          <p:nvPr/>
        </p:nvSpPr>
        <p:spPr>
          <a:xfrm>
            <a:off x="900000" y="1844640"/>
            <a:ext cx="76327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мире, и мир во м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у учи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бщаюсь, значит, я учу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доровом теле здоровый ду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539640" y="189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тическое единство предметных ли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sun1"/>
          <p:cNvPicPr/>
          <p:nvPr/>
        </p:nvPicPr>
        <p:blipFill>
          <a:blip r:embed="rId1"/>
          <a:stretch/>
        </p:blipFill>
        <p:spPr>
          <a:xfrm>
            <a:off x="7380360" y="504828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6" descr="sun1"/>
          <p:cNvPicPr/>
          <p:nvPr/>
        </p:nvPicPr>
        <p:blipFill>
          <a:blip r:embed="rId1"/>
          <a:stretch/>
        </p:blipFill>
        <p:spPr>
          <a:xfrm>
            <a:off x="7380360" y="5048280"/>
            <a:ext cx="1844640" cy="1844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65217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Ы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08000" y="765000"/>
            <a:ext cx="8856720" cy="594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нова Л.Ф., Макеева С.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нова Л.Ф., Макеева С.Г., Бабушкина Т.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нова Л.Ф., Горецкий В.Г., Виноградская Л.А., Бойкина М.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феев Г.В., Миракова Т.Н., Бука Т.Б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ченко Т.А., Семенов А.Л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аков А.А., Новицкая М.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пикалова Т.Я., Ершова Л.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овцева Н.И., Богданова Н.В., Фрейтаг И.П., Добромыслова Н.В., Шипилова Н.В., Анащенкова С.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веев А.П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ер И.А., Горбулина Н.М., Цыганкова О.Д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ЦЕЛЬ 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К «ПЕРСПЕКТИВА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0560" y="1341360"/>
            <a:ext cx="871380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формационно-образовательной среды, обеспечивающей включение каждого ребенка в самостоятельную учебную деятельность, в процессе которой создаются условия для надежного достижения определенных ФГОС личностных, метапредметных и предметных результатов освоения основной образовательной программы начального общего образования посредством формирования универсальных учебных действий как основы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дущей образовательной компетенции - умения учить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6" descr="sun1"/>
          <p:cNvPicPr/>
          <p:nvPr/>
        </p:nvPicPr>
        <p:blipFill>
          <a:blip r:embed="rId1"/>
          <a:stretch/>
        </p:blipFill>
        <p:spPr>
          <a:xfrm>
            <a:off x="7561440" y="5084640"/>
            <a:ext cx="16635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un1"/>
          <p:cNvPicPr/>
          <p:nvPr/>
        </p:nvPicPr>
        <p:blipFill>
          <a:blip r:embed="rId1"/>
          <a:stretch/>
        </p:blipFill>
        <p:spPr>
          <a:xfrm>
            <a:off x="7561440" y="5229360"/>
            <a:ext cx="1663560" cy="16635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327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УМК «ПЕРСПЕКТИВА»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результатов учащихся: готовность и способность обучающихся к саморазвитию; сформированность мотивации  к обучению и познанию; осмысление и принятие основных базовых ценностей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метапредметных результатов обучающихся: освоение универсальных учебных действий (регулятивных, познавательных, коммуникативных)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редметных результатов: освоение опыта предметной деятельности по получению нового знания, его преобразования и применения на основе элементов научного знания, современной научной картины мира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90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НО –ДЕЯТЕЛЬНОСТНЫЙ ПОДХОД:</a:t>
            </a:r>
            <a:br>
              <a:rPr sz="2700"/>
            </a:b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спектива»  это учебно-методический комплекс (УМК) для начальных классов общеобразовательных учреждений, который представляет собой целостную информационно-образовательную среду, реализующую единые идеологические, дидактические и методические принципы, отвечающие требованиям Федерального государственного образовательного стандарта(ФГОС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6" descr="sun1"/>
          <p:cNvPicPr/>
          <p:nvPr/>
        </p:nvPicPr>
        <p:blipFill>
          <a:blip r:embed="rId1"/>
          <a:stretch/>
        </p:blipFill>
        <p:spPr>
          <a:xfrm>
            <a:off x="7088040" y="4756320"/>
            <a:ext cx="2136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20520" y="18900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ополагающими принципами комплекта являются: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844640"/>
            <a:ext cx="8074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стический;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сторизма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;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ворческой активности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6" descr="sun1"/>
          <p:cNvPicPr/>
          <p:nvPr/>
        </p:nvPicPr>
        <p:blipFill>
          <a:blip r:embed="rId1"/>
          <a:stretch/>
        </p:blipFill>
        <p:spPr>
          <a:xfrm>
            <a:off x="7489800" y="5157720"/>
            <a:ext cx="17352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И УМК «ПЕРСПЕКТИВА»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УЮТ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детей к истории своей семьи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й и большой Родины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м и обычаям народов России, культурному наследию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еятельности и т.д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6" descr="sun1"/>
          <p:cNvPicPr/>
          <p:nvPr/>
        </p:nvPicPr>
        <p:blipFill>
          <a:blip r:embed="rId1"/>
          <a:stretch/>
        </p:blipFill>
        <p:spPr>
          <a:xfrm>
            <a:off x="7380360" y="4995720"/>
            <a:ext cx="19526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sun1"/>
          <p:cNvPicPr/>
          <p:nvPr/>
        </p:nvPicPr>
        <p:blipFill>
          <a:blip r:embed="rId1"/>
          <a:stretch/>
        </p:blipFill>
        <p:spPr>
          <a:xfrm>
            <a:off x="7451640" y="5013360"/>
            <a:ext cx="1881360" cy="18795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151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ЧЕБНИКИ ВКЛЮЧЕН:</a:t>
            </a:r>
            <a:r>
              <a:rPr b="1" lang="ru-RU" sz="5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764640"/>
            <a:ext cx="7777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применять полученные знания в практической деятельности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 условия для реализации творческого потенциала ученика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 ценностное мировоззрение и нравственную позицию личности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чебник снабжен системой заданий, направленных на развитие как логического, так и образного мышления, воображения ребёнк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sun1"/>
          <p:cNvPicPr/>
          <p:nvPr/>
        </p:nvPicPr>
        <p:blipFill>
          <a:blip r:embed="rId1"/>
          <a:stretch/>
        </p:blipFill>
        <p:spPr>
          <a:xfrm>
            <a:off x="7451640" y="5048280"/>
            <a:ext cx="1881360" cy="1881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ИМУЩЕСТВА УМК «ПЕРСПЕКТИВА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280" y="1701360"/>
            <a:ext cx="820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ясь по этой программе, ученик на каждом уроке при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6" descr="sun1"/>
          <p:cNvPicPr/>
          <p:nvPr/>
        </p:nvPicPr>
        <p:blipFill>
          <a:blip r:embed="rId1"/>
          <a:stretch/>
        </p:blipFill>
        <p:spPr>
          <a:xfrm>
            <a:off x="7451640" y="5119560"/>
            <a:ext cx="1773360" cy="17733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1"/>
          <p:cNvSpPr/>
          <p:nvPr/>
        </p:nvSpPr>
        <p:spPr>
          <a:xfrm>
            <a:off x="179280" y="0"/>
            <a:ext cx="511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МК «Перспектива» разработано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вое методическое сопровожд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Технологические карты», помогающие учителю реализовывать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в образователь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6443640" y="735120"/>
            <a:ext cx="2232000" cy="36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5289480" y="2259000"/>
            <a:ext cx="2308320" cy="374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787920" y="3535200"/>
            <a:ext cx="221616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6:11:43Z</dcterms:created>
  <dc:creator>Stroganov</dc:creator>
  <dc:description/>
  <dc:language>en-US</dc:language>
  <cp:lastModifiedBy>Пользователь Windows</cp:lastModifiedBy>
  <dcterms:modified xsi:type="dcterms:W3CDTF">2019-05-21T14:45:00Z</dcterms:modified>
  <cp:revision>319</cp:revision>
  <dc:subject/>
  <dc:title>Слайд 1</dc:title>
</cp:coreProperties>
</file>