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C68-0984-44D1-8E44-5508ED17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BDB-3AC5-42E1-89C5-7B93482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BC2-28C8-4913-997A-3D101F12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F4C-5001-4F9D-A1D5-D078D53A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20B84-51CA-4DBE-94ED-4D3E9868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B5AB1-256B-4E54-A3D5-C613A6C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30705-0BDE-4AB6-AE11-E2EC722D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89BA8-45D6-41AB-8E0E-E62D6C71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300F-35FC-481A-B7FF-AB6911E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99F65-EF31-4944-935C-CB2031A9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A810-508D-4E79-AB02-A54954B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F88-A126-4695-AC56-6E5F6A89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D0686-1DF7-4118-9C3E-1924B6F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4A0C-7A61-4BAE-98DB-EADA2277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0EC3B-394D-4E9D-A051-4F2CFD2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2CD3F-7CE4-4F1D-B366-A26BB249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D6288-EC3E-4F87-B906-14F7E761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9AF57-8C18-44AC-9D53-0A57D7D1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22BEB-3EE6-4686-B898-4013C50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F0127-BFA9-4ACC-A29E-91409FF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C4C7F-CF42-4868-B32A-96255E4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171EF-3F03-4F04-B0C7-FB02E8B7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783-27EA-4DE3-9C66-55CE5FD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222FB-C3BD-4CE7-B289-457E121E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5CF39-1795-4A0A-B747-0090AD3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C8388-E5AA-44EE-9069-0FC69AE5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96360-8CEE-427E-8042-80F1EA9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A7B48-9613-42DC-8B25-4B9E970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79581-BE5D-4D61-90AC-50F06299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E6CB5-D573-417B-A0C9-F43941AE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1D3A-00A4-4B6F-A009-064E8B92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2331-0FA4-492F-854C-433ED4C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7AD1-C5A0-4872-8B55-B8FCF6E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439-5A65-4D18-9677-6F29CB14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47F1-00C5-4A39-BE85-321D92A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B1EB-DECA-4824-8A78-E1AECCB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667C-0CF3-4C5A-8BBB-70F3248D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05A54-B541-4F2A-8B51-D9702D3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C32F-7686-4FE9-8F7B-5DF728F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CF07E-1659-4AC2-8742-1FDB767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E546-3A29-4FA8-BEFA-73A55FE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1430-5945-43AA-9364-0EC81509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0C65-86B5-4AB8-8269-8E5B7E31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B788E-283E-4A20-86A9-28D7B878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005-45EE-4D97-9FF3-DBA0199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DF98-1E7A-44CF-9383-F3D67F1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486A8-919E-4F6D-90D5-77D18AD4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4F147-9F53-4D6B-8D16-C4D6632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0F0E-85B7-4AE4-8BE6-372CC304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3AC90-6C9C-4896-8262-38D00EDD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E867-A12D-4A55-8BE1-E3776D8A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5D8F3-65AA-45CE-B9E7-EA8E196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D9D0B-FDFE-41C4-9250-5D12DFF8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3305-F2E8-47D9-BEFE-0E56E3E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0B3B-83BB-4FBB-B6AF-69E68712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5B3-F4B9-43E7-A434-35BD01B2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783B-009B-4321-9010-058EADCA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F6F4-7B54-4A2C-A227-596BFCF3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B514A-EAA9-45D4-A2DB-01D42282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2B4B-4AF5-4E1C-92D0-034BFED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D8D49-CE61-4A12-AA74-994C771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0D86-7FED-47A5-AF6C-5B4B9CA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13ED-83FB-43E3-B3E0-313D163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19A3-DC18-4EE3-9A7C-72658701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9366-366C-4194-B5FA-A54EF51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00EF-1104-4E37-911B-C66F45E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373-76BE-45D9-B184-57EFAEF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B1C9-71C4-44BD-8C47-E1F4981C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324D4-8CA8-42A2-A210-2D582BA1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459B-2B87-4E96-A08E-85429FC4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CAA0-CCF2-4230-BD8C-B4696FD0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44FAC-0D94-4BC8-B264-E658D1A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2CD5C-F6D4-45FC-BDA5-B9928835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325C-9E59-4097-87A6-A187CA1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8EB2-B2BB-4DEA-99DC-2989C60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B4D92-A570-426B-9E03-83ACB84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DD7A3-F6B5-4DA6-99C9-8C8EB56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30C-4202-40C7-96BE-9B47A538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3259-49D0-47D9-B8EC-3B95C46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DAA92-9F5B-45F7-829D-C2C6BABC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CB36D-1003-4829-8360-096D990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8B3DE-1FD6-4F67-9E64-328B159A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6DA7-4CAD-4A1A-8FBC-DA56EFE1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767-2084-419B-B7B1-B1C9072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4E06-D453-420A-8570-19EFF4AA8E15}" type="slidenum"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2D8C-4F89-4AC6-B5DF-842F9342F3A8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DD71-93DC-4FF4-A79F-F5AE13BD1635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8ABE-6597-4D2E-BB82-72A15ABB1BD8}" type="slidenum"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79E-5BAC-4386-8D9B-C557A7CE8D1F}" type="slidenum">
              <a:rPr b="0" lang="ru-RU" sz="1100" spc="-1" strike="noStrike">
                <a:solidFill>
                  <a:srgbClr val="ffffff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9c2d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00D7-76AA-4D19-A099-61F6CA9A1634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9c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eb96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9cb0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76d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69676d"/>
                </a:solidFill>
                <a:latin typeface="Franklin 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9676d"/>
                </a:solidFill>
                <a:latin typeface="Franklin Gothic Medium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c9c2d1"/>
                </a:solidFill>
                <a:latin typeface="Franklin 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4D23-8107-4CE3-B703-6C9EBFAD5B35}" type="slidenum">
              <a:rPr b="0" lang="ru-RU" sz="1100" spc="-1" strike="noStrike">
                <a:solidFill>
                  <a:srgbClr val="c9c2d1"/>
                </a:solidFill>
                <a:latin typeface="Franklin Gothic Medium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.xml"/><Relationship Id="rId11" Type="http://schemas.openxmlformats.org/officeDocument/2006/relationships/slide" Target="slide4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.xml"/><Relationship Id="rId10" Type="http://schemas.openxmlformats.org/officeDocument/2006/relationships/image" Target="../media/image2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7.xml"/><Relationship Id="rId11" Type="http://schemas.openxmlformats.org/officeDocument/2006/relationships/slide" Target="slide6.xml"/><Relationship Id="rId12" Type="http://schemas.openxmlformats.org/officeDocument/2006/relationships/slide" Target="slide8.xml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948000" y="345600"/>
            <a:ext cx="2195640" cy="648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1" action="ppaction://hlinksldjump"/>
              </a:rPr>
              <a:t>Цель работы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2" action="ppaction://hlinksldjump"/>
              </a:rPr>
              <a:t>Входной</a:t>
            </a:r>
            <a:r>
              <a:rPr b="1" i="1" lang="ru-RU" sz="1900" spc="-1" strike="noStrike" u="sng">
                <a:solidFill>
                  <a:srgbClr val="ffc000"/>
                </a:solidFill>
                <a:uFillTx/>
                <a:latin typeface="Candara"/>
              </a:rPr>
              <a:t> </a:t>
            </a: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3" action="ppaction://hlinksldjump"/>
              </a:rPr>
              <a:t>контроль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4" action="ppaction://hlinksldjump"/>
              </a:rPr>
              <a:t>Лекция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5" action="ppaction://hlinksldjump"/>
              </a:rPr>
              <a:t>Кейс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0070c0"/>
                </a:solidFill>
                <a:uFillTx/>
                <a:latin typeface="Candara"/>
              </a:rPr>
              <a:t>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6" action="ppaction://hlinksldjump"/>
              </a:rPr>
              <a:t>Карта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7" action="ppaction://hlinksldjump"/>
              </a:rPr>
              <a:t>оценки 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8" action="ppaction://hlinksldjump"/>
              </a:rPr>
              <a:t>освоения компетенций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410082"/>
                </a:solidFill>
                <a:uFillTx/>
                <a:latin typeface="Candara"/>
                <a:hlinkClick r:id="rId9" action="ppaction://hlinksldjump"/>
              </a:rPr>
              <a:t>Рефлексия</a:t>
            </a:r>
            <a:endParaRPr b="0" lang="en-US" sz="19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285480" y="642960"/>
            <a:ext cx="65898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000" spc="-1" strike="noStrike">
                <a:solidFill>
                  <a:srgbClr val="ffc000"/>
                </a:solidFill>
                <a:latin typeface="Sitka Small"/>
                <a:ea typeface="GulimChe"/>
              </a:rPr>
              <a:t>УСТАНОВКИ ПЕРИОДИЧЕСКОГО ДЕЙСТВИЯ</a:t>
            </a: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0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1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2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3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4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5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642960" y="321480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мные пропарочные камеры  конструкция, принцип действия, показатели работы, достоинства и 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ВИДЫ ЯМНЫХ  КАМЕР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79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380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9"/>
          <p:cNvSpPr/>
          <p:nvPr/>
        </p:nvSpPr>
        <p:spPr>
          <a:xfrm rot="1759200">
            <a:off x="2119320" y="1642680"/>
            <a:ext cx="1089000" cy="1938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низ 11"/>
          <p:cNvSpPr/>
          <p:nvPr/>
        </p:nvSpPr>
        <p:spPr>
          <a:xfrm rot="20248200">
            <a:off x="5187960" y="1635120"/>
            <a:ext cx="1089000" cy="1938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214200" y="3786120"/>
            <a:ext cx="385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ная пропарочная камера конструкции Гипростройиндустир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4857840" y="3929040"/>
            <a:ext cx="335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ная пропарочная камера професс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А.  Семе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9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39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2" descr=""/>
          <p:cNvPicPr/>
          <p:nvPr/>
        </p:nvPicPr>
        <p:blipFill>
          <a:blip r:embed="rId10"/>
          <a:stretch/>
        </p:blipFill>
        <p:spPr>
          <a:xfrm>
            <a:off x="500040" y="1500120"/>
            <a:ext cx="4143240" cy="25830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10"/>
          <p:cNvSpPr/>
          <p:nvPr/>
        </p:nvSpPr>
        <p:spPr>
          <a:xfrm>
            <a:off x="528624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новным конструктивным элементам пропарочных камер относятся ограждения (пол, стены, крышки и потолок), системы разводки пара и венти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1"/>
          <a:stretch/>
        </p:blipFill>
        <p:spPr>
          <a:xfrm>
            <a:off x="4429080" y="4100400"/>
            <a:ext cx="4238640" cy="2757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https://vmasshtabe.ru/wp-content/uploads/2017/04/499944-vms-yamnaya-kamera.jpg"/>
          <p:cNvPicPr/>
          <p:nvPr/>
        </p:nvPicPr>
        <p:blipFill>
          <a:blip r:embed="rId12"/>
          <a:stretch/>
        </p:blipFill>
        <p:spPr>
          <a:xfrm>
            <a:off x="1000080" y="4000680"/>
            <a:ext cx="3035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01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02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0"/>
          <p:cNvSpPr/>
          <p:nvPr/>
        </p:nvSpPr>
        <p:spPr>
          <a:xfrm>
            <a:off x="214200" y="164304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из монолитного бетона или железобетонных плит с гидроизоляцией по подготовке из теплоизоляционного материала. Толщина монолитного бетона или железобетонных плит – 12-20 см, а слоя утеплителя – 30-40 см. Углы выполняют овальными для улучшения циркуляции теплоносителя и ликвидации мертвых зон имеющих низкую температуру. Для стока конденсата он должен иметь уклон 0,005-0,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214200" y="350028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ны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быть кирпичными, бетонными или железобетонными – наиболее прочными и стойкими к механическим воздействиям в процессе загрузки издел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наружной сте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рпича 380 м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елезобетона 300-400 м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внутренней стен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кирпича 250 м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елезобетона 150-20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1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/>
          <p:cNvSpPr/>
          <p:nvPr/>
        </p:nvSpPr>
        <p:spPr>
          <a:xfrm>
            <a:off x="214200" y="16430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ышу камер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деревянными или бетонными по металлической сетки, внутри заполняют утеплителем. Низ крышиы по периметру оборудуют уголком, заходящим в швеллеры стенок камеры, чтобы обеспечить её герметичность. Крыша камеры должны иметь уклон 0,005-0,01 для стока конденс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0"/>
          <p:cNvSpPr/>
          <p:nvPr/>
        </p:nvSpPr>
        <p:spPr>
          <a:xfrm>
            <a:off x="214200" y="3286080"/>
            <a:ext cx="45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камеры устанавливают затвор, которые заполняют песком или водой. Затворы предназначены для предупреждения утечки паровоздушной смеси или пара через неплотности между крышкой и стенами камеры, а так же между составными кры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0"/>
          <a:stretch/>
        </p:blipFill>
        <p:spPr>
          <a:xfrm>
            <a:off x="4776840" y="2857680"/>
            <a:ext cx="4152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2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2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оловок 5"/>
          <p:cNvSpPr/>
          <p:nvPr/>
        </p:nvSpPr>
        <p:spPr>
          <a:xfrm>
            <a:off x="2928960" y="2000160"/>
            <a:ext cx="5929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водки пара обычных камер ямного типа состоит из кольцевых паропроводов диаметром 50-60 мм, расположенных на высоте 150-300 мм от уровня пола. В трубах расположенных, на расстоянии 150-200 мм обеспечивающие равномерное распределение пара по площади кам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ые отверстия диаметром 3-5 м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0"/>
          <a:stretch/>
        </p:blipFill>
        <p:spPr>
          <a:xfrm>
            <a:off x="142920" y="1714680"/>
            <a:ext cx="2500200" cy="4725720"/>
          </a:xfrm>
          <a:prstGeom prst="rect">
            <a:avLst/>
          </a:prstGeom>
          <a:ln w="0">
            <a:noFill/>
          </a:ln>
        </p:spPr>
      </p:pic>
      <p:sp>
        <p:nvSpPr>
          <p:cNvPr id="427" name="Заголовок 5"/>
          <p:cNvSpPr/>
          <p:nvPr/>
        </p:nvSpPr>
        <p:spPr>
          <a:xfrm>
            <a:off x="3143160" y="3643200"/>
            <a:ext cx="56437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ода конденсата в канализацию используют трубы диаметром 50мм. отвод может быть общим и отдельным для каждой кам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КАМЕРА КОНСТРУКЦИЯ ПРИНЦИП РАБОТЫ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30" name="Штриховая стрелка вправо 6"/>
          <p:cNvGrpSpPr/>
          <p:nvPr/>
        </p:nvGrpSpPr>
        <p:grpSpPr>
          <a:xfrm>
            <a:off x="7596360" y="6188040"/>
            <a:ext cx="1083960" cy="541440"/>
            <a:chOff x="7596360" y="6188040"/>
            <a:chExt cx="1083960" cy="541440"/>
          </a:xfrm>
        </p:grpSpPr>
        <p:pic>
          <p:nvPicPr>
            <p:cNvPr id="43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96360" y="6188040"/>
              <a:ext cx="1083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10800000">
              <a:off x="775188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"/>
          <p:cNvPicPr/>
          <p:nvPr/>
        </p:nvPicPr>
        <p:blipFill>
          <a:blip r:embed="rId10"/>
          <a:stretch/>
        </p:blipFill>
        <p:spPr>
          <a:xfrm>
            <a:off x="500040" y="1500120"/>
            <a:ext cx="4143240" cy="25830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10"/>
          <p:cNvSpPr/>
          <p:nvPr/>
        </p:nvSpPr>
        <p:spPr>
          <a:xfrm>
            <a:off x="5286240" y="1714680"/>
            <a:ext cx="342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сновным конструктивным элементам пропарочных камер относятся ограждения (пол, стены, крышки и потолок), системы разводки пара и венти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1"/>
          <a:stretch/>
        </p:blipFill>
        <p:spPr>
          <a:xfrm>
            <a:off x="4429080" y="4100400"/>
            <a:ext cx="4238640" cy="2757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4" descr="https://vmasshtabe.ru/wp-content/uploads/2017/04/499944-vms-yamnaya-kamera.jpg"/>
          <p:cNvPicPr/>
          <p:nvPr/>
        </p:nvPicPr>
        <p:blipFill>
          <a:blip r:embed="rId12"/>
          <a:stretch/>
        </p:blipFill>
        <p:spPr>
          <a:xfrm>
            <a:off x="1000080" y="4000680"/>
            <a:ext cx="30355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7" descr="http://www.kan-servis.ru/admin/uploads/8778073234.jpg"/>
          <p:cNvPicPr/>
          <p:nvPr/>
        </p:nvPicPr>
        <p:blipFill>
          <a:blip r:embed="rId1"/>
          <a:stretch/>
        </p:blipFill>
        <p:spPr>
          <a:xfrm>
            <a:off x="5000760" y="1643040"/>
            <a:ext cx="3929040" cy="29797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ПРОПАРОЧНАЯ КАМЕРА ПРОФЕССОРА  Л.А. СЕМЕНОВ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sp>
        <p:nvSpPr>
          <p:cNvPr id="442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Штриховая стрелка вправо 6"/>
          <p:cNvGrpSpPr/>
          <p:nvPr/>
        </p:nvGrpSpPr>
        <p:grpSpPr>
          <a:xfrm>
            <a:off x="7881840" y="6394320"/>
            <a:ext cx="1086120" cy="549360"/>
            <a:chOff x="7881840" y="6394320"/>
            <a:chExt cx="1086120" cy="549360"/>
          </a:xfrm>
        </p:grpSpPr>
        <p:pic>
          <p:nvPicPr>
            <p:cNvPr id="446" name="Штриховая стрелка вправо 6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881840" y="6394320"/>
              <a:ext cx="10861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10800000">
              <a:off x="8037000" y="6534000"/>
              <a:ext cx="81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Picture 2" descr=""/>
          <p:cNvPicPr/>
          <p:nvPr/>
        </p:nvPicPr>
        <p:blipFill>
          <a:blip r:embed="rId11"/>
          <a:stretch/>
        </p:blipFill>
        <p:spPr>
          <a:xfrm>
            <a:off x="214200" y="1714680"/>
            <a:ext cx="4780080" cy="2857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12"/>
          <a:stretch/>
        </p:blipFill>
        <p:spPr>
          <a:xfrm>
            <a:off x="214200" y="4572000"/>
            <a:ext cx="4500720" cy="7412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13"/>
          <a:stretch/>
        </p:blipFill>
        <p:spPr>
          <a:xfrm>
            <a:off x="214200" y="5286240"/>
            <a:ext cx="4429080" cy="204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14"/>
          <a:stretch/>
        </p:blipFill>
        <p:spPr>
          <a:xfrm>
            <a:off x="4714920" y="3786120"/>
            <a:ext cx="428616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Medium"/>
              </a:rPr>
              <a:t>ЯМНАЯ ПРОПАРОЧНАЯ КАМЕРА ДОСТОИНСТВА И НЕДОСТАТКИ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sp>
        <p:nvSpPr>
          <p:cNvPr id="45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7572240" y="21420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Штриховая стрелка вправо 6"/>
          <p:cNvGrpSpPr/>
          <p:nvPr/>
        </p:nvGrpSpPr>
        <p:grpSpPr>
          <a:xfrm>
            <a:off x="7881840" y="6394320"/>
            <a:ext cx="1086120" cy="549360"/>
            <a:chOff x="7881840" y="6394320"/>
            <a:chExt cx="1086120" cy="549360"/>
          </a:xfrm>
        </p:grpSpPr>
        <p:pic>
          <p:nvPicPr>
            <p:cNvPr id="458" name="Штриховая стрелка вправо 6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881840" y="6394320"/>
              <a:ext cx="10861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 rot="10800000">
              <a:off x="8037000" y="6534000"/>
              <a:ext cx="814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Прямоугольник 12"/>
          <p:cNvSpPr/>
          <p:nvPr/>
        </p:nvSpPr>
        <p:spPr>
          <a:xfrm>
            <a:off x="4071960" y="1857240"/>
            <a:ext cx="4714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: ямные камеры удобны в эксплуатации, имеют хороший коэффициент использования и малые теплопо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: часто наблюдающееся парение, вследствие недостаточной герметичности крышек, что ухудшает санитарно-гигиенические условия в цех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http://www.brest-region.gov.by/images/content/region/images/1228981999-6227.jpg"/>
          <p:cNvPicPr/>
          <p:nvPr/>
        </p:nvPicPr>
        <p:blipFill>
          <a:blip r:embed="rId10"/>
          <a:stretch/>
        </p:blipFill>
        <p:spPr>
          <a:xfrm>
            <a:off x="571680" y="2000160"/>
            <a:ext cx="32288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Инструкция по работе  над кейсом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64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465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142920" y="1650240"/>
            <a:ext cx="885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кейс два раза: один раз, чтобы ознакомиться, второй р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хорошо разобраться в фа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 уже имеющиеся у Вас знания и полученную информаци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означенным проблемам (при необходимости обратитесь к информ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й в приложениях) и составьте основательный анализ имеющейся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йте план выхода из сложившейся ситуации, пути решения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свое решение членам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дите в группе кажд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ритерии, по которым можно сделать вывод, что проблема реш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наиболее приемлем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аргументы в защиту вашей точки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КАРТА ОЦЕНКИ ОСВОЕНИЯ КОМПЕТЕНЦИЙ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72" name="Штриховая стрелка вправо 6"/>
          <p:cNvGrpSpPr/>
          <p:nvPr/>
        </p:nvGrpSpPr>
        <p:grpSpPr>
          <a:xfrm>
            <a:off x="7523280" y="6188040"/>
            <a:ext cx="1090440" cy="541440"/>
            <a:chOff x="7523280" y="6188040"/>
            <a:chExt cx="1090440" cy="541440"/>
          </a:xfrm>
        </p:grpSpPr>
        <p:pic>
          <p:nvPicPr>
            <p:cNvPr id="473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23280" y="6188040"/>
              <a:ext cx="10904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 rot="10800000">
              <a:off x="768024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572240" y="2142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57120" y="1714680"/>
          <a:ext cx="8501040" cy="4570200"/>
        </p:xfrm>
        <a:graphic>
          <a:graphicData uri="http://schemas.openxmlformats.org/drawingml/2006/table">
            <a:tbl>
              <a:tblPr/>
              <a:tblGrid>
                <a:gridCol w="7140600"/>
                <a:gridCol w="1360440"/>
              </a:tblGrid>
              <a:tr h="458640"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ша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1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нимать сущность и социальную значимость своей будущей профессии, проявлять к ней устойчивый интере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рганизовывать собственную деятельность, выбирать типовые методы и способы выполнения профессиональных задач, оценивать их эффективность и качество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ринимать решения в стандартных и нестандартных  ситуациях и нести за них ответственнос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6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ть в коллективе и в команде, эффективно общаться с коллегами, руководством, потребителя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760" rIns="50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 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рать на себя ответственность за работу членов команды (подчиненных), за результат выполнения зад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К 2.1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существлять эксплуатацию технологического оборудования   для производства неметаллических строительных изделий и конструкц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2.2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ределять неполадки в работе оборудования, подбирать  технологическое оборудование по заданным условия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760" rIns="50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К 2.4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Выявлять резерв работы оборудования для увеличения выпуска продук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56760" y="1642680"/>
            <a:ext cx="85028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  <a:p>
            <a:pPr marL="272880" indent="-228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08" name="Штриховая стрелка вправо 6"/>
          <p:cNvGrpSpPr/>
          <p:nvPr/>
        </p:nvGrpSpPr>
        <p:grpSpPr>
          <a:xfrm>
            <a:off x="7669080" y="6394320"/>
            <a:ext cx="1084320" cy="549360"/>
            <a:chOff x="7669080" y="6394320"/>
            <a:chExt cx="1084320" cy="549360"/>
          </a:xfrm>
        </p:grpSpPr>
        <p:pic>
          <p:nvPicPr>
            <p:cNvPr id="309" name="Штриховая стрелка вправо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669080" y="6394320"/>
              <a:ext cx="10843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10800000">
              <a:off x="7823160" y="653400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1659960"/>
            <a:ext cx="878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е  об  установках периодического действия и сформировать понятие о конструкции и принципе работы ямной пропарочной камеры, пропарочной камеры профессора Л.А. Семенова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наиболее эффективную камеру для ТВО бетона в условиях современного произв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480" name="Штриховая стрелка вправо 6"/>
          <p:cNvGrpSpPr/>
          <p:nvPr/>
        </p:nvGrpSpPr>
        <p:grpSpPr>
          <a:xfrm>
            <a:off x="7523280" y="6188040"/>
            <a:ext cx="1090440" cy="541440"/>
            <a:chOff x="7523280" y="6188040"/>
            <a:chExt cx="1090440" cy="541440"/>
          </a:xfrm>
        </p:grpSpPr>
        <p:pic>
          <p:nvPicPr>
            <p:cNvPr id="481" name="Штриховая стрелка вправо 6" descr=""/>
            <p:cNvPicPr/>
            <p:nvPr/>
          </p:nvPicPr>
          <p:blipFill>
            <a:blip r:embed="rId2"/>
            <a:stretch/>
          </p:blipFill>
          <p:spPr>
            <a:xfrm>
              <a:off x="7523280" y="6188040"/>
              <a:ext cx="109044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 rot="10800000">
              <a:off x="7680240" y="632304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43840" y="21420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7572240" y="2142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142920" y="1746000"/>
            <a:ext cx="88581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ите предл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занятии я  узнал……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ла полученная информация для моей профессиональной деятельности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шнее занятие привлекло меня тем что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казалось мне интересным так как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ЦЕЛЬ ЗАНЯТИЯ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16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17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3" descr="http://delomart.ru/wp-content/uploads/2015/09/IMG_02001.jpg"/>
          <p:cNvPicPr/>
          <p:nvPr/>
        </p:nvPicPr>
        <p:blipFill>
          <a:blip r:embed="rId10"/>
          <a:stretch/>
        </p:blipFill>
        <p:spPr>
          <a:xfrm>
            <a:off x="1500120" y="1785960"/>
            <a:ext cx="6085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Входной контроль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24" name="Штриховая стрелка вправо 6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25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8">
            <a:hlinkClick r:id="rId10" action="ppaction://hlinksldjump"/>
          </p:cNvPr>
          <p:cNvSpPr/>
          <p:nvPr/>
        </p:nvSpPr>
        <p:spPr>
          <a:xfrm>
            <a:off x="684360" y="4206960"/>
            <a:ext cx="2373120" cy="1996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9">
            <a:hlinkClick r:id="rId11" action="ppaction://hlinksldjump"/>
          </p:cNvPr>
          <p:cNvSpPr/>
          <p:nvPr/>
        </p:nvSpPr>
        <p:spPr>
          <a:xfrm>
            <a:off x="4794120" y="2000160"/>
            <a:ext cx="2421000" cy="200520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0">
            <a:hlinkClick r:id="rId12" action="ppaction://hlinksldjump"/>
          </p:cNvPr>
          <p:cNvSpPr/>
          <p:nvPr/>
        </p:nvSpPr>
        <p:spPr>
          <a:xfrm>
            <a:off x="4794120" y="4214880"/>
            <a:ext cx="2421000" cy="198900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1">
            <a:hlinkClick r:id="rId13" action="ppaction://hlinksldjump"/>
          </p:cNvPr>
          <p:cNvSpPr/>
          <p:nvPr/>
        </p:nvSpPr>
        <p:spPr>
          <a:xfrm>
            <a:off x="642960" y="1928880"/>
            <a:ext cx="2376360" cy="209844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onstanti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56000" y="357192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38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11" descr="http://italtechnostroy.by/files/images/Novatec/Kassetnye%20ustanovki/big/Image-15.jpg"/>
          <p:cNvPicPr/>
          <p:nvPr/>
        </p:nvPicPr>
        <p:blipFill>
          <a:blip r:embed="rId9"/>
          <a:stretch/>
        </p:blipFill>
        <p:spPr>
          <a:xfrm>
            <a:off x="785880" y="214200"/>
            <a:ext cx="5370480" cy="42958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8"/>
          <p:cNvSpPr/>
          <p:nvPr/>
        </p:nvSpPr>
        <p:spPr>
          <a:xfrm>
            <a:off x="500040" y="4714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етная установка для ТВО бетона, устройство принцип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47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Picture 11" descr="http://historich.ru/1-literaturnij-obzor/8979_html_66ffdd45.png"/>
          <p:cNvPicPr/>
          <p:nvPr/>
        </p:nvPicPr>
        <p:blipFill>
          <a:blip r:embed="rId9"/>
          <a:stretch/>
        </p:blipFill>
        <p:spPr>
          <a:xfrm>
            <a:off x="642960" y="500040"/>
            <a:ext cx="5997600" cy="37670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8"/>
          <p:cNvSpPr/>
          <p:nvPr/>
        </p:nvSpPr>
        <p:spPr>
          <a:xfrm>
            <a:off x="785880" y="450072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температур при прогреве изделий в кассетной устан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56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8"/>
          <p:cNvSpPr/>
          <p:nvPr/>
        </p:nvSpPr>
        <p:spPr>
          <a:xfrm>
            <a:off x="1298880" y="442908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жекторное  пароснабжение в кассетной у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1" descr=""/>
          <p:cNvPicPr/>
          <p:nvPr/>
        </p:nvPicPr>
        <p:blipFill>
          <a:blip r:embed="rId9"/>
          <a:stretch/>
        </p:blipFill>
        <p:spPr>
          <a:xfrm>
            <a:off x="1214280" y="428760"/>
            <a:ext cx="50007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948000" y="3600360"/>
            <a:ext cx="2087640" cy="16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9c2d1"/>
                </a:solidFill>
                <a:latin typeface="Franklin Gothic Medium"/>
              </a:rPr>
              <a:t>ВХОДНОЙ КОНТРОЛЬ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Подзаголовок 2"/>
          <p:cNvSpPr/>
          <p:nvPr/>
        </p:nvSpPr>
        <p:spPr>
          <a:xfrm>
            <a:off x="642960" y="3143160"/>
            <a:ext cx="352908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2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3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Штриховая стрелка вправо 11"/>
          <p:cNvGrpSpPr/>
          <p:nvPr/>
        </p:nvGrpSpPr>
        <p:grpSpPr>
          <a:xfrm>
            <a:off x="7437600" y="6175440"/>
            <a:ext cx="1083960" cy="542880"/>
            <a:chOff x="7437600" y="6175440"/>
            <a:chExt cx="1083960" cy="542880"/>
          </a:xfrm>
        </p:grpSpPr>
        <p:pic>
          <p:nvPicPr>
            <p:cNvPr id="365" name="Штриховая стрелка вправо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437600" y="6175440"/>
              <a:ext cx="10839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10800000">
              <a:off x="7591320" y="631188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8"/>
          <p:cNvSpPr/>
          <p:nvPr/>
        </p:nvSpPr>
        <p:spPr>
          <a:xfrm>
            <a:off x="142920" y="1857240"/>
            <a:ext cx="671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лажностная обработка железобетонных изделий ее сущность и на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носители  для ТВО бетона их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режима 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itka Small"/>
                <a:ea typeface="DaunPenh"/>
              </a:rPr>
              <a:t>Ямная пропарочная камера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8172360" y="6676920"/>
            <a:ext cx="725400" cy="231840"/>
          </a:xfrm>
          <a:prstGeom prst="rect">
            <a:avLst/>
          </a:prstGeom>
          <a:ln w="0">
            <a:noFill/>
          </a:ln>
        </p:spPr>
      </p:pic>
      <p:grpSp>
        <p:nvGrpSpPr>
          <p:cNvPr id="370" name="Штриховая стрелка вправо 6"/>
          <p:cNvGrpSpPr/>
          <p:nvPr/>
        </p:nvGrpSpPr>
        <p:grpSpPr>
          <a:xfrm>
            <a:off x="7669080" y="6114960"/>
            <a:ext cx="1084320" cy="547920"/>
            <a:chOff x="7669080" y="6114960"/>
            <a:chExt cx="1084320" cy="547920"/>
          </a:xfrm>
        </p:grpSpPr>
        <p:pic>
          <p:nvPicPr>
            <p:cNvPr id="371" name="Штриховая стрелка вправо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114960"/>
              <a:ext cx="108432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10800000">
              <a:off x="7823160" y="6251400"/>
              <a:ext cx="814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7128000" y="260280"/>
            <a:ext cx="323640" cy="32400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24">
                <a:moveTo>
                  <a:pt x="0" y="0"/>
                </a:moveTo>
                <a:lnTo>
                  <a:pt x="21600" y="0"/>
                </a:lnTo>
                <a:lnTo>
                  <a:pt x="21600" y="21624"/>
                </a:lnTo>
                <a:lnTo>
                  <a:pt x="0" y="21624"/>
                </a:lnTo>
                <a:close/>
              </a:path>
              <a:path fill="lightenLess" w="21600" h="21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4">
                <a:moveTo>
                  <a:pt x="21600" y="0"/>
                </a:moveTo>
                <a:lnTo>
                  <a:pt x="21600" y="21624"/>
                </a:lnTo>
                <a:lnTo>
                  <a:pt x="20200" y="20224"/>
                </a:lnTo>
                <a:lnTo>
                  <a:pt x="20200" y="1400"/>
                </a:lnTo>
                <a:close/>
              </a:path>
              <a:path fill="darkenLess" w="21600" h="21624">
                <a:moveTo>
                  <a:pt x="21600" y="21624"/>
                </a:moveTo>
                <a:lnTo>
                  <a:pt x="0" y="21624"/>
                </a:lnTo>
                <a:lnTo>
                  <a:pt x="1400" y="20224"/>
                </a:lnTo>
                <a:lnTo>
                  <a:pt x="20200" y="20224"/>
                </a:lnTo>
                <a:close/>
              </a:path>
              <a:path fill="lighten" w="21600" h="21624">
                <a:moveTo>
                  <a:pt x="0" y="21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4"/>
                </a:lnTo>
                <a:close/>
              </a:path>
              <a:path fill="darken" w="21600" h="21624">
                <a:moveTo>
                  <a:pt x="10800" y="3849"/>
                </a:moveTo>
                <a:lnTo>
                  <a:pt x="13376" y="6460"/>
                </a:ln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lnTo>
                  <a:pt x="17763" y="10812"/>
                </a:lnTo>
                <a:lnTo>
                  <a:pt x="16109" y="10812"/>
                </a:lnTo>
                <a:lnTo>
                  <a:pt x="16109" y="18001"/>
                </a:lnTo>
                <a:lnTo>
                  <a:pt x="5491" y="18001"/>
                </a:lnTo>
                <a:lnTo>
                  <a:pt x="5491" y="10812"/>
                </a:lnTo>
                <a:lnTo>
                  <a:pt x="3837" y="10812"/>
                </a:lnTo>
                <a:close/>
              </a:path>
              <a:path fill="darkenLess" w="21600" h="21624">
                <a:moveTo>
                  <a:pt x="13376" y="6460"/>
                </a:moveTo>
                <a:lnTo>
                  <a:pt x="13376" y="4719"/>
                </a:lnTo>
                <a:lnTo>
                  <a:pt x="15152" y="4719"/>
                </a:lnTo>
                <a:lnTo>
                  <a:pt x="15152" y="8236"/>
                </a:lnTo>
                <a:close/>
              </a:path>
              <a:path fill="darkenLess" w="21600" h="21624">
                <a:moveTo>
                  <a:pt x="9877" y="14311"/>
                </a:moveTo>
                <a:lnTo>
                  <a:pt x="11723" y="14311"/>
                </a:lnTo>
                <a:lnTo>
                  <a:pt x="11723" y="18001"/>
                </a:lnTo>
                <a:lnTo>
                  <a:pt x="16109" y="18001"/>
                </a:lnTo>
                <a:lnTo>
                  <a:pt x="16109" y="10812"/>
                </a:lnTo>
                <a:lnTo>
                  <a:pt x="5491" y="10812"/>
                </a:lnTo>
                <a:lnTo>
                  <a:pt x="5491" y="18001"/>
                </a:lnTo>
                <a:lnTo>
                  <a:pt x="9877" y="18001"/>
                </a:lnTo>
                <a:close/>
              </a:path>
            </a:pathLst>
          </a:custGeom>
          <a:solidFill>
            <a:srgbClr val="ceb966"/>
          </a:solidFill>
          <a:ln w="1908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7596360" y="26028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4" action="ppaction://hlinksldjump"/>
              </a:rPr>
              <a:t>1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5" action="ppaction://hlinksldjump"/>
              </a:rPr>
              <a:t>2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6" action="ppaction://hlinksldjump"/>
              </a:rPr>
              <a:t>3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7" action="ppaction://hlinksldjump"/>
              </a:rPr>
              <a:t>4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8" action="ppaction://hlinksldjump"/>
              </a:rPr>
              <a:t>5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Franklin Gothic Medium"/>
                <a:hlinkClick r:id="rId9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1" descr="http://www.orenbeton.ru/assets/images/Gallery/2-2.jpg"/>
          <p:cNvPicPr/>
          <p:nvPr/>
        </p:nvPicPr>
        <p:blipFill>
          <a:blip r:embed="rId10"/>
          <a:stretch/>
        </p:blipFill>
        <p:spPr>
          <a:xfrm>
            <a:off x="142920" y="2214720"/>
            <a:ext cx="4822920" cy="3214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8"/>
          <p:cNvSpPr/>
          <p:nvPr/>
        </p:nvSpPr>
        <p:spPr>
          <a:xfrm>
            <a:off x="5072040" y="1785960"/>
            <a:ext cx="3857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рочные камеры ямного типа применяются при производстве железобетонных изделий. В основном они делаются прямоугольной формы, реже со скруглёнными углами для улучшения циркуляции теплоносителя. Высота камер не более 4 м, ширина от 1,5 м до 4 м, длина 7-13 м. Обычно ямную камеру заглубляют на 0,5-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33:25Z</dcterms:created>
  <dc:creator>user</dc:creator>
  <dc:description/>
  <dc:language>en-US</dc:language>
  <cp:lastModifiedBy>Гыук</cp:lastModifiedBy>
  <dcterms:modified xsi:type="dcterms:W3CDTF">2019-05-21T19:10:36Z</dcterms:modified>
  <cp:revision>157</cp:revision>
  <dc:subject/>
  <dc:title>Презентация PowerPoint</dc:title>
</cp:coreProperties>
</file>