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EFB-04B9-437C-9FC7-665A7FCC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B23-BBFB-4B54-AEDD-589C69D2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801-5DBA-4C93-AE2A-B6977754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C51-6F35-4495-BC06-8FE632F2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18822-1695-49B7-864F-168D0411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AB372-D20C-429E-A988-F1D73639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A357-72CB-44B1-85A9-9E5A3E54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5D94E-4F79-4D7D-888E-0A004A5E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ACE6F-F361-4EB4-9AB3-5CDA5DFD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A7C23-781C-415E-97DF-B052428D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3A0B5-D396-4DA7-817A-1B0DC6A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744-566C-4B77-A39D-DC8E85C2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766CF-5C9F-4345-A366-D0489B2E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E673C-CBF3-4633-A50C-D30AF65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3D892-F0C0-4AC2-BB5B-BB1A0BBF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0D5C2-0484-478B-9C5B-629C27C3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FB1FB-CF50-4AD7-98C7-94633EA0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61998-F9BF-4940-BE7D-362B8646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50035-B757-4D3E-B1F4-D0A73554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305C7-1711-4184-BB8C-92710387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0D2DF-B469-4DA2-BF73-A65CCC10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8FB43-02D7-4F54-9A93-AC4483BE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DAA-7B8B-4542-878D-09276A3F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54A50-235B-484C-A1BF-50CDD759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6362E-518A-4AC8-9407-71F857E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8A49E-B595-40D4-AA2A-BC6BC0C3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29976-6721-4914-B749-BAAE6B0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0D431-3A03-445B-B88F-C047AD12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0C62D-C979-41D8-8C82-5C35DF13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549C4-9C8D-4D59-A9CD-FDAF421F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12642-F562-4EC0-AE5C-FBC6BE95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C45B-1853-4D86-9E17-EF327942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EF24-9583-4D0E-9106-62D523B3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C31-699C-4EE6-AAD7-EFD0249F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1AED-9E5C-410F-83D9-D2C28EFD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BDD9-5F94-45AB-AF51-277E12B6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2793-C3C6-48E9-9614-C7513AE3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63B6B-81BC-4714-AA30-D1E616F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DC33-67A9-4225-86D5-69672386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6893-D592-4B19-87F4-B2038650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ED25-BA8A-4A90-A0A8-C43AE8AB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B347-1640-4191-BFDB-C1985775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751C8-7C4E-478B-A600-11D04789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2ED8A-955B-4105-820F-F522B734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81F-E292-423C-8570-78F960A6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51B3-2AEF-4229-AC32-CDFDDC13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A5CC-CF0F-42EE-B69C-73AFE864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82F37-C676-40D1-9BF6-379D126A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E37C4-20AB-44A1-A2C7-4FD88A3C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E7D2-E0F2-4C24-9DD2-614CCD8C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58C7C-7257-46D2-BAB2-B49A9E10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F026-B2F2-4F60-A03C-2F5DD0F4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2D6C7-6F76-469E-873A-16F9CB38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953DD-C558-456D-A2C5-61BF8086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D1C1-E7D2-41E9-97D8-4DFE8737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7ED-6C24-4006-9FBD-30C36973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13BF-D438-4CC4-9B77-93B67F4D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FEBD3-29FF-4E3E-A0F4-8A278981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B743C-290A-477F-B193-CC8E64AB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63171-28A9-47C1-9E55-559541FA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B7D0B-8BF9-4F91-AF79-1D5DC951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2F218-1952-412B-84C5-8A1D617C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492CF-57B3-480E-A2D4-ECFB3699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BA9A4-80F5-4C0C-8989-25BF1227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EC67-BA73-4196-AFF5-E962C63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DD11-C066-41FC-B3E4-3298074F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7CC-93B4-4676-8ED9-795CD08D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9CF64-4212-42C8-88EB-37B2E96C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90B33-5BFA-4985-8302-5706FB32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8E766-604C-454D-922E-4D8E6410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A070A-9177-4AA2-9BBC-63241C3C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6667-A658-4322-B807-731D1BB7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0DC6F-74F8-4DC0-BA3B-02BB95EA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923E4-0912-42FE-BF32-86B35112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D007D-F7EB-4D1C-96E9-4BE16B5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681E0-B06F-447D-B50F-F362CDC5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AF216-99C1-4945-BD36-6E408DB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8F7-94EA-4D6F-B36A-BDFC1EC5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2CFC-4400-4CB1-9E8E-64EC989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6E4D-D66C-44E1-A57E-33B23719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9A32F-208B-4402-B061-37236E0A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2942-5075-4784-BFA8-C2DE3633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66431-9779-4934-82CA-B1B58BB7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6DF-7EA7-4892-8C61-AD577D3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9c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61DD-A77B-4AE8-9750-62323E81A662}" type="slidenum"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87A-F33C-4603-AA1E-6AA7B2554CDA}" type="slidenum"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50BA-C749-4C66-9C8F-2E0D4BA6F5D7}" type="slidenum"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9c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EA2-738F-4A89-8FE5-6B7A7F520F04}" type="slidenum"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267E-FD99-473A-9CF9-1699BC5883DD}" type="slidenum"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FE92-B88D-4CF1-BC3A-5C9C53DCE9F6}" type="slidenum"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9c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661A-F7FF-4809-8531-196051CDAA86}" type="slidenum"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.xml"/><Relationship Id="rId11" Type="http://schemas.openxmlformats.org/officeDocument/2006/relationships/slide" Target="slide4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.xml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6.xml"/><Relationship Id="rId12" Type="http://schemas.openxmlformats.org/officeDocument/2006/relationships/slide" Target="slide8.xml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948000" y="345600"/>
            <a:ext cx="2195640" cy="648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1" action="ppaction://hlinksldjump"/>
              </a:rPr>
              <a:t>Цель работы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2" action="ppaction://hlinksldjump"/>
              </a:rPr>
              <a:t>Входной</a:t>
            </a:r>
            <a:r>
              <a:rPr b="1" i="1" lang="ru-RU" sz="1900" spc="-1" strike="noStrike" u="sng">
                <a:solidFill>
                  <a:srgbClr val="ffc000"/>
                </a:solidFill>
                <a:uFillTx/>
                <a:latin typeface="Candara"/>
              </a:rPr>
              <a:t> </a:t>
            </a: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3" action="ppaction://hlinksldjump"/>
              </a:rPr>
              <a:t>контроль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4" action="ppaction://hlinksldjump"/>
              </a:rPr>
              <a:t>Лекция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5" action="ppaction://hlinksldjump"/>
              </a:rPr>
              <a:t>Кейс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70c0"/>
                </a:solidFill>
                <a:uFillTx/>
                <a:latin typeface="Candara"/>
              </a:rPr>
              <a:t> 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6" action="ppaction://hlinksldjump"/>
              </a:rPr>
              <a:t>Карта 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7" action="ppaction://hlinksldjump"/>
              </a:rPr>
              <a:t>оценки 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8" action="ppaction://hlinksldjump"/>
              </a:rPr>
              <a:t>освоения компетенций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9" action="ppaction://hlinksldjump"/>
              </a:rPr>
              <a:t>Рефлексия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85480" y="642960"/>
            <a:ext cx="658980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000" spc="-1" strike="noStrike">
                <a:solidFill>
                  <a:srgbClr val="ffc000"/>
                </a:solidFill>
                <a:latin typeface="Sitka Small"/>
                <a:ea typeface="GulimChe"/>
              </a:rPr>
              <a:t>УСТАНОВКИ ПЕРИОДИЧЕСКОГО ДЕЙСТВИЯ</a:t>
            </a: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0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1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2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3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4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5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642960" y="321480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мные пропарочные камеры  конструкция, принцип действия, показатели работы, достоинства и 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ВИДЫ ЯМНЫХ  КАМЕР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79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380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низ 9"/>
          <p:cNvSpPr/>
          <p:nvPr/>
        </p:nvSpPr>
        <p:spPr>
          <a:xfrm rot="1759200">
            <a:off x="2119320" y="1642680"/>
            <a:ext cx="1089000" cy="1938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трелка вниз 11"/>
          <p:cNvSpPr/>
          <p:nvPr/>
        </p:nvSpPr>
        <p:spPr>
          <a:xfrm rot="20248200">
            <a:off x="5187960" y="1635120"/>
            <a:ext cx="1089000" cy="1938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"/>
          <p:cNvSpPr/>
          <p:nvPr/>
        </p:nvSpPr>
        <p:spPr>
          <a:xfrm>
            <a:off x="214200" y="3786120"/>
            <a:ext cx="385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ная пропарочная камера конструкции Гипростройиндустир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4857840" y="3929040"/>
            <a:ext cx="335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ная пропарочная камера професс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А.  Семе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90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39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2" descr=""/>
          <p:cNvPicPr/>
          <p:nvPr/>
        </p:nvPicPr>
        <p:blipFill>
          <a:blip r:embed="rId10"/>
          <a:stretch/>
        </p:blipFill>
        <p:spPr>
          <a:xfrm>
            <a:off x="500040" y="1500120"/>
            <a:ext cx="4143240" cy="25830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10"/>
          <p:cNvSpPr/>
          <p:nvPr/>
        </p:nvSpPr>
        <p:spPr>
          <a:xfrm>
            <a:off x="5286240" y="171468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сновным конструктивным элементам пропарочных камер относятся ограждения (пол, стены, крышки и потолок), системы разводки пара и вентиля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1"/>
          <a:stretch/>
        </p:blipFill>
        <p:spPr>
          <a:xfrm>
            <a:off x="4429080" y="4100400"/>
            <a:ext cx="4238640" cy="2757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https://vmasshtabe.ru/wp-content/uploads/2017/04/499944-vms-yamnaya-kamera.jpg"/>
          <p:cNvPicPr/>
          <p:nvPr/>
        </p:nvPicPr>
        <p:blipFill>
          <a:blip r:embed="rId12"/>
          <a:stretch/>
        </p:blipFill>
        <p:spPr>
          <a:xfrm>
            <a:off x="1000080" y="4000680"/>
            <a:ext cx="30355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01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402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0"/>
          <p:cNvSpPr/>
          <p:nvPr/>
        </p:nvSpPr>
        <p:spPr>
          <a:xfrm>
            <a:off x="214200" y="164304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 камер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т из монолитного бетона или железобетонных плит с гидроизоляцией по подготовке из теплоизоляционного материала. Толщина монолитного бетона или железобетонных плит – 12-20 см, а слоя утеплителя – 30-40 см. Углы выполняют овальными для улучшения циркуляции теплоносителя и ликвидации мертвых зон имеющих низкую температуру. Для стока конденсата он должен иметь уклон 0,005-0,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0"/>
          <p:cNvSpPr/>
          <p:nvPr/>
        </p:nvSpPr>
        <p:spPr>
          <a:xfrm>
            <a:off x="214200" y="3500280"/>
            <a:ext cx="871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ны камер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быть кирпичными, бетонными или железобетонными – наиболее прочными и стойкими к механическим воздействиям в процессе загрузки издел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наружной сте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кирпича 380 м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елезобетона 300-400 м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внутренней сте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кирпича 250 м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елезобетона 150-20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41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0"/>
          <p:cNvSpPr/>
          <p:nvPr/>
        </p:nvSpPr>
        <p:spPr>
          <a:xfrm>
            <a:off x="214200" y="164304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ышу камер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т деревянными или бетонными по металлической сетки, внутри заполняют утеплителем. Низ крышиы по периметру оборудуют уголком, заходящим в швеллеры стенок камеры, чтобы обеспечить её герметичность. Крыша камеры должны иметь уклон 0,005-0,01 для стока конденс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0"/>
          <p:cNvSpPr/>
          <p:nvPr/>
        </p:nvSpPr>
        <p:spPr>
          <a:xfrm>
            <a:off x="214200" y="3286080"/>
            <a:ext cx="45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 камеры устанавливают затвор, которые заполняют песком или водой. Затворы предназначены для предупреждения утечки паровоздушной смеси или пара через неплотности между крышкой и стенами камеры, а так же между составными кры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0"/>
          <a:stretch/>
        </p:blipFill>
        <p:spPr>
          <a:xfrm>
            <a:off x="4776840" y="2857680"/>
            <a:ext cx="4152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20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42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оловок 5"/>
          <p:cNvSpPr/>
          <p:nvPr/>
        </p:nvSpPr>
        <p:spPr>
          <a:xfrm>
            <a:off x="2928960" y="2000160"/>
            <a:ext cx="5929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зводки пара обычных камер ямного типа состоит из кольцевых паропроводов диаметром 50-60 мм, расположенных на высоте 150-300 мм от уровня пола. В трубах расположенных, на расстоянии 150-200 мм обеспечивающие равномерное распределение пара по площади каме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ые отверстия диаметром 3-5 м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0"/>
          <a:stretch/>
        </p:blipFill>
        <p:spPr>
          <a:xfrm>
            <a:off x="142920" y="1714680"/>
            <a:ext cx="2500200" cy="4725720"/>
          </a:xfrm>
          <a:prstGeom prst="rect">
            <a:avLst/>
          </a:prstGeom>
          <a:ln w="0">
            <a:noFill/>
          </a:ln>
        </p:spPr>
      </p:pic>
      <p:sp>
        <p:nvSpPr>
          <p:cNvPr id="427" name="Заголовок 5"/>
          <p:cNvSpPr/>
          <p:nvPr/>
        </p:nvSpPr>
        <p:spPr>
          <a:xfrm>
            <a:off x="3143160" y="3643200"/>
            <a:ext cx="56437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ода конденсата в канализацию используют трубы диаметром 50мм. отвод может быть общим и отдельным для каждой каме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30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43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"/>
          <p:cNvPicPr/>
          <p:nvPr/>
        </p:nvPicPr>
        <p:blipFill>
          <a:blip r:embed="rId10"/>
          <a:stretch/>
        </p:blipFill>
        <p:spPr>
          <a:xfrm>
            <a:off x="500040" y="1500120"/>
            <a:ext cx="4143240" cy="258300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10"/>
          <p:cNvSpPr/>
          <p:nvPr/>
        </p:nvSpPr>
        <p:spPr>
          <a:xfrm>
            <a:off x="5286240" y="171468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сновным конструктивным элементам пропарочных камер относятся ограждения (пол, стены, крышки и потолок), системы разводки пара и вентиля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1"/>
          <a:stretch/>
        </p:blipFill>
        <p:spPr>
          <a:xfrm>
            <a:off x="4429080" y="4100400"/>
            <a:ext cx="4238640" cy="2757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https://vmasshtabe.ru/wp-content/uploads/2017/04/499944-vms-yamnaya-kamera.jpg"/>
          <p:cNvPicPr/>
          <p:nvPr/>
        </p:nvPicPr>
        <p:blipFill>
          <a:blip r:embed="rId12"/>
          <a:stretch/>
        </p:blipFill>
        <p:spPr>
          <a:xfrm>
            <a:off x="1000080" y="4000680"/>
            <a:ext cx="30355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7" descr="http://www.kan-servis.ru/admin/uploads/8778073234.jpg"/>
          <p:cNvPicPr/>
          <p:nvPr/>
        </p:nvPicPr>
        <p:blipFill>
          <a:blip r:embed="rId1"/>
          <a:stretch/>
        </p:blipFill>
        <p:spPr>
          <a:xfrm>
            <a:off x="5000760" y="1643040"/>
            <a:ext cx="3929040" cy="29797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ПРОПАРОЧНАЯ КАМЕРА ПРОФЕССОРА  Л.А. СЕМЕНОВ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sp>
        <p:nvSpPr>
          <p:cNvPr id="442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Штриховая стрелка вправо 6"/>
          <p:cNvGrpSpPr/>
          <p:nvPr/>
        </p:nvGrpSpPr>
        <p:grpSpPr>
          <a:xfrm>
            <a:off x="7881840" y="6394320"/>
            <a:ext cx="1086120" cy="549360"/>
            <a:chOff x="7881840" y="6394320"/>
            <a:chExt cx="1086120" cy="549360"/>
          </a:xfrm>
        </p:grpSpPr>
        <p:pic>
          <p:nvPicPr>
            <p:cNvPr id="446" name="Штриховая стрелка вправо 6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881840" y="6394320"/>
              <a:ext cx="10861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rot="10800000">
              <a:off x="8037000" y="6534000"/>
              <a:ext cx="814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Picture 2" descr=""/>
          <p:cNvPicPr/>
          <p:nvPr/>
        </p:nvPicPr>
        <p:blipFill>
          <a:blip r:embed="rId11"/>
          <a:stretch/>
        </p:blipFill>
        <p:spPr>
          <a:xfrm>
            <a:off x="214200" y="1714680"/>
            <a:ext cx="4780080" cy="28573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"/>
          <p:cNvPicPr/>
          <p:nvPr/>
        </p:nvPicPr>
        <p:blipFill>
          <a:blip r:embed="rId12"/>
          <a:stretch/>
        </p:blipFill>
        <p:spPr>
          <a:xfrm>
            <a:off x="214200" y="4572000"/>
            <a:ext cx="4500720" cy="7412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13"/>
          <a:stretch/>
        </p:blipFill>
        <p:spPr>
          <a:xfrm>
            <a:off x="214200" y="5286240"/>
            <a:ext cx="4429080" cy="204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14"/>
          <a:stretch/>
        </p:blipFill>
        <p:spPr>
          <a:xfrm>
            <a:off x="4714920" y="3786120"/>
            <a:ext cx="428616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ПРОПАРОЧНАЯ КАМЕРА ДОСТОИНСТВА И НЕДОСТАТК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sp>
        <p:nvSpPr>
          <p:cNvPr id="454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Штриховая стрелка вправо 6"/>
          <p:cNvGrpSpPr/>
          <p:nvPr/>
        </p:nvGrpSpPr>
        <p:grpSpPr>
          <a:xfrm>
            <a:off x="7881840" y="6394320"/>
            <a:ext cx="1086120" cy="549360"/>
            <a:chOff x="7881840" y="6394320"/>
            <a:chExt cx="1086120" cy="549360"/>
          </a:xfrm>
        </p:grpSpPr>
        <p:pic>
          <p:nvPicPr>
            <p:cNvPr id="458" name="Штриховая стрелка вправо 6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881840" y="6394320"/>
              <a:ext cx="10861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 rot="10800000">
              <a:off x="8037000" y="6534000"/>
              <a:ext cx="814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Прямоугольник 12"/>
          <p:cNvSpPr/>
          <p:nvPr/>
        </p:nvSpPr>
        <p:spPr>
          <a:xfrm>
            <a:off x="4071960" y="1857240"/>
            <a:ext cx="4714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а: ямные камеры удобны в эксплуатации, имеют хороший коэффициент использования и малые теплопо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: часто наблюдающееся парение, вследствие недостаточной герметичности крышек, что ухудшает санитарно-гигиенические условия в цех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http://www.brest-region.gov.by/images/content/region/images/1228981999-6227.jpg"/>
          <p:cNvPicPr/>
          <p:nvPr/>
        </p:nvPicPr>
        <p:blipFill>
          <a:blip r:embed="rId10"/>
          <a:stretch/>
        </p:blipFill>
        <p:spPr>
          <a:xfrm>
            <a:off x="571680" y="2000160"/>
            <a:ext cx="32288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Инструкция по работе  над кейсом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64" name="Штриховая стрелка вправо 6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465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142920" y="1650240"/>
            <a:ext cx="885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кейс два раза: один раз, чтобы ознакомиться, второй р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хорошо разобраться в фа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е уже имеющиеся у Вас знания и полученную информаци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означенным проблемам (при необходимости обратитесь к информ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й в приложениях) и составьте основательный анализ имеющейся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йте план выхода из сложившейся ситуации, пути решения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свое решение членам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е в группе каждо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критерии, по которым можно сделать вывод, что проблема реш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наиболее приемлемо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ьте аргументы в защиту вашей точки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КАРТА ОЦЕНКИ ОСВОЕНИЯ КОМПЕТЕНЦИЙ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72" name="Штриховая стрелка вправо 6"/>
          <p:cNvGrpSpPr/>
          <p:nvPr/>
        </p:nvGrpSpPr>
        <p:grpSpPr>
          <a:xfrm>
            <a:off x="7523280" y="6188040"/>
            <a:ext cx="1090440" cy="541440"/>
            <a:chOff x="7523280" y="6188040"/>
            <a:chExt cx="1090440" cy="541440"/>
          </a:xfrm>
        </p:grpSpPr>
        <p:pic>
          <p:nvPicPr>
            <p:cNvPr id="473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23280" y="6188040"/>
              <a:ext cx="109044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 rot="10800000">
              <a:off x="768024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7572240" y="2142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357120" y="1714680"/>
          <a:ext cx="8501040" cy="4570200"/>
        </p:xfrm>
        <a:graphic>
          <a:graphicData uri="http://schemas.openxmlformats.org/drawingml/2006/table">
            <a:tbl>
              <a:tblPr/>
              <a:tblGrid>
                <a:gridCol w="7140600"/>
                <a:gridCol w="1360440"/>
              </a:tblGrid>
              <a:tr h="458640"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ша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нимать сущность и социальную значимость своей будущей профессии, проявлять к ней устойчивый интере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рганизовывать собственную деятельность, выбирать типовые методы и способы выполнения профессиональных задач, оценивать их эффективность и качество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3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ринимать решения в стандартных и нестандартных  ситуациях и нести за них ответственнос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6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ть в коллективе и в команде, эффективно общаться с коллегами, руководством, потребителя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7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Брать на себя ответственность за работу членов команды (подчиненных), за результат выполнения задан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50760" rIns="50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К 2.1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существлять эксплуатацию технологического оборудования   для производства неметаллических строительных изделий и конструкц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760" rIns="50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2.2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ределять неполадки в работе оборудования, подбирать  технологическое оборудование по заданным условия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760" rIns="50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К 2.4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ыявлять резерв работы оборудования для увеличения выпуска продукц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56760" y="1642680"/>
            <a:ext cx="85028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marL="272880" indent="-228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ЦЕЛЬ ЗАНЯТ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08" name="Штриховая стрелка вправо 6"/>
          <p:cNvGrpSpPr/>
          <p:nvPr/>
        </p:nvGrpSpPr>
        <p:grpSpPr>
          <a:xfrm>
            <a:off x="7669080" y="6394320"/>
            <a:ext cx="1084320" cy="549360"/>
            <a:chOff x="7669080" y="6394320"/>
            <a:chExt cx="1084320" cy="549360"/>
          </a:xfrm>
        </p:grpSpPr>
        <p:pic>
          <p:nvPicPr>
            <p:cNvPr id="309" name="Штриховая стрелка вправо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669080" y="6394320"/>
              <a:ext cx="10843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 rot="10800000">
              <a:off x="7823160" y="653400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0" y="1659960"/>
            <a:ext cx="878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знание  об  установках периодического действия и сформировать понятие о конструкции и принципе работы ямной пропарочной камеры, пропарочной камеры профессора Л.А. Семенова 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наиболее эффективную камеру для ТВО бетона в условиях современного производ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80" name="Штриховая стрелка вправо 6"/>
          <p:cNvGrpSpPr/>
          <p:nvPr/>
        </p:nvGrpSpPr>
        <p:grpSpPr>
          <a:xfrm>
            <a:off x="7523280" y="6188040"/>
            <a:ext cx="1090440" cy="541440"/>
            <a:chOff x="7523280" y="6188040"/>
            <a:chExt cx="1090440" cy="541440"/>
          </a:xfrm>
        </p:grpSpPr>
        <p:pic>
          <p:nvPicPr>
            <p:cNvPr id="481" name="Штриховая стрелка вправо 6" descr=""/>
            <p:cNvPicPr/>
            <p:nvPr/>
          </p:nvPicPr>
          <p:blipFill>
            <a:blip r:embed="rId2"/>
            <a:stretch/>
          </p:blipFill>
          <p:spPr>
            <a:xfrm>
              <a:off x="7523280" y="6188040"/>
              <a:ext cx="109044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 rot="10800000">
              <a:off x="768024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8"/>
          <p:cNvSpPr/>
          <p:nvPr/>
        </p:nvSpPr>
        <p:spPr>
          <a:xfrm>
            <a:off x="7572240" y="2142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"/>
          <p:cNvSpPr/>
          <p:nvPr/>
        </p:nvSpPr>
        <p:spPr>
          <a:xfrm>
            <a:off x="142920" y="1746000"/>
            <a:ext cx="88581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должите предло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занятии я  узнал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ала полученная информация для моей профессиональной деятельности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шнее занятие привлекло меня тем что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показалось мне интересным так как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ЦЕЛЬ ЗАНЯТ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16" name="Штриховая стрелка вправо 6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17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3" descr="http://delomart.ru/wp-content/uploads/2015/09/IMG_02001.jpg"/>
          <p:cNvPicPr/>
          <p:nvPr/>
        </p:nvPicPr>
        <p:blipFill>
          <a:blip r:embed="rId10"/>
          <a:stretch/>
        </p:blipFill>
        <p:spPr>
          <a:xfrm>
            <a:off x="1500120" y="1785960"/>
            <a:ext cx="6085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Входной контроль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24" name="Штриховая стрелка вправо 6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25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8">
            <a:hlinkClick r:id="rId10" action="ppaction://hlinksldjump"/>
          </p:cNvPr>
          <p:cNvSpPr/>
          <p:nvPr/>
        </p:nvSpPr>
        <p:spPr>
          <a:xfrm>
            <a:off x="684360" y="4206960"/>
            <a:ext cx="2373120" cy="199692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9">
            <a:hlinkClick r:id="rId11" action="ppaction://hlinksldjump"/>
          </p:cNvPr>
          <p:cNvSpPr/>
          <p:nvPr/>
        </p:nvSpPr>
        <p:spPr>
          <a:xfrm>
            <a:off x="4794120" y="2000160"/>
            <a:ext cx="2421000" cy="200520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Constanti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0">
            <a:hlinkClick r:id="rId12" action="ppaction://hlinksldjump"/>
          </p:cNvPr>
          <p:cNvSpPr/>
          <p:nvPr/>
        </p:nvSpPr>
        <p:spPr>
          <a:xfrm>
            <a:off x="4794120" y="4214880"/>
            <a:ext cx="2421000" cy="198900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Constantia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1">
            <a:hlinkClick r:id="rId13" action="ppaction://hlinksldjump"/>
          </p:cNvPr>
          <p:cNvSpPr/>
          <p:nvPr/>
        </p:nvSpPr>
        <p:spPr>
          <a:xfrm>
            <a:off x="642960" y="1928880"/>
            <a:ext cx="2376360" cy="209844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Constanti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56000" y="3571920"/>
            <a:ext cx="2087640" cy="16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9c2d1"/>
                </a:solidFill>
                <a:latin typeface="Franklin Gothic Medium"/>
              </a:rPr>
              <a:t>ВХОДНОЙ КОНТРОЛЬ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4" name="Подзаголовок 2"/>
          <p:cNvSpPr/>
          <p:nvPr/>
        </p:nvSpPr>
        <p:spPr>
          <a:xfrm>
            <a:off x="642960" y="3143160"/>
            <a:ext cx="352908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Штриховая стрелка вправо 11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38" name="Штриховая стрелка вправо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Picture 11" descr="http://italtechnostroy.by/files/images/Novatec/Kassetnye%20ustanovki/big/Image-15.jpg"/>
          <p:cNvPicPr/>
          <p:nvPr/>
        </p:nvPicPr>
        <p:blipFill>
          <a:blip r:embed="rId9"/>
          <a:stretch/>
        </p:blipFill>
        <p:spPr>
          <a:xfrm>
            <a:off x="785880" y="214200"/>
            <a:ext cx="5370480" cy="42958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8"/>
          <p:cNvSpPr/>
          <p:nvPr/>
        </p:nvSpPr>
        <p:spPr>
          <a:xfrm>
            <a:off x="500040" y="4714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етная установка для ТВО бетона, устройство принцип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948000" y="3600360"/>
            <a:ext cx="2087640" cy="16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9c2d1"/>
                </a:solidFill>
                <a:latin typeface="Franklin Gothic Medium"/>
              </a:rPr>
              <a:t>ВХОДНОЙ КОНТРОЛЬ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Подзаголовок 2"/>
          <p:cNvSpPr/>
          <p:nvPr/>
        </p:nvSpPr>
        <p:spPr>
          <a:xfrm>
            <a:off x="642960" y="3143160"/>
            <a:ext cx="352908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Штриховая стрелка вправо 11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47" name="Штриховая стрелка вправо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Picture 11" descr="http://historich.ru/1-literaturnij-obzor/8979_html_66ffdd45.png"/>
          <p:cNvPicPr/>
          <p:nvPr/>
        </p:nvPicPr>
        <p:blipFill>
          <a:blip r:embed="rId9"/>
          <a:stretch/>
        </p:blipFill>
        <p:spPr>
          <a:xfrm>
            <a:off x="642960" y="500040"/>
            <a:ext cx="5997600" cy="37670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8"/>
          <p:cNvSpPr/>
          <p:nvPr/>
        </p:nvSpPr>
        <p:spPr>
          <a:xfrm>
            <a:off x="785880" y="450072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температур при прогреве изделий в кассетной устан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948000" y="3600360"/>
            <a:ext cx="2087640" cy="16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9c2d1"/>
                </a:solidFill>
                <a:latin typeface="Franklin Gothic Medium"/>
              </a:rPr>
              <a:t>ВХОДНОЙ КОНТРОЛЬ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Подзаголовок 2"/>
          <p:cNvSpPr/>
          <p:nvPr/>
        </p:nvSpPr>
        <p:spPr>
          <a:xfrm>
            <a:off x="642960" y="3143160"/>
            <a:ext cx="352908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Штриховая стрелка вправо 11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56" name="Штриховая стрелка вправо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8"/>
          <p:cNvSpPr/>
          <p:nvPr/>
        </p:nvSpPr>
        <p:spPr>
          <a:xfrm>
            <a:off x="1298880" y="4429080"/>
            <a:ext cx="52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жекторное  пароснабжение в кассетной у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1" descr=""/>
          <p:cNvPicPr/>
          <p:nvPr/>
        </p:nvPicPr>
        <p:blipFill>
          <a:blip r:embed="rId9"/>
          <a:stretch/>
        </p:blipFill>
        <p:spPr>
          <a:xfrm>
            <a:off x="1214280" y="428760"/>
            <a:ext cx="50007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948000" y="3600360"/>
            <a:ext cx="2087640" cy="16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9c2d1"/>
                </a:solidFill>
                <a:latin typeface="Franklin Gothic Medium"/>
              </a:rPr>
              <a:t>ВХОДНОЙ КОНТРОЛЬ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Подзаголовок 2"/>
          <p:cNvSpPr/>
          <p:nvPr/>
        </p:nvSpPr>
        <p:spPr>
          <a:xfrm>
            <a:off x="642960" y="3143160"/>
            <a:ext cx="352908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Штриховая стрелка вправо 11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65" name="Штриховая стрелка вправо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8"/>
          <p:cNvSpPr/>
          <p:nvPr/>
        </p:nvSpPr>
        <p:spPr>
          <a:xfrm>
            <a:off x="142920" y="1857240"/>
            <a:ext cx="671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лажностная обработка железобетонных изделий ее сущность и на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носители  для ТВО бетона их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режима 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Ямная пропарочная камер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70" name="Штриховая стрелка вправо 6"/>
          <p:cNvGrpSpPr/>
          <p:nvPr/>
        </p:nvGrpSpPr>
        <p:grpSpPr>
          <a:xfrm>
            <a:off x="7669080" y="6114960"/>
            <a:ext cx="1084320" cy="547920"/>
            <a:chOff x="7669080" y="6114960"/>
            <a:chExt cx="1084320" cy="547920"/>
          </a:xfrm>
        </p:grpSpPr>
        <p:pic>
          <p:nvPicPr>
            <p:cNvPr id="37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69080" y="6114960"/>
              <a:ext cx="10843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 rot="10800000">
              <a:off x="7823160" y="625140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1" descr="http://www.orenbeton.ru/assets/images/Gallery/2-2.jpg"/>
          <p:cNvPicPr/>
          <p:nvPr/>
        </p:nvPicPr>
        <p:blipFill>
          <a:blip r:embed="rId10"/>
          <a:stretch/>
        </p:blipFill>
        <p:spPr>
          <a:xfrm>
            <a:off x="142920" y="2214720"/>
            <a:ext cx="4822920" cy="32144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18"/>
          <p:cNvSpPr/>
          <p:nvPr/>
        </p:nvSpPr>
        <p:spPr>
          <a:xfrm>
            <a:off x="5072040" y="1785960"/>
            <a:ext cx="3857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рочные камеры ямного типа применяются при производстве железобетонных изделий. В основном они делаются прямоугольной формы, реже со скруглёнными углами для улучшения циркуляции теплоносителя. Высота камер не более 4 м, ширина от 1,5 м до 4 м, длина 7-13 м. Обычно ямную камеру заглубляют на 0,5-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33:25Z</dcterms:created>
  <dc:creator>user</dc:creator>
  <dc:description/>
  <dc:language>en-US</dc:language>
  <cp:lastModifiedBy>Гыук</cp:lastModifiedBy>
  <dcterms:modified xsi:type="dcterms:W3CDTF">2019-05-21T19:10:36Z</dcterms:modified>
  <cp:revision>157</cp:revision>
  <dc:subject/>
  <dc:title>Презентация PowerPoint</dc:title>
</cp:coreProperties>
</file>