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C222-C124-4A0F-B065-57B9AE7692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EBBD-2392-4BAC-AFAA-359E16FE9A0C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6E0D-0121-47C8-96C5-A5E80771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10DE-51F8-473A-80BD-E407856C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E9E-9160-4C0B-BF67-BA691ABF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41D6-1484-4F73-8C37-2FCAE0CA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65BC-A877-4907-BB49-C8BF53B6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0F0E-EB18-4AAA-915A-D220DCA4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3028-C738-43DD-B320-3FF1DA1D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24C3-CAAC-43AE-AAC8-A1F9CDC5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547C-BE72-41F7-9783-FB5093B4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E40F-5C06-46FA-9003-7975E94D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DFA2-1EAA-4BE9-8628-455B953E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3F6-D38D-4FB5-8AF4-A2AECCC7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CA67-8D05-44A2-9628-F17782D6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2EDA-6819-4BB4-8833-B373097B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6B3A-D36B-4427-8A3E-B698C97B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755B-13F0-4D01-84F5-9058D787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C172-4BCF-4A9C-BEA7-6A9D98D2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FF291-9E59-47BC-BEAB-3D53EFF6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C3BA3-6D06-4D4A-A3CA-19C4E95D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E7509-A1B6-49D7-AC99-2B380015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B27BA-0AEC-4BBD-B029-5477BCF1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60727-FCC8-48F4-8D0C-7FACC16A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FEE-3A99-4153-BC91-1040F05A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5B570-9329-4ED9-BCB7-F07A65A2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42188-F443-42A7-BD27-38E0B9DA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88AAF-728D-4FE1-852A-E0AE8E11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B556B-E0F4-40B4-9DFB-7079A5D2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D0895-59DA-4EF3-99C6-D238BBE3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FBE09-7F3B-412B-A31B-717E6E36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F4DE5-C097-4025-A079-796D9D1C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D1EC5-9CA5-4B21-A102-38BF2C48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DEFFB-EB83-4B22-9D18-AE29615C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EB79E-4264-4CC1-BF3E-CEE31783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BF9-0D18-46C8-B2F5-99AB7F05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939DE-0BD5-48D6-B13E-AA6E5DD9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5A1E0-AE60-436E-A91B-2F729A59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B32B1-5FE4-455E-ACD6-A4B6EF3B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0A160-08D4-4032-A1CC-2CDDA12A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F71AE-95B9-4629-B15B-B852AB3A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A2B73-9BE6-4348-BA3E-D978F70B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7EB0C-C06E-432E-81BE-EA936476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3CC43-C1D2-422C-967B-E2B5CAAC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6C47A-E52C-42E4-B00B-FACE6487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75AD44-E75B-4169-8231-09DEDE5B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8CB-B886-4F9B-8F7E-4538359B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857146-A51B-4011-9AAA-DD61FBF6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219D0F-DEFD-4D2E-839D-651FC6CF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5EDC93-ABCA-42B8-81D9-4BC928BF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008363-10AD-4674-9F10-3707E4BA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DABDEE-BA37-4DBC-A542-D2B96A95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3BF474-4C14-47D1-9275-93A2F746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6F3330-1FF1-4D26-961E-781C60E5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FF41E0-FFA8-4AC8-83B7-E3D8D84D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5A0E3A-572F-40FB-9B28-5FBA8479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627A00-7D5C-47BA-9DF1-2E4DABCC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E06-00BA-4780-8E4C-27D2CAFF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EE05E3-1076-4166-886C-F1BE346C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35EC52-AF3D-4A64-B3CD-08D6B84A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28C3A0-1792-4A5F-B1F4-0F10D81B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E0187C-1B1D-4D46-9062-EF17A701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8A4CE0-D8B3-4DBD-A00B-AC9E245A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DF4F08-C17F-4C3F-BC5C-31D4EAE5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77F412-2E8D-4E43-93FD-2BD75866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F14868-EB16-47AD-BCB8-0DD1D566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F9D6F5-8A1C-4D82-8DF4-43E4CC58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1CE41D-8980-4EC5-AE02-CFD71C69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701-400F-4E56-BC77-BD6A60AD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E26DCB-DEF9-42D8-8656-DF02C9D7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78A07A-90C0-4C54-B05F-A0D02A79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70FADD-BDD7-4A84-90D2-F69637C3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AEE29D-E42D-40A0-A2EC-B97BED0B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1BCC10-2557-47F2-8CD1-A852184D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5CF85D-3399-490B-807D-C6BD4899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746D57-6C5A-4103-8FAE-DF8CC704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862D59-FB67-4C15-8810-79BE55A2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132E34-13E2-4132-AB6F-69F949D7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18C817-51E0-457E-BB04-80288AE2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C8D7-2AC3-41D7-BFC1-5ACC1752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3285C8-4405-44A6-9E6C-B7D22AFC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8F53FF-A9A4-46D6-81DE-4897FF0D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5CB63A-4D9F-4595-8655-0A64316B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85D023-5B89-48A0-82D3-D37A03E5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5664D8-5CB0-4307-8117-3D635706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65D-817C-44DD-9FA4-7391150A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7FE4-950A-44A0-A8A9-92117F5BB62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78A2-E417-42AD-BEFB-C4DF3003187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2AB9-11FD-4540-82B2-54E790D50C1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CEB6-CD79-4693-AF54-256A044CC1A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E568-A163-48F7-BB51-AA93632C13A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B19D-9528-4D83-8898-58833E4E510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CD86-CD56-4A13-9296-ADD491DC3C4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7560" y="981000"/>
            <a:ext cx="856800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ОРОВЬЕСБЕРЕГАЮЩИЕ ТЕХНОЛОГИИ В НАЧАЛЬНОЙ ШКОЛЕ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931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 образовательные технологии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РИНЦИПЫ ЗДОРОВЬЕСБЕРЕЖ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7920" y="1988640"/>
            <a:ext cx="8856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Не навреди"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а о здоровье учителя и ребенка в приоритет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сть (т.е. работа по сохранению и защите здоровья должна вестись не от случая к случаю, а постоянно, комплексно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содержания обучения возрас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х порождает успех ( т.е., нейтрализация всего негативного и акцентирование положительных факторов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. Учитель должен стремиться воспитать у ребенка ответственность за свое здоровь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ТЬ ЗДОРОВЬЕСБЕРЕГАЮЩИХ ТЕХНОЛОГИЙ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0" y="2133360"/>
            <a:ext cx="87854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формирование у школьников основ валеологической культуры, т.е. научить их самостоятельно заботиться о своем здоровь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рганизация образовательного процесса в школе без негативного влияния на здоровье дет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85672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ЗДОРЬЕСБЕРЕГАЮЩИХ ТЕХНОЛОГИЙ РЕШАЕТ ЦЕЛЫЙ РЯД ЗАДАЧ: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8000" y="1557000"/>
            <a:ext cx="903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кладывание фундамента хорошего физического здоровь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вышение уровня психического и социального здоровья воспитанни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ведение профилактической оздоровительной работ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знакомление дошкольников с принципами ведения здорового образа жизн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отивация детей на здоровый образ жизн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формирование полезных привычек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формирование валеологических навы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формирование осознанной потребности в регулярных занятиях физкультуро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оспитание ценностного отношения к своему здоровь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5656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ССИФИКАЦИЯ ЗДОРОВЬЕСБЕРЕГАЮЩИХ ТЕХНОЛОГИЙ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931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о-профилактические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о-оздоровительные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ологическое образование родителей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ологическое просвещение педагогов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ее образование детей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270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68360" y="1052280"/>
            <a:ext cx="82072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ая составная часть здоровьесберегающей работы школы 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ая  организация уро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ем рациональной организации учебного процесса являютс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учебной нагрузки – количество уроков и их продолжительность, включая затраты времени на выполнение домашних задани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узка от дополнительных занятий в школ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активно-двигательного характера: динамические паузы, уроки физической культуры, спортивные мероприятия и т.п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0T11:29:54Z</dcterms:created>
  <dc:creator>Пользователь Windows</dc:creator>
  <dc:description/>
  <dc:language>en-US</dc:language>
  <cp:lastModifiedBy>Пользователь Windows</cp:lastModifiedBy>
  <dcterms:modified xsi:type="dcterms:W3CDTF">2019-05-21T19:59:21Z</dcterms:modified>
  <cp:revision>10</cp:revision>
  <dc:subject/>
  <dc:title>Здоровьесберегающие технологии</dc:title>
</cp:coreProperties>
</file>