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ABFD-DC3F-41CA-843C-D1CB16B82F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533-6AC3-4BCB-9047-06DF8A841333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583-285A-4355-877A-F5A1393D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930-9731-45C2-928D-8F2F19AA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59C-3132-460A-9915-3A0A78EC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7C1-4277-4288-BE18-8069BAF1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C350-3F33-445E-BC2E-0320364D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1960-4713-47C0-B808-C0C754D7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1C48-5ED3-41E5-B679-BA101118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1CC5-8237-4B71-BB2B-0BC64359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849E-187C-46F8-B052-465A6636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4170-DAB6-43AC-B096-88BD3514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9EF5-F04F-4E79-961D-B48CF667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53F-863F-4EF5-9FFB-FD2638FD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D753-05A0-47BF-8574-B498148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3236-D089-4A9E-8956-837AA57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272A-ED08-4FFE-9434-2B448297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98D9-823D-4BCA-8612-F87D92DF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7ED8-CB76-4751-8632-A3F8CDAA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AE2B1-480B-4BDB-BCCF-9D20DBDE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D7E2F-38D7-4038-9F55-E7F62CE1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565C3-8DB1-407B-AF55-232EDB12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95CF1-13E4-4BD0-A24E-C827B25F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D00BF-2E65-4D90-9DAC-FC34776C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3CD-7166-4CA1-A3B3-CA20B78D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C1C84-B0C2-41CF-A7BD-1D21EA70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88F26-B401-4215-9647-2FE9D88E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30805-22A1-4DA6-B5EE-CAFCFD0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14759-BAE5-4D96-B790-9ED6C82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AF1E1-F037-4CC9-955D-7E04ACEB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55137-6771-4A7C-99DB-487CE68B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98F17-F6E4-4C62-9E6D-C09F9AD8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E4E7-5A1F-4130-9BA3-67AF1E05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70AFB-2C82-44AE-8F44-40689A13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F89A6-1BE0-4C70-88FE-35F282DF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331-A474-4490-9B66-ECD58EA3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573E-A99C-4A49-B217-CE0D04BE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22958-E1D8-4BF0-A51E-8FCB091C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8F6C9-9B17-48DC-B919-B0D46FBF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CA0C-8587-4AE2-B161-38B7C1FF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5219-AEE2-4A91-87E8-140146C6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02D2-115D-4722-A795-2637842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89B9-C5F6-4CBF-B4E0-EFD91EB7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1EA82-5872-43A1-BBCA-2404CEFF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B48F4-A4E6-4CA5-BF84-1C7AA41C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40ACF-9EC1-4DC3-8FB6-DD9E03EF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FAE-41FD-4313-B407-C1DF3D0C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46F50-4D98-4597-9919-0C15AFA0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20494-277D-4E72-9E91-8FF61597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A6F1B-2ED6-4762-9EC7-C6698D38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606F0-6818-4A35-9A07-827C57C1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71A5D-F753-47B1-A18D-88C26526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14B0C-73EE-409B-B228-F2F8A3F3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5176A-E0E0-449E-8A0F-92B87F08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9D655-4388-4A34-9770-E2DB9447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C10D5-B5C9-4AFF-80D1-E71CCB76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16224-E3C9-45D2-B600-1E268367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75D-9FF8-42F3-B328-C373F30D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BF78A-B9BD-4BED-9904-1688DE25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FA769-3135-4F75-BE1F-70421451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988BE-E8EA-4525-B5F0-AA2DF65D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BC67C-4AE8-45BE-96DE-AA6420A9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0D712-D31B-4E93-89DF-061EDBBC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DD096-979D-42FE-9F27-642B2A58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CFBB9-9BA0-46AB-88A3-AD34E3AA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E9929-A1F7-4D4D-8EF1-FE7DDD8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BA188-EE65-4D7F-8E34-F6E58B04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BEFA2-F968-485C-8978-E48C9380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590-BD33-45D0-A97B-3DECC55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03F90-287F-4F10-B888-23AE3CED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91120-59AA-4055-8D57-BAA6609D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35B0F-C2E9-46D7-99D5-D7AAFE66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559F3-8AAC-4C0A-A91E-01FB90FD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73824-D7E4-4F45-949E-D8F1C0BC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90CD5-6E64-42A3-870E-FF3AB258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2419C-B0E2-401F-AD63-563C822B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19711-D8DC-471E-AD9C-D148BA1D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24B0A7-FFE8-4FF5-99C1-3B91BF3D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F16CF-3990-421C-93D3-037F6DF4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D6F-AB97-412C-B9E8-ADCDA7AE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53B33-538D-4070-878F-0E6A286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F2816-E785-403E-AB41-B51734D6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F7175-FD07-415B-8856-05B6EB0B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3A895-7EC0-4E14-90D7-80928C01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DF506-3415-4573-A7C9-2625F361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5C8-CE36-4610-92AE-AE767D3D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B92B-FB83-4AC8-96B6-D3E5F0EDEA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64EA-A551-4F4D-9D6B-4D0A0C30C9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4D82-4464-4A4C-9E7B-404F303179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BFB3-8ADB-4D5F-97E1-D67C6DEF3E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F2E5-AF46-499F-B7CF-88313F8EDB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CBA-3555-4CF0-8EE6-3A4125093D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7D8A-C358-4513-A38B-F5321C7A53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7560" y="981000"/>
            <a:ext cx="85680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ЬЕСБЕРЕГАЮЩИЕ ТЕХНОЛОГИИ В НАЧАЛЬНОЙ ШКОЛЕ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НЦИПЫ ЗДОРОВЬЕСБЕРЕЖ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920" y="1988640"/>
            <a:ext cx="885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е навреди"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 учителя и ребенка в приорите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 (т.е. работа по сохранению и защите здоровья должна вестись не от случая к случаю, а постоянно, комплексн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содержания обучения возрас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 порождает успех ( т.е., нейтрализация всего негативного и акцентирование положительных фактор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. Учитель должен стремиться воспитать у ребенка ответственность за свое здоровь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ТЬ ЗДОРОВЬЕСБЕРЕГАЮЩИХ ТЕХНОЛОГ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" y="2133360"/>
            <a:ext cx="87854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ирование у школьников основ валеологической культуры, т.е. научить их самостоятельно заботиться о своем здоровь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рганизация образовательного процесса в школе без негативного влияния на здоровье де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8567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ЗДОРЬЕСБЕРЕГАЮЩИХ ТЕХНОЛОГИЙ РЕШАЕТ ЦЕЛЫЙ РЯД ЗАДАЧ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8000" y="1557000"/>
            <a:ext cx="903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кладывание фундамента хорошего физического здоровь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вышение уровня психического и социального здоровья воспитан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дение профилактической оздоровительной рабо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знакомление дошкольников с принципами ведения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тивация детей на здоровый образ жизн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ирование полезных привыче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ирование валеологических навы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ирование осознанной потребности в регулярных занятиях физкультуро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оспитание ценност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5656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ИФИКАЦИЯ ЗДОРОВЬЕСБЕРЕГАЮЩИХ ТЕХНОЛОГ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о-профилактически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оздоровительны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ологическое образование родителей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ологическое просвещение педагогов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ее образование детей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052280"/>
            <a:ext cx="82072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ая составная часть здоровьесберегающей работы школы 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ая  организация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ем рациональной организации учебного процесса явля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учебной нагрузки – количество уроков и их продолжительность, включая затраты времени на выполнение домашних задан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узка от дополнительных занятий в школ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активно-двигательного характера: динамические паузы, уроки физической культуры, спортивные мероприятия и т.п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0T11:29:54Z</dcterms:created>
  <dc:creator>Пользователь Windows</dc:creator>
  <dc:description/>
  <dc:language>en-US</dc:language>
  <cp:lastModifiedBy>Пользователь Windows</cp:lastModifiedBy>
  <dcterms:modified xsi:type="dcterms:W3CDTF">2019-05-21T19:59:21Z</dcterms:modified>
  <cp:revision>10</cp:revision>
  <dc:subject/>
  <dc:title>Здоровьесберегающие технологии</dc:title>
</cp:coreProperties>
</file>