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B65-406E-4AD2-BB97-952293E3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7A2-5E57-4B9D-89A7-65377E43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776-5B3C-4451-974F-8D12A06C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B30-A972-4950-8171-CC91BB74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5D6-9730-45BD-82C4-BC1FCE30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446-160E-46D5-BB2F-E78411D9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4A8-93D6-4F09-8E95-E1C9BF5E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9E0-D80E-42F1-86DC-F144DE9C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A8E-54EF-4B7C-8166-FFA5DB01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430-D7D3-433B-9119-2D913AFB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4D3-FD8B-43AC-91C7-62684AE7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F09-467B-4A94-98DD-033B672E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6A33-59DF-48A4-8A1F-BE3A6503E34D}" type="slidenum">
              <a:rPr b="0" lang="ru-RU" sz="1200" spc="-1" strike="noStrike">
                <a:solidFill>
                  <a:srgbClr val="898989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Овал 5"/>
          <p:cNvSpPr/>
          <p:nvPr/>
        </p:nvSpPr>
        <p:spPr>
          <a:xfrm>
            <a:off x="4427640" y="5157720"/>
            <a:ext cx="4321080" cy="1621080"/>
          </a:xfrm>
          <a:prstGeom prst="ellipse">
            <a:avLst/>
          </a:prstGeom>
          <a:solidFill>
            <a:srgbClr val="c4bd97">
              <a:alpha val="47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Овал 4"/>
          <p:cNvSpPr/>
          <p:nvPr/>
        </p:nvSpPr>
        <p:spPr>
          <a:xfrm>
            <a:off x="190440" y="620640"/>
            <a:ext cx="8713800" cy="3960720"/>
          </a:xfrm>
          <a:prstGeom prst="ellipse">
            <a:avLst/>
          </a:prstGeom>
          <a:solidFill>
            <a:srgbClr val="c4bd97">
              <a:alpha val="47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989840" cy="21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Здоровьесберегающие технолог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427280" y="5373360"/>
            <a:ext cx="435276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полнила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ловьева 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4140360" y="1413000"/>
            <a:ext cx="4535280" cy="352872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433440" y="1700280"/>
            <a:ext cx="3556080" cy="486072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4720" y="1523880"/>
            <a:ext cx="45561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оначальником понятия здоровье-сберегающей технологии ста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кита Константинович Смир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rcRect l="60481" t="25761" r="8980" b="13344"/>
          <a:stretch/>
        </p:blipFill>
        <p:spPr>
          <a:xfrm>
            <a:off x="146160" y="777960"/>
            <a:ext cx="355572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108000" y="1341360"/>
            <a:ext cx="8874000" cy="532764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9000" y="7560"/>
            <a:ext cx="89294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ория развития здорорьесберегающих технолог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8000" y="1483920"/>
            <a:ext cx="892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ы концепции здоровьесбережения в России были заложены в 1904 г., на съезде Российских врач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нистерстве народного просвещения, в 1905 году, была организована врачебно-санитарная часть учебных заведения и издана «Инструкция и наставления по врачебно-санитарной части учебных заведений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32 году был разработан режим дня школьников, предложены примерные нормы продолжительности домашних зад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33 году правительство России впервые выделило в числе задач школы - ответственность педагогов за здоровье детей и их гигиеническое воспитание и расширило обязанности школьного врач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108000" y="333360"/>
            <a:ext cx="8874000" cy="619128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40464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spcBef>
                <a:spcPts val="601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С 1937 года функции школьного врача были переданы участковому педиатру, и школа потеряла специалистов, только начавших совместную работу с педагогами по нормализации учебной нагрузки и охране здоровья школь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spcBef>
                <a:spcPts val="601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С 1945 года в школах вновь появились врач и медсестра, были уточнены их задачи, виды их рабо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spcBef>
                <a:spcPts val="601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В 50-е годы появились новые задачи охраны и укрепления здоровья и новые проблемы научных исследований, связанные с массовым развитием детского спорта, проведением детских соревнований (спартакиад), открытием детских спортивных шко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spcBef>
                <a:spcPts val="601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В середине 90-х годов ХХ века возникли предпосылки для разработки концепции здоровьесберегающей школы, реализующей комплексный подход к сохранению и укреплению здоровья школь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108000" y="1773360"/>
            <a:ext cx="8785080" cy="446400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принципы здоровьесбере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1989000"/>
            <a:ext cx="8640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Не навреди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бота о здоровье учителя и ребенка в приоритет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ерыв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ответствие содержания обучения возраст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пех порождает успе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стве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108000" y="2781360"/>
            <a:ext cx="8874000" cy="324000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3720" y="404280"/>
            <a:ext cx="7756560" cy="10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ть здоровьесберегающих технолог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2247480"/>
            <a:ext cx="87854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spcBef>
                <a:spcPts val="799"/>
              </a:spcBef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формирование у школьников основ валеологической культуры, т.е. научить их самостоятельно заботиться о своем здоровь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spcBef>
                <a:spcPts val="799"/>
              </a:spcBef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организация образовательного процесса в школе без негативного влияния на здоровье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108000" y="1700280"/>
            <a:ext cx="8874000" cy="496872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пользование здорьесберегающих технологий решает целый ряд задач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1989000"/>
            <a:ext cx="90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закладывание фундамента хорошего физического здоровь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повышение уровня психического и социального здоровья воспитанников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проведение профилактической оздоровительной работы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ознакомление дошкольников с принципами ведения здорового образа жизн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мотивация детей на здоровый образ жизн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формирование полезных привычек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формирование валеологических навыков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формирование осознанной потребности в регулярных занятиях физкультурой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воспитание ценностного отношения к своему здоровь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755640" y="1989000"/>
            <a:ext cx="7561440" cy="295272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000" y="311040"/>
            <a:ext cx="84960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ассификация здоровьесберегающих технолог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87560" y="1622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дико-профилактическ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зкультурно-оздоровительны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леологическое образование родител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леологическое просвещение педагог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оровьесберегающее образование дет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1655640" y="1413000"/>
            <a:ext cx="5832720" cy="518472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ды игровых технологи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47280" y="1577520"/>
            <a:ext cx="8434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тренняя гимнасти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альчиковая гимнасти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ыхательная гимнасти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вижные игры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лаксац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момассаж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инамическая пауз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имнастика для гла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0T11:29:54Z</dcterms:created>
  <dc:creator>Пользователь Windows</dc:creator>
  <dc:description/>
  <dc:language>en-US</dc:language>
  <cp:lastModifiedBy>Aleksey</cp:lastModifiedBy>
  <dcterms:modified xsi:type="dcterms:W3CDTF">2019-05-21T14:37:35Z</dcterms:modified>
  <cp:revision>9</cp:revision>
  <dc:subject/>
  <dc:title>Здоровьесберегающие технологии</dc:title>
</cp:coreProperties>
</file>