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43F-6373-432E-B92B-B416D502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8EF-4346-475E-ACF4-E7D0116B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C68-95A1-483D-9FCF-045963A1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E25-55E5-4077-ABDB-E4507010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BE9-152B-4EDD-849E-5902D01F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70C-A4E5-42A5-A5BD-0AE0D77A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CD7-E2E2-46E9-A0AC-09433B30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E03-7D4A-4DCF-8337-D7674E45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1AB-97AA-4279-BC31-C23C53CE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558-CD69-471F-B995-9481A8D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157-3B30-490D-A737-4C7FDD2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171-2C7C-4CF8-94BD-7AAD6D1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235C-EE08-4D4C-9876-1A8F1998B388}" type="slidenum">
              <a:rPr b="0" lang="ru-RU" sz="1200" spc="-1" strike="noStrike">
                <a:solidFill>
                  <a:srgbClr val="89898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вал 5"/>
          <p:cNvSpPr/>
          <p:nvPr/>
        </p:nvSpPr>
        <p:spPr>
          <a:xfrm>
            <a:off x="4427640" y="5157720"/>
            <a:ext cx="4321080" cy="162108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190440" y="620640"/>
            <a:ext cx="8713800" cy="3960720"/>
          </a:xfrm>
          <a:prstGeom prst="ellipse">
            <a:avLst/>
          </a:prstGeom>
          <a:solidFill>
            <a:srgbClr val="c4bd97">
              <a:alpha val="47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989840" cy="21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ьесберегающие технолог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427280" y="5373360"/>
            <a:ext cx="43527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ловьева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140360" y="1413000"/>
            <a:ext cx="4535280" cy="3528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33440" y="1700280"/>
            <a:ext cx="3556080" cy="4860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720" y="1523880"/>
            <a:ext cx="4556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оначальником понятия здоровье-сберегающей технологии ст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ита Константинович Смир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60481" t="25761" r="8980" b="13344"/>
          <a:stretch/>
        </p:blipFill>
        <p:spPr>
          <a:xfrm>
            <a:off x="146160" y="777960"/>
            <a:ext cx="35557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08000" y="1341360"/>
            <a:ext cx="8874000" cy="532764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9000" y="7560"/>
            <a:ext cx="8929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рия развития здорор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1483920"/>
            <a:ext cx="892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ы концепции здоровьесбережения в России были заложены в 1904 г., на съезде Российских врач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истерстве народного просвещения, в 1905 году, была организована врачебно-санитарная часть учебных заведения и издана «Инструкция и наставления по врачебно-санитарной части учебных заведений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2 году был разработан режим дня школьников, предложены примерные нормы продолжительности домашних за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3 году правительство России впервые выделило в числе задач школы - ответственность педагогов за здоровье детей и их гигиеническое воспитание и расширило обязанности школьного вра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08000" y="333360"/>
            <a:ext cx="8874000" cy="619128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40464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 1937 года функции школьного врача были переданы участковому педиатру, и школа потеряла специалистов, только начавших совместную работу с педагогами по нормализации учебной нагрузки и охране здоровья 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С 1945 года в школах вновь появились врач и медсестра, были уточнены их задачи, виды их рабо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В 50-е годы появились новые задачи охраны и укрепления здоровья и новые проблемы научных исследований, связанные с массовым развитием детского спорта, проведением детских соревнований (спартакиад), открытием детских спортивных шк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0280" indent="-350280">
              <a:spcBef>
                <a:spcPts val="601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В середине 90-х годов ХХ века возникли предпосылки для разработки концепции здоровьесберегающей школы, реализующей комплексный подход к сохранению и укреплению здоровья школь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08000" y="1773360"/>
            <a:ext cx="8785080" cy="446400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инципы здоровьесбере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98900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Не навред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 о здоровье учителя и ребенка в приорит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ерыв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ветствие содержания обучения возрас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порождает успе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стве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08000" y="2781360"/>
            <a:ext cx="8874000" cy="324000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5656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ть здоров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2247480"/>
            <a:ext cx="878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spcBef>
                <a:spcPts val="799"/>
              </a:spcBef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формирование у школьников основ валеологической культуры, т.е. научить их самостоятельно заботиться о своем здоровь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spcBef>
                <a:spcPts val="799"/>
              </a:spcBef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организация образовательного процесса в школе без негативного влияния на здоровье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108000" y="1700280"/>
            <a:ext cx="8874000" cy="4968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пользование здорьесберегающих технологий решает целый ряд задач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989000"/>
            <a:ext cx="90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закладывание фундамента хорошего физического здоровь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повышение уровня психического и социального здоровья воспитаннико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проведение профилактической оздоровительной работ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ознакомление дошкольников с принципами ведения здорового образа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мотивация детей на здоровый образ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формирование полезных привычек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формирование валеологических навыко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формирование осознанной потребности в регулярных занятиях физкультуро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воспитание ценностного отношения к своему здоровь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755640" y="1989000"/>
            <a:ext cx="7561440" cy="2952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000" y="311040"/>
            <a:ext cx="84960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ассификация здоров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87560" y="162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ко-профилактическ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зкультурно-оздоровитель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леологическое образование род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леологическое просвещение педагог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оровьесберегающее образование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D:\!Рабочий стол\depositphotos_79525488-stock-illustration-education-seamless-background-vector.jpg"/>
          <p:cNvPicPr/>
          <p:nvPr/>
        </p:nvPicPr>
        <p:blipFill>
          <a:blip r:embed="rId1"/>
          <a:srcRect l="0" t="2499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1655640" y="1413000"/>
            <a:ext cx="5832720" cy="5184720"/>
          </a:xfrm>
          <a:prstGeom prst="rect">
            <a:avLst/>
          </a:prstGeom>
          <a:solidFill>
            <a:srgbClr val="c4bd97">
              <a:alpha val="4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игровых технолог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47280" y="1577520"/>
            <a:ext cx="8434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тренняя гимнаст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льчиковая гимнаст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ыхательная гимнасти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вижные игр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лаксац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момассаж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намическая пауз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1:29:54Z</dcterms:created>
  <dc:creator>Пользователь Windows</dc:creator>
  <dc:description/>
  <dc:language>en-US</dc:language>
  <cp:lastModifiedBy>Aleksey</cp:lastModifiedBy>
  <dcterms:modified xsi:type="dcterms:W3CDTF">2019-05-21T14:37:35Z</dcterms:modified>
  <cp:revision>9</cp:revision>
  <dc:subject/>
  <dc:title>Здоровьесберегающие технологии</dc:title>
</cp:coreProperties>
</file>