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918-7667-4FA5-B4A2-38A5042B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C9C-D4D7-495E-AFF4-A3565C6E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E08-AF6B-469F-9680-73FFC94E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909-0F85-4824-84A2-3E771F25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D5C2-37DA-4848-AA85-A3399D19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B49A-C154-40FC-90BE-CC4D26E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0560-0FBB-42E2-8172-2484260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92D6-B228-413A-9A8D-D6297EB4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3D26-8398-449C-98E7-505C20E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F9EB-0695-46D9-A73D-84AF9A4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D162-58E1-44D8-B569-150818B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ED7-6A8D-4F73-BC50-2B9F0F3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CC82-7E8D-4E9F-98CA-DD0343B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0EF-48F1-4EDE-B3F7-9CF19BE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723-D145-4ED0-9BEF-40868FB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377-6952-4964-9DBB-68B07B30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C2FC-0807-42EE-AF76-8F6F52A9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4305C-8D80-47B6-A40E-4E7CB4CB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6C093-5723-41A6-82A4-6260DE9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79AF7-BA9D-4784-9945-B1FEA1EC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06DB5-B4FA-40CC-83E5-C45B25A6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33721-9D79-42DB-BFA0-2D57C77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C30-9D6A-438A-A09C-BB4F6F96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7794D-A0E2-4E44-9276-F7A9ADBD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742A8-F02C-4BE9-80F5-F264B43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56CDA-6071-40A7-9AAC-EBBCEE8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0DCBD-5EEA-4DCE-9714-3959660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E544F-72AA-43B8-8FED-91C03AD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8F721-9348-4CB1-B96E-92C180BD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4A04D-38D5-47EF-AF39-5185D507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5626-494E-4E91-91FC-9DC1C54D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DE42-AA86-4246-9574-9CB9772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03B9-D8CB-48AA-B625-23AADB1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95F-61CB-477E-9156-4AC928EC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E698-794E-4D47-A4B8-BC69371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6E61-37AF-4610-B7B3-D6B19F3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E3D9-A847-4666-804F-9707E57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EAA0-0D1D-418D-8D46-32317D8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A195-07B4-42D8-9559-37565FF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5348-F046-4CED-B107-43E9C7D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F06A-29AC-4A70-9D94-AA999BA9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7317-BC25-4C3B-8022-78E76156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1FF2-73FD-45C1-BA83-92970160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B3877-0260-4751-B77B-4443B610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438-45C7-48AD-9FD0-F69FC94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2EC5B-D1D0-4B20-8341-9439339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5CF9B-AB7A-4ED2-B5E2-495795F7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E34BF-5753-4A79-B09C-9266335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19711-7EC0-4CA2-A81F-E9C35857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DE4FC-0F2C-4FC5-BE63-3DD307C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2CACE-7288-4238-8EAB-48EC4DB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1EF8D-E079-41B7-ACA6-226BBDE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9646E-A604-4A85-926A-52BBF86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7A611-193E-4204-90C7-1C96C22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5B81D-AD6B-4D6C-A7FE-B958880E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DAB-6D97-4DEE-97E4-EFF3B85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6D431-EC9F-4677-B60E-E44ED4DA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067ED-8717-439D-A8C7-A70A9A0B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CA6B6-3BE1-49C9-A70C-F626CD8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EA1A9-5264-42D1-A73E-EFFCC189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DBA4CD-4A77-4B27-AE89-69B4B1D1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1A589-FEB6-47CB-A538-877577EF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CC5A1-01FF-4857-BB41-5AFA908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0D97A-A132-4CF1-A96D-0BF8CE6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D3761-2CE0-4E4A-ABE6-9E3A054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A675D-43DA-4CF5-BEE3-3F9BE52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F9B-473E-4181-AD4A-B8671D7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EED98-F7FD-4501-9BF5-DE01EA5B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020C0-4A8E-46B0-8DA7-E154BC85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38779-2030-49A8-83D1-35227A02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FB1F8-2A13-4B04-92D4-49AB361A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D34CB-75A0-43A2-881F-DA75F0C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51234-3AA4-461F-8E2D-A98695E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9FD9A-6F35-4B5A-899E-B718696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F3439-BE63-4F5C-B3BC-DA9F764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0ACD5-A9ED-44A7-9514-02302E8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60E53-5505-4968-B789-4A663B6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43A-E6FC-4EBD-A26B-D74C4F0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92F90-70F0-4616-B3F0-19E14922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35B0D-51C6-4FDB-89AD-8E75A01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77477-8ECB-44BF-8161-296DA19D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52DB2-6687-4381-8E80-01A08948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D1893F-732B-44AF-967B-3A2E6E1A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CF2-37D5-486F-8C4C-ED2313B9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936-D2AE-431D-80D1-3DABC706A2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5F5-25F6-41B7-BAC8-8682808C68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CCCC-EC71-43CB-9D5C-097EB77E29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938-225B-47DB-90B2-C2E5CA054B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E278-D9CA-4C31-BD58-CBF7CABEBDA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7BF-C65D-41EB-8683-CBC15AFA03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3D79-267B-4D6C-B75F-2056A3FDE9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e75c01"/>
                </a:solidFill>
                <a:latin typeface="Monotype Corsiva"/>
              </a:rPr>
              <a:t>БАСКЕТБОЛ 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2999880"/>
            <a:ext cx="66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5c01"/>
                </a:solidFill>
                <a:latin typeface="Century Schoolbook"/>
              </a:rPr>
              <a:t>Тема: </a:t>
            </a:r>
            <a:r>
              <a:rPr b="1" lang="ru-RU" sz="5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омандная                                  защита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75c01"/>
                </a:solidFill>
                <a:latin typeface="Monotype Corsiva"/>
              </a:rPr>
              <a:t>ОСНОВНЫЕ ПРИНЦИПЫ ДЛЯ РАЗРАБОТКИ ПЛАНА ТРЕНИРОВК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нападении - быстрый прорыв, броски, основные навыки, игра центрового, подборы мяча и командное нападение 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защите – переход к защите, основные навыки, действия против игрока с мячом, действия против игрока без мяча, переход  от действий против игрока с мячом к действиям против игрока без мяча, и наоборот, заслоны, ловушки, подборы в защите, командная защит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вящайте 60% - нападению, 40 % - защит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нируйте базовые навыки на каждой тренировке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нируйте броски с игры и штрафные броски на каждой тренировке 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редуйте сложные и простые упражнения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ъясняйте каждый день по одному правилу баскетбола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«</a:t>
            </a: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КОМАНДНАЯ ЗАЩИТА И ВЛАДЕНИЕ МЯЧОМ – КРАЕУГОЛЬНЫЕ КАМНИ УСПЕХА».    </a:t>
            </a:r>
            <a:r>
              <a:rPr b="1" i="1" lang="ru-RU" sz="1600" spc="-1" strike="noStrike">
                <a:solidFill>
                  <a:srgbClr val="575f6d"/>
                </a:solidFill>
                <a:latin typeface="Century Schoolbook"/>
              </a:rPr>
              <a:t>ГЕНРИ «ХЕНК» АЙБА, ШТАТ ОКЛАХОМА, ТРЕНЕР КОМАНДЫ-ЧЕМПИОНА ОЛИМПИЙСКИХ ИГР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гра в защите – это скорее умственный, нежели физический навык. Игроков нужно поддерживать в их стремлении предложить сопернику свою активность, а не только противодействовать ему. Защитники заведомо находятся в менее выгодной позиции, чем нападающие. Одним из способов преодоления этого преимущества является использование правила, что действие обычно быстрее противодействия. Это можно сделать, владея 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ношением к игр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мандной работой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струментами защиты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видением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онцентрацией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хранением стойк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84200" y="1606680"/>
          <a:ext cx="7412040" cy="4890960"/>
        </p:xfrm>
        <a:graphic>
          <a:graphicData uri="http://schemas.openxmlformats.org/drawingml/2006/table">
            <a:tbl>
              <a:tblPr/>
              <a:tblGrid>
                <a:gridCol w="7412040"/>
              </a:tblGrid>
              <a:tr h="48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ЦЕННАЯ ИНФОРМАЦИЯ: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7510320" cy="49086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КАТЕГОРИИ ЗАЩИТ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7566120" cy="4930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ЗОННАЯ ЗАЩИТА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 мячом на фланг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86160" y="157176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С мячом в углу передовой зоны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Таблица 4" descr=""/>
          <p:cNvPicPr/>
          <p:nvPr/>
        </p:nvPicPr>
        <p:blipFill>
          <a:blip r:embed="rId1"/>
          <a:stretch/>
        </p:blipFill>
        <p:spPr>
          <a:xfrm>
            <a:off x="566640" y="2127240"/>
            <a:ext cx="3346560" cy="372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4" name=""/>
          <p:cNvGraphicFramePr/>
          <p:nvPr/>
        </p:nvGraphicFramePr>
        <p:xfrm>
          <a:off x="4475160" y="2230560"/>
          <a:ext cx="3241800" cy="3519360"/>
        </p:xfrm>
        <a:graphic>
          <a:graphicData uri="http://schemas.openxmlformats.org/drawingml/2006/table">
            <a:tbl>
              <a:tblPr/>
              <a:tblGrid>
                <a:gridCol w="3241800"/>
              </a:tblGrid>
              <a:tr h="35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Рисунок 6" descr=""/>
          <p:cNvPicPr/>
          <p:nvPr/>
        </p:nvPicPr>
        <p:blipFill>
          <a:blip r:embed="rId2"/>
          <a:stretch/>
        </p:blipFill>
        <p:spPr>
          <a:xfrm>
            <a:off x="4500720" y="2214720"/>
            <a:ext cx="3214440" cy="35715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7" descr=""/>
          <p:cNvPicPr/>
          <p:nvPr/>
        </p:nvPicPr>
        <p:blipFill>
          <a:blip r:embed="rId3"/>
          <a:stretch/>
        </p:blipFill>
        <p:spPr>
          <a:xfrm>
            <a:off x="642960" y="2214720"/>
            <a:ext cx="3214800" cy="35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ЗАЩИТА ПРЕССИНГОМ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760" y="157176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овушки в углах: рядом со средней линией пол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овушки в углах: рядом с лицевой лини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68440" y="2286000"/>
          <a:ext cx="3352680" cy="34639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4419720" y="2286000"/>
          <a:ext cx="3367080" cy="3408480"/>
        </p:xfrm>
        <a:graphic>
          <a:graphicData uri="http://schemas.openxmlformats.org/drawingml/2006/table">
            <a:tbl>
              <a:tblPr/>
              <a:tblGrid>
                <a:gridCol w="3367080"/>
              </a:tblGrid>
              <a:tr h="34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2" name="Picture 2" descr="H:\Форостянка\Изображение1 003.tif"/>
          <p:cNvPicPr/>
          <p:nvPr/>
        </p:nvPicPr>
        <p:blipFill>
          <a:blip r:embed="rId1"/>
          <a:stretch/>
        </p:blipFill>
        <p:spPr>
          <a:xfrm>
            <a:off x="642960" y="2286000"/>
            <a:ext cx="328608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:\Форостянка\Копия Изображение1 003.tif"/>
          <p:cNvPicPr/>
          <p:nvPr/>
        </p:nvPicPr>
        <p:blipFill>
          <a:blip r:embed="rId2"/>
          <a:stretch/>
        </p:blipFill>
        <p:spPr>
          <a:xfrm>
            <a:off x="4483080" y="2286000"/>
            <a:ext cx="3232080" cy="335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e75c01"/>
                </a:solidFill>
                <a:latin typeface="Monotype Corsiva"/>
              </a:rPr>
              <a:t>КОМБИНИРОВАННАЯ ЗАЩИТ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lvl="4" marL="1461960" indent="-182520">
              <a:spcBef>
                <a:spcPts val="34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мбинированная защита «ромб и од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598d9"/>
            </a:solidFill>
            <a:miter/>
          </a:ln>
        </p:spPr>
        <p:txBody>
          <a:bodyPr anchor="t">
            <a:normAutofit/>
          </a:bodyPr>
          <a:p>
            <a:pPr lvl="2" marL="914400" indent="-182520">
              <a:spcBef>
                <a:spcPts val="34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омбинированная защита «квадрат и од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36480" y="2230560"/>
          <a:ext cx="3283200" cy="3630600"/>
        </p:xfrm>
        <a:graphic>
          <a:graphicData uri="http://schemas.openxmlformats.org/drawingml/2006/table">
            <a:tbl>
              <a:tblPr/>
              <a:tblGrid>
                <a:gridCol w="3283200"/>
              </a:tblGrid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4378320" y="2286000"/>
          <a:ext cx="3379680" cy="3505320"/>
        </p:xfrm>
        <a:graphic>
          <a:graphicData uri="http://schemas.openxmlformats.org/drawingml/2006/table">
            <a:tbl>
              <a:tblPr/>
              <a:tblGrid>
                <a:gridCol w="337968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6" descr=""/>
          <p:cNvPicPr/>
          <p:nvPr/>
        </p:nvPicPr>
        <p:blipFill>
          <a:blip r:embed="rId1"/>
          <a:stretch/>
        </p:blipFill>
        <p:spPr>
          <a:xfrm>
            <a:off x="4429080" y="2286000"/>
            <a:ext cx="3357720" cy="3643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:\Форостянка\Изображение1 002.tif"/>
          <p:cNvPicPr/>
          <p:nvPr/>
        </p:nvPicPr>
        <p:blipFill>
          <a:blip r:embed="rId2"/>
          <a:stretch/>
        </p:blipFill>
        <p:spPr>
          <a:xfrm>
            <a:off x="642960" y="2214720"/>
            <a:ext cx="3286080" cy="36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75c01"/>
                </a:solidFill>
                <a:latin typeface="Monotype Corsiva"/>
              </a:rPr>
              <a:t>КОНТРОЛЬНЫЙ ПЕРЕЧЕНЬ СОСТОЯНИЯ КОМАНДНОЙ ЗАЩИТ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760" y="164304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разработка основных принципов командного нападения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разработка основных принципов командной защи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основные защитные навык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стойки и шаг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отив игрока с мячом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щита против игрока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закрывание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переход от противодействия игроку с мячом к противодействию игроку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отив центрового игро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слоны против игрока с мячо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слоны против игрока без мяч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двойные заслон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защитная ата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рессинг броск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подбор в защите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команд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«игрок против игрока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он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комбинированная защита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уровни защиты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зонным прессингом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и выбрасывании мяча из-за лицевой лини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 защита при выбрасывании мяча из-за боковой лин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*защита при выполнении штрафных бросков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Monotype Corsiva"/>
              </a:rPr>
              <a:t>УПРАЖНЕНИЯ ДЛЯ ТРЕНИРОВКИ КОМАНДНОЙ ЗАЩИТ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ойка при перемещениях и шаг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я в колоннах – индивидуальная защит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рывания в игре «один на один», «два на два», «три на три», «четыре на четыре»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ход от противодействия игроку с мячом к противодействию игроку без мяча в игре «два на два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щитные скользящие шаги – стойка в движении и ша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9:42Z</dcterms:created>
  <dc:creator>Елена Михайловна</dc:creator>
  <dc:description/>
  <dc:language>en-US</dc:language>
  <cp:lastModifiedBy>Нюша</cp:lastModifiedBy>
  <dcterms:modified xsi:type="dcterms:W3CDTF">2009-11-18T16:08:40Z</dcterms:modified>
  <cp:revision>33</cp:revision>
  <dc:subject/>
  <dc:title>Баскетбол </dc:title>
</cp:coreProperties>
</file>