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9F6-3131-4C6F-8FEC-9D848A9A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B88-AB94-4AE1-93CA-CD05ACDC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70F-F545-42DF-983A-11C5DE02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4AA-C17C-403D-AF43-EAF8839B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44A6-CCE2-4E24-BA13-80CB3E9A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A8DB-CD07-4F0B-8351-C71EC8DD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FA0B-C214-4AAF-9E96-9BE3E21C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00F7-FEB9-4984-83FB-1229B6BF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A2C7-EE67-4A51-BD56-41F334FC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D36A-EC8A-4ADE-B6FF-ED96BD26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97E2-32F6-4BD9-8FF2-85C69ACD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54C-67FC-4268-99D1-E06A1CA4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0DBD-6962-4704-AD05-DF712175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CE83-1020-42BF-8E24-ADEF0A96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F7FF-3106-44F1-8141-BF54A3E8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CB3A-AD57-4667-8E06-D8B0734F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4F55-61CD-412E-95D7-3AD4B35C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7D592-8966-4812-91E5-43FCB568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6A7BC-4EB5-4CE0-87E8-2BC1715F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DBFA1-01BD-48CC-ACAC-FE46AC49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3C031-A6EA-4C08-B828-B0FC3920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362BD-AD60-4426-AE52-91D3E24C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7D3-7A6A-44B4-B045-EC8A14C3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149A2-43DD-4BFF-8809-510B13BF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F958D-A67A-427E-9D44-A19BC2C2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89D5D-B7C3-4205-A16F-8CDFB414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BF4A9-9D16-4A99-84D4-1CB0F53A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B87BE-6164-4A9C-9E9E-D1BFEB82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F6B4D-A81E-46BC-B6B2-5A3EB224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1FD15-EAA0-418C-83AC-503F5C11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DFF9-6506-46C6-B2AF-E8C9A4DF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FED83-C089-476D-B400-B391B94A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D8DE0-14F4-4902-80EC-F185D950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57B-0FC6-4D89-865E-938E171F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F952-FC72-4B43-8FC3-3A2F5FCC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F2087-7D82-4F3F-AA09-ED94A7F5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4D395-EB64-45E1-BE7B-7F6BEC58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4F594-F8D4-4244-9FE4-3B044B9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D3895-0AE5-4FFC-85B5-A0FF8FA0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7B6F-7825-409C-8066-D8EA13A8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627A-7CA7-4E45-A28A-3939C4F6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376A1-BCE9-4D93-844A-A627A912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C216-8FAC-47B6-874E-86FA1C29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EF86F-E8A7-444E-9B91-59FAD242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8BC-7BA4-49BD-9811-661BB4A3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A85DC-DB4E-42DF-8F3E-1296A26C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7B048-29B8-44E1-BDF7-0879E219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23C8F-68BF-43DD-A530-37F1A902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CAB54-3CCC-4D63-B8DA-EA0BAFB2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D2E245-CA61-4759-B86E-61ECEB74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A9BA0-7EBD-43EF-A7F6-6FBD607F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342D4-D027-44A0-A5EE-B072D9F0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21A65-017B-4593-BB3F-3DBFCD5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691A0-7384-477C-803E-369A2DA5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1CE5A-2118-4C99-996A-9462698F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AB7-6DEA-43AF-926B-B26EFF00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67C4B-FC80-456B-A025-2A3169D5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5CAAEC-4B0B-4643-8315-FFD6024F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FB1BA-186E-41FA-AEC7-3C29607E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3D9B3-EC30-4491-BF9B-678C75E0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A70F1-F42F-4B90-AE13-F3645149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B269E-3F05-42AD-B476-141B6AA9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71920-E13F-4FFD-9B6A-2CF1BAFE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B2129-D278-419F-AB7F-CF3603E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EF579-F518-4794-9199-6840ACAA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A4155-D284-48CC-95BA-1FDB458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07A-EF43-48B3-B559-B819DD10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CB4ED-B308-4EBC-B00F-E57D6A57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209E6-69B2-4F2E-B1F5-0FA01D16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B8571-E342-4780-97C2-ED54617B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743F1-F406-4A6A-8904-18FD209E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2FEFF-535D-4440-9B92-C7A4A0D0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4D42F-D3A8-4231-8E65-22748C6C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37BA71-291D-4815-9184-6E163219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3709F-C95D-447B-B584-D9378515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486E4-1926-46DB-BE35-0C77379F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FFDEC-B3FE-476E-BAD3-992D183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172-36FA-48C3-A9C0-CE0E07E1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2F2D2-2BE3-4323-A317-939220F7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D2570-4FBB-463A-B2FF-35EEAB99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BDDB14-6DCD-41F4-8E0A-DC01B9C9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CB8E8-AD14-4875-AE6B-48BD34F0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0087A-255E-4F79-86C3-62CBBB89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A4E-C537-43A6-9D7D-9DE5F4FA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CAD3-EB1C-42B5-8B09-0DFFDAF0FA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C83E-85D9-4FFC-BAA2-1F4C875D754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A708-4383-4988-8D7B-E686CEB46D8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3CB2-6DBC-4E30-BF93-8130F2E342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9A67-ED4D-44E0-971A-6663780978A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4224-1307-4402-82E8-1CE9E24BB5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4CD6-C690-44C3-85E9-FA71B3519A3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e75c01"/>
                </a:solidFill>
                <a:latin typeface="Monotype Corsiva"/>
              </a:rPr>
              <a:t>БАСКЕТБОЛ 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99840" y="2999880"/>
            <a:ext cx="66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5c01"/>
                </a:solidFill>
                <a:latin typeface="Century Schoolbook"/>
              </a:rPr>
              <a:t>Тема: </a:t>
            </a:r>
            <a:r>
              <a:rPr b="1" lang="ru-RU" sz="5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Командная                                  защита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Monotype Corsiva"/>
              </a:rPr>
              <a:t>ОСНОВНЫЕ ПРИНЦИПЫ ДЛЯ РАЗРАБОТКИ ПЛАНА ТРЕНИРОВК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нападении - быстрый прорыв, броски, основные навыки, игра центрового, подборы мяча и командное нападение 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защите – переход к защите, основные навыки, действия против игрока с мячом, действия против игрока без мяча, переход  от действий против игрока с мячом к действиям против игрока без мяча, и наоборот, заслоны, ловушки, подборы в защите, командная защит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свящайте 60% - нападению, 40 % - защите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нируйте базовые навыки на каждой тренировке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нируйте броски с игры и штрафные броски на каждой тренировке 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редуйте сложные и простые упражнения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ъясняйте каждый день по одному правилу баскетбола.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«</a:t>
            </a: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КОМАНДНАЯ ЗАЩИТА И ВЛАДЕНИЕ МЯЧОМ – КРАЕУГОЛЬНЫЕ КАМНИ УСПЕХА».    </a:t>
            </a:r>
            <a:r>
              <a:rPr b="1" i="1" lang="ru-RU" sz="1600" spc="-1" strike="noStrike">
                <a:solidFill>
                  <a:srgbClr val="575f6d"/>
                </a:solidFill>
                <a:latin typeface="Century Schoolbook"/>
              </a:rPr>
              <a:t>ГЕНРИ «ХЕНК» АЙБА, ШТАТ ОКЛАХОМА, ТРЕНЕР КОМАНДЫ-ЧЕМПИОНА ОЛИМПИЙСКИХ ИГР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гра в защите – это скорее умственный, нежели физический навык. Игроков нужно поддерживать в их стремлении предложить сопернику свою активность, а не только противодействовать ему. Защитники заведомо находятся в менее выгодной позиции, чем нападающие. Одним из способов преодоления этого преимущества является использование правила, что действие обычно быстрее противодействия. Это можно сделать, владея 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тношением к игр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омандной работой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струментами защиты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двидением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онцентрацией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хранением стойк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84200" y="1606680"/>
          <a:ext cx="7412040" cy="4890960"/>
        </p:xfrm>
        <a:graphic>
          <a:graphicData uri="http://schemas.openxmlformats.org/drawingml/2006/table">
            <a:tbl>
              <a:tblPr/>
              <a:tblGrid>
                <a:gridCol w="7412040"/>
              </a:tblGrid>
              <a:tr h="48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5c01"/>
                </a:solidFill>
                <a:latin typeface="Monotype Corsiva"/>
              </a:rPr>
              <a:t>ЦЕННАЯ ИНФОРМАЦИЯ: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7510320" cy="49086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5c01"/>
                </a:solidFill>
                <a:latin typeface="Monotype Corsiva"/>
              </a:rPr>
              <a:t>КАТЕГОРИИ ЗАЩИТЫ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7566120" cy="4930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5c01"/>
                </a:solidFill>
                <a:latin typeface="Monotype Corsiva"/>
              </a:rPr>
              <a:t>ЗОННАЯ ЗАЩИТА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 мячом на фланге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86160" y="157176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 мячом в углу передовой зоны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Таблица 4" descr=""/>
          <p:cNvPicPr/>
          <p:nvPr/>
        </p:nvPicPr>
        <p:blipFill>
          <a:blip r:embed="rId1"/>
          <a:stretch/>
        </p:blipFill>
        <p:spPr>
          <a:xfrm>
            <a:off x="566640" y="2127240"/>
            <a:ext cx="3346560" cy="372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4" name=""/>
          <p:cNvGraphicFramePr/>
          <p:nvPr/>
        </p:nvGraphicFramePr>
        <p:xfrm>
          <a:off x="4475160" y="2230560"/>
          <a:ext cx="3241800" cy="3519360"/>
        </p:xfrm>
        <a:graphic>
          <a:graphicData uri="http://schemas.openxmlformats.org/drawingml/2006/table">
            <a:tbl>
              <a:tblPr/>
              <a:tblGrid>
                <a:gridCol w="3241800"/>
              </a:tblGrid>
              <a:tr h="35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5" name="Рисунок 6" descr=""/>
          <p:cNvPicPr/>
          <p:nvPr/>
        </p:nvPicPr>
        <p:blipFill>
          <a:blip r:embed="rId2"/>
          <a:stretch/>
        </p:blipFill>
        <p:spPr>
          <a:xfrm>
            <a:off x="4500720" y="2214720"/>
            <a:ext cx="3214440" cy="357156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7" descr=""/>
          <p:cNvPicPr/>
          <p:nvPr/>
        </p:nvPicPr>
        <p:blipFill>
          <a:blip r:embed="rId3"/>
          <a:stretch/>
        </p:blipFill>
        <p:spPr>
          <a:xfrm>
            <a:off x="642960" y="2214720"/>
            <a:ext cx="3214800" cy="35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5c01"/>
                </a:solidFill>
                <a:latin typeface="Monotype Corsiva"/>
              </a:rPr>
              <a:t>ЗАЩИТА ПРЕССИНГОМ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8760" y="157176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Ловушки в углах: рядом со средней линией поля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Ловушки в углах: рядом с лицевой лини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68440" y="2286000"/>
          <a:ext cx="3352680" cy="346392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34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4419720" y="2286000"/>
          <a:ext cx="3367080" cy="3408480"/>
        </p:xfrm>
        <a:graphic>
          <a:graphicData uri="http://schemas.openxmlformats.org/drawingml/2006/table">
            <a:tbl>
              <a:tblPr/>
              <a:tblGrid>
                <a:gridCol w="3367080"/>
              </a:tblGrid>
              <a:tr h="34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2" name="Picture 2" descr="H:\Форостянка\Изображение1 003.tif"/>
          <p:cNvPicPr/>
          <p:nvPr/>
        </p:nvPicPr>
        <p:blipFill>
          <a:blip r:embed="rId1"/>
          <a:stretch/>
        </p:blipFill>
        <p:spPr>
          <a:xfrm>
            <a:off x="642960" y="2286000"/>
            <a:ext cx="3286080" cy="3429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H:\Форостянка\Копия Изображение1 003.tif"/>
          <p:cNvPicPr/>
          <p:nvPr/>
        </p:nvPicPr>
        <p:blipFill>
          <a:blip r:embed="rId2"/>
          <a:stretch/>
        </p:blipFill>
        <p:spPr>
          <a:xfrm>
            <a:off x="4483080" y="2286000"/>
            <a:ext cx="3232080" cy="335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114300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4400" spc="-1" strike="noStrike">
                <a:solidFill>
                  <a:srgbClr val="e75c01"/>
                </a:solidFill>
                <a:latin typeface="Monotype Corsiva"/>
              </a:rPr>
              <a:t>КОМБИНИРОВАННАЯ ЗАЩИТ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txBody>
          <a:bodyPr anchor="t">
            <a:normAutofit/>
          </a:bodyPr>
          <a:p>
            <a:pPr lvl="4" marL="1461960" indent="-182520">
              <a:spcBef>
                <a:spcPts val="34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омбинированная защита «ромб и один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txBody>
          <a:bodyPr anchor="t">
            <a:normAutofit/>
          </a:bodyPr>
          <a:p>
            <a:pPr lvl="2" marL="914400" indent="-18252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омбинированная защита «квадрат и один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36480" y="2230560"/>
          <a:ext cx="3283200" cy="3630600"/>
        </p:xfrm>
        <a:graphic>
          <a:graphicData uri="http://schemas.openxmlformats.org/drawingml/2006/table">
            <a:tbl>
              <a:tblPr/>
              <a:tblGrid>
                <a:gridCol w="3283200"/>
              </a:tblGrid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4378320" y="2286000"/>
          <a:ext cx="3379680" cy="3505320"/>
        </p:xfrm>
        <a:graphic>
          <a:graphicData uri="http://schemas.openxmlformats.org/drawingml/2006/table">
            <a:tbl>
              <a:tblPr/>
              <a:tblGrid>
                <a:gridCol w="3379680"/>
              </a:tblGrid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9" name="Рисунок 6" descr=""/>
          <p:cNvPicPr/>
          <p:nvPr/>
        </p:nvPicPr>
        <p:blipFill>
          <a:blip r:embed="rId1"/>
          <a:stretch/>
        </p:blipFill>
        <p:spPr>
          <a:xfrm>
            <a:off x="4429080" y="2286000"/>
            <a:ext cx="3357720" cy="3643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:\Форостянка\Изображение1 002.tif"/>
          <p:cNvPicPr/>
          <p:nvPr/>
        </p:nvPicPr>
        <p:blipFill>
          <a:blip r:embed="rId2"/>
          <a:stretch/>
        </p:blipFill>
        <p:spPr>
          <a:xfrm>
            <a:off x="642960" y="2214720"/>
            <a:ext cx="3286080" cy="364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5c01"/>
                </a:solidFill>
                <a:latin typeface="Monotype Corsiva"/>
              </a:rPr>
              <a:t>КОНТРОЛЬНЫЙ ПЕРЕЧЕНЬ СОСТОЯНИЯ КОМАНДНОЙ ЗАЩИТ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28760" y="164304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разработка основных принципов командного нападения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разработка основных принципов командной защиты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основные защитные навык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стойки и шаг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ащита против игрока с мячом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защита против игрока без мяч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ащита закрыванием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переход от противодействия игроку с мячом к противодействию игроку без мяч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ащита против центрового игрок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заслоны против игрока с мячом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заслоны против игрока без мяч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двойные заслон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*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защитная атак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*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рессинг броск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подбор в защите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командная защит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«игрок против игрока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онная защит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комбинированная защит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уровни защиты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ащита зонным прессингом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ащита при выбрасывании мяча из-за лицевой лини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защита при выбрасывании мяча из-за боковой лин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ащита при выполнении штрафных бросков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Monotype Corsiva"/>
              </a:rPr>
              <a:t>УПРАЖНЕНИЯ ДЛЯ ТРЕНИРОВКИ КОМАНДНОЙ ЗАЩИТ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ойка при перемещениях и шаг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ражнения в колоннах – индивидуальная защит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рывания в игре «один на один», «два на два», «три на три», «четыре на четыре»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ход от противодействия игроку с мячом к противодействию игроку без мяча в игре «два на два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щитные скользящие шаги – стойка в движении и ша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8:59:42Z</dcterms:created>
  <dc:creator>Елена Михайловна</dc:creator>
  <dc:description/>
  <dc:language>en-US</dc:language>
  <cp:lastModifiedBy>Нюша</cp:lastModifiedBy>
  <dcterms:modified xsi:type="dcterms:W3CDTF">2009-11-18T16:08:40Z</dcterms:modified>
  <cp:revision>33</cp:revision>
  <dc:subject/>
  <dc:title>Баскетбол </dc:title>
</cp:coreProperties>
</file>