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4F7B-1104-4F51-AA59-65FD08FC06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2A94-FF08-4001-8205-24B7BFF6D0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E6A-1A34-4058-AF7D-E6D8C5DF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323-BF16-4048-A898-55574FD1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778-1647-49BF-9173-4F8A089C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A6B-1FFF-46A0-AA76-22BC3756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F2B-0660-49A7-9EC4-345CAC94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949-7703-472C-8B2D-FE6B8949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EC8-2AE7-4080-9907-3195681F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FEF-A1D9-4A74-9906-74193CC9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A7F-FF1A-4EC8-AD5B-2A8B15EB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EEB-ABB2-4FF4-BA94-FB4E2C7E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747-319E-4F9A-BC17-713F3567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421-D346-4FBA-890B-1F06FD70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CD3E-383A-45E2-A4AF-51C660782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0;&#1072;&#1088;&#1090;&#1072;%20&#1076;&#1080;&#1076;&#1072;&#1082;&#1090;&#1080;&#1095;&#1077;&#1089;&#1082;&#1086;&#1075;&#1086;%20&#1088;&#1077;&#1089;&#1091;&#1088;&#1089;&#1072;%20&#1055;&#1086;&#1089;&#1086;&#1073;&#1080;&#1077;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511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собие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одзаголовок 2" descr=""/>
          <p:cNvPicPr/>
          <p:nvPr/>
        </p:nvPicPr>
        <p:blipFill>
          <a:blip r:embed="rId1"/>
          <a:stretch/>
        </p:blipFill>
        <p:spPr>
          <a:xfrm>
            <a:off x="3535200" y="2852640"/>
            <a:ext cx="5164200" cy="360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395280" y="2724120"/>
            <a:ext cx="3446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Задач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дачи: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ть у детей умение соотносить описание природы в загадках с  определением времени года; развивать слуховое вним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   помощь   поэтического   слова,  показать   красоту разных  месяцеввесны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изировать и обогащать словарь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дснеж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434600"/>
            <a:ext cx="3888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Первым вылез из землицы</a:t>
            </a:r>
            <a:br>
              <a:rPr sz="4000"/>
            </a:b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На проталинке.</a:t>
            </a:r>
            <a:br>
              <a:rPr sz="4000"/>
            </a:b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Он мороза не боится,</a:t>
            </a:r>
            <a:br>
              <a:rPr sz="4000"/>
            </a:b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Хоть и маленький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4511520" y="1484280"/>
            <a:ext cx="32385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есн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Зазвенели ручьи,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прилетели грачи.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В улей пчела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первый мёд принесла.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Кто скажет, кто знает,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когда это бывает?</a:t>
            </a:r>
            <a:r>
              <a:rPr b="0" i="1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37447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осуль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Ледяная, длинная,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Остриё вершинное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Вниз направлено, к земле.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Плачет? – Знать, конец зиме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4753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учеё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В голубенькой рубашке</a:t>
            </a:r>
            <a:br>
              <a:rPr sz="3200"/>
            </a:br>
            <a:r>
              <a:rPr b="0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Бежит по дну овражка.</a:t>
            </a:r>
            <a:r>
              <a:rPr b="0" i="1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4416480" y="150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3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квореч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Новоселье у скворца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Он ликует без конца.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Чтоб у нас жил пересмешник,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Смастерили мы …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686480" y="1268280"/>
            <a:ext cx="38462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тали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467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5a5a5a"/>
                </a:solidFill>
                <a:latin typeface="Georgia"/>
              </a:rPr>
              <a:t>Ой, беда! Ой, бед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5a5a"/>
                </a:solidFill>
                <a:latin typeface="Georgia"/>
              </a:rPr>
              <a:t>Тает снег, кругом в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5a5a"/>
                </a:solidFill>
                <a:latin typeface="Georgia"/>
              </a:rPr>
              <a:t>Не обуешь валенки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5a5a"/>
                </a:solidFill>
                <a:latin typeface="Georgia"/>
              </a:rPr>
              <a:t>На снегу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3672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3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едвед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rebuchet MS"/>
              </a:rPr>
              <a:t>Лапу он свою сосёт,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Trebuchet MS"/>
              </a:rPr>
              <a:t>Спит всю зиму напролёт.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Trebuchet MS"/>
              </a:rPr>
              <a:t>А вот, как придёт весна,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Trebuchet MS"/>
              </a:rPr>
              <a:t>Пробуждается от сна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Trebuchet MS"/>
              </a:rPr>
              <a:t>И давай в лесу реветь …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Trebuchet MS"/>
              </a:rPr>
              <a:t>Все зовут е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4284720" y="2133720"/>
            <a:ext cx="4608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1T05:27:01Z</dcterms:created>
  <dc:creator>тор</dc:creator>
  <dc:description/>
  <dc:language>en-US</dc:language>
  <cp:lastModifiedBy>детский сад</cp:lastModifiedBy>
  <dcterms:modified xsi:type="dcterms:W3CDTF">2018-04-10T10:46:41Z</dcterms:modified>
  <cp:revision>54</cp:revision>
  <dc:subject/>
  <dc:title>Презентация PowerPoint</dc:title>
</cp:coreProperties>
</file>