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170A-BAB1-4960-BB33-5D03B0A656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BC98-EFA0-4418-B4A0-575F265A55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295-BF46-450F-8EF2-087B34CB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922-78C6-4BCA-8CE8-D7B5C809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CF0-61CF-4A14-ABE3-9E01DF03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FE1-A043-4DB2-A652-B78214F6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466-B103-4715-8924-B9487F63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1FE-3A84-4A95-BFF9-1386C253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EDA-3833-4C70-8848-95CFD0A2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2F4-D085-42D9-9D8B-49BB3E54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004-11AA-41C9-8143-ED0B0880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55D-BE32-402E-B5ED-339076E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2B1-DB3A-4364-8394-2CB8F42C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D25-D54B-4BD2-AB9F-DBE2AFEF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5018-4BD3-44F5-9AF9-773BB822FB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0;&#1072;&#1088;&#1090;&#1072;%20&#1076;&#1080;&#1076;&#1072;&#1082;&#1090;&#1080;&#1095;&#1077;&#1089;&#1082;&#1086;&#1075;&#1086;%20&#1088;&#1077;&#1089;&#1091;&#1088;&#1089;&#1072;%20&#1055;&#1086;&#1089;&#1086;&#1073;&#1080;&#1077;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511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собие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одзаголовок 2" descr=""/>
          <p:cNvPicPr/>
          <p:nvPr/>
        </p:nvPicPr>
        <p:blipFill>
          <a:blip r:embed="rId1"/>
          <a:stretch/>
        </p:blipFill>
        <p:spPr>
          <a:xfrm>
            <a:off x="3535200" y="2852640"/>
            <a:ext cx="5164200" cy="360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95280" y="2724120"/>
            <a:ext cx="3446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Задач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дачи: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ть у детей умение соотносить описание природы в загадках с  определением времени года; развивать слуховое вним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   помощь   поэтического   слова,  показать   красоту разных  месяцеввесны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изировать и обогащать словарь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дснеж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434600"/>
            <a:ext cx="3888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Первым вылез из землицы</a:t>
            </a:r>
            <a:br>
              <a:rPr sz="4000"/>
            </a:b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На проталинке.</a:t>
            </a:r>
            <a:br>
              <a:rPr sz="4000"/>
            </a:b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Он мороза не боится,</a:t>
            </a:r>
            <a:br>
              <a:rPr sz="4000"/>
            </a:br>
            <a:r>
              <a:rPr b="0" lang="ru-RU" sz="4000" spc="-1" strike="noStrike">
                <a:solidFill>
                  <a:srgbClr val="444444"/>
                </a:solidFill>
                <a:latin typeface="Arial"/>
                <a:ea typeface="Times New Roman"/>
              </a:rPr>
              <a:t>Хоть и маленький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511520" y="1484280"/>
            <a:ext cx="32385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есн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Зазвенели ручьи,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прилетели грачи.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В улей пчела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первый мёд принесла.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Кто скажет, кто знает,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когда это бывает?</a:t>
            </a:r>
            <a:r>
              <a:rPr b="0" i="1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37447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осуль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Ледяная, длинная,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Остриё вершинное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Вниз направлено, к земле.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Плачет? – Знать, конец зиме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4753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учеё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В голубенькой рубашке</a:t>
            </a:r>
            <a:br>
              <a:rPr sz="3200"/>
            </a:b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Бежит по дну овражка.</a:t>
            </a:r>
            <a:r>
              <a:rPr b="0" i="1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4416480" y="150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квореч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Новоселье у скворца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Он ликует без конца.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Чтоб у нас жил пересмешник,</a:t>
            </a:r>
            <a:br>
              <a:rPr sz="2800"/>
            </a:b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Смастерили мы …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686480" y="1268280"/>
            <a:ext cx="38462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тали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467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5a5a5a"/>
                </a:solidFill>
                <a:latin typeface="Georgia"/>
              </a:rPr>
              <a:t>Ой, беда! Ой, бед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5a5a"/>
                </a:solidFill>
                <a:latin typeface="Georgia"/>
              </a:rPr>
              <a:t>Тает снег, кругом в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5a5a"/>
                </a:solidFill>
                <a:latin typeface="Georgia"/>
              </a:rPr>
              <a:t>Не обуешь валенки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5a5a"/>
                </a:solidFill>
                <a:latin typeface="Georgia"/>
              </a:rPr>
              <a:t>На снегу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3672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3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едвед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Лапу он свою сосёт,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Спит всю зиму напролёт.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А вот, как придёт весна,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Пробуждается от сна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И давай в лесу реветь …</a:t>
            </a:r>
            <a:br>
              <a:rPr sz="2800"/>
            </a:br>
            <a:r>
              <a:rPr b="0" lang="ru-RU" sz="2800" spc="-1" strike="noStrike">
                <a:solidFill>
                  <a:srgbClr val="000080"/>
                </a:solidFill>
                <a:latin typeface="Trebuchet MS"/>
              </a:rPr>
              <a:t>Все зовут е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4284720" y="2133720"/>
            <a:ext cx="4608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1T05:27:01Z</dcterms:created>
  <dc:creator>тор</dc:creator>
  <dc:description/>
  <dc:language>en-US</dc:language>
  <cp:lastModifiedBy>детский сад</cp:lastModifiedBy>
  <dcterms:modified xsi:type="dcterms:W3CDTF">2018-04-10T10:46:41Z</dcterms:modified>
  <cp:revision>54</cp:revision>
  <dc:subject/>
  <dc:title>Презентация PowerPoint</dc:title>
</cp:coreProperties>
</file>