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9A76-34C9-4633-B86D-FB6683685E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нятно , что за шкала трудностей и зачем эти цифры рядом с предметом. Нужен комментар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492E-0FA3-416D-8E3E-FC7D5EECF3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жен комментарий с ссылкой на нормативные документы и рекомендации о недопустимости перегрузок. Можно сделать в последнем слайде-выво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F704-2D90-49B0-9C5B-5038277E29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4A54-0756-4E37-B707-2C5503FD4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A583-CC22-48D5-9B6B-9021A9F9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002C-FB5A-4CC2-8316-3D7B88C15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0AA4-2C3C-4314-8F42-E5A085AD9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9895-65C3-4D9C-B345-06BEBC975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86AF7-974A-4AF3-A7A9-8BDA680F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0A871-0B49-4A24-BE3C-CC17BF9F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F20E-6CBC-4A99-9CE7-5F0F780C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0171-6BA6-45CB-9B15-B0C51A02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2610-C762-4C9D-AFF1-CCDE8F34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98F7-6EC5-456A-9816-EDB8C1F4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9411-DC20-4E7F-9683-4933D50F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23D1C-8F3F-40FE-9644-343A6C91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A4A8-1197-48AB-BD14-57889C51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6429-835E-4560-BBA8-357616B2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44A6-2B60-4BD1-8571-161E59897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E78A-25AD-45CE-8D1E-43584D1D7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2390A-476D-4228-BD87-9AC75966A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B5045-A14F-478B-8037-40725828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FEE4C-6199-4FDF-8B02-53C6A8D2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BD55F-6203-499C-91CC-003F3D0C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8E8F4-1CFD-4BA6-9CED-453FE795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FE15-5F2D-4DA1-BEDE-246316F0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D35D3-07B4-4F40-B98F-0E868072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14AAB-4522-4855-899C-7398856E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29178-F376-420F-8129-D365B248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03202-A0AA-4F0F-AF30-AB1B67FD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6E82C-EC8C-44DD-91A9-DBEC1CDB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70101-4924-4AA3-882B-AA8E23A5F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73EB5-B521-4C3F-A143-DD5C3BE7E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63052-A16B-42B4-B036-565EC5278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03564-442B-4C23-9108-B446F90F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72C89-B636-402C-A129-0DF910D3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158E-4E85-4892-A9E0-13A6B18C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4DF57-6503-445F-8E57-8BD6CA2E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0CFD6-B137-447F-92AC-CBF7830B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C97DE-0367-4F00-AE36-9DCFAFF1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F748A-9706-42E2-9CA4-9BEEC637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AC51D-B675-484F-AF87-4110A023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75826-59CF-43D7-B762-A535986C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1E9E6-48E4-42CF-88FB-062C4ACD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35AAD-C875-47D6-9550-9D0A07B19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DC77B-8F97-48F6-B99F-15937A3AA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CCF2F-55CE-4CC4-A9BD-E95CA5703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1AF9-F895-4B90-AA8A-8222A6CF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CD06E-4D5B-4352-8C97-B6E5CEFD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56761-D6F2-4FA4-A233-B95E110A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63C17-98DC-403B-BA77-C0892C49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55EEE-0316-47BE-AE2A-D87CBBF0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9C860-3A4A-4DD5-8E42-FC189C2C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0340A-58BE-4B5D-9DA8-53BEF35F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62359-C686-4A43-9A71-F64BFC7D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A2A6C-79A8-4D74-8D54-7255E3A9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4545A-F9D3-4A79-81A0-E0345ECC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D80DA-418E-4B8C-8610-4A5844599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2C70-BC4A-4513-BA5D-650D3EF4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5AEEA-CBB3-4D46-9E14-6BB54A2CC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2B4EA-ED10-4766-BB97-A54783304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D9D22-E381-4A5C-81D4-C1BFCC02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7572C-82E6-44C3-A748-F554C96E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315CB-2968-403C-AC9B-515BF8EC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A7E31-3C58-467A-84BE-3CA6F3F8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66C93-D64B-4C1E-988E-771104B2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72A8D-F936-458F-BB1A-456C5681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B814E-F580-452F-909E-2FFB2055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57336-F92D-4064-AF24-0DD82AD7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8EE0-0EBE-4F30-B4B2-61CB5513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29602-0F0B-435A-A08E-8E313280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43D75-7DAD-438F-B85C-54C17C6DA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5D8E6-DB37-4DF3-8A17-9FE32F589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082F6-A0AC-4100-85D2-5E7A3016F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8EEE4-955C-457A-AC23-5B0DD9E6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D8EC5-7301-4F0F-B332-F26075AB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16ED3-7146-40B1-9CC6-B0E83F83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42C26-0397-4E5F-8655-10573DF2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ABDAF-0238-4EAB-A407-2A1B2480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EBC3F-4A48-4F3B-B61E-C4A5054D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8003-467B-46A4-BD46-61F7191B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72E99-A456-4624-B020-B75FA5E4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E93C4-D515-4C9C-ABB4-7C8F6E6D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AFFFF-D69A-4CCB-9799-6D0013B0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52BED-1223-475F-8BE5-F2FAB75D9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43912-CECF-4591-B6A6-150FA6EBD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F8B9-2DF2-4288-9955-ECAA6FE6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02FB-968B-4F42-B037-88FB8B4C1758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F76F-5A4E-4A14-9765-DCD4B5E3DE1E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519D-10C3-4A5E-A32E-D221E6870C5D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9D8C-42DA-4356-BD5F-BD4E174376E4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91BC-9AC0-473A-A7FB-1657C15C6F04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D819-BC9B-4E95-8E59-FFCE3368D5D4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6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47EC-4D6B-41B3-BCE9-0C7152C7B1D8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3 класс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18" name="Picture 4" descr="lt03412877"/>
          <p:cNvPicPr/>
          <p:nvPr/>
        </p:nvPicPr>
        <p:blipFill>
          <a:blip r:embed="rId1"/>
          <a:stretch/>
        </p:blipFill>
        <p:spPr>
          <a:xfrm>
            <a:off x="900000" y="1467000"/>
            <a:ext cx="762012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9" name=""/>
          <p:cNvGraphicFramePr/>
          <p:nvPr/>
        </p:nvGraphicFramePr>
        <p:xfrm>
          <a:off x="0" y="260280"/>
          <a:ext cx="9144000" cy="5962680"/>
        </p:xfrm>
        <a:graphic>
          <a:graphicData uri="http://schemas.openxmlformats.org/drawingml/2006/table">
            <a:tbl>
              <a:tblPr/>
              <a:tblGrid>
                <a:gridCol w="1724040"/>
                <a:gridCol w="1724040"/>
                <a:gridCol w="2173320"/>
                <a:gridCol w="1798560"/>
                <a:gridCol w="1724040"/>
              </a:tblGrid>
              <a:tr h="841320"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недель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тор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етвер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ятни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3400"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итературное чт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итературное чт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остранный язы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кружающий ми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7120"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атематик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сский язы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тема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сский язы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атематик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сский язы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итературное чт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изическая культур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остранный язы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изическая культур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изическая культур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образительное искусств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7720"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итературное чт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хнолог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кружающий ми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вания учебных предметов в соответствии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БУП прописаны правильно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личество часов с БУП общая нагрузка 23, в том числе по предметам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узыка – 1                  Иностранный язык - 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сский язык – 5         Технология - 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атематика – 4             Окружающий мир - 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изическая культура – 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итературное чтение - 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образительное искусство – 1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"/>
          <p:cNvGraphicFramePr/>
          <p:nvPr/>
        </p:nvGraphicFramePr>
        <p:xfrm>
          <a:off x="395280" y="809640"/>
          <a:ext cx="8459640" cy="5715000"/>
        </p:xfrm>
        <a:graphic>
          <a:graphicData uri="http://schemas.openxmlformats.org/drawingml/2006/table">
            <a:tbl>
              <a:tblPr/>
              <a:tblGrid>
                <a:gridCol w="581040"/>
                <a:gridCol w="1787400"/>
                <a:gridCol w="1602000"/>
                <a:gridCol w="1468440"/>
                <a:gridCol w="1358640"/>
                <a:gridCol w="16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зыка </a:t>
                      </a: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.ч.</a:t>
                      </a: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.чт.</a:t>
                      </a: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.яз</a:t>
                      </a: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р.м.</a:t>
                      </a: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. Яз.</a:t>
                      </a: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.</a:t>
                      </a: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.яз.</a:t>
                      </a: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</a:t>
                      </a: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.яз.</a:t>
                      </a: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.</a:t>
                      </a: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.яз.</a:t>
                      </a: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.</a:t>
                      </a: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.яз.</a:t>
                      </a: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.чт.</a:t>
                      </a: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.к.</a:t>
                      </a: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.яз.</a:t>
                      </a: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.к.</a:t>
                      </a: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.к.</a:t>
                      </a: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обр.</a:t>
                      </a: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.чт.</a:t>
                      </a: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.</a:t>
                      </a: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р.м.</a:t>
                      </a: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9f2936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2" name="Text Box 60"/>
          <p:cNvSpPr/>
          <p:nvPr/>
        </p:nvSpPr>
        <p:spPr>
          <a:xfrm>
            <a:off x="376200" y="4745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77"/>
          <p:cNvSpPr/>
          <p:nvPr/>
        </p:nvSpPr>
        <p:spPr>
          <a:xfrm>
            <a:off x="1841040" y="0"/>
            <a:ext cx="751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кала трудностей в день (по И.Г. Сивко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"/>
          <p:cNvGraphicFramePr/>
          <p:nvPr/>
        </p:nvGraphicFramePr>
        <p:xfrm>
          <a:off x="468360" y="836640"/>
          <a:ext cx="8229600" cy="56991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Line 92"/>
          <p:cNvSpPr/>
          <p:nvPr/>
        </p:nvSpPr>
        <p:spPr>
          <a:xfrm flipV="1">
            <a:off x="1835280" y="1125360"/>
            <a:ext cx="136836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93"/>
          <p:cNvSpPr/>
          <p:nvPr/>
        </p:nvSpPr>
        <p:spPr>
          <a:xfrm>
            <a:off x="3203640" y="1125360"/>
            <a:ext cx="1368360" cy="43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94"/>
          <p:cNvSpPr/>
          <p:nvPr/>
        </p:nvSpPr>
        <p:spPr>
          <a:xfrm flipV="1">
            <a:off x="4572000" y="1052280"/>
            <a:ext cx="1368360" cy="43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95"/>
          <p:cNvSpPr/>
          <p:nvPr/>
        </p:nvSpPr>
        <p:spPr>
          <a:xfrm>
            <a:off x="5940360" y="1052640"/>
            <a:ext cx="1368360" cy="43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96"/>
          <p:cNvSpPr/>
          <p:nvPr/>
        </p:nvSpPr>
        <p:spPr>
          <a:xfrm>
            <a:off x="1744560" y="611172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97"/>
          <p:cNvSpPr/>
          <p:nvPr/>
        </p:nvSpPr>
        <p:spPr>
          <a:xfrm>
            <a:off x="3060720" y="6164280"/>
            <a:ext cx="5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98"/>
          <p:cNvSpPr/>
          <p:nvPr/>
        </p:nvSpPr>
        <p:spPr>
          <a:xfrm>
            <a:off x="4482000" y="61833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99"/>
          <p:cNvSpPr/>
          <p:nvPr/>
        </p:nvSpPr>
        <p:spPr>
          <a:xfrm>
            <a:off x="5796000" y="6165720"/>
            <a:ext cx="50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00"/>
          <p:cNvSpPr/>
          <p:nvPr/>
        </p:nvSpPr>
        <p:spPr>
          <a:xfrm>
            <a:off x="7289640" y="6183360"/>
            <a:ext cx="5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02"/>
          <p:cNvSpPr/>
          <p:nvPr/>
        </p:nvSpPr>
        <p:spPr>
          <a:xfrm>
            <a:off x="950760" y="6589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05"/>
          <p:cNvSpPr/>
          <p:nvPr/>
        </p:nvSpPr>
        <p:spPr>
          <a:xfrm>
            <a:off x="1481400" y="260280"/>
            <a:ext cx="70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афик (шкала трудностей) на нед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Данное расписание соответствует базисному учебному плану на основе ФГОС;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Соответствует требованиям СанПиН 2.4.2. 1178-02 МЗ РФ 28.11.02 №44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сновные предметы стоят 2-3 уроком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Максимальная нагрузка во вторник – четверг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0T16:12:49Z</dcterms:created>
  <dc:creator>Love</dc:creator>
  <dc:description/>
  <dc:language>en-US</dc:language>
  <cp:lastModifiedBy>Вероника</cp:lastModifiedBy>
  <dcterms:modified xsi:type="dcterms:W3CDTF">2019-05-22T18:24:40Z</dcterms:modified>
  <cp:revision>9</cp:revision>
  <dc:subject/>
  <dc:title>Слайд 1</dc:title>
</cp:coreProperties>
</file>