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3FF-4220-4AAD-BA0B-6CFF7BBA2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ятно , что за шкала трудностей и зачем эти цифры рядом с предметом. Нужен коммента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7F62-A62E-406D-A272-743CB6F7E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комментарий с ссылкой на нормативные документы и рекомендации о недопустимости перегрузок. Можно сделать в последнем слайде-вы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90BD-A00D-41D7-8B9B-1D8485E22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B06-6AFA-455E-A64D-427FA24A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E61-56C8-4857-BCC5-5A519DF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D0B-2510-4544-9DA5-37DC05D0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03C-A0F7-48E4-A82D-68E33EEF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4B7D-9D69-4080-952F-C05238AD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0C4E-D450-4FF1-BF79-A72201D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6EEE-AFD4-4EB2-8514-0E6E24F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4061-AFAB-4FAA-9E3D-4AF31FF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64C-FF48-4834-B9E5-B900D633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B4CE-E366-4805-8237-CEFE71F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8018-A4E8-4B5D-A0AA-FE50769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E24-F216-451A-AE4D-95AB5F66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C03-1F0E-4E4B-8455-153B2D7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CA3-2EA3-46AF-83DA-2848BF7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DC81-70AC-4A9F-B2F2-C516A09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993C-96D2-4329-B38D-AB84546B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742-6698-4FFA-B0D5-36ABB7A0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6E98-93BD-44DA-B76F-734FAF98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A4A5-1822-4220-AEA9-708211F6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3C12-E86E-4D52-BCE2-48D5BC7F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08F0-8D17-446B-B1EC-673FFA3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7F21-B1E1-4065-B7EE-43195FE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479-0D82-4E56-8D41-6DD776FD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22CC-C522-46F4-9B4C-752857FC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5AD77-8CF4-4010-9D00-D1CF024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F3A5-75BD-4B14-8099-A7D33EB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B470-FDAD-460D-8E03-C15DB3B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33F5-307A-4B0C-8D6F-BAD1B3B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209C-3B00-4F3A-A652-B3601B86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D480-381C-4A2B-AF64-3B23C197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5DAF-0080-4A24-92F6-5140C474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9811-B333-4EFF-99C8-25A4D15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6C99-5ACD-401F-8EBE-F3E8F99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E03-ED3F-4514-A0B9-0792966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6CF8-3146-4970-9040-E656DA02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66E6-1704-4278-9349-019B0D9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57B7-C5DC-43EF-961A-3E2917A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15FC-1728-4A63-912B-3F5FF96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93E5-F62D-4133-BED0-A351038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A402-D619-4248-A75D-31A1FBE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CA39-D949-479B-8BE9-758B7EB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71E0-0E0B-4CF2-B44C-FFE11297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91CF-CF05-4FFF-9088-58427063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4DEA-CA18-4C05-BDA4-AA17598B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41C-67D0-4C98-939F-88C30198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A7E1-6328-48BF-8C8D-CA6A6575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E515-A14F-4F69-B389-391F5E3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632E-BE29-4DF4-9214-2D51C69E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6600-37C9-4BE0-B225-FBB5E1A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6451-D79E-4608-8AA4-57CC4493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ADEC-C99E-477E-AAEF-DAB5263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C9A7-B2CC-4240-BF66-08F2C633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3205-6674-46E1-B113-E4347A03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7767-0536-4562-87B4-00FDFDF8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5531-E401-4BDB-9CCF-71D1A747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D96-B448-4A85-BA05-A9774EC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50C7-627B-4720-8034-0899CF3B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4442C-B2D2-4D14-A444-D43521E2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FB7F-97B3-467F-9B6C-7F908850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263EE-59A2-48F0-8349-BA8DCE6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DDC2-E3B0-41C5-9B1C-17B9F95C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7673-18F1-42ED-B2EB-B61ED25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1555-78B7-4366-8615-5C8F27B0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B365-6606-45A6-AB02-8B13278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E6E9-EB2F-48B9-A5FD-B393E50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2CF2-F87A-41BD-9C5C-F0D8506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895-B077-4546-BF46-9FA6B5A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61CE-39F0-4463-9A9C-68EB237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72CFA-E312-404F-A38B-D496EBAB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97EC-7220-49AD-8EBA-D740054F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58C0-5500-4089-B2E6-84663398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4D00-A881-41EF-A7F9-6814FC8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2526-2A77-4F41-9658-204D639C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B0FA0-8DDC-4CBB-8BD9-CC05FD4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7FA4-510A-435A-8BE3-1C2D01F9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EEE5-3929-4D17-9CDF-71ED872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7D46-B182-4505-A7E9-2CB614F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DE8-B59D-4F23-B2CF-5BEA510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8790-9AF4-465B-B4E4-3C2B92A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7B973-0E86-431A-8878-E59AB15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86A02-06CD-47D1-A674-2778A057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7489C-C7D1-456D-A5C6-7543DF50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3DC2B-162E-466B-A17E-410D5AF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729-6BD8-45E9-9FAF-2066F21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B59-CDD8-4F25-80B1-BA9ABD60E78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CF9-A46F-4C03-A65A-376C5238ACA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7AEA-65E2-4D9B-BDBC-5B470478ED4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AFC-6521-4DC4-B68C-6887AD24B26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CD5A-54AA-4824-A7FD-CEBD7F9CD6D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5D4-2C3C-403E-80C6-6C5C02F015D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0824-CB22-49DD-B1B3-2735B73F434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3 класс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8" name="Picture 4" descr="lt03412877"/>
          <p:cNvPicPr/>
          <p:nvPr/>
        </p:nvPicPr>
        <p:blipFill>
          <a:blip r:embed="rId1"/>
          <a:stretch/>
        </p:blipFill>
        <p:spPr>
          <a:xfrm>
            <a:off x="900000" y="1467000"/>
            <a:ext cx="76201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0" y="260280"/>
          <a:ext cx="9144000" cy="5962680"/>
        </p:xfrm>
        <a:graphic>
          <a:graphicData uri="http://schemas.openxmlformats.org/drawingml/2006/table">
            <a:tbl>
              <a:tblPr/>
              <a:tblGrid>
                <a:gridCol w="1724040"/>
                <a:gridCol w="1724040"/>
                <a:gridCol w="2173320"/>
                <a:gridCol w="1798560"/>
                <a:gridCol w="1724040"/>
              </a:tblGrid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странны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ружающ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странны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образительное искус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ружающ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я учебных предметов в соответстви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БУП прописаны правиль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часов с БУП общая нагрузка 23, в том числе по предмета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узыка – 1                  Иностранный язык -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ский язык – 5         Технология -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– 4             Окружающий мир -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зическая культура –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тературное чтение -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образительное искусство – 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95280" y="809640"/>
          <a:ext cx="8459640" cy="5715000"/>
        </p:xfrm>
        <a:graphic>
          <a:graphicData uri="http://schemas.openxmlformats.org/drawingml/2006/table">
            <a:tbl>
              <a:tblPr/>
              <a:tblGrid>
                <a:gridCol w="581040"/>
                <a:gridCol w="1787400"/>
                <a:gridCol w="1602000"/>
                <a:gridCol w="1468440"/>
                <a:gridCol w="1358640"/>
                <a:gridCol w="16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.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 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.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60"/>
          <p:cNvSpPr/>
          <p:nvPr/>
        </p:nvSpPr>
        <p:spPr>
          <a:xfrm>
            <a:off x="37620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7"/>
          <p:cNvSpPr/>
          <p:nvPr/>
        </p:nvSpPr>
        <p:spPr>
          <a:xfrm>
            <a:off x="1841040" y="0"/>
            <a:ext cx="75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ала трудностей в день (по И.Г. Сивк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468360" y="836640"/>
          <a:ext cx="8229600" cy="5699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Line 92"/>
          <p:cNvSpPr/>
          <p:nvPr/>
        </p:nvSpPr>
        <p:spPr>
          <a:xfrm flipV="1">
            <a:off x="1835280" y="1125360"/>
            <a:ext cx="13683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3"/>
          <p:cNvSpPr/>
          <p:nvPr/>
        </p:nvSpPr>
        <p:spPr>
          <a:xfrm>
            <a:off x="3203640" y="112536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4"/>
          <p:cNvSpPr/>
          <p:nvPr/>
        </p:nvSpPr>
        <p:spPr>
          <a:xfrm flipV="1">
            <a:off x="4572000" y="105228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5"/>
          <p:cNvSpPr/>
          <p:nvPr/>
        </p:nvSpPr>
        <p:spPr>
          <a:xfrm>
            <a:off x="5940360" y="105264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6"/>
          <p:cNvSpPr/>
          <p:nvPr/>
        </p:nvSpPr>
        <p:spPr>
          <a:xfrm>
            <a:off x="1744560" y="6111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7"/>
          <p:cNvSpPr/>
          <p:nvPr/>
        </p:nvSpPr>
        <p:spPr>
          <a:xfrm>
            <a:off x="3060720" y="616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8"/>
          <p:cNvSpPr/>
          <p:nvPr/>
        </p:nvSpPr>
        <p:spPr>
          <a:xfrm>
            <a:off x="4482000" y="6183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9"/>
          <p:cNvSpPr/>
          <p:nvPr/>
        </p:nvSpPr>
        <p:spPr>
          <a:xfrm>
            <a:off x="5796000" y="6165720"/>
            <a:ext cx="5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0"/>
          <p:cNvSpPr/>
          <p:nvPr/>
        </p:nvSpPr>
        <p:spPr>
          <a:xfrm>
            <a:off x="7289640" y="618336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2"/>
          <p:cNvSpPr/>
          <p:nvPr/>
        </p:nvSpPr>
        <p:spPr>
          <a:xfrm>
            <a:off x="95076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5"/>
          <p:cNvSpPr/>
          <p:nvPr/>
        </p:nvSpPr>
        <p:spPr>
          <a:xfrm>
            <a:off x="1481400" y="260280"/>
            <a:ext cx="70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(шкала трудностей) на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анное расписание соответствует базисному учебному плану на основе ФГОС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ответствует требованиям СанПиН 2.4.2. 1178-02 МЗ РФ 28.11.02 №44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ые предметы стоят 2-3 уроко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аксимальная нагрузка во вторник – четверг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6:12:49Z</dcterms:created>
  <dc:creator>Love</dc:creator>
  <dc:description/>
  <dc:language>en-US</dc:language>
  <cp:lastModifiedBy>Вероника</cp:lastModifiedBy>
  <dcterms:modified xsi:type="dcterms:W3CDTF">2019-05-22T18:24:40Z</dcterms:modified>
  <cp:revision>9</cp:revision>
  <dc:subject/>
  <dc:title>Слайд 1</dc:title>
</cp:coreProperties>
</file>