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76D-81CE-461F-8845-DAA84573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DA4-C69A-45BA-8FCE-6F035257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FD1-20A2-4E84-A669-1C1C4319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654-254A-47ED-B88D-73B0AA9A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4A42-4E07-4B86-A452-D9CECE39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59CD-DEF3-41F6-8F03-652B6018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F461-943C-4052-A79B-3220A8E3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3D84-3DE4-4A39-8224-6834171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94D5-43AE-48F1-ADD3-80F8069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CB82-4199-4559-B97E-28B021D2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AF6A-9C66-42A1-A7A0-EC2EC1B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3B3-58EE-4D8D-97C6-B0BC353C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330B-F342-4CFA-80EE-38E15DB0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175-6FEA-4247-9004-94296E6E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604C-4BFD-4639-BFE2-B5924F48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3246-09DB-47A4-81D9-5799307F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5EB0-BF5A-42B9-9386-46EC7D36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973B-20DA-4EF7-B9D1-06D2C7F8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C9D2F-9EEB-4028-A179-99CBDF7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5A7C-B463-4F62-8AE6-FC97AC7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2890-17D2-4088-AF8D-8D45F371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51C5-0DE5-4357-B98C-23951011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702-B428-4C88-A8F1-AF275106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2D29-ADC6-4BB3-84E8-F96EEA05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59BE-807E-42B3-9059-CB766D3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C36C-B70E-48A8-913E-54D81C1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5F59-1647-47AD-9765-F6C977B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DCCB-475C-4FF0-A874-069F6F38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9C36-19B4-4C2C-8C36-8C52CD2F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4724-D771-485B-81D9-EAE14AA4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B911-C9A8-45FF-B278-D6D94523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3D2F-2414-416F-89FA-98D1F12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C4A4-4326-440D-948F-0A0C91FA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2C1-2873-487B-BD50-D251D0BB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8445-7478-4E05-B87F-BFE396C8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A22B-204F-4F50-B56C-7CF9AB9A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1B17-484B-427F-883C-AAB37B50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3B65-9014-4680-9167-936F28B2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F5BB-B669-44DA-8D71-93AE26E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C341-EC46-4773-AAAA-486E51A3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2E41-BADC-40CD-AEE5-F5374713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357E-D92E-4DFD-A7DA-F826FD3B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0669-B99A-4290-A1B8-0D7ECA09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D4686-5E7A-4F48-A6B7-86D3E7E5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43F-17F5-4D90-ADD3-C68FCB35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B106-00EF-4ED1-8D51-566B1021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DD83A-92DB-4F66-B2CB-FB07B6E3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7C2F-8B18-453E-B4A8-3F73D9B6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8FCA6-2BBC-4F23-94DA-C54F83C4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6F6E-EBBF-4102-8FEA-18F466B1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FFB7F-F0DF-4692-9ADB-D25BEDA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D1523-E476-4C9C-AA01-BB4B534F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EDB4-0F96-43EE-80A5-B42D5E5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3CA7B-8654-4208-90D0-7AAB400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B116-6FD5-427F-9B90-4C29F5C0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EE9-C5C8-4D26-A9B2-F5B523DB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E413D-0608-43B5-8252-7EDA1B85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CA64D-3404-4501-AB49-B641DD20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00BF-7F6E-4838-9EC2-C2D8B56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6C18-CC99-463D-9BC3-17D618CF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68FB-BB77-4C18-AFCD-79127A3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B9440-8E92-479C-987C-72118ED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B3D3-EEA2-4EFD-A975-EAF2325A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6462-B8A8-4C08-B5E9-7B42EAB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2AD9-8790-4AC1-86C8-F48EF04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C0DF9-FF1C-4E21-83A6-0EFB4F7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66C-E492-4803-AA83-D66150B8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D557B-F8E0-4452-A4C5-A95D8269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02F5-A376-4625-8BBB-77F1D8F5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EE91-0A57-46B6-98B5-9D823919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63CBF-74B6-468F-A0F7-21CCBA63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55C5-48E9-41D3-B9AE-8C0997F9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4BD23-1D9F-461A-83AF-708DCB56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2C764-288A-4D5E-9961-1C2F341D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BB2C3-C0A1-46C1-803B-D8E2D5F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ED387-AEB4-4512-94EF-00123FA2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1118-006E-4983-B870-F42B5BD2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FC0-9833-41C0-8344-F9BBEB7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88D78-FB23-4FF2-AD09-4E9D1F8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0E950-D15F-4482-BCBB-F93EB3DD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E680C-8150-4E44-BAC1-0038B8EF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4413-0169-40FE-8691-02F6F360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FB40-650C-43CB-A86D-F3C0EA11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06A-8B12-4C2B-A83A-9E51C7E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F8287-9E1A-453E-B0FF-3154EC7BACB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13931-D9DD-4070-847C-2BB81C8FCE5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F5A17-EB7C-468F-B8C2-8B387CF36F2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62919-5856-465A-91C0-64281A5796A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9519E-02F8-4272-9EDD-00F2242DB076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DB7F1-6CBE-4C1C-A905-146CE8EC555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51E57-FEAB-424F-B929-E3B8D1B7633E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807084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грамма «Школа России»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это УМК для 1-4 классов общеобразовательных учреждений, которая обеспечивает достижение требований к результатам освоения основной образовательной программы начального общего образования. .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верждена приказом Министерства образования и науки Российской Федерации от «6» октября 2009 г.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Школа России» Андрей Анатольевич ПЛЕШАКОВ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6012000" y="1125360"/>
            <a:ext cx="2970000" cy="452628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0" y="1144440"/>
            <a:ext cx="574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  Анатольевич  Плеша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 педагогических  наук, лауреат Премии   Президента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  Федерации  в  области   образования,  один  из   постоянных авторов журнала «Начальная школа», член редколлегии и редакционного совета журнала. Известный автор учебников, рабочих тетрадей, тестов и других пособий по курсу «Окружающий  ми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0720" y="691920"/>
            <a:ext cx="7543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цепц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лавная идея комплекта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школа России должна стать школой духовно-нравственного развития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снову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я образовательной модели «Школа России» положены традиции отечественной школы с признанием их исключительной ценности и значимости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51280" y="1773000"/>
            <a:ext cx="51134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ить регулирование различных аспектов освоения метапредметных умений, т.е. способов деятельности, применимых в рамках, как образовательного процесса, так и при решении проблем в реальных жизненных ситуациях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179280" y="1327320"/>
            <a:ext cx="3456000" cy="39621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обучения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795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формированность мотивации  к обучению и познанию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енности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ичностно развивающее образование младших школьник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ражданск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глобально-ориентированное образование младших школьников;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экоадекватное образование младших школьнико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0148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ы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воспитания гражданина Росси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ценностных ориентиров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обучения в деятельности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работы на результат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5056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Школа России»- школа духовно нравственного развития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611280" y="182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e09878"/>
                </a:solidFill>
                <a:latin typeface="Times New Roman"/>
                <a:ea typeface="Times New Roman"/>
              </a:rPr>
              <a:t>Программа «Школа Росс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45:32Z</dcterms:created>
  <dc:creator>Алексей Хвароща</dc:creator>
  <dc:description/>
  <dc:language>en-US</dc:language>
  <cp:lastModifiedBy>Artem</cp:lastModifiedBy>
  <dcterms:modified xsi:type="dcterms:W3CDTF">2018-02-18T10:50:06Z</dcterms:modified>
  <cp:revision>21</cp:revision>
  <dc:subject/>
  <dc:title>Слайд 1</dc:title>
</cp:coreProperties>
</file>