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13E-10BD-4725-95C3-8D893F99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C5A-DB8A-443B-BEF0-BD65100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B3C-B317-4993-A8D8-3C0669FF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E76-AD83-42BC-B3FC-709B9BAB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5BC2-3574-4BA3-8955-F080CFA5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0E78-E4F9-450A-A264-D76762D8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36F4-930C-453C-9424-E4A85248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72A9-1B7D-445E-BDCC-03F36743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AF08-20BD-4184-8883-5B41E9B3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7CEE-62C5-443B-B713-36CD85C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D646-4CD4-4460-A24A-A4BEA2CA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9E8-6FE9-4715-A801-3402B88F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1FAE-217F-4D86-BDAF-3999CAC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B9B8-DFD7-4590-A8CA-CA9474DF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8BB3-830D-44D6-991B-9A7304B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5FCC-5E02-4C73-AFE2-F0E9A596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2226-3050-46A3-A6E3-82C943CB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2D13-004E-4575-A149-68616449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2652-A176-4B18-94F5-8EB4C55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9C07-2B17-4AFB-B57A-3B6AFB34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F73E-72FB-4DEB-89C1-DE6C306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AFA2-37E3-4A58-95A4-CAEF99AB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1F4-6571-4455-AD48-86C6460B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5FDE-A917-4F18-83C2-286CF55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3602-8944-402B-81CA-A5D9305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FEDD-D1DF-4AE4-9988-8AA8884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353F-E0AF-4E7A-9E05-620B450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266E-C1DB-4721-8C19-88B99DBA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DB59-4A92-4D6B-9EA8-7A676970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9304-AD98-4ADD-BD6B-32A69165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735D-8D5D-4A0D-AB8A-53ACA68F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68FC-63AE-4D32-A615-DB73FD1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21A0-B203-41BE-AD22-5AD6E260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92F-7F68-4D59-9D09-699794D1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209C9-D7FC-4484-ACB7-06CE917D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65A2-1FB1-4BC4-AC28-8BDBCD77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A968-840F-4FE2-ADAB-0B8B8925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C4CB-B49F-4578-8A9C-A7F2384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7311-DEE5-41BB-8D8B-F1483124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36C4-D56A-4755-92D9-6AB15E9D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FEAD-5CDD-4458-8482-33906D25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F56B-DBDD-4060-A5B8-60870770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A8296-388C-468C-B1D7-5ACF72B4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3F33B-208D-45D6-B512-260DD53D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AB1-BBC1-49B4-B420-AD361D80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700A4-85FA-4987-9D67-70F2E6F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618E-74F1-4C38-8CDC-A6C5E6CA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DB016-6916-4168-9C08-A330E51C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7187-216E-47CE-BDCE-EF2E4104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EAB5-6D60-4C50-B095-7A9AF0E2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BC7DD-C739-4338-A58B-CB314F4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FFDA-7484-495E-8072-8098F30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8BB1-FD6B-4EE6-833B-3BDBDDC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A068-6D19-47FD-B17E-649B9E5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940A-41A1-4FA8-8DEC-3B1B2C1F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887-3233-4B46-8862-6D57849A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BA964-E38A-4DC6-9F01-3B4CD7FA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8B266-5FBE-44F2-9B1A-38926B3E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6009C-C267-4E68-8BAA-D1F28713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63E0A-1CC3-477F-A294-3D340C15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1B28-2225-4C6E-90FC-EBDF2F3D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5F90C-A5F1-48FD-B4A9-D71A6DD4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1B33-64A9-45D4-A308-2A21A62C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9AF81-7151-42BA-9B3C-DE35B61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6127-B937-44D7-AF50-71A610B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A64B5-2498-461F-91D6-D628F510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C46-D64F-4E7C-900E-7E64DAB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255D3-2B47-434F-A606-492FECAD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62FF1-78B7-4C94-81F8-3F88DA68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FCC1-6E82-4E5D-BCB3-1F404EB0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15CF-7AF2-483D-A757-AB3686CC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C545A-D485-49F2-8AF0-19CD5C6F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37669-7946-4196-BF3B-47148FB3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DBA7-259E-42E4-977D-23C24C0E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4D96-320F-41A4-98D4-99C44F94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C2FD3-E3C8-47BB-8F84-52A49813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5D042-229F-4EF8-9D6E-2C100817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797-C4CE-4A07-BEBE-1B1079EB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5CAB-C75B-45C6-A15E-BE104E8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53CB3-7BEB-4FF3-8F62-CF346E20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CDEA-D5D0-408A-A563-937E5E26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E9126-0C94-4CBA-9B80-DC23A2A2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F27AE-2686-44ED-9E95-24F9D426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748-8C67-47D7-8C1E-43D62BC8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D9739-B340-4042-8FB9-BE3DE7A9454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C1D89-2E9B-4633-959B-856E3D9F66B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32890-27C4-4CE1-84D9-FD96A923454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E92B1-393B-4D15-BDE4-DEE0231B208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60786-12E8-424B-A729-412CE89DC32B}" type="slidenum">
              <a:rPr b="0" lang="ru-RU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F793F-CB76-463A-9D16-05703258CCB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16F02-8612-481F-8D61-DD07FD53CA0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80708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грамма «Школа России»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это УМК для 1-4 классов общеобразовательных учреждений, которая обеспечивает достижение требований к результатам освоения основной образовательной программы начального общего образования. .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верждена приказом Министерства образования и науки Российской Федерации от «6» октября 2009 г.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УМК «Школа России» Андрей Анатольевич ПЛЕШАКОВ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970000" cy="4526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0" y="1144440"/>
            <a:ext cx="574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  Анатольевич  Плеша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 педагогических  наук, лауреат Премии   Президента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  Федерации  в  области   образования,  один  из   постоянных авторов журнала «Начальная школа», член редколлегии и редакционного совета журнала. Известный автор учебников, рабочих тетрадей, тестов и других пособий по курсу «Окружающий  ми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0720" y="691920"/>
            <a:ext cx="7543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цепци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вная идея комплекта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школа России должна стать школой духовно-нравственного развития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снову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я образовательной модели «Школа России» положены традиции отечественной школы с признанием их исключительной ценности и значимости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51280" y="1773000"/>
            <a:ext cx="51134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87480" indent="-874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ить регулирование различных аспектов освоения метапредметных умений, т.е. способов деятельности, применимых в рамках, как образовательного процесса, так и при решении проблем в реальных жизненных ситуациях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179280" y="1327320"/>
            <a:ext cx="3456000" cy="39621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обучения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795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личностных результатов учащихся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формированность мотивации  к обучению и познанию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мысление и принятие основных базовых ценностей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обенности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личностно развивающее образование младших школьник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гражданско-ориентированное образование младших школьников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глобально-ориентированное образование младших школьников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экоадекватное образование младших школьников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ципы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воспитания гражданина России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ценностных ориентир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обучения в деятельности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работы на результат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50560" y="105264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Школа России»- школа духовно нравственного развития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611280" y="182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e09878"/>
                </a:solidFill>
                <a:latin typeface="Times New Roman"/>
                <a:ea typeface="Times New Roman"/>
              </a:rPr>
              <a:t>Программа «Школа Росс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45:32Z</dcterms:created>
  <dc:creator>Алексей Хвароща</dc:creator>
  <dc:description/>
  <dc:language>en-US</dc:language>
  <cp:lastModifiedBy>Artem</cp:lastModifiedBy>
  <dcterms:modified xsi:type="dcterms:W3CDTF">2018-02-18T10:50:06Z</dcterms:modified>
  <cp:revision>21</cp:revision>
  <dc:subject/>
  <dc:title>Слайд 1</dc:title>
</cp:coreProperties>
</file>