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5F1-2BC9-4263-B892-6443A868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AD4-DD87-46DD-BD05-514C8502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766-C6BD-4097-8C69-F4F2C3DC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E7C-5269-4EE5-B1CC-54848620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9A97-FEB7-4765-901F-7BBF8B82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09E0-83B2-44A4-8FC3-4C15AEEA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80C-25B3-43C6-8726-69622051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66A1-5F10-4F36-AF18-564FBD05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6A4-101E-457B-960E-DB6B1A80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FDF2-19AD-4D65-89AA-5591003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AA3-0D6E-47A2-AE11-CD8B004D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BCF-DE4C-4035-8F30-510CDEEB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7959-9402-44ED-8D02-7E2E4B5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6C18-949D-4A5A-A12B-8229216E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90F7-260E-4C16-9456-66E8F603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4EF4-59F0-4763-B16B-B9F110BF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E676-B6B3-4E0C-8387-3163A517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E986-8659-4743-94D6-00F069B9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419CC-008F-475B-B57B-CFD62C0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4C0FB-D89C-4E2D-8996-61B5CD8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56215-58E9-4F61-A35F-D084CF2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248BA-3A5C-4328-8D48-8CA002C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68C-9EF7-443A-8F0A-21D4C9C4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285D1-6E1F-4F6C-9BF1-533CBA2F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3F9CE-6079-4510-931C-CBFBD8F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14439-8BE3-4DC9-8BAC-CE8A66A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AF8AF-C55B-42E4-A26A-A65BC5C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79764-4345-4F62-B3CD-BEDEA2F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C0A0D-60AB-4A18-A42E-46F570C8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916CC-31F0-4F8B-8660-22FB572E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F563-2786-4B21-A0B0-D9B95BDC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0900-5B1C-46AE-8023-7B788A55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CFD3-858B-48F4-8BFA-E9856FB2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E78-4D21-45A8-A79C-5D7E2119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F651-F427-453A-8182-E43F6A80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1414-F22C-4A31-B530-1B1E71C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6911-4B03-4C6D-8732-C42C8A1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37FC-E51D-400B-82F7-4A724F67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EBFC3-0C38-4280-B3D7-F159A7C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CFB0-388D-43A8-8ED4-AD90C3C4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5E73-47BF-4373-B6C8-B33BD6B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45C9-0080-4867-89F9-48E62557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B11B-29B9-4082-A0D6-261CD75E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409C5-DC02-4857-AF71-41F7FFAD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DA6-570C-42B1-A90F-117D82D2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5A010-E138-48A8-8DA1-5AA85C8A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D455B-87C2-4CF0-9E92-2D0CB41D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CE949-1023-4CDF-A48A-3C32C6D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6CFA9-6169-4211-BCC6-205D2C1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2DEF5-3106-4C1E-8256-C2B41C8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908AF-1EBA-40B0-A6F2-B99D22B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732DF-C76A-4397-8789-10399EE0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7B112-C5C1-457A-8455-F52287E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BD6AC-3A96-4C70-BCC5-8E4929E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324D5-84EF-4EB2-8228-F668AD79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A02-03C2-4450-BDC5-7293EF9E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FBA00-063F-4647-9B7B-860059F1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F5820-BB3B-4E81-8803-533B9B6D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EB117-8DF9-4F97-9986-EFA524F9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D9732-A6DE-484F-AF12-2917B2C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80112-8784-4EE7-A0CC-A618886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93313-EC0D-4C9D-B1FD-CB206FB0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A4AAB-0C9F-475D-94E5-5782ECF5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A4EBE-6C07-443A-9C88-B8354B1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1FCB8-88AF-4FE4-B64B-1150E38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95C8D-695C-4A2C-A510-7DE207B4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7B9-BE5E-43B7-A06B-7929997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7F563-8C93-4CE6-9B94-BDDCBCFB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07461-B897-43B2-9188-73BC0B68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EB03F-24D5-4BE2-B14C-83DB5FF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A2F39-128C-49FF-BD45-BB9CECB7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909FD-09EE-48E1-84C6-3F449048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99E19-F471-4F86-A6C0-F1B7ED62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24C11-C324-4A84-9976-3DED4DC3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99BAF-1596-48E0-BB8E-FC8E2ED9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2D2FF-5C38-4E87-9D6F-FC8EF700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4D8D0-4D38-4AD0-B465-90912F08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588-105C-4B3E-A64B-19065847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9D648-A830-47A4-93C5-B78E842F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F99F2-EADE-43DC-8DAC-12045E69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92B34-97EB-4B72-AD3C-45BF1D5C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F4ADF-67AA-4AC1-B414-435A0FC2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7476C-1AFF-4283-ACF6-43E817C4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B92-D2B4-42E1-9EAA-0C60C6A4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218-A727-428C-B850-EC2ABBA2C1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F774-2E59-41F5-91B7-CBE3642329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01FC-993F-4CFA-8960-9F0C90DEFD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E570-3D63-4105-889D-93778A7D2A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89B5-DAD6-41ED-B187-CD04DE6366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6CA-3270-4E7C-82D3-4DF6743A70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1FDF-4E55-4E51-8C42-8048E11D59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1412640"/>
            <a:ext cx="712764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ОБЛЕМНОГО ОБУЧЕНИЯ НА УРОКАХ В НАЧАЛЬНОЙ ШКОЛ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543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ПРОБЛЕМНОГО ОБУЧ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2349360"/>
            <a:ext cx="428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в тех случаях, когда учитель создает проблемную ситуацию,  которая под его руководством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ешается учащими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ожет подсказать учащимся первый или затруднительный шаг 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и проблемы. В основном ученики обдумывают решен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самостоятельно. Наиболее наглядный прием частично поискового метода — эвристическая бесед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00720" y="2349000"/>
            <a:ext cx="4303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ам формулирует задачи проблемного характера, а учащиеся решают их самостоятельно, осуществляя тем самым творческий подход. Этот метод целесообразно использовать на обобщающих урок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3560" y="1520640"/>
            <a:ext cx="3584880" cy="6717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ично-поисковый мет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04040" y="1589400"/>
            <a:ext cx="3593520" cy="59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исковый мет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115640" y="1915920"/>
            <a:ext cx="705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самостоятельно без помощи учителя открывают и усваивают новые знания и умения, выдвигая и реша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облемы. Задача учителя — нацелить школьников на постановку проблемы, стимулировать их познавательную активность. Данный метод применим в старших класс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41360" y="450360"/>
            <a:ext cx="4372560" cy="845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ий мет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64680" y="33336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 является одним из наиболее эффективных средств активизации мышления ученика. Суть активности, достигаемой при проблемном обучении, заключается в том, что ученик анализирует фактический материал и оперирует им для самостоятельного получения новой информации. Другими словами, это расширение, углубление знаний при помощи ранее усвоенных знаний или новое применение прежних зна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473720" y="3133800"/>
            <a:ext cx="42750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46748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БЛЕМНОГО ОБУЧЕНИЯ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4000" y="148428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не только результатов научного познания, но и пути, процесса получения этих результатов (овладение способами познания). Оно предполагает формирование и развитие интеллектуальной, мотивационной, эмоциональной и других сфер, развитие индивидуальных способностей школьни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ками проблемы являются:</a:t>
            </a:r>
            <a:br>
              <a:rPr sz="22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00200"/>
            <a:ext cx="842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ение проблемной ситуации (в науке или в процессе обучения)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определенный интерес к поиску решения 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неоднозначного пути решения, обусловливающая различные направления поиск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126828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особый вид мыслительноговзаимодействия субъекта и объекта; характеризуется таким психическим состоянием, возникающим у учащегося при выполнении задания, которое побуждает найти (открыть или усвоить) новые, ранее не известные субъекту знания или способы действ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ЕМЫ СОЗДАНИЯ ПРОБЛЕМНЫХ СИТУАЦИЙ: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сталкиваются с необходимостью использовать ране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ные знания в новых практических условия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е между теоретически возможным способом решения задачи и практической его реализаци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затруднение в обосновании и осознании выполняемых учащимися действ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не знают способа решения поставленной задачи и т.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ЕМА ПРОБЛЕМНОГО ОБУЧЕНИЯ: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ителем проблемной задачи, ориентированной на ситуацию, побуждающую к поиску неизвестного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, решение поставленной проблемы на основе построения гипотезы и ее проверки, применения знаний для решения конкрет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7272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f39d"/>
                </a:solidFill>
                <a:latin typeface="Times New Roman"/>
                <a:ea typeface="Times New Roman"/>
              </a:rPr>
              <a:t>ОСОБЕННОСТИ ТЕХНОЛОГИЙ ПРОБЛЕМНОГО ОБУЧЕНИЯ СОСТОЯТ ВО</a:t>
            </a:r>
            <a:br>
              <a:rPr sz="3200"/>
            </a:br>
            <a:r>
              <a:rPr b="1" lang="ru-RU" sz="3200" spc="-1" strike="noStrike">
                <a:solidFill>
                  <a:srgbClr val="fff39d"/>
                </a:solidFill>
                <a:latin typeface="Times New Roman"/>
                <a:ea typeface="Times New Roman"/>
              </a:rPr>
              <a:t> ВЗАИМОДЕЙСТВИИ УЧАСТНИКОВ ОБРАЗОВАТЕЛЬНОГО ПРОЦЕССА, КОТОРОЕ ОСНОВАНО НА СОТВОРЧЕСТВЕ. </a:t>
            </a:r>
            <a:endParaRPr b="0" lang="en-US" sz="32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ПРОБЛЕМНОГО ОБУЧЕНИЯ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9640" y="1916280"/>
            <a:ext cx="746784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-поисковые,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ые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методы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1T20:53:22Z</dcterms:created>
  <dc:creator>Пользователь Windows</dc:creator>
  <dc:description/>
  <dc:language>en-US</dc:language>
  <cp:lastModifiedBy>Пользователь Windows</cp:lastModifiedBy>
  <dcterms:modified xsi:type="dcterms:W3CDTF">2019-05-21T21:15:15Z</dcterms:modified>
  <cp:revision>3</cp:revision>
  <dc:subject/>
  <dc:title>Технология проблемного обучения на уроках в начальной школе</dc:title>
</cp:coreProperties>
</file>