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698-D445-4A29-9DB1-2DAC827A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4C6-6303-46A4-9557-64A2F1ED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BDA-A99B-46F4-9556-8AE48921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FB8-639B-40E0-B201-37BF2760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1949-B580-43B7-BF43-42E0DFB1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EB4A-0B0D-472E-AF46-F65C649B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E0B8-43AD-40AA-8C9C-67C0C85E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F243-FFBB-4602-9316-D8009609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EEDE-65C0-4A59-A7AD-AF12FA2A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3BB5-A210-4C8F-8A9B-70B4699D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5D3D-A966-404C-8040-02B9BF7A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AC0-9CEF-418E-AED3-E8E75A99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4708-D0C3-46F8-8DEF-76A146FB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46B6-0967-4A07-A3BC-7028FCC3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05ED-CE95-4133-A3A8-A9F07F53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B4ED-FD46-4E8C-8895-12B9BE9A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3223-0D9D-495B-88EB-0D77E0C8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043EB-92C7-4312-B38D-3AA94821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D790C-6D1B-4258-A956-215CA063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C3279-FE47-4434-BA56-29DCFD2A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010F2-DE4B-42FF-B828-27C85133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9BF5F-D8F6-4581-81C9-A8C2BA1B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1B9-BB44-4C75-979B-143EF2F0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F702A-35FB-4292-A7A8-779E3BDB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F4E8B-FB1A-451F-8D82-8A9F882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428DB-F788-4157-8D19-C8C57A18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BB272-972E-45FA-992A-40BD99F4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AE0A0-9CD3-49F9-9E81-EFC3E05F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2B8D8-5E49-4D2C-9E17-671EFA11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B5F18-2F8D-4427-8E39-633F1B62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F023-9F6A-48E3-8BFD-7DC895F2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4B89-E8DC-4BA9-A446-9B943E28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6D2C-E3BF-4CEA-AEEE-1D3F871A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79B-CD4C-44AF-B65E-A3EA1E43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36C5E-B600-4273-B4F7-09C54C2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C631A-301F-4C0D-8201-225E656E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22CF-C5A6-455B-B691-3994DE61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41DD7-B35B-4721-AD79-177C340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8A84-DDFC-41DC-B99E-042FA2A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70C4-84CB-4B1A-83D6-61FF4168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266E-77C4-4746-A776-6A79ABA1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6B0E-7817-4071-A36C-ADB33655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ADB8-44E1-49A6-9B6D-8DA0BE52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810DB-F3DD-42DD-9879-E337CCD8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F09-CB79-46A9-8497-A9FB002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56C28-95C0-4D01-8B40-B19A6C1E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1CB5C-F110-43D8-AA68-EB6BF3A0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A4B5C-BA80-490C-AD19-4B91E44F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2B022-9D5E-425B-873B-9477E723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7CCA1-DE4B-46BA-8C63-5C3FACAC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7F585-1CE7-42CB-8F35-0B6EBAD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7256E-15D7-4296-A63A-31E7C0A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58C98-EECB-425A-8522-8536F75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8AA81-2DC9-4969-88A8-ECD8BCB5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AB5C4-7EB4-4346-A3B2-0B099357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E49-F110-4E5C-93C9-C2B3C7C0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DC820-1ABB-4B6C-86C9-B920A8DF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2AC0A-F27E-4BE7-8F28-50FE1347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5C21E-8C21-494D-B7A6-9EE55FB7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F8BED-2D67-4026-B1CF-D0D4B3FC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2AF9B-2136-466D-BD43-1AE5B627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5F3A9-691D-4502-9396-D690BF64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8AF4C-EB6F-44E8-B983-8E5CDB46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28945-6852-40B2-99D0-B1872B8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DC3B8-FA2B-4D80-8C6B-A452170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6E1AF-C5CD-4F30-AD9F-52505873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6B2-4683-48EB-B3E4-DD70835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B762E-142E-4B7E-B88D-4688F577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19DF9-3750-495D-A5A6-7F3C8C38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816C6-78C2-4A92-B160-75AB212D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480421-8AEF-412B-B0FA-BD63E9F8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A3B4E-118B-4E34-84EB-C548C0A7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96692A-5391-4B45-9A66-39F160FE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A0B1B-9246-499D-8079-C9ED41DE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FA586-FD8F-4C89-A680-BF722389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9E902-75ED-498B-9EB3-D5023DF7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9F959-166C-4373-8AF4-F71DCAB9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CE1-3890-485E-AEFC-EE5BE67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2033B-42D4-4ACD-9F8F-8B52D414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F9F59-6AB6-41C3-806C-E57C6403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5CC67-64D2-4C64-B14F-A10AA36E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330D4-EBD1-4080-81B7-70588D30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B8DBA-F9C5-4B1C-AB53-992C7D52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AC9-634F-403A-BF28-1FE4DA71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8C0A-6949-4B66-9BC0-B83369C940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1B24-75C3-454B-8BF6-39E173FE3DB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F52-207E-4C5D-A721-E7D2D3E0CC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912A-A90F-4C05-A95D-848FEC6E20C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3188-3FB1-49CF-A4B6-A47FD92EA7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B61E-39F0-431C-B859-C797CE2C15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5A5A-CF99-4766-8374-50D5A6F986F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2000" y="1412640"/>
            <a:ext cx="712764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ПРОБЛЕМНОГО ОБУЧЕНИЯ НА УРОКАХ В НАЧАЛЬНОЙ ШКОЛ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543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ПРОБЛЕМНОГО ОБУЧ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2349360"/>
            <a:ext cx="428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в тех случаях, когда учитель создает проблемную ситуацию,  которая под его руководством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ешается учащимис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ожет подсказать учащимся первый или затруднительный шаг в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и проблемы. В основном ученики обдумывают решени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самостоятельно. Наиболее наглядный прием частично поискового метода — эвристическая бесед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00720" y="2349000"/>
            <a:ext cx="4303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сам формулирует задачи проблемного характера, а учащиеся решают их самостоятельно, осуществляя тем самым творческий подход. Этот метод целесообразно использовать на обобщающих урока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93560" y="1520640"/>
            <a:ext cx="3584880" cy="6717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ично-поисковый мет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04040" y="1589400"/>
            <a:ext cx="3593520" cy="59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исковый мет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115640" y="1915920"/>
            <a:ext cx="705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и самостоятельно без помощи учителя открывают и усваивают новые знания и умения, выдвигая и реша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роблемы. Задача учителя — нацелить школьников на постановку проблемы, стимулировать их познавательную активность. Данный метод применим в старших класса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41360" y="450360"/>
            <a:ext cx="4372560" cy="845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ельский мет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64680" y="33336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 является одним из наиболее эффективных средств активизации мышления ученика. Суть активности, достигаемой при проблемном обучении, заключается в том, что ученик анализирует фактический материал и оперирует им для самостоятельного получения новой информации. Другими словами, это расширение, углубление знаний при помощи ранее усвоенных знаний или новое применение прежних зна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4473720" y="3133800"/>
            <a:ext cx="42750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46748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ПРОБЛЕМНОГО ОБУЧЕНИЯ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4000" y="148428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не только результатов научного познания, но и пути, процесса получения этих результатов (овладение способами познания). Оно предполагает формирование и развитие интеллектуальной, мотивационной, эмоциональной и других сфер, развитие индивидуальных способностей школьник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наками проблемы являются:</a:t>
            </a:r>
            <a:br>
              <a:rPr sz="22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00200"/>
            <a:ext cx="842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ение проблемной ситуации (в науке или в процессе обучения)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и определенный интерес к поиску решения 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неоднозначного пути решения, обусловливающая различные направления поиск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23640" y="126828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особый вид мыслительноговзаимодействия субъекта и объекта; характеризуется таким психическим состоянием, возникающим у учащегося при выполнении задания, которое побуждает найти (открыть или усвоить) новые, ранее не известные субъекту знания или способы действ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ЕМЫ СОЗДАНИЯ ПРОБЛЕМНЫХ СИТУАЦИЙ: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сталкиваются с необходимостью использовать ране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ные знания в новых практических условия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е между теоретически возможным способом решения задачи и практической его реализаци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затруднение в обосновании и осознании выполняемых учащимися действ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не знают способа решения поставленной задачи и т.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ЕМА ПРОБЛЕМНОГО ОБУЧЕНИЯ: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учителем проблемной задачи, ориентированной на ситуацию, побуждающую к поиску неизвестного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, решение поставленной проблемы на основе построения гипотезы и ее проверки, применения знаний для решения конкрет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727236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39d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f39d"/>
                </a:solidFill>
                <a:latin typeface="Times New Roman"/>
                <a:ea typeface="Times New Roman"/>
              </a:rPr>
              <a:t>ОСОБЕННОСТИ ТЕХНОЛОГИЙ ПРОБЛЕМНОГО ОБУЧЕНИЯ СОСТОЯТ ВО</a:t>
            </a:r>
            <a:br>
              <a:rPr sz="3200"/>
            </a:br>
            <a:r>
              <a:rPr b="1" lang="ru-RU" sz="3200" spc="-1" strike="noStrike">
                <a:solidFill>
                  <a:srgbClr val="fff39d"/>
                </a:solidFill>
                <a:latin typeface="Times New Roman"/>
                <a:ea typeface="Times New Roman"/>
              </a:rPr>
              <a:t> ВЗАИМОДЕЙСТВИИ УЧАСТНИКОВ ОБРАЗОВАТЕЛЬНОГО ПРОЦЕССА, КОТОРОЕ ОСНОВАНО НА СОТВОРЧЕСТВЕ. </a:t>
            </a:r>
            <a:endParaRPr b="0" lang="en-US" sz="32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39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ПРОБЛЕМНОГО ОБУЧЕНИЯ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39640" y="1916280"/>
            <a:ext cx="7467840" cy="3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-поисковые,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ые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е методы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1T20:53:22Z</dcterms:created>
  <dc:creator>Пользователь Windows</dc:creator>
  <dc:description/>
  <dc:language>en-US</dc:language>
  <cp:lastModifiedBy>Пользователь Windows</cp:lastModifiedBy>
  <dcterms:modified xsi:type="dcterms:W3CDTF">2019-05-21T21:15:15Z</dcterms:modified>
  <cp:revision>3</cp:revision>
  <dc:subject/>
  <dc:title>Технология проблемного обучения на уроках в начальной школе</dc:title>
</cp:coreProperties>
</file>