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media/image19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D7F3-45AE-4874-94D9-456592C91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8C0A-AEFB-4625-864A-53BECD032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7F3-2A9D-4B29-B510-E024A067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2D5-BCA2-4D98-B228-13146737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42C-486D-477A-93EE-BE7A1B16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48B-0A8F-4B3B-B5CF-50441ACD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76B3-4CBB-4845-8155-586A9B9A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7C5-97AD-4B7D-AD18-C09E9FEA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043E-B27C-40FC-9A2E-68D7EAF4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FE79-4CB9-433C-95AA-F7813C9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047F-8ED9-4B6F-B3C3-C103A76D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6A38-5E78-4DDF-9CCB-0C38045D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73AD-DDE6-4D33-9E43-40A28EE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382-299C-4B77-ADC7-D8DE557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5B30-F23D-4F66-B232-32535980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FBDD-B947-483A-A24D-2D377D9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641B-BFAF-46D8-8698-14E3698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832E-D203-4313-9374-5B55AF0A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A452-BE69-4CE4-A3FD-0208FAD8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6A28-CA47-4273-813F-4E7D3078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FB58-26CD-4A3E-B383-F6963B0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CF9D-7F6C-491D-814D-4CB49B00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7006-28B9-4CBD-8771-1EE5094F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13AC-6BE6-4981-A778-166D4E3C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2C5-910E-4EEB-8E3B-E460623B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54AA-AA20-4364-AA8C-7BBEF02C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45B1-0450-4EE7-AD9C-880A7283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6B43-BB90-41CD-A655-C37F7C8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C67C-7E2E-454C-863D-2A4EE06C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9EB8-FCCD-4088-A4C0-B8DE8F39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99EEF-E02A-4E4B-B2B7-6D774309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8916F-41AB-48E7-8C05-46478C27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6DC1-D73D-4642-93DD-A27D56F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9F9FF-4083-4B45-8947-449A4DF0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859E-5E0D-4727-BA83-CC6377E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95A-81EA-4EBE-AF73-086B707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0C9B-0D6A-43A3-A81C-7BCC9C0B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A526-36B3-4E1A-AE73-3FADAF30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EEFD-F7DA-48C8-BCFC-872E48B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EBCA-65E4-4BC8-89CC-F30C21D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537D-EDE2-41BB-BAAF-9B1C613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6231-9DDB-478D-8C08-7EE21E3D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E6C0-9170-463C-8890-01C7F297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3DE7-1364-4C44-B222-5F54A02D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0F41B-8763-41E3-B9DA-54D5723A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2065-1D9D-4B3E-8429-52F855EB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002-48B7-413D-8560-BE7CAC0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2DF0-1857-40BD-B89A-5BCF6293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77DB5-1AE7-4C2C-90A5-BB4AC87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D31A-2DC0-4B04-A6B6-61128CC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4E7A-C76A-4B95-B26F-11C7754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C0C99-CBEA-4C23-8B64-3208A562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9694-B061-47B3-8F12-6D3F4CD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8EB4-0348-4D81-A4A5-36C5CF0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1D94F-64D2-4B23-A26C-7225000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4994A-E8E4-4F98-B635-AA56F6F0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3225-F26B-444F-9305-80FBC17C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DB0-77B3-4DC1-8544-7578500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4853-460D-43F3-A7C2-DD735670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A2BB-BA84-4625-AB02-F04883CF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4AF75-D90B-4527-8911-D28D8E6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BF070-D432-46D9-A982-9B746381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E0D0-303A-4C47-B42A-20F20552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0A31E-A5B2-4CD2-9DDF-7738113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AAE8-E1C9-4270-9D61-AC68A038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234D-CFFC-4991-AF46-AD08D296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AC983-CD10-4030-BF6A-3876A12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BC4A9-DFD9-4AC4-A323-DBD967A5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B1F-0214-427F-8DAC-8ABFDFC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3619-AF61-4154-B8CA-F46199B6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42B6-3F27-4BDB-ACA1-21BDADBD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FFC8-9A44-42C1-891D-A20BCC6E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2D39-87C8-4D30-9109-D4E14ACA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E937-EFB5-481D-AD4C-BA4864C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6504-5790-488A-AECD-334FB532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DC0DA-6FE0-4EBE-8163-2D90CC1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9AA58-BEEF-47A7-9B3C-41803B69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BC51A-FBC6-4389-88CF-D237950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2ABA-1DE6-4B75-9CB0-9D01D43C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2D4-675A-4F70-806B-7D173C5C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F29B-1F88-41F4-8317-77F4499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74E8-6B84-44A3-88A7-B8FDA27A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FD89-5024-4FA6-AFFB-38E58133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677D-9083-4E69-96B5-801F73F5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F72F-CB57-486E-85D8-CEA03873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32605-4F0F-428A-8428-CA1A9624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DE5D-1FBD-4398-BBBF-56D0B7F1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92D4-1521-4548-BABF-0095DD1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A2F69-477A-456F-B1F0-E803C15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6CD3-5D73-49DC-AE10-F76F3DC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FD9-39C2-438C-BA2E-3325313F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4111-2B54-462F-A52F-EEA35F3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3548-187F-453E-8324-4638E86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FE33-F0C3-452A-853C-BCC4810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9A95-8DCE-4631-AB33-F6BF527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A66FA-D1D9-4D41-9F2C-FC407A72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1E68-18FD-45AB-96A3-A560AE87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2472A-8D77-46DB-ABE7-EA09DB79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BD15-2FC5-4B7D-B25E-D1D367C5ACC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4101-DF3D-430E-BBD0-24D8D73E6D1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593-0E6B-4EEE-B41F-944A628E405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4FDB-2C0C-444A-8B88-42F8B295404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27F-5872-4BE4-B88E-C4050919C0C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DA4-4814-434B-9F12-2C4F75F4383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D5C7-D223-4359-9149-BF8784FDFDA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8FFE-189E-49D7-A08F-15FC36FD519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УМК «Перспективная начальная школа»</a:t>
            </a:r>
            <a:br>
              <a:rPr sz="5400"/>
            </a:br>
            <a:r>
              <a:rPr b="1" lang="ru-RU" sz="5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.Г. Чураков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Picture 2" descr="D:\ДОкументы\девочка.png"/>
          <p:cNvPicPr/>
          <p:nvPr/>
        </p:nvPicPr>
        <p:blipFill>
          <a:blip r:embed="rId1"/>
          <a:stretch/>
        </p:blipFill>
        <p:spPr>
          <a:xfrm>
            <a:off x="22320" y="4292640"/>
            <a:ext cx="1284120" cy="2368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ДОкументы\мальчик.png"/>
          <p:cNvPicPr/>
          <p:nvPr/>
        </p:nvPicPr>
        <p:blipFill>
          <a:blip r:embed="rId2"/>
          <a:stretch/>
        </p:blipFill>
        <p:spPr>
          <a:xfrm>
            <a:off x="7896240" y="4741920"/>
            <a:ext cx="1214280" cy="2090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p44_1sentyabrya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принципы УМК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16000" y="980640"/>
            <a:ext cx="77263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непрерывного общего развития каждого ребе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ает работу с разными источниками информации(учебник, хрестоматия, рабочая тетрадь, словари, Интернет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 сотрудничестве(в малой, большой учебной группе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 разном качестве(ведущего, ведомого, организатора учебной деятельности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ую работ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10" descr="i?id=62882050-09"/>
          <p:cNvPicPr/>
          <p:nvPr/>
        </p:nvPicPr>
        <p:blipFill>
          <a:blip r:embed="rId1"/>
          <a:stretch/>
        </p:blipFill>
        <p:spPr>
          <a:xfrm>
            <a:off x="7054920" y="5249880"/>
            <a:ext cx="2089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186920" y="1196640"/>
            <a:ext cx="7991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воссоздать целостность картины мира,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беспечить осознание ребёнком разнообразных связей между его объектами и явлениями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учёт межпредметных связей и разработка интегрированных курсов по русскому языку и литературному чтению, по окружающему миру и технологии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нцип целостности картины мира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3" name="i-main-pic" descr="Картинка 6 из 10"/>
          <p:cNvPicPr/>
          <p:nvPr/>
        </p:nvPicPr>
        <p:blipFill>
          <a:blip r:embed="rId1"/>
          <a:stretch/>
        </p:blipFill>
        <p:spPr>
          <a:xfrm>
            <a:off x="7093080" y="5084640"/>
            <a:ext cx="16812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116000" y="1699920"/>
            <a:ext cx="74246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иентирован на постоянну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ую поддержку всех учащихс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хранение разноуровневого представления знаний в течение всех лет начального обуч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освоить всё содержание образования на уровне обязательного миниму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</a:t>
            </a: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848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и принципы реализуют ведущую идею УМК: через рассмотрение частного(конкретное наблюдение) к пониманию общего(постижению закономерности); от общего, т.е. от постигнутой закономерности, к частному, т.е. к способу решения конкретной учебной задач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агает жёстко продуманную систему повторения, т. е. неоднократное возвращение к уже пройденному материалу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650520" y="188640"/>
            <a:ext cx="8510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ы прочности и наглядности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 охраны и укрепления психического и физического здоровья детей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9" name="i-main-pic" descr="Картинка 1 из 14216"/>
          <p:cNvPicPr/>
          <p:nvPr/>
        </p:nvPicPr>
        <p:blipFill>
          <a:blip r:embed="rId1"/>
          <a:stretch/>
        </p:blipFill>
        <p:spPr>
          <a:xfrm>
            <a:off x="5292720" y="2492280"/>
            <a:ext cx="3657600" cy="2430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971640" y="1684080"/>
            <a:ext cx="419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формирование привычек к чистоте, порядку, аккуратност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облюдение режима дн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оздание условий для активного участия детей в оздоровительных мероприятиях (утренняя гимнастика, динамические паузы во время занятий в школе, экскурсии на природу и др. 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еские свойства методической системы: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2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200" spc="-1" strike="noStrike">
                <a:solidFill>
                  <a:srgbClr val="aa8a14"/>
                </a:solidFill>
                <a:latin typeface="Corbel"/>
              </a:rPr>
              <a:t>КОМПЛЕКТНОСТЬ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 умения,  работать с учебником и с несколькими источниками информации (учебником, справочниками, простейшим оборудованием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умения делового общения (работа в парах, малым и большим коллективом).  </a:t>
            </a:r>
            <a:r>
              <a:rPr b="0" lang="ru-RU" sz="3200" spc="-1" strike="noStrike">
                <a:solidFill>
                  <a:srgbClr val="aa8a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31840" y="-470412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2560" y="115920"/>
            <a:ext cx="8101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 информацией между учебникам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монстрация не менее двух точек зрения при объяснении нового материал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ход за пределы учебника в зону словарей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личие внешней интриги, героями которой часто являются брат и сестра (Миша и Маша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щий метод ПРОЕКТОВ.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510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НСТРУМЕНТАЛЬНОСТЬ: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00000" y="620280"/>
            <a:ext cx="79423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ключение словарей разного назначения во все учебники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стоянная организация специальной работы по поиску информации внутри учебника, комплекта в целом и за его пределами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менение в учебном процессе простейших инструментов (лупы, рамочки, линейки, компаса, термометра, цветных карандашей в качестве маркеров и пр.) для решения учебных задач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нструмент восприятия действительности (создание условий для выражения детьми двух равноправных точек зрения, для работы с несколькими источниками информации).;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аксимальное размещение методического аппарата в корпусе учебника, рассчитанного как на индивидуальное выполнение заданий, так и на парную или групповую работу.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ИНТЕРАКТИВНОСТЬ: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42560" y="620640"/>
            <a:ext cx="81010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ямое диалоговое взаимодействие школьника и учебника за рамками урока посредством обращения к компьютеру или посредством переписки с учёными Академии Наук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ключение школьников в клубную деятельность(клубы «Ключ и заря», «Мы и окружающий мир»)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ация интерактивных проектов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ТЕГРАЦИЯ:</a:t>
            </a: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0" name="Picture 4" descr="wrldchat"/>
          <p:cNvPicPr/>
          <p:nvPr/>
        </p:nvPicPr>
        <p:blipFill>
          <a:blip r:embed="rId1"/>
          <a:stretch/>
        </p:blipFill>
        <p:spPr>
          <a:xfrm>
            <a:off x="7236000" y="508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76360" y="1125000"/>
            <a:ext cx="74246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условности строгого деления естественно-научного и гуманитарного знания на отдельные образовательные обла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зданию синтетических, интегрированных курсов, дающих школьникам представление о целостной картине мира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258560" y="1268280"/>
            <a:ext cx="72104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для самостоятельной работ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(для учителя)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810108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В состав УМК по каждому учебному предмету, как правило, включает в себя:</a:t>
            </a:r>
            <a:r>
              <a:rPr b="0" lang="ru-RU" sz="32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0" name="Picture 5" descr="3"/>
          <p:cNvPicPr/>
          <p:nvPr/>
        </p:nvPicPr>
        <p:blipFill>
          <a:blip r:embed="rId1"/>
          <a:stretch/>
        </p:blipFill>
        <p:spPr>
          <a:xfrm>
            <a:off x="7093080" y="3610080"/>
            <a:ext cx="1852560" cy="2585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4"/>
          <p:cNvPicPr/>
          <p:nvPr/>
        </p:nvPicPr>
        <p:blipFill>
          <a:blip r:embed="rId2"/>
          <a:stretch/>
        </p:blipFill>
        <p:spPr>
          <a:xfrm>
            <a:off x="2268360" y="3611520"/>
            <a:ext cx="1928880" cy="2691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5"/>
          <p:cNvPicPr/>
          <p:nvPr/>
        </p:nvPicPr>
        <p:blipFill>
          <a:blip r:embed="rId3"/>
          <a:stretch/>
        </p:blipFill>
        <p:spPr>
          <a:xfrm>
            <a:off x="6480" y="4192560"/>
            <a:ext cx="1890720" cy="2637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4"/>
          <p:cNvPicPr/>
          <p:nvPr/>
        </p:nvPicPr>
        <p:blipFill>
          <a:blip r:embed="rId4"/>
          <a:stretch/>
        </p:blipFill>
        <p:spPr>
          <a:xfrm>
            <a:off x="4572000" y="4176720"/>
            <a:ext cx="19224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31840" y="-487080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43" name="Picture 5" descr="Картинка 45 из 64000"/>
          <p:cNvPicPr/>
          <p:nvPr/>
        </p:nvPicPr>
        <p:blipFill>
          <a:blip r:embed="rId1"/>
          <a:stretch/>
        </p:blipFill>
        <p:spPr>
          <a:xfrm>
            <a:off x="2411280" y="3284640"/>
            <a:ext cx="5329440" cy="33321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6920" y="115560"/>
            <a:ext cx="7705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учебно-методический комплект «Перспективная начальная школа» позволяет достичь оптимального индивидуального развития каждого ребёнк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5" descr="Картинка 29 из 64000"/>
          <p:cNvPicPr/>
          <p:nvPr/>
        </p:nvPicPr>
        <p:blipFill>
          <a:blip r:embed="rId1"/>
          <a:stretch/>
        </p:blipFill>
        <p:spPr>
          <a:xfrm>
            <a:off x="1403280" y="2133720"/>
            <a:ext cx="7489800" cy="41878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2000" y="-360"/>
            <a:ext cx="7975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6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04256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МК раскрывает содержание русского языка, литературного чтения, математики, окружающего мира, технологии, информатики, музыки, иностранного язык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3" descr="ma1b"/>
          <p:cNvPicPr/>
          <p:nvPr/>
        </p:nvPicPr>
        <p:blipFill>
          <a:blip r:embed="rId1"/>
          <a:stretch/>
        </p:blipFill>
        <p:spPr>
          <a:xfrm>
            <a:off x="900000" y="250920"/>
            <a:ext cx="1825560" cy="2520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ma2b"/>
          <p:cNvPicPr/>
          <p:nvPr/>
        </p:nvPicPr>
        <p:blipFill>
          <a:blip r:embed="rId2"/>
          <a:stretch/>
        </p:blipFill>
        <p:spPr>
          <a:xfrm>
            <a:off x="3527280" y="250920"/>
            <a:ext cx="1806840" cy="2520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ma3b"/>
          <p:cNvPicPr/>
          <p:nvPr/>
        </p:nvPicPr>
        <p:blipFill>
          <a:blip r:embed="rId3"/>
          <a:stretch/>
        </p:blipFill>
        <p:spPr>
          <a:xfrm>
            <a:off x="6443640" y="260280"/>
            <a:ext cx="1771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azbooka1s"/>
          <p:cNvPicPr/>
          <p:nvPr/>
        </p:nvPicPr>
        <p:blipFill>
          <a:blip r:embed="rId1"/>
          <a:stretch/>
        </p:blipFill>
        <p:spPr>
          <a:xfrm>
            <a:off x="0" y="0"/>
            <a:ext cx="257976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lit1s"/>
          <p:cNvPicPr/>
          <p:nvPr/>
        </p:nvPicPr>
        <p:blipFill>
          <a:blip r:embed="rId2"/>
          <a:stretch/>
        </p:blipFill>
        <p:spPr>
          <a:xfrm>
            <a:off x="2590920" y="0"/>
            <a:ext cx="2579400" cy="3124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math1s"/>
          <p:cNvPicPr/>
          <p:nvPr/>
        </p:nvPicPr>
        <p:blipFill>
          <a:blip r:embed="rId3"/>
          <a:stretch/>
        </p:blipFill>
        <p:spPr>
          <a:xfrm>
            <a:off x="5181480" y="0"/>
            <a:ext cx="2581560" cy="3124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nashmir1s"/>
          <p:cNvPicPr/>
          <p:nvPr/>
        </p:nvPicPr>
        <p:blipFill>
          <a:blip r:embed="rId4"/>
          <a:stretch/>
        </p:blipFill>
        <p:spPr>
          <a:xfrm>
            <a:off x="0" y="3124080"/>
            <a:ext cx="2579760" cy="3124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rus1s"/>
          <p:cNvPicPr/>
          <p:nvPr/>
        </p:nvPicPr>
        <p:blipFill>
          <a:blip r:embed="rId5"/>
          <a:stretch/>
        </p:blipFill>
        <p:spPr>
          <a:xfrm>
            <a:off x="2590920" y="3124080"/>
            <a:ext cx="2579400" cy="3124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cat1_item52"/>
          <p:cNvPicPr/>
          <p:nvPr/>
        </p:nvPicPr>
        <p:blipFill>
          <a:blip r:embed="rId6"/>
          <a:stretch/>
        </p:blipFill>
        <p:spPr>
          <a:xfrm>
            <a:off x="5181480" y="3124080"/>
            <a:ext cx="2221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27080" y="115920"/>
            <a:ext cx="7840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13204"/>
                </a:solidFill>
                <a:latin typeface="Times New Roman"/>
              </a:rPr>
              <a:t>Информационно-образовательная среда</a:t>
            </a:r>
            <a:br>
              <a:rPr sz="2900"/>
            </a:br>
            <a:r>
              <a:rPr b="1" lang="ru-RU" sz="2900" spc="-1" strike="noStrike">
                <a:solidFill>
                  <a:srgbClr val="713204"/>
                </a:solidFill>
                <a:latin typeface="Times New Roman"/>
              </a:rPr>
              <a:t> УМК «Перспективная начальная школа» 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5" name="Object 20"/>
          <p:cNvGraphicFramePr/>
          <p:nvPr/>
        </p:nvGraphicFramePr>
        <p:xfrm>
          <a:off x="3564000" y="1268280"/>
          <a:ext cx="18000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268280"/>
                    <a:ext cx="18000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87"/>
          <p:cNvGraphicFramePr/>
          <p:nvPr/>
        </p:nvGraphicFramePr>
        <p:xfrm>
          <a:off x="3924360" y="1484280"/>
          <a:ext cx="1152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2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1484280"/>
                    <a:ext cx="1152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90"/>
          <p:cNvGraphicFramePr/>
          <p:nvPr/>
        </p:nvGraphicFramePr>
        <p:xfrm>
          <a:off x="4211640" y="1700280"/>
          <a:ext cx="647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170028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AutoShape 10"/>
          <p:cNvSpPr/>
          <p:nvPr/>
        </p:nvSpPr>
        <p:spPr>
          <a:xfrm>
            <a:off x="684360" y="2060640"/>
            <a:ext cx="2340000" cy="86364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692360" y="2997360"/>
            <a:ext cx="0" cy="28872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179280" y="3284640"/>
            <a:ext cx="3745080" cy="3097080"/>
          </a:xfrm>
          <a:prstGeom prst="flowChartAlternateProcess">
            <a:avLst/>
          </a:prstGeom>
          <a:gradFill rotWithShape="0">
            <a:gsLst>
              <a:gs pos="0">
                <a:srgbClr val="ff99ff"/>
              </a:gs>
              <a:gs pos="100000">
                <a:srgbClr val="bb75fb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b363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программы(для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и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стом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е и контр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6372360" y="1341360"/>
            <a:ext cx="2376360" cy="115092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ог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4572000" y="2997360"/>
            <a:ext cx="4321080" cy="3527280"/>
          </a:xfrm>
          <a:prstGeom prst="flowChartAlternateProcess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c757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и для самостояте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развития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источни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рестома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- 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ный 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7667640" y="2565360"/>
            <a:ext cx="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04256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ритетом учебно-методического комплекта становится формирование деятельност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</a:rPr>
              <a:t>познавательно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</a:rPr>
              <a:t>речево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Times New Roman"/>
              </a:rPr>
              <a:t>организационной</a:t>
            </a:r>
            <a:r>
              <a:rPr b="0" lang="ru-RU" sz="3200" spc="-1" strike="noStrike">
                <a:solidFill>
                  <a:srgbClr val="7132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3" descr="P1010001"/>
          <p:cNvPicPr/>
          <p:nvPr/>
        </p:nvPicPr>
        <p:blipFill>
          <a:blip r:embed="rId1"/>
          <a:stretch/>
        </p:blipFill>
        <p:spPr>
          <a:xfrm>
            <a:off x="457200" y="228600"/>
            <a:ext cx="3733920" cy="230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P1010047"/>
          <p:cNvPicPr/>
          <p:nvPr/>
        </p:nvPicPr>
        <p:blipFill>
          <a:blip r:embed="rId2"/>
          <a:stretch/>
        </p:blipFill>
        <p:spPr>
          <a:xfrm>
            <a:off x="4724280" y="228600"/>
            <a:ext cx="40388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127080"/>
            <a:ext cx="7713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идея УМ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ерспективная начальная школ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92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ое развитие каждого ребенка н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педагогической поддержки его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и (возраста, способносте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а, склонностей, развития) в условия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организованной учебно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где ученик как равноправны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оцесса обучения  выступает то 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обучаемого, то в роли обучающего, то 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организатора учебной ситуац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4" descr="2SCH126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76248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отборе и изложении учебного материала учитывались следующие положен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187280" y="1844640"/>
            <a:ext cx="76550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школьни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й уровень его развит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ографическая принадлежность школьник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й уровень владения русским языком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ая наполняемость кла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9" descr="i?id=98174620-15"/>
          <p:cNvPicPr/>
          <p:nvPr/>
        </p:nvPicPr>
        <p:blipFill>
          <a:blip r:embed="rId1"/>
          <a:stretch/>
        </p:blipFill>
        <p:spPr>
          <a:xfrm>
            <a:off x="7020000" y="4724280"/>
            <a:ext cx="1919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познавательных интересов школьников и готовность к самообразовательной деятельности ; развитие умственных способностей, творческого мышления; воспитание уважения к эрудиции и предметной компетентности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е социально-психологической адаптированности к учебно-воспитательному процессу и к жизни в коллективе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ание физической культур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о-нравственное воспита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эстетического сознания младшего школьника и его художественного вкус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559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ые линии индивидуального развит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18:36Z</dcterms:created>
  <dc:creator>РОМАН</dc:creator>
  <dc:description/>
  <dc:language>en-US</dc:language>
  <cp:lastModifiedBy>MASHEENA</cp:lastModifiedBy>
  <dcterms:modified xsi:type="dcterms:W3CDTF">2018-05-16T09:50:05Z</dcterms:modified>
  <cp:revision>22</cp:revision>
  <dc:subject/>
  <dc:title>«Перспективная начальная школа»</dc:title>
</cp:coreProperties>
</file>