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3.jpeg" ContentType="image/jpeg"/>
  <Override PartName="/ppt/media/image6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1.wmf" ContentType="image/x-wmf"/>
  <Override PartName="/ppt/media/image19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22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0F84-2D76-4611-A46E-B2BD5AB7F5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3FE1-E00F-412D-8940-62A8FB2339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EC72-FDAC-45DA-AB4D-4E752B1A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5448-00A5-43D7-9898-131900D0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9FF8-4D49-4AE5-A1A9-973F74646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A939-1399-495E-BFB6-C0DF1CA8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1215-7C6B-479D-9E36-F90A1F069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403A-8DDE-4F4F-9A41-B3759AFB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08DF-DAD2-4333-BB5B-18CB82E7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EC22-56B8-4A6A-9736-8A50262A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8FE9-2531-4BE3-A881-8A35460E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44A4-8BF3-4500-BBF2-D46F2D02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44A9-C9A1-47BD-B2F7-CC8DF356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0E2E-3C10-4045-AB09-33A7E5B8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D994-88D3-4E61-A5CC-F2041C08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B84A-3ECB-4D3A-8855-E52B4F90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241A-761F-4B96-BEE7-A8A8E071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F565-932D-46EC-A9C5-442C93FD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AFE7-B816-460C-871A-7EF2FACD8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6A378-0A70-4458-9226-9DBEE6541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AA8FD-C817-43D7-A63C-72F1621B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6DA88-2A71-4C13-A411-3F0E734F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34486-FD0B-4902-8FAE-9B30B303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E65F4-A359-429D-913D-8C7BF567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BE1C-FE26-4CA8-ABAD-B1872A45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00DD9-3C6A-423E-B866-53A96553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99F41-A37B-461C-AA1A-09DF1449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DD281-6C52-4639-8994-381086C8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80625-92D2-4471-B0D8-D46F0182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1494D-5CF9-42EB-983A-9CB6E148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C0B19-67B8-40FC-B613-D588139B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554E1-96D1-48A5-B5DA-B568DED35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19088-D521-4F59-A6F5-85425B4D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F80FE-51FA-4D24-B95E-408175CA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C4B4B-D1C2-49BD-B78C-E8157205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7E5B-5540-4964-B191-D6FE289F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23673-D674-4F7E-B58A-6545CC58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9ADB7-45B2-4082-B67C-C7402229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3241B-B2AA-4B68-9F1B-3CFF0263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6CE09-A589-49C5-BC7C-E10338E6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6E603-AF1C-481C-AD18-F333A37F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CE9B8-C67F-4DAC-8328-FE74974E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60DA5-B34B-4978-BCF6-A384D880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C18C5-EF65-46B8-912E-B989705B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2FBD9-2FB8-4244-9A77-C47832D22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D8F60-15BE-4EDF-83FD-A2BA03F2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81A0-EB56-44A3-821F-C4FA0E75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0861F-B850-4C92-8EA9-D97AEEE1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5C43F-8E6D-443A-8CE8-79F5BCE8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2681D-F344-400D-8D22-8F3A333F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13033-58C9-4407-B9CF-67348363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CB6E7-30FF-43BB-9F8E-9A98D236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D616C-EC05-4802-85EE-E2C10D0C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50406-C6F1-4897-8A52-51BF38CB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D39AF-09F4-4910-917B-8958E67E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CFB13-0292-439E-86CA-FA0FF778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0CA41-E617-42E6-AB90-5128174D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B59F-FD04-4590-874F-B852CA38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5578F-AD28-4E3D-95C1-9A2E6617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5F3EA-C20F-4C05-9332-DF88DF58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1C677-9F6F-4DD4-8879-FADA72CF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7C3CB-5B4B-4FDD-8ADE-841508CE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7A20C-1E77-4D11-B86A-6A86D9C7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79E33-2468-4E18-8F43-335EC4CD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F35B4-D132-4ED6-92F6-4FCF5CA1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54AA1-AE76-4A5A-935D-5851A2B7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E369A-45A9-4F77-A8C4-D854850C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8BA18-8A8A-4454-81F9-5117DE2F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3411-5CB0-4337-942B-BBF9539E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7B036-D9F3-458B-B657-6BF6CF32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ADCB0-39E4-4AC6-88A5-99FEFC32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0DD32-7C9D-47C4-9641-B25549FCB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5040D-6C69-4BA6-9424-23599E55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C776C-B803-4902-8C57-525A99E6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93C59-2BEE-4AAA-B8B4-FBB23F63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09A33-BA39-4EEE-95A7-D076C20D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FE8F7-443F-417A-8543-FF512993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A23C2-9D9E-4C52-B04F-7F5153A0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0AEB2-6614-496E-A0E5-84AAD0AA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4AD5-6501-4882-B22E-200ED18F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BFE2F-4091-41A2-B1E6-763C246C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C6E53-2ABD-4687-9E88-30D0D2E0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A4A0F-F917-49CE-A014-0C875101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35B24-E64B-4F95-B8FA-91B69B218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685C7-7A2C-4C2C-8DF1-DB203218C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3ADEF-CC42-42C1-A69C-54037246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714C0-DB52-49C4-BE92-5FBB5F50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838A6-59FE-4C53-AB49-CD40AB1C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C2844-3321-4DD8-96D1-065DC38F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829C2-2FF9-46B6-9B33-50D9AE27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11AF-D5C9-44EA-8F43-43A77E16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570B3-D4B7-49FA-901D-7B4D345F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B186B-6A21-4804-8EBF-0F1E3C7B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BDA62-6301-4A18-A1EF-7E41134C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ED7B6-7872-4AC2-9A73-44A272A8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0701F-0519-4AC7-A117-83B48ADC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D21B7-BA05-4B6F-9601-DAC26CFB1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778FD-B115-43E6-8F70-39639B70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697A-426D-419F-B716-763C54CA684E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7465-500E-4C1D-9D1E-E663A7FED447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F34A-7B6D-4BB2-93B5-4CD1A2BD739F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C7BC-DE78-43D0-AE8C-2CE22A1BE95C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4DA4-1C7B-421F-89E9-790E76852018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8E09-66D7-4607-9348-34C53469E117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238B-6A3F-4730-B5F5-CF3A31D57F4C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540B-5FE9-4AA9-9A13-C9D853C06375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9144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УМК «Перспективная начальная школа»</a:t>
            </a:r>
            <a:br>
              <a:rPr sz="5400"/>
            </a:br>
            <a:r>
              <a:rPr b="1" lang="ru-RU" sz="54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Р.Г. Чуракова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4" name="Picture 2" descr="D:\ДОкументы\девочка.png"/>
          <p:cNvPicPr/>
          <p:nvPr/>
        </p:nvPicPr>
        <p:blipFill>
          <a:blip r:embed="rId1"/>
          <a:stretch/>
        </p:blipFill>
        <p:spPr>
          <a:xfrm>
            <a:off x="22320" y="4292640"/>
            <a:ext cx="1284120" cy="23684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D:\ДОкументы\мальчик.png"/>
          <p:cNvPicPr/>
          <p:nvPr/>
        </p:nvPicPr>
        <p:blipFill>
          <a:blip r:embed="rId2"/>
          <a:stretch/>
        </p:blipFill>
        <p:spPr>
          <a:xfrm>
            <a:off x="7896240" y="4741920"/>
            <a:ext cx="1214280" cy="20905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7" descr="p44_1sentyabrya"/>
          <p:cNvPicPr/>
          <p:nvPr/>
        </p:nvPicPr>
        <p:blipFill>
          <a:blip r:embed="rId3"/>
          <a:stretch/>
        </p:blipFill>
        <p:spPr>
          <a:xfrm>
            <a:off x="7524720" y="0"/>
            <a:ext cx="16192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сновные принципы УМК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116000" y="980640"/>
            <a:ext cx="77263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нцип непрерывного общего развития каждого ребен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ключает работу с разными источниками информации(учебник, хрестоматия, рабочая тетрадь, словари, Интернет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у в сотрудничестве(в малой, большой учебной группе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в разном качестве(ведущего, ведомого, организатора учебной деятельности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стоятельную работ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0" name="Picture 10" descr="i?id=62882050-09"/>
          <p:cNvPicPr/>
          <p:nvPr/>
        </p:nvPicPr>
        <p:blipFill>
          <a:blip r:embed="rId1"/>
          <a:stretch/>
        </p:blipFill>
        <p:spPr>
          <a:xfrm>
            <a:off x="7054920" y="5249880"/>
            <a:ext cx="208908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1186920" y="1196640"/>
            <a:ext cx="7991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воссоздать целостность картины мира,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обеспечить осознание ребёнком разнообразных связей между его объектами и явлениями;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учёт межпредметных связей и разработка интегрированных курсов по русскому языку и литературному чтению, по окружающему миру и технологии.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нцип целостности картины мира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23" name="i-main-pic" descr="Картинка 6 из 10"/>
          <p:cNvPicPr/>
          <p:nvPr/>
        </p:nvPicPr>
        <p:blipFill>
          <a:blip r:embed="rId1"/>
          <a:stretch/>
        </p:blipFill>
        <p:spPr>
          <a:xfrm>
            <a:off x="7093080" y="5084640"/>
            <a:ext cx="168120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1116000" y="1699920"/>
            <a:ext cx="742464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иентирован на постоянную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дагогическую поддержку всех учащихся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хранение разноуровневого представления знаний в течение всех лет начального обучен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можность освоить всё содержание образования на уровне обязательного минимум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учета индивидуальных возможностей и способностей школьников</a:t>
            </a:r>
            <a:r>
              <a:rPr b="1" lang="ru-RU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1116000" y="764640"/>
            <a:ext cx="78487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и принципы реализуют ведущую идею УМК: через рассмотрение частного(конкретное наблюдение) к пониманию общего(постижению закономерности); от общего, т.е. от постигнутой закономерности, к частному, т.е. к способу решения конкретной учебной задач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полагает жёстко продуманную систему повторения, т. е. неоднократное возвращение к уже пройденному материалу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650520" y="188640"/>
            <a:ext cx="85107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нципы прочности и наглядности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нцип охраны и укрепления психического и физического здоровья детей</a:t>
            </a: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29" name="i-main-pic" descr="Картинка 1 из 14216"/>
          <p:cNvPicPr/>
          <p:nvPr/>
        </p:nvPicPr>
        <p:blipFill>
          <a:blip r:embed="rId1"/>
          <a:stretch/>
        </p:blipFill>
        <p:spPr>
          <a:xfrm>
            <a:off x="5292720" y="2492280"/>
            <a:ext cx="3657600" cy="24307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971640" y="1684080"/>
            <a:ext cx="419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формирование привычек к чистоте, порядку, аккуратности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соблюдение режима дн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создание условий для активного участия детей в оздоровительных мероприятиях (утренняя гимнастика, динамические паузы во время занятий в школе, экскурсии на природу и др.  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ческие свойства методической системы: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00000" y="1412640"/>
            <a:ext cx="824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3200" spc="-1" strike="noStrike">
                <a:solidFill>
                  <a:srgbClr val="aa8a14"/>
                </a:solidFill>
                <a:latin typeface="Corbel"/>
              </a:rPr>
              <a:t>КОМПЛЕКТНОСТЬ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ормирование  умения,  работать с учебником и с несколькими источниками информации (учебником, справочниками, простейшим оборудованием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ормирование умения делового общения (работа в парах, малым и большим коллективом).  </a:t>
            </a:r>
            <a:r>
              <a:rPr b="0" lang="ru-RU" sz="3200" spc="-1" strike="noStrike">
                <a:solidFill>
                  <a:srgbClr val="aa8a14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31840" y="-4704120"/>
            <a:ext cx="69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42560" y="115920"/>
            <a:ext cx="810108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мен информацией между учебниками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емонстрация не менее двух точек зрения при объяснении нового материала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ход за пределы учебника в зону словарей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личие внешней интриги, героями которой часто являются брат и сестра (Миша и Маша)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щий метод ПРОЕКТОВ.    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5107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ИНСТРУМЕНТАЛЬНОСТЬ: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900000" y="620280"/>
            <a:ext cx="794232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ключение словарей разного назначения во все учебники;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остоянная организация специальной работы по поиску информации внутри учебника, комплекта в целом и за его пределами;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рименение в учебном процессе простейших инструментов (лупы, рамочки, линейки, компаса, термометра, цветных карандашей в качестве маркеров и пр.) для решения учебных задач;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инструмент восприятия действительности (создание условий для выражения детьми двух равноправных точек зрения, для работы с несколькими источниками информации).;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максимальное размещение методического аппарата в корпусе учебника, рассчитанного как на индивидуальное выполнение заданий, так и на парную или групповую работу. 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ИНТЕРАКТИВНОСТЬ: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1042560" y="620640"/>
            <a:ext cx="810108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ямое диалоговое взаимодействие школьника и учебника за рамками урока посредством обращения к компьютеру или посредством переписки с учёными Академии Наук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ключение школьников в клубную деятельность(клубы «Ключ и заря», «Мы и окружающий мир»)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еализация интерактивных проектов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31640" y="115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НТЕГРАЦИЯ:</a:t>
            </a:r>
            <a:r>
              <a:rPr b="1" lang="ru-RU" sz="43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40" name="Picture 4" descr="wrldchat"/>
          <p:cNvPicPr/>
          <p:nvPr/>
        </p:nvPicPr>
        <p:blipFill>
          <a:blip r:embed="rId1"/>
          <a:stretch/>
        </p:blipFill>
        <p:spPr>
          <a:xfrm>
            <a:off x="7236000" y="5084640"/>
            <a:ext cx="1547640" cy="15480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476360" y="1125000"/>
            <a:ext cx="7424640" cy="43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ние условности строгого деления естественно-научного и гуманитарного знания на отдельные образовательные област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к созданию синтетических, интегрированных курсов, дающих школьникам представление о целостной картине мира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1258560" y="1268280"/>
            <a:ext cx="72104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ик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естоматию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дь для самостоятельной работы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ое пособие(для учителя).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4449600" y="324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1042560" y="-171360"/>
            <a:ext cx="810108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3204"/>
                </a:solidFill>
                <a:latin typeface="Times New Roman"/>
                <a:ea typeface="Times New Roman"/>
              </a:rPr>
              <a:t>В состав УМК по каждому учебному предмету, как правило, включает в себя:</a:t>
            </a:r>
            <a:r>
              <a:rPr b="0" lang="ru-RU" sz="3200" spc="-1" strike="noStrike">
                <a:solidFill>
                  <a:srgbClr val="713204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0" name="Picture 5" descr="3"/>
          <p:cNvPicPr/>
          <p:nvPr/>
        </p:nvPicPr>
        <p:blipFill>
          <a:blip r:embed="rId1"/>
          <a:stretch/>
        </p:blipFill>
        <p:spPr>
          <a:xfrm>
            <a:off x="7093080" y="3610080"/>
            <a:ext cx="1852560" cy="25858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4"/>
          <p:cNvPicPr/>
          <p:nvPr/>
        </p:nvPicPr>
        <p:blipFill>
          <a:blip r:embed="rId2"/>
          <a:stretch/>
        </p:blipFill>
        <p:spPr>
          <a:xfrm>
            <a:off x="2268360" y="3611520"/>
            <a:ext cx="1928880" cy="26910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5"/>
          <p:cNvPicPr/>
          <p:nvPr/>
        </p:nvPicPr>
        <p:blipFill>
          <a:blip r:embed="rId3"/>
          <a:stretch/>
        </p:blipFill>
        <p:spPr>
          <a:xfrm>
            <a:off x="6480" y="4192560"/>
            <a:ext cx="1890720" cy="26370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3" descr="4"/>
          <p:cNvPicPr/>
          <p:nvPr/>
        </p:nvPicPr>
        <p:blipFill>
          <a:blip r:embed="rId4"/>
          <a:stretch/>
        </p:blipFill>
        <p:spPr>
          <a:xfrm>
            <a:off x="4572000" y="4176720"/>
            <a:ext cx="192240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31840" y="-4870800"/>
            <a:ext cx="69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43" name="Picture 5" descr="Картинка 45 из 64000"/>
          <p:cNvPicPr/>
          <p:nvPr/>
        </p:nvPicPr>
        <p:blipFill>
          <a:blip r:embed="rId1"/>
          <a:stretch/>
        </p:blipFill>
        <p:spPr>
          <a:xfrm>
            <a:off x="2411280" y="3284640"/>
            <a:ext cx="5329440" cy="333216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86920" y="115560"/>
            <a:ext cx="77058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 учебно-методический комплект «Перспективная начальная школа» позволяет достичь оптимального индивидуального развития каждого ребёнка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5" descr="Картинка 29 из 64000"/>
          <p:cNvPicPr/>
          <p:nvPr/>
        </p:nvPicPr>
        <p:blipFill>
          <a:blip r:embed="rId1"/>
          <a:stretch/>
        </p:blipFill>
        <p:spPr>
          <a:xfrm>
            <a:off x="1403280" y="2133720"/>
            <a:ext cx="7489800" cy="418788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52000" y="-360"/>
            <a:ext cx="79758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6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042560" y="2781360"/>
            <a:ext cx="810108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УМК раскрывает содержание русского языка, литературного чтения, математики, окружающего мира, технологии, информатики, музыки, иностранного языка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5" name="Picture 3" descr="ma1b"/>
          <p:cNvPicPr/>
          <p:nvPr/>
        </p:nvPicPr>
        <p:blipFill>
          <a:blip r:embed="rId1"/>
          <a:stretch/>
        </p:blipFill>
        <p:spPr>
          <a:xfrm>
            <a:off x="900000" y="250920"/>
            <a:ext cx="1825560" cy="25207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ma2b"/>
          <p:cNvPicPr/>
          <p:nvPr/>
        </p:nvPicPr>
        <p:blipFill>
          <a:blip r:embed="rId2"/>
          <a:stretch/>
        </p:blipFill>
        <p:spPr>
          <a:xfrm>
            <a:off x="3527280" y="250920"/>
            <a:ext cx="1806840" cy="25207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ma3b"/>
          <p:cNvPicPr/>
          <p:nvPr/>
        </p:nvPicPr>
        <p:blipFill>
          <a:blip r:embed="rId3"/>
          <a:stretch/>
        </p:blipFill>
        <p:spPr>
          <a:xfrm>
            <a:off x="6443640" y="260280"/>
            <a:ext cx="17715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azbooka1s"/>
          <p:cNvPicPr/>
          <p:nvPr/>
        </p:nvPicPr>
        <p:blipFill>
          <a:blip r:embed="rId1"/>
          <a:stretch/>
        </p:blipFill>
        <p:spPr>
          <a:xfrm>
            <a:off x="0" y="0"/>
            <a:ext cx="2579760" cy="31240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" descr="lit1s"/>
          <p:cNvPicPr/>
          <p:nvPr/>
        </p:nvPicPr>
        <p:blipFill>
          <a:blip r:embed="rId2"/>
          <a:stretch/>
        </p:blipFill>
        <p:spPr>
          <a:xfrm>
            <a:off x="2590920" y="0"/>
            <a:ext cx="2579400" cy="3124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math1s"/>
          <p:cNvPicPr/>
          <p:nvPr/>
        </p:nvPicPr>
        <p:blipFill>
          <a:blip r:embed="rId3"/>
          <a:stretch/>
        </p:blipFill>
        <p:spPr>
          <a:xfrm>
            <a:off x="5181480" y="0"/>
            <a:ext cx="2581560" cy="31240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nashmir1s"/>
          <p:cNvPicPr/>
          <p:nvPr/>
        </p:nvPicPr>
        <p:blipFill>
          <a:blip r:embed="rId4"/>
          <a:stretch/>
        </p:blipFill>
        <p:spPr>
          <a:xfrm>
            <a:off x="0" y="3124080"/>
            <a:ext cx="2579760" cy="31244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6" descr="rus1s"/>
          <p:cNvPicPr/>
          <p:nvPr/>
        </p:nvPicPr>
        <p:blipFill>
          <a:blip r:embed="rId5"/>
          <a:stretch/>
        </p:blipFill>
        <p:spPr>
          <a:xfrm>
            <a:off x="2590920" y="3124080"/>
            <a:ext cx="2579400" cy="31244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cat1_item52"/>
          <p:cNvPicPr/>
          <p:nvPr/>
        </p:nvPicPr>
        <p:blipFill>
          <a:blip r:embed="rId6"/>
          <a:stretch/>
        </p:blipFill>
        <p:spPr>
          <a:xfrm>
            <a:off x="5181480" y="3124080"/>
            <a:ext cx="2221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27080" y="115920"/>
            <a:ext cx="78408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13204"/>
                </a:solidFill>
                <a:latin typeface="Times New Roman"/>
              </a:rPr>
              <a:t>Информационно-образовательная среда</a:t>
            </a:r>
            <a:br>
              <a:rPr sz="2900"/>
            </a:br>
            <a:r>
              <a:rPr b="1" lang="ru-RU" sz="2900" spc="-1" strike="noStrike">
                <a:solidFill>
                  <a:srgbClr val="713204"/>
                </a:solidFill>
                <a:latin typeface="Times New Roman"/>
              </a:rPr>
              <a:t> УМК «Перспективная начальная школа» </a:t>
            </a:r>
            <a:br>
              <a:rPr sz="2900"/>
            </a:b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95" name="Object 20"/>
          <p:cNvGraphicFramePr/>
          <p:nvPr/>
        </p:nvGraphicFramePr>
        <p:xfrm>
          <a:off x="3564000" y="1268280"/>
          <a:ext cx="180000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1268280"/>
                    <a:ext cx="180000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287"/>
          <p:cNvGraphicFramePr/>
          <p:nvPr/>
        </p:nvGraphicFramePr>
        <p:xfrm>
          <a:off x="3924360" y="1484280"/>
          <a:ext cx="1152360" cy="11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8" name="Object 28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1484280"/>
                    <a:ext cx="115236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290"/>
          <p:cNvGraphicFramePr/>
          <p:nvPr/>
        </p:nvGraphicFramePr>
        <p:xfrm>
          <a:off x="4211640" y="1700280"/>
          <a:ext cx="64764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0" name="Object 29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1640" y="1700280"/>
                    <a:ext cx="647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AutoShape 10"/>
          <p:cNvSpPr/>
          <p:nvPr/>
        </p:nvSpPr>
        <p:spPr>
          <a:xfrm>
            <a:off x="684360" y="2060640"/>
            <a:ext cx="2340000" cy="863640"/>
          </a:xfrm>
          <a:prstGeom prst="flowChartAlternateProcess">
            <a:avLst/>
          </a:prstGeom>
          <a:gradFill rotWithShape="0">
            <a:gsLst>
              <a:gs pos="0">
                <a:srgbClr val="ff99ff"/>
              </a:gs>
              <a:gs pos="100000">
                <a:srgbClr val="bb75fb"/>
              </a:gs>
            </a:gsLst>
            <a:lin ang="2700000"/>
          </a:gradFill>
          <a:ln w="0">
            <a:noFill/>
          </a:ln>
          <a:effectLst>
            <a:outerShdw dist="107932" dir="2700000" blurRad="0" rotWithShape="0">
              <a:srgbClr val="b363d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метод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8"/>
          <p:cNvSpPr/>
          <p:nvPr/>
        </p:nvSpPr>
        <p:spPr>
          <a:xfrm>
            <a:off x="1692360" y="2997360"/>
            <a:ext cx="0" cy="288720"/>
          </a:xfrm>
          <a:prstGeom prst="line">
            <a:avLst/>
          </a:prstGeom>
          <a:ln w="38160">
            <a:solidFill>
              <a:srgbClr val="99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9"/>
          <p:cNvSpPr/>
          <p:nvPr/>
        </p:nvSpPr>
        <p:spPr>
          <a:xfrm>
            <a:off x="179280" y="3284640"/>
            <a:ext cx="3745080" cy="3097080"/>
          </a:xfrm>
          <a:prstGeom prst="flowChartAlternateProcess">
            <a:avLst/>
          </a:prstGeom>
          <a:gradFill rotWithShape="0">
            <a:gsLst>
              <a:gs pos="0">
                <a:srgbClr val="ff99ff"/>
              </a:gs>
              <a:gs pos="100000">
                <a:srgbClr val="bb75fb"/>
              </a:gs>
            </a:gsLst>
            <a:lin ang="2700000"/>
          </a:gradFill>
          <a:ln w="0">
            <a:noFill/>
          </a:ln>
          <a:effectLst>
            <a:outerShdw dist="107932" dir="2700000" blurRad="0" rotWithShape="0">
              <a:srgbClr val="b363d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ие программы(для учите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тетр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ое пособ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чите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естома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ые и контро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1"/>
          <p:cNvSpPr/>
          <p:nvPr/>
        </p:nvSpPr>
        <p:spPr>
          <a:xfrm>
            <a:off x="6372360" y="1341360"/>
            <a:ext cx="2376360" cy="1150920"/>
          </a:xfrm>
          <a:prstGeom prst="flowChartAlternateProcess">
            <a:avLst/>
          </a:prstGeom>
          <a:gradFill rotWithShape="0">
            <a:gsLst>
              <a:gs pos="0">
                <a:srgbClr val="ffcc00"/>
              </a:gs>
              <a:gs pos="100000">
                <a:srgbClr val="ffff66"/>
              </a:gs>
            </a:gsLst>
            <a:lin ang="2700000"/>
          </a:gradFill>
          <a:ln w="0">
            <a:noFill/>
          </a:ln>
          <a:effectLst>
            <a:outerShdw dist="107932" dir="2700000" blurRad="0" rotWithShape="0">
              <a:srgbClr val="c7573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чен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ога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едмет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2"/>
          <p:cNvSpPr/>
          <p:nvPr/>
        </p:nvSpPr>
        <p:spPr>
          <a:xfrm>
            <a:off x="4572000" y="2997360"/>
            <a:ext cx="4321080" cy="3527280"/>
          </a:xfrm>
          <a:prstGeom prst="flowChartAlternateProcess">
            <a:avLst/>
          </a:prstGeom>
          <a:gradFill rotWithShape="0">
            <a:gsLst>
              <a:gs pos="0">
                <a:srgbClr val="ffcc00"/>
              </a:gs>
              <a:gs pos="100000">
                <a:srgbClr val="ffff66"/>
              </a:gs>
            </a:gsLst>
            <a:lin ang="2700000"/>
          </a:gradFill>
          <a:ln w="0">
            <a:noFill/>
          </a:ln>
          <a:effectLst>
            <a:outerShdw dist="107932" dir="2700000" blurRad="0" rotWithShape="0">
              <a:srgbClr val="c7573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ди для самостоятельн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для развития ре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й источник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рестомат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информа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- сай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ный 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4"/>
          <p:cNvSpPr/>
          <p:nvPr/>
        </p:nvSpPr>
        <p:spPr>
          <a:xfrm>
            <a:off x="7667640" y="2565360"/>
            <a:ext cx="0" cy="360360"/>
          </a:xfrm>
          <a:prstGeom prst="line">
            <a:avLst/>
          </a:prstGeom>
          <a:ln w="38160">
            <a:solidFill>
              <a:srgbClr val="99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1042560" y="2781360"/>
            <a:ext cx="810108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оритетом учебно-методического комплекта становится формирование деятельност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3204"/>
                </a:solidFill>
                <a:latin typeface="Times New Roman"/>
              </a:rPr>
              <a:t>познавательной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3204"/>
                </a:solidFill>
                <a:latin typeface="Times New Roman"/>
              </a:rPr>
              <a:t>речевой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3204"/>
                </a:solidFill>
                <a:latin typeface="Times New Roman"/>
              </a:rPr>
              <a:t>организационной</a:t>
            </a:r>
            <a:r>
              <a:rPr b="0" lang="ru-RU" sz="3200" spc="-1" strike="noStrike">
                <a:solidFill>
                  <a:srgbClr val="71320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8" name="Picture 3" descr="P1010001"/>
          <p:cNvPicPr/>
          <p:nvPr/>
        </p:nvPicPr>
        <p:blipFill>
          <a:blip r:embed="rId1"/>
          <a:stretch/>
        </p:blipFill>
        <p:spPr>
          <a:xfrm>
            <a:off x="457200" y="228600"/>
            <a:ext cx="3733920" cy="23036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P1010047"/>
          <p:cNvPicPr/>
          <p:nvPr/>
        </p:nvPicPr>
        <p:blipFill>
          <a:blip r:embed="rId2"/>
          <a:stretch/>
        </p:blipFill>
        <p:spPr>
          <a:xfrm>
            <a:off x="4724280" y="228600"/>
            <a:ext cx="403884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15640" y="127080"/>
            <a:ext cx="771372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идея УМК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ерспективная начальная школа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7920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альное развитие каждого ребенка н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е педагогической поддержки его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ости (возраста, способностей,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а, склонностей, развития) в условиях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 организованной учебной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и, где ученик как равноправный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 процесса обучения  выступает то в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и обучаемого, то в роли обучающего, то в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и организатора учебной ситуаци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2" name="Picture 4" descr="2SCH126"/>
          <p:cNvPicPr/>
          <p:nvPr/>
        </p:nvPicPr>
        <p:blipFill>
          <a:blip r:embed="rId1"/>
          <a:stretch/>
        </p:blipFill>
        <p:spPr>
          <a:xfrm>
            <a:off x="7704000" y="0"/>
            <a:ext cx="1440000" cy="12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87280" y="228600"/>
            <a:ext cx="76248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 отборе и изложении учебного материала учитывались следующие положения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187280" y="1844640"/>
            <a:ext cx="76550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 школьника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ый уровень его развития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ографическая принадлежность школьника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ый уровень владения русским языком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ая наполняемость класс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5" name="Picture 9" descr="i?id=98174620-15"/>
          <p:cNvPicPr/>
          <p:nvPr/>
        </p:nvPicPr>
        <p:blipFill>
          <a:blip r:embed="rId1"/>
          <a:stretch/>
        </p:blipFill>
        <p:spPr>
          <a:xfrm>
            <a:off x="7020000" y="4724280"/>
            <a:ext cx="19191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1116000" y="1052640"/>
            <a:ext cx="7848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е познавательных интересов школьников и готовность к самообразовательной деятельности ; развитие умственных способностей, творческого мышления; воспитание уважения к эрудиции и предметной компетентности;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спитание социально-психологической адаптированности к учебно-воспитательному процессу и к жизни в коллективе;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спитание физической культуры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циально-нравственное воспитание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е эстетического сознания младшего школьника и его художественного вкус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5596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тельные линии индивидуального развития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4:18:36Z</dcterms:created>
  <dc:creator>РОМАН</dc:creator>
  <dc:description/>
  <dc:language>en-US</dc:language>
  <cp:lastModifiedBy>MASHEENA</cp:lastModifiedBy>
  <dcterms:modified xsi:type="dcterms:W3CDTF">2018-05-16T09:50:05Z</dcterms:modified>
  <cp:revision>22</cp:revision>
  <dc:subject/>
  <dc:title>«Перспективная начальная школа»</dc:title>
</cp:coreProperties>
</file>