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F083-5241-4F58-BFC7-4FC8F378A0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3375-9C6F-4EFE-931E-01F884198E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B47-36F7-479B-BE30-204779D8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045B-6165-4E1F-8918-83A4ADCA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D96-F461-4429-83DD-38EB3792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5622-3CFE-416B-928D-4F755FAF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7ED0-D993-41B8-B7C0-BBFDDAD2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E058-3182-49C7-A85A-FD89CCC3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0A13-AEE9-42A4-85B3-DB08BFE2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E0BA-1854-42C1-8D11-D4837DF3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8CD3-296F-4119-B136-92FE6FF2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B8B1-2093-4EF7-B9C8-177315CE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04AF-6676-4513-95EE-64C20158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1F8D-94E4-4ACF-9263-595F49B8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D61B-3911-4D4A-92CE-E65C133E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1A5D-BD91-4633-9A6D-9ADEB496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FAED-6CB1-4C2E-83B0-F2E57728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ECFB-E0B8-4203-82F2-C854510F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7DF9-9368-41B5-A03E-4A0EF27D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78699-B788-4FB9-B4DF-E4705718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21E46-29D2-4732-9E6D-2FD65DC4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102B1-6C58-4B8C-9023-15C143AA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540EA-0503-4C76-AF0B-3A01014A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25D18-3ADD-4EB7-8E1C-5D4E7A91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8AE-5894-4114-86D7-98C66619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69C48-7C7C-4DF5-B2B1-A88E0FB8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C40060-96BF-4EA0-93F3-911E0E7A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1ACFB-E9C9-4EF5-BE01-5DF68C89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EBF4A-8DE7-4A1C-B5F1-8CB43A7E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3B7DD-718E-4525-A210-9AC13D36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F9790-C3F3-4EF0-92DA-D1CACC20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CBC89-9315-4B8A-A861-E8AEA1A9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8EC6C-1CDA-4277-BB62-0697A4DA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C9422-1B85-4FBF-9BD7-452F84B7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AD192-6A19-4F45-9EA5-F3F684C3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FF0-8169-4C32-90A0-A52AEEFD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EC266-6B3E-4914-9FBF-E9EB556B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521BB-BE0D-4389-9550-B992B264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A2932-0DA3-43B1-80F0-D8C62788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EC61B-B012-416E-BE78-B5F6F99B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B1147-73F3-4192-9A70-AF234048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5B7F0-1FFC-4AE6-AF7A-9A1924F4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1917C-81CF-458D-A0FE-1F61824E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C4A2F-F347-48AE-96E3-F358F988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0CA6A-1DC5-4BAC-B3CD-795C749A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0A9-305F-4DD0-8C21-E03C9BD7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751-6F71-4CA8-8188-F2EF373B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DDDA-218F-4318-9C34-E8B40954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A55E-3DCC-410F-ACF0-E970ED58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6A35-CC47-4129-AE2F-EBD8FB10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BB18-4A44-4901-A606-A82ADF81C91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8590-12E0-4A97-916E-DE25004168B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E088-5B16-4689-B279-ED59658800A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BCB9-52E9-4878-B7ED-7CE0D769357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Заголовок 1"/>
          <p:cNvSpPr/>
          <p:nvPr/>
        </p:nvSpPr>
        <p:spPr>
          <a:xfrm>
            <a:off x="0" y="3284640"/>
            <a:ext cx="82440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Georgia"/>
              </a:rPr>
              <a:t>Учебно – методический комплекс</a:t>
            </a:r>
            <a:br>
              <a:rPr sz="3200"/>
            </a:br>
            <a:r>
              <a:rPr b="1" lang="ru-RU" sz="6000" spc="-1" strike="noStrike">
                <a:solidFill>
                  <a:srgbClr val="313340"/>
                </a:solidFill>
                <a:latin typeface="Georgia"/>
              </a:rPr>
              <a:t>«Школа Росс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rcRect l="84481" t="19702" r="1720" b="20744"/>
          <a:stretch/>
        </p:blipFill>
        <p:spPr>
          <a:xfrm>
            <a:off x="6084720" y="0"/>
            <a:ext cx="19447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2"/>
          <p:cNvSpPr/>
          <p:nvPr/>
        </p:nvSpPr>
        <p:spPr>
          <a:xfrm>
            <a:off x="0" y="1628640"/>
            <a:ext cx="817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ебно-методический комплект для 1-4 классов общеобразовательных учреждений. Научный руководитель комплекта - Андрей Анатольевич Плешаков, кандидат педагогических наук. В качестве единого целостного данный комплект работает с 2001 года. Это один из самых известных и востребованных учебно-методических комплектов для обучения в начальных классах. УМК постоянно обновляется и является надёжным инструментом реализации стандарта второго поко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0" y="550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УМК «Школа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-360" y="2133720"/>
            <a:ext cx="81010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Российская школа должна стать школой духовно-нравственного развития и воспитания гражданина нашего Отечества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Ее основа - это современные достижения педагогической теории и практики и лучшие традиции отечественной школы, их исключительная ценность и значимость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0" y="26028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Главная концептуальная идея программы «Школа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-36360" y="2060640"/>
            <a:ext cx="813744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8080" indent="-47808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Мощный потенциал для духовно-нравственного развития и воспитания личности гражданина России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78080" indent="-47808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еальная возможность достижения личностных, межпредметных и предметных результатов, соответствующих задачам современного образования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78080" indent="-47808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Эффективное сочетание лучших традиций российского образования и проверенных практиками образовательного процесса инноваций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78080" indent="-47808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стоянно обновляющаяся, наиболее востребованная и понятная учителю образовательная система для начальной школы.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0" y="260280"/>
            <a:ext cx="82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Учебно-методический комплекс «Школа России» сегодня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2"/>
          <p:cNvSpPr/>
          <p:nvPr/>
        </p:nvSpPr>
        <p:spPr>
          <a:xfrm>
            <a:off x="324000" y="1989000"/>
            <a:ext cx="741672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оритет воспитания в образовательном процес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ичностно-ориентированный и деятельностный характер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четание инновационных подходов с традициями отечественно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179280" y="333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инципы УМК «Школа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468360" y="1989000"/>
            <a:ext cx="828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ектная и исследовательская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технология проблемного обучения (элемент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информационные (компьютерные) техн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игровые техн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здоровьесберегающие техн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0" y="40464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Технологии реализуемые в УМК «Школа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-360" y="1916280"/>
            <a:ext cx="8172360" cy="48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ичностно-развивающий характер образования с приоритетом духовно-нравственного развития ребен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раждански-ориентированный характер образования, предусматривающий воспитание ребенка гражданином своей страны, развивающий чувства гражданственности и патриотизм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лобально-ориентированный характер образования, отвечающий новым задачам образования в эпоху глобализац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коадекватный характер образования с приоритетным вниманием к проблемам экологической этики, воспитанию любви и бережного отношения к природ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Прямоугольник 3"/>
          <p:cNvSpPr/>
          <p:nvPr/>
        </p:nvSpPr>
        <p:spPr>
          <a:xfrm>
            <a:off x="0" y="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бобщающими характеристиками содержания комплекта являются следующ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2"/>
          <p:cNvSpPr/>
          <p:nvPr/>
        </p:nvSpPr>
        <p:spPr>
          <a:xfrm>
            <a:off x="179280" y="1916280"/>
            <a:ext cx="79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усский язык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збука. 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Горецкий В.Г., Кирюшкин В.А., Виноградская Л.А.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усский язык. 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Канакина В.П., Горецкий В.Г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итературное чтение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Климанова Л.Ф., Горецкий В.Г., Голованова М.В. и др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атематика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 Моро М.И., Волкова С.И., Степанова С.В., Бантова М.А., Бельтюкова Г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кружающий мир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 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втор: 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лешаков А.А., Крючкова Е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зобразительное искусство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Неменская Л.А., Коротеева Е.И., Горяева Н.А., Питерских А.С. и др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0" y="44280"/>
            <a:ext cx="82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УМК «Школа России» состоит из следующих завершенных предметных линий учеб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http://www.afradita-samara.ru/cumucijm/2510"/>
          <p:cNvPicPr/>
          <p:nvPr/>
        </p:nvPicPr>
        <p:blipFill>
          <a:blip r:embed="rId1"/>
          <a:stretch/>
        </p:blipFill>
        <p:spPr>
          <a:xfrm>
            <a:off x="422280" y="0"/>
            <a:ext cx="85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0T05:16:33Z</dcterms:created>
  <dc:creator>Omega Electronics</dc:creator>
  <dc:description/>
  <dc:language>en-US</dc:language>
  <cp:lastModifiedBy>Вероника</cp:lastModifiedBy>
  <dcterms:modified xsi:type="dcterms:W3CDTF">2019-05-22T18:23:30Z</dcterms:modified>
  <cp:revision>25</cp:revision>
  <dc:subject/>
  <dc:title>Учебно – методический комплекс «Школа России»</dc:title>
</cp:coreProperties>
</file>