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F821-6EE2-444F-A2F8-30EBC779B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F022-F9F2-430C-91B2-067DAB4A5C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6E3-69CB-42B1-BAB7-BD393C5D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AD8-C8E9-4305-9381-819ADE66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D1E-D90E-4C30-B70E-4670EF41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DD9-EA77-4B47-BCEA-EFAAD0F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FC9E-429B-4489-82E0-CF47232D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620-A2BF-493B-9C1C-D7AAD3B1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C6E1-4CC7-4EEE-B55B-6E9A4F3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3458-6776-49B4-87C1-793AB558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BD0-D60D-4EB3-8EAD-C24E7CCF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69DA-D7FD-4943-9636-3297E1D9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3656-B8D1-4D6D-A335-A3744A3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3B8-F386-432C-848F-E00271D3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7E3B-5455-406D-BF82-D7450E7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7F01-9302-4468-83EB-2FB7D11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4EC5-01B6-49D8-9992-9F4EDB4A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A179-804C-492D-8FEB-557BDF46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5558-04E2-4581-92E4-821638C7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096F8-F89A-4A24-899A-7D956B46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B2CD7-B322-4214-AACA-7379291A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87660-2F9A-4AEF-B4EA-1AA5606F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00701-8041-4C8B-8A1F-A56FAE7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F58F1-C04E-4A83-B97A-54BE305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17B-B35C-4C2A-AAF8-E62555AF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B8687-2905-47AB-815B-35A87B7C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6FA8D-4784-477D-B414-49F45C0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E8C92-E339-4673-9FAD-562301C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3DAF8-1F73-49B4-9F15-64C722A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4A898-5679-43BB-9677-BE5052A1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AF7A8-B961-4ACA-92B2-157C430A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12AA9-1504-47EA-AD71-091DA015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CC38-6984-4689-A22E-FAE8FB54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50F1-A31E-45D4-8C3C-6D8E7FF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CD02-1DE1-4286-A112-58B53B9F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4FC-66EF-45EC-9C67-D61F0B59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F4BC-98B7-4D61-A69B-BEDE44AB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B979-5BAA-466C-B495-9C516056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789D-84C4-4BC2-BCE9-9256576C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6B035-DAEF-4940-9CB7-6FAB3C6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DCD2-2BC1-41EF-9C05-70107954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B75C6-A5AE-4432-B9C7-BC72FFEE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656E-60AD-4B07-B149-34D6EDE0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46E2-EB25-435C-9A47-59C8C6B6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C288-AB19-4276-872D-9258A320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51A-5C3F-4984-8695-CE5081C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D77-1B3D-4E8A-A7B3-6BC4AE37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2F4-BDDB-45F6-AC5E-67FA6BA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919-43E1-437B-A0C1-83D76A2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3B0-3718-4570-8384-540E108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D0AF-7982-4B6C-9077-147B9EBB45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1FEE-933E-4582-A702-716BF3CEF2C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D5AC-327A-44A0-B678-F1C0BD6AF62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8E33-3685-4479-B6D4-793364C3399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Заголовок 1"/>
          <p:cNvSpPr/>
          <p:nvPr/>
        </p:nvSpPr>
        <p:spPr>
          <a:xfrm>
            <a:off x="0" y="3284640"/>
            <a:ext cx="8244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Georgia"/>
              </a:rPr>
              <a:t>Учебно – методический комплекс</a:t>
            </a:r>
            <a:br>
              <a:rPr sz="3200"/>
            </a:br>
            <a:r>
              <a:rPr b="1" lang="ru-RU" sz="6000" spc="-1" strike="noStrike">
                <a:solidFill>
                  <a:srgbClr val="313340"/>
                </a:solidFill>
                <a:latin typeface="Georgia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4481" t="19702" r="1720" b="20744"/>
          <a:stretch/>
        </p:blipFill>
        <p:spPr>
          <a:xfrm>
            <a:off x="6084720" y="0"/>
            <a:ext cx="1944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0" y="1628640"/>
            <a:ext cx="817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бно-методический комплект для 1-4 классов общеобразовательных учреждений. Научный руководитель комплекта - Андрей Анатольевич Плешаков, кандидат педагогических наук. В качестве единого целостного данный комплект работает с 2001 года. Это один из самых известных и востребованных учебно-методических комплектов для обучения в начальных классах. УМК постоянно обновляется и является надёжным инструментом реализации стандарта второго поко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0" y="550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2133720"/>
            <a:ext cx="8101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Российская школа должна стать школой духовно-нравственного развития и воспитания гражданина нашего Отечества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е основа - это современные достижения педагогической теории и практики и лучшие традиции отечественной школы, их исключительная ценность и значимость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0" y="26028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лавная концептуальная идея программы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360" y="2060640"/>
            <a:ext cx="81374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ощный потенциал для духовно-нравственного развития и воспитания личности гражданина Росси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еальная возможность достижения личностных, межпредметных и предметных результатов, соответствующих задачам современного образования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ффективное сочетание лучших традиций российского образования и проверенных практиками образовательного процесса инноваци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тоянно обновляющаяся, наиболее востребованная и понятная учителю образовательная система для начальной школы.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0" y="26028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чебно-методический комплекс «Школа России» сегодня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324000" y="1989000"/>
            <a:ext cx="74167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оритет воспитания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чностно-ориентированный и деятельностный характер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четание инновационных подходов с традициями отечеств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17928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нципы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468360" y="198900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я проблемного обучения (элемен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нформационные (компьютерные)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гровы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доровьесберегающи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0" y="40464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1916280"/>
            <a:ext cx="817236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0" y="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2"/>
          <p:cNvSpPr/>
          <p:nvPr/>
        </p:nvSpPr>
        <p:spPr>
          <a:xfrm>
            <a:off x="179280" y="1916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усский язык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збука.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Горецкий В.Г., Кирюшкин В.А., Виноградская Л.А.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усский язык.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Канакина В.П., Горецкий В.Г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тературное чтение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Климанова Л.Ф., Горецкий В.Г., Голованова М.В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тематик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Моро М.И., Волкова С.И., Степанова С.В., Бантова М.А., Бельтюкова Г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: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ешаков А.А., Крючк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Неменская Л.А., Коротеева Е.И., Горяева Н.А., Питерских А.С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0" y="4428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 состоит из следующих завершенных предметных линий учеб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www.afradita-samara.ru/cumucijm/2510"/>
          <p:cNvPicPr/>
          <p:nvPr/>
        </p:nvPicPr>
        <p:blipFill>
          <a:blip r:embed="rId1"/>
          <a:stretch/>
        </p:blipFill>
        <p:spPr>
          <a:xfrm>
            <a:off x="422280" y="0"/>
            <a:ext cx="85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Вероника</cp:lastModifiedBy>
  <dcterms:modified xsi:type="dcterms:W3CDTF">2019-05-22T18:23:30Z</dcterms:modified>
  <cp:revision>25</cp:revision>
  <dc:subject/>
  <dc:title>Учебно – методический комплекс «Школа России»</dc:title>
</cp:coreProperties>
</file>