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8.png" ContentType="image/png"/>
  <Override PartName="/ppt/media/image16.wmf" ContentType="image/x-wmf"/>
  <Override PartName="/ppt/media/image19.wmf" ContentType="image/x-wmf"/>
  <Override PartName="/ppt/media/image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44FB-53F9-435B-B37B-4D65DCAE24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09C2-343D-437E-B58F-46C8E81347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1459-B0BF-4CC3-BFE3-31EB6F32DD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FC8F-E7D9-44C6-878F-B9180336F7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48F8-3CD2-40DF-B77A-301AEFC58B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E93D-CB28-4D8A-B4D0-E23E56763F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5AA3-FAE5-43DB-87C9-92F16B145F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E38D-B8C8-4207-937D-188E929D1C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57C2-FA75-4D61-837F-F4A9726CED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8A3B-5F0F-4A83-A52F-B3B28C4005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E970-E85B-4003-8F3B-D4E8044B1D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0C02-6ACB-4D42-8F47-C314A42E90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1042-21CE-4100-861A-E14189664E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B4DF-0C79-4DD8-B3A9-F356BDF73E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128D-18F0-46C3-8F32-7E0288DF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A063-1AFE-43DD-B25E-C991E547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0F64-74AB-4151-819B-49C5A624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3C13-413D-453D-9925-7D9C450D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278B-29D1-4346-9C0C-375603ED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5C54-3817-4319-91C2-5F070EF4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FEF4-4DDC-488E-BFE9-538CB401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622D-33DD-4403-AFFD-08318556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83C5-4954-4747-B7A9-D89F6949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EB2D-2205-4A49-B3C1-D7A70897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D738-9722-40E1-BA64-A57EBC98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63FF-0574-45DD-8687-01F0F2AA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008E-7EF9-4B5B-8972-9A286CFE36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4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4360" y="3141360"/>
            <a:ext cx="77724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писанные и описанные многоугольни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готовил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 МБОУ ЦО№24 г.Т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удинова И.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18-2019 уч.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900000" y="620640"/>
            <a:ext cx="75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енности подготовки обучающих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итоговой аттест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форме ЕГЭ по раздел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нимет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52280" y="83808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торона 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реугольника 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C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авна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угол 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авен 60</a:t>
            </a:r>
            <a:r>
              <a:rPr b="0" lang="ru-RU" sz="3200" spc="-1" strike="noStrike" baseline="30000">
                <a:solidFill>
                  <a:srgbClr val="00cc99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Найдите радиус окружности, описанной около этого треуголь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80880" y="54864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Object 6"/>
          <p:cNvGraphicFramePr/>
          <p:nvPr/>
        </p:nvGraphicFramePr>
        <p:xfrm>
          <a:off x="7010280" y="914400"/>
          <a:ext cx="40644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914400"/>
                    <a:ext cx="4064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Picture 7" descr=""/>
          <p:cNvPicPr/>
          <p:nvPr/>
        </p:nvPicPr>
        <p:blipFill>
          <a:blip r:embed="rId3"/>
          <a:stretch/>
        </p:blipFill>
        <p:spPr>
          <a:xfrm>
            <a:off x="3276720" y="2819520"/>
            <a:ext cx="211140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52280" y="83808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айдите диагональ прямоугольника, вписанного в окружность радиуса 6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57200" y="4876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3581280" y="2286000"/>
            <a:ext cx="20574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52280" y="83808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айдите радиус окружности, описанной около квадрата со стороной, равной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457200" y="4876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6"/>
          <p:cNvGraphicFramePr/>
          <p:nvPr/>
        </p:nvGraphicFramePr>
        <p:xfrm>
          <a:off x="5486400" y="1371600"/>
          <a:ext cx="41904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371600"/>
                    <a:ext cx="4190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3657600" y="2666880"/>
            <a:ext cx="198108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52280" y="83808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Меньшая сторона прямоугольника равна 5 см. Угол между диагоналями равен 60</a:t>
            </a:r>
            <a:r>
              <a:rPr b="0" lang="ru-RU" sz="3200" spc="-1" strike="noStrike" baseline="30000">
                <a:solidFill>
                  <a:srgbClr val="00cc99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Найдите радиус описанной окружности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57200" y="4876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5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3581280" y="2743200"/>
            <a:ext cx="209232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27"/>
          <p:cNvSpPr/>
          <p:nvPr/>
        </p:nvSpPr>
        <p:spPr>
          <a:xfrm>
            <a:off x="152280" y="83808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коло окружности радиуса, равного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описан квадрат. Найдите радиус окружности, описанного около этого квадра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457200" y="4876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1030"/>
          <p:cNvGraphicFramePr/>
          <p:nvPr/>
        </p:nvGraphicFramePr>
        <p:xfrm>
          <a:off x="7162920" y="914400"/>
          <a:ext cx="41904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914400"/>
                    <a:ext cx="4190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Picture 1031" descr=""/>
          <p:cNvPicPr/>
          <p:nvPr/>
        </p:nvPicPr>
        <p:blipFill>
          <a:blip r:embed="rId3"/>
          <a:stretch/>
        </p:blipFill>
        <p:spPr>
          <a:xfrm>
            <a:off x="3505320" y="2666880"/>
            <a:ext cx="214308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Вписанные многоугольн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52280" y="60948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Многоугольник называется вписанным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окружность, если все его вершины принадлежат окружности. Окружность при этом называется описанной около многоуголь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152280" y="167652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еорема 1.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коло всякого треугольника можно описать окружность. Ее центр является точкой пересечения серединных перпендикуляров к сторонам треугольни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2438280" cy="2392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6"/>
          <p:cNvSpPr/>
          <p:nvPr/>
        </p:nvSpPr>
        <p:spPr>
          <a:xfrm>
            <a:off x="152280" y="556272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еорема 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Суммы противоположных углов четырехугольника, вписанного в окружность, равны 180</a:t>
            </a:r>
            <a:r>
              <a:rPr b="0" lang="ru-RU" sz="2400" spc="-1" strike="noStrike" baseline="30000">
                <a:solidFill>
                  <a:srgbClr val="00cc99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7" descr=""/>
          <p:cNvPicPr/>
          <p:nvPr/>
        </p:nvPicPr>
        <p:blipFill>
          <a:blip r:embed="rId2"/>
          <a:stretch/>
        </p:blipFill>
        <p:spPr>
          <a:xfrm>
            <a:off x="4876920" y="3200400"/>
            <a:ext cx="212544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писанные многоугольн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52280" y="60948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Многоугольник называется описанным около окружности, если все его стороны касаются этой окружности.  Сама окружность при этом называется вписанной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многоуголь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167652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еорема 3.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любой треугольник можно вписать окружность. Ее центром будет точка пересечения биссектрис этого треуголь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52280" y="556272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еорема 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Суммы противоположных сторон четырехугольника, описанного около окружности, рав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310200" cy="241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2"/>
          <a:stretch/>
        </p:blipFill>
        <p:spPr>
          <a:xfrm>
            <a:off x="5105520" y="3048120"/>
            <a:ext cx="259056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Вписанные и описанные треугольн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52280" y="8380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еорема 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5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ношение стороны треугольника к синусу противолежащего угла равно диаметру описанной окруж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52280" y="327672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еорема 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7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адиус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r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кружности, вписанной в треугольник, выражается формулой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где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– стороны треугольника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– его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52280" y="190512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еорема 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6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адиус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R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кружности, описанной около правильного треугольника, выражается формулой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где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– стороны треугольника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– его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Object 9"/>
          <p:cNvGraphicFramePr/>
          <p:nvPr/>
        </p:nvGraphicFramePr>
        <p:xfrm>
          <a:off x="7162920" y="2209680"/>
          <a:ext cx="158724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2209680"/>
                    <a:ext cx="15872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10"/>
          <p:cNvGraphicFramePr/>
          <p:nvPr/>
        </p:nvGraphicFramePr>
        <p:xfrm>
          <a:off x="3886200" y="3581280"/>
          <a:ext cx="127008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3581280"/>
                    <a:ext cx="12700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52280" y="83808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торона равностороннего треугольника равна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Найдите радиус окружности, вписанной в этот треугольник.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3520" y="47242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7"/>
          <p:cNvGraphicFramePr/>
          <p:nvPr/>
        </p:nvGraphicFramePr>
        <p:xfrm>
          <a:off x="457200" y="1447920"/>
          <a:ext cx="558720" cy="39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5587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8" descr=""/>
          <p:cNvPicPr/>
          <p:nvPr/>
        </p:nvPicPr>
        <p:blipFill>
          <a:blip r:embed="rId3"/>
          <a:stretch/>
        </p:blipFill>
        <p:spPr>
          <a:xfrm>
            <a:off x="2863800" y="2665440"/>
            <a:ext cx="23353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52280" y="83808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торона равностороннего треугольника равна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Найдите радиус окружности, описанной около этого треуголь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33520" y="47242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5"/>
          <p:cNvGraphicFramePr/>
          <p:nvPr/>
        </p:nvGraphicFramePr>
        <p:xfrm>
          <a:off x="457200" y="1447920"/>
          <a:ext cx="558720" cy="39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5587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7" descr=""/>
          <p:cNvPicPr/>
          <p:nvPr/>
        </p:nvPicPr>
        <p:blipFill>
          <a:blip r:embed="rId3"/>
          <a:stretch/>
        </p:blipFill>
        <p:spPr>
          <a:xfrm>
            <a:off x="3352680" y="2514600"/>
            <a:ext cx="208764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52280" y="83808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Гипотенуза прямоугольного треугольника равна 10 см. Найдите радиус описанной окружности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33520" y="47242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5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14632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52280" y="838080"/>
            <a:ext cx="883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кружность, вписанная в равнобедренный треугольник, делит в точке касания одну из боковых сторон на два отрезка, длины которых равны 4 и 3, считая от вершины. Найдите периметр треугольни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80880" y="54864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20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3505320" y="3505320"/>
            <a:ext cx="20286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52280" y="83808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дна сторона треугольника равна радиусу описанной окружности. Найдите угол треугольника, противолежащий этой сторон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80880" y="54864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30</a:t>
            </a:r>
            <a:r>
              <a:rPr b="0" lang="ru-RU" sz="3200" spc="-1" strike="noStrike" baseline="30000">
                <a:solidFill>
                  <a:srgbClr val="00cc99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3124080" y="2895480"/>
            <a:ext cx="197820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05:51:18Z</dcterms:created>
  <dc:creator>*</dc:creator>
  <dc:description/>
  <dc:language>en-US</dc:language>
  <cp:lastModifiedBy>Чудинова И.В</cp:lastModifiedBy>
  <dcterms:modified xsi:type="dcterms:W3CDTF">2019-05-22T13:19:12Z</dcterms:modified>
  <cp:revision>88</cp:revision>
  <dc:subject/>
  <dc:title>Основные геометрические фигуры</dc:title>
</cp:coreProperties>
</file>