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60FB-88E5-45B3-B5AE-C81157BA39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69E9-3DFA-441E-93F0-18283DFB0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58E3-A500-4380-ABCB-B147D97C0B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FC71-7A04-4508-8E4C-8DB32B4B01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AB2A-E657-4F8F-9321-7B86FF5FF8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B59-967F-4D05-BBF7-A25A07C53A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E39-6F36-48F1-8611-28DAFFFF82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9D3B-3744-4C76-B3A3-068463994D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1AFA-7FB3-4938-9C3D-CE1CDCAD90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D778-09F4-4976-B3C7-C75C25C856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407C-CDF6-4FAC-A202-1DF35240B0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AAC-ED0E-4004-9C61-E041DCFE90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8AD-F6DF-4284-A510-CCEFD23F6E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EB36-784A-4398-AD6A-4A4666159F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49C-C00D-4B12-BA7F-CD596062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9C7-6DA7-4A09-9038-8D93B0E7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FA3-6F69-42F8-8E3A-FA4D7A23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9BE-6ECF-437D-B8DC-D4A69C46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A8D-7EA7-4AB6-8B2B-585E731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F7A-3717-4FEE-B25E-4F19FCF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E24-F3CA-4D5D-9A6A-A81CA2E6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9B0-1FB9-44C6-A427-791D9191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CEB-59D4-4B44-89C9-A1FD5DF5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C54-6EEF-484F-8990-FECF2D4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6BB-2BEE-40C3-BBD5-2B214CF5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054-6A4D-4B1F-9E6D-010E08B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48C4-9D7E-4581-9BEE-C0FBD4425D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314136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писанные и описанные многоугольн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МБОУ ЦО№24 г.Т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динова И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8-2019 уч.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900000" y="62064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сти подготовки обучающих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итоговой аттес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е ЕГЭ по разде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орона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реугольника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на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вен 60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кружности, описанной около этого тре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5486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7010280" y="914400"/>
          <a:ext cx="4064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914400"/>
                    <a:ext cx="4064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3276720" y="2819520"/>
            <a:ext cx="2111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8380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диагональ прямоугольника, вписанного в окружность радиуса 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52280" y="8380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радиус окружности, описанной около квадрата со стороной, равной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5486400" y="1371600"/>
          <a:ext cx="4190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371600"/>
                    <a:ext cx="419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3657600" y="2666880"/>
            <a:ext cx="19810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еньшая сторона прямоугольника равна 5 см. Угол между диагоналями равен 60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писанной окружности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0923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27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оло окружности радиуса, равного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описан квадрат. Найдите радиус окружности, описанного около этого квадр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457200" y="4876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030"/>
          <p:cNvGraphicFramePr/>
          <p:nvPr/>
        </p:nvGraphicFramePr>
        <p:xfrm>
          <a:off x="7162920" y="914400"/>
          <a:ext cx="41904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14400"/>
                    <a:ext cx="4190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1031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2143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Вписанные многоуголь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2280" y="6094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оугольник называется вписанным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окружность, если все его вершины принадлежат окружности. Окружность при этом называется описанной около много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52280" y="16765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1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оло всякого треугольника можно описать окружность. Ее центр является точкой пересечения серединных перпендикуляров к сторонам треугольн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438280" cy="2392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152280" y="5562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уммы противоположных углов четырехугольника, вписанного в окружность, равны 18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212544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писанные многоуголь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6094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оугольник называется описанным около окружности, если все его стороны касаются этой окружности.  Сама окружность при этом называется вписанной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многоуголь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16765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3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любой треугольник можно вписать окружность. Ее центром будет точка пересечения биссектрис это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52280" y="5562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уммы противоположных сторон четырехугольника, описанного около окружности,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310200" cy="241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5105520" y="3048120"/>
            <a:ext cx="25905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Вписанные и описанные треуголь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8380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тношение стороны треугольника к синусу противолежащего угла равно диаметру описан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32767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диус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ружности, вписанной в треугольник, выражается формулой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стороны треугольник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19051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Теорема 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диус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ружности, описанной около правильного треугольника, выражается формуло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стороны треугольник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–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9"/>
          <p:cNvGraphicFramePr/>
          <p:nvPr/>
        </p:nvGraphicFramePr>
        <p:xfrm>
          <a:off x="7162920" y="2209680"/>
          <a:ext cx="158724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209680"/>
                    <a:ext cx="1587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0"/>
          <p:cNvGraphicFramePr/>
          <p:nvPr/>
        </p:nvGraphicFramePr>
        <p:xfrm>
          <a:off x="3886200" y="3581280"/>
          <a:ext cx="12700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581280"/>
                    <a:ext cx="12700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орона равностороннего треугольника равна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кружности, вписанной в этот треугольник.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72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7"/>
          <p:cNvGraphicFramePr/>
          <p:nvPr/>
        </p:nvGraphicFramePr>
        <p:xfrm>
          <a:off x="457200" y="1447920"/>
          <a:ext cx="55872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558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2863800" y="2665440"/>
            <a:ext cx="2335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торона равностороннего треугольника равна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диус окружности, описанной около этого тре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3520" y="472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5"/>
          <p:cNvGraphicFramePr/>
          <p:nvPr/>
        </p:nvGraphicFramePr>
        <p:xfrm>
          <a:off x="457200" y="1447920"/>
          <a:ext cx="55872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558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3352680" y="2514600"/>
            <a:ext cx="20876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2280" y="8380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Гипотенуза прямоугольного треугольника равна 10 см. Найдите радиус описанной окружности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472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1463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2280" y="838080"/>
            <a:ext cx="88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ружность, вписанная в равнобедренный треугольник, делит в точке касания одну из боковых сторон на два отрезка, длины которых равны 4 и 3, считая от вершины. Найдите периметр треугольни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5486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0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2028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2280" y="8380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дна сторона треугольника равна радиусу описанной окружности. Найдите угол треугольника, противолежащий этой стор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880" y="5486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30</a:t>
            </a:r>
            <a:r>
              <a:rPr b="0" lang="ru-RU" sz="32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1978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Чудинова И.В</cp:lastModifiedBy>
  <dcterms:modified xsi:type="dcterms:W3CDTF">2019-05-22T13:19:12Z</dcterms:modified>
  <cp:revision>88</cp:revision>
  <dc:subject/>
  <dc:title>Основные геометрические фигуры</dc:title>
</cp:coreProperties>
</file>