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9B1-1AE7-4FB9-9D65-6B986379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5B8-15BA-417F-8F05-151F1C9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5A1-F72D-4301-A61E-EFCF5C33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9F5-6C01-46A8-A073-D3634AE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05D-09AA-4089-AC6A-8858FA93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5D05-85EA-4DBC-B5BB-5B3094FC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6F4-CB1F-408E-800B-485F25D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212-CA90-452E-A0A4-25FB2032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DFBD-BA10-4CD9-9482-73E87184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8CB-D0EB-41E9-82EE-73347046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E2A5-6E10-4C7F-BFB3-44EA74B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3C8-6CD4-43DE-A50B-A5ADF82C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98B3-662D-4E0E-9768-4F09120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889-3922-4EF9-AC2A-0791D39B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47E9-5202-4F11-98C3-ABAE8D50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AE43-B69B-485E-86EC-35B5901C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5174-D488-46F3-B733-32E6932E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008-9D3A-4E42-8F78-5506719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F18-36AD-42A7-BC25-B75D366D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A7D-05F6-4876-8C8F-582DBDC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FC8-750B-43C7-A71B-1FA0D01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795-F80D-43FA-97A8-B4838AA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E47-9055-4AEA-96DC-34CBD0E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6EB-FB52-4C1D-B344-043BEB1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745-A92A-4A5F-BADA-5DF64256A7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447-2DE6-45F6-B4D7-A9331A9355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700" spc="-1" strike="noStrike">
                <a:solidFill>
                  <a:srgbClr val="000000"/>
                </a:solidFill>
                <a:latin typeface="Verdana"/>
              </a:rPr>
              <a:t>Задачи </a:t>
            </a:r>
            <a:br>
              <a:rPr sz="3700"/>
            </a:br>
            <a:r>
              <a:rPr b="1" i="1" lang="en-US" sz="3700" spc="-1" strike="noStrike">
                <a:solidFill>
                  <a:srgbClr val="000000"/>
                </a:solidFill>
                <a:latin typeface="Verdana"/>
              </a:rPr>
              <a:t>на клетчатой бумаге. Формула Пика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тор: Корнева Валентина Николаев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итель математики МОУ Романовская СО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сли многоугольник можно разрезать на треугольники с вершинами в узлах сетки, то для него верна формула Пи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2920" y="2111040"/>
            <a:ext cx="392436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пробуйте вычислить площади многоугольников с рисунка  , используя формулу Пика. Правда ведь, легко получаетс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2800" y="2279520"/>
            <a:ext cx="3709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 3. Задачи на клетчатой бумаге в контрольно-измерительных материалах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ЕГЭ по математик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клетчатой бумаге с клетками размером 1 см 1 см изображен треугольник . Найдите его площадь в квадратных сантиметр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формуле Пик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В +    - 1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= 12,    Г = 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12 + 6/2 – 1 = 14 (см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вет: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GetPicture" descr="pic.105"/>
          <p:cNvPicPr/>
          <p:nvPr/>
        </p:nvPicPr>
        <p:blipFill>
          <a:blip r:embed="rId2"/>
          <a:stretch/>
        </p:blipFill>
        <p:spPr>
          <a:xfrm>
            <a:off x="1050840" y="2043000"/>
            <a:ext cx="3046320" cy="38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629400" y="2133720"/>
                <a:ext cx="260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Найдите площадь четырехугольника, изображённого на рисунке с квадратной сеткой 1 × 1(см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йдё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лощадь четырёхугольника, изображённого на клетчатой бумаге по формуле Пика: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= 8,  Г = 7.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8 + 7/2 – 1 = 10,5 (см²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2117880"/>
            <a:ext cx="4267080" cy="364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638680" y="4343400"/>
                <a:ext cx="33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Глава 4.  Заключени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процессе исследования рассмотрены задачи на  вычисления площади фигур, заданные на клетчатой бумаге, которые отличаются от обычных задач, изложенных в действующих учебниках и задачниках по математике. Данная тема достаточно многогранна, задачи на клетчатой бумаге многообразны, методы и приёмы их решения также разнообразн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Глава 5. Библиограф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Жарковская Н. М., Рисс Е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я клетчатой бумаги. Формула Пика // Математика, 2009, № 17, с. 24-25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дачи открытого банка заданий по математике ФИП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мирнова И. М., Смирнов В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я на клетчатой бумаге. – М.: Чистые пруды, 2009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мирнова И. М., Смирнов В. 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Геометрические задачи с практическим содержанием. – М.: Чистые пруды, 20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Содержани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Глава 1.    Введение. Цель и задачи рабо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514600"/>
            <a:ext cx="437328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2.   Формула П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139560"/>
            <a:ext cx="66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3.     Задачи на клетчатой бумаге в материалах  ЕГ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1140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4.    Заклю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72392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лава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   Библиограф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523880" y="2134080"/>
            <a:ext cx="1066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шение задач – практическое искусство, подобное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плаванию, катанию на лыжах или игре на фортепиано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научиться ему можно, только подражая хорошим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образцам и постоянно практикуясь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Д. Пой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.1     Введение. Цель и задачи работы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 решении  задач  обучающиеся часто оказываются в затруднении при встрече с задачами на клетчатой бумаге. Возникли вопросы: в чём заключается особенность таких задач, существуют ли специальные методы и приёмы решения задач на клетчатой бумаг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многообразие задач на бумаге в клеточку, их «занимательность», отсутствие общих правил и методов решения вызывают у школьников затруднения при их рассмотрени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8200" y="3522600"/>
            <a:ext cx="58309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более внимательном исследовании задач на клетчатой бумаге, мы убедимся в их востребованности, оригинальности, полезно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Глава 2.  Формула П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Линии, идущие по сторонам клеток, образуют сетку, а вершины клеток – узлы этой сетки. Нарисуем на листе многоугольник с вершинами в узлах (рис. 1) и найдем его площадь. Искать её можно по-разному. Например, можно разрезать многоугольник на достаточно простые фигуры, найти их площадь и сложить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о тут нас ждёт много хлопот (попробуйте!). Давайте «схитрим»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числим площадь заштрихованной фигуры, которая «дополняет» наш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ногоугольник до прямоугольника АВ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, и вычтем её из площади прямоугольника. Заштрихованная фигура легко разбивается на прямоугольники и прямоугольные треугольники, и её площадь вычисляется без усили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2960" y="2111400"/>
            <a:ext cx="3925800" cy="34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усть АВ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прямоугольник с вершинами в узлах и сторонами, идущими по линиям сетк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бозначим через В количество узлов , лежащих внутри прямоугольника, а через Г – количество узлов на его границе. Сместим сетку на полклетки вправо и полклетки вниз. Тогда территорию прямоугольника можно «распределить» между узлами следующим образом: каждый из В узлов «контролирует» целую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летку смещённой сетки, а каждый из Г узлов – 4 граничных не угловых узла – половину клетки, а каждая из угловых точек – четверть клетки. Поэтому площадь прямоугольника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равн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= В +        + 4 ·     = В +     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2280" y="2260440"/>
            <a:ext cx="4211640" cy="281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943600" y="5410080"/>
                <a:ext cx="409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10280" y="541008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924680" y="5334120"/>
                <a:ext cx="190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о и есть формула Пика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4300" spc="-1" strike="noStrike">
                <a:solidFill>
                  <a:srgbClr val="000000"/>
                </a:solidFill>
                <a:latin typeface="Verdana"/>
              </a:rPr>
              <a:t> = В +       - 1</a:t>
            </a:r>
            <a:r>
              <a:rPr b="1" lang="ru-RU" sz="43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876920" y="3352680"/>
                <a:ext cx="1004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 Проверить формулу Пика для многоугольника на рисунке 1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= 14, Г = 8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формуле Пик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В +      - 1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14 + 8/2 – 1 = 1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вет: 17 кв. е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2243160"/>
            <a:ext cx="44593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848720" y="2514600"/>
                <a:ext cx="29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4T19:35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