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0D9-EF36-40FC-9811-F1A63409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096-B5AF-4AFF-AFC2-7F40BBD5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083-F7BF-4391-98C1-3FE9B38F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886-27C5-4D37-8B25-C40ABB45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E3E1-B0E0-48C1-982D-0B00B0A2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CFBA-9E9B-496A-91A6-5E92DE85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1309-6A42-44A7-A74B-F7E265B3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2CC4-06F2-4131-9726-C40F9C93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B988-9FB5-4A03-A43F-51E05429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6D47-1DAC-439B-BC97-ADFA1B0D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7599-9D80-4976-9442-03059805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F34-DD9F-40AD-8E8F-3DA3226C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0E0C-90BE-49DF-BF10-9ABE5AA4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FF79-43F3-4E93-8F86-172C0F12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912C-9D61-4AE7-9733-FD523051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7F32-99B4-453F-BE91-F6406BF8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1ACD-411C-4D56-9647-B64367E3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AE51-469E-4E0E-BF88-1A2DB671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BD6-E680-4990-B7C3-DCBBCBEC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2FD-C674-479A-A4A1-268416AF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093-1D53-494B-8D4C-90125380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55E-C1F7-48C8-AB54-A8A8C223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2E2-82F5-4C0D-ACD6-2AB9FF6A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6FC-0878-430F-A634-93CAE27E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1B90-D5B7-4F23-8BDD-A5687485B3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EEF5-AC3B-4940-8BE2-D2C28D647B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700" spc="-1" strike="noStrike">
                <a:solidFill>
                  <a:srgbClr val="000000"/>
                </a:solidFill>
                <a:latin typeface="Verdana"/>
              </a:rPr>
              <a:t>Задачи </a:t>
            </a:r>
            <a:br>
              <a:rPr sz="3700"/>
            </a:br>
            <a:r>
              <a:rPr b="1" i="1" lang="en-US" sz="3700" spc="-1" strike="noStrike">
                <a:solidFill>
                  <a:srgbClr val="000000"/>
                </a:solidFill>
                <a:latin typeface="Verdana"/>
              </a:rPr>
              <a:t>на клетчатой бумаге. Формула Пика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тор: Корнева Валентина Николаевн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читель математики МОУ Романовская СО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Если многоугольник можно разрезать на треугольники с вершинами в узлах сетки, то для него верна формула Пи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2920" y="2111040"/>
            <a:ext cx="392436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пробуйте вычислить площади многоугольников с рисунка  , используя формулу Пика. Правда ведь, легко получается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12800" y="2279520"/>
            <a:ext cx="3709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Verdana"/>
              </a:rPr>
              <a:t>Глава 3. Задачи на клетчатой бумаге в контрольно-измерительных материалах</a:t>
            </a:r>
            <a:br>
              <a:rPr sz="3400"/>
            </a:br>
            <a:r>
              <a:rPr b="1" i="1" lang="en-US" sz="3400" spc="-1" strike="noStrike">
                <a:solidFill>
                  <a:srgbClr val="000000"/>
                </a:solidFill>
                <a:latin typeface="Verdana"/>
              </a:rPr>
              <a:t>ЕГЭ по математике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 клетчатой бумаге с клетками размером 1 см 1 см изображен треугольник . Найдите его площадь в квадратных сантиметрах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формуле Пика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= В +    - 1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= 12,    Г = 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= 12 + 6/2 – 1 = 14 (см²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вет: 1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GetPicture" descr="pic.105"/>
          <p:cNvPicPr/>
          <p:nvPr/>
        </p:nvPicPr>
        <p:blipFill>
          <a:blip r:embed="rId2"/>
          <a:stretch/>
        </p:blipFill>
        <p:spPr>
          <a:xfrm>
            <a:off x="1050840" y="2043000"/>
            <a:ext cx="3046320" cy="3802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629400" y="2133720"/>
                <a:ext cx="2602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Найдите площадь четырехугольника, изображённого на рисунке с квадратной сеткой 1 × 1(см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25146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йдём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лощадь четырёхугольника, изображённого на клетчатой бумаге по формуле Пика: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= 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+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= 8,  Г = 7.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= 8 + 7/2 – 1 = 10,5 (см²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8600" y="2117880"/>
            <a:ext cx="4267080" cy="3646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638680" y="4343400"/>
                <a:ext cx="335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Глава 4.  Заключение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процессе исследования рассмотрены задачи на  вычисления площади фигур, заданные на клетчатой бумаге, которые отличаются от обычных задач, изложенных в действующих учебниках и задачниках по математике. Данная тема достаточно многогранна, задачи на клетчатой бумаге многообразны, методы и приёмы их решения также разнообразн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Глава 5. Библиограф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Жарковская Н. М., Рисс Е. 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Геометрия клетчатой бумаги. Формула Пика // Математика, 2009, № 17, с. 24-25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дачи открытого банка заданий по математике ФИП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Смирнова И. М., Смирнов В. 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Геометрия на клетчатой бумаге. – М.: Чистые пруды, 2009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Смирнова И. М., Смирнов В. 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Геометрические задачи с практическим содержанием. – М.: Чистые пруды, 201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Содержан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Глава 1.    Введение. Цель и задачи рабо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514600"/>
            <a:ext cx="437328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а 2.   Формула П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3139560"/>
            <a:ext cx="66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а 3.     Задачи на клетчатой бумаге в материалах  ЕГ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11408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а 4.    Заклю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4723920"/>
            <a:ext cx="46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а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   Библиограф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1523880" y="2134080"/>
            <a:ext cx="10667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ешение задач – практическое искусство, подобное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плаванию, катанию на лыжах или игре на фортепиано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научиться ему можно, только подражая хорошим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образцам и постоянно практикуясь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Д. Пой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400" spc="-1" strike="noStrike">
                <a:solidFill>
                  <a:srgbClr val="000000"/>
                </a:solidFill>
                <a:latin typeface="Verdana"/>
              </a:rPr>
              <a:t>Глава.1     Введение. Цель и задачи работы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и решении  задач  обучающиеся часто оказываются в затруднении при встрече с задачами на клетчатой бумаге. Возникли вопросы: в чём заключается особенность таких задач, существуют ли специальные методы и приёмы решения задач на клетчатой бумаг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848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Гипотез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многообразие задач на бумаге в клеточку, их «занимательность», отсутствие общих правил и методов решения вызывают у школьников затруднения при их рассмотрени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68200" y="3522600"/>
            <a:ext cx="583092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 более внимательном исследовании задач на клетчатой бумаге, мы убедимся в их востребованности, оригинальности, полезност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Verdana"/>
              </a:rPr>
              <a:t>Глава 2.  Формула П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Линии, идущие по сторонам клеток, образуют сетку, а вершины клеток – узлы этой сетки. Нарисуем на листе многоугольник с вершинами в узлах (рис. 1) и найдем его площадь. Искать её можно по-разному. Например, можно разрезать многоугольник на достаточно простые фигуры, найти их площадь и сложить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о тут нас ждёт много хлопот (попробуйте!). Давайте «схитрим»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ычислим площадь заштрихованной фигуры, которая «дополняет» наш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ногоугольник до прямоугольника АВС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, и вычтем её из площади прямоугольника. Заштрихованная фигура легко разбивается на прямоугольники и прямоугольные треугольники, и её площадь вычисляется без усилий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42960" y="2111400"/>
            <a:ext cx="3925800" cy="34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усть АВС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– прямоугольник с вершинами в узлах и сторонами, идущими по линиям сетк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бозначим через В количество узлов , лежащих внутри прямоугольника, а через Г – количество узлов на его границе. Сместим сетку на полклетки вправо и полклетки вниз. Тогда территорию прямоугольника можно «распределить» между узлами следующим образом: каждый из В узлов «контролирует» целую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клетку смещённой сетки, а каждый из Г узлов – 4 граничных не угловых узла – половину клетки, а каждая из угловых точек – четверть клетки. Поэтому площадь прямоугольника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равна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= В +        + 4 ·     = В +     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92280" y="2260440"/>
            <a:ext cx="4211640" cy="2819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943600" y="5410080"/>
                <a:ext cx="4096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Г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010280" y="5410080"/>
                <a:ext cx="152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924680" y="5334120"/>
                <a:ext cx="1908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то и есть формула Пика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4300" spc="-1" strike="noStrike">
                <a:solidFill>
                  <a:srgbClr val="000000"/>
                </a:solidFill>
                <a:latin typeface="Verdana"/>
              </a:rPr>
              <a:t> = В +       - 1</a:t>
            </a:r>
            <a:r>
              <a:rPr b="1" lang="ru-RU" sz="43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876920" y="3352680"/>
                <a:ext cx="1004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 Проверить формулу Пика для многоугольника на рисунке 1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= 14, Г = 8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формуле Пика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= В +      - 1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= 14 + 8/2 – 1 = 1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вет: 17 кв. ед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9480" y="2243160"/>
            <a:ext cx="4459320" cy="3144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848720" y="2514600"/>
                <a:ext cx="298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3-04T19:35:0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