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ACB-C6A4-46C2-AF90-DD6BFA0C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458-4946-43D0-BF65-1E3AA19A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B74-AB80-4494-BA84-42F52613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64D-B956-4ADB-B0B4-EBAD8F02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883-30A0-4776-802B-F529A5A9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0BB-303A-4CFE-BDF9-99B896B3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E08-9D2D-446D-9D19-A57BDC24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C4F-B02F-4107-B401-B1BDCE54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306-8255-4335-9364-5AB8480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6C8-A99B-416A-9627-C362793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C66-F996-4F80-B922-C33EE07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9AB-6033-43AE-B999-554906A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92EF-B476-49C9-A5ED-A38CD8137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40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20b"/>
                </a:solidFill>
                <a:latin typeface="Calibri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user\Desktop\001.jpg"/>
          <p:cNvPicPr/>
          <p:nvPr/>
        </p:nvPicPr>
        <p:blipFill>
          <a:blip r:embed="rId1"/>
          <a:stretch/>
        </p:blipFill>
        <p:spPr>
          <a:xfrm>
            <a:off x="357120" y="1000080"/>
            <a:ext cx="485784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5286240" y="4357800"/>
            <a:ext cx="350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киева Светлана Викторовна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МКДОУ №16 «Рома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ого р-на, с.Ростован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286680" y="1285920"/>
            <a:ext cx="164304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357120" y="357120"/>
            <a:ext cx="8429760" cy="14288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иды музыкальной деятельности,помогающие здоровьесбереж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13" descr="imgFull.jpg"/>
          <p:cNvPicPr/>
          <p:nvPr/>
        </p:nvPicPr>
        <p:blipFill>
          <a:blip r:embed="rId1"/>
          <a:stretch/>
        </p:blipFill>
        <p:spPr>
          <a:xfrm>
            <a:off x="285840" y="2143080"/>
            <a:ext cx="3429000" cy="41436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48" name="Picture 7" descr="C:\Users\user\Desktop\0_14acf9_f8791c1c_L.jpg"/>
          <p:cNvPicPr/>
          <p:nvPr/>
        </p:nvPicPr>
        <p:blipFill>
          <a:blip r:embed="rId2"/>
          <a:stretch/>
        </p:blipFill>
        <p:spPr>
          <a:xfrm>
            <a:off x="4143240" y="2000160"/>
            <a:ext cx="46436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иды дыхательных упражн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928960" y="12142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Users\user\Desktop\vf2fGOiLyAA.jpg"/>
          <p:cNvPicPr/>
          <p:nvPr/>
        </p:nvPicPr>
        <p:blipFill>
          <a:blip r:embed="rId1"/>
          <a:stretch/>
        </p:blipFill>
        <p:spPr>
          <a:xfrm>
            <a:off x="4500720" y="4000680"/>
            <a:ext cx="4038480" cy="269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esktop\9241942_16439.jpg"/>
          <p:cNvPicPr/>
          <p:nvPr/>
        </p:nvPicPr>
        <p:blipFill>
          <a:blip r:embed="rId2"/>
          <a:stretch/>
        </p:blipFill>
        <p:spPr>
          <a:xfrm>
            <a:off x="500040" y="1143000"/>
            <a:ext cx="4038480" cy="268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user\Desktop\img11.jpg"/>
          <p:cNvPicPr/>
          <p:nvPr/>
        </p:nvPicPr>
        <p:blipFill>
          <a:blip r:embed="rId3"/>
          <a:stretch/>
        </p:blipFill>
        <p:spPr>
          <a:xfrm>
            <a:off x="428760" y="4071960"/>
            <a:ext cx="3643200" cy="25718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4" name="Picture 10" descr="C:\Users\user\Desktop\img5.jpg"/>
          <p:cNvPicPr/>
          <p:nvPr/>
        </p:nvPicPr>
        <p:blipFill>
          <a:blip r:embed="rId4"/>
          <a:stretch/>
        </p:blipFill>
        <p:spPr>
          <a:xfrm>
            <a:off x="4714920" y="1214280"/>
            <a:ext cx="4143240" cy="25005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p:transition spd="med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алеологические распе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ологические распе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откие песенки, упражнения, имеющие несложные тексты и мелодию,состоящую из мажорной гаммы, которые поднимают настроение, задают позитивный тон к восприятию окружающего мира, улучшают эмоциональный климат на занятии, подготавливают голос к п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спев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ка голосовых связок к пению и упражнение в чистом интонировании определенных интервалов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дупреждать заболевания верхних дыхательных путей, укреплять хрупкие голосовые связки детей, подготовить их к п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распев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правильного звук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правильного формирования глас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д дикцией и артикуляци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альчиковые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w0tkd3u1v-u.jpg"/>
          <p:cNvPicPr/>
          <p:nvPr/>
        </p:nvPicPr>
        <p:blipFill>
          <a:blip r:embed="rId1"/>
          <a:stretch/>
        </p:blipFill>
        <p:spPr>
          <a:xfrm>
            <a:off x="571680" y="1428840"/>
            <a:ext cx="821520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итмоп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"/>
          <p:cNvPicPr/>
          <p:nvPr/>
        </p:nvPicPr>
        <p:blipFill>
          <a:blip r:embed="rId1"/>
          <a:stretch/>
        </p:blipFill>
        <p:spPr>
          <a:xfrm>
            <a:off x="-19080" y="1481040"/>
            <a:ext cx="9182160" cy="5091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20160204_094019.jpg"/>
          <p:cNvPicPr/>
          <p:nvPr/>
        </p:nvPicPr>
        <p:blipFill>
          <a:blip r:embed="rId2"/>
          <a:stretch/>
        </p:blipFill>
        <p:spPr>
          <a:xfrm>
            <a:off x="3071880" y="1500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"/>
          <p:cNvPicPr/>
          <p:nvPr/>
        </p:nvPicPr>
        <p:blipFill>
          <a:blip r:embed="rId3"/>
          <a:stretch/>
        </p:blipFill>
        <p:spPr>
          <a:xfrm>
            <a:off x="5929200" y="2786040"/>
            <a:ext cx="3000600" cy="212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"/>
          <p:cNvPicPr/>
          <p:nvPr/>
        </p:nvPicPr>
        <p:blipFill>
          <a:blip r:embed="rId4"/>
          <a:stretch/>
        </p:blipFill>
        <p:spPr>
          <a:xfrm>
            <a:off x="214200" y="2857680"/>
            <a:ext cx="3071880" cy="207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01,09,16\светочка\фото\света\8 марта\IMG_0033.JPG"/>
          <p:cNvPicPr/>
          <p:nvPr/>
        </p:nvPicPr>
        <p:blipFill>
          <a:blip r:embed="rId1"/>
          <a:stretch/>
        </p:blipFill>
        <p:spPr>
          <a:xfrm>
            <a:off x="357120" y="1214280"/>
            <a:ext cx="3857760" cy="3000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3"/>
          <a:stretch/>
        </p:blipFill>
        <p:spPr>
          <a:xfrm>
            <a:off x="2857680" y="4162320"/>
            <a:ext cx="3286080" cy="2695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9T11:57:02Z</dcterms:created>
  <dc:creator>user2</dc:creator>
  <dc:description/>
  <dc:language>en-US</dc:language>
  <cp:lastModifiedBy>user</cp:lastModifiedBy>
  <dcterms:modified xsi:type="dcterms:W3CDTF">2019-05-22T10:31:32Z</dcterms:modified>
  <cp:revision>39</cp:revision>
  <dc:subject/>
  <dc:title>Здоровьесберегающие технологии на уроке музыки</dc:title>
</cp:coreProperties>
</file>