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96D-AC6E-49B9-879D-6CA88671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9DB-7587-4A27-8CDF-48A35CCB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502F28-F49B-4E5F-82E9-9DA53223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F759D-D106-4192-B3C3-68E68628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7944A-E14E-40F7-AEFE-37F2E3F4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40E55-3987-410F-BCA1-A0509FD0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DF80FE-7621-47F8-95CA-1830D70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48D5B-E039-463A-AC6A-82023A75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6078C-694B-4466-9259-36740CE7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822E1-A67A-4A44-8BAC-BDD4FBD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B3D91-1695-4B0C-9252-67687413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165FC-51B9-43B7-8032-2596FE61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887-525A-4FE3-AF6A-84368DFA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D7100-6154-4DBD-BB3F-3CE1965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363A6-4944-4338-A095-884E184A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EC131-FC27-4EE6-915F-A8A3872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9BF6C-4053-468E-A50C-2D153CE5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A5DFF-D8B0-40A6-A08D-2DB2C80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0C52A-FF73-448C-8F9E-E098C49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E6163-6211-4AD4-B513-241D6A0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AD6B-2754-4788-8D82-4FB558C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1EDCC-788D-4689-8EEB-91659F7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B77AD-2239-41C5-BFBA-B2B24591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132-08AF-42C9-8CE0-A923A67F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8B982-8E33-431D-B493-F52CEDE0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D8B9F-6231-43F0-9264-633595B4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CDD0B-647E-486B-9950-6D1E93CE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DB486-D896-43FA-8E31-2380A762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7E721-3E9D-4B77-8DC2-94A99FAD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0411C-D204-4E6F-BC4D-4CEA5724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7615A-A958-4897-90D3-106657E7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D97DA-8030-4945-B0FB-460595F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8D723-56A4-4E6A-A50A-734CD1C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FC5DE-E9EF-405D-9F57-62BD44F7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F61-37F6-4BF1-A1D0-1A90814F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A2420-3569-421C-AE41-6FB2376E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014D2-85E7-41CA-A092-6681970D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A300-20EA-4630-9974-A2FB9492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F2F55-1046-41B2-99AE-B28A8E77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0728E-5B6A-4075-8D76-EEB6B174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6F036-4DE4-43EC-B8DF-F5FC988D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60C04-4312-477A-AB1A-30A4E26C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2CD07-E73D-4E3B-B33A-1205FD29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2AC25-0C52-4451-AD19-69F17C3F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EDBC-77DF-43B7-8CDD-B010C6F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88AC-7667-4D09-B049-055DA7EE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3FC4B-C4DD-42DC-AF9B-ED69E89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A3581-3628-4204-974F-19A2102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8201C-7FE0-4215-B3B3-4E6948EB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1D639-0857-4B8D-84C5-02387D1E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1D5C1-5556-43BF-BDDF-25DBA4D9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4D0DB-E436-44C7-A058-420F83AB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3C5BB-BD25-4C39-A507-9AAE11C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82D00-5C3D-42DC-B515-FDF7806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B7E0B-A3AB-40F3-94A8-9DAA6879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B4186-7416-4FE3-9537-3714362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7982-FAC1-43DE-8373-337F5F91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A7C42-379F-421E-B8FE-E2DB188C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F401F-C38C-4AC2-9DB0-116D0A5D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DE1C1-5A91-4AA4-84D1-93DE07AC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68192-AE93-4C33-B30F-0EBFB58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6804A-9854-4405-9730-957807B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42144-67DF-4DFC-9C55-D2C4C4C9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978B8-D5DB-4213-97AA-FEF017E2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AC385-65AC-408E-8B0F-DA8E4A1A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9E09F-8847-40DC-A52B-4E21D9D3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0DA16-1A77-440D-9F5F-4BAE2FFE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B275-6ED1-4266-AAD1-709016E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E68B4-6C84-4ED2-9F7E-32354728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029BC-EED4-4CAC-AD6A-DAD03C21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D1574-B326-4691-B4E2-B8F4E3F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C72E5-549D-4E35-B5FD-E1B06C6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85B76-62B8-4112-8A8F-060A070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1F715-3C32-4F86-9A85-C94C4FB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DC35F-95F1-48C6-93BE-E3CA3C42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3F703-F66B-4FE7-9C54-B873F3BA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E6366-FF8A-4153-84F4-CA36B9C2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7BAB8-7B56-4CA4-88C2-307CE8C6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7275-74CC-426C-93D9-4ECF9BF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5C2BB-023E-45C0-859C-39B2C846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2C0CD-A9C1-42DA-9685-D2DEA9C4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A9E32-F357-415C-BEDC-27381556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E50D8-9CCF-45D3-8555-31ED401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B1E32-7B1C-42F5-8E22-C5D4D1EB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E19B9-AD3C-4FB2-825C-14450FD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3DE21-5A24-4861-9E19-8F0B7AF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E9842-B66B-4623-A37C-B800F011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4AD40-3134-4A43-BD3E-BD13B64E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03889-1916-4C9B-89C3-E6B05385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F406-8547-478D-BABF-6AACD15D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C48C0-3851-4C5C-91B9-144882FC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7742E-3A80-4B6C-914A-F051889D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32633-9244-49A0-A0FC-AC1AA6C5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6026A-AD69-4E40-8132-A1023942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A1B2A-E323-474C-B8F1-F65CD2DE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18DE1-DD52-4CC0-A603-035B82FA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3E213-046D-40D1-BFB5-7C12BB7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26FE4-25A5-44D6-AFA2-7EF94B1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3E81D-DDB4-4AD7-A021-F24C7859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32A09-3AF6-4EEF-B983-2C684E22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1BE3-F74B-4F41-BF87-00498D6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F73F3-EB29-4813-8642-ADDE8098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F1B4A-15C3-48FE-8578-AC5448E4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22F87-496A-4F3C-815C-2ADC9F59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E3D70-9EF9-4712-97C1-6DDC68D1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5804D-EA69-433C-B3FC-EC7FBF76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A4566-0116-4DDA-9110-9460A517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FEFB5-C399-4ECB-8302-4A2944A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1B0FF-06FC-4EB5-8F3F-066B1532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631F6-046E-4832-9757-E979661E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0383A-7F80-4E53-BD18-4123954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320-410A-43D2-BAD7-2E930833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2AA-F157-44AB-AE87-04DCB8A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2B0B70-EE10-4521-99F0-4DF1F9E8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115DB-3531-46ED-9C9B-ECDC63C3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3DF8B-8744-483C-A28C-C5BFCC44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BE32C-0F0A-427A-92AF-52327F46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CDA2C-EF6A-474B-A6DA-4D388D16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5FEE3-B5E3-48F0-B21F-706359A1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ADA4F-85F5-48FD-86AE-6742725B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52473-4A80-4D9E-A355-22F963AE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A6647-1F9A-4272-99CC-1C320C7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2E89A-94CE-4991-9F4C-FF61B2E5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CE92-227C-4409-B0AE-C818474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E79E7-31F1-4A4D-B7B5-419272AF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25B42-AE5E-4E23-8A71-BF63E69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52E03-2816-4032-AC1E-E96CC03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AB0CF-48EA-4A88-A945-91AEF2A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A3A17-1A9A-46F9-B959-A6D14E22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AA2BD-95E8-4BFF-9802-F85BA396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A6ECC-262D-40D4-BDA1-E99049A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BD40A-98A3-4654-B687-BFB00E43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6E1BB-A6FA-4BCE-BC9F-5822BA5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621B2-D44E-43BC-86CB-6B574CA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D00A-7A59-44F8-9A33-8F9DA3CD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4EDAA-BBBB-4D39-9346-B90C023C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8C66B-473F-4315-B041-0460640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101B9-98D2-4CAA-97F7-20C584E5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57076-7C49-436D-B9FB-B29FA34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CA5E3-76D0-48BE-BA22-14AC7A3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C0AFA-9DC6-455B-B911-6BFFA7A4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2833E3-DCB0-4FFA-822B-EDF81CB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D3115-3547-49C5-AB88-B0E1CB1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21660-2952-4A70-935B-01736DB4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B9975-7115-4939-BACA-738E37C6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A0C0-CD68-4067-BC3F-ACE94452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EAD22-10D3-4C06-B6FF-0B5A34EE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0878F-3A9D-48DA-850B-A6DEF065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7DEB6-904B-4357-8615-C02FB3A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EA99C-97BA-4B0E-A5A8-3C57213E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45946-0A83-4FAA-811D-1A904780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4A773-BD9A-4768-8D71-A38ACF37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4FBAE-8F8A-4422-B674-C20B352D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811E0-C19B-40D3-8430-A9EE781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E1D12-9BCB-4B98-A651-5B7D4F6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5C120-A36D-451E-A616-24DD4BFD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BCCC-5E0C-4309-96EE-62679CB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33394-FDD8-4D1A-96F5-438DCD4A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C0973-367C-4AD5-9F5E-3A2C9004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90D18-3591-404A-BEC7-6749EED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B82DDC-092F-407B-9360-C447B550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C9FDC-93D1-42CE-9178-5AA6E6C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BE246-0FCE-4121-9943-EC76966F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1006D5-4E19-49EA-A1AF-D3EDD6E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7AE48-A631-432B-AE6A-1805174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317E1-8DB4-4754-BDD2-7419698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10C05-CEDB-44EA-91C9-AC771721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9BD3-DD94-47B7-BD0A-84566FAB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BF26F-D162-44CA-B741-939DB2FF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0CEF64-F84C-4221-8E84-E0057F3D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81AF9-E418-4D68-9ADE-8E01C869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A717-00EE-48E0-AAEB-4103E946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6A82-4EFE-4AAC-B2A2-13F55B0A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4195-FED4-4495-8820-21FC91EE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0B6C-6FFC-461A-9FD1-536685C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406-5EC1-4EA8-A9F8-EF6C984D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9B67-32CC-49A8-B0D3-E4C95A7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89E8-462A-4862-A4B1-C3010553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58AB-0B21-4A22-9399-D72B6126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DD96-8D31-459B-ACE0-C471CE7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43C3-E1E7-4693-BB69-9D919DDF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4203-309F-40BF-BA12-9197888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B058-29CF-44C3-AB10-758CE03E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880F-ED58-4053-A17F-102F56A7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4A5B-31E7-4BF5-A459-62CAFC03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7DA9-EB73-4970-A9A9-6432CAE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3A2-96D1-468B-9B4C-87947B0C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2D5B-A1A7-41F1-8E0A-AA9F1284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6BB1-7071-4E90-86F7-BC954AEE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3ED8-F348-41D0-8AB5-B91AAB66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2417-FF6B-4A37-94BB-B4EBF4A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AC1C-A107-4F9D-AB1A-2F43E5A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9E65-DC7F-47F7-B8FC-D0231DA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359C-4421-4329-BB85-380EC0F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1413-C9DD-4A15-9048-AFAB9DD7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7A10-2F0F-4020-815B-2FE33B7E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76208-DF45-460A-A335-08443791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E92-BFBA-49AB-AED9-D225C81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06CA-4A3F-41B8-97BC-72B4BF75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F6B4-2C56-423A-9CCE-F3E734D8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09EAF-090E-4F8C-899E-56DCA17E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D42E-5489-4D1F-9454-0EE79A75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848B-82C2-4196-B098-0B4CC5F5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404C5-883C-45F9-82C2-78DD239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8C32-7428-4E5B-8FC7-0F961FE0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5295-8B90-4159-AD0F-9E5BD18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105A-15BF-44D8-8897-F0E73F3A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06E4A-59FD-48CE-B49D-112F20D8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4AE-201F-42D4-9E62-8510F4C4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D11E-E397-461F-834B-E87DC08B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36D4-51B6-42A1-B5C7-9BA56073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95D5D-70BC-4008-930E-B76F560C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2A01-CDDE-445A-9DD8-FFA76983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1F4FC-F30D-49A2-964F-5A201D58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B756-2DB7-4887-B5AF-4A906C65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AFAD-11F7-43C7-A547-38DBF851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099E-0131-4E0C-9902-2C8C337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ECD1E-B3E7-4B71-8304-DBA43DCE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B72B-F26F-4C3B-87F2-3D792E2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509-2168-492A-86DD-7DF1EC2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AD1E-DA17-4CB2-B498-743DDB7B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D2BD9-7550-49B5-838E-F0B4CDCF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D6BB8-F626-4004-AA3E-F4B94ED2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BD1F-5880-49E0-9831-7587F26F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20F92-B7AF-487C-8A0C-C8B04C30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7F90-C541-466E-AD27-475483A6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69405-5921-4FF6-B3DE-F01CC417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FB9E4-E9B3-47DA-BAE6-AD421EA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1258F-36E2-4CBF-8FE8-0D71B933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8C2C2-9DC7-4BD5-B383-DB581AD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D58-9823-481B-A8EC-61A7C6E5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0E989-4022-45A8-A9C3-C30200F4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7F87-4C64-4747-8D90-DCF0DEA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9AD5-C3F1-4FD0-99DC-D1C30C4E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FBA5F-BE6F-4554-A4F9-F02C3241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E488-BA68-4FE6-840B-A9F2D96A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0FAE-950C-40B8-A0F9-D9991346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22FEB-E15C-4CDC-8725-33B1279A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EAACD-2C80-4FF1-892C-C13AF332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C1A6B-5F96-436E-ACE4-7AEDDF79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B3DD5-D4C7-4B11-A7F0-19848658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0D3-7FB9-4FC1-95E7-9618B3F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4206-DAD4-4C6E-AF7F-60476A45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4C0A2-15AE-4714-B578-3A039CD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FDF8E-0001-44B6-84E8-B94E729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46713-A098-4D83-91CD-3F4FDE7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81C13-8AF2-4279-8A39-4005372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B8F64-F7EB-4571-992B-CC8074DC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60F5-93D4-441B-996F-30D46F88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765BD-E466-4DAE-BA17-3009F82D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C15E1-62B3-4733-8FB4-36D00559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06C942-06E8-4C23-A47B-3859C792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F17D-8B96-45E6-9062-080543663B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4E8D-C613-4AFB-A119-A1D4800A1B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8E7-BA27-4E49-B3F8-9A70A8E182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AB7-8A3B-4B8F-B9C3-EBB87DA78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9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E453-6E07-41AF-A461-92149647FC9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64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64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FA2-A816-4177-AC7E-3ADE082A96B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9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3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D10D-033F-4356-8B7C-BED91FABF1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77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78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805-6BCB-4F01-91BF-11BBEFB5C339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83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E6F8-2E63-4877-803B-5477B4F596DB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8D97-7CBC-4312-93F7-879AC0D3B86A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96F-456C-478A-B4E7-42732AD0260C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0F4D-BC17-4BB6-85EB-51AF7288B3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DC8D-F3D0-4C54-AD1F-CB2F4021A1BE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00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A451-43DD-430F-B57B-A4CC867F9CB7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6C9A-39B8-4F9E-BCC6-6E104F6B0A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CDD-5A2D-4AE8-80BD-CA14A13498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1C2B-9E54-4BB7-A5FF-1B99FAAD52A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29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32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20C4-5CB5-45AF-9605-DAB8FA2E38F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2E4-1868-4056-B910-C21AF15088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AA9E-5DB6-4C55-A12F-618A2D2175D1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AA5-52FD-41E2-B234-3CDC85F915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Рисунок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68340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49120" y="1000080"/>
            <a:ext cx="7613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я детей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причины и предупреждение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"</a:t>
            </a:r>
            <a:endParaRPr b="0" lang="en-US" sz="60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Каких людей ты считаешь агрессивными?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28760" y="2428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лые , кричат, громко ругаются, дерутся, бьют слабых и то, что попадется под руку, люди , которые испытывают отрицательные эмоции и не могут быть положительными людь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Критерии агрессивности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42560" y="1000080"/>
            <a:ext cx="76438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теряет контроль над собо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специально раздражает люде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винит других в своих ошибках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завислив, мстителен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10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66e"/>
                </a:solidFill>
                <a:latin typeface="Corbel"/>
              </a:rPr>
              <a:t>Критерии агрессивности у ребенка </a:t>
            </a:r>
            <a:r>
              <a:rPr b="0" lang="ru-RU" sz="3200" spc="-1" strike="noStrike">
                <a:solidFill>
                  <a:srgbClr val="69666e"/>
                </a:solidFill>
                <a:latin typeface="Corbel"/>
              </a:rPr>
              <a:t>(анкета)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826560" y="1143000"/>
            <a:ext cx="7859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 Временами кажется, что в него вселился злой ду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 Он не может промолчать, когда чем-то недоволе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 Когда кто-то причиняет ему зло, он обязательно старается отплатить тем ж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 Иногда ему без всякой причины хочется выругать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5. Бывает, что он с удовольствием ломает игрушки, что-то разбивает, потроши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6. Иногда он так настаивает на чем-то,  что окружающие теряют терп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7. Он не прочь подразнить животн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8. Переспорить его трудн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9. Очень сердится, когда ему кажется, что кто-то над ним подшучивае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0. Иногда у него вспыхивает желание сделать что-то плохое, шокирующее окружающ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971280" y="356760"/>
            <a:ext cx="77151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1.  В ответ на обычные распоряжения стремится сделать все  наоборо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2. Часто не по возрасту ворчли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3. Воспринимает себя как самостоятельного и решительног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4. Любит быть первым, командовать, подчинять себе други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5. Неудачи вызывают у него сильное раздражение, желание найти виноваты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6. Легко ссорится, вступает в дра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7. Старается общаться с младшими и физически более слабы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8. У него нередки приступы мрачной раздражительност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9. Не считается со сверстниками, не уступает, не делит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0. Уверен, что любое задание выполнит лучше все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Анкета</a:t>
            </a:r>
            <a:br>
              <a:rPr sz="3900"/>
            </a:b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15-20 баллов – высокая агресс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7-14 баллов – средняя агресс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1-6 баллов – низкая агресс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orbel"/>
              </a:rPr>
              <a:t>Результаты исследования агрессивности</a:t>
            </a: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1070" name="Содержимое 4" descr=""/>
          <p:cNvPicPr/>
          <p:nvPr/>
        </p:nvPicPr>
        <p:blipFill>
          <a:blip r:embed="rId1"/>
          <a:stretch/>
        </p:blipFill>
        <p:spPr>
          <a:xfrm>
            <a:off x="950760" y="1844640"/>
            <a:ext cx="8213760" cy="410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Как вести себя </a:t>
            </a:r>
            <a:br>
              <a:rPr sz="3900"/>
            </a:b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с агрессивным подростком?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899640" y="1356840"/>
            <a:ext cx="78296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и в коем случае не позволять себе разговаривать с подростком на повышенных тон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вы видите, что ребенку трудно себя сдерживать, то дайте ему возможность выплеснуть сво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грессию без причинения вреда окружающи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казывайте ребенку пример эффективного поведения, старайтесь не допускать при нём вспышек гнева и не стройте планы ме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делайте всё, чтобы ваш ребенок в каждый момент времени чувствовал, что вы его любите, цените и принимаете, не стесняйтесь лишний раз его приласкать и пожале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Задачи родителей и педагогов:</a:t>
            </a: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826560" y="928440"/>
            <a:ext cx="78598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нтроль над  собственными негативными  эмоциональными состояниями, так как умение взрослого владеть собой является лучшим гарантом адекватного поведения де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владение приемами конструктивного, позитивного общения в целях исключения ответной агрессивной поведенческой реакции со стороны детей или погашения уже имеющей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оворить с ребенком о своих чувствах и переживаниях, язык  «Я-сообщений»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активно слушать» его внутренний мир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оценивать личность ребенка, а говорить о нежелательных действиях ребенка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идеть в словах и действиях детей позитивный настрой и благие намер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ладать навыками саморегуля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ТЕРПЕНИЯ,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ТЕРПЕНИЯ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И ЕЩЁ РАЗ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ТЕРПЕНИЯ!!!</a:t>
            </a:r>
            <a:endParaRPr b="0" lang="en-US" sz="60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1371600" y="500040"/>
            <a:ext cx="640080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Недовольст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Раздражение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rbel"/>
              </a:rPr>
              <a:t>Злость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rbel"/>
              </a:rPr>
              <a:t>Гне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rbel"/>
              </a:rPr>
              <a:t>Ненависть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Ярость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Словарь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Агресс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(от лат. «agressio» – нападение приступ) намеренные действия, направленные на причинение ущерба другому человеку, группе людей или животн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Агрессивнос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это свойство личности, выраженная в готовности к агресс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Corbel"/>
              </a:rPr>
              <a:t>Факторы, влияющие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orbel"/>
              </a:rPr>
              <a:t>на  агрессивное поведение :</a:t>
            </a:r>
            <a:endParaRPr b="0" lang="en-US" sz="2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899640" y="1356840"/>
            <a:ext cx="802980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           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Персональный фактор</a:t>
            </a:r>
            <a:r>
              <a:rPr b="1" lang="ru-RU" sz="2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– низкий уровень воспитания,          неадекватно заниженная самооценка, высокая импульсивность, злоупотребление алкоголем, наркотиками, компьютерными играми, готовность к риску, ограниченное чувство самосохран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Поведенческий фактор </a:t>
            </a: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– поведение, создающее помехи для окружающих, вандализм, бесцельное времяпровождение, прогулы, слабая успеваемость в школе, ранние сексуальные контакты, приводы в милицию, ранняя судимост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Социальный фактор </a:t>
            </a: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– культ насилия в обществе, влияние СМИ, отклоняющееся поведение родителей, низкий социально-экономический статус семьи, зависимость от социальной помощи, смена воспитателей (отчим, мачеха), семейное и сексуальное насилие, друзья с отклоняющимся поведение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urier New"/>
                <a:ea typeface="Courier New"/>
              </a:rPr>
              <a:t>Возможные причины: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115640" y="785880"/>
            <a:ext cx="7527960" cy="5572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Внутрисемейные конфликты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развод родителей, появление другого воспитателя, появление второго ребенка в семье, завышенные требования к успеваемости, которые не всегда соответствуют способностям и возможностям ребен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Неблагополучие семь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Гиперопека или равнодушие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Личные проблемы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наступление фазы полового созревания и связанные с этим проблемы физиологического и психологического характер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Недовольство собственной внешность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971640" y="285480"/>
            <a:ext cx="760104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Неадекватное восприятие со стороны взрослых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мнение подростка о том, что он взрослый, но никто его таковым не считает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Развитие критического мышления и как результат протест против морали взрослых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Проблемы с успеваемостью и приклеивание ярлыков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для неуспевающих учеников агрессивное поведение является одним из средств, при помощи которых они компенсируют свою неуспеваемость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Социальные причины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культ насилия, сформировавшийся в обществе, влияние СМИ, переполненные классы, раздражение, усталость от школы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6" name=""/>
          <p:cNvGraphicFramePr/>
          <p:nvPr/>
        </p:nvGraphicFramePr>
        <p:xfrm>
          <a:off x="0" y="25560"/>
          <a:ext cx="8964720" cy="6832440"/>
        </p:xfrm>
        <a:graphic>
          <a:graphicData uri="http://schemas.openxmlformats.org/drawingml/2006/table">
            <a:tbl>
              <a:tblPr/>
              <a:tblGrid>
                <a:gridCol w="2239920"/>
                <a:gridCol w="2241720"/>
                <a:gridCol w="2241360"/>
                <a:gridCol w="2241720"/>
              </a:tblGrid>
              <a:tr h="8744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тегии вос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ретные примеры стратег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иль поведения реб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ему ребенок так поступа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9004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подавление агрессивного поведения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екрати!», «Не смей так говорить». Родители наказывают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сивный (ребенок может прекратить сейчас, но выплеснет свои отрицательные эмоции в другое время и в другом мест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копирует родителей и учится у них агрессивным формам п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9000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ование агрессивных вспышек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делают вид, что не замечают агрессии ребенка или считают, что ребенок еще м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сивный (ребенок продолжает действовать агрессивн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думает, что все правильно, и агрессивные формы поведения закрепляются в черту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157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дают возможность ребенку выплеснуть агрессию приемлемым способом и в тактичной форме запрещают вести себя агрессивно по отношению к друг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родители видят, что ребенок разгневан, они могут вовлечь его в игру, которая снимет его гнев. Родители объясняют ребенку, как надо вести себя в определенных ситуац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всего, ребенок научиться управлять своим гнев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учится анализировать различные ситуации и берет пример со своих род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85480" y="2071800"/>
            <a:ext cx="864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rbel"/>
              </a:rPr>
              <a:t>Агрессивный ребенок – какой он?</a:t>
            </a:r>
            <a:endParaRPr b="0" lang="en-US" sz="54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Портрет агрессивного ребенка</a:t>
            </a:r>
            <a:r>
              <a:rPr b="0" lang="ru-RU" sz="3900" spc="-1" strike="noStrike">
                <a:solidFill>
                  <a:srgbClr val="69666e"/>
                </a:solidFill>
                <a:latin typeface="Corbel"/>
              </a:rPr>
              <a:t> </a:t>
            </a: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971640" y="1000080"/>
            <a:ext cx="7867440" cy="5572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вный ребенок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, как и любой другой,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нуждается в ласке и помощи взрослых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, потому, что его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я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 – это прежде всего,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отражение внутреннего дискомфорта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, неумения адекватно реагировать на происходящие вокруг него события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вный ребенок часто ощущает себя отверженным, никому ненужным. 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Он использует любую возможность, стремиться разозлить маму, учителя, сверстников; он не успокоится до тех пор, пока взрослые не взорвутся, а дети не вступят в драку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Родителям и педагогам не всегда понятно, чего добивается ребенок и почему он ведет себя так, хотя заранее знает, что со стороны детей может получить отпор, а со стороны взрослых наказание. В действительности, это порой лишь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отчаянная попытка завоевать свое «место под солнцем»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вные дети часто подозрительны и насторожены, любят перекладывать вину за затеянную ими ссору на других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. Такие дети часто не могут сами оценить свою агрессивность, они не замечают, что вселяют в окружающих страх и беспокойство. Им, напротив, кажется, что весь мир хочет обидеть именно их. Таким образом, получается замкнутый круг: агрессивные дети боятся и ненавидят окружающих, а те, в свою очередь, боятся их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06:03:04Z</dcterms:created>
  <dc:creator>Admin</dc:creator>
  <dc:description/>
  <dc:language>en-US</dc:language>
  <cp:lastModifiedBy>Пользователь</cp:lastModifiedBy>
  <dcterms:modified xsi:type="dcterms:W3CDTF">2018-11-09T14:25:03Z</dcterms:modified>
  <cp:revision>44</cp:revision>
  <dc:subject/>
  <dc:title>Агрессия детей.  Причины   и предупреждение.</dc:title>
</cp:coreProperties>
</file>