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2.png" ContentType="image/png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6C02-BDCB-4E69-93E2-0B04F63C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A816-7DF4-4254-9ADE-62D0132A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779147-1C16-405E-A8F2-22400343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C06B79-2382-4C5B-8EDD-9E26EF11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5C3A1A-EA33-447B-BCB4-EAF9EACD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60204F-A7D6-4E07-8217-FDA3261A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9233EE-3FCC-4518-8D72-CB09AECB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49FFD7-0C58-415D-8ABF-B7AE0E37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252BAE-FEBC-48E2-A3C5-2DB5A77C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1CD1C2-F0F2-4AD1-AD7B-FD8FB9C5A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781FAA-8D2A-458D-8297-36423F41A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523C6-D293-4F9D-B208-61D4BE193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D318-0BC8-4F57-A36B-90E1D3F82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E66615-DE1A-4C80-8531-D3942656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A8D46-1EE0-4664-8C0A-2E16491D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6A013-185B-4AA0-A9A3-C0B7F3C9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B6D36-2AD2-4FC9-A24C-06FD2AD1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53820-603E-4CCF-87F7-F8C26B64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8F8A1-BE28-4F7C-A2DF-B82DC002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2E6FA2-D179-463C-B79B-19F34768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975AB-C732-4448-8B6B-33B75913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49488-4F22-4E1B-A99B-0513C5DE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44D2E-F8D3-49F8-9318-509EB25D4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8527-F755-49BF-A0FA-E8671FD2F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A05DC-43D2-4196-8747-CA555C9C2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B1D07-8152-4A4E-A364-242F128A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0ABE6-05F2-41F8-B6BE-2BA8A21D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C1BE4-D448-462D-A149-AD4CB9BA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55C8D-1C89-41D0-ADE3-87C3FFE6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C6550-1B02-4695-8C4B-16C4152B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AE304-15A2-4155-8B1A-7021346F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FF8C4-0AE9-41A1-95DA-E009D63D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C3F0A-41B0-4028-8B99-9B08B30C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8D794-AA26-4DAC-9E68-8DEEC573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BBC2-8127-4329-871B-2CFBCEEB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1F47E-7343-49C0-9C0B-550BE369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9B7C2-0948-4EFB-B0E8-C4D178B7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5E81B-B14E-403C-9F2A-F88D2D63A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0C6A0-D18E-4580-B68A-3A0CBD9F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359045-5ADD-4712-8C55-00EDE432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61F4C-F375-4954-B183-1E5175F9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D925A2-1C94-4180-BC8C-352B339E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E3B82E-EDE9-4662-895A-C5774F98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D1395-9531-4852-973F-23D4B4A1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6C406-B891-429D-89C7-70B372EE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87BB-331F-4D3B-8E93-1657A3D3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21D686-6DA7-4E91-BC02-80A6991F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61ABC-566D-451E-8B90-B374B07C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987091-1E90-44BC-BEE2-E67DC07D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EB3F1-631E-4883-A1E4-64F129E4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9576F3-BA24-420F-9802-3FB58680A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C4701A-CEFD-4DEA-A2C4-BC19C08B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79C9C1-B8C5-48F4-9FA0-66C95E8A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5748F2-86F7-4E36-86FE-EAD1196A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CFBCD1-ADEC-4FB4-8A7C-D40DE48C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C16AE0-2D83-4624-A64C-66F3E34B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EFED-40E3-4C69-8406-EA12B159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B5F052-334B-4F90-8010-7C5BBA84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0F6E07-C3FD-4E90-BD7F-7BBBEEF9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D19CFF-04EB-4D45-9A8C-2640D33B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876989-731E-41D2-84C8-2E4927C8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BCFC41-4B60-4CBA-9BA3-39B3FC6C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DC550A-DE43-4CF6-9968-F60B249E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1DE196-76CC-46D5-AA49-D9C9D2FE4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CAF564-C0A9-48E9-8DFB-34D7E551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4973A5-72B6-429B-BCA3-D6D34F5A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D6E238-DB9A-4552-9167-DFABF123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AFFC-F7DC-4C29-A97C-49CB9182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391778-F505-48CD-96F7-E3FDD252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12C43E-B2A5-43E5-A83A-9C6A6300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9B49E7-D878-499D-98D4-6456CED7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FF23AB-9138-4EBD-97D1-AE5551B6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F294EB-C9AF-4E64-84E5-129A8A48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AD016A-AD53-4B7A-B75C-A0C0DA67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50A246-0BE6-42FC-B46E-0CAFE157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D2D69A-53D2-4A43-B5D8-9F27216E4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070392-79BD-4D72-8D85-5EDE9462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4E09BF-5CD5-4C15-B90D-C3D8E825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4E06-9A95-485B-B39F-B4C97140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DDE13D-07D2-4BC7-A8BD-30D976E7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566DA2-C531-4A31-B5B1-30DE1D1E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4AE7AC-0022-4B08-A9E5-28B3F7C4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91998F-09A7-4459-84A8-9C8D02D5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86A50B-7CA4-45B4-AC7A-E3E9E685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5A5BBF-AAC2-4749-B115-87778DF5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D089BA-BEF3-41AD-8C49-7EAB841E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48DA0C-91C3-42A6-BF8A-EC51843A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6EF780-8C44-470C-86DF-173011C7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3D3846-C3DD-494A-8839-AEC390DF0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1619-6763-4763-B0D4-828C80F4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7DD1DD-FBD2-4937-BFA4-2F330C27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96B473-166C-44B3-B19C-3CF319DE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3647BC-6996-456D-A1FB-DD219CAD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C59582-34B1-4687-816F-2066770F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D066D2-D000-44AC-A9BF-41A7C3B3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B4A08F-EC8D-4705-8B7B-9CE73084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19A8CC-E9DC-424E-B016-EEBB85D2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FFE9A5-1232-4935-903C-0B03B416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3128C0-41D4-4F2F-A6FE-2D252112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C5318E-B957-4EA3-8CE7-76BA10A5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9B60-0D1E-4660-A293-3DDEEFCE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44D04A-9B67-40A4-9F29-35A08A89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A782E8-8362-4752-AC55-79A8CE44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F5B1BC-D042-420E-BC20-51136ED2D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CCC4F0-4D1D-49E1-9330-16E2AF21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7E8CF1-56F3-43A9-890F-43E92B79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BBDD7F-0117-44FD-B0D9-82FBA19D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B8EA0C-4C18-45B2-9666-67A09A38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6A28B9-988C-418B-B9AA-42DA094A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11922C-73D7-48E9-BC9F-3818B4CF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3FDA22-A62B-41FE-9839-C8B964C3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CB34-F6CA-4CCA-89E7-32031F79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7603-AE67-4FA8-9361-7AA8EE9C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A993D5-1EAA-4C41-9A47-EBA7C400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4BAEAC-8E06-492C-9334-6017E70C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BEA766-00B5-42F1-9DD6-1D6727A2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556B0E-6CCA-446A-88CA-2135D279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CCD409-16C8-424F-8E93-617D2C62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E3E733-3925-4BCA-AAA2-36B68028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1D51EC-C816-4A6B-9A12-DC472E97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811E49-B7F8-4870-AC3A-B3255250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76D16C-B3AE-4489-9295-B1E93528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F0B377-96CB-4FE6-8835-980511D5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FA1B-1D2D-4C43-BE99-E85AABD5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9DE6AD-7F1C-4286-AD8B-F6533D56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EA98B6-270F-43B3-B7A2-24D00FE1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F38EFF-3230-4845-B4A8-87180F22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369BFF-B844-478E-AB9B-F7F058AB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20F336-BB59-4654-917B-F2F3B200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816F74-6165-4D69-97C5-BDC369C6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863F8C-4685-462F-A2A6-ECB68B84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B29F59-0410-4D9F-8F90-AEC14885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D25A27-FA05-4A5F-8FFF-EDF99C2D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7847F2-AF1F-4759-9E83-39D914DF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3E84-43EC-4B5E-9BEB-195D9A06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6A8281-5BCE-4632-A59B-AF5F879D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6B7A31-81E9-4B0C-BCC9-BE2D887C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A3A7C9-607D-4173-A31A-17847420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DAE10A-A057-44F6-86D2-A4B43B19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E7D825-562A-4EE5-9056-A6AB6EBA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051CBE-CDFC-44CE-81A6-6E971AB4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5574F3-7546-40ED-9725-3EC83212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ACDD84-246D-4A7A-B2E5-94E0ACC2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07C7CD-391C-4721-A827-A1A867117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C8327B-613E-4383-B555-A17D9D7C2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E2FE-FA30-4ADA-9A7B-FC4B147C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63B845-7ACC-4CF5-AD9A-3506E56B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400180-2FD8-4377-BF4E-FC772650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3B488E-43E2-401D-BFA7-038F6ABD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412DE8-BD82-4CC2-BD2E-B75635A4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73F9E1-6626-4DFC-A99B-AA29D992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707643-FD56-42EE-B1EE-A56B4D11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B43E03-72AE-4E92-B468-E9A42543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021ACD-1607-470C-8A7D-F46563B0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7DEAD8-BF3F-4504-8443-D2B44DC3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5BE6FF-1259-4776-81BD-6D0093F0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FEDD-2EB0-46AA-B72B-FAE4F746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9E7EDB-C7BA-49E8-9597-1D6B48440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4F9593-EB5E-4CE1-AF7F-444B87298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1503AA-E918-441C-BF42-F2CA2536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8151E9-4B74-47A2-8542-A994F92E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ED742A-3561-4ED5-A24E-C7910973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1191FF-D883-44BF-9DEA-56C7FF34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5169AE-DA60-4B5D-A254-9804CDF8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60D53F-93CC-4660-B6F0-975A6291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12E9D8-0B5C-495E-84F8-D702D2D6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563C08-E73E-4D9A-8ABD-94B31DBB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342E3-7414-48F0-9074-9A2462CF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1E8631-6F5F-43BA-AAC5-6B259292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43FBF2-03F2-4870-8AB3-D4424B52A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040EA2-10AE-46E3-82A7-4D5F17FA7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49C85-3EDB-462B-9A45-3243C509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05351-06CF-4B21-92A8-05F31C38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95F57-A13B-4887-948F-DE4BDF0B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80E66-2690-4248-95CE-C31D8C9B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DF98-0DB7-4ECF-94D6-0086F890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2CEA9-8988-42E6-B0B3-BA78A8A9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01412-643A-4FCA-B8E6-6257C24D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ADC71-D3D9-4964-93A9-5A4B16FA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FF4D3-3074-4D5B-93A4-238F72B1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D2CCB-783B-4176-9CB6-88E3A1D0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787B2-A4E7-4937-A7E3-615B2508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852CA-AED4-4E2D-AF3A-9771892CF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CE26D-FF12-4422-B2EB-F18C752C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21776-5D1B-46A8-BB90-86C1FF20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05896-3972-43CC-A772-47B33D98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1D8E-7874-4DBD-AB80-7D8F3809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E2973-C6A3-4C8E-9297-CA0C0324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8C451-B871-4328-8FEB-1FE3614C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5764C-09EF-4C0C-BDF5-54B193FD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47214-6FC1-41D8-8065-7192AEE3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D1BB3-4B7C-4511-87D0-718EF87E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71F03-0EC4-4994-8D36-FAF19A90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4ED69-0084-489C-AD85-47EADE36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A27B4-C95D-4FA4-A6D4-BE8054719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6012A-E7D8-4DFC-8F75-6DAE919D5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F7B19-1BCA-4B2D-9DE7-5FDE2F26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1269-E9DA-4591-A869-EBE06D8C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07839-75F4-4FE6-8FDB-6D642721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51315-9862-4874-98D0-9BD584C1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6E475-22A7-4C97-BABB-33C91C74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F00EB-A184-4404-A056-9B948BF4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E7B07-E26D-4800-8796-D4E0E177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2B06E-558A-49C5-87BF-214E299E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AC123-EAB4-4072-84BF-A2B52D37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CB58A-7542-4349-8A77-14B64762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02D38-8525-4756-8703-BC69B2EC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44EB5-7160-4B93-8B34-1F4EB7D0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2E37-BE63-4436-8D8F-10C162D6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80340-A805-4839-826B-3C75F57C7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BE140-AFB4-428C-9918-D8DD5C306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96FA4-A358-4F08-A899-25A1725A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1DA2A-6A12-45DF-B2D1-C97FB0C1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B1734-272C-453B-8497-31D17F4C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D119F-79CE-4656-A23A-5C481A50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2C354-C291-4DFB-8474-AFA87D5E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1A0D9-9B2C-4681-B4F5-0CA30398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46BDC-C79C-4014-9F56-E3753DB2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E3A3C-EBBD-43CF-B95A-34D71DB8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7CA8-6A29-4C1B-B384-E6311E5C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3FE7C-4BCF-4ACD-9FD0-8EC08899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83A11-D303-4951-8ED3-891C3E67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F9602-FF28-426F-B647-E2DA0480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9EE50-3B2D-4923-A9AC-99FF1BDD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0207D-B7EA-4953-A5EA-76F19AD1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BCB58-CD1B-4856-B855-9D1DAE52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C73E5-1DD2-41CC-B287-A2245F6F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65F81-E333-45B3-A56E-B47F3AC3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1F6AE-E5DB-4A30-885C-AE4E26CA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54FCE-AB48-465A-AC8D-0141878A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1CE7-574F-4511-9A79-C18B1852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D7886-74E5-43D3-AF86-9D674B9B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0971F-0C5F-41DD-9C15-2158165C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F9976-EE3A-40DA-B77B-554ECE0D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07149-1449-4434-B9A1-8A98DD622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E15E4-2D88-46E1-9615-AFC55D115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A62A4-1691-483A-BEE2-0E6E22B71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586CF-22F2-4DE4-B93B-045A954F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C88EA-2C53-439F-8B45-D4A33FFD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62D18-16F2-418B-BFC0-A4619EEE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C837B-47B4-42F3-AA78-6A02C972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35F0-B688-4994-B0F6-DEA6A9EC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49744-6862-424D-94BB-2EA6F355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25310-7EA9-4560-9C66-02F232B1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2BB93-C8B3-4098-B038-7D431DC4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5093D-EC29-49A9-88A0-3135A41C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B99D8-04EC-43B7-8E9F-B8F1A198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1D31C-EC4F-44F5-A2B5-6E71CBE50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44C1E-8709-42E3-8393-69C7D385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6B842D-FD21-4C7E-9AE2-66E7257F3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8CB233-6C6D-4E93-8C14-71B185F0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36C5A3-845A-4162-B355-68E24779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7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1589-ACEB-48BE-BEF0-BF7EB8E165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28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29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0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8D77-96CB-46F9-BFA1-1DD5BE6BBB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95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0ACE-3982-4A02-ABBD-DD86F314B8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99A3-2A90-46E1-B67E-8173194D93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9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4738-318F-4162-8A64-7E02F52EC7B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641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642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4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7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48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0E45-CEFC-4E94-BB02-01C222AC98E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696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33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2789-8A33-441E-B4D6-B017FE81F7C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8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77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784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6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4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4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 type="sldNum" idx="4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13C4-A20C-409E-BF45-02CC16FF1B14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831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3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dt" idx="4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ftr" idx="5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sldNum" idx="5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C199-833B-43F5-8031-AF553C454D9B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5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5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5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0BC9-CB6E-473D-992B-C0F9AD8110D4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5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6FC6-F9C3-4CB6-B490-271E2D57F53C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3A9F-5DA0-40AD-B366-5F3C961BFF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dt" idx="5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ftr" idx="5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 type="sldNum" idx="6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EF52-E8D2-4581-B923-9E3EFE2811CE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0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1001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3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fb2c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9c2d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 type="dt" idx="6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 type="ftr" idx="6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 type="sldNum" idx="6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0AC7-25F9-4BDA-B200-CF407588101D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4e4c"/>
              </a:solidFill>
              <a:latin typeface="Cambri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4e4c"/>
              </a:solidFill>
              <a:latin typeface="Cambri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4e4c"/>
              </a:solidFill>
              <a:latin typeface="Cambri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4e4c"/>
              </a:solidFill>
              <a:latin typeface="Cambri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4e4c"/>
              </a:solidFill>
              <a:latin typeface="Cambria"/>
            </a:endParaRPr>
          </a:p>
          <a:p>
            <a:pPr lvl="5" marL="2036520" indent="-226080">
              <a:spcBef>
                <a:spcPts val="799"/>
              </a:spcBef>
              <a:buClr>
                <a:srgbClr val="004e4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4e4c"/>
              </a:solidFill>
              <a:latin typeface="Cambria"/>
            </a:endParaRPr>
          </a:p>
          <a:p>
            <a:pPr lvl="6" marL="2036520" indent="-226080">
              <a:spcBef>
                <a:spcPts val="799"/>
              </a:spcBef>
              <a:buClr>
                <a:srgbClr val="004e4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4e4c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CC01-597A-4049-885F-EBC6882A57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9410-CCEF-47B5-AD10-C237CF2C52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D42B-298B-4A77-8A46-3842731ADBC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229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1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232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82F7-6DCA-41EE-A12D-8F0EE782A57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8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2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A427-CEE7-4B31-B2B0-2E6529A469A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5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66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CFD5-0D4F-4847-92C3-14F6038D4C95}" type="slidenum">
              <a:rPr b="0" lang="ru-RU" sz="1200" spc="-1" strike="noStrike">
                <a:solidFill>
                  <a:srgbClr val="93889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3E78-8D17-4A4D-B859-6F5E99E376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8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Рисунок 1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683400"/>
          </a:xfrm>
          <a:prstGeom prst="rect">
            <a:avLst/>
          </a:prstGeom>
          <a:ln w="0">
            <a:noFill/>
          </a:ln>
        </p:spPr>
      </p:pic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149120" y="1000080"/>
            <a:ext cx="7613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"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сия детей: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е причины и предупреждение</a:t>
            </a: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"</a:t>
            </a:r>
            <a:endParaRPr b="0" lang="en-US" sz="6000" spc="-1" strike="noStrike">
              <a:solidFill>
                <a:srgbClr val="69666e"/>
              </a:solidFill>
              <a:latin typeface="Corbe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Corbel"/>
              </a:rPr>
              <a:t>Каких людей ты считаешь агрессивными?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428760" y="2428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лые , кричат, громко ругаются, дерутся, бьют слабых и то, что попадется под руку, люди , которые испытывают отрицательные эмоции и не могут быть положительными людьм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8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Corbel"/>
              </a:rPr>
              <a:t>Критерии агрессивности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1042560" y="1000080"/>
            <a:ext cx="7643880" cy="54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ceb966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Часто теряет контроль над собой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ceb966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Часто спорит, ругается со взрослыми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ceb966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Часто отказывается выполнять правила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ceb966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Часто специально раздражает людей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ceb966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Часто винит других в своих ошибках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ceb966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Часто сердится и отказывается сделать что-либо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ceb966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Часто завислив, мстителен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ceb966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Чувствителен, очень быстро реагирует на различные действия окружающих (детей и взрослых), которые нередко раздражают его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768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768" fill="hold"/>
                                        <p:tgtEl>
                                          <p:spTgt spid="10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" dur="768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768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66e"/>
                </a:solidFill>
                <a:latin typeface="Corbel"/>
              </a:rPr>
              <a:t>Критерии агрессивности у ребенка </a:t>
            </a:r>
            <a:r>
              <a:rPr b="0" lang="ru-RU" sz="3200" spc="-1" strike="noStrike">
                <a:solidFill>
                  <a:srgbClr val="69666e"/>
                </a:solidFill>
                <a:latin typeface="Corbel"/>
              </a:rPr>
              <a:t>(анкета)</a:t>
            </a:r>
            <a:br>
              <a:rPr sz="3900"/>
            </a:br>
            <a:endParaRPr b="0" lang="en-US" sz="32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826560" y="1143000"/>
            <a:ext cx="7859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. Временами кажется, что в него вселился злой ду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2. Он не может промолчать, когда чем-то недоволен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3. Когда кто-то причиняет ему зло, он обязательно старается отплатить тем же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4. Иногда ему без всякой причины хочется выругатьс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5. Бывает, что он с удовольствием ломает игрушки, что-то разбивает, потрошит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6. Иногда он так настаивает на чем-то,  что окружающие теряют терпени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7. Он не прочь подразнить животны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8. Переспорить его трудно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9. Очень сердится, когда ему кажется, что кто-то над ним подшучивает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0. Иногда у него вспыхивает желание сделать что-то плохое, шокирующее окружающи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 txBox="1"/>
          <p:nvPr/>
        </p:nvSpPr>
        <p:spPr>
          <a:xfrm>
            <a:off x="971280" y="356760"/>
            <a:ext cx="771516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1.  В ответ на обычные распоряжения стремится сделать все  наоборо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2. Часто не по возрасту ворчлив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3. Воспринимает себя как самостоятельного и решительного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4. Любит быть первым, командовать, подчинять себе других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5. Неудачи вызывают у него сильное раздражение, желание найти виноватых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6. Легко ссорится, вступает в драк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7. Старается общаться с младшими и физически более слабым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8. У него нередки приступы мрачной раздражительност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9. Не считается со сверстниками, не уступает, не делится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20. Уверен, что любое задание выполнит лучше все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Corbel"/>
              </a:rPr>
              <a:t>Анкета</a:t>
            </a:r>
            <a:br>
              <a:rPr sz="3900"/>
            </a:b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buClr>
                <a:srgbClr val="ceb9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a383d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3a383d"/>
                </a:solidFill>
                <a:latin typeface="Corbel"/>
              </a:rPr>
              <a:t>15-20 баллов – высокая агрессивност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buClr>
                <a:srgbClr val="ceb9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a383d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3a383d"/>
                </a:solidFill>
                <a:latin typeface="Corbel"/>
              </a:rPr>
              <a:t>7-14 баллов – средняя агрессивност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buClr>
                <a:srgbClr val="ceb9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a383d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3a383d"/>
                </a:solidFill>
                <a:latin typeface="Corbel"/>
              </a:rPr>
              <a:t>1-6 баллов – низкая агрессивност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69666e"/>
                </a:solidFill>
                <a:latin typeface="Corbel"/>
              </a:rPr>
              <a:t>Результаты исследования агрессивности</a:t>
            </a:r>
            <a:endParaRPr b="0" lang="en-US" sz="3900" spc="-1" strike="noStrike">
              <a:solidFill>
                <a:srgbClr val="69666e"/>
              </a:solidFill>
              <a:latin typeface="Corbel"/>
            </a:endParaRPr>
          </a:p>
        </p:txBody>
      </p:sp>
      <p:pic>
        <p:nvPicPr>
          <p:cNvPr id="1070" name="Содержимое 4" descr=""/>
          <p:cNvPicPr/>
          <p:nvPr/>
        </p:nvPicPr>
        <p:blipFill>
          <a:blip r:embed="rId1"/>
          <a:stretch/>
        </p:blipFill>
        <p:spPr>
          <a:xfrm>
            <a:off x="950760" y="1844640"/>
            <a:ext cx="8213760" cy="4102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c00000"/>
                </a:solidFill>
                <a:latin typeface="Corbel"/>
              </a:rPr>
              <a:t>Как вести себя </a:t>
            </a:r>
            <a:br>
              <a:rPr sz="3900"/>
            </a:br>
            <a:r>
              <a:rPr b="1" i="1" lang="ru-RU" sz="3900" spc="-1" strike="noStrike">
                <a:solidFill>
                  <a:srgbClr val="c00000"/>
                </a:solidFill>
                <a:latin typeface="Corbel"/>
              </a:rPr>
              <a:t>с агрессивным подростком?</a:t>
            </a:r>
            <a:br>
              <a:rPr sz="3900"/>
            </a:br>
            <a:endParaRPr b="0" lang="en-US" sz="39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899640" y="1356840"/>
            <a:ext cx="782964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♦ 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и в коем случае не позволять себе разговаривать с подростком на повышенных тона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♦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Если вы видите, что ребенку трудно себя сдерживать, то дайте ему возможность выплеснуть сво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грессию без причинения вреда окружающи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♦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казывайте ребенку пример эффективного поведения, старайтесь не допускать при нём вспышек гнева и не стройте планы мест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♦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делайте всё, чтобы ваш ребенок в каждый момент времени чувствовал, что вы его любите, цените и принимаете, не стесняйтесь лишний раз его приласкать и пожале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mb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Corbel"/>
              </a:rPr>
              <a:t>Задачи родителей и педагогов:</a:t>
            </a:r>
            <a:r>
              <a:rPr b="0" lang="ru-RU" sz="4300" spc="-1" strike="noStrike">
                <a:solidFill>
                  <a:srgbClr val="c00000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826560" y="928440"/>
            <a:ext cx="785988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онтроль над  собственными негативными  эмоциональными состояниями, так как умение взрослого владеть собой является лучшим гарантом адекватного поведения дете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владение приемами конструктивного, позитивного общения в целях исключения ответной агрессивной поведенческой реакции со стороны детей или погашения уже имеющейс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говорить с ребенком о своих чувствах и переживаниях, язык  «Я-сообщений»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«активно слушать» его внутренний мир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е оценивать личность ребенка, а говорить о нежелательных действиях ребенка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идеть в словах и действиях детей позитивный настрой и благие намерени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бладать навыками саморегуляци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857160" y="92880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ourier New"/>
                <a:ea typeface="Courier New"/>
              </a:rPr>
              <a:t>ТЕРПЕНИЯ, </a:t>
            </a: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Courier New"/>
                <a:ea typeface="Courier New"/>
              </a:rPr>
              <a:t>ТЕРПЕНИЯ </a:t>
            </a: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Courier New"/>
                <a:ea typeface="Courier New"/>
              </a:rPr>
              <a:t>И ЕЩЁ РАЗ </a:t>
            </a: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Courier New"/>
                <a:ea typeface="Courier New"/>
              </a:rPr>
              <a:t>ТЕРПЕНИЯ!!!</a:t>
            </a:r>
            <a:endParaRPr b="0" lang="en-US" sz="6000" spc="-1" strike="noStrike">
              <a:solidFill>
                <a:srgbClr val="69666e"/>
              </a:solidFill>
              <a:latin typeface="Corbe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ubTitle"/>
          </p:nvPr>
        </p:nvSpPr>
        <p:spPr>
          <a:xfrm>
            <a:off x="1371600" y="500040"/>
            <a:ext cx="6400800" cy="5857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orbel"/>
              </a:rPr>
              <a:t>Недовольство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a383d"/>
                </a:solidFill>
                <a:latin typeface="Wingdings"/>
                <a:ea typeface="Wingdings"/>
              </a:rPr>
              <a:t>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rbel"/>
              </a:rPr>
              <a:t>Раздражение</a:t>
            </a:r>
            <a:r>
              <a:rPr b="0" lang="ru-RU" sz="28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a383d"/>
                </a:solidFill>
                <a:latin typeface="Wingdings"/>
                <a:ea typeface="Wingdings"/>
              </a:rPr>
              <a:t>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orbel"/>
              </a:rPr>
              <a:t>Злость</a:t>
            </a:r>
            <a:r>
              <a:rPr b="0" lang="ru-RU" sz="28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a383d"/>
                </a:solidFill>
                <a:latin typeface="Wingdings"/>
                <a:ea typeface="Wingdings"/>
              </a:rPr>
              <a:t>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orbel"/>
              </a:rPr>
              <a:t>Гнев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a383d"/>
                </a:solidFill>
                <a:latin typeface="Wingdings"/>
                <a:ea typeface="Wingdings"/>
              </a:rPr>
              <a:t>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orbel"/>
              </a:rPr>
              <a:t>Ненависть</a:t>
            </a:r>
            <a:r>
              <a:rPr b="0" lang="ru-RU" sz="28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a383d"/>
                </a:solidFill>
                <a:latin typeface="Wingdings"/>
                <a:ea typeface="Wingdings"/>
              </a:rPr>
              <a:t>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Ярость</a:t>
            </a:r>
            <a:r>
              <a:rPr b="0" lang="ru-RU" sz="2800" spc="-1" strike="noStrike">
                <a:solidFill>
                  <a:srgbClr val="3a383d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orbel"/>
              </a:rPr>
              <a:t>Словарь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orbel"/>
              </a:rPr>
              <a:t>Агрессия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– (от лат. «agressio» – нападение приступ) намеренные действия, направленные на причинение ущерба другому человеку, группе людей или животном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orbel"/>
              </a:rPr>
              <a:t>Агрессивность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– это свойство личности, выраженная в готовности к агресси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c00000"/>
                </a:solidFill>
                <a:latin typeface="Corbel"/>
              </a:rPr>
              <a:t>Факторы, влияющие </a:t>
            </a:r>
            <a:br>
              <a:rPr sz="2900"/>
            </a:br>
            <a:r>
              <a:rPr b="0" lang="ru-RU" sz="2900" spc="-1" strike="noStrike">
                <a:solidFill>
                  <a:srgbClr val="c00000"/>
                </a:solidFill>
                <a:latin typeface="Corbel"/>
              </a:rPr>
              <a:t>на  агрессивное поведение :</a:t>
            </a:r>
            <a:endParaRPr b="0" lang="en-US" sz="29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899640" y="1356840"/>
            <a:ext cx="8029800" cy="528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buClr>
                <a:srgbClr val="ceb9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a383d"/>
                </a:solidFill>
                <a:latin typeface="Corbel"/>
              </a:rPr>
              <a:t>            </a:t>
            </a:r>
            <a:r>
              <a:rPr b="1" lang="ru-RU" sz="2200" spc="-1" strike="noStrike">
                <a:solidFill>
                  <a:srgbClr val="0070c0"/>
                </a:solidFill>
                <a:latin typeface="Corbel"/>
              </a:rPr>
              <a:t>Персональный фактор</a:t>
            </a:r>
            <a:r>
              <a:rPr b="1" lang="ru-RU" sz="2200" spc="-1" strike="noStrike">
                <a:solidFill>
                  <a:srgbClr val="3a383d"/>
                </a:solidFill>
                <a:latin typeface="Corbel"/>
              </a:rPr>
              <a:t> </a:t>
            </a:r>
            <a:r>
              <a:rPr b="0" lang="ru-RU" sz="2200" spc="-1" strike="noStrike">
                <a:solidFill>
                  <a:srgbClr val="3a383d"/>
                </a:solidFill>
                <a:latin typeface="Corbel"/>
              </a:rPr>
              <a:t>– низкий уровень воспитания,          неадекватно заниженная самооценка, высокая импульсивность, злоупотребление алкоголем, наркотиками, компьютерными играми, готовность к риску, ограниченное чувство самосохранения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buClr>
                <a:srgbClr val="ceb9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a383d"/>
                </a:solidFill>
                <a:latin typeface="Corbel"/>
              </a:rPr>
              <a:t> </a:t>
            </a:r>
            <a:r>
              <a:rPr b="1" lang="ru-RU" sz="2200" spc="-1" strike="noStrike">
                <a:solidFill>
                  <a:srgbClr val="0070c0"/>
                </a:solidFill>
                <a:latin typeface="Corbel"/>
              </a:rPr>
              <a:t>Поведенческий фактор </a:t>
            </a:r>
            <a:r>
              <a:rPr b="0" lang="ru-RU" sz="2200" spc="-1" strike="noStrike">
                <a:solidFill>
                  <a:srgbClr val="3a383d"/>
                </a:solidFill>
                <a:latin typeface="Corbel"/>
              </a:rPr>
              <a:t>– поведение, создающее помехи для окружающих, вандализм, бесцельное времяпровождение, прогулы, слабая успеваемость в школе, ранние сексуальные контакты, приводы в милицию, ранняя судимость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buClr>
                <a:srgbClr val="ceb9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a383d"/>
                </a:solidFill>
                <a:latin typeface="Corbel"/>
              </a:rPr>
              <a:t> </a:t>
            </a:r>
            <a:r>
              <a:rPr b="1" lang="ru-RU" sz="2200" spc="-1" strike="noStrike">
                <a:solidFill>
                  <a:srgbClr val="0070c0"/>
                </a:solidFill>
                <a:latin typeface="Corbel"/>
              </a:rPr>
              <a:t>Социальный фактор </a:t>
            </a:r>
            <a:r>
              <a:rPr b="0" lang="ru-RU" sz="2200" spc="-1" strike="noStrike">
                <a:solidFill>
                  <a:srgbClr val="3a383d"/>
                </a:solidFill>
                <a:latin typeface="Corbel"/>
              </a:rPr>
              <a:t>– культ насилия в обществе, влияние СМИ, отклоняющееся поведение родителей, низкий социально-экономический статус семьи, зависимость от социальной помощи, смена воспитателей (отчим, мачеха), семейное и сексуальное насилие, друзья с отклоняющимся поведением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00000"/>
                </a:solidFill>
                <a:latin typeface="Courier New"/>
                <a:ea typeface="Courier New"/>
              </a:rPr>
              <a:t>Возможные причины:</a:t>
            </a:r>
            <a:br>
              <a:rPr sz="3900"/>
            </a:br>
            <a:endParaRPr b="0" lang="en-US" sz="39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1115640" y="785880"/>
            <a:ext cx="7527960" cy="55720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buClr>
                <a:srgbClr val="ceb9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a383d"/>
                </a:solidFill>
                <a:latin typeface="Corbel"/>
              </a:rPr>
              <a:t> </a:t>
            </a:r>
            <a:r>
              <a:rPr b="1" lang="ru-RU" sz="2600" spc="-1" strike="noStrike">
                <a:solidFill>
                  <a:srgbClr val="7030a0"/>
                </a:solidFill>
                <a:latin typeface="Corbel"/>
              </a:rPr>
              <a:t>Внутрисемейные конфликты </a:t>
            </a: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(развод родителей, появление другого воспитателя, появление второго ребенка в семье, завышенные требования к успеваемости, которые не всегда соответствуют способностям и возможностям ребенка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buClr>
                <a:srgbClr val="ceb9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r>
              <a:rPr b="1" lang="ru-RU" sz="2600" spc="-1" strike="noStrike">
                <a:solidFill>
                  <a:srgbClr val="7030a0"/>
                </a:solidFill>
                <a:latin typeface="Corbel"/>
              </a:rPr>
              <a:t>Неблагополучие семьи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buClr>
                <a:srgbClr val="ceb9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r>
              <a:rPr b="1" lang="ru-RU" sz="2600" spc="-1" strike="noStrike">
                <a:solidFill>
                  <a:srgbClr val="7030a0"/>
                </a:solidFill>
                <a:latin typeface="Corbel"/>
              </a:rPr>
              <a:t>Гиперопека или равнодушие со стороны родителей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buClr>
                <a:srgbClr val="ceb9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r>
              <a:rPr b="1" lang="ru-RU" sz="2600" spc="-1" strike="noStrike">
                <a:solidFill>
                  <a:srgbClr val="7030a0"/>
                </a:solidFill>
                <a:latin typeface="Corbel"/>
              </a:rPr>
              <a:t>Личные проблемы </a:t>
            </a: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(наступление фазы полового созревания и связанные с этим проблемы физиологического и психологического характера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buClr>
                <a:srgbClr val="ceb9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r>
              <a:rPr b="1" lang="ru-RU" sz="2600" spc="-1" strike="noStrike">
                <a:solidFill>
                  <a:srgbClr val="7030a0"/>
                </a:solidFill>
                <a:latin typeface="Corbel"/>
              </a:rPr>
              <a:t>Недовольство собственной внешностью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ubTitle"/>
          </p:nvPr>
        </p:nvSpPr>
        <p:spPr>
          <a:xfrm>
            <a:off x="971640" y="285480"/>
            <a:ext cx="7601040" cy="6072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buClr>
                <a:srgbClr val="ceb9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r>
              <a:rPr b="1" lang="ru-RU" sz="2600" spc="-1" strike="noStrike">
                <a:solidFill>
                  <a:srgbClr val="7030a0"/>
                </a:solidFill>
                <a:latin typeface="Corbel"/>
              </a:rPr>
              <a:t>Неадекватное восприятие со стороны взрослых </a:t>
            </a: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(мнение подростка о том, что он взрослый, но никто его таковым не считает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buClr>
                <a:srgbClr val="ceb9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r>
              <a:rPr b="1" lang="ru-RU" sz="2600" spc="-1" strike="noStrike">
                <a:solidFill>
                  <a:srgbClr val="7030a0"/>
                </a:solidFill>
                <a:latin typeface="Corbel"/>
              </a:rPr>
              <a:t>Развитие критического мышления и как результат протест против морали взрослых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buClr>
                <a:srgbClr val="ceb9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r>
              <a:rPr b="1" lang="ru-RU" sz="2600" spc="-1" strike="noStrike">
                <a:solidFill>
                  <a:srgbClr val="7030a0"/>
                </a:solidFill>
                <a:latin typeface="Corbel"/>
              </a:rPr>
              <a:t>Проблемы с успеваемостью и приклеивание ярлыков </a:t>
            </a: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(для неуспевающих учеников агрессивное поведение является одним из средств, при помощи которых они компенсируют свою неуспеваемость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buClr>
                <a:srgbClr val="ceb9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 </a:t>
            </a:r>
            <a:r>
              <a:rPr b="1" lang="ru-RU" sz="2600" spc="-1" strike="noStrike">
                <a:solidFill>
                  <a:srgbClr val="7030a0"/>
                </a:solidFill>
                <a:latin typeface="Corbel"/>
              </a:rPr>
              <a:t>Социальные причины </a:t>
            </a:r>
            <a:r>
              <a:rPr b="0" lang="ru-RU" sz="2600" spc="-1" strike="noStrike">
                <a:solidFill>
                  <a:srgbClr val="3a383d"/>
                </a:solidFill>
                <a:latin typeface="Corbel"/>
              </a:rPr>
              <a:t>(культ насилия, сформировавшийся в обществе, влияние СМИ, переполненные классы, раздражение, усталость от школы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6" name=""/>
          <p:cNvGraphicFramePr/>
          <p:nvPr/>
        </p:nvGraphicFramePr>
        <p:xfrm>
          <a:off x="0" y="25560"/>
          <a:ext cx="8964720" cy="6832440"/>
        </p:xfrm>
        <a:graphic>
          <a:graphicData uri="http://schemas.openxmlformats.org/drawingml/2006/table">
            <a:tbl>
              <a:tblPr/>
              <a:tblGrid>
                <a:gridCol w="2239920"/>
                <a:gridCol w="2241720"/>
                <a:gridCol w="2241360"/>
                <a:gridCol w="2241720"/>
              </a:tblGrid>
              <a:tr h="87444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атегии воспит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кретные примеры стратег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иль поведения ребен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чему ребенок так поступа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190044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кое подавление агрессивного поведения ребе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екрати!», «Не смей так говорить». Родители наказывают ребе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рессивный (ребенок может прекратить сейчас, но выплеснет свои отрицательные эмоции в другое время и в другом мест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ок копирует родителей и учится у них агрессивным формам повед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90008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норирование агрессивных вспышек ребе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и делают вид, что не замечают агрессии ребенка или считают, что ребенок еще ма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рессивный (ребенок продолжает действовать агрессивно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ок думает, что все правильно, и агрессивные формы поведения закрепляются в черту характе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157480"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и дают возможность ребенку выплеснуть агрессию приемлемым способом и в тактичной форме запрещают вести себя агрессивно по отношению к други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родители видят, что ребенок разгневан, они могут вовлечь его в игру, которая снимет его гнев. Родители объясняют ребенку, как надо вести себя в определенных ситуация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ее всего, ребенок научиться управлять своим гнев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ок учится анализировать различные ситуации и берет пример со своих родител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85480" y="2071800"/>
            <a:ext cx="8643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Corbel"/>
              </a:rPr>
              <a:t>Агрессивный ребенок – какой он?</a:t>
            </a:r>
            <a:endParaRPr b="0" lang="en-US" sz="5400" spc="-1" strike="noStrike">
              <a:solidFill>
                <a:srgbClr val="69666e"/>
              </a:solidFill>
              <a:latin typeface="Corbe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rbel"/>
              </a:rPr>
              <a:t>Портрет агрессивного ребенка</a:t>
            </a:r>
            <a:r>
              <a:rPr b="0" lang="ru-RU" sz="3900" spc="-1" strike="noStrike">
                <a:solidFill>
                  <a:srgbClr val="69666e"/>
                </a:solidFill>
                <a:latin typeface="Corbel"/>
              </a:rPr>
              <a:t> </a:t>
            </a:r>
            <a:endParaRPr b="0" lang="en-US" sz="39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971640" y="1000080"/>
            <a:ext cx="7867440" cy="55720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00000"/>
                </a:solidFill>
                <a:latin typeface="Corbel"/>
              </a:rPr>
              <a:t>Агрессивный ребенок</a:t>
            </a:r>
            <a:r>
              <a:rPr b="0" lang="ru-RU" sz="2100" spc="-1" strike="noStrike">
                <a:solidFill>
                  <a:srgbClr val="3a383d"/>
                </a:solidFill>
                <a:latin typeface="Corbel"/>
              </a:rPr>
              <a:t>, как и любой другой, </a:t>
            </a:r>
            <a:r>
              <a:rPr b="0" lang="ru-RU" sz="2100" spc="-1" strike="noStrike">
                <a:solidFill>
                  <a:srgbClr val="c00000"/>
                </a:solidFill>
                <a:latin typeface="Corbel"/>
              </a:rPr>
              <a:t>нуждается в ласке и помощи взрослых</a:t>
            </a:r>
            <a:r>
              <a:rPr b="0" lang="ru-RU" sz="2100" spc="-1" strike="noStrike">
                <a:solidFill>
                  <a:srgbClr val="3a383d"/>
                </a:solidFill>
                <a:latin typeface="Corbel"/>
              </a:rPr>
              <a:t>, потому, что его </a:t>
            </a:r>
            <a:r>
              <a:rPr b="0" lang="ru-RU" sz="2100" spc="-1" strike="noStrike">
                <a:solidFill>
                  <a:srgbClr val="c00000"/>
                </a:solidFill>
                <a:latin typeface="Corbel"/>
              </a:rPr>
              <a:t>агрессия</a:t>
            </a:r>
            <a:r>
              <a:rPr b="0" lang="ru-RU" sz="2100" spc="-1" strike="noStrike">
                <a:solidFill>
                  <a:srgbClr val="3a383d"/>
                </a:solidFill>
                <a:latin typeface="Corbel"/>
              </a:rPr>
              <a:t> – это прежде всего, </a:t>
            </a:r>
            <a:r>
              <a:rPr b="0" lang="ru-RU" sz="2100" spc="-1" strike="noStrike">
                <a:solidFill>
                  <a:srgbClr val="c00000"/>
                </a:solidFill>
                <a:latin typeface="Corbel"/>
              </a:rPr>
              <a:t>отражение внутреннего дискомфорта</a:t>
            </a:r>
            <a:r>
              <a:rPr b="0" lang="ru-RU" sz="2100" spc="-1" strike="noStrike">
                <a:solidFill>
                  <a:srgbClr val="3a383d"/>
                </a:solidFill>
                <a:latin typeface="Corbel"/>
              </a:rPr>
              <a:t>, неумения адекватно реагировать на происходящие вокруг него события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00000"/>
                </a:solidFill>
                <a:latin typeface="Corbel"/>
              </a:rPr>
              <a:t>Агрессивный ребенок часто ощущает себя отверженным, никому ненужным. </a:t>
            </a:r>
            <a:r>
              <a:rPr b="0" lang="ru-RU" sz="2100" spc="-1" strike="noStrike">
                <a:solidFill>
                  <a:srgbClr val="3a383d"/>
                </a:solidFill>
                <a:latin typeface="Corbel"/>
              </a:rPr>
              <a:t>Он использует любую возможность, стремиться разозлить маму, учителя, сверстников; он не успокоится до тех пор, пока взрослые не взорвутся, а дети не вступят в драку.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a383d"/>
                </a:solidFill>
                <a:latin typeface="Corbel"/>
              </a:rPr>
              <a:t>Родителям и педагогам не всегда понятно, чего добивается ребенок и почему он ведет себя так, хотя заранее знает, что со стороны детей может получить отпор, а со стороны взрослых наказание. В действительности, это порой лишь </a:t>
            </a:r>
            <a:r>
              <a:rPr b="0" lang="ru-RU" sz="2100" spc="-1" strike="noStrike">
                <a:solidFill>
                  <a:srgbClr val="c00000"/>
                </a:solidFill>
                <a:latin typeface="Corbel"/>
              </a:rPr>
              <a:t>отчаянная попытка завоевать свое «место под солнцем»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00000"/>
                </a:solidFill>
                <a:latin typeface="Corbel"/>
              </a:rPr>
              <a:t>Агрессивные дети часто подозрительны и насторожены, любят перекладывать вину за затеянную ими ссору на других</a:t>
            </a:r>
            <a:r>
              <a:rPr b="0" lang="ru-RU" sz="2100" spc="-1" strike="noStrike">
                <a:solidFill>
                  <a:srgbClr val="3a383d"/>
                </a:solidFill>
                <a:latin typeface="Corbel"/>
              </a:rPr>
              <a:t>. Такие дети часто не могут сами оценить свою агрессивность, они не замечают, что вселяют в окружающих страх и беспокойство. Им, напротив, кажется, что весь мир хочет обидеть именно их. Таким образом, получается замкнутый круг: агрессивные дети боятся и ненавидят окружающих, а те, в свою очередь, боятся их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4T06:03:04Z</dcterms:created>
  <dc:creator>Admin</dc:creator>
  <dc:description/>
  <dc:language>en-US</dc:language>
  <cp:lastModifiedBy>Пользователь</cp:lastModifiedBy>
  <dcterms:modified xsi:type="dcterms:W3CDTF">2018-11-09T14:25:03Z</dcterms:modified>
  <cp:revision>44</cp:revision>
  <dc:subject/>
  <dc:title>Агрессия детей.  Причины   и предупреждение.</dc:title>
</cp:coreProperties>
</file>