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4BF-ADCF-45A8-B14F-820377B8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2EE-BD36-4344-AEFE-3859DEE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D985D-32E2-440A-8F44-CE08D71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E4673-0843-4EF4-841F-F372F34E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8A77D-D9B5-4378-B6B3-BAA7B37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B8F7E-8114-40FF-9F99-2E85AAC2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8B6C-9F33-4744-8EE2-928A35D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1E5B7-7B9C-4443-956C-B727AAE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E612D-DF1B-4AC7-A467-D922F5A4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5C7A5-699B-4AE8-A2AE-C29D30E4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74CF-17C3-4628-A587-1F1BA82B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CB87F-FB3C-49DC-A54A-3EB16771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C1B-4B10-46A6-96EC-EDD6BB33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25D76-5820-4764-BC45-BCC99FE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FF076-7BC9-429B-B6A1-71D7824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B1CB1-FF02-4A6A-A8AE-09921759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47361-550D-462F-B239-81BC1C8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A1F54-1490-46B9-8D98-A01B9001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B31BD-ADBC-44F1-A9DC-E8C1177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1CABA-541C-4E3C-9632-B408866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7F148-4785-439B-AE41-6A896CE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D5A7E-498D-43A9-8AA0-0EFE37A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78B2A-EFAF-4D6D-BBC3-31253F48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773-D9E7-4FAD-8E6C-3552C651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85105-9C6F-49A2-AFC8-92D137DD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C29-DDAD-4D92-9A80-505D7821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BD8-0924-41DA-AA36-6ADE694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2EB-508A-470E-B90D-5BC97D52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3DF8-26F7-425D-83A4-D248BA5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D834-F647-4D95-92A3-096AFE14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536-961A-4FA3-9CFD-ABF6F21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21FE-E7EF-486F-9CCA-8026D06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85A-2EED-451C-9C47-876312E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EDD6-A35A-4A25-A00F-DF1E0AB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E441-73BD-4689-A6CB-DF058F0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EE33-8831-40AE-B52E-455F1B9D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755-276C-43E6-AE24-EBCA5D88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CDC4-7C3F-4226-BC50-E657874E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EE44-4E4E-4BCD-BEC4-AC958156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9DF3-2288-4A79-8463-653FA8A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AEE4-C812-42F4-AF86-C56F69F0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9C12-B647-4A0C-8F8B-76E1E32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B2CB-C757-40AC-B96B-57E8463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70B-A70D-4C80-BD9A-C1AF037D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AB187-40F6-43A2-9104-6B23E7F8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B4FC-1EAB-49F3-A909-321094A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7660-7C5D-41D8-B76F-8D4EF8E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C7DD-6DA6-4A95-AF51-91879D8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4AA3C-864D-424B-B023-4523C7F5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533E-DA89-43B2-9E5C-05E44522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7E9D-2F0E-4D99-94D7-4F9B9F35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ECFE-26E8-47B8-BFE3-25E42B8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9F06-FF7F-4100-9CC0-0C38C32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B1A6-9B9C-4A9A-87F2-6B125329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826-D544-435B-8FEE-C57D82E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6918-1F11-4009-9CFF-0F07D5F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3FC8-2A56-4AC2-9ACC-7F3EB24E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4450-AC5A-4393-9D60-593AD9AF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8D5B-8B49-47A3-85E4-BF7ABF3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3334-5687-4E0F-ACC0-9071ADF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3D77-BDA2-4436-B0CD-661409B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7CF2-6C07-4F45-9FA2-394162DD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F6DD0-08FD-4B5A-BFA2-E2AF09D6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EA1F-B9EE-4F3F-B5DF-D54A0A84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BB27-E8D6-4ED4-A280-812A0B22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48-246C-4D93-86AA-127F9A6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9CB7E-650C-4B7E-9EF4-8526D68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3A121-A103-4D73-ADF0-52E8AB12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C96A-1153-4803-848E-FE08E0E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7A80-ADE2-4D71-B9E5-4C43B86C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7CE9-B916-4C9C-B78A-72699A4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8F55-7231-4E14-81C9-F995531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825F-55ED-4CF4-87DC-52A0291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08AC-9B77-462C-9B8C-C0EE363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DDE16-C824-4B35-9E22-32A1E5CB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23AC-AEA7-4A21-AF7C-F126E0DB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3B3-3710-4A63-8782-D605482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7D67-4708-4140-8D90-3422274A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D2E9-51F6-45B1-893C-68858B1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6B1A4-E7CF-43E7-A626-7FDD3917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431B-E69B-4F4F-BB4B-94022D29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4AA1-8F8D-4DDA-9D14-4C63B973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18D1E-8F43-4962-B093-7406414C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D791-966A-4A35-B2C0-B8EFAFE0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4C1E-310F-46A1-910E-CD56DCB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5C28-5C2F-47DB-8765-79419F2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653C-993D-4A08-841F-C0FED72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C03-7F3E-45CD-A0B0-AED2816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C9C4-3F49-4B59-9C6C-FCCBC10E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2D4E-5DDB-4877-8F7F-F2555A5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802AF-417B-41E6-A380-1A9BE710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5D916-82B9-461A-83C6-FD7A0CEF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DDC7-113C-4379-A5DD-CD6A3C8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69F1B-BF35-4CE4-ACA9-2B72B1C0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DCC7C-F3AD-4E43-B340-DD9DA65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BC5B7-AA56-4F03-8079-7614121A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D0C4-7426-4939-A32F-484DCAD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BD09-6E70-490E-8A64-C799F9E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216-9454-4208-B91B-E96EB35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553A-C8AD-4404-8E95-B883FF6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E797-A40C-49D1-AE81-11C3CD34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3BBB-5D22-4C82-90D6-6E5A2A8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1FB3-C888-4382-A6E2-435F3981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69448-8AEF-4156-A915-D1211C33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9C4AA-A56A-4DDF-9103-695AE682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A5C7-6B72-4BAB-9AF6-6E74C70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06591-097E-498F-8930-B22C5345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9616-6EEC-4044-A2BE-D5C2F9C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1404-E593-4317-B43A-22E813C2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005-F5F8-4B5F-9A48-5889E88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B1C36-1F5D-40CE-982D-3826456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7F73-FFD4-4421-9610-60CEC8A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9966-74DB-40FB-83F5-85B9FC9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2E10-423A-4AC6-B16E-1C91207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B0039-770E-4A0D-B957-3BFB71E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95C2E-B9BE-479B-8AA9-00973B44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64781-DDF4-4BBA-B557-29DB73A1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FF67B-0DC7-4721-85A2-6879DF37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4D41A-5ECB-46A0-86D9-91B076A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779D7-818E-4C4D-B8A6-398BF129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3A4-691A-4783-BCA6-9D2EB12E3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0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7A67-1CED-4B27-A9AB-08474A9CEB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1317-F8A5-4F29-A700-29356C929C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0CBB-D545-4F6B-8A5C-0FA26B3AC9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7E9-4A8D-434A-937E-D2C651D445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83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0E1-38FB-4991-A66B-D9D7906F49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30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957-B97C-46E9-A9C0-97EFB0C812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634-3AFD-4DF3-BA6D-B681C1FA00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778-CE34-42B8-94E3-3B79E169F2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94C-9247-48FA-8349-57C2D8571E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«Правописание частицы НЕ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со словами разных частей речи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252360" y="105552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в два столбика только номера примеров со слитным и раздельным написа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вариант                                                                2 вариа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Где-то (не)близко пели.                   1. Послышалось (не)громкое п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(Не) хоженые тропы.                        2. Поле (не) вспаха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и в чём (не)виновата.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3.  (Не)выносимо тяжел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(Не)лепый поступок.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4. Совсем (не)красивый зо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дти (не)торопясь.                 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5. (Не)мог засну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(Не)доиграл партию.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6.(Не)достаёт д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(Не)пользуясь льготами.        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7. (Не)дождавшись отв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Времени всегда (не)достаёт.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8.Путь (не)близок, а далё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(Не)навистный человек.                 </a:t>
            </a: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9. Домашние (не)уряд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(Не)обладающий тактом.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10.(Не)соответствующий ранг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Диагностическая проверка зна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Corbel"/>
              </a:rPr>
              <a:t>Ключ к проверке знаний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вариант.                       2 вариан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итно: 2,4,8,9                 Слитно: 1,3,4,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дельно: 1,3,5,6      Раздельно: 2,5,6,7,8,10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,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042920" y="1557360"/>
            <a:ext cx="7086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 и участи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7" name="Picture 3" descr="PARTY2"/>
          <p:cNvPicPr/>
          <p:nvPr/>
        </p:nvPicPr>
        <p:blipFill>
          <a:blip r:embed="rId1"/>
          <a:stretch/>
        </p:blipFill>
        <p:spPr>
          <a:xfrm>
            <a:off x="6265800" y="4114800"/>
            <a:ext cx="2421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Лексико-орфографическая разминка.</a:t>
            </a:r>
            <a:br>
              <a:rPr sz="3600"/>
            </a:b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Подготовка к ЕГЭ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…оритетный, реф…рендум, м…нт…литет, депре(с, сс)ия, пер…ферия, пр…митивный, ст…пендия, эксп…р…мент, д…бют, ниг…лист, д…баты, прокл…мация, ант…патия, а(л,лл)ит…рац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-243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оверка теоретического материал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дельное на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е мог, не торопясь, не прове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е рад, не дол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уть не короток, а дли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то был не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е от кого ута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Вовсе не серьёз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Не подлежащее разделу имущ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литное напис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яшлив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асковый вз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чем гор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клеенный конве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Крайне неосторожный поступ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Негде размест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бъяснительный дикта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записать словосочетания с НЕ     и устно объясн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опис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) весёлые думы, (не) умевший лгать, нести (не) суразицу,  (не) замеченные другом, очень (не) вкусный пирог, возникшая (не) домолвка, (не) зная причины, (не) было намерений; (не) дорогой , но красивый подарок; (не) смотря на (не) по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рфографическая 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определить четвёртое лишнее слово и аргументировать от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(Не)удача, (не)чего, (не)покорный, (не)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(Не)приблизившись, (не)слышишь, (не)дотрога, (не)(у)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икем (не)тронутый; (не)глубокий,но очень бурный; (не)по-товарищески, (не) мог погас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блемная ситу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 данных словосочетаниях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Д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одном случае пишется слитно, а в другом разд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досолить суп  и  не добежать до фини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нгвистический анализ текста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дания групп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ить стиль текста, тип речи, задачу текста, средства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исковый диктант ( найти слова на изученную орфограмму и объяснить правопис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яснить знаки препинания в указанных предло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Редакт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Задание :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ти предложение с грамматической ошибкой и записать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исправленном ви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Горький (не)однократно говорил, что труд – основа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, кто никогда (не)был на вершине колокольни Ивана Великого, (не)имеют представления о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Я хотел вникнуть и познать все тайны этой на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романе «Обломов» (не)сколько главны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6:11:36Z</dcterms:created>
  <dc:creator>Ирина Васильевна</dc:creator>
  <dc:description/>
  <dc:language>en-US</dc:language>
  <cp:lastModifiedBy>Пользователь</cp:lastModifiedBy>
  <dcterms:modified xsi:type="dcterms:W3CDTF">2018-11-27T14:01:38Z</dcterms:modified>
  <cp:revision>13</cp:revision>
  <dc:subject/>
  <dc:title>Правописание НЕ с различными частями речи.</dc:title>
</cp:coreProperties>
</file>