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E98B-A480-4BCA-929B-3A3FE1972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FDE2-A850-40E8-B087-D007F089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AE3E7-5A8B-4418-97F6-96D79BDE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7AB345-A72C-4B59-832A-49D8D522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E4354-49D7-43CB-BF90-6282F407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58C61-2C33-4B1B-B2B0-43A74BEF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F3D8A-9BE6-4DFC-BCE8-72A71D59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1D1CC-2DBA-4793-9AA8-888D653A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186DA-7A3F-4C18-9037-67E7BBF4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F1F50-3B31-4160-A8A5-38EFBF1FE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BFDA6-7A8D-4757-AA63-ED9CD8159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418C22-7C04-4E3D-A5E0-CC34695F4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9572-4709-4491-9634-FF9D729B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DCF3A-646D-47C0-B889-59061716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553714-796A-49AC-A4A7-F67BAA86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0006E-ACB2-46CE-A49C-797222E0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FFFE9-CF70-4D65-96D4-E968BE51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3B9609-94E6-4B1C-B8BE-53688601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35321C-76DD-4907-B45E-A58F6AFF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55845-6229-4903-B702-6B1E4E05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1FEF9-4D19-4A29-97C2-EEB1EA57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A62B8E-CA6E-4F08-A508-EF697C2E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811985-54F1-4574-B3CA-6CECEEAB0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3179-55AA-4CF7-B22B-01F403B23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E6140-8D1D-42DF-BF00-F6DFEE0FA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B8D0-F00E-42E5-84D4-FFE38BB86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41CB-98CC-43CF-8184-2CFCA39F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C0D0-DAFC-4906-941E-54308DC9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A713-7620-4A39-AA57-43812BC6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A1AA-C4BB-40FE-B170-B628F690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03A8-B17C-4861-8F77-50C051C5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39D4-13BE-410A-90DB-A6B7768C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4BC7-E51F-4FCF-B9A6-A108903D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53DA-1283-4418-BE47-3C11661B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72F4-DD81-445B-A26A-45B5B0BB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895A-2BBF-4817-8C80-1D290973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D131-C5D1-4B1B-B8ED-C822F3AE1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9316-C5B8-43AD-A1B5-052F09BBB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06A16-E8C3-4299-93C7-D211F8A34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9FC96-85F3-4105-91E5-90404B38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5DB2C-D89C-4AEB-9138-38790A67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30631-E3BA-478E-859A-F58EC213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0AF93-DA49-4C7B-8DD2-53982F4F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09E8-8C6A-4551-8354-745F4717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95D65-5E6F-43F0-8B13-CA4DFCAF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DB564-35F3-4901-8735-9F87C74D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F0259-7635-4336-8AA2-77B03BD6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471B0-C1BC-4B14-BE0B-FD4E8C23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A295A-6C4A-4581-AB5E-87F15BC8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B052F-5225-4772-978D-263448A5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01AEC-D6A4-493B-80A8-72DB7AE66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9F25E-3EA0-4D7D-899C-A62B9E21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3369B-4CC0-45EC-B950-B1F5CC49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F9811-3244-4957-BBAF-E2944686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B700-0D4B-4A5F-950C-ADD0CA39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442F0-3922-48BC-9293-AD6F1249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055D7-E311-4E56-BD02-7E3FA867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DCAF0-69E8-4428-8295-39B27ABA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2C973-FA74-4100-94D7-6BD5CB25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A318B-A243-4120-9A20-F1094124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864BD-AB3A-4F9A-8C96-9F604220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E4267-6C89-4B01-932C-CB5C052D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4F60E-5721-4D60-8BB8-01462CA5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6BA35-928B-489A-8E63-9613EC959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3E83D-1C29-41B0-BD0F-97D021E7A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FCD6-502B-45D4-9C97-99E758E0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77447-329E-495D-B9B2-4D633832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3E652-4145-4686-A12A-6E295E32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2236A-056D-4662-985A-B3BFF861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9935F-6CA8-403D-9DDA-CF49A6DF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58471-8878-4E63-822D-2B0E29C1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F4BF9-7041-4B97-B962-28834164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C0FDD-4EE1-465E-9192-CEDBE2FE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6623B-B224-4AE0-B199-7857F59D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B6ADA-F077-4E4C-B76D-3311017C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9ACBF-823C-4BEC-A27A-61418C7B9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0AA1-9F61-469E-BDBD-D7057232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7D3F4-2D40-4B01-9DE4-2443B1DC9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5952E-20F2-47D7-B897-6A5AC2BBB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BF597-AAE3-48A6-A476-38A95368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F84AD-6E23-43B7-A8A7-582D177A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4661B-1017-45EC-9CDC-BEBCDA09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FF38B-CB13-4F1C-9278-8BB299D2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D9FC9-84F2-4C9D-8037-1D42FEF5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A8E44-4267-4F96-A1E5-9C225FF8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FEBC2-EF5A-47BB-A5BD-D5BFB32F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848CE-85D4-401D-A9B5-C9B47A2E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B4D7-2BDA-4A79-8793-1854BACB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34B34-F944-4D39-848B-E0A42413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86B89-68BB-4931-BEB3-E5B42DDF2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AFA95-9FEF-405C-9C72-F42AE5286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861D5-120D-4809-BE31-99FB57349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18013-E608-46E6-B1B2-F5B64152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7C495-D672-4149-A701-AE5F92E9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90708-EAA9-4004-9930-A346778F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FD491-9F46-4003-914E-A827C6E8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7B192-0B38-4DEB-835F-29B55550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3F7FB-EFA2-4F75-AF6C-F1C178EE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8C22-340B-452E-A46F-0DBFE58F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77061-CFB0-4063-88D1-0E486CAB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53724-91FE-4B21-ABE3-7EA1FA00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7B52E-1378-44A0-917B-3BA1B1B1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72F02-A13F-4855-BB4D-D7F1743A9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E7A8A-03E4-436E-A7F9-46E9A7AB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0D11D-5DF9-49D0-8456-9C8D5C185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CBFB3-C084-477E-BDF8-A4B9912B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D2F8D-B08B-4424-91E6-31DE0CA9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DEB6B-DEC0-407A-9612-D3B5CCEC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1A380-58A3-4917-84E7-90BACE38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EC3D-9749-46A8-AC94-6DFAA98C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A7EB9-C96C-4BB5-A0B5-8ED63D56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CCFDB-4764-433F-A1D6-9ED66787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B7B9C-7786-4CA3-BA5B-C7C6F6F9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B8A04-3D3C-49D4-8686-17E134CC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0F648-CC7B-4AD3-9408-B792B874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474F5-6CB6-4C15-A3C1-703F75601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A994C-7A9F-47A4-9429-A875B0D8C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EC399-A496-4DB5-87BC-2B693A7BA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DB5DD-3AF4-40FF-9BC4-10DCFBE8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3CB9A-DD21-4795-9573-0E224753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B80D-C6A3-47A8-8D98-49E2CE70DC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00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A95C-CC9F-4EE3-B254-C2A9283E02D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2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43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1510-EDB4-4127-9673-74ACE180DEB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88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0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A7E9-97D5-4455-835A-BF26102B6B6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6D6E-B043-4236-9B14-68C83CFFD9A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7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78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0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2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183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5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64AE-9885-4ACD-9BC9-58A08DEC562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9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230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2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74EF-FAB5-4CCA-8FDB-838A853A826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E4A6-CCFD-42CE-AFA8-BDEC20FA6EA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674F-F724-4710-81B9-7C9BE6D9B01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9A0E-4707-45C6-A674-AF8C4BBA621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250920" y="475920"/>
            <a:ext cx="8642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rbel"/>
              </a:rPr>
              <a:t>«Правописание частицы НЕ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rbel"/>
              </a:rPr>
              <a:t>со словами разных частей речи»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252360" y="1055520"/>
            <a:ext cx="9144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исать в два столбика только номера примеров со слитным и раздельным написани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вариант                                                                2 вариан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Где-то (не)близко пели.                   1. Послышалось (не)громкое пен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(Не) хоженые тропы.                        2. Поле (не) вспахан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Ни в чём (не)виновата.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3.  (Не)выносимо тяжел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(Не)лепый поступок.              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4. Совсем (не)красивый зон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Идти (не)торопясь.                  </a:t>
            </a: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5. (Не)мог засну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(Не)доиграл партию.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6.(Не)достаёт д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(Не)пользуясь льготами.              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7. (Не)дождавшись отве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Времени всегда (не)достаёт.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8.Путь (не)близок, а далё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(Не)навистный человек.                 </a:t>
            </a: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9. Домашние (не)урядиц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(Не)обладающий тактом.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10.(Не)соответствующий ранг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0" y="476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Диагностическая проверка знан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Corbel"/>
              </a:rPr>
              <a:t>Ключ к проверке знаний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 вариант.                       2 вариант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литно: 2,4,8,9                 Слитно: 1,3,4,9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дельно: 1,3,5,6      Раздельно: 2,5,6,7,8,10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,1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WordArt 2"/>
          <p:cNvSpPr txBox="1"/>
          <p:nvPr/>
        </p:nvSpPr>
        <p:spPr>
          <a:xfrm>
            <a:off x="1042920" y="1557360"/>
            <a:ext cx="70866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 и участие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67" name="Picture 3" descr="PARTY2"/>
          <p:cNvPicPr/>
          <p:nvPr/>
        </p:nvPicPr>
        <p:blipFill>
          <a:blip r:embed="rId1"/>
          <a:stretch/>
        </p:blipFill>
        <p:spPr>
          <a:xfrm>
            <a:off x="6265800" y="4114800"/>
            <a:ext cx="242100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Лексико-орфографическая разминка.</a:t>
            </a:r>
            <a:br>
              <a:rPr sz="3600"/>
            </a:b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(Подготовка к ЕГЭ)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…оритетный, реф…рендум, м…нт…литет, депре(с, сс)ия, пер…ферия, пр…митивный, ст…пендия, эксп…р…мент, д…бют, ниг…лист, д…баты, прокл…мация, ант…патия, а(л,лл)ит…рация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-24300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Проверка теоретического материала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569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Раздельное напис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Не мог, не торопясь, не проведе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Не рад, не долж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уть не короток, а длин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Это был не л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Не от кого утаи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Вовсе не серьёзное ре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Не подлежащее разделу имуще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Слитное напис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ряшливый 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ласковый взгля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чем горд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заклеенный конвер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 Крайне неосторожный поступ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 Негде размест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Объяснительный диктан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00cc"/>
                </a:solidFill>
                <a:uFillTx/>
                <a:latin typeface="Arial"/>
              </a:rPr>
              <a:t>Задание: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записать словосочетания с НЕ     и устно объясни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правопис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е) весёлые думы, (не) умевший лгать, нести (не) суразицу,  (не) замеченные другом, очень (не) вкусный пирог, возникшая (не) домолвка, (не) зная причины, (не) было намерений; (не) дорогой , но красивый подарок; (не) смотря на (не) по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Орфографическая задач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cc"/>
                </a:solidFill>
                <a:uFillTx/>
                <a:latin typeface="Arial"/>
              </a:rPr>
              <a:t>Задание: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определить четвёртое лишнее слово и аргументировать отв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(Не)удача, (не)чего, (не)покорный, (не)зн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(Не)приблизившись, (не)слышишь, (не)дотрога, (не)(у)к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икем (не)тронутый; (не)глубокий,но очень бурный; (не)по-товарищески, (не) мог погасну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Проблемная ситуац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в данных словосочетаниях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НЕД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одном случае пишется слитно, а в другом раздель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Недосолить суп  и  не добежать до фини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Лингвистический анализ текста.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Задания групп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 групп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пределить стиль текста, тип речи, задачу текста, средства связ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 групп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исковый диктант ( найти слова на изученную орфограмму и объяснить правописа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3 групп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бъяснить знаки препинания в указанных предложе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171360"/>
            <a:ext cx="822960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Редактиров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cc"/>
                </a:solidFill>
                <a:uFillTx/>
                <a:latin typeface="Arial"/>
              </a:rPr>
              <a:t>Задание :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найти предложение с грамматической ошибкой и записать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 исправленном вид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. Горький (не)однократно говорил, что труд – основа куль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Те, кто никогда (не)был на вершине колокольни Ивана Великого, (не)имеют представления о Моск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Я хотел вникнуть и познать все тайны этой на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В романе «Обломов» (не)сколько главных геро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6:11:36Z</dcterms:created>
  <dc:creator>Ирина Васильевна</dc:creator>
  <dc:description/>
  <dc:language>en-US</dc:language>
  <cp:lastModifiedBy>Пользователь</cp:lastModifiedBy>
  <dcterms:modified xsi:type="dcterms:W3CDTF">2018-11-27T14:01:38Z</dcterms:modified>
  <cp:revision>13</cp:revision>
  <dc:subject/>
  <dc:title>Правописание НЕ с различными частями речи.</dc:title>
</cp:coreProperties>
</file>