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1.png" ContentType="image/png"/>
  <Override PartName="/ppt/media/image3.jpeg" ContentType="image/jpeg"/>
  <Override PartName="/ppt/media/image37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36.jpeg" ContentType="image/jpeg"/>
  <Override PartName="/ppt/media/image25.jpeg" ContentType="image/jpeg"/>
  <Override PartName="/ppt/media/image32.png" ContentType="image/png"/>
  <Override PartName="/ppt/media/image13.png" ContentType="image/png"/>
  <Override PartName="/ppt/media/image31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5.jpeg" ContentType="image/jpeg"/>
  <Override PartName="/ppt/media/image29.jpeg" ContentType="image/jpeg"/>
  <Override PartName="/ppt/media/image40.jpeg" ContentType="image/jpeg"/>
  <Override PartName="/ppt/media/image44.jpeg" ContentType="image/jpeg"/>
  <Override PartName="/ppt/media/image28.png" ContentType="image/png"/>
  <Override PartName="/ppt/media/image38.jpeg" ContentType="image/jpeg"/>
  <Override PartName="/ppt/media/image41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3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49.jpeg" ContentType="image/jpeg"/>
  <Override PartName="/ppt/media/image20.jpeg" ContentType="image/jpeg"/>
  <Override PartName="/ppt/media/image48.png" ContentType="image/png"/>
  <Override PartName="/ppt/media/image9.jpeg" ContentType="image/jpeg"/>
  <Override PartName="/ppt/media/image11.jpeg" ContentType="image/jpeg"/>
  <Override PartName="/ppt/media/image34.jpeg" ContentType="image/jpeg"/>
  <Override PartName="/ppt/media/image7.png" ContentType="image/png"/>
  <Override PartName="/ppt/media/image5.jpeg" ContentType="image/jpeg"/>
  <Override PartName="/ppt/media/image2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ru-RU" sz="1200" spc="-1" strike="noStrike">
                <a:solidFill>
                  <a:srgbClr val="000000"/>
                </a:solidFill>
                <a:latin typeface="Tahoma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  <a:ea typeface="Segoe UI"/>
              </a:rPr>
              <a:t>&lt;date/time&gt;</a:t>
            </a:r>
            <a:endParaRPr b="1" lang="en-US" sz="1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ru-RU" sz="1200" spc="-1" strike="noStrike">
                <a:solidFill>
                  <a:srgbClr val="000000"/>
                </a:solidFill>
                <a:latin typeface="Tahoma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BAD1927-21E0-41E6-AFD8-04798D560893}" type="slidenum">
              <a:rPr b="1" lang="ru-RU" sz="1200" spc="-1" strike="noStrike">
                <a:solidFill>
                  <a:srgbClr val="000000"/>
                </a:solidFill>
                <a:latin typeface="Tahoma"/>
                <a:ea typeface="Segoe UI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E027287-6C38-457B-B12B-C51F2B4FF0F9}" type="slidenum">
              <a:rPr b="1" lang="ru-RU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5481209-F9F7-453B-BF6C-F28EF3ED888C}" type="slidenum">
              <a:rPr b="1" lang="ru-RU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D4E5119-0145-400E-89CD-FECA65CCF735}" type="slidenum">
              <a:rPr b="1" lang="ru-RU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7F1D373-E8E8-4339-B73E-8BF47F7A9883}" type="slidenum">
              <a:rPr b="1" lang="ru-RU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0EA6001-42B8-436A-8150-0EE756844EE7}" type="slidenum">
              <a:rPr b="1" lang="ru-RU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A736CE9-6DC4-4707-9052-E0D04700DF98}" type="slidenum">
              <a:rPr b="1" lang="ru-RU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9266C59-E52E-405C-8957-9E285AAB31DF}" type="slidenum">
              <a:rPr b="1" lang="ru-RU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B1B1DC3-768D-457B-BBE6-F43A45D9A05B}" type="slidenum">
              <a:rPr b="1" lang="ru-RU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236D4A1-26F0-42E2-A416-E39C9B7EAC54}" type="slidenum">
              <a:rPr b="1" lang="ru-RU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FFB02EB-9562-4AF1-970C-408D9189814C}" type="slidenum">
              <a:rPr b="1" lang="ru-RU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46BA1AF-E671-493A-924B-004CFEA6DEB9}" type="slidenum">
              <a:rPr b="1" lang="ru-RU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7AA873A-64C0-4863-9305-931E532301C5}" type="slidenum">
              <a:rPr b="1" lang="ru-RU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BEB2D00-3D3B-4FAD-908D-2F7748DAF2A2}" type="slidenum">
              <a:rPr b="1" lang="ru-RU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2941311-9D8E-4541-9EF2-2254F975CFD7}" type="slidenum">
              <a:rPr b="1" lang="ru-RU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E85E2CD-686E-463F-AADD-1499D97A3DCD}" type="slidenum">
              <a:rPr b="1" lang="ru-RU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249BF74-9B5D-4CFE-887B-41478B6BD631}" type="slidenum">
              <a:rPr b="1" lang="ru-RU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71D49BB-EC89-436D-A355-CB8E66EC9EFB}" type="slidenum">
              <a:rPr b="1" lang="ru-RU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F87DF2D-6EE9-4781-A31C-AB47203D7961}" type="slidenum">
              <a:rPr b="1" lang="ru-RU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E5A8883-6FFE-433D-8CC2-3809CE92A7F1}" type="slidenum">
              <a:rPr b="1" lang="ru-RU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9FD5288-DD65-4578-B3B0-2EA50C2EF729}" type="slidenum">
              <a:rPr b="1" lang="ru-RU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FA34932-BB45-4B48-A207-ECE920D05B05}" type="slidenum">
              <a:rPr b="1" lang="ru-RU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9699330-2DA5-4525-8C7D-764F12E687D1}" type="slidenum">
              <a:rPr b="1" lang="ru-RU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9478F8B-F3E6-4FE9-9B77-B89D107B9774}" type="slidenum">
              <a:rPr b="1" lang="ru-RU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4926AA3-5831-4816-9743-D4E93D7AA685}" type="slidenum">
              <a:rPr b="1" lang="ru-RU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4872F69-7AEA-42B3-BE2A-BC58939707FB}" type="slidenum">
              <a:rPr b="1" lang="ru-RU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8D3539E-351D-4273-B14B-B0012DC4B8AF}" type="slidenum">
              <a:rPr b="1" lang="ru-RU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3CA31F8-4BB3-4989-8471-CBCF18239FB9}" type="slidenum">
              <a:rPr b="1" lang="ru-RU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5A2F779-8DD4-4BDB-ADA0-9066CC52BD5F}" type="slidenum">
              <a:rPr b="1" lang="ru-RU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46EB6-836A-40CA-8B6E-89DBC95A70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C5B75-88CC-45CD-88C4-F7678BB414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73498-244F-420D-92EA-317831F3BE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28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136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08E72-8CA7-4164-9CB2-138B83EC37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25E71-EF59-4650-B32E-5AA4866313C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75B5A-F62E-4705-828A-11797165EC0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0552A-D3E3-4F8C-AE34-7401FD991B5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07467-E5D1-426C-A84F-0F8BCFDB578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2ED88-B552-4CBA-B8B7-E18BB4E7B38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9D8F1-E0F8-41B8-BE0E-64B94A3FE3E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402D5-3E78-4028-8DCE-E2CE890B92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5FF49-59A2-48A2-9E8B-D2F06A15DE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6F81D-A409-4A67-BB24-47E004C4343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F7196-B97E-4B97-81C0-D8949DA9DDD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6FE17-38A5-4E54-90F3-54AC2B2F150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8360A-3B1E-4D54-8E64-138843032D0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28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136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AFBFE-C4CC-4F06-A45C-50DA19AA0F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2E905-B04E-4438-9E7E-20BF6DDDDF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52062-4B44-4850-9933-AB8838B659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A1DC9-EDD2-479D-A6E6-3DF7DD9DC5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1DA0A-C22F-4B7E-A2D9-1B13F6A872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6A5BA-034C-464A-81F3-D96305041E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B6440-B270-4252-A9E6-4DC4BA41F4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9901F-5D51-4781-982B-3F2091662F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0680" cy="1979640"/>
            <a:chOff x="0" y="0"/>
            <a:chExt cx="7240680" cy="197964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1520" cy="105408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66"/>
                </a:solidFill>
                <a:latin typeface="Tahoma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0680" cy="190188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66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ru-RU" sz="1200" spc="-1" strike="noStrike">
                <a:solidFill>
                  <a:srgbClr val="000000"/>
                </a:solidFill>
                <a:latin typeface="Tahoma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AD1234A-1A11-47ED-9DCB-3ECA920E8146}" type="slidenum">
              <a:rPr b="1" lang="ru-RU" sz="1200" spc="-1" strike="noStrike">
                <a:solidFill>
                  <a:srgbClr val="000000"/>
                </a:solidFill>
                <a:latin typeface="Tahoma"/>
                <a:ea typeface="Segoe UI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6760" cy="5942160"/>
            <a:chOff x="0" y="0"/>
            <a:chExt cx="8456760" cy="594216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2080" cy="365616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b0b9bf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66"/>
                </a:solidFill>
                <a:latin typeface="Tahoma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6760" cy="585468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66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ru-RU" sz="1200" spc="-1" strike="noStrike">
                <a:solidFill>
                  <a:srgbClr val="000066"/>
                </a:solidFill>
                <a:latin typeface="Tahoma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58BE177-A7EB-4E20-8A39-C8FC22A6E8CE}" type="slidenum">
              <a:rPr b="1" lang="ru-RU" sz="1200" spc="-1" strike="noStrike">
                <a:solidFill>
                  <a:srgbClr val="000066"/>
                </a:solidFill>
                <a:latin typeface="Tahoma"/>
                <a:ea typeface="Segoe UI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9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" y="12852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735"/>
          <a:stretch/>
        </p:blipFill>
        <p:spPr>
          <a:xfrm>
            <a:off x="714240" y="357120"/>
            <a:ext cx="7786800" cy="5749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>
            <a:lum contrast="20000"/>
          </a:blip>
          <a:srcRect l="0" t="0" r="0" b="12572"/>
          <a:stretch/>
        </p:blipFill>
        <p:spPr>
          <a:xfrm>
            <a:off x="2071800" y="1428840"/>
            <a:ext cx="4714920" cy="50544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89000"/>
            <a:ext cx="822960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Святые равноапостольные Кирилл и Мефодий</a:t>
            </a:r>
            <a:endParaRPr b="1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57200" y="27468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ahoma"/>
              </a:rPr>
              <a:t>Кирилл и Мефодий</a:t>
            </a:r>
            <a:endParaRPr b="1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731880" y="782640"/>
            <a:ext cx="805176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Ежегодно 24 мая во всех славянских странах торжественно прославляют святых </a:t>
            </a:r>
            <a:endParaRPr b="1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2214720" y="1714680"/>
            <a:ext cx="4857480" cy="4806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ahoma"/>
              </a:rPr>
              <a:t>До принятия монашества Кирилла звали Константин</a:t>
            </a:r>
            <a:endParaRPr b="1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547640" y="1484280"/>
            <a:ext cx="6048720" cy="41544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39640" y="544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Константин и Мефодий</a:t>
            </a:r>
            <a:endParaRPr b="1" lang="en-US" sz="2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ahoma"/>
              </a:rPr>
              <a:t>Кто такие Кирилл и Мефодий </a:t>
            </a: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Родом они были из македонского города Солуни. И жили в 9 веке. Кирилл изучал богословие и преподавал философию.Его и прозвали философом, а по-русски мудрецом.Еще с детства мечтал он написать книги, понятные славянам.Ему стал помогать старший брат Мефодий. Азбуку стали называть кириллицей в память о ее создателе.  </a:t>
            </a:r>
            <a:endParaRPr b="1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35040" y="0"/>
            <a:ext cx="814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ahoma"/>
              </a:rPr>
              <a:t>Кириллица и глаголица</a:t>
            </a:r>
            <a:endParaRPr b="1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0" t="661" r="8211" b="0"/>
          <a:stretch/>
        </p:blipFill>
        <p:spPr>
          <a:xfrm>
            <a:off x="642960" y="714240"/>
            <a:ext cx="7985160" cy="5956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28760" y="297000"/>
            <a:ext cx="8332560" cy="631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rcRect l="830" t="0" r="976" b="0"/>
          <a:stretch/>
        </p:blipFill>
        <p:spPr>
          <a:xfrm>
            <a:off x="428760" y="214200"/>
            <a:ext cx="8429400" cy="6427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642960" y="1863720"/>
            <a:ext cx="7929720" cy="4230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ahoma"/>
              </a:rPr>
              <a:t>Первые книги писались на пергаменте</a:t>
            </a:r>
            <a:endParaRPr b="1" lang="en-US" sz="4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642960" y="1428840"/>
            <a:ext cx="7858080" cy="50004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ahoma"/>
              </a:rPr>
              <a:t>Первая рукописная книга </a:t>
            </a: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ahoma"/>
              </a:rPr>
              <a:t>Новгородская летопись</a:t>
            </a: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85880" y="1322280"/>
            <a:ext cx="7572240" cy="5238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ahoma"/>
              </a:rPr>
              <a:t>Цель занятия:</a:t>
            </a: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155736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Прививать  детям  любовь  к  родному</a:t>
            </a: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слову,  родному  языку,  отечественной  истории. </a:t>
            </a:r>
            <a:endParaRPr b="1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1640"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ahoma"/>
              </a:rPr>
              <a:t>               </a:t>
            </a:r>
            <a:r>
              <a:rPr b="1" lang="ru-RU" sz="4400" spc="-1" strike="noStrike">
                <a:solidFill>
                  <a:srgbClr val="000066"/>
                </a:solidFill>
                <a:latin typeface="Tahoma"/>
              </a:rPr>
              <a:t>Задачи:</a:t>
            </a: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785880" y="4206600"/>
            <a:ext cx="814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Ознакомить воспитанников  с  </a:t>
            </a: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истоками  создания  славянской  азбуки  и  ее  создателями.</a:t>
            </a:r>
            <a:endParaRPr b="1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ahoma"/>
              </a:rPr>
              <a:t>Лаврентьевская летопись</a:t>
            </a: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35040" y="1917720"/>
            <a:ext cx="7937640" cy="4321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ahoma"/>
              </a:rPr>
              <a:t>Ипатьевская летопись</a:t>
            </a: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403280" y="1322280"/>
            <a:ext cx="6072120" cy="4942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ahoma"/>
              </a:rPr>
              <a:t>Берестяные грамоты</a:t>
            </a: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143000" y="1341360"/>
            <a:ext cx="6858000" cy="5302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ahoma"/>
              </a:rPr>
              <a:t>Берестяная грамота</a:t>
            </a: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571680" y="1428840"/>
            <a:ext cx="7929360" cy="4857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258920" y="1773360"/>
            <a:ext cx="6889680" cy="48006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900" spc="-1" strike="noStrike">
                <a:solidFill>
                  <a:srgbClr val="000066"/>
                </a:solidFill>
                <a:latin typeface="Tahoma"/>
              </a:rPr>
              <a:t>Конец XIV века. «От Бориса ко Ностасии. Како приде ся грамота, тако пришли ми цоловекъ на жерепце, зане ми здесе делъ много. Да пришли сороцицю: сороцице забыле»</a:t>
            </a:r>
            <a:endParaRPr b="1" lang="en-US" sz="19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>
            <a:lum contrast="20000"/>
          </a:blip>
          <a:srcRect l="1961" t="1314" r="0" b="237"/>
          <a:stretch/>
        </p:blipFill>
        <p:spPr>
          <a:xfrm>
            <a:off x="1071720" y="1000080"/>
            <a:ext cx="7143480" cy="5214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>
            <a:lum contrast="20000"/>
          </a:blip>
          <a:srcRect l="2860" t="8536" r="2860" b="6130"/>
          <a:stretch/>
        </p:blipFill>
        <p:spPr>
          <a:xfrm>
            <a:off x="1000080" y="642960"/>
            <a:ext cx="7072200" cy="5643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143000" y="728640"/>
            <a:ext cx="7143840" cy="5616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ahoma"/>
              </a:rPr>
              <a:t>В.Васнецов «Нестор-летописец»</a:t>
            </a:r>
            <a:endParaRPr b="1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500200" y="1428840"/>
            <a:ext cx="4286520" cy="5054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143080" y="357120"/>
            <a:ext cx="5072040" cy="6276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ahoma"/>
              </a:rPr>
              <a:t>Наскальные рисунки</a:t>
            </a: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857160" y="1593720"/>
            <a:ext cx="7500960" cy="4805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>
            <a:lum contrast="30000"/>
          </a:blip>
          <a:srcRect l="7817" t="11795" r="5976" b="5572"/>
          <a:stretch/>
        </p:blipFill>
        <p:spPr>
          <a:xfrm>
            <a:off x="1000080" y="1214280"/>
            <a:ext cx="7143840" cy="53578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57200" y="27468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ahoma"/>
              </a:rPr>
              <a:t>Первые печатные книги на Руси</a:t>
            </a:r>
            <a:endParaRPr b="1" lang="en-US" sz="4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rcRect l="0" t="4598" r="0" b="8000"/>
          <a:stretch/>
        </p:blipFill>
        <p:spPr>
          <a:xfrm>
            <a:off x="0" y="1101600"/>
            <a:ext cx="9144000" cy="57564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68360" y="189000"/>
            <a:ext cx="822960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ahoma"/>
              </a:rPr>
              <a:t>Так выглядел славянский алфавит</a:t>
            </a:r>
            <a:endParaRPr b="1" lang="en-US" sz="4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ahoma"/>
              </a:rPr>
              <a:t>Начальные  буквы  славянского  алфавита</a:t>
            </a:r>
            <a:endParaRPr b="1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>
            <a:lum contrast="30000"/>
          </a:blip>
          <a:srcRect l="14146" t="9596" r="77591" b="79349"/>
          <a:stretch/>
        </p:blipFill>
        <p:spPr>
          <a:xfrm>
            <a:off x="5986440" y="1484280"/>
            <a:ext cx="2759040" cy="31687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>
            <a:lum contrast="20000"/>
          </a:blip>
          <a:srcRect l="1957" t="9921" r="90236" b="78709"/>
          <a:stretch/>
        </p:blipFill>
        <p:spPr>
          <a:xfrm>
            <a:off x="468360" y="1571760"/>
            <a:ext cx="2765520" cy="32144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>
            <a:lum contrast="30000"/>
          </a:blip>
          <a:srcRect l="27197" t="9386" r="65878" b="79701"/>
          <a:stretch/>
        </p:blipFill>
        <p:spPr>
          <a:xfrm>
            <a:off x="3203640" y="3213000"/>
            <a:ext cx="2901960" cy="3429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39640" y="5516640"/>
            <a:ext cx="662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684360" y="5084640"/>
            <a:ext cx="799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ahoma"/>
              </a:rPr>
              <a:t>«Сначала «аз» да «буки», потом и науки». </a:t>
            </a: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468360" y="1268280"/>
            <a:ext cx="8308800" cy="3672000"/>
            <a:chOff x="468360" y="1268280"/>
            <a:chExt cx="8308800" cy="3672000"/>
          </a:xfrm>
        </p:grpSpPr>
        <p:sp>
          <p:nvSpPr>
            <p:cNvPr id="162" name=""/>
            <p:cNvSpPr txBox="1"/>
            <p:nvPr/>
          </p:nvSpPr>
          <p:spPr>
            <a:xfrm>
              <a:off x="468360" y="1268280"/>
              <a:ext cx="2446200" cy="27338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Аз</a:t>
              </a:r>
              <a:endPara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63" name=""/>
            <p:cNvSpPr txBox="1"/>
            <p:nvPr/>
          </p:nvSpPr>
          <p:spPr>
            <a:xfrm>
              <a:off x="4284720" y="1341360"/>
              <a:ext cx="4492440" cy="35989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Буки</a:t>
              </a:r>
              <a:endPara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64" name=""/>
          <p:cNvSpPr txBox="1"/>
          <p:nvPr/>
        </p:nvSpPr>
        <p:spPr>
          <a:xfrm>
            <a:off x="468360" y="1197000"/>
            <a:ext cx="8424720" cy="2808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ЗБУКА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ahoma"/>
              </a:rPr>
              <a:t>Пословицы о пользе учения </a:t>
            </a: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Кто хочет много знать, тому мало надо спать.</a:t>
            </a:r>
            <a:endParaRPr b="1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Идти в науку – терпеть муку.</a:t>
            </a:r>
            <a:endParaRPr b="1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Божьей волей свет стоит, наукой люди живут.</a:t>
            </a:r>
            <a:endParaRPr b="1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Без муки нет и науки.</a:t>
            </a:r>
            <a:endParaRPr b="1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Ничего не мыслить – век киснуть.</a:t>
            </a:r>
            <a:endParaRPr b="1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14200" y="0"/>
            <a:ext cx="89298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Tahoma"/>
              </a:rPr>
              <a:t>Памятник Кириллу и Мефодию в Москве</a:t>
            </a:r>
            <a:br>
              <a:rPr sz="3600"/>
            </a:br>
            <a:r>
              <a:rPr b="1" lang="ru-RU" sz="3600" spc="-1" strike="noStrike">
                <a:solidFill>
                  <a:srgbClr val="000066"/>
                </a:solidFill>
                <a:latin typeface="Tahoma"/>
              </a:rPr>
              <a:t>скульптор В. Клыков</a:t>
            </a:r>
            <a:endParaRPr b="1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>
            <a:lum contrast="30000"/>
          </a:blip>
          <a:srcRect l="2235" t="0" r="15178" b="9413"/>
          <a:stretch/>
        </p:blipFill>
        <p:spPr>
          <a:xfrm>
            <a:off x="2000160" y="1428840"/>
            <a:ext cx="5286600" cy="5286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ahoma"/>
              </a:rPr>
              <a:t>Памятник Кириллу и Мефодию</a:t>
            </a: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2000160" y="1484280"/>
            <a:ext cx="5214960" cy="4969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ahoma"/>
              </a:rPr>
              <a:t>Памятник Кириллу и Мефодию   в Коломне</a:t>
            </a: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2143080" y="1714680"/>
            <a:ext cx="4714920" cy="5000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Святые Кирилл и Мефодий. Икона. 1969 г.</a:t>
            </a:r>
            <a:br>
              <a:rPr sz="3200"/>
            </a:b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Святой Кирилл. Фреска церкви Апостола Петра. </a:t>
            </a: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XIII</a:t>
            </a: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 в. Болгария.</a:t>
            </a:r>
            <a:endParaRPr b="1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>
            <a:lum contrast="30000"/>
          </a:blip>
          <a:srcRect l="0" t="0" r="0" b="8848"/>
          <a:stretch/>
        </p:blipFill>
        <p:spPr>
          <a:xfrm>
            <a:off x="571680" y="1785960"/>
            <a:ext cx="4143240" cy="48578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>
            <a:lum contrast="30000"/>
          </a:blip>
          <a:srcRect l="0" t="0" r="0" b="8331"/>
          <a:stretch/>
        </p:blipFill>
        <p:spPr>
          <a:xfrm>
            <a:off x="5072040" y="1785960"/>
            <a:ext cx="3556080" cy="4857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500040" y="357120"/>
            <a:ext cx="8358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День памяти святителей Кирилла и Мефодия церковно-государственный праздник - День славянской культуры и письменности.</a:t>
            </a:r>
            <a:endParaRPr b="1" lang="en-US" sz="2400" spc="-1" strike="noStrike">
              <a:solidFill>
                <a:srgbClr val="0000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      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В этот день в нашем городе проходит традиционный Крестный ход к поклонному Кресту. Шествие по центральной улице собирает верующих, казачество во главе с духовенством. </a:t>
            </a:r>
            <a:endParaRPr b="1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4786200" y="3429000"/>
            <a:ext cx="4000680" cy="30718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428760" y="3429000"/>
            <a:ext cx="3929040" cy="3071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ahoma"/>
              </a:rPr>
              <a:t>Наскальные рисунки</a:t>
            </a: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857160" y="1432080"/>
            <a:ext cx="7286760" cy="5130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571680" y="500040"/>
            <a:ext cx="2357280" cy="31431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3429000" y="500040"/>
            <a:ext cx="2286000" cy="30718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>
            <a:lum contrast="20000"/>
          </a:blip>
          <a:stretch/>
        </p:blipFill>
        <p:spPr>
          <a:xfrm>
            <a:off x="6429240" y="500040"/>
            <a:ext cx="2071800" cy="30002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">
            <a:lum contrast="20000"/>
          </a:blip>
          <a:stretch/>
        </p:blipFill>
        <p:spPr>
          <a:xfrm>
            <a:off x="1928880" y="3857760"/>
            <a:ext cx="2428920" cy="26431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5">
            <a:lum contrast="20000"/>
          </a:blip>
          <a:stretch/>
        </p:blipFill>
        <p:spPr>
          <a:xfrm>
            <a:off x="4857840" y="3857760"/>
            <a:ext cx="2357280" cy="2643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214200" y="4000680"/>
            <a:ext cx="3071880" cy="22143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3500280" y="857160"/>
            <a:ext cx="3214800" cy="22860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>
            <a:lum contrast="20000"/>
          </a:blip>
          <a:stretch/>
        </p:blipFill>
        <p:spPr>
          <a:xfrm>
            <a:off x="6929280" y="428760"/>
            <a:ext cx="2000520" cy="27860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>
            <a:lum contrast="20000"/>
          </a:blip>
          <a:stretch/>
        </p:blipFill>
        <p:spPr>
          <a:xfrm>
            <a:off x="214200" y="857160"/>
            <a:ext cx="3071880" cy="22860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>
            <a:lum contrast="20000"/>
          </a:blip>
          <a:stretch/>
        </p:blipFill>
        <p:spPr>
          <a:xfrm>
            <a:off x="3500280" y="4000680"/>
            <a:ext cx="3214800" cy="22143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6">
            <a:lum contrast="20000"/>
          </a:blip>
          <a:stretch/>
        </p:blipFill>
        <p:spPr>
          <a:xfrm>
            <a:off x="6929280" y="3429000"/>
            <a:ext cx="2000520" cy="2786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71680" y="1785960"/>
            <a:ext cx="8143560" cy="47149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0" y="428760"/>
            <a:ext cx="89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285840" y="285840"/>
            <a:ext cx="864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В честь</a:t>
            </a:r>
            <a:endParaRPr b="1" lang="en-US" sz="1800" spc="-1" strike="noStrike">
              <a:solidFill>
                <a:srgbClr val="00006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Дня славянской культуры и письменности</a:t>
            </a:r>
            <a:endParaRPr b="1" lang="en-US" sz="1800" spc="-1" strike="noStrike">
              <a:solidFill>
                <a:srgbClr val="00006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проходят различные театрализованные представления в концертных залах нашего города, а также в учебных заведениях и библиотеках проводятся  литературные чтения, уроки и презентации.</a:t>
            </a:r>
            <a:endParaRPr b="1" lang="en-US" sz="1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792440" y="5367240"/>
            <a:ext cx="54864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ahoma"/>
              </a:rPr>
              <a:t>Два брата, Кирилл и Мефодий, </a:t>
            </a:r>
            <a:br>
              <a:rPr sz="1400"/>
            </a:br>
            <a:r>
              <a:rPr b="1" lang="ru-RU" sz="1400" spc="-1" strike="noStrike">
                <a:solidFill>
                  <a:srgbClr val="000066"/>
                </a:solidFill>
                <a:latin typeface="Tahoma"/>
              </a:rPr>
              <a:t>Спасибо хотим вам сказать</a:t>
            </a:r>
            <a:br>
              <a:rPr sz="1400"/>
            </a:br>
            <a:r>
              <a:rPr b="1" lang="ru-RU" sz="1400" spc="-1" strike="noStrike">
                <a:solidFill>
                  <a:srgbClr val="000066"/>
                </a:solidFill>
                <a:latin typeface="Tahoma"/>
              </a:rPr>
              <a:t>За буквы, что очень нужны нам</a:t>
            </a:r>
            <a:br>
              <a:rPr sz="1400"/>
            </a:br>
            <a:r>
              <a:rPr b="1" lang="ru-RU" sz="1400" spc="-1" strike="noStrike">
                <a:solidFill>
                  <a:srgbClr val="000066"/>
                </a:solidFill>
                <a:latin typeface="Tahoma"/>
              </a:rPr>
              <a:t>Чтоб  научить нас читать.</a:t>
            </a:r>
            <a:endParaRPr b="1" lang="en-US" sz="1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rcRect l="0" t="141" r="0" b="14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ahoma"/>
              </a:rPr>
              <a:t>Подготовила:</a:t>
            </a:r>
            <a:br>
              <a:rPr sz="4000"/>
            </a:br>
            <a:r>
              <a:rPr b="1" lang="ru-RU" sz="4000" spc="-1" strike="noStrike">
                <a:solidFill>
                  <a:srgbClr val="3333cc"/>
                </a:solidFill>
                <a:latin typeface="Tahoma"/>
              </a:rPr>
              <a:t>воспитатель </a:t>
            </a:r>
            <a:br>
              <a:rPr sz="4000"/>
            </a:br>
            <a:r>
              <a:rPr b="1" lang="ru-RU" sz="4000" spc="-1" strike="noStrike">
                <a:solidFill>
                  <a:srgbClr val="3333cc"/>
                </a:solidFill>
                <a:latin typeface="Tahoma"/>
              </a:rPr>
              <a:t>МДОУ </a:t>
            </a:r>
            <a:br>
              <a:rPr sz="4000"/>
            </a:br>
            <a:r>
              <a:rPr b="1" lang="ru-RU" sz="4000" spc="-1" strike="noStrike">
                <a:solidFill>
                  <a:srgbClr val="3333cc"/>
                </a:solidFill>
                <a:latin typeface="Tahoma"/>
              </a:rPr>
              <a:t>«Детский сад № 129»</a:t>
            </a:r>
            <a:br>
              <a:rPr sz="4000"/>
            </a:br>
            <a:r>
              <a:rPr b="1" lang="ru-RU" sz="4000" spc="-1" strike="noStrike">
                <a:solidFill>
                  <a:srgbClr val="3333cc"/>
                </a:solidFill>
                <a:latin typeface="Tahoma"/>
              </a:rPr>
              <a:t>Ермолова Елена Александровна</a:t>
            </a:r>
            <a:endParaRPr b="1" lang="en-US" sz="4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ahoma"/>
              </a:rPr>
              <a:t>Наскальные рисунки</a:t>
            </a: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071720" y="1322280"/>
            <a:ext cx="7072200" cy="5108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ahoma"/>
              </a:rPr>
              <a:t>Наскальные рисунки</a:t>
            </a: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785880" y="1322280"/>
            <a:ext cx="7643880" cy="5348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214280" y="1432080"/>
            <a:ext cx="6643800" cy="49672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ahoma"/>
              </a:rPr>
              <a:t>Наскальные символы (буквы)</a:t>
            </a: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>
            <a:lum contrast="20000"/>
          </a:blip>
          <a:srcRect l="9705" t="15755" r="1176" b="7115"/>
          <a:stretch/>
        </p:blipFill>
        <p:spPr>
          <a:xfrm>
            <a:off x="785880" y="1285920"/>
            <a:ext cx="7572240" cy="51433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15960" y="303120"/>
            <a:ext cx="7961400" cy="9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ahoma"/>
              </a:rPr>
              <a:t>Возникновение письменности</a:t>
            </a: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2357280" y="1428840"/>
            <a:ext cx="4572000" cy="48578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ahoma"/>
              </a:rPr>
              <a:t>Кирилл и Мефодий</a:t>
            </a:r>
            <a:endParaRPr b="1" lang="en-US" sz="4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9T02:22:46Z</dcterms:created>
  <dc:creator>C24</dc:creator>
  <dc:description/>
  <dc:language>en-US</dc:language>
  <cp:lastModifiedBy>Дом</cp:lastModifiedBy>
  <dcterms:modified xsi:type="dcterms:W3CDTF">2012-05-22T11:59:01Z</dcterms:modified>
  <cp:revision>47</cp:revision>
  <dc:subject/>
  <dc:title>Сначала  Аз  да  Буки, а  потом  и  науки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