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13.png" ContentType="image/pn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29.jpeg" ContentType="image/jpeg"/>
  <Override PartName="/ppt/media/image40.jpeg" ContentType="image/jpeg"/>
  <Override PartName="/ppt/media/image44.jpeg" ContentType="image/jpe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9.jpeg" ContentType="image/jpeg"/>
  <Override PartName="/ppt/media/image20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2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Segoe UI"/>
              </a:rPr>
              <a:t>&lt;date/time&gt;</a:t>
            </a:r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2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AA3BBA-74C5-42EA-853B-435C005CDED8}" type="slidenum">
              <a:rPr b="1" lang="ru-RU" sz="12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E1A3C8-63C3-4AC8-8351-C624F0ACE6AA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2AC962-7C26-473A-A323-ACED2659DDC3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FECF41-1969-4BB9-BFAD-FF88E1D0E6CB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23D3AB-196C-4CC2-B54A-3FE82AB53E07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B1E67F-EF46-401E-A1AC-BA83792D8F2A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2AEB30-A61B-46F5-A2FA-5BECA3AAF0B5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128DE4-FA61-4CD0-979B-F757FCE83C23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083E2D-33C4-48A4-ADED-20576BC3FD63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77B208-BA2F-4073-881C-D3DDACF8A439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2C9949-FA42-46D8-8787-E5207C1D10AC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C20AAD-1A7B-471A-B6B1-DDF74D14BD64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5D01CA-7C3C-488F-A7D3-820BE7D78EFF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ACCBFA-5CB3-4C5E-93F2-8A108933FFEF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99AC0B-C41B-47F9-889F-E183FFD26160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92375E-CE4A-4FA4-A01F-73BC3B409217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8A4C88-2956-4D1C-B1D7-705674AD077C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1A561E-1C60-4621-86C7-13FC7C1CF799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1E1D1A-B951-4EAC-97C7-48EF30BB2EED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887228-2BF5-4A04-B18F-4529E1580718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E8A871-5BF2-421A-8713-3D062CBC320C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976D5E-08D5-4CA6-B2EC-B29FB899BE65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75F4C9-5111-4803-97BA-8DBA5A02B1A0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23A070-538F-49F3-908D-507C86C3369E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05BDCD-06A2-4523-AB96-A591955869FD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453E33-1F73-4C58-95AF-8AFFB0423540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918173-B73F-4931-84B7-2498750E8F5A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92BA1A-6CC8-4B51-B7C2-95B4EBCF3A08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968FB8-25E3-4021-AC10-E678A5844E33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C210-0297-458D-A3BE-5857231E3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1528-7BDE-4780-8761-DC9805D5D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224B-ABB6-420A-9E5A-97BBE3333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453A-81DF-4E65-96F1-971F81BBB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1520-CB83-40D3-8CE7-366D85AAA6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CCB0-A83D-4988-BC53-3A88E242EA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AC20-62AD-43BF-AD1C-88A49C8EC5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5727-DEC7-468A-91CC-56130066F7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62E5-9A37-4C1D-9372-13FBBB17A9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9F0E-A87C-4EFF-93CC-DF3F02445A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F647-153E-4BFA-9A4C-242C0B229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FAAC-E128-43CA-B5E0-2066B9CF4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8E38-D4A5-4878-8414-35119754F9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4D2B-DF42-45C9-A415-12F2F5C278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BFF2-300E-4EB9-8015-07C0940B9C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F65B-8911-4D36-83AB-4F8E5F6AC3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4AF1-187D-425E-9BCF-1ACBB225C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39CC-C789-47D4-AF05-449489616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800B-D5A9-4569-B861-2503EAFE8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2940-182B-4DF7-A17C-7646E4C4F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4FFB-B3DB-46F8-B621-C5198E8CF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573E-2EA3-4D95-B502-301404473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9E0D-7286-4DE7-B493-287797B0D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543A-B27D-4ECC-93A9-AFDF126E1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2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1B525F-BF12-45FB-85BF-9B08708283D9}" type="slidenum">
              <a:rPr b="1" lang="ru-RU" sz="12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200" spc="-1" strike="noStrike">
                <a:solidFill>
                  <a:srgbClr val="000066"/>
                </a:solidFill>
                <a:latin typeface="Tahoma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5D2A54-B943-43EC-AA86-7A878C00B492}" type="slidenum">
              <a:rPr b="1" lang="ru-RU" sz="1200" spc="-1" strike="noStrike">
                <a:solidFill>
                  <a:srgbClr val="000066"/>
                </a:solidFill>
                <a:latin typeface="Tahoma"/>
                <a:ea typeface="Segoe UI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735"/>
          <a:stretch/>
        </p:blipFill>
        <p:spPr>
          <a:xfrm>
            <a:off x="714240" y="357120"/>
            <a:ext cx="7786800" cy="574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contrast="20000"/>
          </a:blip>
          <a:srcRect l="0" t="0" r="0" b="12572"/>
          <a:stretch/>
        </p:blipFill>
        <p:spPr>
          <a:xfrm>
            <a:off x="2071800" y="1428840"/>
            <a:ext cx="4714920" cy="5054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вятые равноапостольные Кирилл и Мефодий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Кирилл и Мефодий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31880" y="782640"/>
            <a:ext cx="80517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Ежегодно 24 мая во всех славянских странах торжественно прославляют святых 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14720" y="1714680"/>
            <a:ext cx="4857480" cy="480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До принятия монашества Кирилла звали Константин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1484280"/>
            <a:ext cx="6048720" cy="415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нстантин и Мефодий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Кто такие Кирилл и Мефодий 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Родом они были из македонского города Солуни. И жили в 9 веке. Кирилл изучал богословие и преподавал философию.Его и прозвали философом, а по-русски мудрецом.Еще с детства мечтал он написать книги, понятные славянам.Ему стал помогать старший брат Мефодий. Азбуку стали называть кириллицей в память о ее создателе.  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35040" y="0"/>
            <a:ext cx="81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Кириллица и глаголица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61" r="8211" b="0"/>
          <a:stretch/>
        </p:blipFill>
        <p:spPr>
          <a:xfrm>
            <a:off x="642960" y="714240"/>
            <a:ext cx="7985160" cy="5956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28760" y="297000"/>
            <a:ext cx="8332560" cy="631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830" t="0" r="976" b="0"/>
          <a:stretch/>
        </p:blipFill>
        <p:spPr>
          <a:xfrm>
            <a:off x="428760" y="214200"/>
            <a:ext cx="8429400" cy="642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42960" y="1863720"/>
            <a:ext cx="7929720" cy="423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Первые книги писались на пергаменте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42960" y="1428840"/>
            <a:ext cx="7858080" cy="5000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Первая рукописная книга 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овгородская летопись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85880" y="1322280"/>
            <a:ext cx="7572240" cy="523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Цель занятия: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вивать  детям  любовь  к  родному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лову,  родному  языку,  отечественной  истории. 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               </a:t>
            </a: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Задачи: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85880" y="42066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Ознакомить воспитанников  с 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истоками  создания  славянской  азбуки  и  ее  создателями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Лаврентьевская летопись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5040" y="1917720"/>
            <a:ext cx="7937640" cy="432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Ипатьевская летопись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03280" y="1322280"/>
            <a:ext cx="6072120" cy="4942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Берестяные грамоты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341360"/>
            <a:ext cx="6858000" cy="5302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Берестяная грамота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71680" y="1428840"/>
            <a:ext cx="7929360" cy="485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58920" y="1773360"/>
            <a:ext cx="688968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ahoma"/>
              </a:rPr>
              <a:t>Конец XIV века. «От Бориса ко Ностасии. Како приде ся грамота, тако пришли ми цоловекъ на жерепце, зане ми здесе делъ много. Да пришли сороцицю: сороцице забыле»</a:t>
            </a:r>
            <a:endParaRPr b="1" lang="en-US" sz="19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contrast="20000"/>
          </a:blip>
          <a:srcRect l="1961" t="1314" r="0" b="237"/>
          <a:stretch/>
        </p:blipFill>
        <p:spPr>
          <a:xfrm>
            <a:off x="1071720" y="1000080"/>
            <a:ext cx="7143480" cy="521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contrast="20000"/>
          </a:blip>
          <a:srcRect l="2860" t="8536" r="2860" b="6130"/>
          <a:stretch/>
        </p:blipFill>
        <p:spPr>
          <a:xfrm>
            <a:off x="1000080" y="642960"/>
            <a:ext cx="7072200" cy="564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43000" y="728640"/>
            <a:ext cx="7143840" cy="561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В.Васнецов «Нестор-летописец»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0200" y="1428840"/>
            <a:ext cx="4286520" cy="505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143080" y="357120"/>
            <a:ext cx="5072040" cy="627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аскальные рисунки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57160" y="1593720"/>
            <a:ext cx="7500960" cy="480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30000"/>
          </a:blip>
          <a:srcRect l="7817" t="11795" r="5976" b="5572"/>
          <a:stretch/>
        </p:blipFill>
        <p:spPr>
          <a:xfrm>
            <a:off x="1000080" y="1214280"/>
            <a:ext cx="714384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Первые печатные книги на Руси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4598" r="0" b="8000"/>
          <a:stretch/>
        </p:blipFill>
        <p:spPr>
          <a:xfrm>
            <a:off x="0" y="1101600"/>
            <a:ext cx="9144000" cy="5756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Так выглядел славянский алфавит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Начальные  буквы  славянского  алфавита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contrast="30000"/>
          </a:blip>
          <a:srcRect l="14146" t="9596" r="77591" b="79349"/>
          <a:stretch/>
        </p:blipFill>
        <p:spPr>
          <a:xfrm>
            <a:off x="5986440" y="1484280"/>
            <a:ext cx="2759040" cy="3168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>
            <a:lum contrast="20000"/>
          </a:blip>
          <a:srcRect l="1957" t="9921" r="90236" b="78709"/>
          <a:stretch/>
        </p:blipFill>
        <p:spPr>
          <a:xfrm>
            <a:off x="468360" y="1571760"/>
            <a:ext cx="2765520" cy="32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>
            <a:lum contrast="30000"/>
          </a:blip>
          <a:srcRect l="27197" t="9386" r="65878" b="79701"/>
          <a:stretch/>
        </p:blipFill>
        <p:spPr>
          <a:xfrm>
            <a:off x="3203640" y="3213000"/>
            <a:ext cx="290196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5516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08464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«Сначала «аз» да «буки», потом и науки». 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68360" y="1268280"/>
            <a:ext cx="8308800" cy="3672000"/>
            <a:chOff x="468360" y="1268280"/>
            <a:chExt cx="8308800" cy="3672000"/>
          </a:xfrm>
        </p:grpSpPr>
        <p:sp>
          <p:nvSpPr>
            <p:cNvPr id="162" name=""/>
            <p:cNvSpPr txBox="1"/>
            <p:nvPr/>
          </p:nvSpPr>
          <p:spPr>
            <a:xfrm>
              <a:off x="468360" y="1268280"/>
              <a:ext cx="2446200" cy="2733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з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284720" y="1341360"/>
              <a:ext cx="4492440" cy="3598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уки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468360" y="1197000"/>
            <a:ext cx="8424720" cy="28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БУК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Пословицы о пользе учения 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Кто хочет много знать, тому мало надо спать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Идти в науку – терпеть муку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Божьей волей свет стоит, наукой люди живут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Без муки нет и науки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ичего не мыслить – век киснуть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4200" y="0"/>
            <a:ext cx="8929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Памятник Кириллу и Мефодию в Москве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скульптор В. Клыков</a:t>
            </a:r>
            <a:endParaRPr b="1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30000"/>
          </a:blip>
          <a:srcRect l="2235" t="0" r="15178" b="9413"/>
          <a:stretch/>
        </p:blipFill>
        <p:spPr>
          <a:xfrm>
            <a:off x="2000160" y="1428840"/>
            <a:ext cx="5286600" cy="528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Памятник Кириллу и Мефодию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000160" y="1484280"/>
            <a:ext cx="5214960" cy="496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Памятник Кириллу и Мефодию   в Коломне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143080" y="1714680"/>
            <a:ext cx="4714920" cy="50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вятые Кирилл и Мефодий. Икона. 1969 г.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вятой Кирилл. Фреска церкви Апостола Петра.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XIII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в. Болгария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30000"/>
          </a:blip>
          <a:srcRect l="0" t="0" r="0" b="8848"/>
          <a:stretch/>
        </p:blipFill>
        <p:spPr>
          <a:xfrm>
            <a:off x="571680" y="1785960"/>
            <a:ext cx="4143240" cy="4857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>
            <a:lum contrast="30000"/>
          </a:blip>
          <a:srcRect l="0" t="0" r="0" b="8331"/>
          <a:stretch/>
        </p:blipFill>
        <p:spPr>
          <a:xfrm>
            <a:off x="5072040" y="1785960"/>
            <a:ext cx="3556080" cy="485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0040" y="35712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нь памяти святителей Кирилла и Мефодия церковно-государственный праздник - День славянской культуры и письменности.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этот день в нашем городе проходит традиционный Крестный ход к поклонному Кресту. Шествие по центральной улице собирает верующих, казачество во главе с духовенством. 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786200" y="3429000"/>
            <a:ext cx="4000680" cy="3071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28760" y="3429000"/>
            <a:ext cx="3929040" cy="307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аскальные рисунки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57160" y="1432080"/>
            <a:ext cx="7286760" cy="513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71680" y="500040"/>
            <a:ext cx="2357280" cy="314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429000" y="500040"/>
            <a:ext cx="2286000" cy="3071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429240" y="500040"/>
            <a:ext cx="2071800" cy="3000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1928880" y="3857760"/>
            <a:ext cx="2428920" cy="2643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4857840" y="3857760"/>
            <a:ext cx="2357280" cy="264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14200" y="4000680"/>
            <a:ext cx="307188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500280" y="85716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929280" y="428760"/>
            <a:ext cx="2000520" cy="2786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14200" y="857160"/>
            <a:ext cx="307188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3500280" y="4000680"/>
            <a:ext cx="3214800" cy="2214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6929280" y="3429000"/>
            <a:ext cx="2000520" cy="278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143560" cy="471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42876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5840" y="2858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 честь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Дня славянской культуры и письменности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проходят различные театрализованные представления в концертных залах нашего города, а также в учебных заведениях и библиотеках проводятся  литературные чтения, уроки и презентации.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440" y="5367240"/>
            <a:ext cx="5486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Два брата, Кирилл и Мефодий, 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Спасибо хотим вам сказать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За буквы, что очень нужны нам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Чтоб  научить нас читать.</a:t>
            </a:r>
            <a:endParaRPr b="1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141" r="0" b="14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Подготовила: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воспитатель 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МДОУ 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«Детский сад № 129»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Ермолова Елена Александровна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аскальные рисунки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71720" y="1322280"/>
            <a:ext cx="7072200" cy="510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аскальные рисунки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85880" y="1322280"/>
            <a:ext cx="7643880" cy="534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14280" y="1432080"/>
            <a:ext cx="6643800" cy="4967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аскальные символы (буквы)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contrast="20000"/>
          </a:blip>
          <a:srcRect l="9705" t="15755" r="1176" b="7115"/>
          <a:stretch/>
        </p:blipFill>
        <p:spPr>
          <a:xfrm>
            <a:off x="785880" y="1285920"/>
            <a:ext cx="7572240" cy="514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5960" y="303120"/>
            <a:ext cx="79614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Возникновение письменности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357280" y="1428840"/>
            <a:ext cx="4572000" cy="485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Кирилл и Мефодий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2:22:46Z</dcterms:created>
  <dc:creator>C24</dc:creator>
  <dc:description/>
  <dc:language>en-US</dc:language>
  <cp:lastModifiedBy>Дом</cp:lastModifiedBy>
  <dcterms:modified xsi:type="dcterms:W3CDTF">2012-05-22T11:59:01Z</dcterms:modified>
  <cp:revision>47</cp:revision>
  <dc:subject/>
  <dc:title>Сначала  Аз  да  Буки, а  потом  и  наук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