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41E4-4198-4A78-BCA2-C2C40B5EDF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гадайте фразеологизмы, зашифрованные в рису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3E54-1F6B-42FF-B783-AB73DC5DBC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514-60FE-449F-B43D-98D24E5C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5430-EA10-4D0D-B602-F97FAC6E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D76-2A98-494B-BA0B-D3B753C6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5CA-86E2-4EC9-9BA1-0B838D8A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7FD9-7442-4107-95BB-0EDAFF4A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DFD5-A875-4898-9019-33893D21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9F1C-7DCE-460E-B3FE-0B433015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D469-B44F-4F92-85F4-D3042DDA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3418-7AD3-4096-9428-B3D5EA59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F7D7-5741-468B-8E1C-6AAE8F23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D661-B962-44EA-B163-39C09522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19F-9A86-4A19-B92B-28D99E30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B9C0-5D9D-4FB5-9AAC-C491C80D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F63D-41A2-426B-A21E-463BFB79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6F4C-C854-4A88-B010-615F7E1C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7532-F847-420B-89BF-73A31E4F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2653-F558-4C1D-B9B3-ECF3CB14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632E7-929E-44B5-9401-2112CFD2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A5987-EA54-48BF-BE61-F9485C6E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A5B20-D425-49BA-8E36-69D21E95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4626B-82B4-429B-90F8-AE0F08D3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D414B-EC86-49C1-8134-43479C5B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B4F-10BA-4C4D-B122-CA534F47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55382-321A-4404-8D0F-13FB869B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A8D9C-5DB0-47F9-9DFE-AE1887CD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B7F6-74CE-446A-B98F-83E81E95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8BA5A-794B-48DE-A970-9F5E6676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D238C-819A-4D4F-B369-4B8891DF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1FE43-7524-49ED-9DB6-39EEBF2B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23F19-A193-455C-AF1F-F79D83C6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E972B-834A-444E-8800-E755A9B7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9FEA8-360E-4DAF-B70E-114420D6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058FA-C550-432E-8344-E5152429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D11-84DF-4A5B-B7F8-FE9E8D0D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D44F8-84BF-488E-9C25-08BA0ED7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27182-2F62-4FE5-B17C-FA58F7AD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B4DC9-A46B-4770-9CBB-543EA4CE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0D88A-6733-4B7C-AE92-86EB1C55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16BC3-E55A-4E10-9559-857890A0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62915-C57C-4670-845F-F6272F75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CB32D-B0ED-44D1-B764-D501D57D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52F16-B58D-4EFD-BC06-EBE37264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0F397-9D0F-4035-9F33-649E3705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FA555-CC3D-4A99-943A-60F1E630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6D95-2BDC-4FA9-A780-E66B4470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DAC91-2B52-4A33-AD0A-5AA0BC30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6F121-BC33-4606-885F-57A8C414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9CD72-BBB0-4C43-A1CB-4D631BD4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6B66A-BFFB-4E15-80C7-F87DEEFD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71F9C-8699-4B38-BCE5-1E3B3151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B2BC7-ECEB-4DC4-923F-4B1891DB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152C7-1F29-4C9D-9B06-304FA36C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C72BB-9B60-4412-9FB6-07414F2E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F4EED-51A2-4364-A532-887A1179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FB051-7853-41B9-B786-3E7E1965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1EF-AA34-4CB6-ABF2-30EFFA6B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43D8E-64C9-4238-8425-18B55B58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278BC-2919-4F7F-B1FA-12E1A020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A526F-E13F-47D8-861F-847DAF4B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68E13-72B1-4192-B1A6-8E5E79A9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9D31F-D6A2-4CF9-AA00-2C916DFE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441ED-0FD4-4A53-985D-67516E8B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E858E-3439-4234-AABF-CB83DAB0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A6A1D-C791-41B3-94B5-36D07AC0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4A04D-7E9A-4457-9222-BC9D6B41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0D0BB-6D24-41C5-A34E-1FAAEAD7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DA86-A6B2-4B9A-B8DF-A4418E56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ED422-EB8D-4189-952C-F510E8FE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7EF91-B0C3-4667-BE21-0B3B9E85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1FAE8-3925-418C-8DBE-D1614339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61C83-BB18-45E5-81EF-06507DC7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FA1F4-D34A-49BF-B180-6393E7EA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E5D95-72F2-4D2F-8FD2-8FB6DA96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82379-2C16-403C-AB9E-806774C8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3194D-4EDC-4A25-9E94-48451DBA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411D7-10ED-4A52-A0B8-9827AC0B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3F48A-C8E9-4F0C-9E83-7255B30C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1320-0C31-4017-AE5A-40CEC4FD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B342E-4DB8-4C9E-89E3-27B813D6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F5CD8-AF3F-422B-987F-A50087E0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9B124-C1F1-46C5-BA05-71D4CBF2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2C8CA-94A4-421F-8368-55E70A2D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8796E-19DF-45A2-A5AC-6A9C65CA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253FC-C1DC-4332-8011-76E80ABC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D83B6-BCC4-469C-8C1F-B00457C9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9ED71-11AD-4D93-847B-C25BF137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CDED0-25C8-4522-B835-6B52186B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FAC51-EC25-490E-8AD8-C70B0A23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1B1-48D8-4947-BD8B-183F75BB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B1034-C5A6-403B-A150-4513B8C2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9AE65-5501-4926-BB78-0B392774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3029D-3F78-41CD-A4DE-B2F6DDA7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73C1B-093C-4669-9056-D5E8C15A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3307C-E189-48DB-9204-49CCA5A2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5BBA7-971C-462B-BE00-093B374F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80BF7-0112-4735-8465-EF10E086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471A-F732-4DCA-B5AE-4E80F06F265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8B26-67FE-494A-AF1C-AF47A4927F0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3FB9-4570-4465-9B53-5142489FFE1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477B-4A62-4306-AD87-231555F6570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5C51-0AF9-4AB6-8EA6-2A6C7055CFA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5FEB-E59D-4DDE-B1EB-D64EB81B00F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78BA-2EE7-461C-9E29-55530820CB1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93FB-8FF9-4FC3-B40E-478415EED32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Укажите синонимические фразеологизмы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258920" y="1700280"/>
            <a:ext cx="8229600" cy="4751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Закинуть удочк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оказать, где раки зимую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исеть на плеча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Шито-крыт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ступать на пят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Бросить пробный ша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онцы в вод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описать ижиц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Укажите антонимические фразеологизмы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8360" y="1844280"/>
            <a:ext cx="8229600" cy="4753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еми пядей во лб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Дойная коро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итайская грамо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Заячья душ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още пареной реп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е робкого десят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Олух царя небесног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Черная дыр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Укажите соответствие антонимических фразеологизмов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916280"/>
            <a:ext cx="4038480" cy="4209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дать перц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урить фимиа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дти ва-бан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шки скребут на душ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648320" y="1916280"/>
            <a:ext cx="4038480" cy="4209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учше синица в рук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легло от сердц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ладить по шер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ливать грязь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Замените выделенные слова фразеологизмам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рузья работали </a:t>
            </a:r>
            <a:r>
              <a:rPr b="0" i="1" lang="ru-RU" sz="2800" spc="-1" strike="noStrike">
                <a:solidFill>
                  <a:srgbClr val="800000"/>
                </a:solidFill>
                <a:latin typeface="Corbel"/>
              </a:rPr>
              <a:t>рядом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паздывая, мы </a:t>
            </a:r>
            <a:r>
              <a:rPr b="0" i="1" lang="ru-RU" sz="2800" spc="-1" strike="noStrike">
                <a:solidFill>
                  <a:srgbClr val="800000"/>
                </a:solidFill>
                <a:latin typeface="Corbel"/>
              </a:rPr>
              <a:t>мчались быстро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юбит он </a:t>
            </a:r>
            <a:r>
              <a:rPr b="0" i="1" lang="ru-RU" sz="2800" spc="-1" strike="noStrike">
                <a:solidFill>
                  <a:srgbClr val="800000"/>
                </a:solidFill>
                <a:latin typeface="Corbel"/>
              </a:rPr>
              <a:t>много говорить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то вы здесь </a:t>
            </a:r>
            <a:r>
              <a:rPr b="0" i="1" lang="ru-RU" sz="2800" spc="-1" strike="noStrike">
                <a:solidFill>
                  <a:srgbClr val="800000"/>
                </a:solidFill>
                <a:latin typeface="Corbel"/>
              </a:rPr>
              <a:t>бездельничаете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чему вы не постарались, а работали </a:t>
            </a:r>
            <a:r>
              <a:rPr b="0" i="1" lang="ru-RU" sz="2800" spc="-1" strike="noStrike">
                <a:solidFill>
                  <a:srgbClr val="800000"/>
                </a:solidFill>
                <a:latin typeface="Corbel"/>
              </a:rPr>
              <a:t>плохо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терпев неудачу, он совсем </a:t>
            </a:r>
            <a:r>
              <a:rPr b="0" i="1" lang="ru-RU" sz="2800" spc="-1" strike="noStrike">
                <a:solidFill>
                  <a:srgbClr val="800000"/>
                </a:solidFill>
                <a:latin typeface="Corbel"/>
              </a:rPr>
              <a:t>приуныл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ни работали </a:t>
            </a:r>
            <a:r>
              <a:rPr b="0" i="1" lang="ru-RU" sz="2800" spc="-1" strike="noStrike">
                <a:solidFill>
                  <a:srgbClr val="800000"/>
                </a:solidFill>
                <a:latin typeface="Corbel"/>
              </a:rPr>
              <a:t>не отдыхая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85904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Объясните значение и происхождение фразеологизмов</a:t>
            </a:r>
            <a:br>
              <a:rPr sz="40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(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ресурсы Интернет: </a:t>
            </a:r>
            <a:r>
              <a:rPr b="1" lang="en-US" sz="3200" spc="-1" strike="noStrike">
                <a:solidFill>
                  <a:srgbClr val="feb80a"/>
                </a:solidFill>
                <a:latin typeface="Gill Sans MT"/>
              </a:rPr>
              <a:t>www.gramma.ru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2637000"/>
            <a:ext cx="4038480" cy="348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orbel"/>
              </a:rPr>
              <a:t>двуликий Яну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orbel"/>
              </a:rPr>
              <a:t>притча во языце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orbel"/>
              </a:rPr>
              <a:t>аредовы ве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48320" y="2637000"/>
            <a:ext cx="4038480" cy="348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orbel"/>
              </a:rPr>
              <a:t>гордиев узе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orbel"/>
              </a:rPr>
              <a:t>Аннибалова клят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orbel"/>
              </a:rPr>
              <a:t>дамоклов меч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08764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одберите синонимы к фразеологическим единицам,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оверьте себя по словарю</a:t>
            </a:r>
            <a:br>
              <a:rPr sz="3600"/>
            </a:b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2900" spc="-1" strike="noStrike">
                <a:solidFill>
                  <a:srgbClr val="572314"/>
                </a:solidFill>
                <a:latin typeface="Gill Sans MT"/>
              </a:rPr>
              <a:t>(</a:t>
            </a: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ресурсы Интернет: </a:t>
            </a:r>
            <a:r>
              <a:rPr b="1" lang="en-US" sz="2900" spc="-1" strike="noStrike">
                <a:solidFill>
                  <a:srgbClr val="feb80a"/>
                </a:solidFill>
                <a:latin typeface="Gill Sans MT"/>
              </a:rPr>
              <a:t>www.gramma.ru</a:t>
            </a:r>
            <a:r>
              <a:rPr b="0" lang="ru-RU" sz="29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2781360"/>
            <a:ext cx="4038480" cy="374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пустя рука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бить с панталыку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Браться за ум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Метать Перун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ходить в колею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48320" y="2781360"/>
            <a:ext cx="4038480" cy="374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9" name="Picture 9" descr="ф"/>
          <p:cNvPicPr/>
          <p:nvPr/>
        </p:nvPicPr>
        <p:blipFill>
          <a:blip r:embed="rId1"/>
          <a:stretch/>
        </p:blipFill>
        <p:spPr>
          <a:xfrm>
            <a:off x="324000" y="260280"/>
            <a:ext cx="4176720" cy="28814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1" descr="ф2"/>
          <p:cNvPicPr/>
          <p:nvPr/>
        </p:nvPicPr>
        <p:blipFill>
          <a:blip r:embed="rId2"/>
          <a:stretch/>
        </p:blipFill>
        <p:spPr>
          <a:xfrm>
            <a:off x="4500720" y="189000"/>
            <a:ext cx="4248000" cy="3274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0" descr="ф4"/>
          <p:cNvPicPr/>
          <p:nvPr/>
        </p:nvPicPr>
        <p:blipFill>
          <a:blip r:embed="rId3"/>
          <a:stretch/>
        </p:blipFill>
        <p:spPr>
          <a:xfrm>
            <a:off x="1087560" y="3938760"/>
            <a:ext cx="2778120" cy="2187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2" descr="ф1"/>
          <p:cNvPicPr/>
          <p:nvPr/>
        </p:nvPicPr>
        <p:blipFill>
          <a:blip r:embed="rId4"/>
          <a:stretch/>
        </p:blipFill>
        <p:spPr>
          <a:xfrm>
            <a:off x="4867200" y="4141800"/>
            <a:ext cx="36003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15:05:32Z</dcterms:created>
  <dc:creator>Андрей</dc:creator>
  <dc:description/>
  <dc:language>en-US</dc:language>
  <cp:lastModifiedBy>Пользователь</cp:lastModifiedBy>
  <dcterms:modified xsi:type="dcterms:W3CDTF">2018-11-27T13:45:40Z</dcterms:modified>
  <cp:revision>5</cp:revision>
  <dc:subject/>
  <dc:title>Объясните значение и происхождение фразеологизмов (ресурсы Интернет: www.gramma.ru)</dc:title>
</cp:coreProperties>
</file>