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7E42-7F6A-4C3C-9E9A-C605E28AEF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гадайте фразеологизмы, зашифрованные в рису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97E7-1E81-4895-BBD0-1556BD751B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8AD-5CC1-4390-AFD4-1EF84ED4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D3C-F080-4B3A-BA71-465FC0B8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41B-0DFF-490B-8612-A6346311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CC8-4171-462F-99C6-B78B8C15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4DA5-2236-4CAB-878C-5AD28898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5501-E66E-46D5-9CC0-B9EAB68F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BCAD-6D0B-4E54-BFDE-CF55E3D0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C4A4-80C5-4253-9085-BB7FD0F3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434B-00EE-4178-910A-10F7A2B2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95F0-1467-4919-9A23-171A8D1A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B3BF-1037-4356-A1FD-190DD407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5D20-334A-4D74-8DA9-6B91727E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E4B4-CBA9-4DB2-8AEA-D787B977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B422-431D-4C84-AA72-05FCDD5F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DA89-DFFC-4E18-BD7B-10160104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E4BF-6C0C-4CBF-9117-D51BDFE9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4E0F-7636-4183-912C-60760DAA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47F19-C7E3-4406-9542-FDDE660D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B7553-D4AE-4A09-A5CF-A10EFB17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F8FF9-86AB-4E49-A854-1D2B56C4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42ED8-5A6E-41C4-A748-4B219F3D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CF696-9F6E-465B-BF4B-D5D1C781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FCE-B818-4E25-B686-AD1C8394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0E797-BAE3-43EF-B465-E03F63D3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55EA9-D286-4DD2-9F4F-00DBD55A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6605E-D6D2-45B1-9963-BBCC8B2F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3C43D-980A-4F4C-94E0-2FD9D388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34C7C-7030-4A73-A806-49292F50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70DE1-4CEC-4C97-9CDD-5BF011F5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CC7BB-BF93-49E1-AA78-2B55BAE0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4CE6B-03BE-47FD-9181-4F4AAA8B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05201-2FC0-410B-92CD-4727F80B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EF88E-6639-4D3A-8426-40B6001D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243-DDFE-4164-AB88-DB80F6E9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8CFD7-9C4F-42C6-BB6B-AC4F73EC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03C11-4A75-4D74-B3B2-33F8AC66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C726D-828F-4451-A3A5-D41988D5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E40EE-3808-42E1-9DEF-7058F14C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4D7CB-EFD3-4784-8C67-3B57D761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FEA7E-E01C-451B-9329-B5CEC6BC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65A73-D40A-440A-A019-FCB81A23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98F54-7387-425D-BBB4-CEE190CF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55288-469D-4352-BC3D-110DF3EA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1F41F-B15C-4101-A11C-173A3E16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BAAC-9A02-403B-892A-0E6A54AD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54F0D-4EA3-4310-ACEB-8F5DAE03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94E30-54B9-4FAF-B487-06953353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E02EC-4C95-4218-A0CC-B1989E25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F1B58-98A7-43D5-BC41-BE2685EA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BD75C-9734-473E-BEA2-131DCBB4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F629B-0645-47D4-9C76-B94C607B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7140F-D655-469F-92E8-E98FB9B1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D6ED4-8DE3-4BF3-89FA-17E98BFC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45ADA-6E58-42C8-B024-942FBB24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FA197-8957-4C32-9785-F7F2C945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BE0-E205-4587-A1F6-1F8497BE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19286-D4E4-4F03-89F1-EEE3D29F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34241-FE8E-4418-8730-2AE94508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D9A46-8531-4703-B997-317B600F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3BAF7-050C-4A07-AE8F-D14DF572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25A00-D495-40C6-89F0-60D7908C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F18B9-07C2-495E-98ED-E226895F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95BD2-6330-426E-B352-4F06F6C0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E7ED9-9409-49B6-A328-31A23F93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B3E1B-0B8F-49AE-A2C4-448A743C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2291F-FA4C-4CA8-B618-A4CF18AF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70AD-874B-4474-86E1-41268D2D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A7828-9699-4486-8590-9DF37BD3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6D403-20C3-46B9-8F25-857C36F0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37FCE-769E-4BE8-96A0-44D17F72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C61C0-473D-428E-A3BA-8F33D074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8D88F-5C01-42B1-A5A2-708C81BF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61544-1C20-42B0-A204-E97D90EB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27EBB-B447-4AA2-A3E3-59F63421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581EB-82C8-4674-8CAB-8217330C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4DE0B-BC36-4E67-A9EF-BB1BE296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59661-CD07-47D8-936A-756CBBD6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584-0738-434A-93F1-46FA9923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75541-4F62-4A64-AFD4-B1E15786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EDD3D-A766-40FB-A332-575D4DCB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0760B-9B16-49D6-9035-08ECE67A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23C25-73D4-4737-96F3-38A62A80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0300B-A7E4-4CE0-9FD0-A5515AA4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6BA4E-2D14-4521-86EB-562834CD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54B06-8390-4C10-B3D3-5B338C8D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DC5F6-64BD-496F-B6CE-6E3E8FA8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67D30-13B1-433F-AB97-70A499C2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F582B-7E28-4B04-B5C7-6644F9BD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40F-1127-4D23-A4D5-38B44589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B45D8-FF7D-48A9-ABF7-43BB3DD2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63D4D-C469-4CC2-9E2F-0D782589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40D3E-A626-4A99-B827-CB43292A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EB14A-BB5C-4887-9DDE-F2F5E503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9B793-6285-4B94-8C37-E509B68A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EE682-151E-443C-885B-3EBE6027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68B3D-BA09-4640-B73C-AF5A90A3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7AFF-8B3E-4B9D-BF51-F9B972CE58E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B944-3B64-47B3-AF73-E7C6C847FBA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275E-DD7E-4B83-9A8C-E706E7A0941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38FD-DACD-4C5F-B854-84EB704A124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9735-C680-4609-B86B-F24D7B51670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48F6-F504-437C-939F-C96F73E9A29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F9CD-20E2-4DBE-B740-C7C8BF9B897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FB0B-B942-468F-AEBF-FFED50D1AC6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Укажите синонимические фразеологизмы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258920" y="1700280"/>
            <a:ext cx="8229600" cy="4751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Закинуть удочк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оказать, где раки зимую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исеть на плеча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Шито-крыт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ступать на пят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Бросить пробный ша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онцы в вод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описать ижиц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Укажите антонимические фразеологизмы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8360" y="1844280"/>
            <a:ext cx="8229600" cy="4753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Семи пядей во лб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Дойная коро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итайская грамо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Заячья душ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още пареной реп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е робкого десят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Олух царя небесног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Черная дыр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Укажите соответствие антонимических фразеологизмов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916280"/>
            <a:ext cx="4038480" cy="4209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дать перц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урить фимиа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дти ва-бан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шки скребут на душ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648320" y="1916280"/>
            <a:ext cx="4038480" cy="4209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учше синица в рук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легло от сердц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ладить по шер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ливать грязь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Замените выделенные слова фразеологизмам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рузья работали </a:t>
            </a:r>
            <a:r>
              <a:rPr b="0" i="1" lang="ru-RU" sz="2800" spc="-1" strike="noStrike">
                <a:solidFill>
                  <a:srgbClr val="800000"/>
                </a:solidFill>
                <a:latin typeface="Corbel"/>
              </a:rPr>
              <a:t>рядом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паздывая, мы </a:t>
            </a:r>
            <a:r>
              <a:rPr b="0" i="1" lang="ru-RU" sz="2800" spc="-1" strike="noStrike">
                <a:solidFill>
                  <a:srgbClr val="800000"/>
                </a:solidFill>
                <a:latin typeface="Corbel"/>
              </a:rPr>
              <a:t>мчались быстро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юбит он </a:t>
            </a:r>
            <a:r>
              <a:rPr b="0" i="1" lang="ru-RU" sz="2800" spc="-1" strike="noStrike">
                <a:solidFill>
                  <a:srgbClr val="800000"/>
                </a:solidFill>
                <a:latin typeface="Corbel"/>
              </a:rPr>
              <a:t>много говорить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то вы здесь </a:t>
            </a:r>
            <a:r>
              <a:rPr b="0" i="1" lang="ru-RU" sz="2800" spc="-1" strike="noStrike">
                <a:solidFill>
                  <a:srgbClr val="800000"/>
                </a:solidFill>
                <a:latin typeface="Corbel"/>
              </a:rPr>
              <a:t>бездельничаете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чему вы не постарались, а работали </a:t>
            </a:r>
            <a:r>
              <a:rPr b="0" i="1" lang="ru-RU" sz="2800" spc="-1" strike="noStrike">
                <a:solidFill>
                  <a:srgbClr val="800000"/>
                </a:solidFill>
                <a:latin typeface="Corbel"/>
              </a:rPr>
              <a:t>плохо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терпев неудачу, он совсем </a:t>
            </a:r>
            <a:r>
              <a:rPr b="0" i="1" lang="ru-RU" sz="2800" spc="-1" strike="noStrike">
                <a:solidFill>
                  <a:srgbClr val="800000"/>
                </a:solidFill>
                <a:latin typeface="Corbel"/>
              </a:rPr>
              <a:t>приуныл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ни работали </a:t>
            </a:r>
            <a:r>
              <a:rPr b="0" i="1" lang="ru-RU" sz="2800" spc="-1" strike="noStrike">
                <a:solidFill>
                  <a:srgbClr val="800000"/>
                </a:solidFill>
                <a:latin typeface="Corbel"/>
              </a:rPr>
              <a:t>не отдыхая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85904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Объясните значение и происхождение фразеологизмов</a:t>
            </a:r>
            <a:br>
              <a:rPr sz="40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(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ресурсы Интернет: </a:t>
            </a:r>
            <a:r>
              <a:rPr b="1" lang="en-US" sz="3200" spc="-1" strike="noStrike">
                <a:solidFill>
                  <a:srgbClr val="feb80a"/>
                </a:solidFill>
                <a:latin typeface="Gill Sans MT"/>
              </a:rPr>
              <a:t>www.gramma.ru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2637000"/>
            <a:ext cx="4038480" cy="348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orbel"/>
              </a:rPr>
              <a:t>двуликий Яну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orbel"/>
              </a:rPr>
              <a:t>притча во языце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orbel"/>
              </a:rPr>
              <a:t>аредовы ве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48320" y="2637000"/>
            <a:ext cx="4038480" cy="348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orbel"/>
              </a:rPr>
              <a:t>гордиев узе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orbel"/>
              </a:rPr>
              <a:t>Аннибалова клят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orbel"/>
              </a:rPr>
              <a:t>дамоклов меч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08764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одберите синонимы к фразеологическим единицам,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оверьте себя по словарю</a:t>
            </a:r>
            <a:br>
              <a:rPr sz="3600"/>
            </a:b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en-US" sz="2900" spc="-1" strike="noStrike">
                <a:solidFill>
                  <a:srgbClr val="572314"/>
                </a:solidFill>
                <a:latin typeface="Gill Sans MT"/>
              </a:rPr>
              <a:t>(</a:t>
            </a: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ресурсы Интернет: </a:t>
            </a:r>
            <a:r>
              <a:rPr b="1" lang="en-US" sz="2900" spc="-1" strike="noStrike">
                <a:solidFill>
                  <a:srgbClr val="feb80a"/>
                </a:solidFill>
                <a:latin typeface="Gill Sans MT"/>
              </a:rPr>
              <a:t>www.gramma.ru</a:t>
            </a:r>
            <a:r>
              <a:rPr b="0" lang="ru-RU" sz="29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2781360"/>
            <a:ext cx="4038480" cy="374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пустя рука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бить с панталыку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Браться за ум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Метать Перун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ходить в колею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48320" y="2781360"/>
            <a:ext cx="4038480" cy="374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9" name="Picture 9" descr="ф"/>
          <p:cNvPicPr/>
          <p:nvPr/>
        </p:nvPicPr>
        <p:blipFill>
          <a:blip r:embed="rId1"/>
          <a:stretch/>
        </p:blipFill>
        <p:spPr>
          <a:xfrm>
            <a:off x="324000" y="260280"/>
            <a:ext cx="4176720" cy="28814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1" descr="ф2"/>
          <p:cNvPicPr/>
          <p:nvPr/>
        </p:nvPicPr>
        <p:blipFill>
          <a:blip r:embed="rId2"/>
          <a:stretch/>
        </p:blipFill>
        <p:spPr>
          <a:xfrm>
            <a:off x="4500720" y="189000"/>
            <a:ext cx="4248000" cy="3274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0" descr="ф4"/>
          <p:cNvPicPr/>
          <p:nvPr/>
        </p:nvPicPr>
        <p:blipFill>
          <a:blip r:embed="rId3"/>
          <a:stretch/>
        </p:blipFill>
        <p:spPr>
          <a:xfrm>
            <a:off x="1087560" y="3938760"/>
            <a:ext cx="2778120" cy="2187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2" descr="ф1"/>
          <p:cNvPicPr/>
          <p:nvPr/>
        </p:nvPicPr>
        <p:blipFill>
          <a:blip r:embed="rId4"/>
          <a:stretch/>
        </p:blipFill>
        <p:spPr>
          <a:xfrm>
            <a:off x="4867200" y="4141800"/>
            <a:ext cx="36003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15:05:32Z</dcterms:created>
  <dc:creator>Андрей</dc:creator>
  <dc:description/>
  <dc:language>en-US</dc:language>
  <cp:lastModifiedBy>Пользователь</cp:lastModifiedBy>
  <dcterms:modified xsi:type="dcterms:W3CDTF">2018-11-27T13:45:40Z</dcterms:modified>
  <cp:revision>5</cp:revision>
  <dc:subject/>
  <dc:title>Объясните значение и происхождение фразеологизмов (ресурсы Интернет: www.gramma.ru)</dc:title>
</cp:coreProperties>
</file>