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5F76-E32B-451F-95F9-8F26275DD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5108-B8E1-40C3-B698-D274BAF36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1B55-2BBC-4F71-8927-6697B03BF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AD73-C8AA-4D61-9FA2-CD1EE95EC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AE632-2BD3-4E7B-AAF1-7F341F3EF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9DCC5-9AA4-4378-928E-1FA6BC0B6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C26B9-36D3-4CD3-8AAF-B1C31ADAE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7CE6A-6DEB-47A3-A7B2-AA99B67C0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C9C76-5DDE-4B72-B2FC-BC4E3D912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56B2B-1AF0-4D9A-ACFB-AAE7D6F70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D3284-EED1-4426-B3E5-DEED8609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322F-AC1F-4EDA-A38D-F0142EFD0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5E9B3-17BA-43C9-85A0-0908C03D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53354-A167-4AD3-9D16-A63DB7CE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05D2B-06A2-4306-ADDC-9EE03D68C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5DFC0-748F-447C-A1C0-A4D71D88A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C2E09-FB19-4BEE-8475-E757B8770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AFB5A-791F-474F-956E-55351D53E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25097-E4B6-4D7F-82C0-DD0ADFE25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83BE8-2919-481C-BA25-D1158FBFD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DAA00-49D8-4C74-9C91-3437832B7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B2447-DA61-439E-A5A3-97217A280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8669-4407-47B0-95F8-A3FD7ECAF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093BB-36EF-472F-A478-17B042BC9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E4585-0520-440D-BCB3-132B69C6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35A7E-8ACC-41C6-8B24-FE85A91F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93F66-ACC5-42D3-B7BA-32822794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A7C1D-03C4-48FB-9E74-0BF0636EA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D0021-771E-485D-ACA8-31DFB5B09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CC0C5-7699-4E3B-953D-55BBFAC12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D28C9-ED1C-48A1-A20C-64CA399A1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7FB47-509B-429D-8C91-86CFAB02C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7267E-1D94-42ED-8360-92895215A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CDD5-40AA-4CE3-9250-052B042E1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45285-4DF6-48C2-B92D-F43D1375C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C23A9-F07D-486A-944B-F8ACED53E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7EFD0-E867-404B-8DA8-DA0E7DDFC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C8769-7F6E-41E3-851D-5327C2AB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31744-DDD6-4DA5-85F5-995FD365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6F4C1-2EC3-446D-A882-3AC38236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99481-A87E-479D-B6D2-D396641BD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45E3F-246A-4268-AE4C-C3B651669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F92DF-1786-4C8C-BC02-DB78DB6CB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256E9-523B-4D89-92E1-95A79E367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81C5-ECB9-4F9E-BC9A-FF11A943E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C0DCC-83D4-4640-B27D-256032285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4677F-5A12-43EE-A67B-6BE7B6420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6F859-F834-49A0-B2DE-23B9ED72D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14789-7DB4-4F13-906E-5A21F10B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D6EB1-0733-40DC-82CB-BE6196C65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B3821-94DC-464D-8311-7F01A04C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95A12-3602-4FD5-91B5-B7EA0658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9B0DF-6604-4CE1-AF98-87D6242E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D38B1-B104-468A-8E6B-F85E9D65A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BE2A7-8CEF-46EC-9027-0404389A9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7AFE-0DE8-4840-89C0-B4D6EDF86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53BB4-B6C3-4418-860E-6CCA74746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7FC1F-987B-4E29-94F8-3ED6E7A2D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157B2-C56A-4CF6-8E97-99A5ADB65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067ED9-2273-4987-B33E-DE13168DD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23D10-9968-4604-A84B-BC248174E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CF3BE-3F23-48D4-863C-7C667D118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E86FBB-3BB6-49A2-91DF-2B7A2E8E0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23F45-9122-4451-8610-41D85573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8D2A7-3AF9-4049-94B7-8DBC4301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795C25-9590-44CA-BF2D-C5BD9685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9572-235E-47B5-B0AA-D45A7AAF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472D1-4C20-448D-87AF-7A8244D35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1D340-DE9B-45D4-89BF-494B28A03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17B35-D0B4-4A37-A183-5E4638448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AF7B84-DD93-431A-A5B6-1BE67F96F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F948C-5217-4958-A594-6546A713C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63636-BEBD-49E9-8357-1CF9FD45E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65830-EC51-4030-B7B5-99D1AE516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18118-106C-4421-872D-0949DA058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F7989B-6A1D-4E5E-9ADC-085067FD3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36C56C-852F-4ADC-8327-A22C5B07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01A5-D748-4A5B-9C59-AE6EA8C2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8D681-5FB0-428D-A4B6-9DE39337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3A4F1-3118-4DF6-8CD1-E354ADAC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6CD15-0817-4EA2-AC17-B510947A6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F2D9D4-F0A1-489A-BA7F-6BFA5A3BF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58832-CF80-4D82-829B-48CA250E2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374E6-8B9E-41DC-BBAD-42BE3CDDD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D9E73F-2936-4C7E-955D-2629F2F2D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E9D38F-D682-49FA-A47D-82B298530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4DBEFE-C919-447B-A0A6-EB3972953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367F39-8A5D-4EB3-B4A9-D2767175B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89D0-ECCD-400C-AADA-557B575E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FAFA26-0BCB-43A7-8A86-E8AA31532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2C55AE-8BDF-4D13-A5EA-798F53CF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885D9F-9AD4-407C-A734-4D5B929F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D1D635-33EC-4C03-AC69-56A96A28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91B506-BDF2-41FB-8146-B2B48D1B5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C02C67-484D-410A-A032-67ABFAB13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21DD79-2A7A-4BF3-90DC-2155CFC01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C9ACA-11E9-4E4E-9204-A3B4CFFAF3A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FE9A3-C95D-4CDC-B6ED-2708845A7BE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8FE83-5339-4951-9392-D89D67C9F09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53527-619C-4577-BB99-07DA64DF338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5A31C-FCC4-4B09-BA9E-6E23F40DD05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9C4EE-463F-4905-997A-C274301DFBF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FCC14-C510-417E-B129-846AE47CD14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2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DF2A0-59D6-4225-96CD-AB311587D8B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1979280" y="1628280"/>
            <a:ext cx="6985080" cy="17290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Глагол и его формы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равописание глаголов и глагольных форм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dc765"/>
                </a:solidFill>
                <a:latin typeface="Times New Roman"/>
              </a:rPr>
              <a:t>Написание глаголов в повелительном и изъявительном наклонении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1908000" y="1268280"/>
          <a:ext cx="7236000" cy="5450040"/>
        </p:xfrm>
        <a:graphic>
          <a:graphicData uri="http://schemas.openxmlformats.org/drawingml/2006/table">
            <a:tbl>
              <a:tblPr/>
              <a:tblGrid>
                <a:gridCol w="2808360"/>
                <a:gridCol w="44276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Повелительное накло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Изъявительное накло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Глагол обозначает побуждение к действию (просьбу, совет, приказ) – пишем </a:t>
                      </a:r>
                      <a:r>
                        <a:rPr b="1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И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Вытри пыль, вынесите мусо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Держите крепче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Наполните сосуд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Действие происходит в настоящем или будущем времени. Для правильного написания необходимо определить спряжение глагол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Если глагол 2 спряжения, то написание формы изъявительного наклонения совпадает с написанием формы повелительного наклонения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Если вы держ</a:t>
                      </a:r>
                      <a:r>
                        <a:rPr b="1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ите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крепко, палка не упаде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78920" y="115920"/>
            <a:ext cx="87138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8dc765"/>
                </a:solidFill>
                <a:uFillTx/>
                <a:latin typeface="Times New Roman"/>
              </a:rPr>
              <a:t>Правописание суффиксов –ова-,-ева-,-ыва-,-ива-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2195280" y="1268280"/>
            <a:ext cx="6769080" cy="5400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Выбирая суффиксы -ова-, -ева-, -ыва-, -ива- в неопределенной форме и в форме прошедшего времени глагола, рассуждаем так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Ставим глагол в 1-м л. ед.ч. настоящего (или будущего) времени. Если он оканчивается на –ую(-юю), то пишем в неопределенной форме (и в прошедшем времени) суффикс –ова-(-ева-)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я буш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ую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– буш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ева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ть – буш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ева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л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я команд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ую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– команд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ва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ть – команд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ва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л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78920" y="115920"/>
            <a:ext cx="87138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8dc765"/>
                </a:solidFill>
                <a:uFillTx/>
                <a:latin typeface="Times New Roman"/>
              </a:rPr>
              <a:t>Правописание суффиксов –ова-,-ева-,-ыва-,-ива-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2195280" y="1268280"/>
            <a:ext cx="6769080" cy="5400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Если в форме настоящего(или будущего) времени суффиксы не изменяются, то они пишутся и в неопределенной форме, и в форме прошедшего времени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я подпис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ыва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ю – подпис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ыва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ть – подпис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ыва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л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я разыгр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ыва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ю – разыгр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ыва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ть – разыгр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ыва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л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я рассматр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ива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ю – рассматр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ива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ть -  рассматр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ива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л.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78920" y="115920"/>
            <a:ext cx="87138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dc765"/>
                </a:solidFill>
                <a:latin typeface="Times New Roman"/>
              </a:rPr>
              <a:t>Трудные для проверки глаголы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2484000" y="1268280"/>
            <a:ext cx="6480360" cy="5400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Запомните написание!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Исповед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ва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ть, затм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ева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ть, продл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ева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ть, застр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ева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ть, развед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ыва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ть, отвед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ыва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ть, вывед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ыва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ть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7138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dc765"/>
                </a:solidFill>
                <a:latin typeface="Times New Roman"/>
              </a:rPr>
              <a:t>Гласная основы глагола неопределенной формы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1908000" y="1557360"/>
          <a:ext cx="7093080" cy="3328920"/>
        </p:xfrm>
        <a:graphic>
          <a:graphicData uri="http://schemas.openxmlformats.org/drawingml/2006/table">
            <a:tbl>
              <a:tblPr/>
              <a:tblGrid>
                <a:gridCol w="3548160"/>
                <a:gridCol w="354492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Гласная  основы неопределенной формы глагола сохраняется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Примеры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В прошедшем времени глаго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ненавид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е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ть – ненавид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е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л, слыш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а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ть – слыш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а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л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та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я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ть – та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я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л, кле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и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ть – кле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и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л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7138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dc765"/>
                </a:solidFill>
                <a:latin typeface="Times New Roman"/>
              </a:rPr>
              <a:t>Гласная основы глагола неопределенной формы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1908000" y="1557360"/>
          <a:ext cx="7093080" cy="3328920"/>
        </p:xfrm>
        <a:graphic>
          <a:graphicData uri="http://schemas.openxmlformats.org/drawingml/2006/table">
            <a:tbl>
              <a:tblPr/>
              <a:tblGrid>
                <a:gridCol w="3548160"/>
                <a:gridCol w="354492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Гласная  основы неопределенной формы глагола сохраняется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Примеры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В условном наклонении глаго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завис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е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л – завис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е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л бы, постро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и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ть – постро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и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л бы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услыш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а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ть – услыш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а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л бы, почу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я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ть – почу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я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л бы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7138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dc765"/>
                </a:solidFill>
                <a:latin typeface="Times New Roman"/>
              </a:rPr>
              <a:t>Гласная основы глагола неопределенной формы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1908000" y="1557360"/>
          <a:ext cx="7093080" cy="3181320"/>
        </p:xfrm>
        <a:graphic>
          <a:graphicData uri="http://schemas.openxmlformats.org/drawingml/2006/table">
            <a:tbl>
              <a:tblPr/>
              <a:tblGrid>
                <a:gridCol w="3548160"/>
                <a:gridCol w="354492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Гласная  основы неопределенной формы глагола сохраняется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Примеры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В действительных причастиях прошедшего време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обид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е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ть – обид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евш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ий, посе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я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ть – посе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явш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ий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закле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и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ть – закле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ивш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ий, услыш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а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ть – услыш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авш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ий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7138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dc765"/>
                </a:solidFill>
                <a:latin typeface="Times New Roman"/>
              </a:rPr>
              <a:t>Гласная основы глагола неопределенной формы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1908000" y="1628640"/>
          <a:ext cx="7093080" cy="3986280"/>
        </p:xfrm>
        <a:graphic>
          <a:graphicData uri="http://schemas.openxmlformats.org/drawingml/2006/table">
            <a:tbl>
              <a:tblPr/>
              <a:tblGrid>
                <a:gridCol w="3548160"/>
                <a:gridCol w="354492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Гласная  основы неопределенной формы глагола сохраняется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Примеры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В страдательных причастиях прошедшего времени (кроме гласной </a:t>
                      </a:r>
                      <a:r>
                        <a:rPr b="1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И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обид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е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ть – обиж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енн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ый, посе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я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ть – посе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янн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ый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услыш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а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ть – услыш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анн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ый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НО: посто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и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ть – постро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енн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ый, выкат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и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ть – выкач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енн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ый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7138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dc765"/>
                </a:solidFill>
                <a:latin typeface="Times New Roman"/>
              </a:rPr>
              <a:t>Гласная основы глагола неопределенной формы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1908000" y="1628640"/>
          <a:ext cx="7093080" cy="3475080"/>
        </p:xfrm>
        <a:graphic>
          <a:graphicData uri="http://schemas.openxmlformats.org/drawingml/2006/table">
            <a:tbl>
              <a:tblPr/>
              <a:tblGrid>
                <a:gridCol w="3548160"/>
                <a:gridCol w="354492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Гласная  основы неопределенной формы глагола сохраняется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Примеры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В деепричастиях совершенного ви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Увид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е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ть – увид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ев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, увид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евши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; почу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я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ть - почу</a:t>
                      </a:r>
                      <a:r>
                        <a:rPr b="0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яв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, почу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явши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; закле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и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ть - закле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ив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, закле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ивши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; засып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а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ть – засып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ав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, засып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авши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strips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78920" y="115920"/>
            <a:ext cx="87138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dc765"/>
                </a:solidFill>
                <a:latin typeface="Times New Roman"/>
              </a:rPr>
              <a:t>Суффиксы причастий настоящего времени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2124000" y="1268280"/>
            <a:ext cx="6840720" cy="5400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Выбор суффикса причастия зависит от глагола, от которого оно образовано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1908000" y="2133720"/>
          <a:ext cx="6912000" cy="2889000"/>
        </p:xfrm>
        <a:graphic>
          <a:graphicData uri="http://schemas.openxmlformats.org/drawingml/2006/table">
            <a:tbl>
              <a:tblPr/>
              <a:tblGrid>
                <a:gridCol w="2303640"/>
                <a:gridCol w="4608360"/>
              </a:tblGrid>
              <a:tr h="1633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Действительное причастие настоящего време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От глагола 1 спр. - 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-ущ- (-ющ-)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колыш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ущ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ий (колыхать – 1спр.),ве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ющ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ий – (веять - 1спр.), стел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ющ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ий (стлать -1 спр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От глагола 2 спр. - 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-ащ- (-ящ-)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дыш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ащ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ий (дышать – 2 спр.),вид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ящ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ий (видеть – 2 спр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78920" y="115920"/>
            <a:ext cx="87138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Ь в конце глаголов после шипящих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2268000" y="1628280"/>
            <a:ext cx="6588360" cy="50403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мо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чь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(неопределенная форма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стере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чь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(неопределенная форма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може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шь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(2-е л., ед. ч., наст. и буд. вр.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сможе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ш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стерпи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ш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ре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жь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(повелительное наклонение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ре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жь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т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не обре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жь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тесь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strips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78920" y="115920"/>
            <a:ext cx="87138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dc765"/>
                </a:solidFill>
                <a:latin typeface="Times New Roman"/>
              </a:rPr>
              <a:t>Суффиксы причастий настоящего времени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2124000" y="1268280"/>
            <a:ext cx="6840720" cy="5400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Выбор суффикса причастия зависит от глагола, от которого оно образовано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1908000" y="2276640"/>
          <a:ext cx="7056720" cy="3247920"/>
        </p:xfrm>
        <a:graphic>
          <a:graphicData uri="http://schemas.openxmlformats.org/drawingml/2006/table">
            <a:tbl>
              <a:tblPr/>
              <a:tblGrid>
                <a:gridCol w="2351160"/>
                <a:gridCol w="4705560"/>
              </a:tblGrid>
              <a:tr h="1623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Страдательное причастие настоящего време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От глагола 1 спр. - 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-ом-, (-ем-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)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чита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ем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ый (читать – 1 спр.), вед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ом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ый (вести – 1спр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От глагола 2 спр. - 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-им-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завис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им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ый (зависеть – 2 спр.),хран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им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ый (хранить – 2 спр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strips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dc765"/>
                </a:solidFill>
                <a:latin typeface="Times New Roman"/>
              </a:rPr>
              <a:t>Информационные ресурсы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Богданова Г.А.  Уроки русского языка в 9 класс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М., «Просвещение», 2001 г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Богданова Г.А., Кириченко Г.И.  Материалы для подготовки к экзаменам по русскому языку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М., «Просвещение», 1997 г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78920" y="115920"/>
            <a:ext cx="87138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dc765"/>
                </a:solidFill>
                <a:latin typeface="Times New Roman"/>
              </a:rPr>
              <a:t>Личные окончания глаголов 1 и 2 спряжения: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324000" y="1197000"/>
          <a:ext cx="8640720" cy="5472000"/>
        </p:xfrm>
        <a:graphic>
          <a:graphicData uri="http://schemas.openxmlformats.org/drawingml/2006/table">
            <a:tbl>
              <a:tblPr/>
              <a:tblGrid>
                <a:gridCol w="1584000"/>
                <a:gridCol w="1495440"/>
                <a:gridCol w="881280"/>
                <a:gridCol w="1073160"/>
                <a:gridCol w="1654200"/>
                <a:gridCol w="1952640"/>
              </a:tblGrid>
              <a:tr h="9316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Спряжения глаго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-е спряж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-е спряж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ед.ч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мн.ч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ед.ч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мн.ч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-е 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-у, -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-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-у, -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-и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-е 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-еш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-ет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-иш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-ит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3-е 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-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-ут, -ю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-и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-ат, -я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9636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dc765"/>
                </a:solidFill>
                <a:latin typeface="Times New Roman"/>
              </a:rPr>
              <a:t>Глаголы 1 и 2 спряжения: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1907640" y="980640"/>
            <a:ext cx="7309080" cy="57610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Ко 2-ому спряжению относятся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все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глаголы на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-ить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(любить, клеить, строить),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кроме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брить, стелить, зиждиться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4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глагола на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-ать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: слышать, дышать, держать, гнать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7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глаголов на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-еть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: терпеть, вертеть, обидеть, зависеть, ненавидеть, видеть, смотреть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Все остальные глаголы относятся к 1 спряжению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(писать, бороться, плясать и пр.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Запомните!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Глаголы на –ять: сеять, веять, реять, таять, чуять, лаять, каяться, маяться, надеяться, лелеять, затеять, чаять, блеять и др. – относятся к 1 спряжению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78920" y="115920"/>
            <a:ext cx="87138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dc765"/>
                </a:solidFill>
                <a:latin typeface="Times New Roman"/>
              </a:rPr>
              <a:t>Алгоритм действий при выборе гласной :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1908000" y="1557000"/>
            <a:ext cx="7056720" cy="51116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20e04"/>
                </a:solidFill>
                <a:latin typeface="Corbel"/>
              </a:rPr>
              <a:t> 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поставить глагол в начальную (неопределенную) форму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выяснить, оканчивается ли он на –ить и является ли глаголом-исключением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определить спряжение глагола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вспомнить личные окончания глагола в этой форм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Например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бре…шь – брить, исключение,1 спр., окончание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–ешь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– бре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ешь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;   стро…шь – строить, глагол на –ить, 2 спр., окончание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–ишь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– стро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ишь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dc765"/>
                </a:solidFill>
                <a:latin typeface="Times New Roman"/>
              </a:rPr>
              <a:t>Глаголы с приставкой ВЫ- 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1523520" y="1905120"/>
            <a:ext cx="700884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Приставка ВЫ- часто перетягивает на себя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ударение, делая окончание безударным. Спряжение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глагола с приставкой ВЫ- следует определять по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бесприставочной форме этого же глагола. Если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окончание станет ударным, спряжение глагола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определяется по этому окончанию, а не по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неопределенной форме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Выспится – сп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ит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ся – 2 спр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Вымокнет – мокнет – мокн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уть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– 2 спр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dc765"/>
                </a:solidFill>
                <a:latin typeface="Times New Roman"/>
              </a:rPr>
              <a:t>-ться- и –тся- в глаголах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547640" y="1628640"/>
          <a:ext cx="7010640" cy="1719360"/>
        </p:xfrm>
        <a:graphic>
          <a:graphicData uri="http://schemas.openxmlformats.org/drawingml/2006/table">
            <a:tbl>
              <a:tblPr/>
              <a:tblGrid>
                <a:gridCol w="3505320"/>
                <a:gridCol w="35053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-ть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-т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В неопределенной форм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(смея</a:t>
                      </a:r>
                      <a:r>
                        <a:rPr b="1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ться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, развева</a:t>
                      </a:r>
                      <a:r>
                        <a:rPr b="1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ться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В 3-м лиц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(он смее</a:t>
                      </a:r>
                      <a:r>
                        <a:rPr b="1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тся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, знамя развевае</a:t>
                      </a:r>
                      <a:r>
                        <a:rPr b="1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тся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9" name="Text Box 23"/>
          <p:cNvSpPr/>
          <p:nvPr/>
        </p:nvSpPr>
        <p:spPr>
          <a:xfrm>
            <a:off x="324000" y="3573360"/>
            <a:ext cx="856908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ядок действий, помогающий правильно определить написание -ться, -тся в глаголе: найдите слово, с которым связан глагол; задайте от него к глаголу вопро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личие или отсутствие Ь в вопросе подскажет вам правильное напис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то умеет (что дела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т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?) весел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ьс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Н.ф.), того горе (что делает _?) бо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с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dc765"/>
                </a:solidFill>
                <a:latin typeface="Times New Roman"/>
              </a:rPr>
              <a:t>-тся- и –ться- в безличных глаголах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108000" y="1557360"/>
            <a:ext cx="8856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Отличайте форму 3-го лица от неопределенной формы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Вопрос можно поставить только к неопределенной форме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глагола: Чем (что делат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ь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?) серди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ться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, лучше (что сделат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ь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?)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помири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ться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К глаголам 3-го лица поставить вопрос трудно: Мне хоче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тся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(наст.вр.) чаю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Используйте прием замены глаголом прошедшего времени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Мне хотелось (прош.вр.) чаю. Подобная замена глагола в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неопределенной форме невозможн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Ему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хотелось выпить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чаю. В составном глагольном сказуемом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вспомогательный глагол всегда стоит в 3-м лице, а основной – в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неопределенной форм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78920" y="115920"/>
            <a:ext cx="87138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dc765"/>
                </a:solidFill>
                <a:latin typeface="Times New Roman"/>
              </a:rPr>
              <a:t>Правописание глаголов в повелительном наклонении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1908000" y="1397160"/>
          <a:ext cx="7056720" cy="4833720"/>
        </p:xfrm>
        <a:graphic>
          <a:graphicData uri="http://schemas.openxmlformats.org/drawingml/2006/table">
            <a:tbl>
              <a:tblPr/>
              <a:tblGrid>
                <a:gridCol w="1920960"/>
                <a:gridCol w="1333440"/>
                <a:gridCol w="2001960"/>
                <a:gridCol w="1800360"/>
              </a:tblGrid>
              <a:tr h="1267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Запомните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Написание глагола в повелительном наклонении НЕ зависит от спряжения глагола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Глаг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Спряж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-е л., ед.ч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-е л., мн.ч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стукну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стук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стукнит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верте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вер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вертит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намаз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обнаружи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намаж</a:t>
                      </a:r>
                      <a:r>
                        <a:rPr b="1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обнаруж</a:t>
                      </a:r>
                      <a:r>
                        <a:rPr b="1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намаж</a:t>
                      </a:r>
                      <a:r>
                        <a:rPr b="1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ь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т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обнаруж</a:t>
                      </a:r>
                      <a:r>
                        <a:rPr b="1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ь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т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0T10:23:49Z</dcterms:created>
  <dc:creator>TEST</dc:creator>
  <dc:description/>
  <dc:language>en-US</dc:language>
  <cp:lastModifiedBy>Пользователь</cp:lastModifiedBy>
  <dcterms:modified xsi:type="dcterms:W3CDTF">2018-11-27T13:48:52Z</dcterms:modified>
  <cp:revision>40</cp:revision>
  <dc:subject/>
  <dc:title>Презентация по русскому языку</dc:title>
</cp:coreProperties>
</file>