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3A4-4FE4-440E-86D7-1ADEAAF8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28A-EF65-4095-8CA8-5581953E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4A1E-D6F5-4786-9CFD-65E2D437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3291-F699-4FE2-97E8-E5E119C3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AD83-873A-410A-953A-460FC14E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1A11-1A2E-473D-B59A-0DDFBD27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0E97-A19A-4CB0-B75A-C867F960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6185-0ABF-4C3E-8908-E5027255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4D5F-CE81-4031-9D54-29B1577F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E80C-6F16-4E90-9D07-61C56828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0469-A2C9-40D6-BD2D-E8BEB1F3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D3A-B0AB-4FC3-BDE1-6FEC0A25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2116-20B7-4425-9907-3D995595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1785-5E2C-469A-8AE7-8E9E41CD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34EB-4C2F-4F20-B161-AF421C87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03F0-59F7-4EAF-8642-5F76F5BB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AC92-2FEF-49D6-9582-F495F695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C72EB-D5B0-472A-A1FC-FCC54E40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47DB-F16C-4CD6-AF99-5757E13B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9FB3C-3B27-4B4A-9BA7-95002E39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56892-E689-417D-BD4A-9B10E704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C29A4-D139-4A71-B3BD-CD661272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A8AD-FBC6-449C-87A8-5DAF0FB5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64568-BED4-47FA-A9FC-39975A91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12D9E-F816-4626-A72E-E7BFE882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70E40-2BFA-4A23-B957-52FFBF5B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28394-0C4A-4AC3-986E-52958707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0556B-04D9-47C7-ACD5-946FE709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16B04-279C-46DC-A281-2DCA89F6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0067C-1CE4-4581-A631-D16F932D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7DE60-1870-41BA-8019-9C4BC0E7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5DF69-23FE-4940-8DC4-6D8AF8A2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B171B-8B3B-4A89-BF1C-7B3AB4AF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77AB-5036-4C06-9A15-8043FB25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9BC7E-3AAB-4B09-9145-E84A0F45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A53F1-1960-4197-BDFE-C3C7CB09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236B3-52BB-4B61-AEEA-4B530614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E5A08-DB0B-4120-8657-D8F88B4B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E782C-9787-456E-946C-85EFED87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78390-F679-4925-A352-EAFAD787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0781F-1F2E-4293-BE40-7A2D2E7E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A9783-91CA-4E14-8E62-3389214D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E03F4-928C-4B63-BC89-177A8F13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E9EC2-8284-4433-A14D-CF339148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CFE6-6EDC-4F01-A785-998CEB3F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660DD-4869-4352-9E79-F3642324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9D73C-2409-4826-BD55-CF33134D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9B03D-3336-4DE3-9987-2F5FF609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0399C-0791-4980-AD61-397755C3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7DA99-B60C-4591-AE49-DF85526C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3376F-F9C3-42CA-A532-FD99EA9A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8DF87-F261-4735-9821-FE1E246F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2E1C7-94E9-4531-898A-21C8C41B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3D49D-02C3-4D29-B307-C74F5AEE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DB013-CFCB-44F7-AC0A-8EC1971F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0C1-4B86-4BE9-85F6-76A269B1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05673-0EA6-48DE-80CC-CCB85A24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D7E2C-990B-48E2-B49C-D80AACBC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4F773-B08B-42EC-BB66-2F35A95A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CE0C8-AAE7-4646-9462-6383B147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1664E-8A5B-4CCE-901A-5CF7DAA0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B440F-F57C-4E32-BF50-D23ADDFC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2D2F2-83D8-4BA2-8F47-FE121A16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9087D-4476-4C10-A0E5-56B8881A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91674-C044-425D-ACD8-5A4B6926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42DBE-C573-4DF1-B8B6-1FAE5C19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DE4B-9417-412B-AC11-92B4522A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5A805-CA8F-491D-AD3E-CBB44265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96199-CD0A-4228-B169-51667AD8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B14BA-92F0-4085-9EB8-6C8D138C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48697-A8AB-4ED6-88F7-8D6BDE82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519BD-3D44-4E4A-8ECD-A5774AA5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896B6-657E-4A96-A244-F71A65A7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27690-D2EB-4961-A295-9B67817A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B6514-96E3-40A6-A19F-A9DEDB35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BA357-71C5-4E8C-9B60-FFBC73D6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095EF-9A53-4B8C-B3F8-2DA8C66B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3F57-3EB2-423C-8B16-C5CF0C57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006DE-0992-4EC6-B95B-91ABF9D8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E8F73-DF21-4F5B-A0BA-26881795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89D44-94F5-4F58-AC07-DE0EFE26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AF366-E85B-432C-8A84-ED349E6A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B5CDE-0766-47A5-ABED-263A9A14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CF1F7-9164-45E0-9219-7AF92F30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6859A-F6B6-48A0-B7D8-28D931D3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40342-A94A-4CB8-9650-971B8120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ADA96-4586-463C-B94E-0132A9D8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11EEB-B7F0-4FE2-9E32-B6362961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87C-C5FA-4784-AFCB-93CAFA9A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2B93E-B65C-412F-A67E-1E3A7667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C5FAC-7945-4B6F-9946-1AE9911D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78B80-080F-45CD-BA27-864A300B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5C8DD-5C6B-4861-9B19-A9379B53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4DCBF-2EF6-415A-9059-CB78C5A7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60C9E-7B3F-4016-AE40-1AA88EE5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7F770-4B61-4BCC-BB45-C87F1544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D0F5-91A9-48AF-9146-AFDB92F589F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EF3B-A97B-491C-A4DF-748906A7CEF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F9DE-E2A4-4171-893F-242C1EC7A87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25D5-595E-441B-A27A-E2EEC6E02B1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C61D-6CDF-4268-A631-53E18486218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4B2B-C99D-42F6-9589-756C5D885CE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8E9A-3084-499C-935D-B7497811663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25CF-BC82-468A-BB27-DA55122B575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979280" y="1628280"/>
            <a:ext cx="6985080" cy="1729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Глагол и его форм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авописание глаголов и глагольных форм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Написание глаголов в повелительном и изъявительном наклонении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908000" y="1268280"/>
          <a:ext cx="7236000" cy="5450040"/>
        </p:xfrm>
        <a:graphic>
          <a:graphicData uri="http://schemas.openxmlformats.org/drawingml/2006/table">
            <a:tbl>
              <a:tblPr/>
              <a:tblGrid>
                <a:gridCol w="2808360"/>
                <a:gridCol w="4427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Повелительное на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зъявительное на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Глагол обозначает побуждение к действию (просьбу, совет, приказ) – пишем 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ытри пыль, вынесите мусо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Держите крепче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Наполните сосуд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Действие происходит в настоящем или будущем времени. Для правильного написания необходимо определить спряжение глаго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Если глагол 2 спряжения, то написание формы изъявительного наклонения совпадает с написанием формы повелительного наклонени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Если вы держ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те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крепко, палка не упад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dc765"/>
                </a:solidFill>
                <a:uFillTx/>
                <a:latin typeface="Times New Roman"/>
              </a:rPr>
              <a:t>Правописание суффиксов –ова-,-ева-,-ыва-,-ива-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2195280" y="1268280"/>
            <a:ext cx="6769080" cy="5400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ыбирая суффиксы -ова-, -ева-, -ыва-, -ива- в неопределенной форме и в форме прошедшего времени глагола, рассуждаем так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тавим глагол в 1-м л. ед.ч. настоящего (или будущего) времени. Если он оканчивается на –ую(-юю), то пишем в неопределенной форме (и в прошедшем времени) суффикс –ова-(-ева-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я буш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ую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– буш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 – буш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я команд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ую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– команд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 – команд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dc765"/>
                </a:solidFill>
                <a:uFillTx/>
                <a:latin typeface="Times New Roman"/>
              </a:rPr>
              <a:t>Правописание суффиксов –ова-,-ева-,-ыва-,-ива-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2195280" y="1268280"/>
            <a:ext cx="6769080" cy="5400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Если в форме настоящего(или будущего) времени суффиксы не изменяются, то они пишутся и в неопределенной форме, и в форме прошедшего времен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я подпис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ы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ю – подпис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ы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 – подпис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ы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я разыгр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ы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ю – разыгр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ы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 – разыгр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ы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я рассматр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ю – рассматр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 -  рассматр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л.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Трудные для проверки глагол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2484000" y="1268280"/>
            <a:ext cx="6480360" cy="5400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Запомните написание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Исповед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, затм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, продл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, застр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, развед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ы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, отвед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ы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, вывед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ыва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Гласная основы глагола неопределенной форм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908000" y="1557360"/>
          <a:ext cx="7093080" cy="3328920"/>
        </p:xfrm>
        <a:graphic>
          <a:graphicData uri="http://schemas.openxmlformats.org/drawingml/2006/table">
            <a:tbl>
              <a:tblPr/>
              <a:tblGrid>
                <a:gridCol w="3548160"/>
                <a:gridCol w="3544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Гласная  основы неопределенной формы глагола сохраняетс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Пример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 прошедшем времени глаг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ненавид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ненавид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л, слыш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слыш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л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а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та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л, кл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кл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л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Гласная основы глагола неопределенной форм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908000" y="1557360"/>
          <a:ext cx="7093080" cy="3328920"/>
        </p:xfrm>
        <a:graphic>
          <a:graphicData uri="http://schemas.openxmlformats.org/drawingml/2006/table">
            <a:tbl>
              <a:tblPr/>
              <a:tblGrid>
                <a:gridCol w="3548160"/>
                <a:gridCol w="3544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Гласная  основы неопределенной формы глагола сохраняетс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Пример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 условном наклонении глаг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завис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л – завис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л бы, постро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постро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л бы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услыш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услыш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л бы, почу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почу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л б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Гласная основы глагола неопределенной форм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908000" y="1557360"/>
          <a:ext cx="7093080" cy="3181320"/>
        </p:xfrm>
        <a:graphic>
          <a:graphicData uri="http://schemas.openxmlformats.org/drawingml/2006/table">
            <a:tbl>
              <a:tblPr/>
              <a:tblGrid>
                <a:gridCol w="3548160"/>
                <a:gridCol w="3544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Гласная  основы неопределенной формы глагола сохраняетс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Пример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 действительных причастиях прошедшег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обид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обид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вш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й, пос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пос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вш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й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закл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закл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вш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й, услыш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услыш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вш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Гласная основы глагола неопределенной форм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908000" y="1628640"/>
          <a:ext cx="7093080" cy="3986280"/>
        </p:xfrm>
        <a:graphic>
          <a:graphicData uri="http://schemas.openxmlformats.org/drawingml/2006/table">
            <a:tbl>
              <a:tblPr/>
              <a:tblGrid>
                <a:gridCol w="3548160"/>
                <a:gridCol w="3544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Гласная  основы неопределенной формы глагола сохраняетс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Пример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 страдательных причастиях прошедшего времени (кроме гласной 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обид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обиж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нн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ый, пос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пос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нн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ый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услыш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услыш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нн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ый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НО: посто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постро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нн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ый, выкат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выкач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нн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ы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Гласная основы глагола неопределенной форм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908000" y="1628640"/>
          <a:ext cx="7093080" cy="3475080"/>
        </p:xfrm>
        <a:graphic>
          <a:graphicData uri="http://schemas.openxmlformats.org/drawingml/2006/table">
            <a:tbl>
              <a:tblPr/>
              <a:tblGrid>
                <a:gridCol w="3548160"/>
                <a:gridCol w="3544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Гласная  основы неопределенной формы глагола сохраняетс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Пример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 деепричастиях совершенного ви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Увид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увид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в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увид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вш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; почу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- почу</a:t>
                      </a:r>
                      <a:r>
                        <a:rPr b="0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в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почу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вш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; закл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- закл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в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закл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вш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; засып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 – засып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в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засып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вши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Суффиксы причастий настоящего времени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2124000" y="1268280"/>
            <a:ext cx="6840720" cy="5400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ыбор суффикса причастия зависит от глагола, от которого оно образовано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908000" y="2133720"/>
          <a:ext cx="6912000" cy="2889000"/>
        </p:xfrm>
        <a:graphic>
          <a:graphicData uri="http://schemas.openxmlformats.org/drawingml/2006/table">
            <a:tbl>
              <a:tblPr/>
              <a:tblGrid>
                <a:gridCol w="2303640"/>
                <a:gridCol w="4608360"/>
              </a:tblGrid>
              <a:tr h="163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Действительное причастие настоящег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От глагола 1 спр. - 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-ущ- (-ющ-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колыш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ущ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й (колыхать – 1спр.),ве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ющ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й – (веять - 1спр.), стел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ющ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й (стлать -1 спр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От глагола 2 спр. - 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-ащ- (-ящ-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дыш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ащ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й (дышать – 2 спр.),вид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ящ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й (видеть – 2 спр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Ь в конце глаголов после шипящих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2268000" y="1628280"/>
            <a:ext cx="6588360" cy="5040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о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чь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(неопределенная форм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тере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чь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(неопределенная форм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оже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ш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(2-е л., ед. ч., наст. и буд. вр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може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ш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терпи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ш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е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ж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(повелительное наклон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ре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ж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е обре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ж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ес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Суффиксы причастий настоящего времени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124000" y="1268280"/>
            <a:ext cx="6840720" cy="5400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ыбор суффикса причастия зависит от глагола, от которого оно образовано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908000" y="2276640"/>
          <a:ext cx="7056720" cy="3247920"/>
        </p:xfrm>
        <a:graphic>
          <a:graphicData uri="http://schemas.openxmlformats.org/drawingml/2006/table">
            <a:tbl>
              <a:tblPr/>
              <a:tblGrid>
                <a:gridCol w="2351160"/>
                <a:gridCol w="4705560"/>
              </a:tblGrid>
              <a:tr h="1623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Страдательное причастие настоящег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От глагола 1 спр. - 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-ом-, (-ем-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чита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ем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ый (читать – 1 спр.), вед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ом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ый (вести – 1спр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От глагола 2 спр. - 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-им-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завис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м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ый (зависеть – 2 спр.),хран</a:t>
                      </a:r>
                      <a:r>
                        <a:rPr b="1" lang="ru-RU" sz="24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</a:rPr>
                        <a:t>им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ый (хранить – 2 спр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Информационные ресурс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Богданова Г.А.  Уроки русского языка в 9 класс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., «Просвещение», 2001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Богданова Г.А., Кириченко Г.И.  Материалы для подготовки к экзаменам по русскому язык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., «Просвещение», 1997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c765"/>
                </a:solidFill>
                <a:latin typeface="Times New Roman"/>
              </a:rPr>
              <a:t>Личные окончания глаголов 1 и 2 спряжения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24000" y="1197000"/>
          <a:ext cx="8640720" cy="5472000"/>
        </p:xfrm>
        <a:graphic>
          <a:graphicData uri="http://schemas.openxmlformats.org/drawingml/2006/table">
            <a:tbl>
              <a:tblPr/>
              <a:tblGrid>
                <a:gridCol w="1584000"/>
                <a:gridCol w="1495440"/>
                <a:gridCol w="881280"/>
                <a:gridCol w="1073160"/>
                <a:gridCol w="1654200"/>
                <a:gridCol w="1952640"/>
              </a:tblGrid>
              <a:tr h="9316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Спряжения глаг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-е спря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-е спря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ед.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мн.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ед.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мн.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-е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у, -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у, -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и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-е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еш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е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иш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и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-е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ут, -ю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ат, -я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963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c765"/>
                </a:solidFill>
                <a:latin typeface="Times New Roman"/>
              </a:rPr>
              <a:t>Глаголы 1 и 2 спряжения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907640" y="980640"/>
            <a:ext cx="7309080" cy="5761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о 2-ому спряжению относятся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се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глаголы на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-ит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(любить, клеить, строить),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роме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брить, стелить, зиждитьс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глагола на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-ат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: слышать, дышать, держать, гнат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7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глаголов на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-ет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: терпеть, вертеть, обидеть, зависеть, ненавидеть, видеть, смотре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се остальные глаголы относятся к 1 спряжению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(писать, бороться, плясать и пр.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лаголы на –ять: сеять, веять, реять, таять, чуять, лаять, каяться, маяться, надеяться, лелеять, затеять, чаять, блеять и др. – относятся к 1 спряжени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c765"/>
                </a:solidFill>
                <a:latin typeface="Times New Roman"/>
              </a:rPr>
              <a:t>Алгоритм действий при выборе гласной 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908000" y="1557000"/>
            <a:ext cx="7056720" cy="5111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20e04"/>
                </a:solidFill>
                <a:latin typeface="Corbel"/>
              </a:rPr>
              <a:t>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ставить глагол в начальную (неопределенную) форму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ыяснить, оканчивается ли он на –ить и является ли глаголом-исключением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пределить спряжение глагол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спомнить личные окончания глагола в этой форм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пример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бре…шь – брить, исключение,1 спр., окончание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–еш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– бре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ш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;   стро…шь – строить, глагол на –ить, 2 спр., окончание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–иш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– стро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ш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Глаголы с приставкой ВЫ- 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523520" y="1905120"/>
            <a:ext cx="70088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риставка ВЫ- часто перетягивает на себ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дарение, делая окончание безударным. Спряжени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лагола с приставкой ВЫ- следует определять по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бесприставочной форме этого же глагола. Есл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кончание станет ударным, спряжение глагол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пределяется по этому окончанию, а не по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еопределенной форме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ыспится – сп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т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я – 2 сп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ымокнет – мокнет – мокн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ут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– 2 сп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-ться- и –тся- в глаголах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547640" y="1628640"/>
          <a:ext cx="7010640" cy="1719360"/>
        </p:xfrm>
        <a:graphic>
          <a:graphicData uri="http://schemas.openxmlformats.org/drawingml/2006/table">
            <a:tbl>
              <a:tblPr/>
              <a:tblGrid>
                <a:gridCol w="3505320"/>
                <a:gridCol w="3505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-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 неопределенной фор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(смея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с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развева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ьс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 3-м лиц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(он смее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с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знамя развевае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ся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Text Box 23"/>
          <p:cNvSpPr/>
          <p:nvPr/>
        </p:nvSpPr>
        <p:spPr>
          <a:xfrm>
            <a:off x="324000" y="3573360"/>
            <a:ext cx="8569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ядок действий, помогающий правильно определить написание -ться, -тся в глаголе: найдите слово, с которым связан глагол; задайте от него к глаголу вопр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или отсутствие Ь в вопросе подскажет вам правильное напис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о умеет (что дел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?) весел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ь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Н.ф.), того горе (что делает _?) бо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-тся- и –ться- в безличных глаголах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08000" y="1557360"/>
            <a:ext cx="8856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Отличайте форму 3-го лица от неопределенной формы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опрос можно поставить только к неопределенной форм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лагола: Чем (что делат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?) серди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ться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, лучше (что сделат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?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мири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ться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 глаголам 3-го лица поставить вопрос трудно: Мне хоче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тся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(наст.вр.) ча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Используйте прием замены глаголом прошедшего времен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не хотелось (прош.вр.) чаю. Подобная замена глагола в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еопределенной форме невозмо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Ему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хотелось выпить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чаю. В составном глагольном сказуемом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спомогательный глагол всегда стоит в 3-м лице, а основной – в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еопределенной форм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765"/>
                </a:solidFill>
                <a:latin typeface="Times New Roman"/>
              </a:rPr>
              <a:t>Правописание глаголов в повелительном наклонении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908000" y="1397160"/>
          <a:ext cx="7056720" cy="4833720"/>
        </p:xfrm>
        <a:graphic>
          <a:graphicData uri="http://schemas.openxmlformats.org/drawingml/2006/table">
            <a:tbl>
              <a:tblPr/>
              <a:tblGrid>
                <a:gridCol w="1920960"/>
                <a:gridCol w="1333440"/>
                <a:gridCol w="2001960"/>
                <a:gridCol w="1800360"/>
              </a:tblGrid>
              <a:tr h="1267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Запомните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Написание глагола в повелительном наклонении НЕ зависит от спряжения глагола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Спря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-е л., ед.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-е л., мн.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стукну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стук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стукни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ерт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ер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ерти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намаз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обнаруж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намаж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обнаруж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намаж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ь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обнаруж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ь</a:t>
                      </a:r>
                      <a:r>
                        <a:rPr b="0" lang="ru-RU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0:23:49Z</dcterms:created>
  <dc:creator>TEST</dc:creator>
  <dc:description/>
  <dc:language>en-US</dc:language>
  <cp:lastModifiedBy>Пользователь</cp:lastModifiedBy>
  <dcterms:modified xsi:type="dcterms:W3CDTF">2018-11-27T13:48:52Z</dcterms:modified>
  <cp:revision>40</cp:revision>
  <dc:subject/>
  <dc:title>Презентация по русскому языку</dc:title>
</cp:coreProperties>
</file>