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030-0322-41E7-B6A9-3D7925EA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086-E8FC-455D-8F5D-4D3FCEC0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086-C045-4480-B1BC-65409C79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CDF-0CFE-4955-AF2D-5339FC6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982-DDE5-4917-A06F-10390D96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A2A-F248-43AF-98BA-BA1089D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E85A-34AF-40A4-A973-B033B39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12B-5094-4C4A-8D10-F53ACE7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B18-A1EA-4A72-96AC-8C936EC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769D-B46A-429D-AC9F-674A47D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A2E-61CA-4EE9-B63E-820454F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15D-228C-44AE-90FF-B080026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4E7A-2B10-4406-A1E5-CB2DF6C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161-21CC-4426-806D-83D5D42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5B11-79AD-403F-997B-AA7EE89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F260-1D43-43E6-9880-91DF01B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15F-20D2-4E18-A52F-77235281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8FF9-74A6-4FE8-B213-15F52FDB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9660-178C-4A71-92F1-EF53D362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BCC6-EF8C-4889-AF10-95389AB8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BC91-60E2-444B-B51A-BAE093F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1082-5C82-42C1-86DB-574C633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C41-3FC8-4FE2-82D9-9A5B112A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6EF4-A69A-4DEB-9428-4A73C44F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FED9-8538-4C7B-AB27-C5D07A1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130C-6F96-45B7-ADFE-4361A9CA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E7A8-33A0-4BB2-B402-C148F4A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CB4D-058F-48B3-A153-7426E7A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642B-A00D-41BC-9C04-B42C8ED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E57D-4C5B-4DB5-B480-BC17B68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DA15-F09D-465B-BDC2-E53B6C29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903E-CFA6-413C-9DE1-6978C97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4700-0FFD-4C62-B151-49DBE1B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65E-1647-4299-98D7-CEE02E2E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D054-4B74-4905-889D-2BC3B402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D15D-40CC-4CCC-A96E-D6B2107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6500-3815-43E2-B4B2-6466842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3972-5CD5-466C-ABC5-0AFB41B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9350-4FC3-45A0-A8D8-71D88089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A794-02D7-4A45-AA2D-275E5B6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5DC0-0866-4DCE-86B2-6D91793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B657-D4F1-4106-A45E-C2BD58D6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9432-12B7-45D8-967E-B9A8E310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0B22-FED0-42E1-9F81-1383D86E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BF8-CEF3-4B4E-A789-C5649C85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6C95-B7F3-4395-B92E-C86AFE8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B9A3-524D-4DF7-97F6-6E2084E5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14F37-D9A0-4671-A564-B5126BD2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5FF0-5D27-4560-9327-ED477AFF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BBEB-76DD-414E-A79D-CB16644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9EF3-6039-4A79-B045-9985CDF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02A8-BD60-468F-B894-044DF95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D05C-AFFF-4169-8746-EF9C9B9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C000-2D8D-4315-8F83-AA203493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0A134-8269-44DE-B6DE-7E8B6EA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291-4E4C-4DEF-B14B-28B87B7D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0FEF-68B2-469A-827A-25ABCD14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E6FE3-2B29-4E96-B580-98CB4109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5AC0-4843-4EED-B40E-C69BC97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4E50-B117-49D5-85DC-1B6EE094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587FA-B90D-48B9-A086-9F851F75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785D-F144-4941-9C9D-D1DF8EC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6F7D-3E13-4798-B226-A16E4C0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53DB-D7AF-479E-8610-ADA12BF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7FEC-174E-4161-AF7E-1CBA534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A0B9-8471-49F9-AB5E-027FAA9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064-7CDF-4DFB-BC54-59D49239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D161-1AA3-41A8-97D1-CBCE5A9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BF30B-3A13-42A9-8F66-BBCA75B9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BFED-5FDC-4609-AF52-713C1CD8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EA33-A455-4EDE-BC2C-53F103D8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5AB63-98B8-459F-AD9D-D67EE7EC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F484-AB02-47FE-9324-FA91EA3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0517E-E400-458D-BFB7-3CD2872E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B99A-2C4A-4B3E-A2F7-68A5525E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01D5-EC78-49A9-A0C9-5774B04C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A33C-9D48-4816-A43F-B5277B1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8B7-8BED-48B2-84B4-D64F00E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85407-09C0-4501-8B46-C6194E0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B139C-108F-4122-965A-3AE9A60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7F0D-1059-462E-A098-FD53589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7308-070B-49AA-AFEC-EF50B814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45CA-4F42-4A47-B002-A3E9FAA2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B2E-D897-400A-8C21-3070C3F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952-FF11-4183-8ED6-39A01C5935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CE0-D2A8-4452-9652-DB3638A0EF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D49B-EA6A-4FBF-84CC-4199398799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CCF0-8829-4C75-AC4B-2A18C73435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2A2C-0498-453A-8BD6-788913330B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E3F-E164-438B-8FB3-27B46C1466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942-42C2-4CC9-82A4-4C773C600DC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4" descr=""/>
          <p:cNvPicPr/>
          <p:nvPr/>
        </p:nvPicPr>
        <p:blipFill>
          <a:blip r:embed="rId1"/>
          <a:stretch/>
        </p:blipFill>
        <p:spPr>
          <a:xfrm>
            <a:off x="676440" y="1504800"/>
            <a:ext cx="79498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ческое значение сло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168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мак-мо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епро</a:t>
            </a:r>
            <a:r>
              <a:rPr b="1" i="1" lang="ru-RU" sz="2400" spc="-1" strike="noStrike">
                <a:solidFill>
                  <a:srgbClr val="1c4853"/>
                </a:solidFill>
                <a:latin typeface="Corbel"/>
              </a:rPr>
              <a:t>мо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ющий плащ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об</a:t>
            </a:r>
            <a:r>
              <a:rPr b="1" i="1" lang="ru-RU" sz="2400" spc="-1" strike="noStrike">
                <a:solidFill>
                  <a:srgbClr val="1c4853"/>
                </a:solidFill>
                <a:latin typeface="Corbel"/>
              </a:rPr>
              <a:t>ма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уть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ельмень в сметан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Мак - ЛЗ: обволакивать жидкость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Мок - ЛЗ: пропускать жидкость через себ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авн-ров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равн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яться с товарищем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вы</a:t>
            </a: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ровн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ть площад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Равн - ЛЗ: стать подобным другом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Ровн - ЛЗ: стать гладким, ров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Управляющая кнопка: назад 1">
            <a:hlinkClick r:id="rId1" action="ppaction://hlinksldjump"/>
          </p:cNvPr>
          <p:cNvSpPr/>
          <p:nvPr/>
        </p:nvSpPr>
        <p:spPr>
          <a:xfrm>
            <a:off x="378000" y="6072120"/>
            <a:ext cx="522000" cy="520920"/>
          </a:xfrm>
          <a:custGeom>
            <a:avLst/>
            <a:gdLst>
              <a:gd name="textAreaLeft" fmla="*/ 33480 w 522000"/>
              <a:gd name="textAreaRight" fmla="*/ 488520 w 52200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45" h="21600">
                <a:moveTo>
                  <a:pt x="0" y="0"/>
                </a:moveTo>
                <a:lnTo>
                  <a:pt x="21645" y="0"/>
                </a:lnTo>
                <a:lnTo>
                  <a:pt x="21645" y="21600"/>
                </a:lnTo>
                <a:lnTo>
                  <a:pt x="0" y="21600"/>
                </a:lnTo>
                <a:close/>
              </a:path>
              <a:path fill="lightenLess" w="21645" h="21600">
                <a:moveTo>
                  <a:pt x="0" y="0"/>
                </a:moveTo>
                <a:lnTo>
                  <a:pt x="21645" y="0"/>
                </a:lnTo>
                <a:lnTo>
                  <a:pt x="20245" y="1400"/>
                </a:lnTo>
                <a:lnTo>
                  <a:pt x="1400" y="1400"/>
                </a:lnTo>
                <a:close/>
              </a:path>
              <a:path fill="darken" w="21645" h="21600">
                <a:moveTo>
                  <a:pt x="21645" y="0"/>
                </a:moveTo>
                <a:lnTo>
                  <a:pt x="21645" y="21600"/>
                </a:lnTo>
                <a:lnTo>
                  <a:pt x="20245" y="20200"/>
                </a:lnTo>
                <a:lnTo>
                  <a:pt x="20245" y="1400"/>
                </a:lnTo>
                <a:close/>
              </a:path>
              <a:path fill="darkenLess" w="21645" h="21600">
                <a:moveTo>
                  <a:pt x="21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5" y="20200"/>
                </a:lnTo>
                <a:close/>
              </a:path>
              <a:path fill="lighten" w="21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5" h="21600">
                <a:moveTo>
                  <a:pt x="3816" y="10800"/>
                </a:moveTo>
                <a:lnTo>
                  <a:pt x="17829" y="3794"/>
                </a:lnTo>
                <a:lnTo>
                  <a:pt x="17829" y="1780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Управляющая кнопка: домой 2">
            <a:hlinkClick r:id="rId2" action="ppaction://hlinksldjump"/>
          </p:cNvPr>
          <p:cNvSpPr/>
          <p:nvPr/>
        </p:nvSpPr>
        <p:spPr>
          <a:xfrm>
            <a:off x="8288280" y="6072120"/>
            <a:ext cx="522360" cy="52092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2" y="14299"/>
                </a:lnTo>
                <a:lnTo>
                  <a:pt x="11752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fed46c">
              <a:alpha val="43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Прямая со стрелкой 4"/>
          <p:cNvCxnSpPr/>
          <p:nvPr/>
        </p:nvCxnSpPr>
        <p:spPr>
          <a:xfrm flipH="1">
            <a:off x="2050560" y="1557360"/>
            <a:ext cx="1442160" cy="504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2" name="Прямая со стрелкой 6"/>
          <p:cNvCxnSpPr/>
          <p:nvPr/>
        </p:nvCxnSpPr>
        <p:spPr>
          <a:xfrm>
            <a:off x="5866920" y="1557360"/>
            <a:ext cx="1226520" cy="504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1618920" y="4292640"/>
            <a:ext cx="1658160" cy="289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5867280" y="4292640"/>
            <a:ext cx="937440" cy="289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58960" y="692280"/>
            <a:ext cx="6927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ужно запомнить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2492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в-плов-плы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а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-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ц-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ы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Управляющая кнопка: назад 1">
            <a:hlinkClick r:id="rId1" action="ppaction://hlinksldjump"/>
          </p:cNvPr>
          <p:cNvSpPr/>
          <p:nvPr/>
        </p:nvSpPr>
        <p:spPr>
          <a:xfrm>
            <a:off x="468360" y="5932440"/>
            <a:ext cx="574560" cy="520920"/>
          </a:xfrm>
          <a:custGeom>
            <a:avLst/>
            <a:gdLst>
              <a:gd name="textAreaLeft" fmla="*/ 33480 w 574560"/>
              <a:gd name="textAreaRight" fmla="*/ 541080 w 574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3823" h="21600">
                <a:moveTo>
                  <a:pt x="0" y="0"/>
                </a:moveTo>
                <a:lnTo>
                  <a:pt x="23823" y="0"/>
                </a:lnTo>
                <a:lnTo>
                  <a:pt x="23823" y="21600"/>
                </a:lnTo>
                <a:lnTo>
                  <a:pt x="0" y="21600"/>
                </a:lnTo>
                <a:close/>
              </a:path>
              <a:path fill="lightenLess" w="23823" h="21600">
                <a:moveTo>
                  <a:pt x="0" y="0"/>
                </a:moveTo>
                <a:lnTo>
                  <a:pt x="23823" y="0"/>
                </a:lnTo>
                <a:lnTo>
                  <a:pt x="22423" y="1400"/>
                </a:lnTo>
                <a:lnTo>
                  <a:pt x="1400" y="1400"/>
                </a:lnTo>
                <a:close/>
              </a:path>
              <a:path fill="darken" w="23823" h="21600">
                <a:moveTo>
                  <a:pt x="23823" y="0"/>
                </a:moveTo>
                <a:lnTo>
                  <a:pt x="23823" y="21600"/>
                </a:lnTo>
                <a:lnTo>
                  <a:pt x="22423" y="20200"/>
                </a:lnTo>
                <a:lnTo>
                  <a:pt x="22423" y="1400"/>
                </a:lnTo>
                <a:close/>
              </a:path>
              <a:path fill="darkenLess" w="23823" h="21600">
                <a:moveTo>
                  <a:pt x="23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3" y="20200"/>
                </a:lnTo>
                <a:close/>
              </a:path>
              <a:path fill="lighten" w="23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3" h="21600">
                <a:moveTo>
                  <a:pt x="4905" y="10800"/>
                </a:moveTo>
                <a:lnTo>
                  <a:pt x="18918" y="3794"/>
                </a:lnTo>
                <a:lnTo>
                  <a:pt x="18918" y="17806"/>
                </a:lnTo>
                <a:close/>
              </a:path>
            </a:pathLst>
          </a:custGeom>
          <a:solidFill>
            <a:srgbClr val="fed46c">
              <a:alpha val="5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Управляющая кнопка: домой 2">
            <a:hlinkClick r:id="rId2" action="ppaction://hlinksldjump"/>
          </p:cNvPr>
          <p:cNvSpPr/>
          <p:nvPr/>
        </p:nvSpPr>
        <p:spPr>
          <a:xfrm>
            <a:off x="8199360" y="5932440"/>
            <a:ext cx="522360" cy="52092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2" y="14299"/>
                </a:lnTo>
                <a:lnTo>
                  <a:pt x="11752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Рисунок 3" descr=""/>
          <p:cNvPicPr/>
          <p:nvPr/>
        </p:nvPicPr>
        <p:blipFill>
          <a:blip r:embed="rId3"/>
          <a:stretch/>
        </p:blipFill>
        <p:spPr>
          <a:xfrm>
            <a:off x="738360" y="766800"/>
            <a:ext cx="14792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а-исключе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478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о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ть, со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ние, 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евать, изг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ь, выг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к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тв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л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ц, пл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чих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в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ислав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вщ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к, от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л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к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ок, ск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у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нина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сник, по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ну, у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н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Управляющая кнопка: назад 2">
            <a:hlinkClick r:id="rId1" action="ppaction://hlinksldjump"/>
          </p:cNvPr>
          <p:cNvSpPr/>
          <p:nvPr/>
        </p:nvSpPr>
        <p:spPr>
          <a:xfrm>
            <a:off x="422280" y="6021360"/>
            <a:ext cx="522360" cy="638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38280"/>
              <a:gd name="textAreaBottom" fmla="*/ 604440 h 638280"/>
            </a:gdLst>
            <a:ahLst/>
            <a:rect l="textAreaLeft" t="textAreaTop" r="textAreaRight" b="textAreaBottom"/>
            <a:pathLst>
              <a:path w="21600" h="26390">
                <a:moveTo>
                  <a:pt x="0" y="0"/>
                </a:moveTo>
                <a:lnTo>
                  <a:pt x="21600" y="0"/>
                </a:lnTo>
                <a:lnTo>
                  <a:pt x="21600" y="26390"/>
                </a:lnTo>
                <a:lnTo>
                  <a:pt x="0" y="26390"/>
                </a:lnTo>
                <a:close/>
              </a:path>
              <a:path fill="lightenLess" w="21600" h="263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0">
                <a:moveTo>
                  <a:pt x="21600" y="0"/>
                </a:moveTo>
                <a:lnTo>
                  <a:pt x="21600" y="26390"/>
                </a:lnTo>
                <a:lnTo>
                  <a:pt x="20200" y="24990"/>
                </a:lnTo>
                <a:lnTo>
                  <a:pt x="20200" y="1400"/>
                </a:lnTo>
                <a:close/>
              </a:path>
              <a:path fill="darkenLess" w="21600" h="26390">
                <a:moveTo>
                  <a:pt x="21600" y="26390"/>
                </a:moveTo>
                <a:lnTo>
                  <a:pt x="0" y="26390"/>
                </a:lnTo>
                <a:lnTo>
                  <a:pt x="1400" y="24990"/>
                </a:lnTo>
                <a:lnTo>
                  <a:pt x="20200" y="24990"/>
                </a:lnTo>
                <a:close/>
              </a:path>
              <a:path fill="lighten" w="21600" h="26390">
                <a:moveTo>
                  <a:pt x="0" y="263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0"/>
                </a:lnTo>
                <a:close/>
              </a:path>
              <a:path fill="darken" w="21600" h="26390">
                <a:moveTo>
                  <a:pt x="3794" y="13195"/>
                </a:moveTo>
                <a:lnTo>
                  <a:pt x="17806" y="6189"/>
                </a:lnTo>
                <a:lnTo>
                  <a:pt x="17806" y="20202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Управляющая кнопка: домой 3">
            <a:hlinkClick r:id="rId2" action="ppaction://hlinksldjump"/>
          </p:cNvPr>
          <p:cNvSpPr/>
          <p:nvPr/>
        </p:nvSpPr>
        <p:spPr>
          <a:xfrm>
            <a:off x="8459640" y="6021360"/>
            <a:ext cx="522360" cy="638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38280"/>
              <a:gd name="textAreaBottom" fmla="*/ 604440 h 638280"/>
            </a:gdLst>
            <a:ahLst/>
            <a:rect l="textAreaLeft" t="textAreaTop" r="textAreaRight" b="textAreaBottom"/>
            <a:pathLst>
              <a:path w="21600" h="26390">
                <a:moveTo>
                  <a:pt x="0" y="0"/>
                </a:moveTo>
                <a:lnTo>
                  <a:pt x="21600" y="0"/>
                </a:lnTo>
                <a:lnTo>
                  <a:pt x="21600" y="26390"/>
                </a:lnTo>
                <a:lnTo>
                  <a:pt x="0" y="26390"/>
                </a:lnTo>
                <a:close/>
              </a:path>
              <a:path fill="lightenLess" w="21600" h="263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0">
                <a:moveTo>
                  <a:pt x="21600" y="0"/>
                </a:moveTo>
                <a:lnTo>
                  <a:pt x="21600" y="26390"/>
                </a:lnTo>
                <a:lnTo>
                  <a:pt x="20200" y="24990"/>
                </a:lnTo>
                <a:lnTo>
                  <a:pt x="20200" y="1400"/>
                </a:lnTo>
                <a:close/>
              </a:path>
              <a:path fill="darkenLess" w="21600" h="26390">
                <a:moveTo>
                  <a:pt x="21600" y="26390"/>
                </a:moveTo>
                <a:lnTo>
                  <a:pt x="0" y="26390"/>
                </a:lnTo>
                <a:lnTo>
                  <a:pt x="1400" y="24990"/>
                </a:lnTo>
                <a:lnTo>
                  <a:pt x="20200" y="24990"/>
                </a:lnTo>
                <a:close/>
              </a:path>
              <a:path fill="lighten" w="21600" h="26390">
                <a:moveTo>
                  <a:pt x="0" y="263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0"/>
                </a:lnTo>
                <a:close/>
              </a:path>
              <a:path fill="darken" w="21600" h="26390">
                <a:moveTo>
                  <a:pt x="10800" y="6232"/>
                </a:moveTo>
                <a:lnTo>
                  <a:pt x="13376" y="8843"/>
                </a:lnTo>
                <a:lnTo>
                  <a:pt x="13376" y="7102"/>
                </a:lnTo>
                <a:lnTo>
                  <a:pt x="15152" y="7102"/>
                </a:lnTo>
                <a:lnTo>
                  <a:pt x="15152" y="10619"/>
                </a:lnTo>
                <a:lnTo>
                  <a:pt x="17763" y="13195"/>
                </a:lnTo>
                <a:lnTo>
                  <a:pt x="16109" y="13195"/>
                </a:lnTo>
                <a:lnTo>
                  <a:pt x="16109" y="20384"/>
                </a:lnTo>
                <a:lnTo>
                  <a:pt x="5491" y="20384"/>
                </a:lnTo>
                <a:lnTo>
                  <a:pt x="5491" y="13195"/>
                </a:lnTo>
                <a:lnTo>
                  <a:pt x="3837" y="13195"/>
                </a:lnTo>
                <a:close/>
              </a:path>
              <a:path fill="darkenLess" w="21600" h="26390">
                <a:moveTo>
                  <a:pt x="13376" y="8843"/>
                </a:moveTo>
                <a:lnTo>
                  <a:pt x="13376" y="7102"/>
                </a:lnTo>
                <a:lnTo>
                  <a:pt x="15152" y="7102"/>
                </a:lnTo>
                <a:lnTo>
                  <a:pt x="15152" y="10619"/>
                </a:lnTo>
                <a:close/>
              </a:path>
              <a:path fill="darkenLess" w="21600" h="26390">
                <a:moveTo>
                  <a:pt x="9877" y="16694"/>
                </a:moveTo>
                <a:lnTo>
                  <a:pt x="11723" y="16694"/>
                </a:lnTo>
                <a:lnTo>
                  <a:pt x="11723" y="20384"/>
                </a:lnTo>
                <a:lnTo>
                  <a:pt x="16109" y="20384"/>
                </a:lnTo>
                <a:lnTo>
                  <a:pt x="16109" y="13195"/>
                </a:lnTo>
                <a:lnTo>
                  <a:pt x="5491" y="13195"/>
                </a:lnTo>
                <a:lnTo>
                  <a:pt x="5491" y="20384"/>
                </a:lnTo>
                <a:lnTo>
                  <a:pt x="9877" y="20384"/>
                </a:lnTo>
                <a:close/>
              </a:path>
            </a:pathLst>
          </a:custGeom>
          <a:solidFill>
            <a:srgbClr val="fed46c">
              <a:alpha val="52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75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75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5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2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4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888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ь себя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4360" y="1305000"/>
            <a:ext cx="6659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т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ть кра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сти к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атель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м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рающие живот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ль промышлен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бл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 action="ppaction://hlinksldjump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тел на солнц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к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чу навстречу друг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р(А/О)вняться в стро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тв(А/О)рение ми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Управляющая кнопка: домой 1"/>
          <p:cNvSpPr/>
          <p:nvPr/>
        </p:nvSpPr>
        <p:spPr>
          <a:xfrm>
            <a:off x="8213760" y="5950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Управляющая кнопка: далее 2"/>
          <p:cNvSpPr/>
          <p:nvPr/>
        </p:nvSpPr>
        <p:spPr>
          <a:xfrm>
            <a:off x="457200" y="6056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d46c">
              <a:alpha val="52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Прямоугольник 3" descr=""/>
          <p:cNvPicPr/>
          <p:nvPr/>
        </p:nvPicPr>
        <p:blipFill>
          <a:blip r:embed="rId13"/>
          <a:stretch/>
        </p:blipFill>
        <p:spPr>
          <a:xfrm>
            <a:off x="2030400" y="-2700360"/>
            <a:ext cx="11393640" cy="1011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9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ильный ответ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0" name="ura.mp3" descr=""/>
          <p:cNvPicPr/>
          <p:nvPr/>
        </p:nvPicPr>
        <p:blipFill>
          <a:blip r:embed="rId1"/>
          <a:stretch/>
        </p:blipFill>
        <p:spPr>
          <a:xfrm>
            <a:off x="774720" y="5896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" descr=""/>
          <p:cNvPicPr/>
          <p:nvPr/>
        </p:nvPicPr>
        <p:blipFill>
          <a:blip r:embed="rId2"/>
          <a:stretch/>
        </p:blipFill>
        <p:spPr>
          <a:xfrm>
            <a:off x="1542960" y="2766960"/>
            <a:ext cx="6053400" cy="153684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назад 4"/>
          <p:cNvSpPr/>
          <p:nvPr/>
        </p:nvSpPr>
        <p:spPr>
          <a:xfrm>
            <a:off x="1403280" y="5724360"/>
            <a:ext cx="669960" cy="520920"/>
          </a:xfrm>
          <a:custGeom>
            <a:avLst/>
            <a:gdLst>
              <a:gd name="textAreaLeft" fmla="*/ 33480 w 669960"/>
              <a:gd name="textAreaRight" fmla="*/ 636480 w 6699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7776" h="21600">
                <a:moveTo>
                  <a:pt x="0" y="0"/>
                </a:moveTo>
                <a:lnTo>
                  <a:pt x="27776" y="0"/>
                </a:lnTo>
                <a:lnTo>
                  <a:pt x="27776" y="21600"/>
                </a:lnTo>
                <a:lnTo>
                  <a:pt x="0" y="21600"/>
                </a:lnTo>
                <a:close/>
              </a:path>
              <a:path fill="lightenLess" w="27776" h="21600">
                <a:moveTo>
                  <a:pt x="0" y="0"/>
                </a:moveTo>
                <a:lnTo>
                  <a:pt x="27776" y="0"/>
                </a:lnTo>
                <a:lnTo>
                  <a:pt x="26376" y="1400"/>
                </a:lnTo>
                <a:lnTo>
                  <a:pt x="1400" y="1400"/>
                </a:lnTo>
                <a:close/>
              </a:path>
              <a:path fill="darken" w="27776" h="21600">
                <a:moveTo>
                  <a:pt x="27776" y="0"/>
                </a:moveTo>
                <a:lnTo>
                  <a:pt x="27776" y="21600"/>
                </a:lnTo>
                <a:lnTo>
                  <a:pt x="26376" y="20200"/>
                </a:lnTo>
                <a:lnTo>
                  <a:pt x="26376" y="1400"/>
                </a:lnTo>
                <a:close/>
              </a:path>
              <a:path fill="darkenLess" w="27776" h="21600">
                <a:moveTo>
                  <a:pt x="2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6" y="20200"/>
                </a:lnTo>
                <a:close/>
              </a:path>
              <a:path fill="lighten" w="2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6" h="21600">
                <a:moveTo>
                  <a:pt x="6881" y="10800"/>
                </a:moveTo>
                <a:lnTo>
                  <a:pt x="20894" y="3794"/>
                </a:lnTo>
                <a:lnTo>
                  <a:pt x="20894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297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шибка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Грус2506.wav" descr=""/>
          <p:cNvPicPr/>
          <p:nvPr/>
        </p:nvPicPr>
        <p:blipFill>
          <a:blip r:embed="rId1"/>
          <a:stretch/>
        </p:blipFill>
        <p:spPr>
          <a:xfrm>
            <a:off x="760320" y="599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" descr=""/>
          <p:cNvPicPr/>
          <p:nvPr/>
        </p:nvPicPr>
        <p:blipFill>
          <a:blip r:embed="rId2"/>
          <a:stretch/>
        </p:blipFill>
        <p:spPr>
          <a:xfrm>
            <a:off x="506520" y="2262240"/>
            <a:ext cx="8107200" cy="1285920"/>
          </a:xfrm>
          <a:prstGeom prst="rect">
            <a:avLst/>
          </a:prstGeom>
          <a:ln w="0">
            <a:noFill/>
          </a:ln>
        </p:spPr>
      </p:pic>
      <p:sp>
        <p:nvSpPr>
          <p:cNvPr id="396" name="Управляющая кнопка: назад 2"/>
          <p:cNvSpPr/>
          <p:nvPr/>
        </p:nvSpPr>
        <p:spPr>
          <a:xfrm>
            <a:off x="1403280" y="5877000"/>
            <a:ext cx="522360" cy="530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30280"/>
              <a:gd name="textAreaBottom" fmla="*/ 496440 h 530280"/>
            </a:gdLst>
            <a:ahLst/>
            <a:rect l="textAreaLeft" t="textAreaTop" r="textAreaRight" b="textAreaBottom"/>
            <a:pathLst>
              <a:path w="21600" h="21927">
                <a:moveTo>
                  <a:pt x="0" y="0"/>
                </a:moveTo>
                <a:lnTo>
                  <a:pt x="21600" y="0"/>
                </a:lnTo>
                <a:lnTo>
                  <a:pt x="21600" y="21927"/>
                </a:lnTo>
                <a:lnTo>
                  <a:pt x="0" y="21927"/>
                </a:lnTo>
                <a:close/>
              </a:path>
              <a:path fill="lightenLess" w="21600" h="219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27">
                <a:moveTo>
                  <a:pt x="21600" y="0"/>
                </a:moveTo>
                <a:lnTo>
                  <a:pt x="21600" y="21927"/>
                </a:lnTo>
                <a:lnTo>
                  <a:pt x="20200" y="20527"/>
                </a:lnTo>
                <a:lnTo>
                  <a:pt x="20200" y="1400"/>
                </a:lnTo>
                <a:close/>
              </a:path>
              <a:path fill="darkenLess" w="21600" h="21927">
                <a:moveTo>
                  <a:pt x="21600" y="21927"/>
                </a:moveTo>
                <a:lnTo>
                  <a:pt x="0" y="21927"/>
                </a:lnTo>
                <a:lnTo>
                  <a:pt x="1400" y="20527"/>
                </a:lnTo>
                <a:lnTo>
                  <a:pt x="20200" y="20527"/>
                </a:lnTo>
                <a:close/>
              </a:path>
              <a:path fill="lighten" w="21600" h="21927">
                <a:moveTo>
                  <a:pt x="0" y="219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27"/>
                </a:lnTo>
                <a:close/>
              </a:path>
              <a:path fill="darken" w="21600" h="21927">
                <a:moveTo>
                  <a:pt x="3794" y="10964"/>
                </a:moveTo>
                <a:lnTo>
                  <a:pt x="17806" y="3957"/>
                </a:lnTo>
                <a:lnTo>
                  <a:pt x="17806" y="17970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шите текст, вставьте пропущенные букв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37960" y="18572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 весна, как и прежде, уб   рала красой земл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нег падает, мелькает, вьется, л   жится пелен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Белый пар по лугам расст   ла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ам гаснет огонь машины и заж   гается другой, огонь очага или ками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Он писал, что ум   рает спокойно, потому что жалеть неч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стали зори ясные, оз   ряя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чера без толку просидел весь день над попл  в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угом далекая р   внина да толпы обг    релых пн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341960" y="18622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5535720" y="32446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4519800" y="27828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133080" y="40179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3935520" y="4835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7199280" y="5219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223440" y="5759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6420960" y="574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12"/>
          <p:cNvSpPr/>
          <p:nvPr/>
        </p:nvSpPr>
        <p:spPr>
          <a:xfrm>
            <a:off x="5586480" y="2324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611280" y="61786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Управляющая кнопка: домой 2"/>
          <p:cNvSpPr/>
          <p:nvPr/>
        </p:nvSpPr>
        <p:spPr>
          <a:xfrm>
            <a:off x="8191440" y="6156360"/>
            <a:ext cx="522360" cy="56520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65200"/>
              <a:gd name="textAreaBottom" fmla="*/ 531360 h 565200"/>
            </a:gdLst>
            <a:ahLst/>
            <a:rect l="textAreaLeft" t="textAreaTop" r="textAreaRight" b="textAreaBottom"/>
            <a:pathLst>
              <a:path w="21600" h="23370">
                <a:moveTo>
                  <a:pt x="0" y="0"/>
                </a:moveTo>
                <a:lnTo>
                  <a:pt x="21600" y="0"/>
                </a:lnTo>
                <a:lnTo>
                  <a:pt x="21600" y="23370"/>
                </a:lnTo>
                <a:lnTo>
                  <a:pt x="0" y="23370"/>
                </a:lnTo>
                <a:close/>
              </a:path>
              <a:path fill="lightenLess" w="21600" h="233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0">
                <a:moveTo>
                  <a:pt x="21600" y="0"/>
                </a:moveTo>
                <a:lnTo>
                  <a:pt x="21600" y="23370"/>
                </a:lnTo>
                <a:lnTo>
                  <a:pt x="20200" y="21970"/>
                </a:lnTo>
                <a:lnTo>
                  <a:pt x="20200" y="1400"/>
                </a:lnTo>
                <a:close/>
              </a:path>
              <a:path fill="darkenLess" w="21600" h="23370">
                <a:moveTo>
                  <a:pt x="21600" y="23370"/>
                </a:moveTo>
                <a:lnTo>
                  <a:pt x="0" y="23370"/>
                </a:lnTo>
                <a:lnTo>
                  <a:pt x="1400" y="21970"/>
                </a:lnTo>
                <a:lnTo>
                  <a:pt x="20200" y="21970"/>
                </a:lnTo>
                <a:close/>
              </a:path>
              <a:path fill="lighten" w="21600" h="23370">
                <a:moveTo>
                  <a:pt x="0" y="233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0"/>
                </a:lnTo>
                <a:close/>
              </a:path>
              <a:path fill="darken" w="21600" h="23370">
                <a:moveTo>
                  <a:pt x="10800" y="4722"/>
                </a:moveTo>
                <a:lnTo>
                  <a:pt x="13376" y="7333"/>
                </a:lnTo>
                <a:lnTo>
                  <a:pt x="13376" y="5593"/>
                </a:lnTo>
                <a:lnTo>
                  <a:pt x="15152" y="5593"/>
                </a:lnTo>
                <a:lnTo>
                  <a:pt x="15152" y="9109"/>
                </a:lnTo>
                <a:lnTo>
                  <a:pt x="17763" y="11685"/>
                </a:lnTo>
                <a:lnTo>
                  <a:pt x="16109" y="11685"/>
                </a:lnTo>
                <a:lnTo>
                  <a:pt x="16109" y="18874"/>
                </a:lnTo>
                <a:lnTo>
                  <a:pt x="5491" y="18874"/>
                </a:lnTo>
                <a:lnTo>
                  <a:pt x="5491" y="11685"/>
                </a:lnTo>
                <a:lnTo>
                  <a:pt x="3837" y="11685"/>
                </a:lnTo>
                <a:close/>
              </a:path>
              <a:path fill="darkenLess" w="21600" h="23370">
                <a:moveTo>
                  <a:pt x="13376" y="7333"/>
                </a:moveTo>
                <a:lnTo>
                  <a:pt x="13376" y="5593"/>
                </a:lnTo>
                <a:lnTo>
                  <a:pt x="15152" y="5593"/>
                </a:lnTo>
                <a:lnTo>
                  <a:pt x="15152" y="9109"/>
                </a:lnTo>
                <a:close/>
              </a:path>
              <a:path fill="darkenLess" w="21600" h="23370">
                <a:moveTo>
                  <a:pt x="9877" y="15184"/>
                </a:moveTo>
                <a:lnTo>
                  <a:pt x="11723" y="15184"/>
                </a:lnTo>
                <a:lnTo>
                  <a:pt x="11723" y="18874"/>
                </a:lnTo>
                <a:lnTo>
                  <a:pt x="16109" y="18874"/>
                </a:lnTo>
                <a:lnTo>
                  <a:pt x="16109" y="11685"/>
                </a:lnTo>
                <a:lnTo>
                  <a:pt x="5491" y="11685"/>
                </a:lnTo>
                <a:lnTo>
                  <a:pt x="5491" y="18874"/>
                </a:lnTo>
                <a:lnTo>
                  <a:pt x="9877" y="18874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0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1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35e01"/>
                </a:solidFill>
                <a:latin typeface="Corbel"/>
              </a:rPr>
              <a:t>Содерж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Определение чер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Чередования в русском язы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Из истории язы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Условия чер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Слова-исключ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Тренажер «Проверь себя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 action="ppaction://hlinksldjump"/>
              </a:rPr>
              <a:t>Упражнение на закрепл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 action="ppaction://hlinksldjump"/>
              </a:rPr>
              <a:t>Использованные материа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258920" y="61102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39640" y="6110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е 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языковое явление, при котором написание слов отличается при сохранении общего лексического значения однокоренных слов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Е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К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-РЕ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Ч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НОЙ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К//Ч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ЗАП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-ОТП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АТЬ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Е//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631800" y="6021360"/>
            <a:ext cx="574560" cy="520560"/>
          </a:xfrm>
          <a:custGeom>
            <a:avLst/>
            <a:gdLst>
              <a:gd name="textAreaLeft" fmla="*/ 33480 w 574560"/>
              <a:gd name="textAreaRight" fmla="*/ 541080 w 574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3839" h="21600">
                <a:moveTo>
                  <a:pt x="0" y="0"/>
                </a:moveTo>
                <a:lnTo>
                  <a:pt x="23839" y="0"/>
                </a:lnTo>
                <a:lnTo>
                  <a:pt x="23839" y="21600"/>
                </a:lnTo>
                <a:lnTo>
                  <a:pt x="0" y="21600"/>
                </a:lnTo>
                <a:close/>
              </a:path>
              <a:path fill="lightenLess" w="23839" h="21600">
                <a:moveTo>
                  <a:pt x="0" y="0"/>
                </a:moveTo>
                <a:lnTo>
                  <a:pt x="23839" y="0"/>
                </a:lnTo>
                <a:lnTo>
                  <a:pt x="22439" y="1400"/>
                </a:lnTo>
                <a:lnTo>
                  <a:pt x="1400" y="1400"/>
                </a:lnTo>
                <a:close/>
              </a:path>
              <a:path fill="darken" w="23839" h="21600">
                <a:moveTo>
                  <a:pt x="23839" y="0"/>
                </a:moveTo>
                <a:lnTo>
                  <a:pt x="23839" y="21600"/>
                </a:lnTo>
                <a:lnTo>
                  <a:pt x="22439" y="20200"/>
                </a:lnTo>
                <a:lnTo>
                  <a:pt x="22439" y="1400"/>
                </a:lnTo>
                <a:close/>
              </a:path>
              <a:path fill="darkenLess" w="23839" h="21600">
                <a:moveTo>
                  <a:pt x="2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9" y="20200"/>
                </a:lnTo>
                <a:close/>
              </a:path>
              <a:path fill="lighten" w="2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9" h="21600">
                <a:moveTo>
                  <a:pt x="4913" y="10800"/>
                </a:moveTo>
                <a:lnTo>
                  <a:pt x="18926" y="3794"/>
                </a:lnTo>
                <a:lnTo>
                  <a:pt x="18926" y="1780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512720" y="602136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5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Управляющая кнопка: домой 3">
            <a:hlinkClick r:id="rId1" action="ppaction://hlinksldjump"/>
          </p:cNvPr>
          <p:cNvSpPr/>
          <p:nvPr/>
        </p:nvSpPr>
        <p:spPr>
          <a:xfrm>
            <a:off x="8028000" y="602136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10837" y="3837"/>
                </a:moveTo>
                <a:lnTo>
                  <a:pt x="13414" y="6448"/>
                </a:ln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lnTo>
                  <a:pt x="17800" y="10800"/>
                </a:lnTo>
                <a:lnTo>
                  <a:pt x="16147" y="10800"/>
                </a:lnTo>
                <a:lnTo>
                  <a:pt x="16147" y="17989"/>
                </a:lnTo>
                <a:lnTo>
                  <a:pt x="5528" y="17989"/>
                </a:lnTo>
                <a:lnTo>
                  <a:pt x="5528" y="10800"/>
                </a:lnTo>
                <a:lnTo>
                  <a:pt x="3874" y="10800"/>
                </a:lnTo>
                <a:close/>
              </a:path>
              <a:path fill="darkenLess" w="21675" h="21600">
                <a:moveTo>
                  <a:pt x="13414" y="6448"/>
                </a:move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close/>
              </a:path>
              <a:path fill="darkenLess" w="21675" h="21600">
                <a:moveTo>
                  <a:pt x="9915" y="14299"/>
                </a:moveTo>
                <a:lnTo>
                  <a:pt x="11760" y="14299"/>
                </a:lnTo>
                <a:lnTo>
                  <a:pt x="11760" y="17989"/>
                </a:lnTo>
                <a:lnTo>
                  <a:pt x="16147" y="17989"/>
                </a:lnTo>
                <a:lnTo>
                  <a:pt x="16147" y="10800"/>
                </a:lnTo>
                <a:lnTo>
                  <a:pt x="5528" y="10800"/>
                </a:lnTo>
                <a:lnTo>
                  <a:pt x="5528" y="17989"/>
                </a:lnTo>
                <a:lnTo>
                  <a:pt x="9915" y="17989"/>
                </a:lnTo>
                <a:close/>
              </a:path>
            </a:pathLst>
          </a:custGeom>
          <a:solidFill>
            <a:srgbClr val="fed46c"/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я </a:t>
            </a: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 русском язы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66720" y="24048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н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с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4"/>
          <p:cNvCxnSpPr/>
          <p:nvPr/>
        </p:nvCxnSpPr>
        <p:spPr>
          <a:xfrm flipH="1">
            <a:off x="2118960" y="1222200"/>
            <a:ext cx="1224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6"/>
          <p:cNvCxnSpPr/>
          <p:nvPr/>
        </p:nvCxnSpPr>
        <p:spPr>
          <a:xfrm>
            <a:off x="5526000" y="1250640"/>
            <a:ext cx="93744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32" name="TextBox 1" descr=""/>
          <p:cNvPicPr/>
          <p:nvPr/>
        </p:nvPicPr>
        <p:blipFill>
          <a:blip r:embed="rId2"/>
          <a:stretch/>
        </p:blipFill>
        <p:spPr>
          <a:xfrm>
            <a:off x="646200" y="3017880"/>
            <a:ext cx="3919320" cy="273672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3" descr=""/>
          <p:cNvPicPr/>
          <p:nvPr/>
        </p:nvPicPr>
        <p:blipFill>
          <a:blip r:embed="rId3"/>
          <a:stretch/>
        </p:blipFill>
        <p:spPr>
          <a:xfrm>
            <a:off x="4687920" y="3164040"/>
            <a:ext cx="3992400" cy="2730240"/>
          </a:xfrm>
          <a:prstGeom prst="rect">
            <a:avLst/>
          </a:prstGeom>
          <a:ln w="0">
            <a:noFill/>
          </a:ln>
        </p:spPr>
      </p:pic>
      <p:sp>
        <p:nvSpPr>
          <p:cNvPr id="33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484200" y="6013440"/>
            <a:ext cx="522360" cy="6015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01560"/>
              <a:gd name="textAreaBottom" fmla="*/ 567720 h 601560"/>
            </a:gdLst>
            <a:ahLst/>
            <a:rect l="textAreaLeft" t="textAreaTop" r="textAreaRight" b="textAreaBottom"/>
            <a:pathLst>
              <a:path w="21600" h="24873">
                <a:moveTo>
                  <a:pt x="0" y="0"/>
                </a:moveTo>
                <a:lnTo>
                  <a:pt x="21600" y="0"/>
                </a:lnTo>
                <a:lnTo>
                  <a:pt x="21600" y="24873"/>
                </a:lnTo>
                <a:lnTo>
                  <a:pt x="0" y="24873"/>
                </a:lnTo>
                <a:close/>
              </a:path>
              <a:path fill="lightenLess" w="21600" h="248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3">
                <a:moveTo>
                  <a:pt x="21600" y="0"/>
                </a:moveTo>
                <a:lnTo>
                  <a:pt x="21600" y="24873"/>
                </a:lnTo>
                <a:lnTo>
                  <a:pt x="20200" y="23473"/>
                </a:lnTo>
                <a:lnTo>
                  <a:pt x="20200" y="1400"/>
                </a:lnTo>
                <a:close/>
              </a:path>
              <a:path fill="darkenLess" w="21600" h="24873">
                <a:moveTo>
                  <a:pt x="21600" y="24873"/>
                </a:moveTo>
                <a:lnTo>
                  <a:pt x="0" y="24873"/>
                </a:lnTo>
                <a:lnTo>
                  <a:pt x="1400" y="23473"/>
                </a:lnTo>
                <a:lnTo>
                  <a:pt x="20200" y="23473"/>
                </a:lnTo>
                <a:close/>
              </a:path>
              <a:path fill="lighten" w="21600" h="24873">
                <a:moveTo>
                  <a:pt x="0" y="248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3"/>
                </a:lnTo>
                <a:close/>
              </a:path>
              <a:path fill="darken" w="21600" h="24873">
                <a:moveTo>
                  <a:pt x="3794" y="12436"/>
                </a:moveTo>
                <a:lnTo>
                  <a:pt x="17806" y="5430"/>
                </a:lnTo>
                <a:lnTo>
                  <a:pt x="17806" y="19443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235160" y="6013440"/>
            <a:ext cx="520560" cy="601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1560"/>
              <a:gd name="textAreaBottom" fmla="*/ 568080 h 601560"/>
            </a:gdLst>
            <a:ahLst/>
            <a:rect l="textAreaLeft" t="textAreaTop" r="textAreaRight" b="textAreaBottom"/>
            <a:pathLst>
              <a:path w="21600" h="24959">
                <a:moveTo>
                  <a:pt x="0" y="0"/>
                </a:moveTo>
                <a:lnTo>
                  <a:pt x="21600" y="0"/>
                </a:lnTo>
                <a:lnTo>
                  <a:pt x="21600" y="24959"/>
                </a:lnTo>
                <a:lnTo>
                  <a:pt x="0" y="24959"/>
                </a:lnTo>
                <a:close/>
              </a:path>
              <a:path fill="lightenLess" w="21600" h="249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59">
                <a:moveTo>
                  <a:pt x="21600" y="0"/>
                </a:moveTo>
                <a:lnTo>
                  <a:pt x="21600" y="24959"/>
                </a:lnTo>
                <a:lnTo>
                  <a:pt x="20200" y="23559"/>
                </a:lnTo>
                <a:lnTo>
                  <a:pt x="20200" y="1400"/>
                </a:lnTo>
                <a:close/>
              </a:path>
              <a:path fill="darkenLess" w="21600" h="24959">
                <a:moveTo>
                  <a:pt x="21600" y="24959"/>
                </a:moveTo>
                <a:lnTo>
                  <a:pt x="0" y="24959"/>
                </a:lnTo>
                <a:lnTo>
                  <a:pt x="1400" y="23559"/>
                </a:lnTo>
                <a:lnTo>
                  <a:pt x="20200" y="23559"/>
                </a:lnTo>
                <a:close/>
              </a:path>
              <a:path fill="lighten" w="21600" h="24959">
                <a:moveTo>
                  <a:pt x="0" y="249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59"/>
                </a:lnTo>
                <a:close/>
              </a:path>
              <a:path fill="darken" w="21600" h="24959">
                <a:moveTo>
                  <a:pt x="3794" y="5473"/>
                </a:moveTo>
                <a:lnTo>
                  <a:pt x="17806" y="12479"/>
                </a:lnTo>
                <a:lnTo>
                  <a:pt x="3794" y="19486"/>
                </a:lnTo>
                <a:close/>
              </a:path>
            </a:pathLst>
          </a:custGeom>
          <a:solidFill>
            <a:srgbClr val="fed46c">
              <a:alpha val="53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Управляющая кнопка: домой 8">
            <a:hlinkClick r:id="rId4" action="ppaction://hlinksldjump"/>
          </p:cNvPr>
          <p:cNvSpPr/>
          <p:nvPr/>
        </p:nvSpPr>
        <p:spPr>
          <a:xfrm>
            <a:off x="8083440" y="5918040"/>
            <a:ext cx="520920" cy="6969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96960"/>
              <a:gd name="textAreaBottom" fmla="*/ 663480 h 696960"/>
            </a:gdLst>
            <a:ahLst/>
            <a:rect l="textAreaLeft" t="textAreaTop" r="textAreaRight" b="textAreaBottom"/>
            <a:pathLst>
              <a:path w="21600" h="28894">
                <a:moveTo>
                  <a:pt x="0" y="0"/>
                </a:moveTo>
                <a:lnTo>
                  <a:pt x="21600" y="0"/>
                </a:lnTo>
                <a:lnTo>
                  <a:pt x="21600" y="28894"/>
                </a:lnTo>
                <a:lnTo>
                  <a:pt x="0" y="28894"/>
                </a:lnTo>
                <a:close/>
              </a:path>
              <a:path fill="lightenLess" w="21600" h="28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4">
                <a:moveTo>
                  <a:pt x="21600" y="0"/>
                </a:moveTo>
                <a:lnTo>
                  <a:pt x="21600" y="28894"/>
                </a:lnTo>
                <a:lnTo>
                  <a:pt x="20200" y="27494"/>
                </a:lnTo>
                <a:lnTo>
                  <a:pt x="20200" y="1400"/>
                </a:lnTo>
                <a:close/>
              </a:path>
              <a:path fill="darkenLess" w="21600" h="28894">
                <a:moveTo>
                  <a:pt x="21600" y="28894"/>
                </a:moveTo>
                <a:lnTo>
                  <a:pt x="0" y="28894"/>
                </a:lnTo>
                <a:lnTo>
                  <a:pt x="1400" y="27494"/>
                </a:lnTo>
                <a:lnTo>
                  <a:pt x="20200" y="27494"/>
                </a:lnTo>
                <a:close/>
              </a:path>
              <a:path fill="lighten" w="21600" h="28894">
                <a:moveTo>
                  <a:pt x="0" y="28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4"/>
                </a:lnTo>
                <a:close/>
              </a:path>
              <a:path fill="darken" w="21600" h="28894">
                <a:moveTo>
                  <a:pt x="10800" y="7484"/>
                </a:moveTo>
                <a:lnTo>
                  <a:pt x="13376" y="10095"/>
                </a:lnTo>
                <a:lnTo>
                  <a:pt x="13376" y="8355"/>
                </a:lnTo>
                <a:lnTo>
                  <a:pt x="15152" y="8355"/>
                </a:lnTo>
                <a:lnTo>
                  <a:pt x="15152" y="11871"/>
                </a:lnTo>
                <a:lnTo>
                  <a:pt x="17763" y="14447"/>
                </a:lnTo>
                <a:lnTo>
                  <a:pt x="16109" y="14447"/>
                </a:lnTo>
                <a:lnTo>
                  <a:pt x="16109" y="21636"/>
                </a:lnTo>
                <a:lnTo>
                  <a:pt x="5491" y="21636"/>
                </a:lnTo>
                <a:lnTo>
                  <a:pt x="5491" y="14447"/>
                </a:lnTo>
                <a:lnTo>
                  <a:pt x="3837" y="14447"/>
                </a:lnTo>
                <a:close/>
              </a:path>
              <a:path fill="darkenLess" w="21600" h="28894">
                <a:moveTo>
                  <a:pt x="13376" y="10095"/>
                </a:moveTo>
                <a:lnTo>
                  <a:pt x="13376" y="8355"/>
                </a:lnTo>
                <a:lnTo>
                  <a:pt x="15152" y="8355"/>
                </a:lnTo>
                <a:lnTo>
                  <a:pt x="15152" y="11871"/>
                </a:lnTo>
                <a:close/>
              </a:path>
              <a:path fill="darkenLess" w="21600" h="28894">
                <a:moveTo>
                  <a:pt x="9877" y="17946"/>
                </a:moveTo>
                <a:lnTo>
                  <a:pt x="11723" y="17946"/>
                </a:lnTo>
                <a:lnTo>
                  <a:pt x="11723" y="21636"/>
                </a:lnTo>
                <a:lnTo>
                  <a:pt x="16109" y="21636"/>
                </a:lnTo>
                <a:lnTo>
                  <a:pt x="16109" y="14447"/>
                </a:lnTo>
                <a:lnTo>
                  <a:pt x="5491" y="14447"/>
                </a:lnTo>
                <a:lnTo>
                  <a:pt x="5491" y="21636"/>
                </a:lnTo>
                <a:lnTo>
                  <a:pt x="9877" y="2163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*Из  истории язы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24000" y="90792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ередования   согласных и гласных    возникли   в праславянском   языке  с </a:t>
            </a:r>
            <a:r>
              <a:rPr b="1" i="1" lang="ru-RU" sz="2800" spc="-1" strike="noStrike">
                <a:solidFill>
                  <a:srgbClr val="27130e"/>
                </a:solidFill>
                <a:latin typeface="Corbel"/>
              </a:rPr>
              <a:t>падением редуцированных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 Действием закона </a:t>
            </a:r>
            <a:r>
              <a:rPr b="1" i="1" lang="ru-RU" sz="2800" spc="-1" strike="noStrike">
                <a:solidFill>
                  <a:srgbClr val="27130e"/>
                </a:solidFill>
                <a:latin typeface="Corbel"/>
              </a:rPr>
              <a:t>палатализации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в праславянскую  эпоху   обусловлены     следующие современные чередова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 палатализация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//Ч;Г//Ж;Х//Ш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ру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а-ру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ч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I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//Ц;Г//З;Х//Ц 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Б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г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-в Б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з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II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//Ц;Г//З  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кня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з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ь-кня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г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иня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V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//БЛ;В//ВЛ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л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в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ить-л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вл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468360" y="5973840"/>
            <a:ext cx="522360" cy="5223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5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332000" y="5979960"/>
            <a:ext cx="520560" cy="5209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Управляющая кнопка: домой 3">
            <a:hlinkClick r:id="rId1" action="ppaction://hlinksldjump"/>
          </p:cNvPr>
          <p:cNvSpPr/>
          <p:nvPr/>
        </p:nvSpPr>
        <p:spPr>
          <a:xfrm>
            <a:off x="8244000" y="5904000"/>
            <a:ext cx="522000" cy="66672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666720"/>
              <a:gd name="textAreaBottom" fmla="*/ 632880 h 666720"/>
            </a:gdLst>
            <a:ahLst/>
            <a:rect l="textAreaLeft" t="textAreaTop" r="textAreaRight" b="textAreaBottom"/>
            <a:pathLst>
              <a:path w="21600" h="27584">
                <a:moveTo>
                  <a:pt x="0" y="0"/>
                </a:moveTo>
                <a:lnTo>
                  <a:pt x="21600" y="0"/>
                </a:lnTo>
                <a:lnTo>
                  <a:pt x="21600" y="27584"/>
                </a:lnTo>
                <a:lnTo>
                  <a:pt x="0" y="27584"/>
                </a:lnTo>
                <a:close/>
              </a:path>
              <a:path fill="lightenLess" w="21600" h="275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84">
                <a:moveTo>
                  <a:pt x="21600" y="0"/>
                </a:moveTo>
                <a:lnTo>
                  <a:pt x="21600" y="27584"/>
                </a:lnTo>
                <a:lnTo>
                  <a:pt x="20200" y="26184"/>
                </a:lnTo>
                <a:lnTo>
                  <a:pt x="20200" y="1400"/>
                </a:lnTo>
                <a:close/>
              </a:path>
              <a:path fill="darkenLess" w="21600" h="27584">
                <a:moveTo>
                  <a:pt x="21600" y="27584"/>
                </a:moveTo>
                <a:lnTo>
                  <a:pt x="0" y="27584"/>
                </a:lnTo>
                <a:lnTo>
                  <a:pt x="1400" y="26184"/>
                </a:lnTo>
                <a:lnTo>
                  <a:pt x="20200" y="26184"/>
                </a:lnTo>
                <a:close/>
              </a:path>
              <a:path fill="lighten" w="21600" h="27584">
                <a:moveTo>
                  <a:pt x="0" y="275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84"/>
                </a:lnTo>
                <a:close/>
              </a:path>
              <a:path fill="darken" w="21600" h="27584">
                <a:moveTo>
                  <a:pt x="10800" y="6829"/>
                </a:moveTo>
                <a:lnTo>
                  <a:pt x="13376" y="9440"/>
                </a:lnTo>
                <a:lnTo>
                  <a:pt x="13376" y="7700"/>
                </a:lnTo>
                <a:lnTo>
                  <a:pt x="15152" y="7700"/>
                </a:lnTo>
                <a:lnTo>
                  <a:pt x="15152" y="11216"/>
                </a:lnTo>
                <a:lnTo>
                  <a:pt x="17763" y="13792"/>
                </a:lnTo>
                <a:lnTo>
                  <a:pt x="16109" y="13792"/>
                </a:lnTo>
                <a:lnTo>
                  <a:pt x="16109" y="20981"/>
                </a:lnTo>
                <a:lnTo>
                  <a:pt x="5491" y="20981"/>
                </a:lnTo>
                <a:lnTo>
                  <a:pt x="5491" y="13792"/>
                </a:lnTo>
                <a:lnTo>
                  <a:pt x="3837" y="13792"/>
                </a:lnTo>
                <a:close/>
              </a:path>
              <a:path fill="darkenLess" w="21600" h="27584">
                <a:moveTo>
                  <a:pt x="13376" y="9440"/>
                </a:moveTo>
                <a:lnTo>
                  <a:pt x="13376" y="7700"/>
                </a:lnTo>
                <a:lnTo>
                  <a:pt x="15152" y="7700"/>
                </a:lnTo>
                <a:lnTo>
                  <a:pt x="15152" y="11216"/>
                </a:lnTo>
                <a:close/>
              </a:path>
              <a:path fill="darkenLess" w="21600" h="27584">
                <a:moveTo>
                  <a:pt x="9877" y="17291"/>
                </a:moveTo>
                <a:lnTo>
                  <a:pt x="11723" y="17291"/>
                </a:lnTo>
                <a:lnTo>
                  <a:pt x="11723" y="20981"/>
                </a:lnTo>
                <a:lnTo>
                  <a:pt x="16109" y="20981"/>
                </a:lnTo>
                <a:lnTo>
                  <a:pt x="16109" y="13792"/>
                </a:lnTo>
                <a:lnTo>
                  <a:pt x="5491" y="13792"/>
                </a:lnTo>
                <a:lnTo>
                  <a:pt x="5491" y="20981"/>
                </a:lnTo>
                <a:lnTo>
                  <a:pt x="9877" y="20981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словия чередов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1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личие суффикса –А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2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Уда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3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Чередование согласных в корн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4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5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Требуется запомин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6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Слова-исключ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415800" y="5823000"/>
            <a:ext cx="520920" cy="65700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57000"/>
              <a:gd name="textAreaBottom" fmla="*/ 623520 h 657000"/>
            </a:gdLst>
            <a:ahLst/>
            <a:rect l="textAreaLeft" t="textAreaTop" r="textAreaRight" b="textAreaBottom"/>
            <a:pathLst>
              <a:path w="21600" h="27239">
                <a:moveTo>
                  <a:pt x="0" y="0"/>
                </a:moveTo>
                <a:lnTo>
                  <a:pt x="21600" y="0"/>
                </a:lnTo>
                <a:lnTo>
                  <a:pt x="21600" y="27239"/>
                </a:lnTo>
                <a:lnTo>
                  <a:pt x="0" y="27239"/>
                </a:lnTo>
                <a:close/>
              </a:path>
              <a:path fill="lightenLess" w="21600" h="27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39">
                <a:moveTo>
                  <a:pt x="21600" y="0"/>
                </a:moveTo>
                <a:lnTo>
                  <a:pt x="21600" y="27239"/>
                </a:lnTo>
                <a:lnTo>
                  <a:pt x="20200" y="25839"/>
                </a:lnTo>
                <a:lnTo>
                  <a:pt x="20200" y="1400"/>
                </a:lnTo>
                <a:close/>
              </a:path>
              <a:path fill="darkenLess" w="21600" h="27239">
                <a:moveTo>
                  <a:pt x="21600" y="27239"/>
                </a:moveTo>
                <a:lnTo>
                  <a:pt x="0" y="27239"/>
                </a:lnTo>
                <a:lnTo>
                  <a:pt x="1400" y="25839"/>
                </a:lnTo>
                <a:lnTo>
                  <a:pt x="20200" y="25839"/>
                </a:lnTo>
                <a:close/>
              </a:path>
              <a:path fill="lighten" w="21600" h="27239">
                <a:moveTo>
                  <a:pt x="0" y="27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39"/>
                </a:lnTo>
                <a:close/>
              </a:path>
              <a:path fill="darken" w="21600" h="27239">
                <a:moveTo>
                  <a:pt x="3794" y="13619"/>
                </a:moveTo>
                <a:lnTo>
                  <a:pt x="17806" y="6613"/>
                </a:lnTo>
                <a:lnTo>
                  <a:pt x="17806" y="20626"/>
                </a:lnTo>
                <a:close/>
              </a:path>
            </a:pathLst>
          </a:custGeom>
          <a:solidFill>
            <a:srgbClr val="fed46c">
              <a:alpha val="6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258920" y="5823000"/>
            <a:ext cx="522360" cy="6285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28560"/>
              <a:gd name="textAreaBottom" fmla="*/ 594720 h 628560"/>
            </a:gdLst>
            <a:ahLst/>
            <a:rect l="textAreaLeft" t="textAreaTop" r="textAreaRight" b="textAreaBottom"/>
            <a:pathLst>
              <a:path w="21600" h="25988">
                <a:moveTo>
                  <a:pt x="0" y="0"/>
                </a:moveTo>
                <a:lnTo>
                  <a:pt x="21600" y="0"/>
                </a:lnTo>
                <a:lnTo>
                  <a:pt x="21600" y="25988"/>
                </a:lnTo>
                <a:lnTo>
                  <a:pt x="0" y="25988"/>
                </a:lnTo>
                <a:close/>
              </a:path>
              <a:path fill="lightenLess" w="21600" h="2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88">
                <a:moveTo>
                  <a:pt x="21600" y="0"/>
                </a:moveTo>
                <a:lnTo>
                  <a:pt x="21600" y="25988"/>
                </a:lnTo>
                <a:lnTo>
                  <a:pt x="20200" y="24588"/>
                </a:lnTo>
                <a:lnTo>
                  <a:pt x="20200" y="1400"/>
                </a:lnTo>
                <a:close/>
              </a:path>
              <a:path fill="darkenLess" w="21600" h="25988">
                <a:moveTo>
                  <a:pt x="21600" y="25988"/>
                </a:moveTo>
                <a:lnTo>
                  <a:pt x="0" y="25988"/>
                </a:lnTo>
                <a:lnTo>
                  <a:pt x="1400" y="24588"/>
                </a:lnTo>
                <a:lnTo>
                  <a:pt x="20200" y="24588"/>
                </a:lnTo>
                <a:close/>
              </a:path>
              <a:path fill="lighten" w="21600" h="25988">
                <a:moveTo>
                  <a:pt x="0" y="2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88"/>
                </a:lnTo>
                <a:close/>
              </a:path>
              <a:path fill="darken" w="21600" h="25988">
                <a:moveTo>
                  <a:pt x="3794" y="5988"/>
                </a:moveTo>
                <a:lnTo>
                  <a:pt x="17806" y="12994"/>
                </a:lnTo>
                <a:lnTo>
                  <a:pt x="3794" y="20001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Управляющая кнопка: домой 3">
            <a:hlinkClick r:id="rId7" action="ppaction://hlinksldjump"/>
          </p:cNvPr>
          <p:cNvSpPr/>
          <p:nvPr/>
        </p:nvSpPr>
        <p:spPr>
          <a:xfrm>
            <a:off x="8361360" y="5904000"/>
            <a:ext cx="520560" cy="5223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2360"/>
              <a:gd name="textAreaBottom" fmla="*/ 488880 h 522360"/>
            </a:gdLst>
            <a:ahLst/>
            <a:rect l="textAreaLeft" t="textAreaTop" r="textAreaRight" b="textAreaBottom"/>
            <a:pathLst>
              <a:path w="21600" h="21675">
                <a:moveTo>
                  <a:pt x="0" y="0"/>
                </a:moveTo>
                <a:lnTo>
                  <a:pt x="21600" y="0"/>
                </a:lnTo>
                <a:lnTo>
                  <a:pt x="21600" y="21675"/>
                </a:lnTo>
                <a:lnTo>
                  <a:pt x="0" y="21675"/>
                </a:lnTo>
                <a:close/>
              </a:path>
              <a:path fill="lightenLess" w="21600" h="21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5">
                <a:moveTo>
                  <a:pt x="21600" y="0"/>
                </a:moveTo>
                <a:lnTo>
                  <a:pt x="21600" y="21675"/>
                </a:lnTo>
                <a:lnTo>
                  <a:pt x="20200" y="20275"/>
                </a:lnTo>
                <a:lnTo>
                  <a:pt x="20200" y="1400"/>
                </a:lnTo>
                <a:close/>
              </a:path>
              <a:path fill="darkenLess" w="21600" h="21675">
                <a:moveTo>
                  <a:pt x="21600" y="21675"/>
                </a:moveTo>
                <a:lnTo>
                  <a:pt x="0" y="21675"/>
                </a:lnTo>
                <a:lnTo>
                  <a:pt x="1400" y="20275"/>
                </a:lnTo>
                <a:lnTo>
                  <a:pt x="20200" y="20275"/>
                </a:lnTo>
                <a:close/>
              </a:path>
              <a:path fill="lighten" w="21600" h="21675">
                <a:moveTo>
                  <a:pt x="0" y="21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5"/>
                </a:lnTo>
                <a:close/>
              </a:path>
              <a:path fill="darken" w="21600" h="21675">
                <a:moveTo>
                  <a:pt x="10800" y="3874"/>
                </a:moveTo>
                <a:lnTo>
                  <a:pt x="13376" y="6485"/>
                </a:lnTo>
                <a:lnTo>
                  <a:pt x="13376" y="4745"/>
                </a:lnTo>
                <a:lnTo>
                  <a:pt x="15152" y="4745"/>
                </a:lnTo>
                <a:lnTo>
                  <a:pt x="15152" y="8261"/>
                </a:lnTo>
                <a:lnTo>
                  <a:pt x="17763" y="10837"/>
                </a:lnTo>
                <a:lnTo>
                  <a:pt x="16109" y="10837"/>
                </a:lnTo>
                <a:lnTo>
                  <a:pt x="16109" y="18027"/>
                </a:lnTo>
                <a:lnTo>
                  <a:pt x="5491" y="18027"/>
                </a:lnTo>
                <a:lnTo>
                  <a:pt x="5491" y="10837"/>
                </a:lnTo>
                <a:lnTo>
                  <a:pt x="3837" y="10837"/>
                </a:lnTo>
                <a:close/>
              </a:path>
              <a:path fill="darkenLess" w="21600" h="21675">
                <a:moveTo>
                  <a:pt x="13376" y="6485"/>
                </a:moveTo>
                <a:lnTo>
                  <a:pt x="13376" y="4745"/>
                </a:lnTo>
                <a:lnTo>
                  <a:pt x="15152" y="4745"/>
                </a:lnTo>
                <a:lnTo>
                  <a:pt x="15152" y="8261"/>
                </a:lnTo>
                <a:close/>
              </a:path>
              <a:path fill="darkenLess" w="21600" h="21675">
                <a:moveTo>
                  <a:pt x="9877" y="14336"/>
                </a:moveTo>
                <a:lnTo>
                  <a:pt x="11723" y="14336"/>
                </a:lnTo>
                <a:lnTo>
                  <a:pt x="11723" y="18027"/>
                </a:lnTo>
                <a:lnTo>
                  <a:pt x="16109" y="18027"/>
                </a:lnTo>
                <a:lnTo>
                  <a:pt x="16109" y="10837"/>
                </a:lnTo>
                <a:lnTo>
                  <a:pt x="5491" y="10837"/>
                </a:lnTo>
                <a:lnTo>
                  <a:pt x="5491" y="18027"/>
                </a:lnTo>
                <a:lnTo>
                  <a:pt x="9877" y="18027"/>
                </a:lnTo>
                <a:close/>
              </a:path>
            </a:pathLst>
          </a:custGeom>
          <a:solidFill>
            <a:srgbClr val="fed46c">
              <a:alpha val="54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личие суффикса -А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64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-кас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ри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кос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уться-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кас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-б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с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у-под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-п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от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п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п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р-д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д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-при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д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р-т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т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от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т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р-м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у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м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 с 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м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г-жиг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жег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-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жиг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ет-чит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чет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ы-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чит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ел-стил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стел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ить-рас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стил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лест-блист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лест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лист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е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99960" y="6119640"/>
            <a:ext cx="520920" cy="5209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3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Управляющая кнопка: домой 3">
            <a:hlinkClick r:id="rId1" action="ppaction://hlinksldjump"/>
          </p:cNvPr>
          <p:cNvSpPr/>
          <p:nvPr/>
        </p:nvSpPr>
        <p:spPr>
          <a:xfrm>
            <a:off x="8423280" y="60976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10837" y="3837"/>
                </a:moveTo>
                <a:lnTo>
                  <a:pt x="13414" y="6448"/>
                </a:ln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lnTo>
                  <a:pt x="17800" y="10800"/>
                </a:lnTo>
                <a:lnTo>
                  <a:pt x="16147" y="10800"/>
                </a:lnTo>
                <a:lnTo>
                  <a:pt x="16147" y="17989"/>
                </a:lnTo>
                <a:lnTo>
                  <a:pt x="5528" y="17989"/>
                </a:lnTo>
                <a:lnTo>
                  <a:pt x="5528" y="10800"/>
                </a:lnTo>
                <a:lnTo>
                  <a:pt x="3874" y="10800"/>
                </a:lnTo>
                <a:close/>
              </a:path>
              <a:path fill="darkenLess" w="21675" h="21600">
                <a:moveTo>
                  <a:pt x="13414" y="6448"/>
                </a:move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close/>
              </a:path>
              <a:path fill="darkenLess" w="21675" h="21600">
                <a:moveTo>
                  <a:pt x="9915" y="14299"/>
                </a:moveTo>
                <a:lnTo>
                  <a:pt x="11760" y="14299"/>
                </a:lnTo>
                <a:lnTo>
                  <a:pt x="11760" y="17989"/>
                </a:lnTo>
                <a:lnTo>
                  <a:pt x="16147" y="17989"/>
                </a:lnTo>
                <a:lnTo>
                  <a:pt x="16147" y="10800"/>
                </a:lnTo>
                <a:lnTo>
                  <a:pt x="5528" y="10800"/>
                </a:lnTo>
                <a:lnTo>
                  <a:pt x="5528" y="17989"/>
                </a:lnTo>
                <a:lnTo>
                  <a:pt x="9915" y="17989"/>
                </a:lnTo>
                <a:close/>
              </a:path>
            </a:pathLst>
          </a:custGeom>
          <a:solidFill>
            <a:srgbClr val="fed46c">
              <a:alpha val="55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дар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47744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ор-з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//о//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-г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он-клан   о//а//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вор-тв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//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1"/>
          <p:cNvSpPr/>
          <p:nvPr/>
        </p:nvSpPr>
        <p:spPr>
          <a:xfrm>
            <a:off x="3251520" y="14097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3718440" y="14097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271320" y="25891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402360" y="374004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3807360" y="37069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238200" y="48355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684240" y="49323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4356000" y="162864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а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ние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а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г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ть-за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га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он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ться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ан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яться-п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о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ть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ар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е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Управляющая кнопка: назад 2">
            <a:hlinkClick r:id="rId1" action="ppaction://hlinksldjump"/>
          </p:cNvPr>
          <p:cNvSpPr/>
          <p:nvPr/>
        </p:nvSpPr>
        <p:spPr>
          <a:xfrm>
            <a:off x="493560" y="59500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d46c">
              <a:alpha val="44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Управляющая кнопка: домой 3">
            <a:hlinkClick r:id="rId2" action="ppaction://hlinksldjump"/>
          </p:cNvPr>
          <p:cNvSpPr/>
          <p:nvPr/>
        </p:nvSpPr>
        <p:spPr>
          <a:xfrm>
            <a:off x="8272440" y="5925960"/>
            <a:ext cx="520560" cy="5209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я согласных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-рос-ращ О//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ас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ие-вы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о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ащ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как-скоч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ска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ь-в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скоч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аг-лож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О//А    из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лаг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ь-по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лож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Управляющая кнопка: назад 1">
            <a:hlinkClick r:id="rId1" action="ppaction://hlinksldjump"/>
          </p:cNvPr>
          <p:cNvSpPr/>
          <p:nvPr/>
        </p:nvSpPr>
        <p:spPr>
          <a:xfrm>
            <a:off x="495360" y="5977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Управляющая кнопка: домой 2">
            <a:hlinkClick r:id="rId2" action="ppaction://hlinksldjump"/>
          </p:cNvPr>
          <p:cNvSpPr/>
          <p:nvPr/>
        </p:nvSpPr>
        <p:spPr>
          <a:xfrm>
            <a:off x="8217000" y="5977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d46c">
              <a:alpha val="5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0:42:48Z</dcterms:created>
  <dc:creator>учитель</dc:creator>
  <dc:description/>
  <dc:language>en-US</dc:language>
  <cp:lastModifiedBy>Пользователь</cp:lastModifiedBy>
  <dcterms:modified xsi:type="dcterms:W3CDTF">2018-11-27T13:49:45Z</dcterms:modified>
  <cp:revision>50</cp:revision>
  <dc:subject/>
  <dc:title>Корни  с чередованием</dc:title>
</cp:coreProperties>
</file>