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06B-6CAC-4D28-8105-7FCFD6B8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C68-AF9B-4F20-90ED-FE806181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273-2E46-4073-887E-602DDFF3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CA3-BEFC-426B-8AD2-EBDA03DF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85E6-E0E8-4ACB-9491-085CC432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B68-C4FE-4C7D-A927-3C9FC52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5938-1A66-470A-B7EF-AD0C667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EE3E-087D-4763-936A-0CE188EF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3946-6AA9-418B-A2D9-27B59CB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748C-0124-4057-9599-84A6123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D0FE-4E24-44AC-922F-8F39C84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D8A-8F2F-4112-8C6A-45FB74E9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D58-754E-4195-8064-90AB5B02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E7E-639A-4A2C-B54D-C4C17C2B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153B-DE8C-4832-A634-B0E2B967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36C-546E-4A3C-B629-DDAE0906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C337-FD6A-439E-A7C6-2D6EF1D1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9FE6-BDFD-497B-91A2-341E4127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4E33-13EE-497C-929F-02064630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CA5D-1477-41C2-A0EA-8733B149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9E4E-79F4-4768-A196-FD30443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13B6-2178-4910-B015-DA04B7C9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AD5-88B6-4087-A046-5CE7BC53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F31B-2D4D-4674-985B-A47FBC7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0C35-CBF3-43D8-81FF-A2529F99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D60F-BD26-4298-990A-B577C24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4BE6-CDC7-419D-81BE-7759164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E749-9DC1-4B6A-B65A-6CD5D0B4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8559-D435-49EA-8760-603273B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0002-3F1C-40D1-9F4A-32FB0603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1B92-DC0C-4B58-BB88-3C19EEAF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85E4-C459-4B98-8A78-EB7BCF54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21E74-A338-4CDB-8C18-9024418A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A22-AFD7-47CA-A657-ED0E4225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DDE5-8F1A-48BE-AEF7-A0F4C36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858D-E7DF-4A8C-AE66-53929092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EC8A-5ACA-4A15-A491-F292A544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CF5B-4D28-428C-946E-414E4FE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14CB-AAF1-4AF4-BFD9-5D760F86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4C19-7D39-4F09-A497-C0E0DE8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F61B-6B7E-4990-8F0F-D111805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FBCE-D49D-43B7-8311-DE54F4C2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C4EB-F676-4F9A-9BB1-E6857D79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E179-8CD6-49AC-8BE0-B03C2970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C01-151A-41AD-9F34-E8053253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F09A0-5DFD-4ED0-BE08-D84E5B1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4E42-E5ED-4A7B-9FA6-B536797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81BE5-E8A5-46E1-97D7-FB0FF29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17EA-E69B-4423-B4A7-6F160DD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A8820-1A8B-49A2-A97B-80AA607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A5A9-A21D-4A64-9A13-3D1E1F1B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81CA-5445-4B64-97AC-6E997A9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851EF-5D0E-49D7-A8CE-B18BAAEF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BB5F-7E97-48AD-AE7F-61B4DF2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7D386-1CFD-409F-BAA9-4EE3994B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FFA-F293-414D-9CC9-EAD5752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2377-8655-4DD4-B166-208642CE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0B7B-1653-489B-ADC9-CD2C4B3D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813F-8802-4AF7-ACE8-393B2FC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476B8-01BA-482C-AE2B-A3BD6966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D31D-D3DA-4393-849E-40D39DC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49DB-61F9-4C70-A50F-38DB51EE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A0D45-37D8-4D04-87CE-65828B0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E7B6F-5375-4FD5-9D11-13BD9725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BE60-C2DD-4817-A08A-4AB7798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A60F-1DD9-4E9A-A22C-6D9F94F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E0F-047D-42F0-98F0-7C44167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9BBC6-B283-4A1F-9914-435E372E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5039-480D-4FC4-A9F6-B97AE3AA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BEE8-4545-4D45-BABA-93A546D3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FF53-07A5-4651-B6EB-E34B664A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F087-1627-481D-AC58-A8C5DA59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78298-15EA-4CD4-B662-EF955C5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D09D-5D1D-4B3D-A87E-5F9D944C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8F4A-CBB9-457F-BBBA-B92FAE5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8B32-DCC1-4D08-A9A4-F419EF7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5576-3427-46FF-B0C1-424E7DF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B74-62FE-442C-ACDD-674B535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0FB1-B0BF-4D23-A4BF-4F61DD5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E658-BDF8-497E-AE49-CEFED9D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32A19-6915-4CC1-B0D6-0A1D9398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F259-2C53-4244-B175-6E431FD6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11F8-3BA2-42B2-9582-DA13819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CFD-BE5E-4739-9960-E2B7419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F2F-837B-420E-A54B-F29DD0C208A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F2AC-F340-4254-A447-AD48F872A1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DA0-844D-4BE2-9C39-103AA705F0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26E8-F7E7-45AA-8E59-EF91E080C4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37B-A59E-4F8E-9B00-FD3C7E808C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D93-282B-4AB4-B74F-53192405D5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E36A-99C2-421E-A3D1-E5EA8D39B4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4" descr=""/>
          <p:cNvPicPr/>
          <p:nvPr/>
        </p:nvPicPr>
        <p:blipFill>
          <a:blip r:embed="rId1"/>
          <a:stretch/>
        </p:blipFill>
        <p:spPr>
          <a:xfrm>
            <a:off x="676440" y="1504800"/>
            <a:ext cx="79498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ексическое значение сло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168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мак-мо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епро</a:t>
            </a:r>
            <a:r>
              <a:rPr b="1" i="1" lang="ru-RU" sz="2400" spc="-1" strike="noStrike">
                <a:solidFill>
                  <a:srgbClr val="1c4853"/>
                </a:solidFill>
                <a:latin typeface="Corbel"/>
              </a:rPr>
              <a:t>мо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ющий плащ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   об</a:t>
            </a:r>
            <a:r>
              <a:rPr b="1" i="1" lang="ru-RU" sz="2400" spc="-1" strike="noStrike">
                <a:solidFill>
                  <a:srgbClr val="1c4853"/>
                </a:solidFill>
                <a:latin typeface="Corbel"/>
              </a:rPr>
              <a:t>ма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нуть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пельмень в сметан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Мак - ЛЗ: обволакивать жидкость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Мок - ЛЗ: пропускать жидкость через себ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авн-ровн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равн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яться с товарищем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вы</a:t>
            </a:r>
            <a:r>
              <a:rPr b="1" i="1" lang="ru-RU" sz="2000" spc="-1" strike="noStrike">
                <a:solidFill>
                  <a:srgbClr val="1c4853"/>
                </a:solidFill>
                <a:latin typeface="Corbel"/>
              </a:rPr>
              <a:t>ровн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ить площадк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Равн - ЛЗ: стать подобным другом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4f271c"/>
                </a:solidFill>
                <a:latin typeface="Corbel"/>
              </a:rPr>
              <a:t>Ровн - ЛЗ: стать гладким, ров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Управляющая кнопка: назад 1">
            <a:hlinkClick r:id="rId1" action="ppaction://hlinksldjump"/>
          </p:cNvPr>
          <p:cNvSpPr/>
          <p:nvPr/>
        </p:nvSpPr>
        <p:spPr>
          <a:xfrm>
            <a:off x="378000" y="6072120"/>
            <a:ext cx="522000" cy="520920"/>
          </a:xfrm>
          <a:custGeom>
            <a:avLst/>
            <a:gdLst>
              <a:gd name="textAreaLeft" fmla="*/ 33480 w 522000"/>
              <a:gd name="textAreaRight" fmla="*/ 488520 w 52200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45" h="21600">
                <a:moveTo>
                  <a:pt x="0" y="0"/>
                </a:moveTo>
                <a:lnTo>
                  <a:pt x="21645" y="0"/>
                </a:lnTo>
                <a:lnTo>
                  <a:pt x="21645" y="21600"/>
                </a:lnTo>
                <a:lnTo>
                  <a:pt x="0" y="21600"/>
                </a:lnTo>
                <a:close/>
              </a:path>
              <a:path fill="lightenLess" w="21645" h="21600">
                <a:moveTo>
                  <a:pt x="0" y="0"/>
                </a:moveTo>
                <a:lnTo>
                  <a:pt x="21645" y="0"/>
                </a:lnTo>
                <a:lnTo>
                  <a:pt x="20245" y="1400"/>
                </a:lnTo>
                <a:lnTo>
                  <a:pt x="1400" y="1400"/>
                </a:lnTo>
                <a:close/>
              </a:path>
              <a:path fill="darken" w="21645" h="21600">
                <a:moveTo>
                  <a:pt x="21645" y="0"/>
                </a:moveTo>
                <a:lnTo>
                  <a:pt x="21645" y="21600"/>
                </a:lnTo>
                <a:lnTo>
                  <a:pt x="20245" y="20200"/>
                </a:lnTo>
                <a:lnTo>
                  <a:pt x="20245" y="1400"/>
                </a:lnTo>
                <a:close/>
              </a:path>
              <a:path fill="darkenLess" w="21645" h="21600">
                <a:moveTo>
                  <a:pt x="21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5" y="20200"/>
                </a:lnTo>
                <a:close/>
              </a:path>
              <a:path fill="lighten" w="21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5" h="21600">
                <a:moveTo>
                  <a:pt x="3816" y="10800"/>
                </a:moveTo>
                <a:lnTo>
                  <a:pt x="17829" y="3794"/>
                </a:lnTo>
                <a:lnTo>
                  <a:pt x="17829" y="1780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Управляющая кнопка: домой 2">
            <a:hlinkClick r:id="rId2" action="ppaction://hlinksldjump"/>
          </p:cNvPr>
          <p:cNvSpPr/>
          <p:nvPr/>
        </p:nvSpPr>
        <p:spPr>
          <a:xfrm>
            <a:off x="8288280" y="6072120"/>
            <a:ext cx="522360" cy="52092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2" y="14299"/>
                </a:lnTo>
                <a:lnTo>
                  <a:pt x="11752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fed46c">
              <a:alpha val="43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1" name="Прямая со стрелкой 4"/>
          <p:cNvCxnSpPr/>
          <p:nvPr/>
        </p:nvCxnSpPr>
        <p:spPr>
          <a:xfrm flipH="1">
            <a:off x="2050560" y="1557360"/>
            <a:ext cx="1442160" cy="504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2" name="Прямая со стрелкой 6"/>
          <p:cNvCxnSpPr/>
          <p:nvPr/>
        </p:nvCxnSpPr>
        <p:spPr>
          <a:xfrm>
            <a:off x="5866920" y="1557360"/>
            <a:ext cx="1226520" cy="504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1618920" y="4292640"/>
            <a:ext cx="1658160" cy="289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5867280" y="4292640"/>
            <a:ext cx="937440" cy="2894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58960" y="692280"/>
            <a:ext cx="6927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ужно запомнить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2492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лав-плов-плы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а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-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ц-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плы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Управляющая кнопка: назад 1">
            <a:hlinkClick r:id="rId1" action="ppaction://hlinksldjump"/>
          </p:cNvPr>
          <p:cNvSpPr/>
          <p:nvPr/>
        </p:nvSpPr>
        <p:spPr>
          <a:xfrm>
            <a:off x="468360" y="5932440"/>
            <a:ext cx="574560" cy="520920"/>
          </a:xfrm>
          <a:custGeom>
            <a:avLst/>
            <a:gdLst>
              <a:gd name="textAreaLeft" fmla="*/ 33480 w 574560"/>
              <a:gd name="textAreaRight" fmla="*/ 541080 w 574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3823" h="21600">
                <a:moveTo>
                  <a:pt x="0" y="0"/>
                </a:moveTo>
                <a:lnTo>
                  <a:pt x="23823" y="0"/>
                </a:lnTo>
                <a:lnTo>
                  <a:pt x="23823" y="21600"/>
                </a:lnTo>
                <a:lnTo>
                  <a:pt x="0" y="21600"/>
                </a:lnTo>
                <a:close/>
              </a:path>
              <a:path fill="lightenLess" w="23823" h="21600">
                <a:moveTo>
                  <a:pt x="0" y="0"/>
                </a:moveTo>
                <a:lnTo>
                  <a:pt x="23823" y="0"/>
                </a:lnTo>
                <a:lnTo>
                  <a:pt x="22423" y="1400"/>
                </a:lnTo>
                <a:lnTo>
                  <a:pt x="1400" y="1400"/>
                </a:lnTo>
                <a:close/>
              </a:path>
              <a:path fill="darken" w="23823" h="21600">
                <a:moveTo>
                  <a:pt x="23823" y="0"/>
                </a:moveTo>
                <a:lnTo>
                  <a:pt x="23823" y="21600"/>
                </a:lnTo>
                <a:lnTo>
                  <a:pt x="22423" y="20200"/>
                </a:lnTo>
                <a:lnTo>
                  <a:pt x="22423" y="1400"/>
                </a:lnTo>
                <a:close/>
              </a:path>
              <a:path fill="darkenLess" w="23823" h="21600">
                <a:moveTo>
                  <a:pt x="23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3" y="20200"/>
                </a:lnTo>
                <a:close/>
              </a:path>
              <a:path fill="lighten" w="23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3" h="21600">
                <a:moveTo>
                  <a:pt x="4905" y="10800"/>
                </a:moveTo>
                <a:lnTo>
                  <a:pt x="18918" y="3794"/>
                </a:lnTo>
                <a:lnTo>
                  <a:pt x="18918" y="17806"/>
                </a:lnTo>
                <a:close/>
              </a:path>
            </a:pathLst>
          </a:custGeom>
          <a:solidFill>
            <a:srgbClr val="fed46c">
              <a:alpha val="5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Управляющая кнопка: домой 2">
            <a:hlinkClick r:id="rId2" action="ppaction://hlinksldjump"/>
          </p:cNvPr>
          <p:cNvSpPr/>
          <p:nvPr/>
        </p:nvSpPr>
        <p:spPr>
          <a:xfrm>
            <a:off x="8199360" y="5932440"/>
            <a:ext cx="522360" cy="52092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2" y="14299"/>
                </a:lnTo>
                <a:lnTo>
                  <a:pt x="11752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Рисунок 3" descr=""/>
          <p:cNvPicPr/>
          <p:nvPr/>
        </p:nvPicPr>
        <p:blipFill>
          <a:blip r:embed="rId3"/>
          <a:stretch/>
        </p:blipFill>
        <p:spPr>
          <a:xfrm>
            <a:off x="738360" y="766800"/>
            <a:ext cx="14792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лова-исключе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478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о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ть, со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ние, ч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т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евать, изг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ь, выг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к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тв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л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ц, пл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чих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в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ислав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вщ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ток, от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л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к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ок, ск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у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нина, 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сник, по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ну, ур</a:t>
            </a:r>
            <a:r>
              <a:rPr b="0" i="1" lang="ru-RU" sz="32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ен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Управляющая кнопка: назад 2">
            <a:hlinkClick r:id="rId1" action="ppaction://hlinksldjump"/>
          </p:cNvPr>
          <p:cNvSpPr/>
          <p:nvPr/>
        </p:nvSpPr>
        <p:spPr>
          <a:xfrm>
            <a:off x="422280" y="6021360"/>
            <a:ext cx="522360" cy="638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38280"/>
              <a:gd name="textAreaBottom" fmla="*/ 604440 h 638280"/>
            </a:gdLst>
            <a:ahLst/>
            <a:rect l="textAreaLeft" t="textAreaTop" r="textAreaRight" b="textAreaBottom"/>
            <a:pathLst>
              <a:path w="21600" h="26390">
                <a:moveTo>
                  <a:pt x="0" y="0"/>
                </a:moveTo>
                <a:lnTo>
                  <a:pt x="21600" y="0"/>
                </a:lnTo>
                <a:lnTo>
                  <a:pt x="21600" y="26390"/>
                </a:lnTo>
                <a:lnTo>
                  <a:pt x="0" y="26390"/>
                </a:lnTo>
                <a:close/>
              </a:path>
              <a:path fill="lightenLess" w="21600" h="263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0">
                <a:moveTo>
                  <a:pt x="21600" y="0"/>
                </a:moveTo>
                <a:lnTo>
                  <a:pt x="21600" y="26390"/>
                </a:lnTo>
                <a:lnTo>
                  <a:pt x="20200" y="24990"/>
                </a:lnTo>
                <a:lnTo>
                  <a:pt x="20200" y="1400"/>
                </a:lnTo>
                <a:close/>
              </a:path>
              <a:path fill="darkenLess" w="21600" h="26390">
                <a:moveTo>
                  <a:pt x="21600" y="26390"/>
                </a:moveTo>
                <a:lnTo>
                  <a:pt x="0" y="26390"/>
                </a:lnTo>
                <a:lnTo>
                  <a:pt x="1400" y="24990"/>
                </a:lnTo>
                <a:lnTo>
                  <a:pt x="20200" y="24990"/>
                </a:lnTo>
                <a:close/>
              </a:path>
              <a:path fill="lighten" w="21600" h="26390">
                <a:moveTo>
                  <a:pt x="0" y="263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0"/>
                </a:lnTo>
                <a:close/>
              </a:path>
              <a:path fill="darken" w="21600" h="26390">
                <a:moveTo>
                  <a:pt x="3794" y="13195"/>
                </a:moveTo>
                <a:lnTo>
                  <a:pt x="17806" y="6189"/>
                </a:lnTo>
                <a:lnTo>
                  <a:pt x="17806" y="20202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Управляющая кнопка: домой 3">
            <a:hlinkClick r:id="rId2" action="ppaction://hlinksldjump"/>
          </p:cNvPr>
          <p:cNvSpPr/>
          <p:nvPr/>
        </p:nvSpPr>
        <p:spPr>
          <a:xfrm>
            <a:off x="8459640" y="6021360"/>
            <a:ext cx="522360" cy="638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38280"/>
              <a:gd name="textAreaBottom" fmla="*/ 604440 h 638280"/>
            </a:gdLst>
            <a:ahLst/>
            <a:rect l="textAreaLeft" t="textAreaTop" r="textAreaRight" b="textAreaBottom"/>
            <a:pathLst>
              <a:path w="21600" h="26390">
                <a:moveTo>
                  <a:pt x="0" y="0"/>
                </a:moveTo>
                <a:lnTo>
                  <a:pt x="21600" y="0"/>
                </a:lnTo>
                <a:lnTo>
                  <a:pt x="21600" y="26390"/>
                </a:lnTo>
                <a:lnTo>
                  <a:pt x="0" y="26390"/>
                </a:lnTo>
                <a:close/>
              </a:path>
              <a:path fill="lightenLess" w="21600" h="263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0">
                <a:moveTo>
                  <a:pt x="21600" y="0"/>
                </a:moveTo>
                <a:lnTo>
                  <a:pt x="21600" y="26390"/>
                </a:lnTo>
                <a:lnTo>
                  <a:pt x="20200" y="24990"/>
                </a:lnTo>
                <a:lnTo>
                  <a:pt x="20200" y="1400"/>
                </a:lnTo>
                <a:close/>
              </a:path>
              <a:path fill="darkenLess" w="21600" h="26390">
                <a:moveTo>
                  <a:pt x="21600" y="26390"/>
                </a:moveTo>
                <a:lnTo>
                  <a:pt x="0" y="26390"/>
                </a:lnTo>
                <a:lnTo>
                  <a:pt x="1400" y="24990"/>
                </a:lnTo>
                <a:lnTo>
                  <a:pt x="20200" y="24990"/>
                </a:lnTo>
                <a:close/>
              </a:path>
              <a:path fill="lighten" w="21600" h="26390">
                <a:moveTo>
                  <a:pt x="0" y="263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0"/>
                </a:lnTo>
                <a:close/>
              </a:path>
              <a:path fill="darken" w="21600" h="26390">
                <a:moveTo>
                  <a:pt x="10800" y="6232"/>
                </a:moveTo>
                <a:lnTo>
                  <a:pt x="13376" y="8843"/>
                </a:lnTo>
                <a:lnTo>
                  <a:pt x="13376" y="7102"/>
                </a:lnTo>
                <a:lnTo>
                  <a:pt x="15152" y="7102"/>
                </a:lnTo>
                <a:lnTo>
                  <a:pt x="15152" y="10619"/>
                </a:lnTo>
                <a:lnTo>
                  <a:pt x="17763" y="13195"/>
                </a:lnTo>
                <a:lnTo>
                  <a:pt x="16109" y="13195"/>
                </a:lnTo>
                <a:lnTo>
                  <a:pt x="16109" y="20384"/>
                </a:lnTo>
                <a:lnTo>
                  <a:pt x="5491" y="20384"/>
                </a:lnTo>
                <a:lnTo>
                  <a:pt x="5491" y="13195"/>
                </a:lnTo>
                <a:lnTo>
                  <a:pt x="3837" y="13195"/>
                </a:lnTo>
                <a:close/>
              </a:path>
              <a:path fill="darkenLess" w="21600" h="26390">
                <a:moveTo>
                  <a:pt x="13376" y="8843"/>
                </a:moveTo>
                <a:lnTo>
                  <a:pt x="13376" y="7102"/>
                </a:lnTo>
                <a:lnTo>
                  <a:pt x="15152" y="7102"/>
                </a:lnTo>
                <a:lnTo>
                  <a:pt x="15152" y="10619"/>
                </a:lnTo>
                <a:close/>
              </a:path>
              <a:path fill="darkenLess" w="21600" h="26390">
                <a:moveTo>
                  <a:pt x="9877" y="16694"/>
                </a:moveTo>
                <a:lnTo>
                  <a:pt x="11723" y="16694"/>
                </a:lnTo>
                <a:lnTo>
                  <a:pt x="11723" y="20384"/>
                </a:lnTo>
                <a:lnTo>
                  <a:pt x="16109" y="20384"/>
                </a:lnTo>
                <a:lnTo>
                  <a:pt x="16109" y="13195"/>
                </a:lnTo>
                <a:lnTo>
                  <a:pt x="5491" y="13195"/>
                </a:lnTo>
                <a:lnTo>
                  <a:pt x="5491" y="20384"/>
                </a:lnTo>
                <a:lnTo>
                  <a:pt x="9877" y="20384"/>
                </a:lnTo>
                <a:close/>
              </a:path>
            </a:pathLst>
          </a:custGeom>
          <a:solidFill>
            <a:srgbClr val="fed46c">
              <a:alpha val="52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75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75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75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2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4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4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888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ь себя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4360" y="1305000"/>
            <a:ext cx="6659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ет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Е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ть крас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сти к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атель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м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рающие живот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ль промышлен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бл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9" action="ppaction://hlinksldjump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0" action="ppaction://hlinksldjump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стел на солнц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к(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1" action="ppaction://hlinksldjump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2" action="ppaction://hlinksldjump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чу навстречу друг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р(А/О)вняться в стро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тв(А/О)рение ми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Управляющая кнопка: домой 1"/>
          <p:cNvSpPr/>
          <p:nvPr/>
        </p:nvSpPr>
        <p:spPr>
          <a:xfrm>
            <a:off x="8213760" y="5950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Управляющая кнопка: далее 2"/>
          <p:cNvSpPr/>
          <p:nvPr/>
        </p:nvSpPr>
        <p:spPr>
          <a:xfrm>
            <a:off x="457200" y="60562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d46c">
              <a:alpha val="52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Прямоугольник 3" descr=""/>
          <p:cNvPicPr/>
          <p:nvPr/>
        </p:nvPicPr>
        <p:blipFill>
          <a:blip r:embed="rId13"/>
          <a:stretch/>
        </p:blipFill>
        <p:spPr>
          <a:xfrm>
            <a:off x="2030400" y="-2700360"/>
            <a:ext cx="11393640" cy="1011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9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ильный ответ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0" name="ura.mp3" descr=""/>
          <p:cNvPicPr/>
          <p:nvPr/>
        </p:nvPicPr>
        <p:blipFill>
          <a:blip r:embed="rId1"/>
          <a:stretch/>
        </p:blipFill>
        <p:spPr>
          <a:xfrm>
            <a:off x="774720" y="5896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" descr=""/>
          <p:cNvPicPr/>
          <p:nvPr/>
        </p:nvPicPr>
        <p:blipFill>
          <a:blip r:embed="rId2"/>
          <a:stretch/>
        </p:blipFill>
        <p:spPr>
          <a:xfrm>
            <a:off x="1542960" y="2766960"/>
            <a:ext cx="6053400" cy="1536840"/>
          </a:xfrm>
          <a:prstGeom prst="rect">
            <a:avLst/>
          </a:prstGeom>
          <a:ln w="0">
            <a:noFill/>
          </a:ln>
        </p:spPr>
      </p:pic>
      <p:sp>
        <p:nvSpPr>
          <p:cNvPr id="392" name="Управляющая кнопка: назад 4"/>
          <p:cNvSpPr/>
          <p:nvPr/>
        </p:nvSpPr>
        <p:spPr>
          <a:xfrm>
            <a:off x="1403280" y="5724360"/>
            <a:ext cx="669960" cy="520920"/>
          </a:xfrm>
          <a:custGeom>
            <a:avLst/>
            <a:gdLst>
              <a:gd name="textAreaLeft" fmla="*/ 33480 w 669960"/>
              <a:gd name="textAreaRight" fmla="*/ 636480 w 6699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7776" h="21600">
                <a:moveTo>
                  <a:pt x="0" y="0"/>
                </a:moveTo>
                <a:lnTo>
                  <a:pt x="27776" y="0"/>
                </a:lnTo>
                <a:lnTo>
                  <a:pt x="27776" y="21600"/>
                </a:lnTo>
                <a:lnTo>
                  <a:pt x="0" y="21600"/>
                </a:lnTo>
                <a:close/>
              </a:path>
              <a:path fill="lightenLess" w="27776" h="21600">
                <a:moveTo>
                  <a:pt x="0" y="0"/>
                </a:moveTo>
                <a:lnTo>
                  <a:pt x="27776" y="0"/>
                </a:lnTo>
                <a:lnTo>
                  <a:pt x="26376" y="1400"/>
                </a:lnTo>
                <a:lnTo>
                  <a:pt x="1400" y="1400"/>
                </a:lnTo>
                <a:close/>
              </a:path>
              <a:path fill="darken" w="27776" h="21600">
                <a:moveTo>
                  <a:pt x="27776" y="0"/>
                </a:moveTo>
                <a:lnTo>
                  <a:pt x="27776" y="21600"/>
                </a:lnTo>
                <a:lnTo>
                  <a:pt x="26376" y="20200"/>
                </a:lnTo>
                <a:lnTo>
                  <a:pt x="26376" y="1400"/>
                </a:lnTo>
                <a:close/>
              </a:path>
              <a:path fill="darkenLess" w="27776" h="21600">
                <a:moveTo>
                  <a:pt x="27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6" y="20200"/>
                </a:lnTo>
                <a:close/>
              </a:path>
              <a:path fill="lighten" w="27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6" h="21600">
                <a:moveTo>
                  <a:pt x="6881" y="10800"/>
                </a:moveTo>
                <a:lnTo>
                  <a:pt x="20894" y="3794"/>
                </a:lnTo>
                <a:lnTo>
                  <a:pt x="20894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297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шибка!!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4" name="Грус2506.wav" descr=""/>
          <p:cNvPicPr/>
          <p:nvPr/>
        </p:nvPicPr>
        <p:blipFill>
          <a:blip r:embed="rId1"/>
          <a:stretch/>
        </p:blipFill>
        <p:spPr>
          <a:xfrm>
            <a:off x="760320" y="599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" descr=""/>
          <p:cNvPicPr/>
          <p:nvPr/>
        </p:nvPicPr>
        <p:blipFill>
          <a:blip r:embed="rId2"/>
          <a:stretch/>
        </p:blipFill>
        <p:spPr>
          <a:xfrm>
            <a:off x="506520" y="2262240"/>
            <a:ext cx="8107200" cy="1285920"/>
          </a:xfrm>
          <a:prstGeom prst="rect">
            <a:avLst/>
          </a:prstGeom>
          <a:ln w="0">
            <a:noFill/>
          </a:ln>
        </p:spPr>
      </p:pic>
      <p:sp>
        <p:nvSpPr>
          <p:cNvPr id="396" name="Управляющая кнопка: назад 2"/>
          <p:cNvSpPr/>
          <p:nvPr/>
        </p:nvSpPr>
        <p:spPr>
          <a:xfrm>
            <a:off x="1403280" y="5877000"/>
            <a:ext cx="522360" cy="53028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30280"/>
              <a:gd name="textAreaBottom" fmla="*/ 496440 h 530280"/>
            </a:gdLst>
            <a:ahLst/>
            <a:rect l="textAreaLeft" t="textAreaTop" r="textAreaRight" b="textAreaBottom"/>
            <a:pathLst>
              <a:path w="21600" h="21927">
                <a:moveTo>
                  <a:pt x="0" y="0"/>
                </a:moveTo>
                <a:lnTo>
                  <a:pt x="21600" y="0"/>
                </a:lnTo>
                <a:lnTo>
                  <a:pt x="21600" y="21927"/>
                </a:lnTo>
                <a:lnTo>
                  <a:pt x="0" y="21927"/>
                </a:lnTo>
                <a:close/>
              </a:path>
              <a:path fill="lightenLess" w="21600" h="219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27">
                <a:moveTo>
                  <a:pt x="21600" y="0"/>
                </a:moveTo>
                <a:lnTo>
                  <a:pt x="21600" y="21927"/>
                </a:lnTo>
                <a:lnTo>
                  <a:pt x="20200" y="20527"/>
                </a:lnTo>
                <a:lnTo>
                  <a:pt x="20200" y="1400"/>
                </a:lnTo>
                <a:close/>
              </a:path>
              <a:path fill="darkenLess" w="21600" h="21927">
                <a:moveTo>
                  <a:pt x="21600" y="21927"/>
                </a:moveTo>
                <a:lnTo>
                  <a:pt x="0" y="21927"/>
                </a:lnTo>
                <a:lnTo>
                  <a:pt x="1400" y="20527"/>
                </a:lnTo>
                <a:lnTo>
                  <a:pt x="20200" y="20527"/>
                </a:lnTo>
                <a:close/>
              </a:path>
              <a:path fill="lighten" w="21600" h="21927">
                <a:moveTo>
                  <a:pt x="0" y="219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27"/>
                </a:lnTo>
                <a:close/>
              </a:path>
              <a:path fill="darken" w="21600" h="21927">
                <a:moveTo>
                  <a:pt x="3794" y="10964"/>
                </a:moveTo>
                <a:lnTo>
                  <a:pt x="17806" y="3957"/>
                </a:lnTo>
                <a:lnTo>
                  <a:pt x="17806" y="17970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шите текст, вставьте пропущенные букв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37960" y="18572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 весна, как и прежде, уб   рала красой земл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нег падает, мелькает, вьется, л   жится пелен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Белый пар по лугам расст   ла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ам гаснет огонь машины и заж   гается другой, огонь очага или ками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Он писал, что ум   рает спокойно, потому что жалеть неч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стали зори ясные, оз   ряя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Вчера без толку просидел весь день над попл  в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угом далекая р   внина да толпы обг    релых пн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341960" y="18622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5535720" y="324468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4519800" y="27828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3133080" y="40179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3935520" y="4835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7199280" y="5219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223440" y="5759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6420960" y="5740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12"/>
          <p:cNvSpPr/>
          <p:nvPr/>
        </p:nvSpPr>
        <p:spPr>
          <a:xfrm>
            <a:off x="5586480" y="2324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611280" y="61786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Управляющая кнопка: домой 2"/>
          <p:cNvSpPr/>
          <p:nvPr/>
        </p:nvSpPr>
        <p:spPr>
          <a:xfrm>
            <a:off x="8191440" y="6156360"/>
            <a:ext cx="522360" cy="56520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65200"/>
              <a:gd name="textAreaBottom" fmla="*/ 531360 h 565200"/>
            </a:gdLst>
            <a:ahLst/>
            <a:rect l="textAreaLeft" t="textAreaTop" r="textAreaRight" b="textAreaBottom"/>
            <a:pathLst>
              <a:path w="21600" h="23370">
                <a:moveTo>
                  <a:pt x="0" y="0"/>
                </a:moveTo>
                <a:lnTo>
                  <a:pt x="21600" y="0"/>
                </a:lnTo>
                <a:lnTo>
                  <a:pt x="21600" y="23370"/>
                </a:lnTo>
                <a:lnTo>
                  <a:pt x="0" y="23370"/>
                </a:lnTo>
                <a:close/>
              </a:path>
              <a:path fill="lightenLess" w="21600" h="233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0">
                <a:moveTo>
                  <a:pt x="21600" y="0"/>
                </a:moveTo>
                <a:lnTo>
                  <a:pt x="21600" y="23370"/>
                </a:lnTo>
                <a:lnTo>
                  <a:pt x="20200" y="21970"/>
                </a:lnTo>
                <a:lnTo>
                  <a:pt x="20200" y="1400"/>
                </a:lnTo>
                <a:close/>
              </a:path>
              <a:path fill="darkenLess" w="21600" h="23370">
                <a:moveTo>
                  <a:pt x="21600" y="23370"/>
                </a:moveTo>
                <a:lnTo>
                  <a:pt x="0" y="23370"/>
                </a:lnTo>
                <a:lnTo>
                  <a:pt x="1400" y="21970"/>
                </a:lnTo>
                <a:lnTo>
                  <a:pt x="20200" y="21970"/>
                </a:lnTo>
                <a:close/>
              </a:path>
              <a:path fill="lighten" w="21600" h="23370">
                <a:moveTo>
                  <a:pt x="0" y="233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0"/>
                </a:lnTo>
                <a:close/>
              </a:path>
              <a:path fill="darken" w="21600" h="23370">
                <a:moveTo>
                  <a:pt x="10800" y="4722"/>
                </a:moveTo>
                <a:lnTo>
                  <a:pt x="13376" y="7333"/>
                </a:lnTo>
                <a:lnTo>
                  <a:pt x="13376" y="5593"/>
                </a:lnTo>
                <a:lnTo>
                  <a:pt x="15152" y="5593"/>
                </a:lnTo>
                <a:lnTo>
                  <a:pt x="15152" y="9109"/>
                </a:lnTo>
                <a:lnTo>
                  <a:pt x="17763" y="11685"/>
                </a:lnTo>
                <a:lnTo>
                  <a:pt x="16109" y="11685"/>
                </a:lnTo>
                <a:lnTo>
                  <a:pt x="16109" y="18874"/>
                </a:lnTo>
                <a:lnTo>
                  <a:pt x="5491" y="18874"/>
                </a:lnTo>
                <a:lnTo>
                  <a:pt x="5491" y="11685"/>
                </a:lnTo>
                <a:lnTo>
                  <a:pt x="3837" y="11685"/>
                </a:lnTo>
                <a:close/>
              </a:path>
              <a:path fill="darkenLess" w="21600" h="23370">
                <a:moveTo>
                  <a:pt x="13376" y="7333"/>
                </a:moveTo>
                <a:lnTo>
                  <a:pt x="13376" y="5593"/>
                </a:lnTo>
                <a:lnTo>
                  <a:pt x="15152" y="5593"/>
                </a:lnTo>
                <a:lnTo>
                  <a:pt x="15152" y="9109"/>
                </a:lnTo>
                <a:close/>
              </a:path>
              <a:path fill="darkenLess" w="21600" h="23370">
                <a:moveTo>
                  <a:pt x="9877" y="15184"/>
                </a:moveTo>
                <a:lnTo>
                  <a:pt x="11723" y="15184"/>
                </a:lnTo>
                <a:lnTo>
                  <a:pt x="11723" y="18874"/>
                </a:lnTo>
                <a:lnTo>
                  <a:pt x="16109" y="18874"/>
                </a:lnTo>
                <a:lnTo>
                  <a:pt x="16109" y="11685"/>
                </a:lnTo>
                <a:lnTo>
                  <a:pt x="5491" y="11685"/>
                </a:lnTo>
                <a:lnTo>
                  <a:pt x="5491" y="18874"/>
                </a:lnTo>
                <a:lnTo>
                  <a:pt x="9877" y="18874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0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14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35e01"/>
                </a:solidFill>
                <a:latin typeface="Corbel"/>
              </a:rPr>
              <a:t>Содерж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Определение чер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Чередования в русском язы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Из истории язы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Условия черед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Слова-исключ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Тренажер «Проверь себя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7" action="ppaction://hlinksldjump"/>
              </a:rPr>
              <a:t>Упражнение на закрепл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8" action="ppaction://hlinksldjump"/>
              </a:rPr>
              <a:t>Использованные материал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258920" y="61102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539640" y="61102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е 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языковое явление, при котором написание слов отличается при сохранении общего лексического значения однокоренных слов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Е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К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А-РЕ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Ч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НОЙ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К//Ч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ЗАП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-ОТП</a:t>
            </a:r>
            <a:r>
              <a:rPr b="0" i="1" lang="ru-RU" sz="4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РАТЬ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Е//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631800" y="6021360"/>
            <a:ext cx="574560" cy="520560"/>
          </a:xfrm>
          <a:custGeom>
            <a:avLst/>
            <a:gdLst>
              <a:gd name="textAreaLeft" fmla="*/ 33480 w 574560"/>
              <a:gd name="textAreaRight" fmla="*/ 541080 w 574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3839" h="21600">
                <a:moveTo>
                  <a:pt x="0" y="0"/>
                </a:moveTo>
                <a:lnTo>
                  <a:pt x="23839" y="0"/>
                </a:lnTo>
                <a:lnTo>
                  <a:pt x="23839" y="21600"/>
                </a:lnTo>
                <a:lnTo>
                  <a:pt x="0" y="21600"/>
                </a:lnTo>
                <a:close/>
              </a:path>
              <a:path fill="lightenLess" w="23839" h="21600">
                <a:moveTo>
                  <a:pt x="0" y="0"/>
                </a:moveTo>
                <a:lnTo>
                  <a:pt x="23839" y="0"/>
                </a:lnTo>
                <a:lnTo>
                  <a:pt x="22439" y="1400"/>
                </a:lnTo>
                <a:lnTo>
                  <a:pt x="1400" y="1400"/>
                </a:lnTo>
                <a:close/>
              </a:path>
              <a:path fill="darken" w="23839" h="21600">
                <a:moveTo>
                  <a:pt x="23839" y="0"/>
                </a:moveTo>
                <a:lnTo>
                  <a:pt x="23839" y="21600"/>
                </a:lnTo>
                <a:lnTo>
                  <a:pt x="22439" y="20200"/>
                </a:lnTo>
                <a:lnTo>
                  <a:pt x="22439" y="1400"/>
                </a:lnTo>
                <a:close/>
              </a:path>
              <a:path fill="darkenLess" w="23839" h="21600">
                <a:moveTo>
                  <a:pt x="2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9" y="20200"/>
                </a:lnTo>
                <a:close/>
              </a:path>
              <a:path fill="lighten" w="2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9" h="21600">
                <a:moveTo>
                  <a:pt x="4913" y="10800"/>
                </a:moveTo>
                <a:lnTo>
                  <a:pt x="18926" y="3794"/>
                </a:lnTo>
                <a:lnTo>
                  <a:pt x="18926" y="1780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512720" y="602136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3831" y="3794"/>
                </a:moveTo>
                <a:lnTo>
                  <a:pt x="17844" y="10800"/>
                </a:lnTo>
                <a:lnTo>
                  <a:pt x="3831" y="17806"/>
                </a:lnTo>
                <a:close/>
              </a:path>
            </a:pathLst>
          </a:custGeom>
          <a:solidFill>
            <a:srgbClr val="fed46c">
              <a:alpha val="45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Управляющая кнопка: домой 3">
            <a:hlinkClick r:id="rId1" action="ppaction://hlinksldjump"/>
          </p:cNvPr>
          <p:cNvSpPr/>
          <p:nvPr/>
        </p:nvSpPr>
        <p:spPr>
          <a:xfrm>
            <a:off x="8028000" y="602136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10837" y="3837"/>
                </a:moveTo>
                <a:lnTo>
                  <a:pt x="13414" y="6448"/>
                </a:ln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lnTo>
                  <a:pt x="17800" y="10800"/>
                </a:lnTo>
                <a:lnTo>
                  <a:pt x="16147" y="10800"/>
                </a:lnTo>
                <a:lnTo>
                  <a:pt x="16147" y="17989"/>
                </a:lnTo>
                <a:lnTo>
                  <a:pt x="5528" y="17989"/>
                </a:lnTo>
                <a:lnTo>
                  <a:pt x="5528" y="10800"/>
                </a:lnTo>
                <a:lnTo>
                  <a:pt x="3874" y="10800"/>
                </a:lnTo>
                <a:close/>
              </a:path>
              <a:path fill="darkenLess" w="21675" h="21600">
                <a:moveTo>
                  <a:pt x="13414" y="6448"/>
                </a:move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close/>
              </a:path>
              <a:path fill="darkenLess" w="21675" h="21600">
                <a:moveTo>
                  <a:pt x="9915" y="14299"/>
                </a:moveTo>
                <a:lnTo>
                  <a:pt x="11760" y="14299"/>
                </a:lnTo>
                <a:lnTo>
                  <a:pt x="11760" y="17989"/>
                </a:lnTo>
                <a:lnTo>
                  <a:pt x="16147" y="17989"/>
                </a:lnTo>
                <a:lnTo>
                  <a:pt x="16147" y="10800"/>
                </a:lnTo>
                <a:lnTo>
                  <a:pt x="5528" y="10800"/>
                </a:lnTo>
                <a:lnTo>
                  <a:pt x="5528" y="17989"/>
                </a:lnTo>
                <a:lnTo>
                  <a:pt x="9915" y="17989"/>
                </a:lnTo>
                <a:close/>
              </a:path>
            </a:pathLst>
          </a:custGeom>
          <a:solidFill>
            <a:srgbClr val="fed46c"/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я </a:t>
            </a: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в русском язы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66720" y="24048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ны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с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30" name="Прямая со стрелкой 4"/>
          <p:cNvCxnSpPr/>
          <p:nvPr/>
        </p:nvCxnSpPr>
        <p:spPr>
          <a:xfrm flipH="1">
            <a:off x="2118960" y="1222200"/>
            <a:ext cx="1224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6"/>
          <p:cNvCxnSpPr/>
          <p:nvPr/>
        </p:nvCxnSpPr>
        <p:spPr>
          <a:xfrm>
            <a:off x="5526000" y="1250640"/>
            <a:ext cx="93744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32" name="TextBox 1" descr=""/>
          <p:cNvPicPr/>
          <p:nvPr/>
        </p:nvPicPr>
        <p:blipFill>
          <a:blip r:embed="rId2"/>
          <a:stretch/>
        </p:blipFill>
        <p:spPr>
          <a:xfrm>
            <a:off x="646200" y="3017880"/>
            <a:ext cx="3919320" cy="273672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3" descr=""/>
          <p:cNvPicPr/>
          <p:nvPr/>
        </p:nvPicPr>
        <p:blipFill>
          <a:blip r:embed="rId3"/>
          <a:stretch/>
        </p:blipFill>
        <p:spPr>
          <a:xfrm>
            <a:off x="4687920" y="3164040"/>
            <a:ext cx="3992400" cy="2730240"/>
          </a:xfrm>
          <a:prstGeom prst="rect">
            <a:avLst/>
          </a:prstGeom>
          <a:ln w="0">
            <a:noFill/>
          </a:ln>
        </p:spPr>
      </p:pic>
      <p:sp>
        <p:nvSpPr>
          <p:cNvPr id="33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484200" y="6013440"/>
            <a:ext cx="522360" cy="6015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01560"/>
              <a:gd name="textAreaBottom" fmla="*/ 567720 h 601560"/>
            </a:gdLst>
            <a:ahLst/>
            <a:rect l="textAreaLeft" t="textAreaTop" r="textAreaRight" b="textAreaBottom"/>
            <a:pathLst>
              <a:path w="21600" h="24873">
                <a:moveTo>
                  <a:pt x="0" y="0"/>
                </a:moveTo>
                <a:lnTo>
                  <a:pt x="21600" y="0"/>
                </a:lnTo>
                <a:lnTo>
                  <a:pt x="21600" y="24873"/>
                </a:lnTo>
                <a:lnTo>
                  <a:pt x="0" y="24873"/>
                </a:lnTo>
                <a:close/>
              </a:path>
              <a:path fill="lightenLess" w="21600" h="248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73">
                <a:moveTo>
                  <a:pt x="21600" y="0"/>
                </a:moveTo>
                <a:lnTo>
                  <a:pt x="21600" y="24873"/>
                </a:lnTo>
                <a:lnTo>
                  <a:pt x="20200" y="23473"/>
                </a:lnTo>
                <a:lnTo>
                  <a:pt x="20200" y="1400"/>
                </a:lnTo>
                <a:close/>
              </a:path>
              <a:path fill="darkenLess" w="21600" h="24873">
                <a:moveTo>
                  <a:pt x="21600" y="24873"/>
                </a:moveTo>
                <a:lnTo>
                  <a:pt x="0" y="24873"/>
                </a:lnTo>
                <a:lnTo>
                  <a:pt x="1400" y="23473"/>
                </a:lnTo>
                <a:lnTo>
                  <a:pt x="20200" y="23473"/>
                </a:lnTo>
                <a:close/>
              </a:path>
              <a:path fill="lighten" w="21600" h="24873">
                <a:moveTo>
                  <a:pt x="0" y="248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73"/>
                </a:lnTo>
                <a:close/>
              </a:path>
              <a:path fill="darken" w="21600" h="24873">
                <a:moveTo>
                  <a:pt x="3794" y="12436"/>
                </a:moveTo>
                <a:lnTo>
                  <a:pt x="17806" y="5430"/>
                </a:lnTo>
                <a:lnTo>
                  <a:pt x="17806" y="19443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235160" y="6013440"/>
            <a:ext cx="520560" cy="601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601560"/>
              <a:gd name="textAreaBottom" fmla="*/ 568080 h 601560"/>
            </a:gdLst>
            <a:ahLst/>
            <a:rect l="textAreaLeft" t="textAreaTop" r="textAreaRight" b="textAreaBottom"/>
            <a:pathLst>
              <a:path w="21600" h="24959">
                <a:moveTo>
                  <a:pt x="0" y="0"/>
                </a:moveTo>
                <a:lnTo>
                  <a:pt x="21600" y="0"/>
                </a:lnTo>
                <a:lnTo>
                  <a:pt x="21600" y="24959"/>
                </a:lnTo>
                <a:lnTo>
                  <a:pt x="0" y="24959"/>
                </a:lnTo>
                <a:close/>
              </a:path>
              <a:path fill="lightenLess" w="21600" h="249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59">
                <a:moveTo>
                  <a:pt x="21600" y="0"/>
                </a:moveTo>
                <a:lnTo>
                  <a:pt x="21600" y="24959"/>
                </a:lnTo>
                <a:lnTo>
                  <a:pt x="20200" y="23559"/>
                </a:lnTo>
                <a:lnTo>
                  <a:pt x="20200" y="1400"/>
                </a:lnTo>
                <a:close/>
              </a:path>
              <a:path fill="darkenLess" w="21600" h="24959">
                <a:moveTo>
                  <a:pt x="21600" y="24959"/>
                </a:moveTo>
                <a:lnTo>
                  <a:pt x="0" y="24959"/>
                </a:lnTo>
                <a:lnTo>
                  <a:pt x="1400" y="23559"/>
                </a:lnTo>
                <a:lnTo>
                  <a:pt x="20200" y="23559"/>
                </a:lnTo>
                <a:close/>
              </a:path>
              <a:path fill="lighten" w="21600" h="24959">
                <a:moveTo>
                  <a:pt x="0" y="249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59"/>
                </a:lnTo>
                <a:close/>
              </a:path>
              <a:path fill="darken" w="21600" h="24959">
                <a:moveTo>
                  <a:pt x="3794" y="5473"/>
                </a:moveTo>
                <a:lnTo>
                  <a:pt x="17806" y="12479"/>
                </a:lnTo>
                <a:lnTo>
                  <a:pt x="3794" y="19486"/>
                </a:lnTo>
                <a:close/>
              </a:path>
            </a:pathLst>
          </a:custGeom>
          <a:solidFill>
            <a:srgbClr val="fed46c">
              <a:alpha val="53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Управляющая кнопка: домой 8">
            <a:hlinkClick r:id="rId4" action="ppaction://hlinksldjump"/>
          </p:cNvPr>
          <p:cNvSpPr/>
          <p:nvPr/>
        </p:nvSpPr>
        <p:spPr>
          <a:xfrm>
            <a:off x="8083440" y="5918040"/>
            <a:ext cx="520920" cy="6969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96960"/>
              <a:gd name="textAreaBottom" fmla="*/ 663480 h 696960"/>
            </a:gdLst>
            <a:ahLst/>
            <a:rect l="textAreaLeft" t="textAreaTop" r="textAreaRight" b="textAreaBottom"/>
            <a:pathLst>
              <a:path w="21600" h="28894">
                <a:moveTo>
                  <a:pt x="0" y="0"/>
                </a:moveTo>
                <a:lnTo>
                  <a:pt x="21600" y="0"/>
                </a:lnTo>
                <a:lnTo>
                  <a:pt x="21600" y="28894"/>
                </a:lnTo>
                <a:lnTo>
                  <a:pt x="0" y="28894"/>
                </a:lnTo>
                <a:close/>
              </a:path>
              <a:path fill="lightenLess" w="21600" h="28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4">
                <a:moveTo>
                  <a:pt x="21600" y="0"/>
                </a:moveTo>
                <a:lnTo>
                  <a:pt x="21600" y="28894"/>
                </a:lnTo>
                <a:lnTo>
                  <a:pt x="20200" y="27494"/>
                </a:lnTo>
                <a:lnTo>
                  <a:pt x="20200" y="1400"/>
                </a:lnTo>
                <a:close/>
              </a:path>
              <a:path fill="darkenLess" w="21600" h="28894">
                <a:moveTo>
                  <a:pt x="21600" y="28894"/>
                </a:moveTo>
                <a:lnTo>
                  <a:pt x="0" y="28894"/>
                </a:lnTo>
                <a:lnTo>
                  <a:pt x="1400" y="27494"/>
                </a:lnTo>
                <a:lnTo>
                  <a:pt x="20200" y="27494"/>
                </a:lnTo>
                <a:close/>
              </a:path>
              <a:path fill="lighten" w="21600" h="28894">
                <a:moveTo>
                  <a:pt x="0" y="28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4"/>
                </a:lnTo>
                <a:close/>
              </a:path>
              <a:path fill="darken" w="21600" h="28894">
                <a:moveTo>
                  <a:pt x="10800" y="7484"/>
                </a:moveTo>
                <a:lnTo>
                  <a:pt x="13376" y="10095"/>
                </a:lnTo>
                <a:lnTo>
                  <a:pt x="13376" y="8355"/>
                </a:lnTo>
                <a:lnTo>
                  <a:pt x="15152" y="8355"/>
                </a:lnTo>
                <a:lnTo>
                  <a:pt x="15152" y="11871"/>
                </a:lnTo>
                <a:lnTo>
                  <a:pt x="17763" y="14447"/>
                </a:lnTo>
                <a:lnTo>
                  <a:pt x="16109" y="14447"/>
                </a:lnTo>
                <a:lnTo>
                  <a:pt x="16109" y="21636"/>
                </a:lnTo>
                <a:lnTo>
                  <a:pt x="5491" y="21636"/>
                </a:lnTo>
                <a:lnTo>
                  <a:pt x="5491" y="14447"/>
                </a:lnTo>
                <a:lnTo>
                  <a:pt x="3837" y="14447"/>
                </a:lnTo>
                <a:close/>
              </a:path>
              <a:path fill="darkenLess" w="21600" h="28894">
                <a:moveTo>
                  <a:pt x="13376" y="10095"/>
                </a:moveTo>
                <a:lnTo>
                  <a:pt x="13376" y="8355"/>
                </a:lnTo>
                <a:lnTo>
                  <a:pt x="15152" y="8355"/>
                </a:lnTo>
                <a:lnTo>
                  <a:pt x="15152" y="11871"/>
                </a:lnTo>
                <a:close/>
              </a:path>
              <a:path fill="darkenLess" w="21600" h="28894">
                <a:moveTo>
                  <a:pt x="9877" y="17946"/>
                </a:moveTo>
                <a:lnTo>
                  <a:pt x="11723" y="17946"/>
                </a:lnTo>
                <a:lnTo>
                  <a:pt x="11723" y="21636"/>
                </a:lnTo>
                <a:lnTo>
                  <a:pt x="16109" y="21636"/>
                </a:lnTo>
                <a:lnTo>
                  <a:pt x="16109" y="14447"/>
                </a:lnTo>
                <a:lnTo>
                  <a:pt x="5491" y="14447"/>
                </a:lnTo>
                <a:lnTo>
                  <a:pt x="5491" y="21636"/>
                </a:lnTo>
                <a:lnTo>
                  <a:pt x="9877" y="21636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*Из  истории язы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24000" y="90792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ередования   согласных и гласных    возникли   в праславянском   языке  с </a:t>
            </a:r>
            <a:r>
              <a:rPr b="1" i="1" lang="ru-RU" sz="2800" spc="-1" strike="noStrike">
                <a:solidFill>
                  <a:srgbClr val="27130e"/>
                </a:solidFill>
                <a:latin typeface="Corbel"/>
              </a:rPr>
              <a:t>падением редуцированных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 Действием закона </a:t>
            </a:r>
            <a:r>
              <a:rPr b="1" i="1" lang="ru-RU" sz="2800" spc="-1" strike="noStrike">
                <a:solidFill>
                  <a:srgbClr val="27130e"/>
                </a:solidFill>
                <a:latin typeface="Corbel"/>
              </a:rPr>
              <a:t>палатализации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в праславянскую  эпоху   обусловлены     следующие современные чередовани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 палатализация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//Ч;Г//Ж;Х//Ш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ру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а-ру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ч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I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//Ц;Г//З;Х//Ц 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Б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г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-в Б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з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II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//Ц;Г//З    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кня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з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ь-кня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г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иня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130e"/>
                </a:solidFill>
                <a:latin typeface="Gill Sans MT"/>
              </a:rPr>
              <a:t>IV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алатализация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//БЛ;В//ВЛ 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л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в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ить-ло</a:t>
            </a: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вл</a:t>
            </a:r>
            <a:r>
              <a:rPr b="0" i="1" lang="ru-RU" sz="2800" spc="-1" strike="noStrike">
                <a:solidFill>
                  <a:srgbClr val="002060"/>
                </a:solidFill>
                <a:latin typeface="Corbe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468360" y="5973840"/>
            <a:ext cx="522360" cy="5223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522360"/>
              <a:gd name="textAreaBottom" fmla="*/ 4885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5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332000" y="5979960"/>
            <a:ext cx="520560" cy="5209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fed46c">
              <a:alpha val="46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Управляющая кнопка: домой 3">
            <a:hlinkClick r:id="rId1" action="ppaction://hlinksldjump"/>
          </p:cNvPr>
          <p:cNvSpPr/>
          <p:nvPr/>
        </p:nvSpPr>
        <p:spPr>
          <a:xfrm>
            <a:off x="8244000" y="5904000"/>
            <a:ext cx="522000" cy="666720"/>
          </a:xfrm>
          <a:custGeom>
            <a:avLst/>
            <a:gdLst>
              <a:gd name="textAreaLeft" fmla="*/ 33840 w 522000"/>
              <a:gd name="textAreaRight" fmla="*/ 488160 w 522000"/>
              <a:gd name="textAreaTop" fmla="*/ 33840 h 666720"/>
              <a:gd name="textAreaBottom" fmla="*/ 632880 h 666720"/>
            </a:gdLst>
            <a:ahLst/>
            <a:rect l="textAreaLeft" t="textAreaTop" r="textAreaRight" b="textAreaBottom"/>
            <a:pathLst>
              <a:path w="21600" h="27584">
                <a:moveTo>
                  <a:pt x="0" y="0"/>
                </a:moveTo>
                <a:lnTo>
                  <a:pt x="21600" y="0"/>
                </a:lnTo>
                <a:lnTo>
                  <a:pt x="21600" y="27584"/>
                </a:lnTo>
                <a:lnTo>
                  <a:pt x="0" y="27584"/>
                </a:lnTo>
                <a:close/>
              </a:path>
              <a:path fill="lightenLess" w="21600" h="275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84">
                <a:moveTo>
                  <a:pt x="21600" y="0"/>
                </a:moveTo>
                <a:lnTo>
                  <a:pt x="21600" y="27584"/>
                </a:lnTo>
                <a:lnTo>
                  <a:pt x="20200" y="26184"/>
                </a:lnTo>
                <a:lnTo>
                  <a:pt x="20200" y="1400"/>
                </a:lnTo>
                <a:close/>
              </a:path>
              <a:path fill="darkenLess" w="21600" h="27584">
                <a:moveTo>
                  <a:pt x="21600" y="27584"/>
                </a:moveTo>
                <a:lnTo>
                  <a:pt x="0" y="27584"/>
                </a:lnTo>
                <a:lnTo>
                  <a:pt x="1400" y="26184"/>
                </a:lnTo>
                <a:lnTo>
                  <a:pt x="20200" y="26184"/>
                </a:lnTo>
                <a:close/>
              </a:path>
              <a:path fill="lighten" w="21600" h="27584">
                <a:moveTo>
                  <a:pt x="0" y="275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84"/>
                </a:lnTo>
                <a:close/>
              </a:path>
              <a:path fill="darken" w="21600" h="27584">
                <a:moveTo>
                  <a:pt x="10800" y="6829"/>
                </a:moveTo>
                <a:lnTo>
                  <a:pt x="13376" y="9440"/>
                </a:lnTo>
                <a:lnTo>
                  <a:pt x="13376" y="7700"/>
                </a:lnTo>
                <a:lnTo>
                  <a:pt x="15152" y="7700"/>
                </a:lnTo>
                <a:lnTo>
                  <a:pt x="15152" y="11216"/>
                </a:lnTo>
                <a:lnTo>
                  <a:pt x="17763" y="13792"/>
                </a:lnTo>
                <a:lnTo>
                  <a:pt x="16109" y="13792"/>
                </a:lnTo>
                <a:lnTo>
                  <a:pt x="16109" y="20981"/>
                </a:lnTo>
                <a:lnTo>
                  <a:pt x="5491" y="20981"/>
                </a:lnTo>
                <a:lnTo>
                  <a:pt x="5491" y="13792"/>
                </a:lnTo>
                <a:lnTo>
                  <a:pt x="3837" y="13792"/>
                </a:lnTo>
                <a:close/>
              </a:path>
              <a:path fill="darkenLess" w="21600" h="27584">
                <a:moveTo>
                  <a:pt x="13376" y="9440"/>
                </a:moveTo>
                <a:lnTo>
                  <a:pt x="13376" y="7700"/>
                </a:lnTo>
                <a:lnTo>
                  <a:pt x="15152" y="7700"/>
                </a:lnTo>
                <a:lnTo>
                  <a:pt x="15152" y="11216"/>
                </a:lnTo>
                <a:close/>
              </a:path>
              <a:path fill="darkenLess" w="21600" h="27584">
                <a:moveTo>
                  <a:pt x="9877" y="17291"/>
                </a:moveTo>
                <a:lnTo>
                  <a:pt x="11723" y="17291"/>
                </a:lnTo>
                <a:lnTo>
                  <a:pt x="11723" y="20981"/>
                </a:lnTo>
                <a:lnTo>
                  <a:pt x="16109" y="20981"/>
                </a:lnTo>
                <a:lnTo>
                  <a:pt x="16109" y="13792"/>
                </a:lnTo>
                <a:lnTo>
                  <a:pt x="5491" y="13792"/>
                </a:lnTo>
                <a:lnTo>
                  <a:pt x="5491" y="20981"/>
                </a:lnTo>
                <a:lnTo>
                  <a:pt x="9877" y="20981"/>
                </a:lnTo>
                <a:close/>
              </a:path>
            </a:pathLst>
          </a:custGeom>
          <a:solidFill>
            <a:srgbClr val="fed46c">
              <a:alpha val="49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словия чередования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1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личие суффикса –А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2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Уда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3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Чередование согласных в корн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4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4" action="ppaction://hlinksldjump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5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5" action="ppaction://hlinksldjump"/>
              </a:rPr>
              <a:t>Требуется запомин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7130e"/>
                </a:solidFill>
                <a:latin typeface="Corbel"/>
              </a:rPr>
              <a:t>6.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6" action="ppaction://hlinksldjump"/>
              </a:rPr>
              <a:t>Слова-исключ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415800" y="5823000"/>
            <a:ext cx="520920" cy="65700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657000"/>
              <a:gd name="textAreaBottom" fmla="*/ 623520 h 657000"/>
            </a:gdLst>
            <a:ahLst/>
            <a:rect l="textAreaLeft" t="textAreaTop" r="textAreaRight" b="textAreaBottom"/>
            <a:pathLst>
              <a:path w="21600" h="27239">
                <a:moveTo>
                  <a:pt x="0" y="0"/>
                </a:moveTo>
                <a:lnTo>
                  <a:pt x="21600" y="0"/>
                </a:lnTo>
                <a:lnTo>
                  <a:pt x="21600" y="27239"/>
                </a:lnTo>
                <a:lnTo>
                  <a:pt x="0" y="27239"/>
                </a:lnTo>
                <a:close/>
              </a:path>
              <a:path fill="lightenLess" w="21600" h="27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39">
                <a:moveTo>
                  <a:pt x="21600" y="0"/>
                </a:moveTo>
                <a:lnTo>
                  <a:pt x="21600" y="27239"/>
                </a:lnTo>
                <a:lnTo>
                  <a:pt x="20200" y="25839"/>
                </a:lnTo>
                <a:lnTo>
                  <a:pt x="20200" y="1400"/>
                </a:lnTo>
                <a:close/>
              </a:path>
              <a:path fill="darkenLess" w="21600" h="27239">
                <a:moveTo>
                  <a:pt x="21600" y="27239"/>
                </a:moveTo>
                <a:lnTo>
                  <a:pt x="0" y="27239"/>
                </a:lnTo>
                <a:lnTo>
                  <a:pt x="1400" y="25839"/>
                </a:lnTo>
                <a:lnTo>
                  <a:pt x="20200" y="25839"/>
                </a:lnTo>
                <a:close/>
              </a:path>
              <a:path fill="lighten" w="21600" h="27239">
                <a:moveTo>
                  <a:pt x="0" y="27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39"/>
                </a:lnTo>
                <a:close/>
              </a:path>
              <a:path fill="darken" w="21600" h="27239">
                <a:moveTo>
                  <a:pt x="3794" y="13619"/>
                </a:moveTo>
                <a:lnTo>
                  <a:pt x="17806" y="6613"/>
                </a:lnTo>
                <a:lnTo>
                  <a:pt x="17806" y="20626"/>
                </a:lnTo>
                <a:close/>
              </a:path>
            </a:pathLst>
          </a:custGeom>
          <a:solidFill>
            <a:srgbClr val="fed46c">
              <a:alpha val="6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1258920" y="5823000"/>
            <a:ext cx="522360" cy="628560"/>
          </a:xfrm>
          <a:custGeom>
            <a:avLst/>
            <a:gdLst>
              <a:gd name="textAreaLeft" fmla="*/ 33840 w 522360"/>
              <a:gd name="textAreaRight" fmla="*/ 488520 w 522360"/>
              <a:gd name="textAreaTop" fmla="*/ 33840 h 628560"/>
              <a:gd name="textAreaBottom" fmla="*/ 594720 h 628560"/>
            </a:gdLst>
            <a:ahLst/>
            <a:rect l="textAreaLeft" t="textAreaTop" r="textAreaRight" b="textAreaBottom"/>
            <a:pathLst>
              <a:path w="21600" h="25988">
                <a:moveTo>
                  <a:pt x="0" y="0"/>
                </a:moveTo>
                <a:lnTo>
                  <a:pt x="21600" y="0"/>
                </a:lnTo>
                <a:lnTo>
                  <a:pt x="21600" y="25988"/>
                </a:lnTo>
                <a:lnTo>
                  <a:pt x="0" y="25988"/>
                </a:lnTo>
                <a:close/>
              </a:path>
              <a:path fill="lightenLess" w="21600" h="2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88">
                <a:moveTo>
                  <a:pt x="21600" y="0"/>
                </a:moveTo>
                <a:lnTo>
                  <a:pt x="21600" y="25988"/>
                </a:lnTo>
                <a:lnTo>
                  <a:pt x="20200" y="24588"/>
                </a:lnTo>
                <a:lnTo>
                  <a:pt x="20200" y="1400"/>
                </a:lnTo>
                <a:close/>
              </a:path>
              <a:path fill="darkenLess" w="21600" h="25988">
                <a:moveTo>
                  <a:pt x="21600" y="25988"/>
                </a:moveTo>
                <a:lnTo>
                  <a:pt x="0" y="25988"/>
                </a:lnTo>
                <a:lnTo>
                  <a:pt x="1400" y="24588"/>
                </a:lnTo>
                <a:lnTo>
                  <a:pt x="20200" y="24588"/>
                </a:lnTo>
                <a:close/>
              </a:path>
              <a:path fill="lighten" w="21600" h="25988">
                <a:moveTo>
                  <a:pt x="0" y="2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88"/>
                </a:lnTo>
                <a:close/>
              </a:path>
              <a:path fill="darken" w="21600" h="25988">
                <a:moveTo>
                  <a:pt x="3794" y="5988"/>
                </a:moveTo>
                <a:lnTo>
                  <a:pt x="17806" y="12994"/>
                </a:lnTo>
                <a:lnTo>
                  <a:pt x="3794" y="20001"/>
                </a:lnTo>
                <a:close/>
              </a:path>
            </a:pathLst>
          </a:custGeom>
          <a:solidFill>
            <a:srgbClr val="fed46c">
              <a:alpha val="50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Управляющая кнопка: домой 3">
            <a:hlinkClick r:id="rId7" action="ppaction://hlinksldjump"/>
          </p:cNvPr>
          <p:cNvSpPr/>
          <p:nvPr/>
        </p:nvSpPr>
        <p:spPr>
          <a:xfrm>
            <a:off x="8361360" y="5904000"/>
            <a:ext cx="520560" cy="5223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2360"/>
              <a:gd name="textAreaBottom" fmla="*/ 488880 h 522360"/>
            </a:gdLst>
            <a:ahLst/>
            <a:rect l="textAreaLeft" t="textAreaTop" r="textAreaRight" b="textAreaBottom"/>
            <a:pathLst>
              <a:path w="21600" h="21675">
                <a:moveTo>
                  <a:pt x="0" y="0"/>
                </a:moveTo>
                <a:lnTo>
                  <a:pt x="21600" y="0"/>
                </a:lnTo>
                <a:lnTo>
                  <a:pt x="21600" y="21675"/>
                </a:lnTo>
                <a:lnTo>
                  <a:pt x="0" y="21675"/>
                </a:lnTo>
                <a:close/>
              </a:path>
              <a:path fill="lightenLess" w="21600" h="21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5">
                <a:moveTo>
                  <a:pt x="21600" y="0"/>
                </a:moveTo>
                <a:lnTo>
                  <a:pt x="21600" y="21675"/>
                </a:lnTo>
                <a:lnTo>
                  <a:pt x="20200" y="20275"/>
                </a:lnTo>
                <a:lnTo>
                  <a:pt x="20200" y="1400"/>
                </a:lnTo>
                <a:close/>
              </a:path>
              <a:path fill="darkenLess" w="21600" h="21675">
                <a:moveTo>
                  <a:pt x="21600" y="21675"/>
                </a:moveTo>
                <a:lnTo>
                  <a:pt x="0" y="21675"/>
                </a:lnTo>
                <a:lnTo>
                  <a:pt x="1400" y="20275"/>
                </a:lnTo>
                <a:lnTo>
                  <a:pt x="20200" y="20275"/>
                </a:lnTo>
                <a:close/>
              </a:path>
              <a:path fill="lighten" w="21600" h="21675">
                <a:moveTo>
                  <a:pt x="0" y="21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5"/>
                </a:lnTo>
                <a:close/>
              </a:path>
              <a:path fill="darken" w="21600" h="21675">
                <a:moveTo>
                  <a:pt x="10800" y="3874"/>
                </a:moveTo>
                <a:lnTo>
                  <a:pt x="13376" y="6485"/>
                </a:lnTo>
                <a:lnTo>
                  <a:pt x="13376" y="4745"/>
                </a:lnTo>
                <a:lnTo>
                  <a:pt x="15152" y="4745"/>
                </a:lnTo>
                <a:lnTo>
                  <a:pt x="15152" y="8261"/>
                </a:lnTo>
                <a:lnTo>
                  <a:pt x="17763" y="10837"/>
                </a:lnTo>
                <a:lnTo>
                  <a:pt x="16109" y="10837"/>
                </a:lnTo>
                <a:lnTo>
                  <a:pt x="16109" y="18027"/>
                </a:lnTo>
                <a:lnTo>
                  <a:pt x="5491" y="18027"/>
                </a:lnTo>
                <a:lnTo>
                  <a:pt x="5491" y="10837"/>
                </a:lnTo>
                <a:lnTo>
                  <a:pt x="3837" y="10837"/>
                </a:lnTo>
                <a:close/>
              </a:path>
              <a:path fill="darkenLess" w="21600" h="21675">
                <a:moveTo>
                  <a:pt x="13376" y="6485"/>
                </a:moveTo>
                <a:lnTo>
                  <a:pt x="13376" y="4745"/>
                </a:lnTo>
                <a:lnTo>
                  <a:pt x="15152" y="4745"/>
                </a:lnTo>
                <a:lnTo>
                  <a:pt x="15152" y="8261"/>
                </a:lnTo>
                <a:close/>
              </a:path>
              <a:path fill="darkenLess" w="21600" h="21675">
                <a:moveTo>
                  <a:pt x="9877" y="14336"/>
                </a:moveTo>
                <a:lnTo>
                  <a:pt x="11723" y="14336"/>
                </a:lnTo>
                <a:lnTo>
                  <a:pt x="11723" y="18027"/>
                </a:lnTo>
                <a:lnTo>
                  <a:pt x="16109" y="18027"/>
                </a:lnTo>
                <a:lnTo>
                  <a:pt x="16109" y="10837"/>
                </a:lnTo>
                <a:lnTo>
                  <a:pt x="5491" y="10837"/>
                </a:lnTo>
                <a:lnTo>
                  <a:pt x="5491" y="18027"/>
                </a:lnTo>
                <a:lnTo>
                  <a:pt x="9877" y="18027"/>
                </a:lnTo>
                <a:close/>
              </a:path>
            </a:pathLst>
          </a:custGeom>
          <a:solidFill>
            <a:srgbClr val="fed46c">
              <a:alpha val="54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личие суффикса -А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640" y="980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с-кас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ри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кос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уться-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кас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-б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с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у-под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-п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от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п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п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р-д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д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-при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д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р-т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т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от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т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р-мир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у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мер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 с 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мир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г-жиг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жег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-за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жиг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ет-чит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чет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ы-вы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чит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ел-стил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по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стел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ить-рас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стил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ь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лест-блист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лест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еть-</a:t>
            </a:r>
            <a:r>
              <a:rPr b="0" i="1" lang="ru-RU" sz="2800" spc="-1" strike="noStrike">
                <a:solidFill>
                  <a:srgbClr val="3b1d15"/>
                </a:solidFill>
                <a:latin typeface="Corbel"/>
              </a:rPr>
              <a:t>блист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а</a:t>
            </a:r>
            <a:r>
              <a:rPr b="0" i="1" lang="ru-RU" sz="2800" spc="-1" strike="noStrike">
                <a:solidFill>
                  <a:srgbClr val="835e01"/>
                </a:solidFill>
                <a:latin typeface="Corbel"/>
              </a:rPr>
              <a:t>тель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99960" y="6119640"/>
            <a:ext cx="520920" cy="52092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3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Управляющая кнопка: домой 3">
            <a:hlinkClick r:id="rId1" action="ppaction://hlinksldjump"/>
          </p:cNvPr>
          <p:cNvSpPr/>
          <p:nvPr/>
        </p:nvSpPr>
        <p:spPr>
          <a:xfrm>
            <a:off x="8423280" y="6097680"/>
            <a:ext cx="522360" cy="520560"/>
          </a:xfrm>
          <a:custGeom>
            <a:avLst/>
            <a:gdLst>
              <a:gd name="textAreaLeft" fmla="*/ 33480 w 522360"/>
              <a:gd name="textAreaRight" fmla="*/ 488880 w 5223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75" h="21600">
                <a:moveTo>
                  <a:pt x="0" y="0"/>
                </a:moveTo>
                <a:lnTo>
                  <a:pt x="21675" y="0"/>
                </a:lnTo>
                <a:lnTo>
                  <a:pt x="21675" y="21600"/>
                </a:lnTo>
                <a:lnTo>
                  <a:pt x="0" y="21600"/>
                </a:lnTo>
                <a:close/>
              </a:path>
              <a:path fill="lightenLess" w="21675" h="21600">
                <a:moveTo>
                  <a:pt x="0" y="0"/>
                </a:moveTo>
                <a:lnTo>
                  <a:pt x="21675" y="0"/>
                </a:lnTo>
                <a:lnTo>
                  <a:pt x="20275" y="1400"/>
                </a:lnTo>
                <a:lnTo>
                  <a:pt x="1400" y="1400"/>
                </a:lnTo>
                <a:close/>
              </a:path>
              <a:path fill="darken" w="21675" h="21600">
                <a:moveTo>
                  <a:pt x="21675" y="0"/>
                </a:moveTo>
                <a:lnTo>
                  <a:pt x="21675" y="21600"/>
                </a:lnTo>
                <a:lnTo>
                  <a:pt x="20275" y="20200"/>
                </a:lnTo>
                <a:lnTo>
                  <a:pt x="20275" y="1400"/>
                </a:lnTo>
                <a:close/>
              </a:path>
              <a:path fill="darkenLess" w="21675" h="21600">
                <a:moveTo>
                  <a:pt x="21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5" y="20200"/>
                </a:lnTo>
                <a:close/>
              </a:path>
              <a:path fill="lighten" w="21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5" h="21600">
                <a:moveTo>
                  <a:pt x="10837" y="3837"/>
                </a:moveTo>
                <a:lnTo>
                  <a:pt x="13414" y="6448"/>
                </a:ln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lnTo>
                  <a:pt x="17800" y="10800"/>
                </a:lnTo>
                <a:lnTo>
                  <a:pt x="16147" y="10800"/>
                </a:lnTo>
                <a:lnTo>
                  <a:pt x="16147" y="17989"/>
                </a:lnTo>
                <a:lnTo>
                  <a:pt x="5528" y="17989"/>
                </a:lnTo>
                <a:lnTo>
                  <a:pt x="5528" y="10800"/>
                </a:lnTo>
                <a:lnTo>
                  <a:pt x="3874" y="10800"/>
                </a:lnTo>
                <a:close/>
              </a:path>
              <a:path fill="darkenLess" w="21675" h="21600">
                <a:moveTo>
                  <a:pt x="13414" y="6448"/>
                </a:moveTo>
                <a:lnTo>
                  <a:pt x="13414" y="4707"/>
                </a:lnTo>
                <a:lnTo>
                  <a:pt x="15189" y="4707"/>
                </a:lnTo>
                <a:lnTo>
                  <a:pt x="15189" y="8224"/>
                </a:lnTo>
                <a:close/>
              </a:path>
              <a:path fill="darkenLess" w="21675" h="21600">
                <a:moveTo>
                  <a:pt x="9915" y="14299"/>
                </a:moveTo>
                <a:lnTo>
                  <a:pt x="11760" y="14299"/>
                </a:lnTo>
                <a:lnTo>
                  <a:pt x="11760" y="17989"/>
                </a:lnTo>
                <a:lnTo>
                  <a:pt x="16147" y="17989"/>
                </a:lnTo>
                <a:lnTo>
                  <a:pt x="16147" y="10800"/>
                </a:lnTo>
                <a:lnTo>
                  <a:pt x="5528" y="10800"/>
                </a:lnTo>
                <a:lnTo>
                  <a:pt x="5528" y="17989"/>
                </a:lnTo>
                <a:lnTo>
                  <a:pt x="9915" y="17989"/>
                </a:lnTo>
                <a:close/>
              </a:path>
            </a:pathLst>
          </a:custGeom>
          <a:solidFill>
            <a:srgbClr val="fed46c">
              <a:alpha val="55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дар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147744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ор-з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//о//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р-г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он-клан   о//а//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вор-тва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//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1"/>
          <p:cNvSpPr/>
          <p:nvPr/>
        </p:nvSpPr>
        <p:spPr>
          <a:xfrm>
            <a:off x="3251520" y="14097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3718440" y="14097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271320" y="25891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402360" y="374004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3807360" y="37069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238200" y="483552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684240" y="4932360"/>
            <a:ext cx="2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4356000" y="1628640"/>
            <a:ext cx="41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а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ние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за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г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еть-за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га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он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ться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ан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яться-п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кло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о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ить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арь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i="1" lang="ru-RU" sz="2400" spc="-1" strike="noStrike">
                <a:solidFill>
                  <a:srgbClr val="1c4853"/>
                </a:solidFill>
                <a:latin typeface="Century Schoolbook"/>
              </a:rPr>
              <a:t>твор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че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Управляющая кнопка: назад 2">
            <a:hlinkClick r:id="rId1" action="ppaction://hlinksldjump"/>
          </p:cNvPr>
          <p:cNvSpPr/>
          <p:nvPr/>
        </p:nvSpPr>
        <p:spPr>
          <a:xfrm>
            <a:off x="493560" y="5950080"/>
            <a:ext cx="520920" cy="520560"/>
          </a:xfrm>
          <a:custGeom>
            <a:avLst/>
            <a:gdLst>
              <a:gd name="textAreaLeft" fmla="*/ 33480 w 520920"/>
              <a:gd name="textAreaRight" fmla="*/ 487440 w 52092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d46c">
              <a:alpha val="44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Управляющая кнопка: домой 3">
            <a:hlinkClick r:id="rId2" action="ppaction://hlinksldjump"/>
          </p:cNvPr>
          <p:cNvSpPr/>
          <p:nvPr/>
        </p:nvSpPr>
        <p:spPr>
          <a:xfrm>
            <a:off x="8272440" y="5925960"/>
            <a:ext cx="520560" cy="52092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едования согласных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-рос-ращ О//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аст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ие-вы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ос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з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ращ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н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как-скоч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//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ска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ь-в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скоч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аг-лож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О//А    из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лаг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ть-по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лож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Управляющая кнопка: назад 1">
            <a:hlinkClick r:id="rId1" action="ppaction://hlinksldjump"/>
          </p:cNvPr>
          <p:cNvSpPr/>
          <p:nvPr/>
        </p:nvSpPr>
        <p:spPr>
          <a:xfrm>
            <a:off x="495360" y="5977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d46c">
              <a:alpha val="48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Управляющая кнопка: домой 2">
            <a:hlinkClick r:id="rId2" action="ppaction://hlinksldjump"/>
          </p:cNvPr>
          <p:cNvSpPr/>
          <p:nvPr/>
        </p:nvSpPr>
        <p:spPr>
          <a:xfrm>
            <a:off x="8217000" y="5977080"/>
            <a:ext cx="520560" cy="520560"/>
          </a:xfrm>
          <a:custGeom>
            <a:avLst/>
            <a:gdLst>
              <a:gd name="textAreaLeft" fmla="*/ 33480 w 520560"/>
              <a:gd name="textAreaRight" fmla="*/ 487080 w 52056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ed46c">
              <a:alpha val="51000"/>
            </a:srgbClr>
          </a:solidFill>
          <a:ln w="25560">
            <a:solidFill>
              <a:srgbClr val="fed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0:42:48Z</dcterms:created>
  <dc:creator>учитель</dc:creator>
  <dc:description/>
  <dc:language>en-US</dc:language>
  <cp:lastModifiedBy>Пользователь</cp:lastModifiedBy>
  <dcterms:modified xsi:type="dcterms:W3CDTF">2018-11-27T13:49:45Z</dcterms:modified>
  <cp:revision>50</cp:revision>
  <dc:subject/>
  <dc:title>Корни  с чередованием</dc:title>
</cp:coreProperties>
</file>