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6CEE-4099-41A2-8730-9645AE469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9974-89AC-45FD-95C7-453C45028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26EE-1A08-4E85-9570-7C9D137D5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82B0-593E-4E3B-9D16-D02ABF6E2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4C195-5C73-4A48-8C75-3D8F5B74D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2E927-AA7C-4157-837C-806C5C16D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4420A-BB3C-4E0D-93B3-DB2B6DF27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04EA7-86C2-4DC9-AB5B-2B5E3A629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B8698-85E6-4F85-B865-5CD06C59F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AC5A8-4EC7-4D92-BF7A-6D0C38925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E1044-3C17-4D38-A04B-31E57A43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BBEC-A72B-421F-9B84-BF315D5C1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197CB-6F22-4CA9-8E40-560DD9FF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E2B6C-EB58-4A14-9057-60064D73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71111-2BF3-4D19-98A3-21E9A3E58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52447-83DB-41D8-BF2B-3FFA4F136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B1A6E-3BF3-43E1-BE55-90A3450A7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1BE97-D152-46A0-82CE-C2C0EC8D0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C98D6-F1CC-4B49-830D-2416FB53A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25FE9-AE1B-4E0C-ACB2-46890EC59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5260C-F7FE-4191-B691-F7F45B1D9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19CD5-02A4-4869-931D-1ABE1E2AF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08DB-FE5D-49B0-9020-1449175DF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563BF-6B03-4A26-8639-FD906F851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E39F8-9449-43A0-A781-DF759920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37646-B259-4EAF-99BA-24A862B6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04438-D6ED-41C3-AD76-7D1BADAB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3785A-E73F-4DA5-B936-834C4EA47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35908-21A0-4038-BBE6-D19D616DC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302A5-40DD-4CD6-97F7-A52DB98BD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E0376-2ADF-492C-8163-9CC4278DD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EB0F4-26A1-4849-9B19-435032F82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5713D-068F-4E50-8B6F-4043F12DA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60D9-4B59-4DC8-AA11-C0B6A13BD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96CF1-D221-419C-99B5-6A5FD84BF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74C44-3DDA-4DBE-81B4-352DDC63A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C527B-BDDC-4540-A98E-082F6BDAD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A4B5A-6DFF-47AB-A140-7AD7B7D8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A0CF3-5435-4C46-94A3-BBA9BDB3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C9755-4E7D-4C2D-9034-CBA4F3D6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ED592-5E30-48A3-A31A-4988244CE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8AB33-C5A7-48EF-9FF1-1BC88780A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BB257-DA1B-4BDA-9447-BAB4A46BF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6F57D-8E77-4FD3-ACE3-2EA31E817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80D8-6F75-4286-A702-2C1AE79D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136C5-B14B-47BE-89C7-5A44E888A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A8D8F-4A16-4405-9967-9E7B3C5BB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1403C-CE78-4BDE-A96D-7E562CBD5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69818-CD7C-496D-B088-49CFDCE4C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CDEB5-50FB-49E9-AC01-E482223DD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C8241-F7E0-4B94-BF76-C7436118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35E60-AE42-4609-ABEE-8786EC23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02226-91A4-4BEF-8DA0-91DAB4D7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BC3EB-CA17-489F-8CD7-DF3F00459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6825B-51F6-49B8-A832-9EC9C3B1F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B66A-859A-45C2-8C3F-B58D9B922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E350E-F548-4CC0-921B-4E22FA479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C76DF-73F3-4928-8321-E0A63E70F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AAAA0-1F04-4EA3-8D7F-B370A5AB5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382E7-A7A3-4355-B274-FB8B20F6E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D7E8A-9BC6-4D0C-B92D-946287DDD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C3863F-F4FB-4746-8D71-409B6E88C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B5325-B387-443E-B5C3-74F1414C4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49BF05-0C0A-4323-A71F-DE015C01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680155-A26D-420F-A0C9-C44FA279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2EC882-6B46-425F-A059-A90428D7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011C-533C-496B-841B-BC352461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2C133E-80EE-40C3-A799-583E857B5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60178-53C0-4917-B624-C6AFEB5F3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55A03-84F7-45AE-89D8-1F54D01A3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F3BB9-4148-4E1E-92C9-4DDECDB71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E65A82-65FF-45CB-9E33-98DEB435A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02EDD-5163-4D53-9EC0-F5BBCFE3E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1D35E-B31E-483A-B0E0-97D6867AF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9F824-BA7A-4F2C-91B0-D208FF273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8BCFC-25E2-4B65-8F27-393D4AB2D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B905C-278F-41A0-B55B-DBD706D3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7ADD-1152-49A7-837C-2BA9BFF0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52B8A7-83FA-42BC-9947-5B70C498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2A1588-2338-4BA4-91C3-44EFE031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06C2E6-95CD-4A7B-AB0E-A13056280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4425F1-CA70-4697-B0D5-BEF742265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1D981D-6329-4A5B-8181-151BB935D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A133-0AD1-4344-B1AF-7E4C3600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FC95D-F5FD-4D42-8C77-971F327F2CF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8666A-A72F-44B2-8F11-A34FA87CA13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33ADD-1072-4870-AF83-635E15FB8EF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BF2C9-A7AC-4EEA-9CF8-946E7CCB306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C7631-7525-433A-AE5E-379D9E45518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FE19E-99C2-4185-9898-A933B95B0F6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D0413-7F36-46FB-9E9D-D1948EED4B3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WordArt 3"/>
          <p:cNvSpPr txBox="1"/>
          <p:nvPr/>
        </p:nvSpPr>
        <p:spPr>
          <a:xfrm>
            <a:off x="1143000" y="857160"/>
            <a:ext cx="7000920" cy="14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19" name="TextBox 4"/>
          <p:cNvSpPr/>
          <p:nvPr/>
        </p:nvSpPr>
        <p:spPr>
          <a:xfrm>
            <a:off x="1116000" y="1268280"/>
            <a:ext cx="5959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РФОЛОГИЧЕСКИЙ РАЗБОР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НАМЕНАТЕЛЬНЫХ И СЛУЖЕБНЫ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АСТЕЙ РЕ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214200" y="213840"/>
            <a:ext cx="8715600" cy="63579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)</a:t>
            </a:r>
            <a:r>
              <a:rPr b="0" i="1" lang="ru-RU" sz="3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</a:t>
            </a:r>
            <a:r>
              <a:rPr b="1" i="1" lang="ru-RU" sz="3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орфологический разбор глагола</a:t>
            </a:r>
            <a:endParaRPr b="0" lang="en-US" sz="38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морфологических признаков: постоянные признаки -вид (совершенный - что сделать?, несовершенный - что делать?), переходный (способный управлять существительным в вин. падеже без предлога), непереходный, спряжение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возвратный (невозвратный); непостоянные признаки - время (прошедшее, настоящее, будущее), наклонение (изъявительное, сослагательное (условное), повелительное), лицо, число, род (в прошедшем времени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ец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плы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глагол,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.Ф. - проплыть, совершенный вид, непереходный, изъявительное наклонение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яжение, невозвратный; в прошедшем времени, в ед. числе, в м. роде,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предложении – сказуемо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214200" y="214200"/>
            <a:ext cx="8715600" cy="62150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)</a:t>
            </a:r>
            <a:r>
              <a:rPr b="0" i="1" lang="ru-RU" sz="2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орфологический разбор деепричастия (особая форма глагола)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пределение морфологических признаков: постоянные признаки -вид (совершенный или несовершенный), неизменяемость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разец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0" i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бирая</a:t>
            </a:r>
            <a:r>
              <a:rPr b="0" i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деепричастие, набирая, несовершенный вид, неизменяемый, в предложении - обстоятельство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285840" y="214200"/>
            <a:ext cx="8572320" cy="607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г)</a:t>
            </a:r>
            <a:r>
              <a:rPr b="0" i="1" lang="ru-RU" sz="2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орфологический разбор причастия (особая форма глагола)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пределение морфологических признаков: постоянные признаки - вид (совершенный или несовершенный), время, действительное (страдательное); непостоянные признаки - полная или краткая форма (у страдательных причастий), падеж (у причастий в полной форме), число, род.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разец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r>
              <a:rPr b="0" i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плывающую </a:t>
            </a:r>
            <a:r>
              <a:rPr b="0" i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— </a:t>
            </a: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частие, проплывающий, действительное, настоящего времени; в винительном падеже, в ед. числе, в ж. роде, в предложении - определение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2"/>
          <p:cNvSpPr/>
          <p:nvPr/>
        </p:nvSpPr>
        <p:spPr>
          <a:xfrm>
            <a:off x="2049120" y="1440"/>
            <a:ext cx="473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d33a0"/>
                </a:solidFill>
                <a:latin typeface="Georgia"/>
                <a:ea typeface="Times New Roman"/>
              </a:rPr>
              <a:t>Имя прилагатель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3"/>
          <p:cNvSpPr/>
          <p:nvPr/>
        </p:nvSpPr>
        <p:spPr>
          <a:xfrm>
            <a:off x="4444200" y="4085640"/>
            <a:ext cx="25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оугольник 4"/>
          <p:cNvSpPr/>
          <p:nvPr/>
        </p:nvSpPr>
        <p:spPr>
          <a:xfrm>
            <a:off x="714240" y="785880"/>
            <a:ext cx="3071880" cy="135720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зови начальную форму прилагатель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Прямоугольник 5"/>
          <p:cNvSpPr/>
          <p:nvPr/>
        </p:nvSpPr>
        <p:spPr>
          <a:xfrm>
            <a:off x="714240" y="2571840"/>
            <a:ext cx="3071880" cy="135720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йди существительное, с которым оно согласу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оугольник 6"/>
          <p:cNvSpPr/>
          <p:nvPr/>
        </p:nvSpPr>
        <p:spPr>
          <a:xfrm>
            <a:off x="4857840" y="2571840"/>
            <a:ext cx="3929040" cy="135720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зови  форму, в которой прилагательное оказалось в предлож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Овал 7"/>
          <p:cNvSpPr/>
          <p:nvPr/>
        </p:nvSpPr>
        <p:spPr>
          <a:xfrm>
            <a:off x="4357800" y="4357800"/>
            <a:ext cx="1428480" cy="1428480"/>
          </a:xfrm>
          <a:prstGeom prst="ellipse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Овал 8"/>
          <p:cNvSpPr/>
          <p:nvPr/>
        </p:nvSpPr>
        <p:spPr>
          <a:xfrm>
            <a:off x="5929200" y="5214960"/>
            <a:ext cx="1428840" cy="1428840"/>
          </a:xfrm>
          <a:prstGeom prst="ellipse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Овал 9"/>
          <p:cNvSpPr/>
          <p:nvPr/>
        </p:nvSpPr>
        <p:spPr>
          <a:xfrm>
            <a:off x="7358040" y="4429080"/>
            <a:ext cx="1571760" cy="1428840"/>
          </a:xfrm>
          <a:prstGeom prst="ellipse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паде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рямая соединительная линия 12"/>
          <p:cNvSpPr/>
          <p:nvPr/>
        </p:nvSpPr>
        <p:spPr>
          <a:xfrm flipH="1">
            <a:off x="5143680" y="3645000"/>
            <a:ext cx="1440" cy="92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Прямая соединительная линия 14"/>
          <p:cNvSpPr/>
          <p:nvPr/>
        </p:nvSpPr>
        <p:spPr>
          <a:xfrm flipH="1">
            <a:off x="6428880" y="3787920"/>
            <a:ext cx="1800" cy="164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ая соединительная линия 16"/>
          <p:cNvSpPr/>
          <p:nvPr/>
        </p:nvSpPr>
        <p:spPr>
          <a:xfrm flipH="1">
            <a:off x="8214840" y="3787920"/>
            <a:ext cx="1800" cy="92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9" name="Прямая со стрелкой 18"/>
          <p:cNvCxnSpPr>
            <a:stCxn id="380" idx="2"/>
            <a:endCxn id="381" idx="0"/>
          </p:cNvCxnSpPr>
          <p:nvPr/>
        </p:nvCxnSpPr>
        <p:spPr>
          <a:xfrm flipH="1">
            <a:off x="2249280" y="2142720"/>
            <a:ext cx="2160" cy="429480"/>
          </a:xfrm>
          <a:prstGeom prst="straightConnector1">
            <a:avLst/>
          </a:prstGeom>
          <a:ln w="9360">
            <a:solidFill>
              <a:srgbClr val="feb80a"/>
            </a:solidFill>
            <a:miter/>
            <a:tailEnd len="med" type="arrow" w="med"/>
          </a:ln>
        </p:spPr>
      </p:cxnSp>
      <p:cxnSp>
        <p:nvCxnSpPr>
          <p:cNvPr id="390" name="Прямая со стрелкой 20"/>
          <p:cNvCxnSpPr>
            <a:stCxn id="381" idx="3"/>
            <a:endCxn id="382" idx="1"/>
          </p:cNvCxnSpPr>
          <p:nvPr/>
        </p:nvCxnSpPr>
        <p:spPr>
          <a:xfrm>
            <a:off x="3785760" y="3249720"/>
            <a:ext cx="1072440" cy="2160"/>
          </a:xfrm>
          <a:prstGeom prst="straightConnector1">
            <a:avLst/>
          </a:prstGeom>
          <a:ln w="9360">
            <a:solidFill>
              <a:srgbClr val="feb80a"/>
            </a:solidFill>
            <a:miter/>
            <a:tailEnd len="med" type="arrow" w="med"/>
          </a:ln>
        </p:spPr>
      </p:cxnSp>
      <p:sp>
        <p:nvSpPr>
          <p:cNvPr id="391" name="Прямоугольник 21"/>
          <p:cNvSpPr/>
          <p:nvPr/>
        </p:nvSpPr>
        <p:spPr>
          <a:xfrm>
            <a:off x="788400" y="785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22"/>
          <p:cNvSpPr/>
          <p:nvPr/>
        </p:nvSpPr>
        <p:spPr>
          <a:xfrm>
            <a:off x="859680" y="2571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оугольник 23"/>
          <p:cNvSpPr/>
          <p:nvPr/>
        </p:nvSpPr>
        <p:spPr>
          <a:xfrm>
            <a:off x="4860360" y="2571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214200" y="285480"/>
            <a:ext cx="8715600" cy="63579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)</a:t>
            </a:r>
            <a:r>
              <a:rPr b="0" i="1" lang="ru-RU" sz="2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орфологический разбор прилагательного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     </a:t>
            </a: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пределение морфологических признаков: постоянные признаки - разряд (качественное, относительное, притяжательное); непостоян­ные признаки - степень сравнения качественных прилагательных (сравнительная, превосходная), в полной или краткой форме (каче­ственное), род, число, падеж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разец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0" i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В) призрачном </a:t>
            </a: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рилагательное, прозрачный, качественное; в полной форме, в м. роде, в ед. числе, в предложном падеже; в предло­жении - определение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4200" y="285840"/>
            <a:ext cx="8715600" cy="62863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е)</a:t>
            </a:r>
            <a:r>
              <a:rPr b="0" i="1" lang="ru-RU" sz="2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орфологический разбор наречия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rbel"/>
              </a:rPr>
              <a:t>     </a:t>
            </a: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пределение морфологических признаков: постоянные признаки - разряд по значению (образа действия, места, времени, причины, цели, меры и степени); непостоянные признаки - степень сравнения (в наречиях, образованных от качественных прилагательных).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разец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0" i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дленно </a:t>
            </a:r>
            <a:r>
              <a:rPr b="0" i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</a:t>
            </a: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речие, неизменяемое, образа действия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213840" y="285480"/>
            <a:ext cx="8643960" cy="6143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ж)</a:t>
            </a:r>
            <a:r>
              <a:rPr b="0" i="1" lang="ru-RU" sz="2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орфологический разбор числительного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     </a:t>
            </a: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пределение морфологических признаков: постоянные признаки - простое (составное), количественное (целое, дробное, собирательное) или порядковое; непостоянные признаки - род (если есть), число (если есть), падеж.</a:t>
            </a:r>
            <a:r>
              <a:rPr b="1" i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разец:</a:t>
            </a:r>
            <a:r>
              <a:rPr b="0" i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r>
              <a:rPr b="0" i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вый </a:t>
            </a: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числительное, первый, простое, порядковое; в м. роде, в ед. числе, в именительном падеже; в предложении - определение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285840" y="285480"/>
            <a:ext cx="8572320" cy="6143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)</a:t>
            </a:r>
            <a:r>
              <a:rPr b="0" i="1" lang="ru-RU" sz="2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орфологический разбор предлога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320e04"/>
                </a:solidFill>
                <a:latin typeface="Corbel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разец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rbel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</a:t>
            </a:r>
            <a:r>
              <a:rPr b="0" i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- </a:t>
            </a: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длог, простой, непроизводный.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285840" y="213840"/>
            <a:ext cx="8572320" cy="63579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) Морфологический разбор союза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320e04"/>
                </a:solidFill>
                <a:latin typeface="Corbel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разец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rbel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i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</a:t>
            </a: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юз, сочинительный, соединительный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500040" y="1928520"/>
            <a:ext cx="8143920" cy="3714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orbel"/>
              </a:rPr>
              <a:t>     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репление умения выполнять морфологический разбор, систематизация знаний о грамматических признаках разных частей речи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Беседа по вопросам</a:t>
            </a:r>
            <a:r>
              <a:rPr b="0" lang="ru-RU" sz="4300" spc="-1" strike="noStrike">
                <a:solidFill>
                  <a:srgbClr val="008000"/>
                </a:solidFill>
                <a:latin typeface="Corbel"/>
              </a:rPr>
              <a:t>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28760" y="1571400"/>
            <a:ext cx="8286480" cy="40669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   Что изучает морфология? С какими другими разделами науки о языке она связана?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   Назовите самостоятельные и служебные части речи. Приведите примеры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   Расскажите о грамматическом значении, морфологических и синтаксических признаках частей речи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64396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бобщение знаний по теме «Грамматические признаки разных частей речи»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28400" y="1285560"/>
            <a:ext cx="8429400" cy="50720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егодня в прозрачном московском небе проплыл  первый  треугольник журавлей. Проплыл медленно на ходу выравнивая строй как-то несмело набирая высоту отряхивая с крыльев последние песчинки и роняя лёгкие пушистые перья. Вожак не мигая смотрит только вперёд за дымку горизонта остальные тоже не мигая - вниз окидывая долгим пристальным взглядом может быть в последний раз проплывающую под крыльями родную землю. Поэтому-то и плывёт так медленно!                                            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По В.Тельпугову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85480" y="285480"/>
            <a:ext cx="86439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оверьте расстановку знаков препинания.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28400" y="1285560"/>
            <a:ext cx="8429400" cy="50720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егодня в прозрачном московском небе проплыл  первый  треугольник журавлей. Проплыл медленно, на ходу выравнивая строй, как-то несмело набирая высоту, отряхивая с крыльев последние песчинки и роняя лёгкие пушистые перья. Вожак, не мигая, смотрит только вперёд, за дымку горизонта, остальные, тоже не мигая - вниз, окидывая долгим пристальным взглядом, может быть, в последний раз проплывающую под крыльями родную землю. Поэтому-то и плывёт так медленно!                                              </a:t>
            </a:r>
            <a:r>
              <a:rPr b="0" lang="ru-RU" sz="1800" spc="-1" strike="noStrike">
                <a:solidFill>
                  <a:srgbClr val="002060"/>
                </a:solidFill>
                <a:latin typeface="Corbel"/>
              </a:rPr>
              <a:t>(По В.Тельпугову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0000"/>
                </a:solidFill>
                <a:latin typeface="Corbel"/>
              </a:rPr>
              <a:t>Анализ текста.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285480" y="785880"/>
            <a:ext cx="8643960" cy="58579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2060"/>
                </a:solidFill>
                <a:latin typeface="Corbel"/>
              </a:rPr>
              <a:t>	</a:t>
            </a:r>
            <a:r>
              <a:rPr b="1" i="1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 Озаглавьте текст.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щание с родной землёй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457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  Какие синтаксические конструкции использует автор для описания полёта журавлей?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епричастные обороты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457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 Можно ли заменить деепричастные обороты синонимичными им причастными оборотами? Если нельзя, то почему?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льзя, замена изменит не только характер интонационного строя предложений, но и смысл текст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 Обоснуйте постановку знаков препинания в тексте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одчеркните члены предложения во всём тексте, определите ча­сти реч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Скругленный прямоугольник 3"/>
          <p:cNvSpPr/>
          <p:nvPr/>
        </p:nvSpPr>
        <p:spPr>
          <a:xfrm>
            <a:off x="357120" y="1214280"/>
            <a:ext cx="3429000" cy="285840"/>
          </a:xfrm>
          <a:prstGeom prst="roundRect">
            <a:avLst>
              <a:gd name="adj" fmla="val 16667"/>
            </a:avLst>
          </a:prstGeom>
          <a:solidFill>
            <a:srgbClr val="ffe1f9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Скругленный прямоугольник 4"/>
          <p:cNvSpPr/>
          <p:nvPr/>
        </p:nvSpPr>
        <p:spPr>
          <a:xfrm>
            <a:off x="357120" y="2643120"/>
            <a:ext cx="3143160" cy="285840"/>
          </a:xfrm>
          <a:prstGeom prst="roundRect">
            <a:avLst>
              <a:gd name="adj" fmla="val 16667"/>
            </a:avLst>
          </a:prstGeom>
          <a:solidFill>
            <a:srgbClr val="ffe1f9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Скругленный прямоугольник 5"/>
          <p:cNvSpPr/>
          <p:nvPr/>
        </p:nvSpPr>
        <p:spPr>
          <a:xfrm>
            <a:off x="285840" y="4357800"/>
            <a:ext cx="8429400" cy="642960"/>
          </a:xfrm>
          <a:prstGeom prst="roundRect">
            <a:avLst>
              <a:gd name="adj" fmla="val 16667"/>
            </a:avLst>
          </a:prstGeom>
          <a:solidFill>
            <a:srgbClr val="ffe1f9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1643040" y="528120"/>
            <a:ext cx="650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d33a0"/>
                </a:solidFill>
                <a:latin typeface="Georgia"/>
                <a:ea typeface="Times New Roman"/>
              </a:rPr>
              <a:t>Имя существи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3"/>
          <p:cNvSpPr/>
          <p:nvPr/>
        </p:nvSpPr>
        <p:spPr>
          <a:xfrm>
            <a:off x="214200" y="564732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Georgia"/>
                <a:ea typeface="Times New Roman"/>
              </a:rPr>
              <a:t>Подсказка.</a:t>
            </a:r>
            <a:r>
              <a:rPr b="0" lang="ru-RU" sz="2000" spc="-1" strike="noStrike">
                <a:solidFill>
                  <a:srgbClr val="990000"/>
                </a:solidFill>
                <a:latin typeface="Georgia"/>
                <a:ea typeface="Times New Roman"/>
              </a:rPr>
              <a:t> Если какое-нибудь существительное окажется в предложении вместе с предлогом, не забудь об этом упомянуть. Это важн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оугольник 4"/>
          <p:cNvSpPr/>
          <p:nvPr/>
        </p:nvSpPr>
        <p:spPr>
          <a:xfrm>
            <a:off x="500040" y="214200"/>
            <a:ext cx="714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Морфологический разбор частей ре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5"/>
          <p:cNvSpPr/>
          <p:nvPr/>
        </p:nvSpPr>
        <p:spPr>
          <a:xfrm>
            <a:off x="1571760" y="1071720"/>
            <a:ext cx="3143160" cy="85716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ставь существительное в начальную фор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оугольник 6"/>
          <p:cNvSpPr/>
          <p:nvPr/>
        </p:nvSpPr>
        <p:spPr>
          <a:xfrm>
            <a:off x="285840" y="2428920"/>
            <a:ext cx="3786120" cy="121428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асскажи всё, что можно узнать о существительном по начальной фор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оугольник 7"/>
          <p:cNvSpPr/>
          <p:nvPr/>
        </p:nvSpPr>
        <p:spPr>
          <a:xfrm>
            <a:off x="5357880" y="2428920"/>
            <a:ext cx="3357360" cy="135720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зови форму, в которой существительное оказалось в предлож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9" name="Прямая со стрелкой 14"/>
          <p:cNvCxnSpPr/>
          <p:nvPr/>
        </p:nvCxnSpPr>
        <p:spPr>
          <a:xfrm flipH="1">
            <a:off x="2571120" y="1928880"/>
            <a:ext cx="1080" cy="427680"/>
          </a:xfrm>
          <a:prstGeom prst="straightConnector1">
            <a:avLst/>
          </a:prstGeom>
          <a:ln w="9360">
            <a:solidFill>
              <a:srgbClr val="feb80a"/>
            </a:solidFill>
            <a:miter/>
            <a:tailEnd len="med" type="arrow" w="med"/>
          </a:ln>
        </p:spPr>
      </p:cxnSp>
      <p:cxnSp>
        <p:nvCxnSpPr>
          <p:cNvPr id="340" name="Прямая со стрелкой 16"/>
          <p:cNvCxnSpPr>
            <a:stCxn id="337" idx="3"/>
            <a:endCxn id="338" idx="1"/>
          </p:cNvCxnSpPr>
          <p:nvPr/>
        </p:nvCxnSpPr>
        <p:spPr>
          <a:xfrm>
            <a:off x="4071960" y="3034800"/>
            <a:ext cx="1286640" cy="72360"/>
          </a:xfrm>
          <a:prstGeom prst="straightConnector1">
            <a:avLst/>
          </a:prstGeom>
          <a:ln w="9360">
            <a:solidFill>
              <a:srgbClr val="feb80a"/>
            </a:solidFill>
            <a:miter/>
            <a:tailEnd len="med" type="arrow" w="med"/>
          </a:ln>
        </p:spPr>
      </p:cxnSp>
      <p:sp>
        <p:nvSpPr>
          <p:cNvPr id="341" name="Овал 23"/>
          <p:cNvSpPr/>
          <p:nvPr/>
        </p:nvSpPr>
        <p:spPr>
          <a:xfrm>
            <a:off x="500040" y="4000680"/>
            <a:ext cx="1571760" cy="1071360"/>
          </a:xfrm>
          <a:prstGeom prst="ellipse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Одуш./ неодуш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Овал 24"/>
          <p:cNvSpPr/>
          <p:nvPr/>
        </p:nvSpPr>
        <p:spPr>
          <a:xfrm>
            <a:off x="2000160" y="4929120"/>
            <a:ext cx="1214640" cy="785880"/>
          </a:xfrm>
          <a:prstGeom prst="ellipse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р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Овал 25"/>
          <p:cNvSpPr/>
          <p:nvPr/>
        </p:nvSpPr>
        <p:spPr>
          <a:xfrm>
            <a:off x="3643200" y="4429080"/>
            <a:ext cx="1214640" cy="785880"/>
          </a:xfrm>
          <a:prstGeom prst="ellipse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Тип ск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Овал 26"/>
          <p:cNvSpPr/>
          <p:nvPr/>
        </p:nvSpPr>
        <p:spPr>
          <a:xfrm>
            <a:off x="5429160" y="4572000"/>
            <a:ext cx="1285920" cy="785880"/>
          </a:xfrm>
          <a:prstGeom prst="ellipse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паде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Овал 27"/>
          <p:cNvSpPr/>
          <p:nvPr/>
        </p:nvSpPr>
        <p:spPr>
          <a:xfrm>
            <a:off x="7429680" y="4572000"/>
            <a:ext cx="1214280" cy="785880"/>
          </a:xfrm>
          <a:prstGeom prst="ellipse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чис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ая соединительная линия 29"/>
          <p:cNvSpPr/>
          <p:nvPr/>
        </p:nvSpPr>
        <p:spPr>
          <a:xfrm flipH="1">
            <a:off x="1355760" y="3500280"/>
            <a:ext cx="1440" cy="64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ая соединительная линия 32"/>
          <p:cNvSpPr/>
          <p:nvPr/>
        </p:nvSpPr>
        <p:spPr>
          <a:xfrm flipH="1">
            <a:off x="2569680" y="3430440"/>
            <a:ext cx="1800" cy="164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ая соединительная линия 35"/>
          <p:cNvSpPr/>
          <p:nvPr/>
        </p:nvSpPr>
        <p:spPr>
          <a:xfrm>
            <a:off x="3643200" y="3429000"/>
            <a:ext cx="6429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ая соединительная линия 37"/>
          <p:cNvSpPr/>
          <p:nvPr/>
        </p:nvSpPr>
        <p:spPr>
          <a:xfrm>
            <a:off x="6072120" y="3714840"/>
            <a:ext cx="0" cy="100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Прямая соединительная линия 39"/>
          <p:cNvSpPr/>
          <p:nvPr/>
        </p:nvSpPr>
        <p:spPr>
          <a:xfrm>
            <a:off x="8072280" y="3714840"/>
            <a:ext cx="0" cy="100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оугольник 43"/>
          <p:cNvSpPr/>
          <p:nvPr/>
        </p:nvSpPr>
        <p:spPr>
          <a:xfrm>
            <a:off x="1574280" y="100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оугольник 44"/>
          <p:cNvSpPr/>
          <p:nvPr/>
        </p:nvSpPr>
        <p:spPr>
          <a:xfrm>
            <a:off x="359640" y="2428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оугольник 49"/>
          <p:cNvSpPr/>
          <p:nvPr/>
        </p:nvSpPr>
        <p:spPr>
          <a:xfrm>
            <a:off x="5360400" y="2357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0000"/>
                </a:solidFill>
                <a:latin typeface="Corbel"/>
              </a:rPr>
              <a:t>Морфологический разбор частей речи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285480" y="1213920"/>
            <a:ext cx="8643960" cy="528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)</a:t>
            </a:r>
            <a:r>
              <a:rPr b="0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орфологический разбор существительного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Corbe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морфологических признаков: постоянные признаки -род (м., ж., ср.), собственное (нарицательное), одушевлённое (неодушевлённое), склонение (1-е - м., ж. род на -а, -я; 2-е - м. род с нулевым окончанием; 3-е - ж. род оканч. на мягкий знак); непостоянные признаки - число, падеж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ец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небе</a:t>
            </a:r>
            <a:r>
              <a:rPr b="0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уществительное,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.ф. - небо, нарицательное, неодушевлённое, ср. род, 2-е склонение; в ед. числе, в предложном падеже;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(где?)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небе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Прямоугольник 2"/>
          <p:cNvSpPr/>
          <p:nvPr/>
        </p:nvSpPr>
        <p:spPr>
          <a:xfrm>
            <a:off x="285840" y="285840"/>
            <a:ext cx="81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)</a:t>
            </a:r>
            <a:r>
              <a:rPr b="0" i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</a:t>
            </a:r>
            <a:r>
              <a:rPr b="1" i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орфологический разбор глаг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3"/>
          <p:cNvSpPr/>
          <p:nvPr/>
        </p:nvSpPr>
        <p:spPr>
          <a:xfrm>
            <a:off x="1071720" y="1000080"/>
            <a:ext cx="2857320" cy="92880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ставь глагол в начальную фор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4"/>
          <p:cNvSpPr/>
          <p:nvPr/>
        </p:nvSpPr>
        <p:spPr>
          <a:xfrm>
            <a:off x="642960" y="2357280"/>
            <a:ext cx="3286080" cy="107172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асскажи, что можно узнать о глаголе по начальной фор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5"/>
          <p:cNvSpPr/>
          <p:nvPr/>
        </p:nvSpPr>
        <p:spPr>
          <a:xfrm>
            <a:off x="5214960" y="2000160"/>
            <a:ext cx="3286080" cy="150012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зови форму в которой глагол оказался в предлож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Овал 6"/>
          <p:cNvSpPr/>
          <p:nvPr/>
        </p:nvSpPr>
        <p:spPr>
          <a:xfrm>
            <a:off x="785880" y="4643280"/>
            <a:ext cx="1357200" cy="1143000"/>
          </a:xfrm>
          <a:prstGeom prst="ellipse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в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Овал 7"/>
          <p:cNvSpPr/>
          <p:nvPr/>
        </p:nvSpPr>
        <p:spPr>
          <a:xfrm>
            <a:off x="2714760" y="4357800"/>
            <a:ext cx="1357200" cy="1071360"/>
          </a:xfrm>
          <a:prstGeom prst="ellipse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Тип сп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Овал 8"/>
          <p:cNvSpPr/>
          <p:nvPr/>
        </p:nvSpPr>
        <p:spPr>
          <a:xfrm>
            <a:off x="4714920" y="4286160"/>
            <a:ext cx="1357200" cy="1071720"/>
          </a:xfrm>
          <a:prstGeom prst="ellipse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врем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Овал 9"/>
          <p:cNvSpPr/>
          <p:nvPr/>
        </p:nvSpPr>
        <p:spPr>
          <a:xfrm>
            <a:off x="7429680" y="4071960"/>
            <a:ext cx="1285560" cy="1000080"/>
          </a:xfrm>
          <a:prstGeom prst="ellipse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Число и р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Овал 10"/>
          <p:cNvSpPr/>
          <p:nvPr/>
        </p:nvSpPr>
        <p:spPr>
          <a:xfrm>
            <a:off x="6429240" y="5072040"/>
            <a:ext cx="1214640" cy="1143000"/>
          </a:xfrm>
          <a:prstGeom prst="ellipse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Лицо и чис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5" name="Прямая со стрелкой 12"/>
          <p:cNvCxnSpPr/>
          <p:nvPr/>
        </p:nvCxnSpPr>
        <p:spPr>
          <a:xfrm flipH="1">
            <a:off x="2142360" y="1928520"/>
            <a:ext cx="1080" cy="500760"/>
          </a:xfrm>
          <a:prstGeom prst="straightConnector1">
            <a:avLst/>
          </a:prstGeom>
          <a:ln w="9360">
            <a:solidFill>
              <a:srgbClr val="feb80a"/>
            </a:solidFill>
            <a:miter/>
            <a:tailEnd len="med" type="arrow" w="med"/>
          </a:ln>
        </p:spPr>
      </p:cxnSp>
      <p:sp>
        <p:nvSpPr>
          <p:cNvPr id="366" name="Прямая соединительная линия 20"/>
          <p:cNvSpPr/>
          <p:nvPr/>
        </p:nvSpPr>
        <p:spPr>
          <a:xfrm flipH="1">
            <a:off x="1283760" y="3357720"/>
            <a:ext cx="1800" cy="1501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ая соединительная линия 22"/>
          <p:cNvSpPr/>
          <p:nvPr/>
        </p:nvSpPr>
        <p:spPr>
          <a:xfrm flipH="1">
            <a:off x="3355560" y="3357720"/>
            <a:ext cx="1800" cy="121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ая соединительная линия 24"/>
          <p:cNvSpPr/>
          <p:nvPr/>
        </p:nvSpPr>
        <p:spPr>
          <a:xfrm flipH="1">
            <a:off x="5428800" y="3357720"/>
            <a:ext cx="1800" cy="114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ая соединительная линия 28"/>
          <p:cNvSpPr/>
          <p:nvPr/>
        </p:nvSpPr>
        <p:spPr>
          <a:xfrm>
            <a:off x="7214400" y="3500280"/>
            <a:ext cx="428760" cy="85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ая соединительная линия 36"/>
          <p:cNvSpPr/>
          <p:nvPr/>
        </p:nvSpPr>
        <p:spPr>
          <a:xfrm flipH="1">
            <a:off x="6858000" y="3500280"/>
            <a:ext cx="28584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1" name="Прямая со стрелкой 50"/>
          <p:cNvCxnSpPr/>
          <p:nvPr/>
        </p:nvCxnSpPr>
        <p:spPr>
          <a:xfrm>
            <a:off x="3929040" y="2857680"/>
            <a:ext cx="1215360" cy="2160"/>
          </a:xfrm>
          <a:prstGeom prst="straightConnector1">
            <a:avLst/>
          </a:prstGeom>
          <a:ln w="9360">
            <a:solidFill>
              <a:srgbClr val="feb80a"/>
            </a:solidFill>
            <a:miter/>
            <a:tailEnd len="med" type="arrow" w="med"/>
          </a:ln>
        </p:spPr>
      </p:cxnSp>
      <p:sp>
        <p:nvSpPr>
          <p:cNvPr id="372" name="Прямоугольник 54"/>
          <p:cNvSpPr/>
          <p:nvPr/>
        </p:nvSpPr>
        <p:spPr>
          <a:xfrm>
            <a:off x="1002600" y="100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оугольник 55"/>
          <p:cNvSpPr/>
          <p:nvPr/>
        </p:nvSpPr>
        <p:spPr>
          <a:xfrm>
            <a:off x="645480" y="2357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оугольник 56"/>
          <p:cNvSpPr/>
          <p:nvPr/>
        </p:nvSpPr>
        <p:spPr>
          <a:xfrm>
            <a:off x="5217480" y="2000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1T13:48:54Z</dcterms:created>
  <dc:creator>Zver</dc:creator>
  <dc:description/>
  <dc:language>en-US</dc:language>
  <cp:lastModifiedBy>Пользователь</cp:lastModifiedBy>
  <dcterms:modified xsi:type="dcterms:W3CDTF">2018-11-27T13:51:05Z</dcterms:modified>
  <cp:revision>20</cp:revision>
  <dc:subject/>
  <dc:title>Слайд 1</dc:title>
</cp:coreProperties>
</file>