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346-C586-4711-9CEF-EA8E270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DF4-30BF-4ED9-82BA-32A52C2B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1FD-6D0B-4D9D-BD7C-5C36A2A6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C12-BF3D-48D9-A257-1D318F69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F201-6881-45EC-8D12-76EA406A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AC90-7C49-429A-ADEA-3302084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3F41-EAE2-4E71-973D-A536759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4719-1E44-4280-B848-DA6C8B8A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338F-3D88-4D47-8D5A-F9040FE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B9D-3F90-4C3A-8290-083B38EA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BEF-2152-4031-B5AA-61D9FC5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FCB-449F-49D9-AF9A-A68723A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6382-7DCD-47D4-8056-352F7E8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FEA-9D92-4864-BF7B-5DEFDDF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A774-9FB1-4816-A1D8-136D0965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4D9A-02FE-4204-BDD3-E5C5B51C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E751-A436-47FF-8A66-882967F3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E820-5DD3-4199-84A6-F96E0079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D7D4-F673-4660-B6BB-1488A33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DB4A-F3CD-4FC0-870A-F76D0035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4A9BA-1F5B-455E-8A6A-8C13EE0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11E3-64C5-4B17-B6EE-A44BC84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326-AEBE-4350-9ADD-A57E3271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EBDF-D3C3-40D6-B12A-D5111A9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845C-3992-4E2A-A91D-4DC8E35A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7A8A-2C21-43BC-A97D-1F0D4B6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4C53-14D7-40DB-A513-1CB1995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CFEE-F80A-4253-8DA8-75E73DD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CAA7-F330-410E-B1F1-750C9FA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AAED-CF7F-4C5D-9A63-B5380C5B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B46E-E2D3-43ED-9098-BFC19ABB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8F4D-4B91-4F9D-B0EB-4EA36BB6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D154-2287-429F-9D3C-D2E2071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4A5-3E01-4697-8FD9-091D757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F004-988B-4E9D-922E-ED821ED0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1369-3F4D-483D-B38D-A3922CD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414C-CBF4-47C9-98B5-52F245A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DF84-74AA-44BA-84F7-0F57100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8A4E2-BC23-4946-9CD5-B160DC61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267F-4626-4155-B7A9-837CC01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61C9-792F-41BA-9B2E-EC10408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5EB8-AF30-40F9-B44D-E1488716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3323-05C8-4792-98B6-17B45FB1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D3EF-B3C6-475E-BDB0-F8CBD0FE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BDF-3216-4748-B9C9-7D23706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6858-31E6-497D-85B4-0E0A904C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61E7-2F10-43AD-AB78-4486EF9E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5240-2300-43D6-8AC0-F045C04B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65AF-4218-44DD-85A3-B1B00CA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C38B-9D59-4E71-B600-EB3C98FA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9F269-A7E6-44B4-BA1B-258C708C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4F937-956B-45A0-A4CC-855BDE1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AB0D-2430-40EC-850E-65C72FB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8552-4752-491C-B336-7EC3B84A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00433-ACF9-4287-8142-77C813D6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5F6-7372-4F6F-BE6D-64951E9D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A3A19-FDBA-4792-9017-38BEF7EA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8801-D6F9-4E6B-8632-A028D80A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F466-0829-475A-89B5-8F70279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5D97-7CC8-4830-917D-69F9CC2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7132-A087-44FC-9710-8C680B8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6B94-4CC7-4C95-B93D-193FA19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728A-C94E-4069-AB35-81AD1CED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79B0C-1202-415E-9632-46E73DA0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3CA6-3D22-429B-8221-894AFBE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E084-8C04-40C5-99F4-5B93145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BEA-9BC5-45E6-ADA1-1D056F3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9EF8-7E02-4F75-BBE8-6A9D3E78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F423-6C7C-4297-B5CA-6260A972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812C-CA6A-4659-930B-9B20FFAA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3EA8-CEBF-4E68-88AB-56374381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1998-E17A-4982-8BDA-0A7E72D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B0DC7-1E15-402B-B78D-B711CCD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4AF62-5A3D-44DF-BF04-BB8FE09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F2B4B-6755-48C9-A302-28104348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65E3-2833-4080-87CC-3A2D130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5EA1-79BC-4359-80F6-8448F7A0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189-FD48-451C-8738-4E81CD1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E4C1-F7EE-4104-996E-10BA721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533F-2784-4005-A167-9958FE4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35AB7-5DB8-46D7-9F0B-DEF6EB10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AAA5-8943-4252-B163-BAFCD49F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176E-98F5-4908-8FCA-820ECB3E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88E-7C64-4AAF-A62E-7AA714D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B35B-C94E-49AC-81DC-74CA092D3B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CE7B-28A3-4758-97D2-41266315B7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331-4B7F-45B9-8B35-20342C89F2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CE3-1B34-457B-B03C-382FF15A3C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9AF-D080-4E09-B762-FCA6AED6AD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EAE-50DA-45AD-9B0D-57A00E52A3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2E1-8D95-49C2-94CE-D38408E9A3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3"/>
          <p:cNvSpPr txBox="1"/>
          <p:nvPr/>
        </p:nvSpPr>
        <p:spPr>
          <a:xfrm>
            <a:off x="1143000" y="857160"/>
            <a:ext cx="70009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116000" y="1268280"/>
            <a:ext cx="595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ФОЛОГИЧЕСКИЙ РАЗБО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МЕНАТЕЛЬНЫХ И СЛУЖЕБ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Е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)</a:t>
            </a:r>
            <a:r>
              <a:rPr b="0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глагола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вид (совершенный - что сделать?, несовершенный - что делать?), переходный (способный управлять существительным в вин. падеже без предлога), непереходный, спряж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озвратный (невозвратный); непостоянные признаки - время (прошедшее, настоящее, будущее), наклонение (изъявительное, сослагательное (условное), повелительное), лицо, число, род (в прошедшем врем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лы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гол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.Ф. - проплыть, совершенный вид, непереходный, изъявительное наклонение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жение, невозвратный; в прошедшем времени, в ед. числе, в м. роде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предложении – сказуем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деепричастия (особая форма глагол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вид (совершенный или несовершенный), неизменяемость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ирая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еепричастие, набирая, несовершенный вид, неизменяемый, в предложении - обстоятельст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607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ичастия (особая форма глагол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вид (совершенный или несовершенный), время, действительное (страдательное); непостоянные признаки - полная или краткая форма (у страдательных причастий), падеж (у причастий в полной форме), число, род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лывающую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астие, проплывающий, действительное, настоящего времени; в винительном падеже, в ед. числе, в ж. роде, в предло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2049120" y="1440"/>
            <a:ext cx="47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d33a0"/>
                </a:solidFill>
                <a:latin typeface="Georgia"/>
                <a:ea typeface="Times New Roman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444200" y="4085640"/>
            <a:ext cx="2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714240" y="785880"/>
            <a:ext cx="307188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начальную форму прилаг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714240" y="2571840"/>
            <a:ext cx="307188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существительное, с которым оно соглас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4857840" y="2571840"/>
            <a:ext cx="392904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 форму, в которой прилагательное оказалось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7"/>
          <p:cNvSpPr/>
          <p:nvPr/>
        </p:nvSpPr>
        <p:spPr>
          <a:xfrm>
            <a:off x="4357800" y="4357800"/>
            <a:ext cx="1428480" cy="14284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8"/>
          <p:cNvSpPr/>
          <p:nvPr/>
        </p:nvSpPr>
        <p:spPr>
          <a:xfrm>
            <a:off x="5929200" y="5214960"/>
            <a:ext cx="1428840" cy="142884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9"/>
          <p:cNvSpPr/>
          <p:nvPr/>
        </p:nvSpPr>
        <p:spPr>
          <a:xfrm>
            <a:off x="7358040" y="4429080"/>
            <a:ext cx="1571760" cy="142884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12"/>
          <p:cNvSpPr/>
          <p:nvPr/>
        </p:nvSpPr>
        <p:spPr>
          <a:xfrm flipH="1">
            <a:off x="5143680" y="3645000"/>
            <a:ext cx="144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4"/>
          <p:cNvSpPr/>
          <p:nvPr/>
        </p:nvSpPr>
        <p:spPr>
          <a:xfrm flipH="1">
            <a:off x="6428880" y="3787920"/>
            <a:ext cx="18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6"/>
          <p:cNvSpPr/>
          <p:nvPr/>
        </p:nvSpPr>
        <p:spPr>
          <a:xfrm flipH="1">
            <a:off x="8214840" y="3787920"/>
            <a:ext cx="180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18"/>
          <p:cNvCxnSpPr>
            <a:stCxn id="380" idx="2"/>
            <a:endCxn id="381" idx="0"/>
          </p:cNvCxnSpPr>
          <p:nvPr/>
        </p:nvCxnSpPr>
        <p:spPr>
          <a:xfrm flipH="1">
            <a:off x="2249280" y="2142720"/>
            <a:ext cx="2160" cy="42948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390" name="Прямая со стрелкой 20"/>
          <p:cNvCxnSpPr>
            <a:stCxn id="381" idx="3"/>
            <a:endCxn id="382" idx="1"/>
          </p:cNvCxnSpPr>
          <p:nvPr/>
        </p:nvCxnSpPr>
        <p:spPr>
          <a:xfrm>
            <a:off x="3785760" y="3249720"/>
            <a:ext cx="1072440" cy="21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91" name="Прямоугольник 21"/>
          <p:cNvSpPr/>
          <p:nvPr/>
        </p:nvSpPr>
        <p:spPr>
          <a:xfrm>
            <a:off x="7884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2"/>
          <p:cNvSpPr/>
          <p:nvPr/>
        </p:nvSpPr>
        <p:spPr>
          <a:xfrm>
            <a:off x="85968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486036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илагательног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разряд (качественное, относительное, притяжательное); непостоян­ные признаки - степень сравнения качественных прилагательных (сравнительная, превосходная), в полной или краткой форме (каче­ственное), род, число, падеж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) призрачном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лагательное, прозрачный, качественное; в полной форме, в м. роде, в ед. числе, в предложном падеже; в предло­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нареч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разряд по значению (образа действия, места, времени, причины, цели, меры и степени); непостоянные признаки - степень сравнения (в наречиях, образованных от качественных прилагательных)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ленно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ечие, неизменяемое, образа действи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числительног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простое (составное), количественное (целое, дробное, собирательное) или порядковое; непостоянные признаки - род (если есть), число (если есть), падеж.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ислительное, первый, простое, порядковое; в м. роде, в ед. числе, в именительном падеже; в предло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85840" y="28548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едлог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г, простой, непроизводный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) Морфологический разбор союз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юз, сочинительный, соединительны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0040" y="192852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умения выполнять морфологический разбор, систематизация знаний о грамматических признаках разных частей реч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еда по вопросам</a:t>
            </a:r>
            <a:r>
              <a:rPr b="0" lang="ru-RU" sz="4300" spc="-1" strike="noStrike">
                <a:solidFill>
                  <a:srgbClr val="008000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286480" cy="406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Что изучает морфология? С какими другими разделами науки о языке она связан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Назовите самостоятельные и служебные части речи. Приведите приме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Расскажите о грамматическом значении, морфологических и синтаксических признаках частей реч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бщение знаний по теме «Грамматические признаки разных частей речи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в прозрачном московском небе проплыл  первый  треугольник журавлей. Проплыл медленно на ходу выравнивая строй как-то несмело набирая высоту отряхивая с крыльев последние песчинки и роняя лёгкие пушистые перья. Вожак не мигая смотрит только вперёд за дымку горизонта остальные тоже не мигая - вниз окидывая долгим пристальным взглядом может быть в последний раз проплывающую под крыльями родную землю. Поэтому-то и плывёт так медленно!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 В.Тельпугову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ьте расстановку знаков препинани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в прозрачном московском небе проплыл  первый  треугольник журавлей. Проплыл медленно, на ходу выравнивая строй, как-то несмело набирая высоту, отряхивая с крыльев последние песчинки и роняя лёгкие пушистые перья. Вожак, не мигая, смотрит только вперёд, за дымку горизонта, остальные, тоже не мигая - вниз, окидывая долгим пристальным взглядом, может быть, в последний раз проплывающую под крыльями родную землю. Поэтому-то и плывёт так медленно!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(По В.Тельпугову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Анализ текст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85480" y="7858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заглавьте текст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щание с родной землё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Какие синтаксические конструкции использует автор для описания полёта журавлей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епричастные обор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Можно ли заменить деепричастные обороты синонимичными им причастными оборотами? Если нельзя, то почему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, замена изменит не только характер интонационного строя предложений, но и смысл текс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боснуйте постановку знаков препинания в текст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дчеркните члены предложения во всём тексте, определите ча­сти реч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357120" y="1214280"/>
            <a:ext cx="3429000" cy="28584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357120" y="2643120"/>
            <a:ext cx="3143160" cy="28584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285840" y="4357800"/>
            <a:ext cx="8429400" cy="64296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643040" y="52812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3a0"/>
                </a:solidFill>
                <a:latin typeface="Georgia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14200" y="56473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  <a:ea typeface="Times New Roman"/>
              </a:rPr>
              <a:t>Подсказка.</a:t>
            </a:r>
            <a:r>
              <a:rPr b="0" lang="ru-RU" sz="2000" spc="-1" strike="noStrike">
                <a:solidFill>
                  <a:srgbClr val="990000"/>
                </a:solidFill>
                <a:latin typeface="Georgia"/>
                <a:ea typeface="Times New Roman"/>
              </a:rPr>
              <a:t> Если какое-нибудь существительное окажется в предложении вместе с предлогом, не забудь об этом упомянуть. Это 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500040" y="2142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рфологический разбор част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1571760" y="1071720"/>
            <a:ext cx="3143160" cy="857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вь существительное в начальную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85840" y="2428920"/>
            <a:ext cx="3786120" cy="1214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кажи всё, что можно узнать о существительном по началь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5357880" y="2428920"/>
            <a:ext cx="335736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форму, в которой существительное оказалось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Прямая со стрелкой 14"/>
          <p:cNvCxnSpPr/>
          <p:nvPr/>
        </p:nvCxnSpPr>
        <p:spPr>
          <a:xfrm flipH="1">
            <a:off x="2571120" y="1928880"/>
            <a:ext cx="1080" cy="42768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340" name="Прямая со стрелкой 16"/>
          <p:cNvCxnSpPr>
            <a:stCxn id="337" idx="3"/>
            <a:endCxn id="338" idx="1"/>
          </p:cNvCxnSpPr>
          <p:nvPr/>
        </p:nvCxnSpPr>
        <p:spPr>
          <a:xfrm>
            <a:off x="4071960" y="3034800"/>
            <a:ext cx="1286640" cy="723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41" name="Овал 23"/>
          <p:cNvSpPr/>
          <p:nvPr/>
        </p:nvSpPr>
        <p:spPr>
          <a:xfrm>
            <a:off x="500040" y="4000680"/>
            <a:ext cx="1571760" cy="107136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душ./ неод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24"/>
          <p:cNvSpPr/>
          <p:nvPr/>
        </p:nvSpPr>
        <p:spPr>
          <a:xfrm>
            <a:off x="2000160" y="4929120"/>
            <a:ext cx="121464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25"/>
          <p:cNvSpPr/>
          <p:nvPr/>
        </p:nvSpPr>
        <p:spPr>
          <a:xfrm>
            <a:off x="3643200" y="4429080"/>
            <a:ext cx="121464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п с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6"/>
          <p:cNvSpPr/>
          <p:nvPr/>
        </p:nvSpPr>
        <p:spPr>
          <a:xfrm>
            <a:off x="5429160" y="4572000"/>
            <a:ext cx="128592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д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27"/>
          <p:cNvSpPr/>
          <p:nvPr/>
        </p:nvSpPr>
        <p:spPr>
          <a:xfrm>
            <a:off x="7429680" y="4572000"/>
            <a:ext cx="121428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29"/>
          <p:cNvSpPr/>
          <p:nvPr/>
        </p:nvSpPr>
        <p:spPr>
          <a:xfrm flipH="1">
            <a:off x="1355760" y="350028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 flipH="1">
            <a:off x="2569680" y="3430440"/>
            <a:ext cx="18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5"/>
          <p:cNvSpPr/>
          <p:nvPr/>
        </p:nvSpPr>
        <p:spPr>
          <a:xfrm>
            <a:off x="3643200" y="3429000"/>
            <a:ext cx="642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37"/>
          <p:cNvSpPr/>
          <p:nvPr/>
        </p:nvSpPr>
        <p:spPr>
          <a:xfrm>
            <a:off x="6072120" y="371484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39"/>
          <p:cNvSpPr/>
          <p:nvPr/>
        </p:nvSpPr>
        <p:spPr>
          <a:xfrm>
            <a:off x="8072280" y="371484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3"/>
          <p:cNvSpPr/>
          <p:nvPr/>
        </p:nvSpPr>
        <p:spPr>
          <a:xfrm>
            <a:off x="157428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4"/>
          <p:cNvSpPr/>
          <p:nvPr/>
        </p:nvSpPr>
        <p:spPr>
          <a:xfrm>
            <a:off x="359640" y="242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49"/>
          <p:cNvSpPr/>
          <p:nvPr/>
        </p:nvSpPr>
        <p:spPr>
          <a:xfrm>
            <a:off x="5360400" y="235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Морфологический разбор частей реч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8548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)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существитель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род (м., ж., ср.), собственное (нарицательное), одушевлённое (неодушевлённое), склонение (1-е - м., ж. род на -а, -я; 2-е - м. род с нулевым окончанием; 3-е - ж. род оканч. на мягкий знак); непостоянные признаки - число, падеж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ебе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ществительно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.ф. - небо, нарицательное, неодушевлённое, ср. род, 2-е склонение; в ед. числе, в предложном падеже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где?)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неб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2"/>
          <p:cNvSpPr/>
          <p:nvPr/>
        </p:nvSpPr>
        <p:spPr>
          <a:xfrm>
            <a:off x="28584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)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1071720" y="1000080"/>
            <a:ext cx="2857320" cy="9288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вь глагол в начальную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642960" y="2357280"/>
            <a:ext cx="3286080" cy="1071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кажи, что можно узнать о глаголе по началь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214960" y="2000160"/>
            <a:ext cx="3286080" cy="15001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форму в которой глагол оказался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6"/>
          <p:cNvSpPr/>
          <p:nvPr/>
        </p:nvSpPr>
        <p:spPr>
          <a:xfrm>
            <a:off x="785880" y="4643280"/>
            <a:ext cx="1357200" cy="1143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"/>
          <p:cNvSpPr/>
          <p:nvPr/>
        </p:nvSpPr>
        <p:spPr>
          <a:xfrm>
            <a:off x="2714760" y="4357800"/>
            <a:ext cx="1357200" cy="107136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п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8"/>
          <p:cNvSpPr/>
          <p:nvPr/>
        </p:nvSpPr>
        <p:spPr>
          <a:xfrm>
            <a:off x="4714920" y="4286160"/>
            <a:ext cx="1357200" cy="10717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9"/>
          <p:cNvSpPr/>
          <p:nvPr/>
        </p:nvSpPr>
        <p:spPr>
          <a:xfrm>
            <a:off x="7429680" y="4071960"/>
            <a:ext cx="1285560" cy="10000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и 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0"/>
          <p:cNvSpPr/>
          <p:nvPr/>
        </p:nvSpPr>
        <p:spPr>
          <a:xfrm>
            <a:off x="6429240" y="5072040"/>
            <a:ext cx="1214640" cy="1143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ицо и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2"/>
          <p:cNvCxnSpPr/>
          <p:nvPr/>
        </p:nvCxnSpPr>
        <p:spPr>
          <a:xfrm flipH="1">
            <a:off x="2142360" y="1928520"/>
            <a:ext cx="1080" cy="5007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66" name="Прямая соединительная линия 20"/>
          <p:cNvSpPr/>
          <p:nvPr/>
        </p:nvSpPr>
        <p:spPr>
          <a:xfrm flipH="1">
            <a:off x="1283760" y="3357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2"/>
          <p:cNvSpPr/>
          <p:nvPr/>
        </p:nvSpPr>
        <p:spPr>
          <a:xfrm flipH="1">
            <a:off x="3355560" y="3357720"/>
            <a:ext cx="1800" cy="12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4"/>
          <p:cNvSpPr/>
          <p:nvPr/>
        </p:nvSpPr>
        <p:spPr>
          <a:xfrm flipH="1">
            <a:off x="5428800" y="3357720"/>
            <a:ext cx="180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8"/>
          <p:cNvSpPr/>
          <p:nvPr/>
        </p:nvSpPr>
        <p:spPr>
          <a:xfrm>
            <a:off x="7214400" y="3500280"/>
            <a:ext cx="428760" cy="8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6"/>
          <p:cNvSpPr/>
          <p:nvPr/>
        </p:nvSpPr>
        <p:spPr>
          <a:xfrm flipH="1">
            <a:off x="6858000" y="3500280"/>
            <a:ext cx="2858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50"/>
          <p:cNvCxnSpPr/>
          <p:nvPr/>
        </p:nvCxnSpPr>
        <p:spPr>
          <a:xfrm>
            <a:off x="3929040" y="2857680"/>
            <a:ext cx="1215360" cy="21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72" name="Прямоугольник 54"/>
          <p:cNvSpPr/>
          <p:nvPr/>
        </p:nvSpPr>
        <p:spPr>
          <a:xfrm>
            <a:off x="100260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5"/>
          <p:cNvSpPr/>
          <p:nvPr/>
        </p:nvSpPr>
        <p:spPr>
          <a:xfrm>
            <a:off x="645480" y="235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6"/>
          <p:cNvSpPr/>
          <p:nvPr/>
        </p:nvSpPr>
        <p:spPr>
          <a:xfrm>
            <a:off x="5217480" y="200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3:48:54Z</dcterms:created>
  <dc:creator>Zver</dc:creator>
  <dc:description/>
  <dc:language>en-US</dc:language>
  <cp:lastModifiedBy>Пользователь</cp:lastModifiedBy>
  <dcterms:modified xsi:type="dcterms:W3CDTF">2018-11-27T13:51:05Z</dcterms:modified>
  <cp:revision>20</cp:revision>
  <dc:subject/>
  <dc:title>Слайд 1</dc:title>
</cp:coreProperties>
</file>