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154-F4CC-480D-9D55-532AB8F2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8BA-3FAF-4ABA-819D-73631C6B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CAB-FEF4-4D6B-A00B-3F25D87F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D29-515A-4280-983E-1DF51073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CAA7-4C65-4A5E-95A2-9097F00D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ADEA-4D34-42EB-8222-9F09BA06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9C17-0D49-4CCA-9B0F-82F08EB8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41AB-53FA-4CAC-BFE5-F680EA81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6D28-AD7F-4B6A-AA27-3444C3BC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38BE-B256-4F86-9C60-F0DF04B9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BD59-C547-43EB-9146-99170D2C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C89-3866-4B06-B081-38AD0393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6B6B-75A3-4B2B-92CC-DA8B30DE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8842-007D-4B38-BADF-27EC83AB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74D0-E0B7-49FD-9DCF-67D85157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24FD-ED6B-4593-AC17-F5CFA199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13FD-FAC5-43C0-AF7E-0DCD9446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0169-9CE4-42ED-99F6-8C538283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A3FC-AD82-42C0-A0F8-44C0E2ED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3119-0C6A-43F7-A3BC-8E683940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51C7-E81B-4989-A80A-796E8884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04C52-15A7-4E47-BCA0-AB1B89F1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8A3-2F03-466B-A22B-28EC7D2C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95780-B63C-424B-8879-8EEA8143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00E4A-E205-4B90-A5EE-BFD3B3FC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A20A6-1464-49CA-8029-28C37BF4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928EC-27BB-446C-A1A6-8D34B9C5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D52EA-A5A4-403C-B279-91173706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2A17-AFAB-4E53-9A2C-F56A548E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A45B-FC09-4B44-A2DB-F06B26F5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2D105-EF62-4220-8931-70575D78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FE432-F354-4C63-B156-1F6E53F7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A6CC4-B7F0-48CC-96F0-20DE64C0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AC5-DF36-4961-B15A-3B278486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69947-8D0B-4F6B-ABC6-AE00B506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C4758-DF9D-44CC-84D2-073519E9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9F5E7-A1DF-4C64-B707-C649D04D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FBE02-E96D-4A6D-9828-220A8075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7CD41-F726-4A60-B1A9-CBF4E4A1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F4019-9528-4CAC-AFC2-9F9B1B16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08B69-96C3-4662-B0E4-A6BFF967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275D1-AF39-41BA-99A6-CC82F3C5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59561-50BE-496E-8D4A-7551F021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841EE-8180-476B-84FC-018FAB47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5E7-F3A7-45CF-BB78-32D20F5E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1CC25-66D6-4C60-880E-F1496896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CB650-ED38-46B3-AD0C-E6819C72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5B630-2461-40B4-88BB-FF5A1E5D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1B403-146B-4CD3-851C-10CA35AC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DEBC7-A3AD-45C0-AA68-5AD39FD5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BA56D-220B-4CE4-BF1A-2C88E38F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6CBE8-6AE5-4CD0-BC4A-EC292550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FBB90-4B5C-4B2A-BD0C-6CC3C14B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6C200-BBF4-4B0B-B3BE-F8B9A854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F0750-CFC6-4168-BF05-EE24A351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FA4-F8E9-4728-8372-ABB75050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CF2D5-8BA8-4255-B13D-09FA0088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C5FE5-4B13-4323-B861-954DD6B7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B0C05-37EE-4303-8A78-397A8A66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35046-054B-425F-8CA7-53D7861B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EBAAB-3507-4041-B168-630E4935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5FC27-C653-43D6-A2C1-09C43D27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ABA5B-3638-4150-8A51-C35685BC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67CF0-C283-4AFB-A902-61329B67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E3E16-B58A-4793-A942-D280B27E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CEFD6-9412-4F1E-ACE9-3702D3EB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6DD-EA35-4221-9560-9CC6B810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83D65-90AD-4BE1-8220-259CF741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CED39-2BD9-409F-8DC5-267103D0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B50E8-2280-43C9-872B-5B898141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0E40B-670A-4480-A1AA-E68A2691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1856F-B7A0-4496-8A5E-2985AC99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4F1AC-D097-416E-87F7-5A0FF21D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A0597-2328-42B4-A612-9F94ABA4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6253C-69A4-44D6-8244-A1563596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A0F7C-0419-4AED-A2C8-A8986302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9F617-33B9-457B-8FD3-E9AA9332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366-015B-4702-A24A-90B79300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69E67-62E8-4AAC-B123-B4C67A03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AD313-33EC-4F01-BB17-167048CE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1ABDC-BD77-4DF4-8D0A-28EDB683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073C3-6288-4C1C-B40A-F1007D06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C3CBA-B8C6-4C97-BB11-36DC3223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26E-FCF6-4A82-84C1-857FDADC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A21E-3CA6-4FC3-AEB7-12346C9015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B980-2A0A-4467-B765-333B48F48C3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C49E-7721-43A8-ADBF-0876FCDD266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E1A6-B4A7-4EA8-8329-039393A359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F2BF-6F84-48E6-8070-A7382089F6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38AB-74F2-4123-B3D9-165F5563A78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AD32-9AFE-4969-B96B-4896B20FA2F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1500120" y="714240"/>
            <a:ext cx="714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Правописание гласных после шипящих и 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1"/>
          <p:cNvSpPr/>
          <p:nvPr/>
        </p:nvSpPr>
        <p:spPr>
          <a:xfrm>
            <a:off x="1143000" y="57168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после шипящих за кор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(в суффиксах и окончания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"/>
          <p:cNvSpPr/>
          <p:nvPr/>
        </p:nvSpPr>
        <p:spPr>
          <a:xfrm>
            <a:off x="1857240" y="185724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4305"/>
                </a:solidFill>
                <a:latin typeface="Arial"/>
              </a:rPr>
              <a:t>Под ударением пиши - 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357200" y="2786040"/>
            <a:ext cx="72867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уффикс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адательных причастий -ённ-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пряжённый, вооруж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глагольных прилагательных -ён-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пчёный, учё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также в производных слов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прощённость, учёность, жж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Выгнутая вправо стрелка 4"/>
          <p:cNvSpPr/>
          <p:nvPr/>
        </p:nvSpPr>
        <p:spPr>
          <a:xfrm>
            <a:off x="7858080" y="2214720"/>
            <a:ext cx="571680" cy="1357200"/>
          </a:xfrm>
          <a:custGeom>
            <a:avLst/>
            <a:gdLst>
              <a:gd name="textAreaLeft" fmla="*/ 76320 w 571680"/>
              <a:gd name="textAreaRight" fmla="*/ 495360 w 571680"/>
              <a:gd name="textAreaTop" fmla="*/ 285480 h 1357200"/>
              <a:gd name="textAreaBottom" fmla="*/ 1000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95" stAng="-5400000" swAng="5400000"/>
                <a:lnTo>
                  <a:pt x="21600" y="11368"/>
                </a:lnTo>
                <a:arcTo wR="21600" hR="9095" stAng="0" swAng="3508991"/>
                <a:lnTo>
                  <a:pt x="5400" y="21311"/>
                </a:lnTo>
                <a:lnTo>
                  <a:pt x="0" y="19327"/>
                </a:lnTo>
                <a:lnTo>
                  <a:pt x="5400" y="16764"/>
                </a:lnTo>
                <a:lnTo>
                  <a:pt x="5400" y="17901"/>
                </a:lnTo>
                <a:arcTo wR="21600" hR="9095" stAng="3508991" swAng="-3326853"/>
                <a:lnTo>
                  <a:pt x="21431" y="10232"/>
                </a:lnTo>
                <a:arcTo wR="21600" hR="9095" stAng="-182138" swAng="-5217862"/>
                <a:close/>
              </a:path>
              <a:path fill="darkenLess" w="21600" h="21600">
                <a:moveTo>
                  <a:pt x="0" y="0"/>
                </a:moveTo>
                <a:arcTo wR="21600" hR="9095" stAng="-5400000" swAng="5400000"/>
                <a:lnTo>
                  <a:pt x="21600" y="11368"/>
                </a:lnTo>
                <a:arcTo wR="21600" hR="9095" stAng="0" swAng="-182138"/>
                <a:lnTo>
                  <a:pt x="21431" y="10232"/>
                </a:lnTo>
                <a:arcTo wR="21600" hR="9095" stAng="-182138" swAng="-5217862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Выгнутая вправо стрелка 5"/>
          <p:cNvSpPr/>
          <p:nvPr/>
        </p:nvSpPr>
        <p:spPr>
          <a:xfrm>
            <a:off x="7929720" y="2214720"/>
            <a:ext cx="714240" cy="2143080"/>
          </a:xfrm>
          <a:custGeom>
            <a:avLst/>
            <a:gdLst>
              <a:gd name="textAreaLeft" fmla="*/ 95400 w 714240"/>
              <a:gd name="textAreaRight" fmla="*/ 618840 w 714240"/>
              <a:gd name="textAreaTop" fmla="*/ 468720 h 2143080"/>
              <a:gd name="textAreaBottom" fmla="*/ 158508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50" stAng="-5400000" swAng="5400000"/>
                <a:lnTo>
                  <a:pt x="21600" y="11250"/>
                </a:lnTo>
                <a:arcTo wR="21600" hR="9450" stAng="0" swAng="3567133"/>
                <a:lnTo>
                  <a:pt x="5400" y="21300"/>
                </a:lnTo>
                <a:lnTo>
                  <a:pt x="0" y="19800"/>
                </a:lnTo>
                <a:lnTo>
                  <a:pt x="5400" y="17700"/>
                </a:lnTo>
                <a:lnTo>
                  <a:pt x="5400" y="18600"/>
                </a:lnTo>
                <a:arcTo wR="21600" hR="9450" stAng="3567133" swAng="-3423323"/>
                <a:lnTo>
                  <a:pt x="21502" y="10350"/>
                </a:lnTo>
                <a:arcTo wR="21600" hR="9450" stAng="-143810" swAng="-5256190"/>
                <a:close/>
              </a:path>
              <a:path fill="darkenLess" w="21600" h="21600">
                <a:moveTo>
                  <a:pt x="0" y="0"/>
                </a:moveTo>
                <a:arcTo wR="21600" hR="9450" stAng="-5400000" swAng="5400000"/>
                <a:lnTo>
                  <a:pt x="21600" y="11250"/>
                </a:lnTo>
                <a:arcTo wR="21600" hR="9450" stAng="0" swAng="-143810"/>
                <a:lnTo>
                  <a:pt x="21502" y="10350"/>
                </a:lnTo>
                <a:arcTo wR="21600" hR="9450" stAng="-143810" swAng="-5256190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Выгнутая вправо стрелка 6"/>
          <p:cNvSpPr/>
          <p:nvPr/>
        </p:nvSpPr>
        <p:spPr>
          <a:xfrm>
            <a:off x="7929720" y="2286000"/>
            <a:ext cx="785520" cy="3214800"/>
          </a:xfrm>
          <a:custGeom>
            <a:avLst/>
            <a:gdLst>
              <a:gd name="textAreaLeft" fmla="*/ 105120 w 785520"/>
              <a:gd name="textAreaRight" fmla="*/ 680400 w 785520"/>
              <a:gd name="textAreaTop" fmla="*/ 730080 h 3214800"/>
              <a:gd name="textAreaBottom" fmla="*/ 2386800 h 32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10" stAng="-5400000" swAng="5400000"/>
                <a:lnTo>
                  <a:pt x="21600" y="11130"/>
                </a:lnTo>
                <a:arcTo wR="21600" hR="9810" stAng="0" swAng="3622877"/>
                <a:lnTo>
                  <a:pt x="5400" y="21288"/>
                </a:lnTo>
                <a:lnTo>
                  <a:pt x="0" y="20280"/>
                </a:lnTo>
                <a:lnTo>
                  <a:pt x="5400" y="18648"/>
                </a:lnTo>
                <a:lnTo>
                  <a:pt x="5400" y="19308"/>
                </a:lnTo>
                <a:arcTo wR="21600" hR="9810" stAng="3622877" swAng="-3517629"/>
                <a:lnTo>
                  <a:pt x="21551" y="10470"/>
                </a:lnTo>
                <a:arcTo wR="21600" hR="9810" stAng="-105248" swAng="-5294752"/>
                <a:close/>
              </a:path>
              <a:path fill="darkenLess" w="21600" h="21600">
                <a:moveTo>
                  <a:pt x="0" y="0"/>
                </a:moveTo>
                <a:arcTo wR="21600" hR="9810" stAng="-5400000" swAng="5400000"/>
                <a:lnTo>
                  <a:pt x="21600" y="11130"/>
                </a:lnTo>
                <a:arcTo wR="21600" hR="9810" stAng="0" swAng="-105248"/>
                <a:lnTo>
                  <a:pt x="21551" y="10470"/>
                </a:lnTo>
                <a:arcTo wR="21600" hR="9810" stAng="-105248" swAng="-5294752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1"/>
          <p:cNvSpPr/>
          <p:nvPr/>
        </p:nvSpPr>
        <p:spPr>
          <a:xfrm>
            <a:off x="1214280" y="50004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после шипящих за кор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(в суффиксах и окончания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"/>
          <p:cNvSpPr/>
          <p:nvPr/>
        </p:nvSpPr>
        <p:spPr>
          <a:xfrm>
            <a:off x="1428840" y="414324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местоимении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(о) чём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в словах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причём, нипочём, никчём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1714680" y="2143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4305"/>
                </a:solidFill>
                <a:latin typeface="Arial"/>
              </a:rPr>
              <a:t>Под ударением пиши - 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Прямая со стрелкой 5"/>
          <p:cNvCxnSpPr/>
          <p:nvPr/>
        </p:nvCxnSpPr>
        <p:spPr>
          <a:xfrm flipH="1">
            <a:off x="3285360" y="2642040"/>
            <a:ext cx="4358520" cy="1500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0" name="Прямая со стрелкой 7"/>
          <p:cNvCxnSpPr/>
          <p:nvPr/>
        </p:nvCxnSpPr>
        <p:spPr>
          <a:xfrm flipH="1">
            <a:off x="6571440" y="2643120"/>
            <a:ext cx="1072440" cy="1643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1"/>
          <p:cNvSpPr/>
          <p:nvPr/>
        </p:nvSpPr>
        <p:spPr>
          <a:xfrm>
            <a:off x="1214280" y="571680"/>
            <a:ext cx="73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Употребление гласных после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"/>
          <p:cNvSpPr/>
          <p:nvPr/>
        </p:nvSpPr>
        <p:spPr>
          <a:xfrm>
            <a:off x="1214280" y="1500120"/>
            <a:ext cx="578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64305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4305"/>
                </a:solidFill>
                <a:latin typeface="Arial"/>
              </a:rPr>
              <a:t>По традиции пиши буквы </a:t>
            </a:r>
            <a:r>
              <a:rPr b="1" lang="ru-RU" sz="2800" spc="-1" strike="noStrike">
                <a:solidFill>
                  <a:srgbClr val="964305"/>
                </a:solidFill>
                <a:latin typeface="Arial"/>
              </a:rPr>
              <a:t>У, А, Е</a:t>
            </a:r>
            <a:r>
              <a:rPr b="1" lang="ru-RU" sz="2400" spc="-1" strike="noStrike">
                <a:solidFill>
                  <a:srgbClr val="964305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СТВО, Ц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, Ц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3"/>
          <p:cNvSpPr/>
          <p:nvPr/>
        </p:nvSpPr>
        <p:spPr>
          <a:xfrm>
            <a:off x="1643040" y="3143160"/>
            <a:ext cx="671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aa33"/>
                </a:solidFill>
                <a:latin typeface="Arial"/>
              </a:rPr>
              <a:t>Буквы Э, Ю, Я  после Ц встречаются только в иноязычных слов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цэ, Цюрих, Цяньн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"/>
          <p:cNvSpPr/>
          <p:nvPr/>
        </p:nvSpPr>
        <p:spPr>
          <a:xfrm>
            <a:off x="1143000" y="6429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Употребление гласных после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1643040" y="16430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"/>
          <p:cNvSpPr/>
          <p:nvPr/>
        </p:nvSpPr>
        <p:spPr>
          <a:xfrm>
            <a:off x="7000920" y="164304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3286080" y="150012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соответствии с произноше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6"/>
          <p:cNvSpPr/>
          <p:nvPr/>
        </p:nvSpPr>
        <p:spPr>
          <a:xfrm>
            <a:off x="1285920" y="25718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удар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6072120" y="25718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уда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8"/>
          <p:cNvSpPr/>
          <p:nvPr/>
        </p:nvSpPr>
        <p:spPr>
          <a:xfrm>
            <a:off x="1214280" y="3429000"/>
            <a:ext cx="228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околь пальтецо огурцом льстецов танцор облицовка образц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5786280" y="3571920"/>
            <a:ext cx="278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ьице горцем приверженцев глянце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Прямая со стрелкой 12"/>
          <p:cNvCxnSpPr/>
          <p:nvPr/>
        </p:nvCxnSpPr>
        <p:spPr>
          <a:xfrm flipH="1">
            <a:off x="2499480" y="999000"/>
            <a:ext cx="528732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3" name="Прямая со стрелкой 14"/>
          <p:cNvCxnSpPr>
            <a:endCxn id="386" idx="0"/>
          </p:cNvCxnSpPr>
          <p:nvPr/>
        </p:nvCxnSpPr>
        <p:spPr>
          <a:xfrm flipH="1">
            <a:off x="7751160" y="1000080"/>
            <a:ext cx="35640" cy="6433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94" name="Выгнутая влево стрелка 15"/>
          <p:cNvSpPr/>
          <p:nvPr/>
        </p:nvSpPr>
        <p:spPr>
          <a:xfrm>
            <a:off x="857160" y="1928880"/>
            <a:ext cx="857520" cy="1571400"/>
          </a:xfrm>
          <a:custGeom>
            <a:avLst/>
            <a:gdLst>
              <a:gd name="textAreaLeft" fmla="*/ 114840 w 857520"/>
              <a:gd name="textAreaRight" fmla="*/ 742680 w 857520"/>
              <a:gd name="textAreaTop" fmla="*/ 312480 h 1571400"/>
              <a:gd name="textAreaBottom" fmla="*/ 115200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91" stAng="-5400000" swAng="-5400000"/>
                <a:lnTo>
                  <a:pt x="0" y="11536"/>
                </a:lnTo>
                <a:arcTo wR="21600" hR="8591" stAng="10800000" swAng="-3420553"/>
                <a:lnTo>
                  <a:pt x="16200" y="21327"/>
                </a:lnTo>
                <a:lnTo>
                  <a:pt x="21600" y="18655"/>
                </a:lnTo>
                <a:lnTo>
                  <a:pt x="16200" y="15436"/>
                </a:lnTo>
                <a:lnTo>
                  <a:pt x="16200" y="16909"/>
                </a:lnTo>
                <a:arcTo wR="21600" hR="8591" stAng="7379447" swAng="3183056"/>
                <a:lnTo>
                  <a:pt x="320" y="10063"/>
                </a:lnTo>
                <a:arcTo wR="21600" hR="8591" stAng="-10562503" swAng="5162503"/>
                <a:close/>
              </a:path>
              <a:path fill="darkenLess" w="21600" h="21600">
                <a:moveTo>
                  <a:pt x="21600" y="0"/>
                </a:moveTo>
                <a:arcTo wR="21600" hR="8591" stAng="-5400000" swAng="-5400000"/>
                <a:lnTo>
                  <a:pt x="0" y="8591"/>
                </a:lnTo>
                <a:arcTo wR="21600" hR="8591" stAng="10800000" swAng="-237497"/>
                <a:lnTo>
                  <a:pt x="320" y="10063"/>
                </a:lnTo>
                <a:arcTo wR="21600" hR="8591" stAng="-10562503" swAng="5162503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Выгнутая вправо стрелка 16"/>
          <p:cNvSpPr/>
          <p:nvPr/>
        </p:nvSpPr>
        <p:spPr>
          <a:xfrm>
            <a:off x="8143920" y="1928880"/>
            <a:ext cx="1000080" cy="171432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334800 h 1714320"/>
              <a:gd name="textAreaBottom" fmla="*/ 125460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38" stAng="-5400000" swAng="5400000"/>
                <a:lnTo>
                  <a:pt x="21600" y="11588"/>
                </a:lnTo>
                <a:arcTo wR="21600" hR="8438" stAng="0" swAng="3392144"/>
                <a:lnTo>
                  <a:pt x="5400" y="21332"/>
                </a:lnTo>
                <a:lnTo>
                  <a:pt x="0" y="18450"/>
                </a:lnTo>
                <a:lnTo>
                  <a:pt x="5400" y="15032"/>
                </a:lnTo>
                <a:lnTo>
                  <a:pt x="5400" y="16607"/>
                </a:lnTo>
                <a:arcTo wR="21600" hR="8438" stAng="3392144" swAng="-3137457"/>
                <a:lnTo>
                  <a:pt x="21220" y="10013"/>
                </a:lnTo>
                <a:arcTo wR="21600" hR="8438" stAng="-254687" swAng="-5145313"/>
                <a:close/>
              </a:path>
              <a:path fill="darkenLess" w="21600" h="21600">
                <a:moveTo>
                  <a:pt x="0" y="0"/>
                </a:moveTo>
                <a:arcTo wR="21600" hR="8438" stAng="-5400000" swAng="5400000"/>
                <a:lnTo>
                  <a:pt x="21600" y="11588"/>
                </a:lnTo>
                <a:arcTo wR="21600" hR="8438" stAng="0" swAng="-254687"/>
                <a:lnTo>
                  <a:pt x="21220" y="10013"/>
                </a:lnTo>
                <a:arcTo wR="21600" hR="8438" stAng="-254687" swAng="-5145313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1"/>
          <p:cNvSpPr/>
          <p:nvPr/>
        </p:nvSpPr>
        <p:spPr>
          <a:xfrm>
            <a:off x="1285920" y="50004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4. Употребление гласных после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2"/>
          <p:cNvSpPr/>
          <p:nvPr/>
        </p:nvSpPr>
        <p:spPr>
          <a:xfrm>
            <a:off x="1000080" y="1428840"/>
            <a:ext cx="78580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зударн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ении О пишется после Ц только в слове </a:t>
            </a:r>
            <a:r>
              <a:rPr b="1" lang="ru-RU" sz="2800" spc="-1" strike="noStrike">
                <a:solidFill>
                  <a:srgbClr val="84aa33"/>
                </a:solidFill>
                <a:latin typeface="Arial"/>
              </a:rPr>
              <a:t>цокотуха (от цокот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 некоторых иноязычных словах, 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4aa33"/>
                </a:solidFill>
                <a:latin typeface="Arial"/>
              </a:rPr>
              <a:t>палацц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дворец), </a:t>
            </a:r>
            <a:r>
              <a:rPr b="1" lang="ru-RU" sz="2800" spc="-1" strike="noStrike">
                <a:solidFill>
                  <a:srgbClr val="84aa33"/>
                </a:solidFill>
                <a:latin typeface="Arial"/>
              </a:rPr>
              <a:t>скерц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музыкальная пьеса в оживлённом, быстром темпе), </a:t>
            </a:r>
            <a:r>
              <a:rPr b="1" lang="ru-RU" sz="2800" spc="-1" strike="noStrike">
                <a:solidFill>
                  <a:srgbClr val="84aa33"/>
                </a:solidFill>
                <a:latin typeface="Arial"/>
              </a:rPr>
              <a:t>герцог, мецц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-р, меццо-пиано – умеренно-тихое звуч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1928880" y="52862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уква Ё после Ц не пишется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1357200" y="57168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4. Употребление гласных после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"/>
          <p:cNvSpPr/>
          <p:nvPr/>
        </p:nvSpPr>
        <p:spPr>
          <a:xfrm>
            <a:off x="2214720" y="121428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4305"/>
                </a:solidFill>
                <a:latin typeface="Arial"/>
              </a:rPr>
              <a:t>Пиши 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1285920" y="2000160"/>
            <a:ext cx="300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рне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ра, циркуль, цистерна, цитата, ци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5143680" y="2643120"/>
            <a:ext cx="35002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овах, заканчивающихся 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ЦИЯ, -ЦИЗМ, -Ц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ЦИОНН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итуция мистицизм лекционный реа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1071720" y="3571920"/>
            <a:ext cx="24285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склю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Цыган на цыпочках цыкнул цыплёнку: «Цыц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1143000" y="57168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4. Употребление гласных после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2928960" y="13572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4305"/>
                </a:solidFill>
                <a:latin typeface="Arial"/>
              </a:rPr>
              <a:t>Пиши 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1785960" y="2428920"/>
            <a:ext cx="6572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уффиксах и окончан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цы, круглолицый, сестрицы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1428840" y="435780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5"/>
          <p:cNvSpPr/>
          <p:nvPr/>
        </p:nvSpPr>
        <p:spPr>
          <a:xfrm>
            <a:off x="1000080" y="500076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В именах собственных возможно написани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ц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ы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Виц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"/>
          <p:cNvSpPr/>
          <p:nvPr/>
        </p:nvSpPr>
        <p:spPr>
          <a:xfrm>
            <a:off x="1285920" y="1500120"/>
            <a:ext cx="7500960" cy="2104920"/>
          </a:xfrm>
          <a:prstGeom prst="rect">
            <a:avLst/>
          </a:prstGeom>
          <a:solidFill>
            <a:srgbClr val="fed46c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64305"/>
                </a:solidFill>
                <a:latin typeface="Arial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64305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1571760" y="4287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Буквы А, У, Ы после шипя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"/>
          <p:cNvSpPr/>
          <p:nvPr/>
        </p:nvSpPr>
        <p:spPr>
          <a:xfrm>
            <a:off x="1785960" y="128592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 – ща, чу – щу,  жи – 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1500120" y="2357280"/>
            <a:ext cx="371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щ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ь 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ч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ный до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щ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я перегоро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товая из брус</a:t>
            </a: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нить </a:t>
            </a: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ш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лы</a:t>
            </a: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5072040" y="2000160"/>
            <a:ext cx="378612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клю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брош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жю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параш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ственные имена иноязыч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Жюль Вер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Шяуля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Лонжю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"/>
          <p:cNvSpPr/>
          <p:nvPr/>
        </p:nvSpPr>
        <p:spPr>
          <a:xfrm>
            <a:off x="642960" y="5000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32d2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О – Е (Ё) после шипящи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1214280" y="135720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русском языке согласные шипящие звуки [ч], [ш], [ж], [щ] были мяг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я, ю, е, и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шипящих обозначали их мягк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временем [ж] и [ш] отвердели, сохранили мягкость лишь [щ'] и [ч']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образие написаний с буквам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, ш, ч, щ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современном письме объясняется историческими причи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642960" y="5000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32d2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О – Е (Ё) после шипящи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1143000" y="128592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корне под ударением - 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1285920" y="20718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 однокоренном без ударения - 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6"/>
          <p:cNvSpPr/>
          <p:nvPr/>
        </p:nvSpPr>
        <p:spPr>
          <a:xfrm>
            <a:off x="1214280" y="364320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клю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75a8d"/>
                </a:solidFill>
                <a:latin typeface="Arial"/>
              </a:rPr>
              <a:t>Шов, шорох, крыжовник, капюшон; шок, жо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пресс для выжимания»), </a:t>
            </a:r>
            <a:r>
              <a:rPr b="1" lang="ru-RU" sz="1800" spc="-1" strike="noStrike">
                <a:solidFill>
                  <a:srgbClr val="475a8d"/>
                </a:solidFill>
                <a:latin typeface="Arial"/>
              </a:rPr>
              <a:t>ж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сильный клёв рыбы»),  </a:t>
            </a:r>
            <a:r>
              <a:rPr b="1" lang="ru-RU" sz="1800" spc="-1" strike="noStrike">
                <a:solidFill>
                  <a:srgbClr val="475a8d"/>
                </a:solidFill>
                <a:latin typeface="Arial"/>
              </a:rPr>
              <a:t>жо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«ловкий в делах, прижимистый человек, пройдоха»), </a:t>
            </a:r>
            <a:r>
              <a:rPr b="1" lang="ru-RU" sz="1800" spc="-1" strike="noStrike">
                <a:solidFill>
                  <a:srgbClr val="475a8d"/>
                </a:solidFill>
                <a:latin typeface="Arial"/>
              </a:rPr>
              <a:t>изжога, обжора, чокаться, чопорный, шор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«специалист по шорным  - ремесленные изделия из кожи - изделиям»), </a:t>
            </a:r>
            <a:r>
              <a:rPr b="1" lang="ru-RU" sz="1800" spc="-1" strike="noStrike">
                <a:solidFill>
                  <a:srgbClr val="475a8d"/>
                </a:solidFill>
                <a:latin typeface="Arial"/>
              </a:rPr>
              <a:t>трущоба, шомпол, мажорный, чащоба, жолн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 польской армии солдат-пехотинец)</a:t>
            </a:r>
            <a:r>
              <a:rPr b="1" lang="ru-RU" sz="1800" spc="-1" strike="noStrike">
                <a:solidFill>
                  <a:srgbClr val="475a8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1143000" y="2857680"/>
            <a:ext cx="70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пкая бечёвка (бечева); купить по дешёвке (дешевле); мельничный жёрнов (жернова); тихий шёпот (шепта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олилиния 14"/>
          <p:cNvSpPr/>
          <p:nvPr/>
        </p:nvSpPr>
        <p:spPr>
          <a:xfrm>
            <a:off x="2214720" y="2857680"/>
            <a:ext cx="618840" cy="120600"/>
          </a:xfrm>
          <a:custGeom>
            <a:avLst/>
            <a:gdLst/>
            <a:ahLst/>
            <a:rect l="l" t="t" r="r" b="b"/>
            <a:pathLst>
              <a:path w="619432" h="120445">
                <a:moveTo>
                  <a:pt x="0" y="105696"/>
                </a:moveTo>
                <a:cubicBezTo>
                  <a:pt x="110612" y="52848"/>
                  <a:pt x="221225" y="0"/>
                  <a:pt x="324464" y="2458"/>
                </a:cubicBezTo>
                <a:cubicBezTo>
                  <a:pt x="427703" y="4916"/>
                  <a:pt x="523567" y="62680"/>
                  <a:pt x="619432" y="120445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олилиния 15"/>
          <p:cNvSpPr/>
          <p:nvPr/>
        </p:nvSpPr>
        <p:spPr>
          <a:xfrm>
            <a:off x="3357720" y="2857680"/>
            <a:ext cx="618840" cy="120600"/>
          </a:xfrm>
          <a:custGeom>
            <a:avLst/>
            <a:gdLst/>
            <a:ahLst/>
            <a:rect l="l" t="t" r="r" b="b"/>
            <a:pathLst>
              <a:path w="619432" h="120445">
                <a:moveTo>
                  <a:pt x="0" y="105696"/>
                </a:moveTo>
                <a:cubicBezTo>
                  <a:pt x="110612" y="52848"/>
                  <a:pt x="221225" y="0"/>
                  <a:pt x="324464" y="2458"/>
                </a:cubicBezTo>
                <a:cubicBezTo>
                  <a:pt x="427703" y="4916"/>
                  <a:pt x="523567" y="62680"/>
                  <a:pt x="619432" y="120445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6"/>
          <p:cNvSpPr/>
          <p:nvPr/>
        </p:nvSpPr>
        <p:spPr>
          <a:xfrm>
            <a:off x="1214280" y="592920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ом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Ч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устар. и прост.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вчера вечером»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ЧОР ,ТЫ ПОМНИШЬ, ВЬЮГА ЗЛИЛАСЬ… (Пушкин А.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1"/>
          <p:cNvSpPr/>
          <p:nvPr/>
        </p:nvSpPr>
        <p:spPr>
          <a:xfrm>
            <a:off x="785880" y="50004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32d2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О – Е (Ё) после шипящи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"/>
          <p:cNvSpPr/>
          <p:nvPr/>
        </p:nvSpPr>
        <p:spPr>
          <a:xfrm>
            <a:off x="714240" y="1357200"/>
            <a:ext cx="7858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безударном положении в заимствованных словах пишется буква 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5a8d"/>
                </a:solidFill>
                <a:latin typeface="Arial"/>
              </a:rPr>
              <a:t>шоссе, шоколад, жокей, шофёр, жонглёр, шовинизм, Шотланд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714240" y="34290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ифференцирующие на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2071800" y="392904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-жёг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715000" y="392904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-жог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2000160" y="45007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глаго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словах, от них образов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5214960" y="45720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существительны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ловах, от них образов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1714680" y="5500800"/>
            <a:ext cx="657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Ожё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уку – сильный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ожо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Ожёгш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уку  –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ожого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цен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928800" y="5716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после шипящих за кор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(в суффиксах и окончания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1357200" y="164304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4305"/>
                </a:solidFill>
                <a:latin typeface="Arial"/>
              </a:rPr>
              <a:t>Под ударением пиши -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2000160" y="250020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кончаниях </a:t>
            </a:r>
            <a:r>
              <a:rPr b="1" lang="ru-RU" sz="1800" spc="-1" strike="noStrike">
                <a:solidFill>
                  <a:srgbClr val="964305"/>
                </a:solidFill>
                <a:latin typeface="Arial"/>
              </a:rPr>
              <a:t>существительных и прилаг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6072120" y="2500200"/>
            <a:ext cx="25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 суффиксах </a:t>
            </a:r>
            <a:r>
              <a:rPr b="1" lang="ru-RU" sz="1800" spc="-1" strike="noStrike">
                <a:solidFill>
                  <a:srgbClr val="964305"/>
                </a:solidFill>
                <a:latin typeface="Arial"/>
              </a:rPr>
              <a:t>существительных и прилаг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"/>
          <p:cNvSpPr/>
          <p:nvPr/>
        </p:nvSpPr>
        <p:spPr>
          <a:xfrm>
            <a:off x="1571760" y="371484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жом, свечой; большого, чуж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5429160" y="350028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ючок, галчонок, ручо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рчовый, холщ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1571760" y="4714920"/>
            <a:ext cx="6929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равни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езударные окончания и суффик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жем, тучей;  хорошего, рыж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ченька, грушевый, зам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Прямая со стрелкой 9"/>
          <p:cNvCxnSpPr/>
          <p:nvPr/>
        </p:nvCxnSpPr>
        <p:spPr>
          <a:xfrm flipH="1">
            <a:off x="3571560" y="2143080"/>
            <a:ext cx="4001040" cy="357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9" name="Прямая со стрелкой 11"/>
          <p:cNvCxnSpPr/>
          <p:nvPr/>
        </p:nvCxnSpPr>
        <p:spPr>
          <a:xfrm flipH="1">
            <a:off x="7571520" y="2214720"/>
            <a:ext cx="2520" cy="357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50" name="TextBox 12"/>
          <p:cNvSpPr/>
          <p:nvPr/>
        </p:nvSpPr>
        <p:spPr>
          <a:xfrm>
            <a:off x="1285920" y="585792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амилиях на -ов-, -ев- (-ёв-) в суффиксе могут писаться буквы О, Е, Ё – зависит от традиции на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ычов, Сычев, Сы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285920" y="64296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после шипящих за кор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(в суффиксах и окончания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1714680" y="185724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4305"/>
                </a:solidFill>
                <a:latin typeface="Arial"/>
              </a:rPr>
              <a:t>Под ударением пиши -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1285920" y="2857680"/>
            <a:ext cx="34290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2000" spc="-1" strike="noStrike">
                <a:solidFill>
                  <a:srgbClr val="964305"/>
                </a:solidFill>
                <a:latin typeface="Arial"/>
              </a:rPr>
              <a:t>Беглое О в именах существите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иш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 – киш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ж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 – ножны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4305"/>
                </a:solidFill>
                <a:latin typeface="Arial"/>
              </a:rPr>
              <a:t>и прилагательных</a:t>
            </a:r>
            <a:r>
              <a:rPr b="0" lang="ru-RU" sz="2000" spc="-1" strike="noStrike">
                <a:solidFill>
                  <a:srgbClr val="964305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смеш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 – смеш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5500800" y="3929040"/>
            <a:ext cx="30718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ru-RU" sz="2000" spc="-1" strike="noStrike">
                <a:solidFill>
                  <a:srgbClr val="964305"/>
                </a:solidFill>
                <a:latin typeface="Arial"/>
              </a:rPr>
              <a:t>На конце наречий</a:t>
            </a:r>
            <a:r>
              <a:rPr b="0" i="1" lang="ru-RU" sz="1800" spc="-1" strike="noStrike">
                <a:solidFill>
                  <a:srgbClr val="964305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орячо, общ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ключение: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щ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Прямая со стрелкой 7"/>
          <p:cNvCxnSpPr/>
          <p:nvPr/>
        </p:nvCxnSpPr>
        <p:spPr>
          <a:xfrm flipH="1">
            <a:off x="2571120" y="2357280"/>
            <a:ext cx="5072760" cy="5724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6" name="Прямая со стрелкой 9"/>
          <p:cNvCxnSpPr>
            <a:endCxn id="354" idx="0"/>
          </p:cNvCxnSpPr>
          <p:nvPr/>
        </p:nvCxnSpPr>
        <p:spPr>
          <a:xfrm flipH="1">
            <a:off x="7036560" y="2357280"/>
            <a:ext cx="607320" cy="15724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1285920" y="57168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после шипящих за кор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(в суффиксах и окончания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1500120" y="171468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4305"/>
                </a:solidFill>
                <a:latin typeface="Arial"/>
              </a:rPr>
              <a:t>Под ударением пиши - 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2000160" y="2786040"/>
            <a:ext cx="51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окончаниях глагол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жёшь, печёт, жжёт, теч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"/>
          <p:cNvSpPr/>
          <p:nvPr/>
        </p:nvSpPr>
        <p:spPr>
          <a:xfrm>
            <a:off x="1928880" y="4643280"/>
            <a:ext cx="58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глагольном суффиксе -ёвыва-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корчёвывать, размежёв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Прямая со стрелкой 6"/>
          <p:cNvCxnSpPr/>
          <p:nvPr/>
        </p:nvCxnSpPr>
        <p:spPr>
          <a:xfrm flipH="1">
            <a:off x="3714480" y="2286000"/>
            <a:ext cx="3929760" cy="5724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2" name="Прямая со стрелкой 8"/>
          <p:cNvCxnSpPr/>
          <p:nvPr/>
        </p:nvCxnSpPr>
        <p:spPr>
          <a:xfrm flipH="1">
            <a:off x="6214320" y="2285640"/>
            <a:ext cx="1429560" cy="24296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"/>
          <p:cNvSpPr/>
          <p:nvPr/>
        </p:nvSpPr>
        <p:spPr>
          <a:xfrm>
            <a:off x="1143000" y="5716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после шипящих за кор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(в суффиксах и окончания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1785960" y="185724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4305"/>
                </a:solidFill>
                <a:latin typeface="Arial"/>
              </a:rPr>
              <a:t>Под ударением пиши - 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1214280" y="2857680"/>
            <a:ext cx="37864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уффиксе отглагольных существительных -ёвк-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рчёвка, размежё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5357880" y="3071880"/>
            <a:ext cx="3286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уффиксе существительных -ёр-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ажёр, ретушёр, дириж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1285920" y="5357880"/>
            <a:ext cx="492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НО!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ж</a:t>
            </a: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прилагательного нож</a:t>
            </a: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о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7"/>
          <p:cNvCxnSpPr/>
          <p:nvPr/>
        </p:nvCxnSpPr>
        <p:spPr>
          <a:xfrm flipH="1">
            <a:off x="3785400" y="2357280"/>
            <a:ext cx="3715560" cy="5724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9" name="Прямая со стрелкой 9"/>
          <p:cNvCxnSpPr/>
          <p:nvPr/>
        </p:nvCxnSpPr>
        <p:spPr>
          <a:xfrm flipH="1">
            <a:off x="7214760" y="2356920"/>
            <a:ext cx="28656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06:43:38Z</dcterms:created>
  <dc:creator>Polzovatel</dc:creator>
  <dc:description/>
  <dc:language>en-US</dc:language>
  <cp:lastModifiedBy>Пользователь</cp:lastModifiedBy>
  <dcterms:modified xsi:type="dcterms:W3CDTF">2018-11-27T13:51:22Z</dcterms:modified>
  <cp:revision>41</cp:revision>
  <dc:subject/>
  <dc:title>Слайд 1</dc:title>
</cp:coreProperties>
</file>