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207-C20E-4908-8492-CE030335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0BD-F3CA-4EDF-9212-85812DCC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321-D62F-4B65-96A2-86BC428D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9CF-E8F2-44A6-81DB-20CBEAA9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6D8-0954-4AFB-BCD4-3D023A31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4D7F-1FB7-4337-A185-E0EA0766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D786-E660-4810-8B7C-F8ECFBD4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4C99-F3DB-4422-9A5D-AC52A835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939D-60FB-4878-8923-E0CD45A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CD2A-DE2F-4787-B8BC-BB3B1863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C61D-E8E8-413D-A12C-A408BF6F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71C-2C72-408E-B841-437E2AED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8E08-5D93-4E20-892B-0506A27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388C-CD80-45C7-A20F-36324E4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491B-77AE-4E09-B8F8-F6A2DCDB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59D2-9E1E-4D21-A6A8-667AECFE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E03D-7D48-46CF-8FF4-491F373E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2242-74EF-4134-969E-CC56012A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B793-8193-4BE7-ACA5-2EA6C3DB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65DA-E36F-4F1E-AD1E-2BE4742F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8628-4901-4A8D-9C0C-C793C86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CB243-E8C3-47F3-A985-626E945D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8E67-D4BE-4F6D-A4B4-95B7AD44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B6A3A-E1B2-4B25-97EC-B514248C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2F13-0F4F-4C1D-8367-6DB9CC72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6FE7-E85A-4A17-A77A-C7643595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1DFE-1F4D-43CC-AD72-13AA084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C2BFE-4BEE-4439-B44F-0912CDF6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F84D-A1CC-4D9F-AB57-CF67DE40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603D-DDD2-4F8D-80CC-23B2B7BD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3035B-FAE1-43D1-ADFC-FD05A79F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ED44-E918-457E-9147-793B60A3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D2EB-F59F-4B22-B6A6-8C81D8DD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DD9-BB1B-4DD6-97C1-77B65493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F4AF-74C3-47C3-86ED-3B779FF2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1A91-47D5-4BE6-BDE5-9DBC2151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151A-BCE2-4B81-88AC-D8A4728C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8F54-B975-4701-90C7-6EB4508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7B766-0DE3-4A08-A883-9C07F60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A9DC0-B617-47CD-9DA1-1CDBCB1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ABAC-BDCD-4B3E-96C1-7FFB5235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21A47-7FF5-4E4C-8758-6E2376A7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27C6-105D-410C-B1C6-94354B4A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60A2-DB42-489C-B082-5746FA29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75F-EAD9-45DF-AF89-48623DFE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6E20-A6E0-4C65-AAD7-17D942C7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FE2FC-31FC-4805-8288-F397B597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65782-F8A1-425A-B5BB-C6A7ADDB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308D-A0E7-4739-9B5D-E133E764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2A140-880C-4CAD-A662-4B5EC239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1BADB-C27A-4F02-8564-F8F90423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8F1DC-915F-45FE-977E-463C9985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1C871-BDE1-441A-8D7D-770D07EB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E1F33-D261-47CC-AF7E-40C0100B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6C945-6F7D-4D01-BCB6-573A9FC8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3F1-265E-45B9-AF1F-805F2966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F8C9D-82F6-4366-8654-780E81D3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582AD-0435-471E-B9C0-4457C410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4D444-9257-41B9-A2BF-8DFD2AAE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E37D4-0352-40C5-9DF6-4E5C0A23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94595-E61E-4527-9A03-2F63500D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5814B-FA2D-40A9-B21B-1C241FE5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7255B-0268-46E8-811D-96C3401C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7050-A402-4D9B-B36B-8D88E651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4D3B-CFB5-420A-8619-6432C8E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9B89C-0178-4FE5-AE90-A5C79DD3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EAE-F9FB-4FD8-BF3D-4C8DFCC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178DA-FB1E-4FA8-A5B9-D22B946A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E218D-CC58-4E91-A336-0C55E672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717C0-B217-493A-B84D-3116B1C1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74818-2CD4-4039-80E7-8067DC3E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02DE2-5458-4F70-BB78-1DFE07A2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5FC6-3DB6-4D9C-8352-2C3361D2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B168-3545-4244-92A0-A60AA41C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A2FF-E4F1-47E2-AAD2-58F65DF0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93575-0F99-4974-A4BB-4C2C4B2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A4AEF-898B-4ED4-B92E-AA9ECD46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519-BB60-4B94-82F0-96C5DD30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CE60A-C966-4E43-A8D5-9A179FD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7381B-CB4B-452A-AF22-BC941031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57D6F-D7AD-40AE-A413-E3305E56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0664-5DF3-42C1-97CC-F782B898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03E3B-793F-4CA0-9838-CB372E18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3CD-DFB4-4C5E-9D44-CA6174E1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8862-A446-499E-BC30-8B49F6C050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2708-839F-4966-93CD-89C521A092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80A1-DBD8-4C86-BBF6-61D5127BAC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185-B4B6-4583-BD91-BA24518556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191F-43D6-4CFE-9457-6DFB86DEAB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B65C-D4C1-403A-B62A-EA404A3454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2149-D1FA-46AB-B422-F86679BEBE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1500120" y="714240"/>
            <a:ext cx="714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Правописание гласных после шипящих и 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1143000" y="57168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1857240" y="185724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357200" y="2786040"/>
            <a:ext cx="72867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уффикс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дательных причастий -ённ-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пряжённый, воору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глагольных прилагательных -ён-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пчёный, учё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также в производных слов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прощённость, учёность, жж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Выгнутая вправо стрелка 4"/>
          <p:cNvSpPr/>
          <p:nvPr/>
        </p:nvSpPr>
        <p:spPr>
          <a:xfrm>
            <a:off x="7858080" y="2214720"/>
            <a:ext cx="571680" cy="1357200"/>
          </a:xfrm>
          <a:custGeom>
            <a:avLst/>
            <a:gdLst>
              <a:gd name="textAreaLeft" fmla="*/ 76320 w 571680"/>
              <a:gd name="textAreaRight" fmla="*/ 495360 w 571680"/>
              <a:gd name="textAreaTop" fmla="*/ 285480 h 1357200"/>
              <a:gd name="textAreaBottom" fmla="*/ 1000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95" stAng="-5400000" swAng="5400000"/>
                <a:lnTo>
                  <a:pt x="21600" y="11368"/>
                </a:lnTo>
                <a:arcTo wR="21600" hR="9095" stAng="0" swAng="3508991"/>
                <a:lnTo>
                  <a:pt x="5400" y="21311"/>
                </a:lnTo>
                <a:lnTo>
                  <a:pt x="0" y="19327"/>
                </a:lnTo>
                <a:lnTo>
                  <a:pt x="5400" y="16764"/>
                </a:lnTo>
                <a:lnTo>
                  <a:pt x="5400" y="17901"/>
                </a:lnTo>
                <a:arcTo wR="21600" hR="9095" stAng="3508991" swAng="-3326853"/>
                <a:lnTo>
                  <a:pt x="21431" y="10232"/>
                </a:lnTo>
                <a:arcTo wR="21600" hR="9095" stAng="-182138" swAng="-5217862"/>
                <a:close/>
              </a:path>
              <a:path fill="darkenLess" w="21600" h="21600">
                <a:moveTo>
                  <a:pt x="0" y="0"/>
                </a:moveTo>
                <a:arcTo wR="21600" hR="9095" stAng="-5400000" swAng="5400000"/>
                <a:lnTo>
                  <a:pt x="21600" y="11368"/>
                </a:lnTo>
                <a:arcTo wR="21600" hR="9095" stAng="0" swAng="-182138"/>
                <a:lnTo>
                  <a:pt x="21431" y="10232"/>
                </a:lnTo>
                <a:arcTo wR="21600" hR="9095" stAng="-182138" swAng="-5217862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Выгнутая вправо стрелка 5"/>
          <p:cNvSpPr/>
          <p:nvPr/>
        </p:nvSpPr>
        <p:spPr>
          <a:xfrm>
            <a:off x="7929720" y="2214720"/>
            <a:ext cx="714240" cy="2143080"/>
          </a:xfrm>
          <a:custGeom>
            <a:avLst/>
            <a:gdLst>
              <a:gd name="textAreaLeft" fmla="*/ 95400 w 714240"/>
              <a:gd name="textAreaRight" fmla="*/ 618840 w 714240"/>
              <a:gd name="textAreaTop" fmla="*/ 468720 h 2143080"/>
              <a:gd name="textAreaBottom" fmla="*/ 158508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3567133"/>
                <a:lnTo>
                  <a:pt x="5400" y="21300"/>
                </a:lnTo>
                <a:lnTo>
                  <a:pt x="0" y="19800"/>
                </a:lnTo>
                <a:lnTo>
                  <a:pt x="5400" y="17700"/>
                </a:lnTo>
                <a:lnTo>
                  <a:pt x="5400" y="18600"/>
                </a:lnTo>
                <a:arcTo wR="21600" hR="9450" stAng="3567133" swAng="-3423323"/>
                <a:lnTo>
                  <a:pt x="21502" y="10350"/>
                </a:lnTo>
                <a:arcTo wR="21600" hR="9450" stAng="-143810" swAng="-5256190"/>
                <a:close/>
              </a:path>
              <a:path fill="darkenLess"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-143810"/>
                <a:lnTo>
                  <a:pt x="21502" y="10350"/>
                </a:lnTo>
                <a:arcTo wR="21600" hR="9450" stAng="-143810" swAng="-5256190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Выгнутая вправо стрелка 6"/>
          <p:cNvSpPr/>
          <p:nvPr/>
        </p:nvSpPr>
        <p:spPr>
          <a:xfrm>
            <a:off x="7929720" y="2286000"/>
            <a:ext cx="785520" cy="3214800"/>
          </a:xfrm>
          <a:custGeom>
            <a:avLst/>
            <a:gdLst>
              <a:gd name="textAreaLeft" fmla="*/ 105120 w 785520"/>
              <a:gd name="textAreaRight" fmla="*/ 680400 w 785520"/>
              <a:gd name="textAreaTop" fmla="*/ 730080 h 3214800"/>
              <a:gd name="textAreaBottom" fmla="*/ 2386800 h 32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10" stAng="-5400000" swAng="5400000"/>
                <a:lnTo>
                  <a:pt x="21600" y="11130"/>
                </a:lnTo>
                <a:arcTo wR="21600" hR="9810" stAng="0" swAng="3622877"/>
                <a:lnTo>
                  <a:pt x="5400" y="21288"/>
                </a:lnTo>
                <a:lnTo>
                  <a:pt x="0" y="20280"/>
                </a:lnTo>
                <a:lnTo>
                  <a:pt x="5400" y="18648"/>
                </a:lnTo>
                <a:lnTo>
                  <a:pt x="5400" y="19308"/>
                </a:lnTo>
                <a:arcTo wR="21600" hR="9810" stAng="3622877" swAng="-3517629"/>
                <a:lnTo>
                  <a:pt x="21551" y="10470"/>
                </a:lnTo>
                <a:arcTo wR="21600" hR="9810" stAng="-105248" swAng="-5294752"/>
                <a:close/>
              </a:path>
              <a:path fill="darkenLess" w="21600" h="21600">
                <a:moveTo>
                  <a:pt x="0" y="0"/>
                </a:moveTo>
                <a:arcTo wR="21600" hR="9810" stAng="-5400000" swAng="5400000"/>
                <a:lnTo>
                  <a:pt x="21600" y="11130"/>
                </a:lnTo>
                <a:arcTo wR="21600" hR="9810" stAng="0" swAng="-105248"/>
                <a:lnTo>
                  <a:pt x="21551" y="10470"/>
                </a:lnTo>
                <a:arcTo wR="21600" hR="9810" stAng="-105248" swAng="-5294752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1"/>
          <p:cNvSpPr/>
          <p:nvPr/>
        </p:nvSpPr>
        <p:spPr>
          <a:xfrm>
            <a:off x="1214280" y="50004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"/>
          <p:cNvSpPr/>
          <p:nvPr/>
        </p:nvSpPr>
        <p:spPr>
          <a:xfrm>
            <a:off x="1428840" y="41432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местоимении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(о) чё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в словах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причём, нипочём, никчё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714680" y="2143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Прямая со стрелкой 5"/>
          <p:cNvCxnSpPr/>
          <p:nvPr/>
        </p:nvCxnSpPr>
        <p:spPr>
          <a:xfrm flipH="1">
            <a:off x="3285360" y="2642040"/>
            <a:ext cx="4358520" cy="1500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0" name="Прямая со стрелкой 7"/>
          <p:cNvCxnSpPr/>
          <p:nvPr/>
        </p:nvCxnSpPr>
        <p:spPr>
          <a:xfrm flipH="1">
            <a:off x="6571440" y="2643120"/>
            <a:ext cx="1072440" cy="1643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1214280" y="571680"/>
            <a:ext cx="73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"/>
          <p:cNvSpPr/>
          <p:nvPr/>
        </p:nvSpPr>
        <p:spPr>
          <a:xfrm>
            <a:off x="1214280" y="150012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6430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4305"/>
                </a:solidFill>
                <a:latin typeface="Arial"/>
              </a:rPr>
              <a:t>По традиции пиши буквы </a:t>
            </a:r>
            <a:r>
              <a:rPr b="1" lang="ru-RU" sz="2800" spc="-1" strike="noStrike">
                <a:solidFill>
                  <a:srgbClr val="964305"/>
                </a:solidFill>
                <a:latin typeface="Arial"/>
              </a:rPr>
              <a:t>У, А, Е</a:t>
            </a:r>
            <a:r>
              <a:rPr b="1" lang="ru-RU" sz="2400" spc="-1" strike="noStrike">
                <a:solidFill>
                  <a:srgbClr val="964305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СТВО, Ц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, Ц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"/>
          <p:cNvSpPr/>
          <p:nvPr/>
        </p:nvSpPr>
        <p:spPr>
          <a:xfrm>
            <a:off x="1643040" y="3143160"/>
            <a:ext cx="67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Буквы Э, Ю, Я  после Ц встречаются только в иноязычных слов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цэ, Цюрих, Цяньн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1143000" y="6429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1643040" y="16430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7000920" y="16430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3286080" y="150012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оответствии с произнош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6"/>
          <p:cNvSpPr/>
          <p:nvPr/>
        </p:nvSpPr>
        <p:spPr>
          <a:xfrm>
            <a:off x="1285920" y="25718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удар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6072120" y="25718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уда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8"/>
          <p:cNvSpPr/>
          <p:nvPr/>
        </p:nvSpPr>
        <p:spPr>
          <a:xfrm>
            <a:off x="1214280" y="34290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околь пальтецо огурцом льстецов танцор облицовка образц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5786280" y="3571920"/>
            <a:ext cx="27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ьице горцем приверженцев глянце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Прямая со стрелкой 12"/>
          <p:cNvCxnSpPr/>
          <p:nvPr/>
        </p:nvCxnSpPr>
        <p:spPr>
          <a:xfrm flipH="1">
            <a:off x="2499480" y="999000"/>
            <a:ext cx="528732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3" name="Прямая со стрелкой 14"/>
          <p:cNvCxnSpPr>
            <a:endCxn id="386" idx="0"/>
          </p:cNvCxnSpPr>
          <p:nvPr/>
        </p:nvCxnSpPr>
        <p:spPr>
          <a:xfrm flipH="1">
            <a:off x="7751160" y="1000080"/>
            <a:ext cx="35640" cy="643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94" name="Выгнутая влево стрелка 15"/>
          <p:cNvSpPr/>
          <p:nvPr/>
        </p:nvSpPr>
        <p:spPr>
          <a:xfrm>
            <a:off x="857160" y="1928880"/>
            <a:ext cx="857520" cy="1571400"/>
          </a:xfrm>
          <a:custGeom>
            <a:avLst/>
            <a:gdLst>
              <a:gd name="textAreaLeft" fmla="*/ 114840 w 857520"/>
              <a:gd name="textAreaRight" fmla="*/ 742680 w 857520"/>
              <a:gd name="textAreaTop" fmla="*/ 312480 h 1571400"/>
              <a:gd name="textAreaBottom" fmla="*/ 115200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91" stAng="-5400000" swAng="-5400000"/>
                <a:lnTo>
                  <a:pt x="0" y="11536"/>
                </a:lnTo>
                <a:arcTo wR="21600" hR="8591" stAng="10800000" swAng="-3420553"/>
                <a:lnTo>
                  <a:pt x="16200" y="21327"/>
                </a:lnTo>
                <a:lnTo>
                  <a:pt x="21600" y="18655"/>
                </a:lnTo>
                <a:lnTo>
                  <a:pt x="16200" y="15436"/>
                </a:lnTo>
                <a:lnTo>
                  <a:pt x="16200" y="16909"/>
                </a:lnTo>
                <a:arcTo wR="21600" hR="8591" stAng="7379447" swAng="3183056"/>
                <a:lnTo>
                  <a:pt x="320" y="10063"/>
                </a:lnTo>
                <a:arcTo wR="21600" hR="8591" stAng="-10562503" swAng="5162503"/>
                <a:close/>
              </a:path>
              <a:path fill="darkenLess" w="21600" h="21600">
                <a:moveTo>
                  <a:pt x="21600" y="0"/>
                </a:moveTo>
                <a:arcTo wR="21600" hR="8591" stAng="-5400000" swAng="-5400000"/>
                <a:lnTo>
                  <a:pt x="0" y="8591"/>
                </a:lnTo>
                <a:arcTo wR="21600" hR="8591" stAng="10800000" swAng="-237497"/>
                <a:lnTo>
                  <a:pt x="320" y="10063"/>
                </a:lnTo>
                <a:arcTo wR="21600" hR="8591" stAng="-10562503" swAng="5162503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Выгнутая вправо стрелка 16"/>
          <p:cNvSpPr/>
          <p:nvPr/>
        </p:nvSpPr>
        <p:spPr>
          <a:xfrm>
            <a:off x="8143920" y="1928880"/>
            <a:ext cx="1000080" cy="171432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334800 h 1714320"/>
              <a:gd name="textAreaBottom" fmla="*/ 125460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38" stAng="-5400000" swAng="5400000"/>
                <a:lnTo>
                  <a:pt x="21600" y="11588"/>
                </a:lnTo>
                <a:arcTo wR="21600" hR="8438" stAng="0" swAng="3392144"/>
                <a:lnTo>
                  <a:pt x="5400" y="21332"/>
                </a:lnTo>
                <a:lnTo>
                  <a:pt x="0" y="18450"/>
                </a:lnTo>
                <a:lnTo>
                  <a:pt x="5400" y="15032"/>
                </a:lnTo>
                <a:lnTo>
                  <a:pt x="5400" y="16607"/>
                </a:lnTo>
                <a:arcTo wR="21600" hR="8438" stAng="3392144" swAng="-3137457"/>
                <a:lnTo>
                  <a:pt x="21220" y="10013"/>
                </a:lnTo>
                <a:arcTo wR="21600" hR="8438" stAng="-254687" swAng="-5145313"/>
                <a:close/>
              </a:path>
              <a:path fill="darkenLess" w="21600" h="21600">
                <a:moveTo>
                  <a:pt x="0" y="0"/>
                </a:moveTo>
                <a:arcTo wR="21600" hR="8438" stAng="-5400000" swAng="5400000"/>
                <a:lnTo>
                  <a:pt x="21600" y="11588"/>
                </a:lnTo>
                <a:arcTo wR="21600" hR="8438" stAng="0" swAng="-254687"/>
                <a:lnTo>
                  <a:pt x="21220" y="10013"/>
                </a:lnTo>
                <a:arcTo wR="21600" hR="8438" stAng="-254687" swAng="-5145313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1"/>
          <p:cNvSpPr/>
          <p:nvPr/>
        </p:nvSpPr>
        <p:spPr>
          <a:xfrm>
            <a:off x="1285920" y="50004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4. 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2"/>
          <p:cNvSpPr/>
          <p:nvPr/>
        </p:nvSpPr>
        <p:spPr>
          <a:xfrm>
            <a:off x="1000080" y="1428840"/>
            <a:ext cx="78580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ударн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ении О пишется после Ц только в слове </a:t>
            </a: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цокотуха (от цокот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некоторых иноязычных словах, 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палацц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дворец), </a:t>
            </a: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скерц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музыкальная пьеса в оживлённом, быстром темпе), </a:t>
            </a:r>
            <a:r>
              <a:rPr b="1" lang="ru-RU" sz="2800" spc="-1" strike="noStrike">
                <a:solidFill>
                  <a:srgbClr val="84aa33"/>
                </a:solidFill>
                <a:latin typeface="Arial"/>
              </a:rPr>
              <a:t>герцог, мецц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-р, меццо-пиано – умеренно-тихое звуч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1928880" y="52862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уква Ё после Ц не пишется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357200" y="5716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4. 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2214720" y="121428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иши 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1285920" y="2000160"/>
            <a:ext cx="300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рне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а, циркуль, цистерна, цитата, ц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5143680" y="2643120"/>
            <a:ext cx="35002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овах, заканчивающихся 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ЦИЯ, -ЦИЗМ, -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ЦИОНН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ия мистицизм лекционный реа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1071720" y="3571920"/>
            <a:ext cx="24285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клю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Цыган на цыпочках цыкнул цыплёнку: «Цыц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143000" y="57168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4. Употребление гласных после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2928960" y="13572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иши 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1785960" y="2428920"/>
            <a:ext cx="657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уффиксах и оконча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цы, круглолицый, сестрицы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428840" y="435780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1000080" y="500076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В именах собственных возможно написани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ц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Виц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1285920" y="1500120"/>
            <a:ext cx="7500960" cy="2104920"/>
          </a:xfrm>
          <a:prstGeom prst="rect">
            <a:avLst/>
          </a:prstGeom>
          <a:solidFill>
            <a:srgbClr val="fed46c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64305"/>
                </a:solidFill>
                <a:latin typeface="Arial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64305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1571760" y="4287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Буквы А, У, Ы после шипя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1785960" y="128592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 – ща, чу – щу,  жи – 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1500120" y="235728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щ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ь 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ч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ный до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щ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я перегоро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товая из брус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нить 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ш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лы</a:t>
            </a:r>
            <a:r>
              <a:rPr b="1" lang="ru-RU" sz="2400" spc="-1" strike="noStrike">
                <a:solidFill>
                  <a:srgbClr val="c32d2e"/>
                </a:solidFill>
                <a:latin typeface="Arial"/>
              </a:rPr>
              <a:t>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5072040" y="2000160"/>
            <a:ext cx="37861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клю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брош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жю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параш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ственные имена иноязыч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Жюль Ве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Шяуля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Лонжю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642960" y="5000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32d2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О – Е (Ё) после шипящи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214280" y="135720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русском языке согласные шипящие звуки [ч], [ш], [ж], [щ] были мяг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, ю, е, и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шипящих обозначали их мягк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временем [ж] и [ш] отвердели, сохранили мягкость лишь [щ'] и [ч']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образие написаний с буквам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, ш, ч, щ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овременном письме объясняется историческими прич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642960" y="5000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32d2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О – Е (Ё) после шипящи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1143000" y="128592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орне под ударением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1285920" y="207180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однокоренном без ударения 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1214280" y="364320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клю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Шов, шорох, крыжовник, капюшон; шок, жо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пресс для выжимания»), 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ж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сильный клёв рыбы»),  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жо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«ловкий в делах, прижимистый человек, пройдоха»), 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изжога, обжора, чокаться, чопорный, шор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«специалист по шорным  - ремесленные изделия из кожи - изделиям»), 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трущоба, шомпол, мажорный, чащоба, жол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польской армии солдат-пехотинец)</a:t>
            </a:r>
            <a:r>
              <a:rPr b="1" lang="ru-RU" sz="1800" spc="-1" strike="noStrike">
                <a:solidFill>
                  <a:srgbClr val="475a8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1143000" y="2857680"/>
            <a:ext cx="70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пкая бечёвка (бечева); купить по дешёвке (дешевле); мельничный жёрнов (жернова); тихий шёпот (шепт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олилиния 14"/>
          <p:cNvSpPr/>
          <p:nvPr/>
        </p:nvSpPr>
        <p:spPr>
          <a:xfrm>
            <a:off x="2214720" y="2857680"/>
            <a:ext cx="618840" cy="120600"/>
          </a:xfrm>
          <a:custGeom>
            <a:avLst/>
            <a:gdLst/>
            <a:ahLst/>
            <a:rect l="l" t="t" r="r" b="b"/>
            <a:pathLst>
              <a:path w="619432" h="120445">
                <a:moveTo>
                  <a:pt x="0" y="105696"/>
                </a:moveTo>
                <a:cubicBezTo>
                  <a:pt x="110612" y="52848"/>
                  <a:pt x="221225" y="0"/>
                  <a:pt x="324464" y="2458"/>
                </a:cubicBezTo>
                <a:cubicBezTo>
                  <a:pt x="427703" y="4916"/>
                  <a:pt x="523567" y="62680"/>
                  <a:pt x="619432" y="120445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олилиния 15"/>
          <p:cNvSpPr/>
          <p:nvPr/>
        </p:nvSpPr>
        <p:spPr>
          <a:xfrm>
            <a:off x="3357720" y="2857680"/>
            <a:ext cx="618840" cy="120600"/>
          </a:xfrm>
          <a:custGeom>
            <a:avLst/>
            <a:gdLst/>
            <a:ahLst/>
            <a:rect l="l" t="t" r="r" b="b"/>
            <a:pathLst>
              <a:path w="619432" h="120445">
                <a:moveTo>
                  <a:pt x="0" y="105696"/>
                </a:moveTo>
                <a:cubicBezTo>
                  <a:pt x="110612" y="52848"/>
                  <a:pt x="221225" y="0"/>
                  <a:pt x="324464" y="2458"/>
                </a:cubicBezTo>
                <a:cubicBezTo>
                  <a:pt x="427703" y="4916"/>
                  <a:pt x="523567" y="62680"/>
                  <a:pt x="619432" y="120445"/>
                </a:cubicBezTo>
              </a:path>
            </a:pathLst>
          </a:custGeom>
          <a:noFill/>
          <a:ln w="93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1214280" y="592920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Ч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стар. и прост.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вчера вечером»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ЧОР ,ТЫ ПОМНИШЬ, ВЬЮГА ЗЛИЛАСЬ… (Пушкин А.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785880" y="50004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32d2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О – Е (Ё) после шипящи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714240" y="1357200"/>
            <a:ext cx="7858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безударном положении в заимствованных словах пишется буква 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75a8d"/>
                </a:solidFill>
                <a:latin typeface="Arial"/>
              </a:rPr>
              <a:t>шоссе, шоколад, жокей, шофёр, жонглёр, шовинизм, Шотлан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714240" y="34290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ифференцирующие на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2071800" y="392904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жёг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715000" y="39290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жог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2000160" y="45007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глаго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словах, от них образ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5214960" y="45720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уществитель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ловах, от них образ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1714680" y="550080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жё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уку – сильный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ж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жёгш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уку  –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жог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цен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928800" y="571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1357200" y="164304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2000160" y="250020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ончаниях </a:t>
            </a:r>
            <a:r>
              <a:rPr b="1" lang="ru-RU" sz="1800" spc="-1" strike="noStrike">
                <a:solidFill>
                  <a:srgbClr val="964305"/>
                </a:solidFill>
                <a:latin typeface="Arial"/>
              </a:rPr>
              <a:t>существительных и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6072120" y="2500200"/>
            <a:ext cx="25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суффиксах </a:t>
            </a:r>
            <a:r>
              <a:rPr b="1" lang="ru-RU" sz="1800" spc="-1" strike="noStrike">
                <a:solidFill>
                  <a:srgbClr val="964305"/>
                </a:solidFill>
                <a:latin typeface="Arial"/>
              </a:rPr>
              <a:t>существительных и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1571760" y="371484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жом, свечой; большого, чуж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5429160" y="350028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ючок, галчонок, ручо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рчовый, холщ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1571760" y="4714920"/>
            <a:ext cx="6929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равни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зударные окончания и суффик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жем, тучей;  хорошего, рыж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ченька, грушевый, зам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Прямая со стрелкой 9"/>
          <p:cNvCxnSpPr/>
          <p:nvPr/>
        </p:nvCxnSpPr>
        <p:spPr>
          <a:xfrm flipH="1">
            <a:off x="3571560" y="2143080"/>
            <a:ext cx="4001040" cy="357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11"/>
          <p:cNvCxnSpPr/>
          <p:nvPr/>
        </p:nvCxnSpPr>
        <p:spPr>
          <a:xfrm flipH="1">
            <a:off x="7571520" y="2214720"/>
            <a:ext cx="2520" cy="3578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0" name="TextBox 12"/>
          <p:cNvSpPr/>
          <p:nvPr/>
        </p:nvSpPr>
        <p:spPr>
          <a:xfrm>
            <a:off x="1285920" y="585792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амилиях на -ов-, -ев- (-ёв-) в суффиксе могут писаться буквы О, Е, Ё – зависит от традиции на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чов, Сычев, Сы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285920" y="64296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714680" y="185724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1285920" y="2857680"/>
            <a:ext cx="34290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964305"/>
                </a:solidFill>
                <a:latin typeface="Arial"/>
              </a:rPr>
              <a:t>Беглое О в именах существите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 – киш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ж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 – ножны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4305"/>
                </a:solidFill>
                <a:latin typeface="Arial"/>
              </a:rPr>
              <a:t>и прилагательных</a:t>
            </a:r>
            <a:r>
              <a:rPr b="0" lang="ru-RU" sz="2000" spc="-1" strike="noStrike">
                <a:solidFill>
                  <a:srgbClr val="964305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ме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 – смеш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5500800" y="3929040"/>
            <a:ext cx="30718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ru-RU" sz="2000" spc="-1" strike="noStrike">
                <a:solidFill>
                  <a:srgbClr val="964305"/>
                </a:solidFill>
                <a:latin typeface="Arial"/>
              </a:rPr>
              <a:t>На конце наречий</a:t>
            </a:r>
            <a:r>
              <a:rPr b="0" i="1" lang="ru-RU" sz="1800" spc="-1" strike="noStrike">
                <a:solidFill>
                  <a:srgbClr val="964305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рячо, общ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ключение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щ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Прямая со стрелкой 7"/>
          <p:cNvCxnSpPr/>
          <p:nvPr/>
        </p:nvCxnSpPr>
        <p:spPr>
          <a:xfrm flipH="1">
            <a:off x="2571120" y="2357280"/>
            <a:ext cx="5072760" cy="5724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6" name="Прямая со стрелкой 9"/>
          <p:cNvCxnSpPr>
            <a:endCxn id="354" idx="0"/>
          </p:cNvCxnSpPr>
          <p:nvPr/>
        </p:nvCxnSpPr>
        <p:spPr>
          <a:xfrm flipH="1">
            <a:off x="7036560" y="2357280"/>
            <a:ext cx="607320" cy="15724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1285920" y="57168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1500120" y="171468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2000160" y="278604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кончаниях глагол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жёшь, печёт, жжёт, теч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"/>
          <p:cNvSpPr/>
          <p:nvPr/>
        </p:nvSpPr>
        <p:spPr>
          <a:xfrm>
            <a:off x="1928880" y="464328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глагольном суффиксе -ёвыва-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корчёвывать, размежёв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Прямая со стрелкой 6"/>
          <p:cNvCxnSpPr/>
          <p:nvPr/>
        </p:nvCxnSpPr>
        <p:spPr>
          <a:xfrm flipH="1">
            <a:off x="3714480" y="2286000"/>
            <a:ext cx="3929760" cy="5724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2" name="Прямая со стрелкой 8"/>
          <p:cNvCxnSpPr/>
          <p:nvPr/>
        </p:nvCxnSpPr>
        <p:spPr>
          <a:xfrm flipH="1">
            <a:off x="6214320" y="2285640"/>
            <a:ext cx="1429560" cy="24296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1143000" y="571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c32d2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Гласные после шипящих за кор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2d2e"/>
                </a:solidFill>
                <a:latin typeface="Arial"/>
              </a:rPr>
              <a:t>(в суффиксах и оконча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1785960" y="185724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4305"/>
                </a:solidFill>
                <a:latin typeface="Arial"/>
              </a:rPr>
              <a:t>Под ударением пиши - 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14280" y="2857680"/>
            <a:ext cx="37864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уффиксе отглагольных существительных -ёвк-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рчёвка, размежё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5357880" y="3071880"/>
            <a:ext cx="3286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уффиксе существительных -ёр-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жёр, ретушёр, дириж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1285920" y="5357880"/>
            <a:ext cx="492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НО!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ж</a:t>
            </a: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агательного нож</a:t>
            </a: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о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7"/>
          <p:cNvCxnSpPr/>
          <p:nvPr/>
        </p:nvCxnSpPr>
        <p:spPr>
          <a:xfrm flipH="1">
            <a:off x="3785400" y="2357280"/>
            <a:ext cx="3715560" cy="5724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9" name="Прямая со стрелкой 9"/>
          <p:cNvCxnSpPr/>
          <p:nvPr/>
        </p:nvCxnSpPr>
        <p:spPr>
          <a:xfrm flipH="1">
            <a:off x="7214760" y="2356920"/>
            <a:ext cx="28656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06:43:38Z</dcterms:created>
  <dc:creator>Polzovatel</dc:creator>
  <dc:description/>
  <dc:language>en-US</dc:language>
  <cp:lastModifiedBy>Пользователь</cp:lastModifiedBy>
  <dcterms:modified xsi:type="dcterms:W3CDTF">2018-11-27T13:51:22Z</dcterms:modified>
  <cp:revision>41</cp:revision>
  <dc:subject/>
  <dc:title>Слайд 1</dc:title>
</cp:coreProperties>
</file>