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1EA-8998-4788-A231-74235954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244-3728-4B3E-8BB3-39F294D8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2F9-D707-4883-A237-397E5E4B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6A4D-B71C-459A-909C-ACF11AEB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D7C0-5838-434E-99A5-D1CBA152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2CFB-C546-45F1-BE80-675B6C30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5E8D-AB14-4AA9-9287-DE8F6186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AC96-6241-4868-8AD5-F18B8ABB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1F0C-9A30-4936-AABE-B412E43E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68AF-6048-43BA-8AFB-6594E141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D8E9-4F7B-4188-9ECF-3D761382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467-5C87-40E9-9187-255994F9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2C75-0F09-41E2-B8CF-EE579086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7FA5-C9A4-4007-B13E-29653D00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132D-D653-4A36-8812-3D82D11E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C2DB-651F-4A9D-ACEF-B1E1120B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7F57-2FA9-4D38-9B63-1264092C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CCF42-43A4-4A1F-B736-EB47B4B8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734BF-015B-4F74-B7D7-739F9992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4B112-F49E-4CCF-A4B8-09ACF61F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7D4F5-15BF-4620-9C91-53DFC701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16B4D-6011-48AB-989B-0CC06B57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D6F-58B2-4660-9295-8B6F1771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EC21D-2632-45E6-A425-BD13A2C0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C0458-AEE2-481D-A4DC-DEEFD232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139D3-9ED6-4AD4-B45F-CAF43FA3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192E3-BF29-4FB7-A99A-95F17761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F9F00-FD2D-40B1-B0CB-5A8C6D04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0E8EE-DC80-445C-9E3F-7011AB61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1F2C9-6C89-4C8F-BADA-8D49E47C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611D0-3636-4E89-BDD8-F26E5F92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59210-25BE-4EE7-A549-8E1F3B3B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92542-17F5-4056-9829-B9917BC4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3C9A-4892-4BBE-919E-4CFD0389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0725A-7403-4B77-A2CB-13C2A3E2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0CA62-7BEA-4A1B-A1A5-A4C3DEFB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A85BC-0624-429D-B899-40FBDC1B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DA00F-C541-415E-B7F2-B92A692E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D21A7-DF7A-4CD0-B732-4B8D90FF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BDC4C-8354-433A-9FC5-92B6A3AD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6B23E-653A-44F1-8DBD-2B0A3119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32CE5-8665-40D4-A6C4-557AD8EC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3BF54-9DDB-44B7-9615-347A67B5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3BFB6-AE0A-4C6A-B95E-E3BE4791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DE7-A6B0-4A39-B722-AADCC19B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EFD1E-E98D-4D6C-8201-18548CAC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577EC-86AD-4A9E-A634-2D30BA68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CC28C-6819-4F64-AA29-67A7E441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9C8D6-B6B5-4027-AFF0-F04EF5DA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AC941-AF8A-40BE-93E1-FE170FD2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61745-CE6A-4AF5-8D42-8BA9C3CD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9BC80-0943-4022-A6D0-70F30164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2D5F0-5368-48EB-9F91-F90E96E4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D9CB2-E85C-499F-BB17-53BC484F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C8396-413A-4EBF-A80C-5CEF98C1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283C-1817-4162-BB80-7DD95E21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029C2-EF27-429F-B5DC-B292946E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116D9-5F83-4BE3-A897-72648092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89C06-0A24-4246-B7A5-BAEE91D5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74E7C-3DE8-4649-A57B-43DF89A4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B4E78-5AC1-4457-8337-869A8C1E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13632-AD12-44B4-9255-66E87B9B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D3287-97B2-483B-B50C-455F2903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AC777-4BE8-4D01-8EF8-7B7E3AD2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A5C65-1A90-4B09-8141-E779F7FD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EB30E-33FF-4A36-829D-AFD7A0A5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D37-317E-423D-BE6E-5AE0DD81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97C7C-4F42-456F-9314-23E6898F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4CBBF-1F36-4533-BEC3-082AA80F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D41AD-2AE3-4907-B114-330EC283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5B4D7-2066-44E6-A4B6-27B919B0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5C0BB-766C-4346-8782-F95AFC80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288DE-C14E-4CDC-B68B-63906B0B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803C7-B164-4143-A5A9-8C486372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542D4-A2FB-4B3A-B4F1-5EE67377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4E3AF-8C05-49E7-9059-868D7A72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A18C5-476B-4A9C-916B-EFA1DF56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895-F3C4-495D-AE26-F8D330CA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C2629-9B2E-49D9-9A4F-F4470D1F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38A79-BA16-4AA3-9F7D-60151514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C9051-19AF-4F58-9FD5-B2318783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93DC6-052A-462F-98FE-41233549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A6E58-A024-4ACC-A402-B69B04A2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814-7C7E-407D-B7D9-CBEBD55C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A9FF-5E73-4460-A2F7-35807B5292B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8AC8-1BAF-4125-8458-72C8C519B57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A4C4-E65C-4AB8-802F-537ED09DA13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0D8C-D726-4823-8483-A433D78ED8C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EA81-D4AC-4923-BE89-16068ADC9DF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4500-3288-49AE-8A9A-830B600FA9C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6A51-85FE-4975-B7B9-8034F34E6F6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roki-russkogo-yazyka.ru/obosoblennye-chleny-predlozheniya/obosoblennye-obstoyatelstva.html" TargetMode="External"/><Relationship Id="rId2" Type="http://schemas.openxmlformats.org/officeDocument/2006/relationships/hyperlink" Target="http://guildi.ru/referaty_po_yazykovedeniyu/referat_obstoyatelstvo_kak_obosoblennyj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63272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особление обстоятельств, выраженных деепричастием или деепричастным оборотом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1680">
            <a:solidFill>
              <a:srgbClr val="4423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Надо отличать от деепричастий образованных от них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а)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наречия: стоя, сидя, лежа, молча, шутя, нехотя, не глядя, не спеша, играючи, припеваючи, крадучись…  Одинаковые по виду деепричастия сохраняют значение добавочного действия – благодаря образованию деепричастного оборота, связанности с другими деепричастиям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Целый час он ехал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сто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Я справлюсь с этим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шутя (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= легко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Стоя на вершине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он смотрел вниз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Всю дорогу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шутя и болтая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он не закрывал р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Надо отличать от деепричастий образованных от них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б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) предлоги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начиная с, исходя из; «деепричастную» часть их можно опустить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Дождь льет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начиная с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утра (льет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утра)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Обособление обстоятельств, выраженных именем существительным с предлогом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79280" y="2349000"/>
            <a:ext cx="885672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Всегда обособляются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обстоятельства(уступки) с предлогами: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несмотря на, невзирая на; </a:t>
            </a:r>
            <a:r>
              <a:rPr b="1" lang="ru-RU" sz="2400" spc="-1" strike="noStrike" u="sng">
                <a:solidFill>
                  <a:srgbClr val="442351"/>
                </a:solidFill>
                <a:uFillTx/>
                <a:latin typeface="Times New Roman"/>
              </a:rPr>
              <a:t>часто</a:t>
            </a:r>
            <a:r>
              <a:rPr b="0" lang="ru-RU" sz="2400" spc="-1" strike="noStrike" u="sng">
                <a:solidFill>
                  <a:srgbClr val="442351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– с предлогам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( предложными сочетаниями)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вопреки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(уступки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), благодаря,  согласно, вследствие,  ввиду,  по причине,  по случаю,   в силу,   за неимением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(причины),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 ради,  во избежание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(цели),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 при условии,   в случае,   с согласия, при наличии,  отсутствии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(условия),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в соответствии с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и некоторые другие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Обособление обстоятельств, выраженных именем существительным с предлогом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9280" y="2349000"/>
            <a:ext cx="885672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на пошла погулять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</a:t>
            </a:r>
            <a:r>
              <a:rPr b="1" lang="ru-RU" sz="2400" spc="-1" strike="noStrike" u="sng">
                <a:solidFill>
                  <a:srgbClr val="442351"/>
                </a:solidFill>
                <a:uFillTx/>
                <a:latin typeface="Times New Roman"/>
              </a:rPr>
              <a:t>несмотря на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мороз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42351"/>
                </a:solidFill>
                <a:uFillTx/>
                <a:latin typeface="Times New Roman"/>
              </a:rPr>
              <a:t>Вопреки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прогнозу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пошел сне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42351"/>
                </a:solidFill>
                <a:uFillTx/>
                <a:latin typeface="Times New Roman"/>
              </a:rPr>
              <a:t>Благодаря</a:t>
            </a:r>
            <a:r>
              <a:rPr b="0" lang="ru-RU" sz="2400" spc="-1" strike="noStrike" u="sng">
                <a:solidFill>
                  <a:srgbClr val="442351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принятым мерам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эксцессов удалось избежа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Я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</a:t>
            </a:r>
            <a:r>
              <a:rPr b="1" lang="ru-RU" sz="2400" spc="-1" strike="noStrike" u="sng">
                <a:solidFill>
                  <a:srgbClr val="442351"/>
                </a:solidFill>
                <a:uFillTx/>
                <a:latin typeface="Times New Roman"/>
              </a:rPr>
              <a:t>во избежание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печальных последствий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лучше исчезн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Мы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</a:t>
            </a:r>
            <a:r>
              <a:rPr b="1" lang="ru-RU" sz="2400" spc="-1" strike="noStrike" u="sng">
                <a:solidFill>
                  <a:srgbClr val="442351"/>
                </a:solidFill>
                <a:uFillTx/>
                <a:latin typeface="Times New Roman"/>
              </a:rPr>
              <a:t>при наличии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материалов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закончим все в срок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Обособление обстоятельств, выраженных именем существительным с предлогом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огда обособляю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стоятельства с непроизводными предлогам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о, при, для, с, за, из-за…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наречные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имеют те же значения или образа действ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усости своей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драл (причины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ожиданн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нее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шел (= вопреки ожиданиям ее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мощью палки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тбил атаку пса (образа действи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Обособление обстоятельств, выраженных именем существительным с предлогом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Чаще обособляются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обстоятельства распространенные, стоящие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до сказуемого;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зависит обособление и от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цели автора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(хочет ли он что-либо выделить, подчеркнуть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Ср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н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</a:t>
            </a:r>
            <a:r>
              <a:rPr b="1" lang="ru-RU" sz="2400" spc="-1" strike="noStrike" u="sng">
                <a:solidFill>
                  <a:srgbClr val="442351"/>
                </a:solidFill>
                <a:uFillTx/>
                <a:latin typeface="Times New Roman"/>
              </a:rPr>
              <a:t>за неимением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времени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в кино не поше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н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не пошел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в кино за неимением времен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Обособление уточняющих обстоятельств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бособляются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уточняющие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бстоятельства, стоящие после уточняемых. Обычно это обстоятельства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времени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или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места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(иногда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образа действия).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За стеной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у соседа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(места), допоздна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до самой ночи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(времени), звучала музы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Говорили мирно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по-дружески.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Обособление уточняющих обстоятельств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Бывает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авторское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бособление обстоятельств, перед которыми нет уточняемых слов, но они ясно подразумеваютс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Видно, и Чичиковы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на несколько минут жизни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обращаются в поэтов (= ненадолго, на несколько минут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Обособление уточняющих обстоятельств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Не путать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с однородными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членами предложения, которые запятыми </a:t>
            </a:r>
            <a:r>
              <a:rPr b="0" lang="ru-RU" sz="2400" spc="-1" strike="noStrike" u="sng">
                <a:solidFill>
                  <a:srgbClr val="442351"/>
                </a:solidFill>
                <a:uFillTx/>
                <a:latin typeface="Times New Roman"/>
              </a:rPr>
              <a:t>разделяются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442351"/>
                </a:solidFill>
                <a:uFillTx/>
                <a:latin typeface="Times New Roman"/>
              </a:rPr>
              <a:t>а не выделяются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(т.е. не обособляются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В лесу, на лугу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цвели цветы (перечисление мест – однородные члены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У села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на лугу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цвели цветы (уточнение места – обособляется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42351"/>
                </a:solidFill>
                <a:latin typeface="Times New Roman"/>
              </a:rPr>
              <a:t>Информационные ресурсы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Богданова Г.А., Кириченко Г.И.  Материалы для подготовки к экзаменам по русскому язык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М., «Просвещение», 1997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hlinkClick r:id="rId1"/>
              </a:rPr>
              <a:t>http://uroki-russkogo-yazyka.ru/obosoblennye-chleny-predlozheniya/obosoblennye-obstoyatelstva.htm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hlinkClick r:id="rId2"/>
              </a:rPr>
              <a:t>http://guildi.ru/referaty_po_yazykovedeniyu/referat_obstoyatelstvo_kak_obosoblennyj.htm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20728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2351"/>
                </a:solidFill>
                <a:latin typeface="Times New Roman"/>
              </a:rPr>
              <a:t>Деепричастия, деепричастные обороты выделяются запятыми независимо от их места в предложении: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Мальчик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испугавшись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вскрикну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Выйдя на мороз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он поежил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2351"/>
                </a:solidFill>
                <a:latin typeface="Times New Roman"/>
              </a:rPr>
              <a:t>При однородных деепричастиях, деепричастных оборотах запятые ставятся так же, как при однородных членах предложения вообще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Посмеиваясь и лихо подмигивая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, Юра закрыл двер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Живу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и радуясь, и горю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н молчал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злясь, но тру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Иногда союз (обычно а) относится к деепричастию, деепричастному обороту и запятой от него не отделяется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На людях она крепилась</a:t>
            </a:r>
            <a:r>
              <a:rPr b="1" i="1" lang="ru-RU" sz="2400" spc="-1" strike="noStrike">
                <a:solidFill>
                  <a:srgbClr val="442351"/>
                </a:solidFill>
                <a:latin typeface="Times New Roman"/>
              </a:rPr>
              <a:t>, а войдя к себе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зарыдал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Не обособляются деепричастия, деепричастные оборот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Соединительные союзом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а)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со сказуемым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б)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с необособленным   обстоятельств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на презирала его и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принимая его ухажив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н стоял неподвижно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и глядя куда-то вдал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Не обособляются деепричастия, деепричастные оборот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2351"/>
                </a:solidFill>
                <a:latin typeface="Times New Roman"/>
              </a:rPr>
              <a:t>Теряющие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 значение </a:t>
            </a:r>
            <a:r>
              <a:rPr b="1" i="1" lang="ru-RU" sz="2400" spc="-1" strike="noStrike">
                <a:solidFill>
                  <a:srgbClr val="442351"/>
                </a:solidFill>
                <a:latin typeface="Times New Roman"/>
              </a:rPr>
              <a:t>добавочного действия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 и приобретающие значение </a:t>
            </a:r>
            <a:r>
              <a:rPr b="1" i="1" lang="ru-RU" sz="2400" spc="-1" strike="noStrike">
                <a:solidFill>
                  <a:srgbClr val="442351"/>
                </a:solidFill>
                <a:latin typeface="Times New Roman"/>
              </a:rPr>
              <a:t>признака действия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 (что сближает их с наречиями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ставшие фразеологическими оборотами (засучив рукава, сломя голову, не смыкая глаз, раскрыв рот и т.п. – кроме фразеологических вводных словосочетаний, отделяемых запятой: иначе говоря, судя по всему и т.п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Не обособляются деепричастия, деепричастные оборот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50920" y="198900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2351"/>
                </a:solidFill>
                <a:latin typeface="Times New Roman"/>
              </a:rPr>
              <a:t>Теряющие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 значение </a:t>
            </a:r>
            <a:r>
              <a:rPr b="1" i="1" lang="ru-RU" sz="2400" spc="-1" strike="noStrike">
                <a:solidFill>
                  <a:srgbClr val="442351"/>
                </a:solidFill>
                <a:latin typeface="Times New Roman"/>
              </a:rPr>
              <a:t>добавочного действия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 и приобретающие значение </a:t>
            </a:r>
            <a:r>
              <a:rPr b="1" i="1" lang="ru-RU" sz="2400" spc="-1" strike="noStrike">
                <a:solidFill>
                  <a:srgbClr val="442351"/>
                </a:solidFill>
                <a:latin typeface="Times New Roman"/>
              </a:rPr>
              <a:t>признака действия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 (что сближает их с наречиями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а) ставшие фразеологическими оборотами (засучив рукава, сломя голову, не смыкая глаз, раскрыв рот и т.п. – кроме фразеологических вводных словосочетаний, отделяемых запятой: иначе говоря, судя по всему и т.п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Петя работал спустя рукава (очень плохо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(Но: засучив рукава, он мыл руки в тазу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Собственно говоря, где птички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Не обособляются деепричастия, деепричастные оборот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42351"/>
                </a:solidFill>
                <a:latin typeface="Times New Roman"/>
              </a:rPr>
              <a:t>Теряющие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значение </a:t>
            </a:r>
            <a:r>
              <a:rPr b="0" i="1" lang="ru-RU" sz="2400" spc="-1" strike="noStrike">
                <a:solidFill>
                  <a:srgbClr val="442351"/>
                </a:solidFill>
                <a:latin typeface="Times New Roman"/>
              </a:rPr>
              <a:t>добавочного действия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и приобретающие значение </a:t>
            </a:r>
            <a:r>
              <a:rPr b="0" i="1" lang="ru-RU" sz="2400" spc="-1" strike="noStrike">
                <a:solidFill>
                  <a:srgbClr val="442351"/>
                </a:solidFill>
                <a:latin typeface="Times New Roman"/>
              </a:rPr>
              <a:t>признака действия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(что сближает их с наречиями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б) несущие основную смысловую нагрузку (без них сказуемое неполно выражает смысл: важно не что делается, а как) и стоящие обычно после сказуемого. «Наречность» таких  деепричастий, со значением качества действия, очевидна в группе однородных членов – наречий и деепричасти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н сидел </a:t>
            </a:r>
            <a:r>
              <a:rPr b="0" i="1" lang="ru-RU" sz="2400" spc="-1" strike="noStrike">
                <a:solidFill>
                  <a:srgbClr val="442351"/>
                </a:solidFill>
                <a:latin typeface="Times New Roman"/>
              </a:rPr>
              <a:t>сгорбившись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говорил </a:t>
            </a:r>
            <a:r>
              <a:rPr b="0" i="1" lang="ru-RU" sz="2400" spc="-1" strike="noStrike">
                <a:solidFill>
                  <a:srgbClr val="442351"/>
                </a:solidFill>
                <a:latin typeface="Times New Roman"/>
              </a:rPr>
              <a:t>не улыбаяс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на и ходит танцу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н отвечал мне не смущаясь (д) и откровенно (н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Не обособляются деепричастия, деепричастные оборот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3. Деепричастие, имеющее в качестве зависимого слова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который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в составе определительного придаточного предложения, от этого предложения запятой не отделяетс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Ему хотелось сжечь эти письма, </a:t>
            </a:r>
            <a:r>
              <a:rPr b="1" i="1" lang="ru-RU" sz="2400" spc="-1" strike="noStrike">
                <a:solidFill>
                  <a:srgbClr val="442351"/>
                </a:solidFill>
                <a:latin typeface="Times New Roman"/>
              </a:rPr>
              <a:t>читая которые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н невольно вспоминал свое невеселое прошло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05:51:59Z</dcterms:created>
  <dc:creator>Admin</dc:creator>
  <dc:description/>
  <dc:language>en-US</dc:language>
  <cp:lastModifiedBy>Пользователь</cp:lastModifiedBy>
  <dcterms:modified xsi:type="dcterms:W3CDTF">2018-11-27T13:51:35Z</dcterms:modified>
  <cp:revision>39</cp:revision>
  <dc:subject/>
  <dc:title>Обособление обстоятельств, выраженных деепричастием или деепричастным оборотом.</dc:title>
</cp:coreProperties>
</file>