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186-851A-4764-8962-59D77D3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26B-1F43-4D89-9299-5EEA4FDD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72C-52B4-4462-9FC0-BB575847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7B6-E79B-4B8E-8146-17DF288A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7F94-19E4-43A8-A8C9-BF385F70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30CB-2139-4E5F-8AE7-E804FDE8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26D-84E7-47FA-AAE8-DD2BBFE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EABC-B860-4C71-A779-C6E3755A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D17-2196-489E-AC51-199920B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9423-E81E-4217-B2FE-DE210D0A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7C0-DE51-42AC-B080-21E281C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A15-31BC-4E5D-85AF-5B66C553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6FA-B90D-4D5C-872F-31CE9304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E15D-CBE7-4115-93B3-E8E74B7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A78F-7EAD-4EFB-9DDB-1FA6B56E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E8E-5F29-47A0-AE14-B6CAF940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FE18-C1A6-4165-95CC-3660F477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4483-7AEA-49DC-A2BA-C27CEB17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EC98-9511-43CB-88D8-1E42859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4098-DF26-4E32-B064-F5598372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1383-E8E9-4D1D-A031-1A69C5D6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313C-E7A6-4980-BD5B-E64FE191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D35-0641-4FAB-A6D6-8386560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2574-7EFA-477B-9083-41742BC8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3ECC-7CC5-4F82-9EF3-E6256FA0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BB5A-745D-427D-920D-3597803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FDAB-0FDB-45A5-8321-E8C32EAD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A928-1113-4BF0-8105-73F5D6E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DFF5-E42A-4EAE-9AE7-5270E2AD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024C-EA37-489F-914E-1C030147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8DF9-DC77-4609-8BCC-E979E4B7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A2E4-F2BC-46E7-8A68-D974649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5B16-033F-495B-A240-22A1919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61E-5B8C-43AA-B6A7-BC51FADA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701F-B7CE-4FE8-8F67-C0C784B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812A-06C1-455A-B882-B234B834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A948-010F-4589-8593-C80EA75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57A4-68B1-4907-886C-A5194CC6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9A52-A04A-4BF5-9C6E-6BEE533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CD43-449A-4A1F-B7C6-8E34A72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CAA1B-1B32-4017-926E-934AAB7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92CB-5834-4B94-B219-B02494C9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9FF1-00AF-4C66-B2D1-DE182029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850F-C6C7-420E-A0BF-5A98865D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D8F-4732-411E-88C0-4C5B7FC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9D97-13B9-4914-BFA2-C419F62C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6F78-86F2-4A06-B0F9-8499F50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D4BD6-1C2E-4CCD-95E3-1244E8C6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98B0-60DF-4D48-8093-52824D2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306E2-91ED-43D0-AA68-5999EC27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4234-A8D6-45E2-AC4A-1E01841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D6B56-67EF-4DFE-B1EC-5A383AE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378F-A419-4B60-A9D4-7341946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A4D8-2782-4CCB-8C09-ACF87C9B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E93A-2654-41DC-9065-50560340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5A6-A723-4A65-929B-298CBA24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F8C99-5316-4054-9551-2D01F3B6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0A79F-DC53-4BCE-AB00-2F1D1409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E66F-A3DC-430A-84F0-2DEEA3E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FF820-EFEF-4EDE-988A-7B2421C0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3640A-87AE-4719-89BA-9EA09418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2873-2CF3-49C0-8A5F-EB97099B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3787-9919-49C8-BFB7-8E35AC04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45FB-2173-480D-99B8-528ECC2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9A79-95F5-409E-A767-657DD75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09FAA-75D4-4527-939F-7FB62265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8CF-111D-4CFC-9889-48066FB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8128-142C-4FDC-8667-E836826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6E0B6-502B-468E-A746-93F92F3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D25EC-75EE-4B23-9C43-830155A4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34CB-8895-48CE-810D-701C5A98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44D0-7E8C-4098-95C2-D38BAB60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8D60D-3B04-4146-BC51-7B5B19A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AB3A-B627-44DB-BB09-96224D62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CC2F-7A38-4E7E-8EDD-F5264F5E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76B0A-B7C0-4DCF-9B7F-93B34ADE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D474-A279-4ADF-9F97-E3560A7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953-AFB5-4E74-AB79-6C3658F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FC3B6-E92D-4B3B-82B1-F40CD6F2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E578-CC5F-483B-9E79-D7E16CAF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7860-C60F-4516-806B-B7F8E74C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BCA4-A9D9-45BC-80D3-CEDB6C2F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50FAE-7C5F-4634-8B0E-D437577C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920-A25D-4062-8DA3-6E3803F2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39AA-F52F-4EC6-A81D-89EF66BB025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BC0F-536C-49E2-841C-B208A6B5DA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ADC-63A7-4F8E-926C-382F5021C6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9F23-7F63-412E-BB17-12BC220C5C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250-B3A2-447A-8E8F-660B06F071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330-95F6-4D97-A6DA-BAD2EA7686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F41-BC5C-4CA2-8936-8EF755B3FED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roki-russkogo-yazyka.ru/obosoblennye-chleny-predlozheniya/obosoblennye-obstoyatelstva.html" TargetMode="External"/><Relationship Id="rId2" Type="http://schemas.openxmlformats.org/officeDocument/2006/relationships/hyperlink" Target="http://guildi.ru/referaty_po_yazykovedeniyu/referat_obstoyatelstvo_kak_obosoblennyj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63272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особление обстоятельств, выраженных деепричастием или деепричастным оборотом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1680">
            <a:solidFill>
              <a:srgbClr val="4423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а)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наречия: стоя, сидя, лежа, молча, шутя, нехотя, не глядя, не спеша, играючи, припеваючи, крадучись…  Одинаковые по виду деепричастия сохраняют значение добавочного действия – благодаря образованию деепричастного оборота, связанности с другими деепричастия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Целый час он ехал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то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Я справлюсь с этим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шутя (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= легк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тоя на вершине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н смотрел вни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Всю дорогу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шутя и болтая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н не закрывал р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адо отличать от деепричастий образованных от ни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) предлоги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начиная с, исходя из; «деепричастную» часть их можно опустить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Дождь лье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начиная с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утра (лье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утра)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79280" y="2349000"/>
            <a:ext cx="88567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сегда обособ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бстоятельства(уступки) с предлогами: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несмотря на, невзирая на;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часто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– с предлогам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 предложными сочетаниями)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опреки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уступки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), благодаря,  согласно, вследствие,  ввиду,  по причине,  по случаю,   в силу,   за неимением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причины),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ради,  во избежани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цели),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при условии,   в случае,   с согласия, при наличии,  отсутствии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условия),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 соответствии с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и некоторые други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9280" y="2349000"/>
            <a:ext cx="88567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а пошла погулять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несмотря на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мороз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Вопреки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рогнозу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пошел сне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Благодаря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ринятым мерам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эксцессов удалось избеж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во избежание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ечальных последствий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лучше исчезн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Мы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при наличии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материалов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акончим все в срок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огда обособляю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стоятельства с непроизводными предлога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о, при, для, с, за, из-за…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наречны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имеют те же значения или образа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сости своей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драл (причи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ожидан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не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шел (= вопреки ожиданиям е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ощью палк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бил атаку пса (образа действ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выраженных именем существительным с предлого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Чаще обособ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бстоятельства распространенные, стоящие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до сказуемого;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ависит обособление и о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цели автора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хочет ли он что-либо выделить, подчеркнуть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р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1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за неимением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ремени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в кино не поше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не пошел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в кино за неимением времен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бособляются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уточняющи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бстоятельства, стоящие после уточняемых. Обычно это обстоятельства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ремени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или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места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иногда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образа действия).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За стеной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у соседа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места), допоздна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до самой ночи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времени), звучала му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Говорили мирно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по-дружески.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Бывает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авторско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бособление обстоятельств, перед которыми нет уточняемых слов, но они ясно подразумевают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Видно, и Чичиковы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на несколько минут жизни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бращаются в поэтов (= ненадолго, на несколько минут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Обособление уточняющих обстоятельств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Не путать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с однородными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членами предложения, которые запятыми 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разде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442351"/>
                </a:solidFill>
                <a:uFillTx/>
                <a:latin typeface="Times New Roman"/>
              </a:rPr>
              <a:t>а не выделяютс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т.е. не обособляются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 лесу, на лугу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цвели цветы (перечисление мест – однородные член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У села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на лугу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цвели цветы (уточнение места – обособляется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2351"/>
                </a:solidFill>
                <a:latin typeface="Times New Roman"/>
              </a:rPr>
              <a:t>Информационные ресурс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Богданова Г.А., Кириченко Г.И.  Материалы для подготовки к экзаменам по русскому язы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М., «Просвещение», 1997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1"/>
              </a:rPr>
              <a:t>http://uroki-russkogo-yazyka.ru/obosoblennye-chleny-predlozheniya/obosoblennye-obstoyatelstva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hlinkClick r:id="rId2"/>
              </a:rPr>
              <a:t>http://guildi.ru/referaty_po_yazykovedeniyu/referat_obstoyatelstvo_kak_obosoblennyj.htm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0728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2351"/>
                </a:solidFill>
                <a:latin typeface="Times New Roman"/>
              </a:rPr>
              <a:t>Деепричастия, деепричастные обороты выделяются запятыми независимо от их места в предложении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Мальчик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испугавшись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вскрикну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Выйдя на мороз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он поежи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2351"/>
                </a:solidFill>
                <a:latin typeface="Times New Roman"/>
              </a:rPr>
              <a:t>При однородных деепричастиях, деепричастных оборотах запятые ставятся так же, как при однородных членах предложения вообщ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осмеиваясь и лихо подмигива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, Юра закрыл двер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Живу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и радуясь, и горю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молчал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, злясь, но тру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Иногда союз (обычно а) относится к деепричастию, деепричастному обороту и запятой от него не отделяетс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На людях она крепилась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, а войдя к себе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арыда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Соединительные союзом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а)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со сказуемым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б)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с необособленным   обстоятельств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а презирала его и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принимая его ухажи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стоял неподвижно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и глядя куда-то вдал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Теряющие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добавочного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и приобретающие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признака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ставшие фразеологическими оборотами (засучив рукава, сломя голову, не смыкая глаз, раскрыв рот и т.п. – кроме фразеологических вводных словосочетаний, отделяемых запятой: иначе говоря, судя по всему и т.п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0920" y="198900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Теряющие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добавочного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и приобретающие значение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признака действия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а) ставшие фразеологическими оборотами (засучив рукава, сломя голову, не смыкая глаз, раскрыв рот и т.п. – кроме фразеологических вводных словосочетаний, отделяемых запятой: иначе говоря, судя по всему и т.п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Петя работал спустя рукава (очень плохо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(Но: засучив рукава, он мыл руки в тазу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Собственно говоря, где птички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Теряющие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значение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добавочного действи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и приобретающие значение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признака действия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(что сближает их с наречиями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б) несущие основную смысловую нагрузку (без них сказуемое неполно выражает смысл: важно не что делается, а как) и стоящие обычно после сказуемого. «Наречность» таких  деепричастий, со значением качества действия, очевидна в группе однородных членов – наречий и деепричасти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сидел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сгорбившись,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 говорил </a:t>
            </a:r>
            <a:r>
              <a:rPr b="0" i="1" lang="ru-RU" sz="2400" spc="-1" strike="noStrike">
                <a:solidFill>
                  <a:srgbClr val="442351"/>
                </a:solidFill>
                <a:latin typeface="Times New Roman"/>
              </a:rPr>
              <a:t>не улыбаяс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а и ходит танцу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отвечал мне не смущаясь (д) и откровенно (н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2351"/>
                </a:solidFill>
                <a:latin typeface="Times New Roman"/>
              </a:rPr>
              <a:t>Не обособляются деепричастия, деепричастные оборот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3. Деепричастие, имеющее в качестве зависимого слова </a:t>
            </a:r>
            <a:r>
              <a:rPr b="1" lang="ru-RU" sz="2400" spc="-1" strike="noStrike">
                <a:solidFill>
                  <a:srgbClr val="442351"/>
                </a:solidFill>
                <a:latin typeface="Times New Roman"/>
              </a:rPr>
              <a:t>который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в составе определительного придаточного предложения, от этого предложения запятой не отделяетс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Ему хотелось сжечь эти письма, </a:t>
            </a:r>
            <a:r>
              <a:rPr b="1" i="1" lang="ru-RU" sz="2400" spc="-1" strike="noStrike">
                <a:solidFill>
                  <a:srgbClr val="442351"/>
                </a:solidFill>
                <a:latin typeface="Times New Roman"/>
              </a:rPr>
              <a:t>читая которые </a:t>
            </a:r>
            <a:r>
              <a:rPr b="0" lang="ru-RU" sz="2400" spc="-1" strike="noStrike">
                <a:solidFill>
                  <a:srgbClr val="442351"/>
                </a:solidFill>
                <a:latin typeface="Times New Roman"/>
              </a:rPr>
              <a:t>он невольно вспоминал свое невеселое прошл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5:51:59Z</dcterms:created>
  <dc:creator>Admin</dc:creator>
  <dc:description/>
  <dc:language>en-US</dc:language>
  <cp:lastModifiedBy>Пользователь</cp:lastModifiedBy>
  <dcterms:modified xsi:type="dcterms:W3CDTF">2018-11-27T13:51:35Z</dcterms:modified>
  <cp:revision>39</cp:revision>
  <dc:subject/>
  <dc:title>Обособление обстоятельств, выраженных деепричастием или деепричастным оборотом.</dc:title>
</cp:coreProperties>
</file>