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E28-393A-4E95-BAFC-E7CBC119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8E7-DEAF-4B29-BF38-8701AB50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EEE-B724-42D4-84F5-A7E6295E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38D-2F4B-4CE9-8B7E-2B260F33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8887-C5C1-4DC9-A3B2-08A40B31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204B-E4D3-4FE7-9D4F-C68389BD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E0A0-6B8E-446A-AB6B-76FDD75D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7508-23C7-4B69-9474-0767F9E3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2934-F0DC-4354-8A11-3050B376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99C0-04C4-4808-BD58-30188DA8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A186-6FC9-4F25-82BA-3F0C1406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2ED-C04B-4323-BEDB-0DCFE2A1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37EA-1D8C-49B1-962C-80C0607C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4E25-1A49-4168-A450-80F35E8C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4913-CB77-4D02-ACE8-E35AA688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5748-FDBB-492D-BF11-09E7A81C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C537-F83C-42AB-9132-55D448ED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C34BC-1177-4C43-9C5B-0B36F5A1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D1B90-53F6-4EEE-B147-91E1056D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9A4C-CBD6-489B-9466-E207577E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62AF8-2835-4D3E-9A98-D8AB3B55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B28E6-8B97-4C3C-99EC-BC765BB3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182-A862-4CC0-A0F6-729CA035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9A2B2-CD86-45FE-BD88-1D96B9B7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83D59-62A7-4349-A27C-A623A43E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4E36A-75BD-4870-8AEA-AE066FE4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2DB0-F2B9-43C9-B1F5-5775D224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C819D-6B06-4F22-B2FD-CAC84036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B4C28-9AF3-4DB9-89AA-04DFB86A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213F6-C0E8-4AF0-99B2-EC1E478B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77B9F-8D86-4AFE-B3DE-53E9F0A9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4B55B-8668-42AD-A652-0FBD3126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F8E83-F23B-4E25-A149-1C1FDAB6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0BB-F6FF-46B5-85BC-3F6C2050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F6443-B515-46EA-B8E1-9A09F620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396DD-5D7A-43C3-8BF5-BC5FB5C1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353DC-41D6-4624-A301-F9A939C9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10A74-D2A8-422D-A46F-C7311C58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88EC7-2F2A-4D31-BF5F-1E47E6B2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E460D-F1ED-4B8D-85FC-F332C970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96B87-688A-4128-89BB-856159F5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E8F67-D0B1-43D2-B2B3-921D02DA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F75EF-4338-4DA1-BCF1-0AF07CF4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ED2C6-669D-42BE-96A0-BDA780DE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37C-B52F-44FF-947F-5549E213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8F8A9-67F4-4F25-B6FF-24D4E58A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05E34-1294-4BCE-AA44-03D12FA5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505F9-AFC6-4798-A8F5-020AE290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4D675-4C06-4131-9BC8-4A278B12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52359-F1F9-457B-B4E6-6C083D85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F15B4-4ECF-407A-ACCB-51716891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2A3BF-B1F3-4755-B42E-4A2027D4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D713D-A5EC-4153-A5A7-B09646F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AE29-7B57-4BEB-935C-593620DC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8BB05-39E3-4F2A-B46D-B647A37F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853-5F72-457D-8234-3B20A3E9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41C90-BEF3-4AA3-85D3-3FE8CAF4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52327-E6D7-4346-8F1F-F8FF922E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837EB-8A2C-4689-8F94-D4DE6E53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1F963-2F86-4843-82C6-B411FD7E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D5CEC-26B9-49B7-9118-3C9A519E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3A339-D29A-47F2-951D-2B08959B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60AC1-6434-49D5-90AB-123085EA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53CD4-8AE4-4B2F-8040-EEC56566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49E26-3CB0-4B6D-BF0D-02B1093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29575-4290-48D9-B49C-F077A1C3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C95-CCAC-4424-9E3A-3485B01E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02A19-40D2-43F3-AD01-2199CB36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8F7BA-C6B3-4D0F-A489-59FB16B9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5B167-390D-44A0-9BCD-94F8C249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CE578-B727-43FB-9E33-8EAF2E71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DCADA-9F75-461A-8B96-4768F81F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408DB-28E0-4561-94ED-3554EF4E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30FEF-D21B-49D4-AAE0-55C6EAAA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A0389-7303-401F-BDD9-9C49F8B1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4A1A1-BF47-406D-9C7A-3A1C5A4F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0C2A5-6CB5-48EB-ACBF-EFC237AE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6D1-683E-4BFE-9CE5-FDD62B70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24E45-7A56-4E4C-ABA9-427A9C96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722AB-77AD-4E31-8303-E886333E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8FDD2-E580-4AF1-B709-0675ADF0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77EA7-C818-4050-9718-EF5E0339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C0BF8-35DF-4B4B-AD52-F0778CAA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A99-5709-48CE-AA81-66813CBD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2E36-0882-43AC-AD78-2587BA8B30B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F567-7F31-45B9-BA0E-38A4D9EF9AC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C59A-2045-45C4-9550-0902D33AF2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957F-5369-4B4F-8689-E6C641BE949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E20E-6C3C-4FE6-90A1-ED68E2D95E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D4CB-AB99-4653-BD88-B95EE4AEA91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3B6F-BEF9-4C4D-9DB4-4B62800BF41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lingvistic/906/&#1086;&#1073;&#1086;&#1089;&#1086;&#1073;&#1083;&#1077;&#1085;&#1085;&#1099;&#1077;" TargetMode="External"/><Relationship Id="rId2" Type="http://schemas.openxmlformats.org/officeDocument/2006/relationships/hyperlink" Target="http://videotutor-rusyaz.ru/uchenikam/teoriya/265-obosoblennyeobstoyatelstva.html" TargetMode="External"/><Relationship Id="rId3" Type="http://schemas.openxmlformats.org/officeDocument/2006/relationships/hyperlink" Target="http://www.rg.ru/2011/03/18/zanatie27-site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87280" y="1989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</a:rPr>
              <a:t>Обособление обстоятельст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до отличать от деепричастий образованных от них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лог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чиная с, исходя из; «деепричастную» часть их можно опусти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ждь ль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иная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тра (льет с утр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особление обстоятельств, выраженных именем существительным с предлогом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95280" y="1988640"/>
            <a:ext cx="8424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да обособляются обстоятельства (уступки) с предлогами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смотря 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взирая 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часто – с предлогами ( предложными сочетаниями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е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уступки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агодаря,  согласно, вследствие,  ввиду,  по причине,  по случаю,   в силу,   за неимением (причины), ради,  во избежание (цели), при условии,   в случае,   с согласия, при наличии,  отсутствии (условия), в соответств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и некоторые друг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пошла погулять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смотря 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роз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е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гнозу, пошел сне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агода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нятым мерам, эксцессов удалось избежа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особление обстоятельств, выраженных именем существительным с предлогом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95280" y="2465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ог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особляются обстоятельства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производными предлог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по, при, для, с, за, из-за…) и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ре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имеют те же значения или образа действ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русости своей, удрал (причины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ожидан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нее, ушел (= вопреки ожиданиям ее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н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мощью палки, отбил атаку пса (образа действи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особление обстоятельств, выраженных именем существительным с предлогом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2708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ще обособля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оятельства распространенные, стоящие до сказуем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зависит обособление и от цели автора (хочет ли он что-либо выделить, подчеркнуть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неимени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ремени, в кино не поше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оше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кино за неимением времен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особление уточняющих обстоятельств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2205000"/>
            <a:ext cx="813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собля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очняющие обстоятельства, стоящие после уточняем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бычно это обстоятельства времени или места (иногда образа действи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стеной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сосе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места), допоздн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 самой но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времени), звучала музы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ворили мирно, по-дружес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особление уточняющих обстоятельств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вторское обособлени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4920" y="2637000"/>
            <a:ext cx="820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ва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рско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собление обстоятельств, перед которыми нет уточняемых слов, но они ясно подразумеваю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но, и Чичиковы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несколько минут жиз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бращаются в поэтов (= ненадолго, на несколько минут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особление уточняющих обстоятельств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утать с однородными членами предложения, которые запятыми разделяются, а не выделяю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т.е. не обособляютс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лесу, на луг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цвели цветы (перечисление мест – однородные члены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сел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луг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цвели цветы (уточнение места – обособляетс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пишите предложения, объясните выбор пунктуационных знаков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94920" y="1773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треннем свете за логом густо дымились крыши деревни. (И. Бунин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аркав отлетела ватага чёрных ворон. (А. Пушкин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тага чёрных ворон закаркала и отлете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ач склонившись над солдатом осматривал ран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у тяжёлую тележку один человек тащит шут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рча и оглядываясь, Каштанка вошла в комнату. (А. Чехо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цо у Маши было круглое, точно яблочк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место бороды у отца Захарии точно приклеен кусочек губочки. (М. Лермонтов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пишите предложения, объясните выбор пунктуационных знаков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4920" y="1773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мотря на непредвиденные трудности работа закончена в сро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о темно только две звездочки как два спасательных маяка сверкали на темно-синем свод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уха несмотря на преклонный возраст отлично видит и слыши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ша футбольная команда при условии регулярных тренировок может перейти в первую лиг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йдя через тяжкие испытания он сумел сохранить свое человеческое достоинств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еки предсказаниям моего спутника погода прояснилась и обещала нам тихое утр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пишите предложения, объясните выбор пунктуационных знаков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4920" y="213336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ти остались в столовой шёпотом толкуя об этом неожиданном посещении и опасаясь быть нескромными вскоре разъехались один за другим не поблагодарив хозяина за хлеб-сол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е минуты тому назад не подвергая себя никакой опасности хотел меня убить ибо раненный в ногу немного сильнее я бы непременно свалился с утёс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не пуская тьму ночную на золотые небеса одна заря сменить другую спешит дав ночи полчас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счастью по причине неудачной охоты наши кони не были измучен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гоухая сохли травы дымясь курились обла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епричастия, деепричастные обороты: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епричастия, деепричастные обороты выделяются запятыми независимо от их места в предложен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ьчик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угавшис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скрикну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йдя на мор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н поежил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ставьте и запишите по предложению с каждым выражением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читайте фразеологизмы. Выясните значение незнакомых вам оборотов во фразеологическом словар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мудрствуя лукаво, не покладая рук, сложа руки, засучив рукава, не смыкая глаз, не переводя дух, положа руку на сердце, скрепя сердце, очертя голову, не солоно хлебавш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кажите предложение, где должна стоять запята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    У Плюшкина крестьяне мрут как мух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    Мы знаем Крылова как талантливого баснописц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    Надо мной как гигантский шатёр расстилалось голубое неб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    Старик схоронил сына и остался один как перс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каком предложении допущена пунктуационная ошибка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    Я был, как в туман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    Город, как пёстрый план, лежал далеко под н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    Ваське, как самому старшему, рано пришлось идти в услуж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    Поражённый какой-то мыслью, он остановился как вкопанны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нформационные ресурс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73000"/>
            <a:ext cx="82915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hlinkClick r:id="rId1"/>
              </a:rPr>
              <a:t>http://dic.academic.ru/dic.nsf/lingvistic/906/%D0%BE%D0%B1%D0%BE%D1%81%D0%BE%D0%B1%D0%BB%D0%B5%D0%BD%D0%BD%D1%8B%D0%B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hlinkClick r:id="rId2"/>
              </a:rPr>
              <a:t>http://videotutor-rusyaz.ru/uchenikam/teoriya/265-obosoblennyeobstoyatelstva.htm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hlinkClick r:id="rId3"/>
              </a:rPr>
              <a:t>http://www.rg.ru/2011/03/18/zanatie27-site.htm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ородные деепричастия и деепричастные обороты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однородных деепричаст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деепричастных оборотах запятые ставятся так же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при однородных член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едложения вообщ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меиваясь и лихо подмигив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Юра закрыл двер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дуясь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горю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молчал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лясь, но тру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ородные деепричастия и деепричастные обороты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огд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юз (обычно 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носится к деепричастию, деепричастному обороту и запятой от него не отделя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людях она крепилась, 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йдя к себ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зарыда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 обособляются деепричастия, деепричастные обороты: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единительные союзом 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со сказуемы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с необособленным   обстоятельств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презирала его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имая его ухажи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стоял неподвижно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ядя куда-то вда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 обособляются деепричастия, деепричастные оборот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ряющие значение добавоч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приобретающие значение признака действия (что сближает их с наречиями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ставш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разеологическими оборот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засучив рукава, сломя голову, не смыкая глаз, раскрыв рот и т.п. – кроме фразеологически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одных словосочета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деляемых запятой: иначе говоря, судя по всему и т.п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тя работа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устя рука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очень плохо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Но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сучив рукава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н мыл руки в тазу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бственно гово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где птички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 обособляются деепричастия, деепричастные оборот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ряющие значение добавоч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приобретающие значение признака действия (что сближает их с наречиями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несущие основную смысловую нагрузку (без них сказуемое неполно выражает смысл: важно не что делается, а как) и стоящие обычно после сказуемого. «Наречность» таких  деепричастий, со значением качества действия, очевидна в группе однородных членов – наречий и деепричаст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сиде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горбившись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вори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е улыбаяс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и ходи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нцу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отвечал мн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смущаяс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д) и откровенно (н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 обособляются деепричастия, деепричастные оборот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Деепричастие, имеющее в качестве зависимо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 котор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составе определительного придаточного предложения, от этого предложения запятой не отделя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му хотелось сжечь эти письм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тая котор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н невольно вспоминал свое невеселое прошло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до отличать от деепричастий образованных от них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реч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тоя, сидя, лежа, молча, шутя, нехотя, не глядя, не спеша, играючи, припеваючи, крадучись…  Одинаковые по виду деепричастия сохраняют значение добавочного действия – благодаря образованию деепричастного оборота, связанности с другими деепричастия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ый час он еха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справлюсь с эти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ут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= легко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я на верши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н смотрел вниз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ю дорогу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утя и бол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н не закрывал р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8:42:58Z</dcterms:created>
  <dc:creator>Admin</dc:creator>
  <dc:description/>
  <dc:language>en-US</dc:language>
  <cp:lastModifiedBy>Пользователь</cp:lastModifiedBy>
  <dcterms:modified xsi:type="dcterms:W3CDTF">2018-11-27T13:54:04Z</dcterms:modified>
  <cp:revision>39</cp:revision>
  <dc:subject/>
  <dc:title>Обособление обстоятельств, выраженных деепричастием или деепричастным оборотом.</dc:title>
</cp:coreProperties>
</file>