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352-EEDE-4C18-8E24-FBAE9EB4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819-7976-414B-8838-25C24F1F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538-1374-45DE-84DA-DA9DB2EB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FA3-B850-4282-9AF2-F44E2245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E74C-B00A-4638-B139-D7ED0D07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2629-5541-4483-A3D2-51BBCF53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3A24-405E-4A3C-A336-86C56FB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AC7D-FA48-4458-9615-EC1D0A10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C11-FE2E-4B3B-B061-01782D67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BEB-19E4-4370-B6D9-A9C9034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66C7-DF2A-463F-9189-0148D93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E0B-492A-4F47-8615-A8D16D16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10C4-12A5-4335-870B-2CF4FF8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ACA2-5E84-4624-8B9C-6712B39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650E-3D8E-4BC0-AEBF-49E0E7EF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753-AD34-45EB-9178-56FD6AB5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327-AE5C-4CDA-B4BE-560E7B58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51B8-13FF-4919-A0E9-5BF36E1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9B86-4767-42BD-AD1B-5DA723F5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6152-60CF-4B6B-A4D7-6044255A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D8CF-D471-42C2-A5FB-6AD0589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21C5-CDD9-4739-B974-C1C7BB3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719-5B3A-4C30-8359-CFD50F50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BDA7-ACA1-405B-925B-4188172C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A1D8-EEA5-4FC4-AA14-526556D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C8B6-E46F-45DC-9C69-823B68F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F1F0-ADCA-4BD2-BCE3-E80A879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AD1A-CDCE-454B-ADF5-47138D00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780B-CC44-4A25-A113-F4638E35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C0AD-6C01-491A-ABDE-1C4C075C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C8E07-0746-4212-98B3-AEBEB905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F08E-63FA-40D6-AD8F-F756A9D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2571-FC8E-483C-8C7E-FF3BE60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D93-5214-4FFF-8616-32B7B70F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A3D8-0210-48B5-9AD3-B8E69771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81D2-BC5D-468D-A98A-05F63655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C619-EBFD-4E6B-A539-0A3C50D9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39BF-A818-449C-9AA8-925AB2D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084E-FF74-41F0-88EE-421965F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5A788-F0EC-427F-B14D-86D34FE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C856-FD97-4F1A-ADC8-64329661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78F9-129C-4347-9D91-3FF2D0D1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8BDA-E36D-4A7A-AB82-729C192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DD32-4024-440E-8329-4CD76083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852-913E-4606-BEE6-55DC8E8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4C65-9BF5-4844-A050-B07D0644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0288-27D1-4145-965E-D0B300CD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1890-1524-428A-9CA8-107FE25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519A-4FDD-49B1-A1EA-73C75B1B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E553-4CFC-423B-AB5A-EA7E5753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331B-EDA2-4BFB-8B5E-C327D677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C6B4-2F76-48D3-A4C1-FA0D2A02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9C2E-FC82-4B7A-A0E1-F9509A1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3F93C-EA42-49AD-8BD8-0CB7ADA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806B-2DED-4E50-BF85-47BDE41D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523-6048-44B0-A488-A4378A68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FF0E-1B4C-4605-B342-E0DC2F13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B2EB-2099-4FEF-A831-7E284365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ED3C2-B7E9-44AE-BE4C-2F60F75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7510-91EC-4901-9329-69B84D81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2BAC5-10ED-4C83-88D9-078AFDA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808D-FA45-430E-8C43-3454137A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F423-FF89-4528-B5E6-42DE8D0C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4A51-17CC-4F14-A3ED-BDECC4F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2BA8-64A1-46B6-B864-F3085F5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3E8DD-8868-4061-9218-D40A6DC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568-1B21-466D-9982-0612EA3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BAC8-D453-4732-A76F-0963C56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7EA3-401B-422C-823E-324901F3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001BE-B14C-4F4B-A6C0-C9AFC412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1A99-911B-4FA7-BD50-B5FEF165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9747-A297-481B-97B9-CA16C41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8DE9-3C0C-406E-9625-BB8B897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516C1-54EC-4CDA-881D-921D2B06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9DAFA-9FC4-43B9-951F-AB47BAC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73D00-E0C3-468F-A164-B879B57B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18FA-9C4C-469F-81F6-9685E1A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D38-DF99-4776-8DFC-8658E64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383E-6D34-40CB-9409-F1B6A95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D462-44D5-4568-97D7-3495947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D706-DE3E-4B3C-94D3-5F5D2505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07EB9-01EE-4A16-A45B-53FA3C9B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B80C-BE2D-4042-96F2-96C7E8B0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655-03CB-40B6-ABEE-C2B7B967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A1D-78A9-4967-AE23-1D1DF73E52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AEA-4440-475E-99E0-60597F7A61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828C-60FC-4F74-A1EF-98EA8599F5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A68-35BF-4C2F-A719-B407EF9121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977C-400B-4905-BD3D-7B91A4FBE0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974-0DCD-4071-BFBD-AFF68492AE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ED52-2BDA-4E62-81C6-283CB9B5C8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ingvistic/906/&#1086;&#1073;&#1086;&#1089;&#1086;&#1073;&#1083;&#1077;&#1085;&#1085;&#1099;&#1077;" TargetMode="External"/><Relationship Id="rId2" Type="http://schemas.openxmlformats.org/officeDocument/2006/relationships/hyperlink" Target="http://videotutor-rusyaz.ru/uchenikam/teoriya/265-obosoblennyeobstoyatelstva.html" TargetMode="External"/><Relationship Id="rId3" Type="http://schemas.openxmlformats.org/officeDocument/2006/relationships/hyperlink" Target="http://www.rg.ru/2011/03/18/zanatie27-site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7280" y="1989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</a:rPr>
              <a:t>Обособление обстоятельст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лог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чиная с, исходя из; «деепричастную» часть их можно опусти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ждь ль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ина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тра (льет с утр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5280" y="1988640"/>
            <a:ext cx="842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обособляются обстоятельства (уступки) с предлогам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взира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асто – с предлогами ( предложными сочетаниями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уступки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даря,  согласно, вследствие,  ввиду,  по причине,  по случаю,   в силу,   за неимением (причины), ради,  во избежание (цели), при условии,   в случае,   с согласия, при наличии,  отсутствии (условия), в соответств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и некоторые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ошла погулять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ро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е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нозу, пошел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да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нятым мерам, эксцессов удалось избеж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95280" y="2465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о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собляются обстоятельства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оизводными предлог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по, при, для, с, за, из-за…) 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меют те же значения или образа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русости своей, удрал (причи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жидан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нее, ушел (= вопреки ожиданиям е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мощью палки, отбил атаку пса (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ще обособ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а распространенные, стоящие до сказуем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зависит обособление и от цели автора (хочет ли он что-либо выделить, подчеркнут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 неимени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ремени, в кино не пош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ш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кино за неимением вре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220500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обля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чняющие обстоятельства, стоящие после уточня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бычно это обстоятельства времени или места (иногда 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стеной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сосе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места), допоздн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самой но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ремени), звучала му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или мирно, по-дружес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обособле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4920" y="263700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ско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собление обстоятельств, перед которыми нет уточняемых слов, но они ясно подразумеваю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но, и Чичиковы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есколько минут жиз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бращаются в поэтов (= ненадолго, на несколько минут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 уточняющих обстоятельств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утать с однородными членами предложения, которые запятыми разделяются, а не выделяю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т.е. не обособляютс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есу, на л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цвели цветы (перечисление мест – однородные чле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ел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л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цвели цветы (уточнение места – обособляетс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4920" y="177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треннем свете за логом густо дымились крыши деревни. (И. Буни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аркав отлетела ватага чёрных ворон. (А. Пушкин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тага чёрных ворон закаркала и отлете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ач склонившись над солдатом осматривал ран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у тяжёлую тележку один человек тащит шут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рча и оглядываясь, Каштанка вошла в комнату. (А. Чех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цо у Маши было круглое, точно яблочк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о бороды у отца Захарии точно приклеен кусочек губочки. (М. Лермонтов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4920" y="177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мотря на непредвиденные трудности работа закончена в ср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о темно только две звездочки как два спасательных маяка сверкали на темно-синем свод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уха несмотря на преклонный возраст отлично видит и слыши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ша футбольная команда при условии регулярных тренировок может перейти в первую лиг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йдя через тяжкие испытания он сумел сохранить свое человеческое достои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предсказаниям моего спутника погода прояснилась и обещала нам тихое утр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пишите предложения, объясните выбор пунктуационных знако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94920" y="213336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ти остались в столовой шёпотом толкуя об этом неожиданном посещении и опасаясь быть нескромными вскоре разъехались один за другим не поблагодарив хозяина за хлеб-со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минуты тому назад не подвергая себя никакой опасности хотел меня убить ибо раненный в ногу немного сильнее я бы непременно свалился с утё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пуская тьму ночную на золотые небеса одна заря сменить другую спешит дав ночи полчас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счастью по причине неудачной охоты наши кони не были измуче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ухая сохли травы дымясь курились обла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епричастия, деепричастные обороты: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епричастия, деепричастные обороты выделяются запятыми независимо от их места в предлож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ьчик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угавши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скрикну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йдя на мор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поежи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ставьте и запишите по предложению с каждым выражением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читайте фразеологизмы. Выясните значение незнакомых вам оборотов во фразеологическом словар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мудрствуя лукаво, не покладая рук, сложа руки, засучив рукава, не смыкая глаз, не переводя дух, положа руку на сердце, скрепя сердце, очертя голову, не солоно хлебавш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кажите предложение, где должна стоять запята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    У Плюшкина крестьяне мрут как мух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    Мы знаем Крылова как талантливого баснописц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    Надо мной как гигантский шатёр расстилалось голубое неб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    Старик схоронил сына и остался один как перс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аком предложении допущена пунктуационная ошибка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    Я был, как в туман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    Город, как пёстрый план, лежал далеко под н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    Ваське, как самому старшему, рано пришлось идти в услуж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    Поражённый какой-то мыслью, он остановился как вкопанны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73000"/>
            <a:ext cx="8291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1"/>
              </a:rPr>
              <a:t>http://dic.academic.ru/dic.nsf/lingvistic/906/%D0%BE%D0%B1%D0%BE%D1%81%D0%BE%D0%B1%D0%BB%D0%B5%D0%BD%D0%BD%D1%8B%D0%B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2"/>
              </a:rPr>
              <a:t>http://videotutor-rusyaz.ru/uchenikam/teoriya/265-obosoblennyeobstoyatelstva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3"/>
              </a:rPr>
              <a:t>http://www.rg.ru/2011/03/18/zanatie27-site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деепричастия и деепричастные оборот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однородных деепричаст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еепричастных оборотах запятые ставятся так же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и однородных член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едложения вообщ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меиваясь и лихо подмиги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Юра закрыл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дуясь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горю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молчал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лясь, но тру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ородные деепричастия и деепричастные оборот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юз (обычно 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носится к деепричастию, деепричастному обороту и запятой от него не отде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юдях она крепилась, 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дя к себ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арыд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единительные союзом 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о сказуемы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с необособленным   обстоятельств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зирала его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имая его ухажи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стоял неподвижно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ядя куда-то вда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яющие значение добавоч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риобретающие значение признака действия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тавш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разеологическими оборо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засучив рукава, сломя голову, не смыкая глаз, раскрыв рот и т.п. – кроме фразе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одных словосочета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я работ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устя рука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чень плох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о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сучив рукав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мыл руки в таз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ственно гово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птичк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ряющие значение добавоч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риобретающие значение признака действия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несущие основную смысловую нагрузку (без них сказуемое неполно выражает смысл: важно не что делается, а как) и стоящие обычно после сказуемого. «Наречность» таких  деепричастий, со значением качества действия, очевидна в группе однородных членов – наречий и деепричас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сиде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горбившись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и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е улыбая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и ходи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нцу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отвечал мн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мущая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) и откровенно (н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Деепричастие, имеющее в качестве зависим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 котор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составе определительного придаточного предложения, от этого предложения запятой не отде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му хотелось сжечь эти письм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тая котор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невольно вспоминал свое невеселое прошл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еч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тоя, сидя, лежа, молча, шутя, нехотя, не глядя, не спеша, играючи, припеваючи, крадучись…  Одинаковые по виду деепричастия сохраняют значение добавочного действия – благодаря образованию деепричастного оборота, связанности с другими деепричаст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й час он еха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правлюсь с эт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т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= легк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я на верши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смотрел вн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ю дорог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тя и бол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н не закрывал р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8:42:58Z</dcterms:created>
  <dc:creator>Admin</dc:creator>
  <dc:description/>
  <dc:language>en-US</dc:language>
  <cp:lastModifiedBy>Пользователь</cp:lastModifiedBy>
  <dcterms:modified xsi:type="dcterms:W3CDTF">2018-11-27T13:54:04Z</dcterms:modified>
  <cp:revision>39</cp:revision>
  <dc:subject/>
  <dc:title>Обособление обстоятельств, выраженных деепричастием или деепричастным оборотом.</dc:title>
</cp:coreProperties>
</file>