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DFF-29EE-4D3A-9E2C-3E15A109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177-704B-466E-B820-560A4350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C24-D2C1-4E06-9FFB-8824EA5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00A-D469-4ACD-9CAD-8E3745D8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B3FD-82CE-428D-A646-7EFF49A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1817-399A-40B0-B8C9-55F78C4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569-E13E-466E-AECC-D408FC7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35A-3ADB-41EA-A6C9-1C668BF6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23AD-D98E-4655-A537-620B311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9E97-64B8-4D48-B2AE-1A9E828E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29F5-4E62-42D5-8882-3F97243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C62-5283-4A3A-AD17-3932593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BFE-613D-4286-B8AC-52028E3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5A88-F832-490F-BD32-663A01C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3A04-A0F8-4D9A-953D-8312A33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82F4-5CEC-4B92-91F3-238B4923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EBCC-DD73-4E21-B48B-604725F4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A26B-44D7-4C06-AADB-F9CBA908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DCB2-AB41-4E85-B858-0D11407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ED12-CC51-4477-A968-A066BCC1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C7FA-1871-46CB-AEDD-B879D7D0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0371-00C2-40DD-AF5E-DD11C2F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259-05BD-41A5-A679-44566DF9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01CA-FC91-4E99-A42A-4AA1F52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8B93-2598-414F-843D-A7C1449E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557C-E941-4331-9D66-019AB98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D612-E35B-4EF7-8B74-7E685A4B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5728-236F-4E42-855A-E9A45D61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98C5-BC6C-4385-B6AF-1E1C71EA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0917-767C-4B88-8D51-DE3A672F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EA91-6A03-4A21-BFE9-F1E987A0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C888-3972-4C0C-9802-6B5CEE9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ACFE-C983-46A5-9907-324022A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485-4201-43E7-9375-04D1148C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6F78-DF8C-4BBD-BE39-A29C11F3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89BE0-C381-4227-843B-3B04E87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94CE-0A49-4A1E-9CA7-6C2DCC76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7EA5-3460-4603-AAC8-640E42AF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C256-678E-449C-910F-D5248AB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A424-EE2A-4A11-BABF-D0D3043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C621-E4D8-4792-B40A-F627DD9B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6E0AD-2EDD-4904-A5D4-B74CFA65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98C0-0F3A-4D37-81CA-D66F9B56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6BE6A-8BAA-4F41-B2EC-197CB313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0D2-732E-4F0B-962A-9CDB69E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16CE0-F57E-4AC8-B855-BE60E59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A8F97-D5D3-438E-A493-C85B2C12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E944-2A7F-4C26-875A-BEC7F13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BC6C5-0558-42FD-8651-E278329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801FD-6EC0-41E1-B5D3-65DB7D0B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1EF9-26A7-4CED-9BF4-568BF47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744C-5B97-4050-94A4-D417B1B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7DEF-6271-4A35-8E97-F60B115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9068-0FED-4CF9-ABE7-57690FA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B6BC-0BDC-4584-BAED-29F838BD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ED1-4150-4B5D-BC32-41F797AE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4E9A-FBBB-4B4B-8031-EBCD917B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9E72-48FA-4E83-A93C-543BEBBE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2CF6-7EFF-4932-8D1E-07B4E10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0FD86-21EC-4150-846B-1170F200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A00C4-21E2-46C6-B27C-8B9257A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FD494-A79F-4F13-84C3-E1F3AA7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F123B-6B33-4C71-9F20-E413E7A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8F48-9CCF-4F19-9AC7-BFCC251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88CCA-3AB5-4B74-8701-4BB761C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D4C3-7577-4488-84EA-80D9DE0D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EB4-9095-4373-8B3D-379F299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54B72-95E9-4733-AE35-5421381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2343-6DE1-41C3-B752-4C64BDD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0AC5-3FC9-44C4-9F82-1350149C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9006-E991-49C7-99EF-794D2A1B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D4826-BD9A-40D3-AC28-BEA6700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53990-72BD-429D-8721-341E8F2F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4539-48D8-4DAD-9F72-DA480BD9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C8F1-3AA9-4B53-A907-5584EF3B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A146-06DB-41D9-9259-9FCC2B6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D32D-967D-41F1-935F-71A9D0C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31B-2CAF-4D65-89D0-D437E1B2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4D77-5CB0-443B-AD4C-B323C97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04540-18B4-40DF-9A06-551BD41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3AE0-1718-43AF-A6B2-86E0A1D4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816BD-EBDE-4949-8243-29F61A8E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161D-8015-46EF-8892-9404FB35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1BC-EFCB-4DB1-A818-885F7F3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729-1258-4674-8C95-E4018D7192E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DCD9-4803-4A22-8F0F-690C2E12798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87A-25CB-49AB-9FC9-5E47FCC552FF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50B-DF61-4AE1-B35C-8480D574D602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3827-0BE2-4BC5-953F-83902E49F1C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21E3-C62A-4AE5-84C9-0D6A80C9BC38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C84F-AB4B-405D-9418-D2BD9AA5125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1488b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11488b"/>
                </a:solidFill>
                <a:latin typeface="Corbe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Обособление приложений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487840" y="4313160"/>
            <a:ext cx="31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1488b"/>
                </a:solidFill>
                <a:uFillTx/>
                <a:latin typeface="Corbel"/>
              </a:rPr>
              <a:t>Закрепле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дальнем углу светилось желтое пятно огонь квартиры Серафи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ъехали какую-то старую плотину, потонувшую в крапиве, и давно высохший пруд глубокую яму, заросшую бурьян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Легкие судороги признак сильного чувства пробежали по его широким губ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Челкаш, чувствовал себя в силе повернуть эту жизнь и так и этак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особляется приложени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ри личном местоимени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2.  Онеги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добрый мой приятель, родился на брегах Нев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А.С.Пушкин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бособляется приложение, стояще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осле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пределяемого слова –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мени собственног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 Отступник бурных наслаждений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неги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дома запер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(А.С.Пушкин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ли стои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перед именем собственным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меет добавочное обстоятельственное значени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синонимично оборотам с будучи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4. Орлы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спутники войск, поднялись над горою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зносчик болотной влаги, меня прознобил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уман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Распространенные приложения, стоящи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до или посл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определяемого слова -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уществительного нарицательного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Отец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показал мне деревянный ларь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о есть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ящик, широкий вверху и узенький вниз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Многие с прошедшего бала на меня дуются,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особенно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драгунский капитан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иложения, присоединяемые союзам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то есть, ил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словами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даже, например, по имени, в особенно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и подобным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6.Ка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истинный художник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Пушкин не нуждался в выборе поэтических предметов для своих произведений, но для него все предметы были равно исполнены поэз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иложения, присоединяемые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оюзом как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если име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значение причинност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7.Но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Богат, хорош собою, Ленский везде был приня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как жених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ли союз как = по значению выражению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в качеств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, то запятые не ставятся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488b"/>
                </a:solidFill>
                <a:uFillTx/>
                <a:latin typeface="Corbel"/>
              </a:rPr>
              <a:t>Закрепл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24000" y="980640"/>
            <a:ext cx="842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числа всей челяди самым замечательным лицом был дворник Герасим мужчина двадцати вершков рос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ы мальчишки собирались иногда отрядами и шли в я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 спит только кормщик молчаливый северный стар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атра злой законодатель непостоянный обожатель очаровательных актрис почетный гражданин кулис Онегин полетел к театр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правился я с крестьянином по имени Егор на охот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истинный дворянин Дубровский обладал гордостью и честь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4:01:16Z</dcterms:created>
  <dc:creator>Елена</dc:creator>
  <dc:description/>
  <dc:language>en-US</dc:language>
  <cp:lastModifiedBy>Пользователь</cp:lastModifiedBy>
  <dcterms:modified xsi:type="dcterms:W3CDTF">2018-11-27T13:55:30Z</dcterms:modified>
  <cp:revision>12</cp:revision>
  <dc:subject/>
  <dc:title>Обособление приложений</dc:title>
</cp:coreProperties>
</file>