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03F-358B-4ADB-ADE4-129F9FFF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180-2819-48AE-8EB5-984310EE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3AC-EEF2-45BF-A93D-FC941A4B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A92-985D-4434-9208-D99BAAF5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2768-8206-4B56-B746-DCAFEE52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2559-6D65-48DC-9447-F4EBDDF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AC8F-EC15-4667-9742-C3277546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3209-BE75-49F1-9595-0814685D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9F94-1E1C-4568-9415-C74FEF8E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F10C-A1AD-41EE-9BDE-6E443EBA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DE7-10F4-4FAD-B684-48E872B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CDD-4859-4010-8AC2-EE0853A5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B0D4-EE53-4EA0-BB4F-F60E041F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0C36-C5B9-4736-A8BC-C867B007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A693-AB7E-4E6A-9A0B-180C7F46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3E0F-FD6C-44E8-8062-6170CBFC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5290-4FF0-4F4D-91C5-D15DF4FB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190F-DF2D-4FAA-9BD0-5D6E6AB5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AC6E-DCDF-476C-805F-052165CF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929D-A23C-4B6A-BBF8-DE32C74E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6DD1-52EF-4896-B963-3D832490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1FF81-A8E6-42CC-A9DD-3F67E064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4FD-A35A-4E24-AB4F-214ADBBD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5A35-BB7B-4F39-B79F-F0D4573B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4471-208B-4F86-995E-F91177DD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DB799-E6F2-46A4-8A28-E9A71C52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3058-D335-4721-89C3-EBDCDA9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27F8-874C-40B6-B531-F2E53FD0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56C1-6FFE-460F-947F-8EBBEB8C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8ED9-4632-4361-A1BD-76CDD4C0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9997-9F1D-40C0-AAF9-B6D784E7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DBC1-AF1D-440C-8274-2090C0B0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D3B06-10A9-4055-955D-3C4D678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690-06D2-40F6-A903-91CA1EE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D860-80BC-4C45-8139-5F75CF1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6A5E-102D-49A3-9A2B-20DA2247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94E5-B56F-4637-AA3E-A89D0CE6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0E29-93E6-4815-9A59-30B95B6B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5256-FFFB-4E52-9392-7A0C28F3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7F42-2631-4B9C-A158-BF2796AC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4F81-B535-4AD2-97AA-7D4C0DAD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0264-61F5-46F8-A5BF-26D898AD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18880-E3CC-4DEB-96E6-39C54E9A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291F-76B3-4965-88FA-6BD686FC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47C-D7D5-4351-BCB8-60AC13D2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5CFF-21CC-4002-B45C-612660B1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21934-79DD-477F-89F4-983D3336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4A61-8CC1-420B-A7E3-7B899BE3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AA6E3-47F3-4985-A03E-1A25A921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AB236-8612-459B-AD8E-B38B5921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E8F47-B555-4D10-817E-E4CABB2A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EF6BA-70D5-4600-92C3-A0EE2B1A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900E5-E6C8-43AD-900E-9AA7D37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D663-D752-4270-BEBF-AA30759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918F-7003-43FB-9D7E-EC786375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F4E-04D8-41CD-ACBA-53FC8ED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9A71D-7CEA-4B74-A8A1-DED86253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C7AE3-BBA3-44F1-AECF-BE468655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1CD6-42EA-4C5D-90E5-0C07CB9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7A875-B85F-4B80-BD6E-6D3F9DF1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E557D-891F-4CD0-BAAC-EC47932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DDA18-7844-4EC0-9D96-F0910FF3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9D95-033D-43A1-AE96-847DE50B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99EA2-CF4B-477C-9463-8E524D0F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FD8F6-AB84-40BE-A40D-0D5EC6F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103C-BB6C-4A44-B353-0AF2D91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E96-2FAD-450E-B1D4-8B5A526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03A5-84F5-48F2-807C-EF721E3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D302D-9593-401C-BA46-0D90CFAF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057F-453D-4BFC-99C6-77A838C6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E1B89-E655-4E9D-AA74-C6666250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2931F-F4BA-4E38-A0C5-34D407E6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EDC42-4BF5-4E40-8646-22F14B7C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BD165-9F3C-4A16-996C-9FE68534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AAEF0-CB58-483A-8366-8498523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BB28-006C-41C8-ADA1-CB820B58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0C966-6E46-4E4C-BCB8-13BD8AF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0C5-D78E-4F1F-A80D-28E58A40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585B-120F-4E0B-9193-66ED4F7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3B8A2-E897-4FC2-B680-5E3D9C57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EDFC-34C9-443B-8D19-B18EE9EE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54B4C-4841-4A1D-9C34-59A9267D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C2435-D98A-487C-B56D-60EF15B4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1C3-C04B-4CCF-91EC-144DA60A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4150-7BA2-450D-8EA7-D37DFB5D584F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6EC9-8006-4926-B5D0-4833CD0B8E52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D703-590C-4406-AD35-881DE8EB124A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8379-CB73-4E65-86B9-26EAB1394564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68ED-3E42-4445-AEF4-61744E7A359D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3BA-D06E-4D12-822B-6301DF6896AB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BD04-2340-4C0C-B2CC-1BC2FDBB9DAF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1488b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11488b"/>
                </a:solidFill>
                <a:latin typeface="Corbe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Обособление приложений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5487840" y="4313160"/>
            <a:ext cx="31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1488b"/>
                </a:solidFill>
                <a:uFillTx/>
                <a:latin typeface="Corbel"/>
              </a:rPr>
              <a:t>Закрепле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00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 дальнем углу светилось желтое пятно огонь квартиры Серафи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ъехали какую-то старую плотину, потонувшую в крапиве, и давно высохший пруд глубокую яму, заросшую бурьян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Легкие судороги признак сильного чувства пробежали по его широким губ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н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Челкаш, чувствовал себя в силе повернуть эту жизнь и так и этак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(М.Горький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бособляется приложение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при личном местоимени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2.  Онегин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добрый мой приятель, родился на брегах Нев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(А.С.Пушкин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бособляется приложение, стоящее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после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пределяемого слова –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имени собственног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  Отступник бурных наслаждений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негин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дома заперс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(А.С.Пушкин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Если стои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перед именем собственным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имеет добавочное обстоятельственное значени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синонимично оборотам с будучи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4. Орлы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спутники войск, поднялись над горою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зносчик болотной влаги, меня прознобил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туман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Распространенные приложения, стоящие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до или посл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определяемого слова -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уществительного нарицательного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Отец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показал мне деревянный ларь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то есть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ящик, широкий вверху и узенький вниз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Многие с прошедшего бала на меня дуются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собенно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драгунский капитан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риложения, присоединяемые союзам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то есть, ил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, словам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даже, например, по имени, в особенност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и подобным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6.Как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истинный художник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Пушкин не нуждался в выборе поэтических предметов для своих произведений, но для него все предметы были равно исполнены поэз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риложения, присоединяемые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оюзом как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, если име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значение причинност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7.Но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Богат, хорош собою, Ленский везде был приня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как жених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Если союз как = по значению выражению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в качеств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, то запятые не ставятся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1488b"/>
                </a:solidFill>
                <a:uFillTx/>
                <a:latin typeface="Corbel"/>
              </a:rPr>
              <a:t>Закрепл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24000" y="980640"/>
            <a:ext cx="842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числа всей челяди самым замечательным лицом был дворник Герасим мужчина двадцати вершков рос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ы мальчишки собирались иногда отрядами и шли в я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 спит только кормщик молчаливый северный стари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еатра злой законодатель непостоянный обожатель очаровательных актрис почетный гражданин кулис Онегин полетел к театр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правился я с крестьянином по имени Егор на охот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истинный дворянин Дубровский обладал гордостью и честь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4:01:16Z</dcterms:created>
  <dc:creator>Елена</dc:creator>
  <dc:description/>
  <dc:language>en-US</dc:language>
  <cp:lastModifiedBy>Пользователь</cp:lastModifiedBy>
  <dcterms:modified xsi:type="dcterms:W3CDTF">2018-11-27T13:55:30Z</dcterms:modified>
  <cp:revision>12</cp:revision>
  <dc:subject/>
  <dc:title>Обособление приложений</dc:title>
</cp:coreProperties>
</file>