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722-B074-4554-85D6-D5846587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66F-6D48-44A8-B75A-C1E01560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ECC-68DC-4B80-83D3-A3901F1C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958-43B1-4764-8AD9-8CB8B7EE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4B5A-9A37-415E-8AF5-0055D0AB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50C9-D973-41CD-A639-D6575C32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0E5B-0256-4753-B363-094287EC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D3D-3258-4595-AFB8-60DA931B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256-5159-487B-8DD6-678A1520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4BD0-4298-4A21-9E28-1C653D45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8DC0-4C4A-4A02-A710-EA409A3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F97-62CD-4162-BF28-4E836719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7720-1326-413B-901C-2063403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41A3-2796-4AD5-AAC3-2B8F687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D0E7-4485-4DF8-8F34-97BBDE6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CCA9-8312-43E3-ADCA-3C65DCC5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8115-03DC-44FE-A686-FE70C7BC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FC66-694A-41F7-9876-48A15ACB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7C91-9C7E-4C79-9092-687CFEB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2325-5199-4C69-A097-127C8030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0B66-F42A-42C5-BB38-28C537B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68AE-7FA9-4D2A-AC63-58D9115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30F-58CE-47F9-95D7-A2E9B9A5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41B9-DCE3-4BD6-B43F-F895297C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898A-DC0F-47EF-A88F-A450F30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69F8-FD6A-402F-A0B0-53F5EE56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1E1B-0C58-49E7-95FF-62254F9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7F83-831B-45AB-AAA4-F4E39882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D738-62D0-47E0-BC1B-78224C1F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5E4A-229E-4FF2-A87F-74B8B594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F823-2B8A-4DDE-849D-CCA95640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B79B0-F1CE-4BA8-B959-A193167F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1A92-BDC5-435A-9195-74A7F123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586-8A2D-40A8-AA53-361630C0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BFE1-BD5B-4103-8A7C-3896E026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292B4-0C0B-4C98-820B-2ABA019D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2CD1-7C61-44F7-A3C0-EA7D4D05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54FF-7E09-44CF-AE6D-1847A66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3124-6ED7-4156-9DDE-78D5FCB2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96CA-5785-480C-87AB-113CD955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F537-EF08-416E-97A3-EC962F08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6EE6-0814-43FE-8E89-E04BCFD0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B5E8-0342-4B26-AC5D-2343C769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96E7C-BA04-49B7-B162-540080B7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003-0F42-407C-97DE-39577481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A775-2A37-4C43-B410-0DBB915A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9935-919A-4C2B-8534-D7614A6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349AF-F839-481E-8D16-708A024B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1587E-8287-4B12-8450-488CC53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3ED6-B5DC-455C-B76B-1FFD0E1C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7D26-4AF8-4669-B520-F812868E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1D02-9EBE-48D2-9F50-A54ADED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6224-09C9-4EA8-8DD4-C4E2ACB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8DF5-1347-4F3C-BB1D-9ED2B12D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C2888-6A8E-4117-B1EC-35CFA3D2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5E2-F5BA-43F4-BAE6-249CE8E0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E1950-1264-4FA9-8E10-616AC9EA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AFF48-393F-41E1-B782-C54E02C7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7124B-0DC4-4890-8E3A-69EBFD4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37B48-5A99-4432-A4C3-3A89DB0D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333D-D69C-4143-B9C0-89A51123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4B736-6E2B-4EA7-B1B0-4B6E8852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75A60-37AF-4AD4-B06D-6534577A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56F03-FEB6-4F46-ADCE-A15375E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81E4D-DB08-4122-A573-128C8AB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19B7-B030-4972-9A5E-594187E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E3A-AA37-4DEF-8F2A-09BBE0E5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3E906-5A2D-4572-AE0F-8B574AEF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D0CE-D8DA-454D-8557-2B33C510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30360-2DE7-4AB8-AEAD-E341D8DC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837E8-2E02-4E8B-8AC2-D73F0476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9DD3-028D-4DB1-8C9A-88C1A58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1F873-21D9-485E-9E80-A28816AB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C7A4D-7D91-4F1C-B71A-03B4B96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4024-1FB1-4439-BF20-04BFC048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776A-025C-4F70-AA53-7F45D872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33326-2060-4D51-AD43-8CFC089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8A3-83F0-44C9-B734-BA812466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35A0C-8CC9-4AAA-A071-35FEF447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ED092-20BC-482E-AFA7-C4CDC7F5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87931-429C-4784-9944-C32D8375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50C7-C8B2-48BA-B6B9-BA54A612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5B118-BED2-4019-B43D-4696F714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54C-2901-4A25-952D-1BB4625A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7D18-1847-49C7-839A-9518C8ABB5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FAF1-B450-4F01-A0A8-B27E5C9219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E587-8CF7-4277-8D78-E526402E47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9B8D-EE36-4917-B874-A8ADC199F1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D5CD-F432-4E32-A3CB-D985FAF49B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DE7D-A17C-4A9C-BA25-63DF4C9B1D1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30FF-79C6-4054-9ED9-D98EED08A9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899640" y="1628280"/>
            <a:ext cx="7488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рфоэпический словарик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русского язык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рищ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е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лиф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да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зобре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ред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нопис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дус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 (устар. индустри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стру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фор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к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8360" y="170028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ата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рси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атас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ау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ляну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вар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ед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ило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инематог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енный (прич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ле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ый (прил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к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ледж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л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м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нер и комбай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па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ра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ра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р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000" y="155736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кут (отходы, остат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с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 (кусочек ткан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со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у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ыж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00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астерс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(и допуст. 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ерс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астерст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дика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к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таллур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 (и допуст. устар. метал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ги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ща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ерный и ми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ны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ол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ик [допуст. -шн-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он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ы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ело и допуст. устар. набе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оло и допуст. наг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аг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а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а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до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кр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ави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пода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превзой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прихот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фтеп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ик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оворож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280" y="1125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бес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блег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ский [д'е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дновр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 и однов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днои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з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ле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пе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п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м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три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уж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тбе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т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р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т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ты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2965"/>
                </a:solidFill>
                <a:latin typeface="Times New Roman"/>
              </a:rPr>
              <a:t>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4920" y="1052280"/>
            <a:ext cx="4608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ара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ар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атриар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 и допуст. патри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х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епе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чить и допуст. пер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ля и пет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р и допуст. пла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лесне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енная со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рт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ста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роны (пох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, на похо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ед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ш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5076720" y="981000"/>
            <a:ext cx="360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зыв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зыв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 (пункт, возра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ный (зовущ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н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ленный и при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ц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обре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озор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осты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у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урс и допуст. устар. ра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а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ка и допуст. 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уш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ассер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ся (рассер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с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н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ть и рж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н (но: не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н и не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 час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л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383840"/>
            <a:ext cx="41752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анит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анти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ущ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ви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 [т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ь (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, сек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ен и допуст. си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им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рия и симме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иро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(мн. ч. си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р[н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к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ик [-шн-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5003640" y="1471680"/>
            <a:ext cx="3672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об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о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опл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осредо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ство (мн. ч. с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а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еног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с допуст. [рэ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00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н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нц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щиц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п [т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ен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ция [тэ, дэ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дер [тэ, дэ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лить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ты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тих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л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5">
            <a:hlinkClick r:id="rId1" action="ppaction://hlinksldjump"/>
          </p:cNvPr>
          <p:cNvSpPr/>
          <p:nvPr/>
        </p:nvSpPr>
        <p:spPr>
          <a:xfrm>
            <a:off x="140328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>
            <a:hlinkClick r:id="rId2" action="ppaction://hlinksldjump"/>
          </p:cNvPr>
          <p:cNvSpPr/>
          <p:nvPr/>
        </p:nvSpPr>
        <p:spPr>
          <a:xfrm>
            <a:off x="284328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>
            <a:hlinkClick r:id="rId3" action="ppaction://hlinksldjump"/>
          </p:cNvPr>
          <p:cNvSpPr/>
          <p:nvPr/>
        </p:nvSpPr>
        <p:spPr>
          <a:xfrm>
            <a:off x="428292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>
            <a:hlinkClick r:id="rId4" action="ppaction://hlinksldjump"/>
          </p:cNvPr>
          <p:cNvSpPr/>
          <p:nvPr/>
        </p:nvSpPr>
        <p:spPr>
          <a:xfrm>
            <a:off x="572292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9">
            <a:hlinkClick r:id="rId5" action="ppaction://hlinksldjump"/>
          </p:cNvPr>
          <p:cNvSpPr/>
          <p:nvPr/>
        </p:nvSpPr>
        <p:spPr>
          <a:xfrm>
            <a:off x="716292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140328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1">
            <a:hlinkClick r:id="rId6" action="ppaction://hlinksldjump"/>
          </p:cNvPr>
          <p:cNvSpPr/>
          <p:nvPr/>
        </p:nvSpPr>
        <p:spPr>
          <a:xfrm>
            <a:off x="284328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2">
            <a:hlinkClick r:id="rId7" action="ppaction://hlinksldjump"/>
          </p:cNvPr>
          <p:cNvSpPr/>
          <p:nvPr/>
        </p:nvSpPr>
        <p:spPr>
          <a:xfrm>
            <a:off x="428292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3">
            <a:hlinkClick r:id="rId8" action="ppaction://hlinksldjump"/>
          </p:cNvPr>
          <p:cNvSpPr/>
          <p:nvPr/>
        </p:nvSpPr>
        <p:spPr>
          <a:xfrm>
            <a:off x="572292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4">
            <a:hlinkClick r:id="rId9" action="ppaction://hlinksldjump"/>
          </p:cNvPr>
          <p:cNvSpPr/>
          <p:nvPr/>
        </p:nvSpPr>
        <p:spPr>
          <a:xfrm>
            <a:off x="716292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5">
            <a:hlinkClick r:id="rId10" action="ppaction://hlinksldjump"/>
          </p:cNvPr>
          <p:cNvSpPr/>
          <p:nvPr/>
        </p:nvSpPr>
        <p:spPr>
          <a:xfrm>
            <a:off x="140328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>
            <a:hlinkClick r:id="rId11" action="ppaction://hlinksldjump"/>
          </p:cNvPr>
          <p:cNvSpPr/>
          <p:nvPr/>
        </p:nvSpPr>
        <p:spPr>
          <a:xfrm>
            <a:off x="284328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7">
            <a:hlinkClick r:id="rId12" action="ppaction://hlinksldjump"/>
          </p:cNvPr>
          <p:cNvSpPr/>
          <p:nvPr/>
        </p:nvSpPr>
        <p:spPr>
          <a:xfrm>
            <a:off x="428292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8">
            <a:hlinkClick r:id="rId13" action="ppaction://hlinksldjump"/>
          </p:cNvPr>
          <p:cNvSpPr/>
          <p:nvPr/>
        </p:nvSpPr>
        <p:spPr>
          <a:xfrm>
            <a:off x="572292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9">
            <a:hlinkClick r:id="rId14" action="ppaction://hlinksldjump"/>
          </p:cNvPr>
          <p:cNvSpPr/>
          <p:nvPr/>
        </p:nvSpPr>
        <p:spPr>
          <a:xfrm>
            <a:off x="716292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0"/>
          <p:cNvSpPr/>
          <p:nvPr/>
        </p:nvSpPr>
        <p:spPr>
          <a:xfrm>
            <a:off x="140328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1"/>
          <p:cNvSpPr/>
          <p:nvPr/>
        </p:nvSpPr>
        <p:spPr>
          <a:xfrm>
            <a:off x="284328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2"/>
          <p:cNvSpPr/>
          <p:nvPr/>
        </p:nvSpPr>
        <p:spPr>
          <a:xfrm>
            <a:off x="428292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3"/>
          <p:cNvSpPr/>
          <p:nvPr/>
        </p:nvSpPr>
        <p:spPr>
          <a:xfrm>
            <a:off x="572292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4"/>
          <p:cNvSpPr/>
          <p:nvPr/>
        </p:nvSpPr>
        <p:spPr>
          <a:xfrm>
            <a:off x="716292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5"/>
          <p:cNvSpPr/>
          <p:nvPr/>
        </p:nvSpPr>
        <p:spPr>
          <a:xfrm>
            <a:off x="140328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6"/>
          <p:cNvSpPr/>
          <p:nvPr/>
        </p:nvSpPr>
        <p:spPr>
          <a:xfrm>
            <a:off x="284328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7"/>
          <p:cNvSpPr/>
          <p:nvPr/>
        </p:nvSpPr>
        <p:spPr>
          <a:xfrm>
            <a:off x="428292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/>
          <p:cNvSpPr/>
          <p:nvPr/>
        </p:nvSpPr>
        <p:spPr>
          <a:xfrm>
            <a:off x="572292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9"/>
          <p:cNvSpPr/>
          <p:nvPr/>
        </p:nvSpPr>
        <p:spPr>
          <a:xfrm>
            <a:off x="716292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0"/>
          <p:cNvSpPr/>
          <p:nvPr/>
        </p:nvSpPr>
        <p:spPr>
          <a:xfrm>
            <a:off x="3562200" y="566244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1"/>
          <p:cNvSpPr/>
          <p:nvPr/>
        </p:nvSpPr>
        <p:spPr>
          <a:xfrm>
            <a:off x="5002200" y="566244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2"/>
          <p:cNvSpPr/>
          <p:nvPr/>
        </p:nvSpPr>
        <p:spPr>
          <a:xfrm>
            <a:off x="611280" y="404640"/>
            <a:ext cx="7993080" cy="6120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3" descr="BUTFLY1"/>
          <p:cNvPicPr/>
          <p:nvPr/>
        </p:nvPicPr>
        <p:blipFill>
          <a:blip r:embed="rId15"/>
          <a:stretch/>
        </p:blipFill>
        <p:spPr>
          <a:xfrm>
            <a:off x="7383600" y="5621400"/>
            <a:ext cx="176040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У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ольный (от угол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ный (от угол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кра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ск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ш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ше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сугу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и допуст. устар. усу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Ф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ак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ил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ар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е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н (научн. термин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е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н (редкое явление) и допуст. фено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е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и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ер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товы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люорог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зац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орми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2965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00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 (в древнегреческой мифологи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 и допуст. устар. ха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 (беспорядок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арак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ный (типичны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терный (актер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к, х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ковы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йствов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 (мн. чкдаяев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енный (прич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еный и допуст. х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ый (прил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д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ристиа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ристопр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ц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Ц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ц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це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к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цы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Ч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000" y="184428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па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ильщ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Ш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6800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ас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ф, 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фа, мн. 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ф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тинский (к Шахт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тинц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и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 [н'е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о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п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ц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Щ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ен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егольс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е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е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к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Э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800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э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скур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экс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т, экс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т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э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спор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эпи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Ю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8000" y="148392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кнуть и юрк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ю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зык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 (относящийся к словесному выражению мыслей человек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зы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 (относящийся к органу полости рт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ица [-шн-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ый допуст. [-шн-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2965"/>
                </a:solidFill>
                <a:latin typeface="Times New Roman"/>
              </a:rPr>
              <a:t>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густовск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лко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лф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нти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 [т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пос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р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 (арбуза, мн. ч. арбуз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ргу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ристок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симме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ст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лас (собрание географических карт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т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 (ткань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а (не афёр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AutoShape 11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Информационные ресурс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рфографический словарь русского языка. Произношение, ударение, грамматические нормы, под редакцией Р.И.Аванесо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600cc"/>
                </a:solidFill>
                <a:latin typeface="Times New Roman"/>
              </a:rPr>
              <a:t>Б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лло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л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лов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нт, 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а, мн. ч. 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ме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е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ержный (устар. безу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жны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ерёста и берес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овес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лагов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ко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ред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 и бре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я (закрепление чего-нибудь за кем-нибуд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(защитная обшивк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чная [допуст. -шн-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уржуа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утерб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 [т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9280" y="141264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ал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(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ит,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ишь,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ят, в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ийся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ах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б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збешё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одоп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олг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ск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олк —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ка,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ки, вол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ор -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а (мн.ч.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ы, 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, 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, о 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азоп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аст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ек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зи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ладко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ст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р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рена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е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ичий (устар. и в худож. речи де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емок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ерма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пот [д'е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е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ноз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а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спан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 [сэ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а</a:t>
            </a:r>
            <a:r>
              <a:rPr b="0" lang="ru-RU" sz="2000" spc="-1" strike="noStrike">
                <a:solidFill>
                  <a:srgbClr val="61296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59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ма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г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го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ос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г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ны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ку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чер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раматур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р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ухов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Ж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000" y="1773360"/>
            <a:ext cx="821844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алю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б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612965"/>
                </a:solidFill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чь и 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ч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ити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34136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брони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(покрыть броне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б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овать (закрепить что-нибудь за кем-нибуд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воро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овор (тайное соглаш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г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 (заклина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нут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деветь (и допуст. заинде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р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43280" y="1341000"/>
            <a:ext cx="40276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р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ня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(человек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ятый (кем-нибудь или чем-нибуд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рж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и зар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в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(зв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ь, зв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, зв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и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щ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ар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арка и допуст. зна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уб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0:25:33Z</dcterms:created>
  <dc:creator>TEST</dc:creator>
  <dc:description/>
  <dc:language>en-US</dc:language>
  <cp:lastModifiedBy>Пользователь</cp:lastModifiedBy>
  <dcterms:modified xsi:type="dcterms:W3CDTF">2018-11-27T13:56:39Z</dcterms:modified>
  <cp:revision>62</cp:revision>
  <dc:subject/>
  <dc:title>Слайд 1</dc:title>
</cp:coreProperties>
</file>