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2DCE-30D7-44BD-BDA3-1B695737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01A-CCC0-414D-9371-AC40334B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F66-2F23-4243-80B8-3528AADD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E37-2CC8-4F8C-80A9-2409E882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48A3-F730-42C2-A7A1-8DDE8082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8468-0CC4-428E-8289-CB4CDEBF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791D-8AE1-45D4-9992-4D5404AC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0007-B577-481B-BBC8-8D2681A0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D438-8D2A-489E-8F28-E6549FF6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C03C-5505-4CE9-A1B0-D8327B44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A297-FCA1-4FA2-AE24-D583EF8B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960-4933-4467-AA5B-2B63F79D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38CF-8723-4660-B364-9EF08F39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C935-BC95-4F65-A3D5-A1ECDD18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348F-706D-4A16-A100-3D9E1BD2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3063-807A-4B2C-A482-83876959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C80E-1AD9-4EEC-94EB-16071FED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BE7B3-6406-4E45-9954-04EDF276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1E57B-BB53-47CB-BA21-3811962D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12C2-C6E8-4EA9-9B29-D2E45457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CA228-4641-46C8-8617-2D30E256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6514B-C30B-43AB-8CF5-0AAC1D2A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825-254B-4EB5-9644-7062EC24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78DE7-7CC1-4B3E-BA47-F022A217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FF501-0D40-4616-B3E3-086E722F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CB4A0-EF4A-4F12-97A1-010A472D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2F356-5CC3-452F-A840-10469769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B78CF-1985-459A-8504-9D1B8C2A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EDCDD-4E6F-4D68-8A99-BC449D82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5DB29-BD0D-408F-9DE9-B3485931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C26A9-5F8D-465A-AD1C-366D90FF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06AC4-81B4-450B-B396-85F7B4F9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0C894-3AA3-460D-A422-9CCD9045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F4DF-26A6-4807-B174-33743E21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407A6-EAB5-415D-A645-D3D2BFC9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3A8CD-6516-4530-A68D-36C2993F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F6174-4F58-4749-AD4B-1487C5EE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FE5EB-ACFB-4160-B6D6-AED7A380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9EF95-7FAD-4BEB-9023-108DAD0F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54AD9-3F42-4AB9-9F26-C9A2B396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F38FA-A1F1-4421-8FFD-2EBB5B03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7723B-3716-457D-9039-DB3F1065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59F6E-92E6-45D2-BD16-96E5EF44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006FC-88C5-40A4-A8E7-66D2DF0D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83C0-D623-4F1C-978F-4D8C7579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B44E4-5630-417A-BFA2-72ABB58E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1303E-A6B7-4687-A9FF-6A11E65B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41505-80C4-4A2B-8725-2A002FA1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AD0CF-0297-4B5E-99F6-E8ED02CB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488BB-3114-4CDE-A488-868D7521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4B8AD-4AAB-47E0-8204-74905F2D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78879-2B93-498F-8E37-3E71C182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A671D-3BF8-469A-901A-81C06C8C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0A90A-3A5E-4846-A475-5287079B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38CF3-BC83-41D1-8B67-FB2ED866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2F2-4B38-4227-979B-EFFCC79C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D9286-7E08-4BFB-826E-D7D5AF5C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ECD42-D1DC-40DA-B9D2-EB8822CD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DE83F-83E3-4E98-9CF3-00B253C3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41CDE-A050-4091-862A-5A703BB1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7B037-C935-41DF-9861-F1099E7F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EFD99-0BFC-4E7B-8B52-61018F79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62368-15D3-419F-82D8-B01528B0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A3ADE-B00D-435F-9CCC-D0C0E6D5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04594-6607-484E-A4F9-973D2A00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78347-FA99-4025-89DE-C8BC6045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F65-2BD1-44A6-901D-0EC72767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E4A17-BF1E-4DC7-B5FA-74F0300E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62E49-4905-4529-A91F-31724695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6BA8C-D7A0-44D8-8C8D-35C297A4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FAEAF-306A-4C1B-ADCD-4B38D3C8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DC479-797F-49DD-9F03-822B50EA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199F7-6221-4E7C-B6A5-E3F1890A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138C1-3FD2-4901-A9D2-BB8EA40C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684D4-EE6F-48AB-ABAE-C8DD9F91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45779-A81B-457C-B034-3FC63960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A93BD-1FEE-4953-B6D7-ECC92EEB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CBE-B1E9-47BE-B63C-0C1F3309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C38A2-D590-404F-B92F-0F55B3D9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1E71C-A574-41DB-8711-14CD774A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4F3AA-6535-4B3A-841E-34428F5D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1E8CE-621A-4000-A00C-15350C9F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30467-4A0B-4E5C-9F1B-6EA380B3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69B-D248-440E-B12C-B363733F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1D96-453C-4A28-BC6E-CE4A1C4D825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19E3-A56F-4128-808E-C34DCDDBEA1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1620-887F-49E1-A932-753E4044DAB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AB17-2103-403C-9E24-E570DAE2049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276C-7B8E-447F-8FAA-06439E4A56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8C32-8373-405A-BC45-70636F75012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4015-9C08-48F9-AEF4-E561A133DD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899640" y="1628280"/>
            <a:ext cx="74883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Орфоэпический словарик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русского языка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55700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рищ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ие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лиф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да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изобре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ред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онопис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индуст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 (устар. индустрия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инстру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ин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ь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инфор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ова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к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AutoShape 8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12965"/>
                </a:solidFill>
                <a:latin typeface="Times New Roman"/>
              </a:rPr>
              <a:t>К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8360" y="170028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ата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арси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атаст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ауч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ляну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вар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ед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ило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инематог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енный (прич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ле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ый (прил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ож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ок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ю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ледж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ол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ом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йнер и комбай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па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ра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ра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ре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о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AutoShape 8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8000" y="155736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о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о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кут (отходы, остатк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ос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 (кусочек ткан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осо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у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ыж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М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8000" y="1628280"/>
            <a:ext cx="8218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астерс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(и допуст. 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ерск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астерст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едика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ько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еталлур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 (и допуст. устар. метал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гия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еща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ерный и ми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ны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оло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ж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ник [допуст. -шн-]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он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ы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ств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ело и допуст. устар. набе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оло и допуст. наг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аг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а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а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до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кр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ави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пода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превзой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прихот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фтепр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икч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оворож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О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39280" y="1125360"/>
            <a:ext cx="8218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бес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блегч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ский [д'е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дновре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 и однов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е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днои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з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ле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пе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с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п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с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оми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стри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суж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тбе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т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ори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тч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ты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12965"/>
                </a:solidFill>
                <a:latin typeface="Times New Roman"/>
              </a:rPr>
              <a:t>П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94920" y="1052280"/>
            <a:ext cx="4608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ара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ар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атриарх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 и допуст. патри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х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о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епе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щ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чить и допуст. перч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ля и пет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р и допуст. пла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лесне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енная со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ортф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оста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ороны (похо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, на похор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ед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ш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5076720" y="981000"/>
            <a:ext cx="360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и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и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ы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изыв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изыв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й (пункт, возра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и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ы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ный (зовущ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ино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ленный и при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ц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иобре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и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озор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росты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у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8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6800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урс и допуст. устар. ра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а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ка и допуст. 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уш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ассер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ся (рассер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ся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н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е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ж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ть и ржа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н (но: не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н и нер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 час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л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1383840"/>
            <a:ext cx="41752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анита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анти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ущ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л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ви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 [тэ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ь (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, сек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ен и допуст. си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о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им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рия и симмет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иро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(мн. ч. си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ы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р[нэ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кво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ник [-шн-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5003640" y="1471680"/>
            <a:ext cx="36720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об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о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ы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опле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осредо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ство (мн. ч. с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а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у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еног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1296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с допуст. [рэ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Т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00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а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жн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анц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щиц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п [тэ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ен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ция [тэ, дэ]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дер [тэ, дэ]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литьс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ты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тих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л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5">
            <a:hlinkClick r:id="rId1" action="ppaction://hlinksldjump"/>
          </p:cNvPr>
          <p:cNvSpPr/>
          <p:nvPr/>
        </p:nvSpPr>
        <p:spPr>
          <a:xfrm>
            <a:off x="1403280" y="98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>
            <a:hlinkClick r:id="rId2" action="ppaction://hlinksldjump"/>
          </p:cNvPr>
          <p:cNvSpPr/>
          <p:nvPr/>
        </p:nvSpPr>
        <p:spPr>
          <a:xfrm>
            <a:off x="2843280" y="98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>
            <a:hlinkClick r:id="rId3" action="ppaction://hlinksldjump"/>
          </p:cNvPr>
          <p:cNvSpPr/>
          <p:nvPr/>
        </p:nvSpPr>
        <p:spPr>
          <a:xfrm>
            <a:off x="4282920" y="98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8">
            <a:hlinkClick r:id="rId4" action="ppaction://hlinksldjump"/>
          </p:cNvPr>
          <p:cNvSpPr/>
          <p:nvPr/>
        </p:nvSpPr>
        <p:spPr>
          <a:xfrm>
            <a:off x="5722920" y="98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9">
            <a:hlinkClick r:id="rId5" action="ppaction://hlinksldjump"/>
          </p:cNvPr>
          <p:cNvSpPr/>
          <p:nvPr/>
        </p:nvSpPr>
        <p:spPr>
          <a:xfrm>
            <a:off x="7162920" y="98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0"/>
          <p:cNvSpPr/>
          <p:nvPr/>
        </p:nvSpPr>
        <p:spPr>
          <a:xfrm>
            <a:off x="1403280" y="1917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1">
            <a:hlinkClick r:id="rId6" action="ppaction://hlinksldjump"/>
          </p:cNvPr>
          <p:cNvSpPr/>
          <p:nvPr/>
        </p:nvSpPr>
        <p:spPr>
          <a:xfrm>
            <a:off x="2843280" y="1917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2">
            <a:hlinkClick r:id="rId7" action="ppaction://hlinksldjump"/>
          </p:cNvPr>
          <p:cNvSpPr/>
          <p:nvPr/>
        </p:nvSpPr>
        <p:spPr>
          <a:xfrm>
            <a:off x="4282920" y="1917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3">
            <a:hlinkClick r:id="rId8" action="ppaction://hlinksldjump"/>
          </p:cNvPr>
          <p:cNvSpPr/>
          <p:nvPr/>
        </p:nvSpPr>
        <p:spPr>
          <a:xfrm>
            <a:off x="5722920" y="1917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4">
            <a:hlinkClick r:id="rId9" action="ppaction://hlinksldjump"/>
          </p:cNvPr>
          <p:cNvSpPr/>
          <p:nvPr/>
        </p:nvSpPr>
        <p:spPr>
          <a:xfrm>
            <a:off x="7162920" y="1917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5">
            <a:hlinkClick r:id="rId10" action="ppaction://hlinksldjump"/>
          </p:cNvPr>
          <p:cNvSpPr/>
          <p:nvPr/>
        </p:nvSpPr>
        <p:spPr>
          <a:xfrm>
            <a:off x="1403280" y="285444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6">
            <a:hlinkClick r:id="rId11" action="ppaction://hlinksldjump"/>
          </p:cNvPr>
          <p:cNvSpPr/>
          <p:nvPr/>
        </p:nvSpPr>
        <p:spPr>
          <a:xfrm>
            <a:off x="2843280" y="285444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7">
            <a:hlinkClick r:id="rId12" action="ppaction://hlinksldjump"/>
          </p:cNvPr>
          <p:cNvSpPr/>
          <p:nvPr/>
        </p:nvSpPr>
        <p:spPr>
          <a:xfrm>
            <a:off x="4282920" y="285444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8">
            <a:hlinkClick r:id="rId13" action="ppaction://hlinksldjump"/>
          </p:cNvPr>
          <p:cNvSpPr/>
          <p:nvPr/>
        </p:nvSpPr>
        <p:spPr>
          <a:xfrm>
            <a:off x="5722920" y="285444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9">
            <a:hlinkClick r:id="rId14" action="ppaction://hlinksldjump"/>
          </p:cNvPr>
          <p:cNvSpPr/>
          <p:nvPr/>
        </p:nvSpPr>
        <p:spPr>
          <a:xfrm>
            <a:off x="7162920" y="285444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0"/>
          <p:cNvSpPr/>
          <p:nvPr/>
        </p:nvSpPr>
        <p:spPr>
          <a:xfrm>
            <a:off x="1403280" y="3789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1"/>
          <p:cNvSpPr/>
          <p:nvPr/>
        </p:nvSpPr>
        <p:spPr>
          <a:xfrm>
            <a:off x="2843280" y="3789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22"/>
          <p:cNvSpPr/>
          <p:nvPr/>
        </p:nvSpPr>
        <p:spPr>
          <a:xfrm>
            <a:off x="4282920" y="3789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3"/>
          <p:cNvSpPr/>
          <p:nvPr/>
        </p:nvSpPr>
        <p:spPr>
          <a:xfrm>
            <a:off x="5722920" y="3789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4"/>
          <p:cNvSpPr/>
          <p:nvPr/>
        </p:nvSpPr>
        <p:spPr>
          <a:xfrm>
            <a:off x="7162920" y="3789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5"/>
          <p:cNvSpPr/>
          <p:nvPr/>
        </p:nvSpPr>
        <p:spPr>
          <a:xfrm>
            <a:off x="1403280" y="472608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6"/>
          <p:cNvSpPr/>
          <p:nvPr/>
        </p:nvSpPr>
        <p:spPr>
          <a:xfrm>
            <a:off x="2843280" y="472608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7"/>
          <p:cNvSpPr/>
          <p:nvPr/>
        </p:nvSpPr>
        <p:spPr>
          <a:xfrm>
            <a:off x="4282920" y="472608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8"/>
          <p:cNvSpPr/>
          <p:nvPr/>
        </p:nvSpPr>
        <p:spPr>
          <a:xfrm>
            <a:off x="5722920" y="472608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9"/>
          <p:cNvSpPr/>
          <p:nvPr/>
        </p:nvSpPr>
        <p:spPr>
          <a:xfrm>
            <a:off x="7162920" y="472608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0"/>
          <p:cNvSpPr/>
          <p:nvPr/>
        </p:nvSpPr>
        <p:spPr>
          <a:xfrm>
            <a:off x="3562200" y="566244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1"/>
          <p:cNvSpPr/>
          <p:nvPr/>
        </p:nvSpPr>
        <p:spPr>
          <a:xfrm>
            <a:off x="5002200" y="566244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2"/>
          <p:cNvSpPr/>
          <p:nvPr/>
        </p:nvSpPr>
        <p:spPr>
          <a:xfrm>
            <a:off x="611280" y="404640"/>
            <a:ext cx="7993080" cy="6120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3" descr="BUTFLY1"/>
          <p:cNvPicPr/>
          <p:nvPr/>
        </p:nvPicPr>
        <p:blipFill>
          <a:blip r:embed="rId15"/>
          <a:stretch/>
        </p:blipFill>
        <p:spPr>
          <a:xfrm>
            <a:off x="7383600" y="5621400"/>
            <a:ext cx="1760400" cy="1236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У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8000" y="155700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ольный (от угол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у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ьный (от угол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укра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ск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у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ши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у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ше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усугу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 и допуст. устар. усу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и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Ф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ак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ил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арф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е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ен (научн. термин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е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ен (редкое явление) и допуст. фено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е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и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ер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йтовы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люорог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и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зац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ормир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2965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6800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с (в древнегреческой мифологи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с и допуст. устар. ха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 (беспорядок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арак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ный (типичны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а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терный (актер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ок, х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ковы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о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айствова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о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ин (мн. чкдаяев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енный (прич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еный и допуст. х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ый (прил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од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ристиа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ристопро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ц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Ц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це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це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к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цы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Ч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8000" y="1844280"/>
            <a:ext cx="8218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пат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ильщи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Ш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6800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ас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ф, ш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фа, мн. ш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ф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тинский (к Шахты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тинц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и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ь [н'е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оф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п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ц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Щ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8000" y="155700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ща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щ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ен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щегольс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ще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ще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к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щ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Э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800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э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скур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экс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т, эксп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т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э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спор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эпи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AutoShape 8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Ю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8000" y="1483920"/>
            <a:ext cx="8218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ю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кнуть и юрк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ю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ив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68000" y="155700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зык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й (относящийся к словесному выражению мыслей человек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зы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ый (относящийся к органу полости рт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ница [-шн-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ный допуст. [-шн-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12965"/>
                </a:solidFill>
                <a:latin typeface="Times New Roman"/>
              </a:rPr>
              <a:t>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густовски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ств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лко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лфа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о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нти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 [тэ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пост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р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 (арбуза, мн. ч. арбузы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ргу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ристок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симмет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стр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лас (собрание географических карт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т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 (ткань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аф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а (не афёр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AutoShape 11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Информационные ресурсы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Орфографический словарь русского языка. Произношение, ударение, грамматические нормы, под редакцией Р.И.Аванесо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600cc"/>
                </a:solidFill>
                <a:latin typeface="Times New Roman"/>
              </a:rPr>
              <a:t>Б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алло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ова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ал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алов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ант, 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а, мн. ч. 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ме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е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ержный (устар. безу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жны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ерёста и берес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овес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642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лагово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ков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ред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й и бре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я (закрепление чего-нибудь за кем-нибуд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р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я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(защитная обшивк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очная [допуст. -шн-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уржуа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утерб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 [тэ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AutoShape 8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9280" y="141264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ал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а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 (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ит, 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ишь, 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ят, ва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щийся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ах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б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збешё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одопр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олго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ски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олк — 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ка, 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ки, вол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ор - 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а (мн.ч. 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ы, во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, во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, о во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Г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1628280"/>
            <a:ext cx="8218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азопр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астр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ек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ези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ладкош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ст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ра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рена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ев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Д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ичий (устар. и в худож. речи де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и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емок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и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ерма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пот [д'е]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еф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и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ноз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иа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испан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 [сэ]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об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ы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ча</a:t>
            </a:r>
            <a:r>
              <a:rPr b="0" lang="ru-RU" sz="2000" spc="-1" strike="noStrike">
                <a:solidFill>
                  <a:srgbClr val="612965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859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ма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ог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оговор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ост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ог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ны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оку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т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ос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очер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раматург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ре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ухов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AutoShape 8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Ж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8000" y="1773360"/>
            <a:ext cx="821844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жалю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ж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об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ж</a:t>
            </a:r>
            <a:r>
              <a:rPr b="1" lang="ru-RU" sz="2400" spc="-1" strike="noStrike">
                <a:solidFill>
                  <a:srgbClr val="612965"/>
                </a:solidFill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чь и ж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ч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жити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AutoShape 7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2965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8000" y="1341360"/>
            <a:ext cx="402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бронир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 (покрыть броне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ct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бр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овать (закрепить что-нибудь за кем-нибуд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дн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ворож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овор (тайное соглаш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го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 (заклина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гнут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д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л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деветь (и допуст. заинде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ори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43280" y="1341000"/>
            <a:ext cx="402768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к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пор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нят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й(человек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нятый (кем-нибудь или чем-нибуд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аржав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 и зарж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е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в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ь (зв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шь, зв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, зво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им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вщи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л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б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м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арств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н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харка и допуст. знах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р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зубч</a:t>
            </a:r>
            <a:r>
              <a:rPr b="1" lang="ru-RU" sz="2400" spc="-1" strike="noStrike" u="sng">
                <a:solidFill>
                  <a:srgbClr val="612965"/>
                </a:solidFill>
                <a:uFillTx/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612965"/>
                </a:solidFill>
                <a:latin typeface="Times New Roman"/>
              </a:rPr>
              <a:t>т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AutoShape 8">
            <a:hlinkClick r:id="" action="ppaction://hlinkshowjump?jump=previousslide"/>
          </p:cNvPr>
          <p:cNvSpPr/>
          <p:nvPr/>
        </p:nvSpPr>
        <p:spPr>
          <a:xfrm>
            <a:off x="8172360" y="6165720"/>
            <a:ext cx="792360" cy="538200"/>
          </a:xfrm>
          <a:custGeom>
            <a:avLst/>
            <a:gdLst>
              <a:gd name="textAreaLeft" fmla="*/ 34560 w 792360"/>
              <a:gd name="textAreaRight" fmla="*/ 757800 w 7923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31794" h="21600">
                <a:moveTo>
                  <a:pt x="0" y="0"/>
                </a:moveTo>
                <a:lnTo>
                  <a:pt x="31794" y="0"/>
                </a:lnTo>
                <a:lnTo>
                  <a:pt x="31794" y="21600"/>
                </a:lnTo>
                <a:lnTo>
                  <a:pt x="0" y="21600"/>
                </a:lnTo>
                <a:close/>
              </a:path>
              <a:path fill="lightenLess" w="31794" h="21600">
                <a:moveTo>
                  <a:pt x="0" y="0"/>
                </a:moveTo>
                <a:lnTo>
                  <a:pt x="31794" y="0"/>
                </a:lnTo>
                <a:lnTo>
                  <a:pt x="30394" y="1400"/>
                </a:lnTo>
                <a:lnTo>
                  <a:pt x="1400" y="1400"/>
                </a:lnTo>
                <a:close/>
              </a:path>
              <a:path fill="darken" w="31794" h="21600">
                <a:moveTo>
                  <a:pt x="31794" y="0"/>
                </a:moveTo>
                <a:lnTo>
                  <a:pt x="31794" y="21600"/>
                </a:lnTo>
                <a:lnTo>
                  <a:pt x="30394" y="20200"/>
                </a:lnTo>
                <a:lnTo>
                  <a:pt x="30394" y="1400"/>
                </a:lnTo>
                <a:close/>
              </a:path>
              <a:path fill="darkenLess" w="31794" h="21600">
                <a:moveTo>
                  <a:pt x="31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94" y="20200"/>
                </a:lnTo>
                <a:close/>
              </a:path>
              <a:path fill="lighten" w="31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94" h="21600">
                <a:moveTo>
                  <a:pt x="8890" y="7493"/>
                </a:moveTo>
                <a:lnTo>
                  <a:pt x="12398" y="7493"/>
                </a:lnTo>
                <a:lnTo>
                  <a:pt x="12398" y="12828"/>
                </a:lnTo>
                <a:cubicBezTo>
                  <a:pt x="12398" y="13751"/>
                  <a:pt x="13199" y="14482"/>
                  <a:pt x="14234" y="14482"/>
                </a:cubicBezTo>
                <a:lnTo>
                  <a:pt x="15897" y="14482"/>
                </a:lnTo>
                <a:cubicBezTo>
                  <a:pt x="16933" y="14482"/>
                  <a:pt x="17733" y="13751"/>
                  <a:pt x="17733" y="12828"/>
                </a:cubicBezTo>
                <a:lnTo>
                  <a:pt x="17733" y="7493"/>
                </a:lnTo>
                <a:lnTo>
                  <a:pt x="15897" y="7493"/>
                </a:lnTo>
                <a:lnTo>
                  <a:pt x="19404" y="3985"/>
                </a:lnTo>
                <a:lnTo>
                  <a:pt x="23077" y="7493"/>
                </a:lnTo>
                <a:lnTo>
                  <a:pt x="21241" y="7493"/>
                </a:lnTo>
                <a:lnTo>
                  <a:pt x="21241" y="12828"/>
                </a:lnTo>
                <a:cubicBezTo>
                  <a:pt x="21241" y="15596"/>
                  <a:pt x="18665" y="18155"/>
                  <a:pt x="15897" y="18155"/>
                </a:cubicBezTo>
                <a:lnTo>
                  <a:pt x="14234" y="18155"/>
                </a:lnTo>
                <a:cubicBezTo>
                  <a:pt x="11467" y="18155"/>
                  <a:pt x="8890" y="15596"/>
                  <a:pt x="889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0:25:33Z</dcterms:created>
  <dc:creator>TEST</dc:creator>
  <dc:description/>
  <dc:language>en-US</dc:language>
  <cp:lastModifiedBy>Пользователь</cp:lastModifiedBy>
  <dcterms:modified xsi:type="dcterms:W3CDTF">2018-11-27T13:56:39Z</dcterms:modified>
  <cp:revision>62</cp:revision>
  <dc:subject/>
  <dc:title>Слайд 1</dc:title>
</cp:coreProperties>
</file>