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B312-089C-4D1E-808E-7E67977505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F7F0-AA78-4133-987D-BAB2246C6F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0DA3-657A-4F2D-8292-841ED8F957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FCF0-91AF-434F-9586-390E4532B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80C7-0BB9-4092-A5F7-E2E0FF76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8D35-5014-407E-B35B-FD767966E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5830-255D-46CC-A56E-0A25DEE73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A0AD-E890-47BE-94A4-93D05EBC5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7806-6388-4482-BE08-B3ACC0E8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0557-ECD0-450B-85CD-9B7B4C66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3FBB-D29E-48F0-BA02-27ADA58F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B7B7-15F2-42F2-869F-0F70D93C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83F6-976C-4352-AA4D-799166CC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B361-DB9D-4245-886C-AD14FBCD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9D2D-91AB-46F7-B924-CC0179A6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0042-2A96-4536-B1C2-3702B381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A9D6-8CE2-4952-AC26-2077C1DD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D265-E264-4E1C-B2BE-FECD54CB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5194-CB54-45CC-A068-5F0D00AF6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BDF7-0EAE-4F43-8649-C4F4BF7ED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3F168-32BE-46C9-9844-274292E83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03E50-D696-4D6C-B9B6-0E7FB90C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E2307-A729-46E6-A413-25056B0F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6E929-5AE9-49AE-B384-33202D28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85824-14A1-4649-9598-4B80E441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14ED-CAD1-483C-8AEC-AEB63DDF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C1CCA-CBE1-427B-BEE2-56811529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EC6A1-BCBD-47F9-A65C-70F2FDC0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390E3-108A-401B-8CDF-8B8D4159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C7D20-5964-43B1-BCAB-0091A1EB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FB3CF-0796-46FA-B4E6-5F187667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AF2D0-F72B-47DD-8737-C8410336E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9610A-794D-4AF6-AD57-95A3F90F8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3FEEE-9576-4C29-AE43-F176475ED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59D6A-3189-455B-A627-3AC1F7BA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FEA2E-68D0-49D3-BF45-56544F29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A3FA-E243-4CE6-AB1C-12A3E8ED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911B7-DE58-42B0-9999-9966D753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E2FE4-0829-467E-AD39-D982A4C4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83FB6-6414-4610-BF0A-75D7A9B3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B707B-FEED-4478-851E-36D870FB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59E18-6AD2-4984-A75A-C5207D27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D6E4C-9A55-4EFC-BC71-4044644A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B5416-1E7E-4666-B320-8A100942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456ED-3498-482A-8932-1702A9796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2B5AF-9A51-425A-8547-302BC56ED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87230-B5D4-4B21-AAD9-F6A4CB701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9189-8DC6-487A-959E-C911E9F7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A6EC7-A180-4F6B-BAD6-297D406A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E5867-3FC5-4BE2-A938-BCEDF661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37C61-2186-49EA-879D-6456DC30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8741A-BD10-4D5B-B38B-14AFA56B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550F0-4EA2-4C19-A649-6A0E5F00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9B090-7F9F-4C60-8DAB-56476F8A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B258F-CA7A-4F0F-8017-C0D9E70D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DF6D6-11C9-4AFF-B43B-C039E474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42804-9C1C-46B4-BED7-3F965ED5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EA421-E269-4904-AAF8-1AACC350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0601-F3B4-445F-87CF-EED32B3E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BA2AD-4A09-4734-B8C8-9C7B8CF13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7E8AF-39A6-4AF0-B418-1D18631F9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173C8-ABA3-4592-B14D-F9539558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FAB74-3DED-4AC4-8CEE-0C0A66B4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E1E8F-846B-4D4C-BDFE-4FA8D760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799ED-063F-474A-A6C5-A4E06C07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E40EF-A6FE-45CA-8E4E-33AEB8BE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A44FB-9212-41E0-9994-84C936CA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97AE7-7B98-4918-90EB-D8881F38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566E4-BD95-44F1-9FDE-7A236B8F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F7E3-DA23-46B0-8299-66A48BF7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7980A-C655-4C52-AF48-CEBA78AB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2F87A-65DE-4464-936C-81EC411C5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945FA-A9B2-4DE8-B824-25797E253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5EAB9-1C21-484A-A028-473044B7E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F8B40-58E1-4272-8E8C-8DFA1562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64B44-BD22-4900-988D-460E222A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782C3-C803-459B-8FB9-6F6FF423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A5CC7-70B7-4E20-8E60-8FBAEF8C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EE6A5-1C7A-444B-AD98-9C0E6942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42A54-112C-4E56-AF6F-BD3AD2B5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C47C-1FE5-47A3-AA80-B5A5B142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B65EB-C1FB-4ACD-A494-7F2B8442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25BD2-68DE-40C5-B192-CAFD71C0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CBAC4-1B5D-488A-8753-428A4B7E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85E91-236C-41ED-A2D8-1C3EFFFF4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C25FD-959A-478B-A64B-8C950C5A2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A687-072F-4611-86BC-DAC106B1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D70E-ADB7-4FF4-BCA8-CEA9793722B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245E-1F47-4FC2-957C-BA422A3C890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37BF-0C7D-48E3-BB77-45826174E16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06DA-84A4-4123-A32A-5687542CD33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EC0A-9FCE-4AB5-9280-AA4184D6E5C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8B29-12F7-4226-9DF5-0150CF0E088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0507-EAD7-4946-BBD1-941FA389568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1714680" y="3143160"/>
            <a:ext cx="6400800" cy="2448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"/>
              </a:rPr>
              <a:t>ОРФОГРАФИЯ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"/>
              </a:rPr>
              <a:t>Гласные в КОРНЕ слов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"/>
              </a:rPr>
              <a:t>(повторение – обобщени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ff0000"/>
              </a:solidFill>
              <a:latin typeface="Corbe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2" descr=""/>
          <p:cNvPicPr/>
          <p:nvPr/>
        </p:nvPicPr>
        <p:blipFill>
          <a:blip r:embed="rId1"/>
          <a:stretch/>
        </p:blipFill>
        <p:spPr>
          <a:xfrm>
            <a:off x="-334800" y="268200"/>
            <a:ext cx="9028080" cy="11588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Знаете ли вы , какое насл-ждение выехать весной до з-ри? На темно-синем  небе кое-где мелькают звезды; влажный в- терок изр-дка  наб-гает легкой дымкой. Вот кл-дут ковер на телегу, ставят на ноги ящик с самоваром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37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то , кроме охотника,  испытал как отрадно бр-дить на з-ре  по кустам. З-леной  ч-ртой  л-житься след ваших нок по р-систой, поб-левшей тр-ве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37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А то в-лишь  зал-жить б-говые дрожки и поедешь в лес за рябчиками. Вес-ло проб-раться по узкой д-рожке…     ( по И. С. Тургеневу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равописание гласных в корне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Тренировочные задания по теме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каком ряду во всех словах пишется  проверяемая безударная гласная в корне слова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1. нагр-вать, стр-мление, соч-тающи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2. под-рить, хв-стун, просл-вля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3. переб-решь, к-варный, ст-рон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4. об-яние, прк-снуться, л-скающи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2" descr=""/>
          <p:cNvPicPr/>
          <p:nvPr/>
        </p:nvPicPr>
        <p:blipFill>
          <a:blip r:embed="rId1"/>
          <a:stretch/>
        </p:blipFill>
        <p:spPr>
          <a:xfrm>
            <a:off x="1434960" y="338040"/>
            <a:ext cx="7499520" cy="101592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каком ряду во всех словах чередующиеся гласны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55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б-руться, заг-релый, оз-ренны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55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-туация, эп-демия, ок-заться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55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т-рона, бл-гословение, осм-леть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55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-чать, фр-зеология, эл-мент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55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( 1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равописание гласных в корне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17400" indent="-5090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В каком ряду пропущены непроверяемые гласные: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617400" indent="-5090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617400" indent="-5090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617400" indent="-5090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м-лчаливый, согр-вать, оз-рять,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617400" indent="-5090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изб-гающий, л-рический, зак-номерный,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617400" indent="-5090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Опр-делить, ч-ловечество, уб-диться,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617400" indent="-5090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Осм-леть, ср-жение, к-мпромисс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617400" indent="-50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617400" indent="-50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617400" indent="-50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(3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равописание гласных в корне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каком ряду во всех словах пропущена одна и та же букв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55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-мерсант, з-ря, раск-лит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55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-кумент, акв-рель, г-рячност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55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-ф-рендум, п-риоди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55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-номен, п-гмент, сож-ле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55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( 3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55600"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Rectangle 2" descr=""/>
          <p:cNvPicPr/>
          <p:nvPr/>
        </p:nvPicPr>
        <p:blipFill>
          <a:blip r:embed="rId1"/>
          <a:stretch/>
        </p:blipFill>
        <p:spPr>
          <a:xfrm>
            <a:off x="-341280" y="-66600"/>
            <a:ext cx="9240840" cy="17730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rbel"/>
              </a:rPr>
              <a:t>Принципы русской орфографи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rbel"/>
              </a:rPr>
              <a:t>Морфологический принцип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Все значимые части слова (морфемы) пишутся так, как произносятся в сильной позици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eb80a"/>
                </a:solidFill>
                <a:latin typeface="Corbel"/>
              </a:rPr>
              <a:t>В</a:t>
            </a:r>
            <a:r>
              <a:rPr b="0" lang="ru-RU" sz="1800" spc="-1" strike="noStrike" u="sng">
                <a:solidFill>
                  <a:srgbClr val="feb80a"/>
                </a:solidFill>
                <a:uFillTx/>
                <a:latin typeface="Corbel"/>
              </a:rPr>
              <a:t>о</a:t>
            </a:r>
            <a:r>
              <a:rPr b="0" lang="ru-RU" sz="1800" spc="-1" strike="noStrike">
                <a:solidFill>
                  <a:srgbClr val="feb80a"/>
                </a:solidFill>
                <a:latin typeface="Corbel"/>
              </a:rPr>
              <a:t>да- вод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4305"/>
                </a:solidFill>
                <a:latin typeface="Corbel"/>
              </a:rPr>
              <a:t>фонетический принцип.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написания в соответствии с произношением:  </a:t>
            </a:r>
            <a:r>
              <a:rPr b="0" lang="ru-RU" sz="1800" spc="-1" strike="noStrike">
                <a:solidFill>
                  <a:srgbClr val="feb80a"/>
                </a:solidFill>
                <a:latin typeface="Corbel"/>
              </a:rPr>
              <a:t>расписать- роспись)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(правописание приставок </a:t>
            </a:r>
            <a:r>
              <a:rPr b="0" lang="ru-RU" sz="1800" spc="-1" strike="noStrike">
                <a:solidFill>
                  <a:srgbClr val="feb80a"/>
                </a:solidFill>
                <a:latin typeface="Corbel"/>
              </a:rPr>
              <a:t>расписать- разрисовать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), (чередующиеся гласные </a:t>
            </a:r>
            <a:r>
              <a:rPr b="0" lang="ru-RU" sz="1800" spc="-1" strike="noStrike">
                <a:solidFill>
                  <a:srgbClr val="feb80a"/>
                </a:solidFill>
                <a:latin typeface="Corbel"/>
              </a:rPr>
              <a:t>зор-зар, гор-гар, раст-ращ-рос и т. д.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), ы-и после приставок и др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4305"/>
                </a:solidFill>
                <a:latin typeface="Corbel"/>
              </a:rPr>
              <a:t>Традиционный принцип </a:t>
            </a:r>
            <a:r>
              <a:rPr b="0" lang="ru-RU" sz="2400" spc="-1" strike="noStrike">
                <a:solidFill>
                  <a:srgbClr val="84aa33"/>
                </a:solidFill>
                <a:latin typeface="Corbel"/>
              </a:rPr>
              <a:t>(исторический)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это словарные слова, написание которых нужно запомнит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4305"/>
                </a:solidFill>
                <a:latin typeface="Corbel"/>
              </a:rPr>
              <a:t>Дифференцирующий принцип</a:t>
            </a:r>
            <a:r>
              <a:rPr b="0" lang="ru-RU" sz="2400" spc="-1" strike="noStrike">
                <a:solidFill>
                  <a:srgbClr val="84aa33"/>
                </a:solidFill>
                <a:latin typeface="Corbe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 написания, служащие для различения на письме  слов –омофонов) </a:t>
            </a:r>
            <a:r>
              <a:rPr b="0" lang="ru-RU" sz="1800" spc="-1" strike="noStrike">
                <a:solidFill>
                  <a:srgbClr val="feb80a"/>
                </a:solidFill>
                <a:latin typeface="Corbel"/>
              </a:rPr>
              <a:t>поджег  (глаг.) – поджог (сущ.) компания-кампания и т.д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Прямая соединительная линия 5"/>
          <p:cNvSpPr/>
          <p:nvPr/>
        </p:nvSpPr>
        <p:spPr>
          <a:xfrm>
            <a:off x="1571760" y="2500200"/>
            <a:ext cx="0" cy="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ая соединительная линия 7"/>
          <p:cNvSpPr/>
          <p:nvPr/>
        </p:nvSpPr>
        <p:spPr>
          <a:xfrm flipH="1">
            <a:off x="1642680" y="2428920"/>
            <a:ext cx="71640" cy="1429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9"/>
          <p:cNvSpPr/>
          <p:nvPr/>
        </p:nvSpPr>
        <p:spPr>
          <a:xfrm flipH="1">
            <a:off x="1213920" y="2428920"/>
            <a:ext cx="71640" cy="1429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2" descr=""/>
          <p:cNvPicPr/>
          <p:nvPr/>
        </p:nvPicPr>
        <p:blipFill>
          <a:blip r:embed="rId1"/>
          <a:stretch/>
        </p:blipFill>
        <p:spPr>
          <a:xfrm>
            <a:off x="-317520" y="139680"/>
            <a:ext cx="9010800" cy="1287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/МАК/- /МОК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b80a"/>
                </a:solidFill>
                <a:latin typeface="Corbe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пишется в словах со значением –погрузит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Corbel"/>
              </a:rPr>
              <a:t>О</a:t>
            </a:r>
            <a:r>
              <a:rPr b="1" lang="ru-RU" sz="1800" spc="-1" strike="noStrike">
                <a:solidFill>
                  <a:srgbClr val="feb80a"/>
                </a:solidFill>
                <a:latin typeface="Corbe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о значением пропускать жидкость, мокнуть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2.   /РАВН/ -/ РОВН/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b80a"/>
                </a:solidFill>
                <a:latin typeface="Corbel"/>
              </a:rPr>
              <a:t>А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о значением равный, одинаковый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b80a"/>
                </a:solidFill>
                <a:latin typeface="Corbe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со значением ровный, прямой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Заголовок 2" descr=""/>
          <p:cNvPicPr/>
          <p:nvPr/>
        </p:nvPicPr>
        <p:blipFill>
          <a:blip r:embed="rId1"/>
          <a:stretch/>
        </p:blipFill>
        <p:spPr>
          <a:xfrm>
            <a:off x="-334800" y="268200"/>
            <a:ext cx="9028080" cy="11588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каждом был непром-каемый плащ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егодня вым-кнешь, завтра высохнеш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ужно галушки обм-кнуть в сметан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ломов  взял перо, обм-кнул в чернильницу, но чернил не было. (Гонч.)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Заголовок 2" descr=""/>
          <p:cNvPicPr/>
          <p:nvPr/>
        </p:nvPicPr>
        <p:blipFill>
          <a:blip r:embed="rId1"/>
          <a:stretch/>
        </p:blipFill>
        <p:spPr>
          <a:xfrm>
            <a:off x="-255600" y="195120"/>
            <a:ext cx="8948880" cy="123192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гар-(загар)   искл.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згарь, пригарь, выгарки, зорянка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гор-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твар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зар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зор-(зорька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клан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клон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твар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твор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Прямая соединительная линия 4"/>
          <p:cNvSpPr/>
          <p:nvPr/>
        </p:nvSpPr>
        <p:spPr>
          <a:xfrm flipH="1">
            <a:off x="1356840" y="1499400"/>
            <a:ext cx="142920" cy="716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ая соединительная линия 6"/>
          <p:cNvSpPr/>
          <p:nvPr/>
        </p:nvSpPr>
        <p:spPr>
          <a:xfrm flipH="1">
            <a:off x="2571480" y="1499400"/>
            <a:ext cx="214200" cy="1429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ая соединительная линия 8"/>
          <p:cNvSpPr/>
          <p:nvPr/>
        </p:nvSpPr>
        <p:spPr>
          <a:xfrm flipH="1">
            <a:off x="1356840" y="2928960"/>
            <a:ext cx="142920" cy="712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ая соединительная линия 10"/>
          <p:cNvSpPr/>
          <p:nvPr/>
        </p:nvSpPr>
        <p:spPr>
          <a:xfrm flipH="1">
            <a:off x="2285640" y="2928960"/>
            <a:ext cx="142920" cy="1429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ая соединительная линия 12"/>
          <p:cNvSpPr/>
          <p:nvPr/>
        </p:nvSpPr>
        <p:spPr>
          <a:xfrm flipH="1">
            <a:off x="1642680" y="3786120"/>
            <a:ext cx="71640" cy="1429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ая соединительная линия 14"/>
          <p:cNvSpPr/>
          <p:nvPr/>
        </p:nvSpPr>
        <p:spPr>
          <a:xfrm flipH="1">
            <a:off x="1571760" y="4714920"/>
            <a:ext cx="71280" cy="1429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Заголовок 2" descr=""/>
          <p:cNvPicPr/>
          <p:nvPr/>
        </p:nvPicPr>
        <p:blipFill>
          <a:blip r:embed="rId1"/>
          <a:stretch/>
        </p:blipFill>
        <p:spPr>
          <a:xfrm>
            <a:off x="-244440" y="244440"/>
            <a:ext cx="9150480" cy="11826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0" y="1643040"/>
            <a:ext cx="8229600" cy="45259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 fontScale="69000"/>
          </a:bodyPr>
          <a:p>
            <a:pPr marL="251640" indent="-1947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Б  </a:t>
            </a:r>
            <a:r>
              <a:rPr b="0" lang="ru-RU" sz="3000" spc="-1" strike="noStrike">
                <a:solidFill>
                  <a:srgbClr val="feb80a"/>
                </a:solidFill>
                <a:latin typeface="Corbel"/>
              </a:rPr>
              <a:t>и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р                                             -бер-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51640" indent="-1947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Д </a:t>
            </a:r>
            <a:r>
              <a:rPr b="0" lang="ru-RU" sz="3000" spc="-1" strike="noStrike">
                <a:solidFill>
                  <a:srgbClr val="feb80a"/>
                </a:solidFill>
                <a:latin typeface="Corbel"/>
              </a:rPr>
              <a:t>и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р                                              -дер-                                    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51640" indent="-1947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М </a:t>
            </a:r>
            <a:r>
              <a:rPr b="0" lang="ru-RU" sz="3000" spc="-1" strike="noStrike">
                <a:solidFill>
                  <a:srgbClr val="feb80a"/>
                </a:solidFill>
                <a:latin typeface="Corbel"/>
              </a:rPr>
              <a:t>и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р                                              -мер-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51640" indent="-1947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 </a:t>
            </a:r>
            <a:r>
              <a:rPr b="0" lang="ru-RU" sz="3000" spc="-1" strike="noStrike">
                <a:solidFill>
                  <a:srgbClr val="feb80a"/>
                </a:solidFill>
                <a:latin typeface="Corbel"/>
              </a:rPr>
              <a:t>и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р                                              -пер-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51640" indent="-1947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Т </a:t>
            </a:r>
            <a:r>
              <a:rPr b="0" lang="ru-RU" sz="3000" spc="-1" strike="noStrike">
                <a:solidFill>
                  <a:srgbClr val="feb80a"/>
                </a:solidFill>
                <a:latin typeface="Corbel"/>
              </a:rPr>
              <a:t>и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р                                               -тер-                                                      </a:t>
            </a:r>
            <a:r>
              <a:rPr b="0" lang="ru-RU" sz="3000" spc="-1" strike="noStrike">
                <a:solidFill>
                  <a:srgbClr val="feb80a"/>
                </a:solidFill>
                <a:latin typeface="Corbe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51640" indent="-1947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Ч </a:t>
            </a:r>
            <a:r>
              <a:rPr b="0" lang="ru-RU" sz="3000" spc="-1" strike="noStrike">
                <a:solidFill>
                  <a:srgbClr val="feb80a"/>
                </a:solidFill>
                <a:latin typeface="Corbel"/>
              </a:rPr>
              <a:t>и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т                                               -чет-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51640" indent="-1947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Бл </a:t>
            </a:r>
            <a:r>
              <a:rPr b="0" lang="ru-RU" sz="3000" spc="-1" strike="noStrike">
                <a:solidFill>
                  <a:srgbClr val="feb80a"/>
                </a:solidFill>
                <a:latin typeface="Corbel"/>
              </a:rPr>
              <a:t>и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т                                           -блест-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51640" indent="-1947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Ж </a:t>
            </a:r>
            <a:r>
              <a:rPr b="0" lang="ru-RU" sz="3000" spc="-1" strike="noStrike">
                <a:solidFill>
                  <a:srgbClr val="feb80a"/>
                </a:solidFill>
                <a:latin typeface="Corbel"/>
              </a:rPr>
              <a:t>и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г                                              -жег-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51640" indent="-1947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т </a:t>
            </a:r>
            <a:r>
              <a:rPr b="0" lang="ru-RU" sz="3000" spc="-1" strike="noStrike">
                <a:solidFill>
                  <a:srgbClr val="feb80a"/>
                </a:solidFill>
                <a:latin typeface="Corbel"/>
              </a:rPr>
              <a:t>и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л                                             -стел -      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Правая фигурная скобка 33"/>
          <p:cNvSpPr/>
          <p:nvPr/>
        </p:nvSpPr>
        <p:spPr>
          <a:xfrm>
            <a:off x="1857240" y="1785960"/>
            <a:ext cx="2500560" cy="4000320"/>
          </a:xfrm>
          <a:custGeom>
            <a:avLst/>
            <a:gdLst>
              <a:gd name="textAreaLeft" fmla="*/ 0 w 2500560"/>
              <a:gd name="textAreaRight" fmla="*/ 902880 w 2500560"/>
              <a:gd name="textAreaTop" fmla="*/ 65160 h 4000320"/>
              <a:gd name="textAreaBottom" fmla="*/ 3935160 h 4000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63"/>
                  <a:pt x="10800" y="1125"/>
                </a:cubicBezTo>
                <a:lnTo>
                  <a:pt x="10800" y="9675"/>
                </a:lnTo>
                <a:cubicBezTo>
                  <a:pt x="10800" y="10238"/>
                  <a:pt x="16200" y="10800"/>
                  <a:pt x="21600" y="10800"/>
                </a:cubicBezTo>
                <a:cubicBezTo>
                  <a:pt x="16200" y="10800"/>
                  <a:pt x="10800" y="11363"/>
                  <a:pt x="10800" y="11925"/>
                </a:cubicBezTo>
                <a:lnTo>
                  <a:pt x="10800" y="20475"/>
                </a:lnTo>
                <a:cubicBezTo>
                  <a:pt x="10800" y="2103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Прямоугольник 35" descr=""/>
          <p:cNvPicPr/>
          <p:nvPr/>
        </p:nvPicPr>
        <p:blipFill>
          <a:blip r:embed="rId2"/>
          <a:stretch/>
        </p:blipFill>
        <p:spPr>
          <a:xfrm>
            <a:off x="3425760" y="2610000"/>
            <a:ext cx="2292480" cy="1985760"/>
          </a:xfrm>
          <a:prstGeom prst="rect">
            <a:avLst/>
          </a:prstGeom>
          <a:ln w="0">
            <a:noFill/>
          </a:ln>
        </p:spPr>
      </p:pic>
      <p:sp>
        <p:nvSpPr>
          <p:cNvPr id="348" name="Прямая соединительная линия 37"/>
          <p:cNvSpPr/>
          <p:nvPr/>
        </p:nvSpPr>
        <p:spPr>
          <a:xfrm flipV="1">
            <a:off x="4143240" y="2857320"/>
            <a:ext cx="285840" cy="5713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ая соединительная линия 39"/>
          <p:cNvSpPr/>
          <p:nvPr/>
        </p:nvSpPr>
        <p:spPr>
          <a:xfrm>
            <a:off x="4428360" y="2857680"/>
            <a:ext cx="428760" cy="5713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Заголовок 2" descr=""/>
          <p:cNvPicPr/>
          <p:nvPr/>
        </p:nvPicPr>
        <p:blipFill>
          <a:blip r:embed="rId1"/>
          <a:stretch/>
        </p:blipFill>
        <p:spPr>
          <a:xfrm>
            <a:off x="1434960" y="338040"/>
            <a:ext cx="7499520" cy="101592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др</a:t>
            </a:r>
            <a:r>
              <a:rPr b="1" lang="ru-RU" sz="3000" spc="-1" strike="noStrike">
                <a:solidFill>
                  <a:srgbClr val="feb80a"/>
                </a:solidFill>
                <a:latin typeface="Corbel"/>
              </a:rPr>
              <a:t>о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ж-, -др</a:t>
            </a:r>
            <a:r>
              <a:rPr b="1" lang="ru-RU" sz="3000" spc="-1" strike="noStrike">
                <a:solidFill>
                  <a:srgbClr val="feb80a"/>
                </a:solidFill>
                <a:latin typeface="Corbel"/>
              </a:rPr>
              <a:t>а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г-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дрожь, вздрогнуть, вздрагиват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-др</a:t>
            </a:r>
            <a:r>
              <a:rPr b="1" lang="ru-RU" sz="3000" spc="-1" strike="noStrike">
                <a:solidFill>
                  <a:srgbClr val="feb80a"/>
                </a:solidFill>
                <a:latin typeface="Corbel"/>
              </a:rPr>
              <a:t>а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ж-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раздр</a:t>
            </a:r>
            <a:r>
              <a:rPr b="0" lang="ru-RU" sz="3000" spc="-1" strike="noStrike">
                <a:solidFill>
                  <a:srgbClr val="feb80a"/>
                </a:solidFill>
                <a:latin typeface="Corbel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жение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-др</a:t>
            </a:r>
            <a:r>
              <a:rPr b="1" lang="ru-RU" sz="3000" spc="-1" strike="noStrike">
                <a:solidFill>
                  <a:srgbClr val="feb80a"/>
                </a:solidFill>
                <a:latin typeface="Corbel"/>
              </a:rPr>
              <a:t>а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з-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дразнилки, передразниват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-г</a:t>
            </a:r>
            <a:r>
              <a:rPr b="1" lang="ru-RU" sz="3000" spc="-1" strike="noStrike">
                <a:solidFill>
                  <a:srgbClr val="feb80a"/>
                </a:solidFill>
                <a:latin typeface="Corbel"/>
              </a:rPr>
              <a:t>а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д- 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заг</a:t>
            </a:r>
            <a:r>
              <a:rPr b="0" lang="ru-RU" sz="3000" spc="-1" strike="noStrike">
                <a:solidFill>
                  <a:srgbClr val="feb80a"/>
                </a:solidFill>
                <a:latin typeface="Corbel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дка, г</a:t>
            </a:r>
            <a:r>
              <a:rPr b="0" lang="ru-RU" sz="3000" spc="-1" strike="noStrike">
                <a:solidFill>
                  <a:srgbClr val="feb80a"/>
                </a:solidFill>
                <a:latin typeface="Corbel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дание, пог</a:t>
            </a:r>
            <a:r>
              <a:rPr b="0" lang="ru-RU" sz="3000" spc="-1" strike="noStrike">
                <a:solidFill>
                  <a:srgbClr val="feb80a"/>
                </a:solidFill>
                <a:latin typeface="Corbel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дать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…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-г</a:t>
            </a:r>
            <a:r>
              <a:rPr b="1" lang="ru-RU" sz="3000" spc="-1" strike="noStrike">
                <a:solidFill>
                  <a:srgbClr val="feb80a"/>
                </a:solidFill>
                <a:latin typeface="Corbel"/>
              </a:rPr>
              <a:t>о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д-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г</a:t>
            </a:r>
            <a:r>
              <a:rPr b="0" lang="ru-RU" sz="3000" spc="-1" strike="noStrike">
                <a:solidFill>
                  <a:srgbClr val="feb80a"/>
                </a:solidFill>
                <a:latin typeface="Corbel"/>
              </a:rPr>
              <a:t>о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ден, г</a:t>
            </a:r>
            <a:r>
              <a:rPr b="0" lang="ru-RU" sz="3000" spc="-1" strike="noStrike">
                <a:solidFill>
                  <a:srgbClr val="feb80a"/>
                </a:solidFill>
                <a:latin typeface="Corbel"/>
              </a:rPr>
              <a:t>о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диться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д</a:t>
            </a:r>
            <a:r>
              <a:rPr b="1" lang="ru-RU" sz="3000" spc="-1" strike="noStrike">
                <a:solidFill>
                  <a:srgbClr val="feb80a"/>
                </a:solidFill>
                <a:latin typeface="Corbel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- д</a:t>
            </a:r>
            <a:r>
              <a:rPr b="0" lang="ru-RU" sz="3000" spc="-1" strike="noStrike">
                <a:solidFill>
                  <a:srgbClr val="feb80a"/>
                </a:solidFill>
                <a:latin typeface="Corbel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ть, под</a:t>
            </a:r>
            <a:r>
              <a:rPr b="0" lang="ru-RU" sz="3000" spc="-1" strike="noStrike">
                <a:solidFill>
                  <a:srgbClr val="feb80a"/>
                </a:solidFill>
                <a:latin typeface="Corbel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ть, под</a:t>
            </a:r>
            <a:r>
              <a:rPr b="0" lang="ru-RU" sz="3000" spc="-1" strike="noStrike">
                <a:solidFill>
                  <a:srgbClr val="feb80a"/>
                </a:solidFill>
                <a:latin typeface="Corbel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яние, препод</a:t>
            </a:r>
            <a:r>
              <a:rPr b="0" lang="ru-RU" sz="3000" spc="-1" strike="noStrike">
                <a:solidFill>
                  <a:srgbClr val="feb80a"/>
                </a:solidFill>
                <a:latin typeface="Corbel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т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д</a:t>
            </a:r>
            <a:r>
              <a:rPr b="1" lang="ru-RU" sz="3000" spc="-1" strike="noStrike">
                <a:solidFill>
                  <a:srgbClr val="feb80a"/>
                </a:solidFill>
                <a:latin typeface="Corbel"/>
              </a:rPr>
              <a:t>о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л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- д</a:t>
            </a:r>
            <a:r>
              <a:rPr b="0" lang="ru-RU" sz="3000" spc="-1" strike="noStrike">
                <a:solidFill>
                  <a:srgbClr val="feb80a"/>
                </a:solidFill>
                <a:latin typeface="Corbel"/>
              </a:rPr>
              <a:t>о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лина (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низкое место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), преодоление, под</a:t>
            </a:r>
            <a:r>
              <a:rPr b="0" lang="ru-RU" sz="2200" spc="-1" strike="noStrike">
                <a:solidFill>
                  <a:srgbClr val="feb80a"/>
                </a:solidFill>
                <a:latin typeface="Corbel"/>
              </a:rPr>
              <a:t>о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л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д</a:t>
            </a:r>
            <a:r>
              <a:rPr b="1" lang="ru-RU" sz="2200" spc="-1" strike="noStrike">
                <a:solidFill>
                  <a:srgbClr val="feb80a"/>
                </a:solidFill>
                <a:latin typeface="Corbel"/>
              </a:rPr>
              <a:t>а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л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ь- д</a:t>
            </a:r>
            <a:r>
              <a:rPr b="0" lang="ru-RU" sz="2200" spc="-1" strike="noStrike">
                <a:solidFill>
                  <a:srgbClr val="feb80a"/>
                </a:solidFill>
                <a:latin typeface="Corbe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лекий, д</a:t>
            </a:r>
            <a:r>
              <a:rPr b="0" lang="ru-RU" sz="2200" spc="-1" strike="noStrike">
                <a:solidFill>
                  <a:srgbClr val="feb80a"/>
                </a:solidFill>
                <a:latin typeface="Corbe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ль,  вд</a:t>
            </a:r>
            <a:r>
              <a:rPr b="0" lang="ru-RU" sz="2200" spc="-1" strike="noStrike">
                <a:solidFill>
                  <a:srgbClr val="feb80a"/>
                </a:solidFill>
                <a:latin typeface="Corbe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ли, д</a:t>
            </a:r>
            <a:r>
              <a:rPr b="0" lang="ru-RU" sz="2200" spc="-1" strike="noStrike">
                <a:solidFill>
                  <a:srgbClr val="feb80a"/>
                </a:solidFill>
                <a:latin typeface="Corbe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леко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Заголовок 2" descr=""/>
          <p:cNvPicPr/>
          <p:nvPr/>
        </p:nvPicPr>
        <p:blipFill>
          <a:blip r:embed="rId1"/>
          <a:stretch/>
        </p:blipFill>
        <p:spPr>
          <a:xfrm>
            <a:off x="195120" y="146160"/>
            <a:ext cx="8624880" cy="12808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/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раст/-/ращ/-/рос/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Искл.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тр</a:t>
            </a:r>
            <a:r>
              <a:rPr b="0" lang="ru-RU" sz="2400" spc="-1" strike="noStrike">
                <a:solidFill>
                  <a:srgbClr val="feb80a"/>
                </a:solidFill>
                <a:latin typeface="Corbe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ль, р</a:t>
            </a:r>
            <a:r>
              <a:rPr b="0" lang="ru-RU" sz="2400" spc="-1" strike="noStrike">
                <a:solidFill>
                  <a:srgbClr val="feb80a"/>
                </a:solidFill>
                <a:latin typeface="Corbe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ток, Р</a:t>
            </a:r>
            <a:r>
              <a:rPr b="0" lang="ru-RU" sz="2400" spc="-1" strike="noStrike">
                <a:solidFill>
                  <a:srgbClr val="feb80a"/>
                </a:solidFill>
                <a:latin typeface="Corbe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тов, р</a:t>
            </a:r>
            <a:r>
              <a:rPr b="0" lang="ru-RU" sz="2400" spc="-1" strike="noStrike">
                <a:solidFill>
                  <a:srgbClr val="feb80a"/>
                </a:solidFill>
                <a:latin typeface="Corbe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товщик, подр</a:t>
            </a:r>
            <a:r>
              <a:rPr b="0" lang="ru-RU" sz="2400" spc="-1" strike="noStrike">
                <a:solidFill>
                  <a:srgbClr val="feb80a"/>
                </a:solidFill>
                <a:latin typeface="Corbe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тковый, Р</a:t>
            </a:r>
            <a:r>
              <a:rPr b="0" lang="ru-RU" sz="2400" spc="-1" strike="noStrike">
                <a:solidFill>
                  <a:srgbClr val="feb80a"/>
                </a:solidFill>
                <a:latin typeface="Corbe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тислав, р</a:t>
            </a:r>
            <a:r>
              <a:rPr b="0" lang="ru-RU" sz="2400" spc="-1" strike="noStrike">
                <a:solidFill>
                  <a:srgbClr val="feb80a"/>
                </a:solidFill>
                <a:latin typeface="Corbe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точек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ыр-стить, взр-стить, подр-сток, выр-щенный,нар-стание, нар-ст, перер-сти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р-стовщик,  Р-стисла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WordArt 4"/>
          <p:cNvSpPr txBox="1"/>
          <p:nvPr/>
        </p:nvSpPr>
        <p:spPr>
          <a:xfrm>
            <a:off x="1219320" y="380880"/>
            <a:ext cx="7086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различай:</a:t>
            </a:r>
            <a:endParaRPr b="1" lang="en-US" sz="1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2821320" y="2056680"/>
            <a:ext cx="3158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99"/>
                </a:solidFill>
                <a:latin typeface="Georgia"/>
              </a:rPr>
              <a:t>возраст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99"/>
                </a:solidFill>
                <a:latin typeface="Georgia"/>
              </a:rPr>
              <a:t>растая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99"/>
                </a:solidFill>
                <a:latin typeface="Georgia"/>
              </a:rPr>
              <a:t>роси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rc 6"/>
          <p:cNvSpPr/>
          <p:nvPr/>
        </p:nvSpPr>
        <p:spPr>
          <a:xfrm flipH="1" rot="3057000">
            <a:off x="3909960" y="1956960"/>
            <a:ext cx="1036800" cy="1084680"/>
          </a:xfrm>
          <a:custGeom>
            <a:avLst/>
            <a:gdLst>
              <a:gd name="textAreaLeft" fmla="*/ 360 w 1036800"/>
              <a:gd name="textAreaRight" fmla="*/ 1037520 w 1036800"/>
              <a:gd name="textAreaTop" fmla="*/ 0 h 1084680"/>
              <a:gd name="textAreaBottom" fmla="*/ 1085040 h 1084680"/>
            </a:gdLst>
            <a:ahLst/>
            <a:rect l="textAreaLeft" t="textAreaTop" r="textAreaRight" b="textAreaBottom"/>
            <a:pathLst>
              <a:path fill="none" w="20995" h="20482">
                <a:moveTo>
                  <a:pt x="6859" y="0"/>
                </a:moveTo>
                <a:cubicBezTo>
                  <a:pt x="13909" y="2361"/>
                  <a:pt x="19249" y="8181"/>
                  <a:pt x="20995" y="15407"/>
                </a:cubicBezTo>
              </a:path>
              <a:path stroke="0" w="20995" h="20482">
                <a:moveTo>
                  <a:pt x="6859" y="0"/>
                </a:moveTo>
                <a:cubicBezTo>
                  <a:pt x="13909" y="2361"/>
                  <a:pt x="19249" y="8181"/>
                  <a:pt x="20995" y="15407"/>
                </a:cubicBezTo>
                <a:lnTo>
                  <a:pt x="0" y="20482"/>
                </a:lnTo>
                <a:close/>
              </a:path>
            </a:pathLst>
          </a:custGeom>
          <a:noFill/>
          <a:ln w="572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4114800" y="1676520"/>
            <a:ext cx="45720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Arial"/>
              </a:rPr>
              <a:t>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4040280" y="2057400"/>
            <a:ext cx="48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b80a"/>
                </a:solidFill>
                <a:latin typeface="Georgia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9"/>
          <p:cNvSpPr/>
          <p:nvPr/>
        </p:nvSpPr>
        <p:spPr>
          <a:xfrm>
            <a:off x="4114800" y="26668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0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1"/>
          <p:cNvSpPr/>
          <p:nvPr/>
        </p:nvSpPr>
        <p:spPr>
          <a:xfrm>
            <a:off x="4419720" y="289548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rc 12"/>
          <p:cNvSpPr/>
          <p:nvPr/>
        </p:nvSpPr>
        <p:spPr>
          <a:xfrm flipH="1" rot="3057000">
            <a:off x="3850560" y="3310920"/>
            <a:ext cx="1025640" cy="1108080"/>
          </a:xfrm>
          <a:custGeom>
            <a:avLst/>
            <a:gdLst>
              <a:gd name="textAreaLeft" fmla="*/ -360 w 1025640"/>
              <a:gd name="textAreaRight" fmla="*/ 1025640 w 1025640"/>
              <a:gd name="textAreaTop" fmla="*/ 0 h 1108080"/>
              <a:gd name="textAreaBottom" fmla="*/ 1108440 h 1108080"/>
            </a:gdLst>
            <a:ahLst/>
            <a:rect l="textAreaLeft" t="textAreaTop" r="textAreaRight" b="textAreaBottom"/>
            <a:pathLst>
              <a:path fill="none" w="18906" h="18640">
                <a:moveTo>
                  <a:pt x="10913" y="0"/>
                </a:moveTo>
                <a:cubicBezTo>
                  <a:pt x="14266" y="1962"/>
                  <a:pt x="17026" y="4793"/>
                  <a:pt x="18905" y="8193"/>
                </a:cubicBezTo>
              </a:path>
              <a:path stroke="0" w="18906" h="18640">
                <a:moveTo>
                  <a:pt x="10913" y="0"/>
                </a:moveTo>
                <a:cubicBezTo>
                  <a:pt x="14266" y="1962"/>
                  <a:pt x="17026" y="4793"/>
                  <a:pt x="18905" y="8193"/>
                </a:cubicBezTo>
                <a:lnTo>
                  <a:pt x="0" y="18640"/>
                </a:lnTo>
                <a:close/>
              </a:path>
            </a:pathLst>
          </a:custGeom>
          <a:noFill/>
          <a:ln w="572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3"/>
          <p:cNvSpPr/>
          <p:nvPr/>
        </p:nvSpPr>
        <p:spPr>
          <a:xfrm>
            <a:off x="3200400" y="335268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5"/>
          <p:cNvSpPr/>
          <p:nvPr/>
        </p:nvSpPr>
        <p:spPr>
          <a:xfrm>
            <a:off x="4038480" y="335268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3737160" y="3276720"/>
            <a:ext cx="4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b80a"/>
                </a:solidFill>
                <a:latin typeface="Georgia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7"/>
          <p:cNvSpPr/>
          <p:nvPr/>
        </p:nvSpPr>
        <p:spPr>
          <a:xfrm>
            <a:off x="3809880" y="3886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8"/>
          <p:cNvSpPr/>
          <p:nvPr/>
        </p:nvSpPr>
        <p:spPr>
          <a:xfrm>
            <a:off x="4038480" y="396252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9"/>
          <p:cNvSpPr/>
          <p:nvPr/>
        </p:nvSpPr>
        <p:spPr>
          <a:xfrm>
            <a:off x="4038480" y="40384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rc 21"/>
          <p:cNvSpPr/>
          <p:nvPr/>
        </p:nvSpPr>
        <p:spPr>
          <a:xfrm flipH="1" rot="3057000">
            <a:off x="3147120" y="4395240"/>
            <a:ext cx="1036440" cy="1084320"/>
          </a:xfrm>
          <a:custGeom>
            <a:avLst/>
            <a:gdLst>
              <a:gd name="textAreaLeft" fmla="*/ -360 w 1036440"/>
              <a:gd name="textAreaRight" fmla="*/ 1036440 w 1036440"/>
              <a:gd name="textAreaTop" fmla="*/ 0 h 1084320"/>
              <a:gd name="textAreaBottom" fmla="*/ 1084680 h 1084320"/>
            </a:gdLst>
            <a:ahLst/>
            <a:rect l="textAreaLeft" t="textAreaTop" r="textAreaRight" b="textAreaBottom"/>
            <a:pathLst>
              <a:path fill="none" w="20995" h="20482">
                <a:moveTo>
                  <a:pt x="6859" y="0"/>
                </a:moveTo>
                <a:cubicBezTo>
                  <a:pt x="13909" y="2361"/>
                  <a:pt x="19249" y="8181"/>
                  <a:pt x="20995" y="15407"/>
                </a:cubicBezTo>
              </a:path>
              <a:path stroke="0" w="20995" h="20482">
                <a:moveTo>
                  <a:pt x="6859" y="0"/>
                </a:moveTo>
                <a:cubicBezTo>
                  <a:pt x="13909" y="2361"/>
                  <a:pt x="19249" y="8181"/>
                  <a:pt x="20995" y="15407"/>
                </a:cubicBezTo>
                <a:lnTo>
                  <a:pt x="0" y="20482"/>
                </a:lnTo>
                <a:close/>
              </a:path>
            </a:pathLst>
          </a:custGeom>
          <a:noFill/>
          <a:ln w="572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2"/>
          <p:cNvSpPr/>
          <p:nvPr/>
        </p:nvSpPr>
        <p:spPr>
          <a:xfrm>
            <a:off x="3512520" y="4495680"/>
            <a:ext cx="49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b80a"/>
                </a:solidFill>
                <a:latin typeface="Georgia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3"/>
          <p:cNvSpPr/>
          <p:nvPr/>
        </p:nvSpPr>
        <p:spPr>
          <a:xfrm>
            <a:off x="3581280" y="510552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4"/>
          <p:cNvSpPr/>
          <p:nvPr/>
        </p:nvSpPr>
        <p:spPr>
          <a:xfrm>
            <a:off x="5666760" y="4572000"/>
            <a:ext cx="16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Georgia"/>
              </a:rPr>
              <a:t>(рос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16:48:09Z</dcterms:created>
  <dc:creator>Атаманов Дмитрий</dc:creator>
  <dc:description/>
  <dc:language>en-US</dc:language>
  <cp:lastModifiedBy>Пользователь</cp:lastModifiedBy>
  <dcterms:modified xsi:type="dcterms:W3CDTF">2018-11-27T13:55:59Z</dcterms:modified>
  <cp:revision>54</cp:revision>
  <dc:subject/>
  <dc:title>Тема: Орфограмма в корне (обобщение)</dc:title>
</cp:coreProperties>
</file>