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1715-9382-41E1-8CC8-B4F173EF07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B774-29F1-4CEF-9744-74F18568CA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E8EA-F9B7-467D-82EE-F431F30983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1CA-B405-4AF0-AC7A-BDA5C5A9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8A9-6EAA-44CC-BF68-FA6FCEAA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AAA-2A60-4A91-9509-40154E0D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546-72EE-4F20-9677-5F1FF39F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661A-54DE-4F78-927D-BCEFE065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AEEB-5BFF-44AE-9D18-599FE826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7A2F-EE29-4D63-BBF9-C6BA533F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7F2F-7F2F-4E36-85FC-73486742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9D26-AEA5-4C07-8BAD-482248DF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B292-A2CF-45D2-80E9-CACD3459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6CF1-8593-43A3-BF12-FEAAE74D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186-765F-45D0-AA50-9B1818BD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D3FA-C25A-4BBE-A36A-81092B59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FF92-AC2D-430A-B969-55DE8F0A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EF5D-931B-4312-B86C-75F13640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89C2-1A73-4509-881D-570CE071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5D96-0DB7-41D2-AD00-85DA6EB9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55E55-ABAC-4378-8A9B-41DB43BD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CE6BD-41BE-4521-A2F5-DE5ECADC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17A37-480A-4F35-8CC8-080A9354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39CE4-0616-470F-8400-6D07EF4D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0F259-2753-4496-BDAA-F21E6075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120-D7C5-4EF9-A0DB-11F04531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DBB9E-5133-4B46-B862-FAA7ABA3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5DF2E-3226-465C-AC9B-7A3CEC1B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72197-6F4B-440F-A07F-13604151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E6D75-9034-4727-9B60-3A4B5666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A8895-16D0-47CF-ACCB-F82B7E3F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2C00C-19D7-41BC-B49D-2F5FAB0B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B3B03-1138-4835-9AD9-ED8D2DF8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15138-FF88-4173-85EC-AC75D3DC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431D4-7947-4CBE-A5A9-5942A01D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98D6D-4DC0-4E8E-A133-18E849EF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6BC-F5A9-4F53-BE2A-D4024790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44905-D568-499A-87F7-19388692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A7794-AF63-4C6D-B7F4-D28DD8BA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8748B-11AC-418B-9468-808A3A02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B7251-8371-49C3-B69C-C019B81E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D4CE8-32F1-446C-ADBC-652B68C7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1C916-42F7-4A96-8F66-EA641ADE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48862-12BF-47AF-861B-911AFDE7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13EA2-B8FF-4360-81B6-4FAF03B5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969B-E7CA-4480-82C0-BCCC133A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E823E-C13B-4EF5-ABC8-18C19509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9E3-B449-4AD6-8646-831100CB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A3A87-34FB-4F95-91D0-A6E408AB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68C94-9234-4C4C-B057-C1482EA3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43A11-647E-423C-9A0E-FDC380BE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57B1D-73EB-4F19-B884-A88CC307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54350-C989-4445-BA60-E7B0BA08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2BD51-9E5D-4FBB-AE44-56F116CF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2E8C3-BFC3-474A-8139-F8185A1E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AAAF0-473D-42BA-B35E-147A4A88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FF7D7-3D9D-4AD7-A209-215E9583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F2A1E-AA90-41BE-8D93-D8910951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A6E-0407-4445-B257-0DF6BD6D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7BE50-9C27-4FE9-BCCD-39C1C101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DAA92-A82F-4104-B1EA-23DEF0E3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52F44-55B4-413C-921E-FBB236AE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03239-305C-4A38-B5A5-4101F5CB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27898-713E-49A9-AE06-46A7297B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E637C-4B15-42B0-BE66-060FDF48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43FFC-8EDF-4BD7-9AAF-C9C24256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B764B-0F0A-459E-9DC9-46703E76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252B8-1564-45B7-B115-5FBB8C05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5FBD1-B05B-40D1-99C2-8EBB53E5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A6C-FC7C-45E3-A270-5454770F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96AC7-39EE-44E3-81B7-42BC66DC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0CC9E-38C5-4397-B35F-A1476218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C9D75-E2E3-49D3-A300-E6168F9A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866A9-419A-4189-A99E-5ADCA570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7136F-0CED-4099-B4D1-0310F154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1E68D-61CC-44DC-942D-805C23A5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6735B-CF00-437B-8DBF-7D53738F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A97C2-E893-4BF1-B0AC-C6C6E283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53C0D-9796-43AD-BDCE-E9FC9718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5760B-E40F-473D-A825-B1E59E04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8BE4-989F-44DE-8ADB-DB165F65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E35E2-6742-496E-8749-180B631B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9AA08-2C3D-4C7B-AC42-8A2614AF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DB126-D955-43D5-ABA9-F83DE132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0CB8F-47FD-49D8-923D-58D227FE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BB054-DCFA-41BA-9659-269D2B98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AC5-0F24-4357-9FB5-F99C63F2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BF4A-B56B-4087-A375-21581056686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65E4-E5EE-4B9C-A2F0-CC4BC5D52DD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7C29-E5BC-4DB4-9926-FB05EFD5AB7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BA2C-1827-4C36-A2D4-668CC4C8492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C443-7564-4F21-9C37-8A9E6CE2B7D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4306-A454-407E-8A6F-02CF02A0825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36EA-CD19-4955-8B6C-2217B6B4925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714680" y="3143160"/>
            <a:ext cx="6400800" cy="244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"/>
              </a:rPr>
              <a:t>ОРФОГРАФ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"/>
              </a:rPr>
              <a:t>Гласные в КОРНЕ сло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"/>
              </a:rPr>
              <a:t>(повторение – обобщ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-334800" y="268200"/>
            <a:ext cx="9028080" cy="11588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наете ли вы , какое насл-ждение выехать весной до з-ри? На темно-синем  небе кое-где мелькают звезды; влажный в- терок изр-дка  наб-гает легкой дымкой. Вот кл-дут ковер на телегу, ставят на ноги ящик с самоваром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3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то , кроме охотника,  испытал как отрадно бр-дить на з-ре  по кустам. З-леной  ч-ртой  л-житься след ваших нок по р-систой, поб-левшей тр-ве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3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 то в-лишь  зал-жить б-говые дрожки и поедешь в лес за рябчиками. Вес-ло проб-раться по узкой д-рожке…     ( по И. С. Тургеневу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авописание гласных в корне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ренировочные задания по теме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каком ряду во всех словах пишется  проверяемая безударная гласная в корне слов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. нагр-вать, стр-мление, соч-тающ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. под-рить, хв-стун, просл-вля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3. переб-решь, к-варный, ст-ро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4. об-яние, прк-снуться, л-скающ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1434960" y="338040"/>
            <a:ext cx="7499520" cy="10159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каком ряду во всех словах чередующиеся гласны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б-руться, заг-релый, оз-ренны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-туация, эп-демия, ок-заться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т-рона, бл-гословение, осм-леть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-чать, фр-зеология, эл-мен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 1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авописание гласных в корне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509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 каком ряду пропущены непроверяемые гласные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м-лчаливый, согр-вать, оз-рять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зб-гающий, л-рический, зак-номерный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пр-делить, ч-ловечество, уб-диться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см-леть, ср-жение, к-мпромисс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7400" indent="-50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(3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авописание гласных в корне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каком ряду во всех словах пропущена одна и та же бук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-мерсант, з-ря, раск-ли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-кумент, акв-рель, г-рячн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-ф-рендум, п-риоди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-номен, п-гмент, сож-ле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 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-341280" y="-66600"/>
            <a:ext cx="9240840" cy="1773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rbel"/>
              </a:rPr>
              <a:t>Принципы русской орфограф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rbel"/>
              </a:rPr>
              <a:t>Морфологический принцип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Все значимые части слова (морфемы) пишутся так, как произносятся в сильной пози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b80a"/>
                </a:solidFill>
                <a:latin typeface="Corbel"/>
              </a:rPr>
              <a:t>В</a:t>
            </a:r>
            <a:r>
              <a:rPr b="0" lang="ru-RU" sz="1800" spc="-1" strike="noStrike" u="sng">
                <a:solidFill>
                  <a:srgbClr val="feb80a"/>
                </a:solidFill>
                <a:uFillTx/>
                <a:latin typeface="Corbel"/>
              </a:rPr>
              <a:t>о</a:t>
            </a:r>
            <a:r>
              <a:rPr b="0" lang="ru-RU" sz="1800" spc="-1" strike="noStrike">
                <a:solidFill>
                  <a:srgbClr val="feb80a"/>
                </a:solidFill>
                <a:latin typeface="Corbel"/>
              </a:rPr>
              <a:t>да- вод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4305"/>
                </a:solidFill>
                <a:latin typeface="Corbel"/>
              </a:rPr>
              <a:t>фонетический принцип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аписания в соответствии с произношением:  </a:t>
            </a:r>
            <a:r>
              <a:rPr b="0" lang="ru-RU" sz="1800" spc="-1" strike="noStrike">
                <a:solidFill>
                  <a:srgbClr val="feb80a"/>
                </a:solidFill>
                <a:latin typeface="Corbel"/>
              </a:rPr>
              <a:t>расписать- роспись)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(правописание приставок </a:t>
            </a:r>
            <a:r>
              <a:rPr b="0" lang="ru-RU" sz="1800" spc="-1" strike="noStrike">
                <a:solidFill>
                  <a:srgbClr val="feb80a"/>
                </a:solidFill>
                <a:latin typeface="Corbel"/>
              </a:rPr>
              <a:t>расписать- разрисоват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, (чередующиеся гласные </a:t>
            </a:r>
            <a:r>
              <a:rPr b="0" lang="ru-RU" sz="1800" spc="-1" strike="noStrike">
                <a:solidFill>
                  <a:srgbClr val="feb80a"/>
                </a:solidFill>
                <a:latin typeface="Corbel"/>
              </a:rPr>
              <a:t>зор-зар, гор-гар, раст-ращ-рос и т. д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, ы-и после приставок и др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4305"/>
                </a:solidFill>
                <a:latin typeface="Corbel"/>
              </a:rPr>
              <a:t>Традиционный принцип </a:t>
            </a:r>
            <a:r>
              <a:rPr b="0" lang="ru-RU" sz="2400" spc="-1" strike="noStrike">
                <a:solidFill>
                  <a:srgbClr val="84aa33"/>
                </a:solidFill>
                <a:latin typeface="Corbel"/>
              </a:rPr>
              <a:t>(исторический)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то словарные слова, написание которых нужно запомни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4305"/>
                </a:solidFill>
                <a:latin typeface="Corbel"/>
              </a:rPr>
              <a:t>Дифференцирующий принцип</a:t>
            </a:r>
            <a:r>
              <a:rPr b="0" lang="ru-RU" sz="2400" spc="-1" strike="noStrike">
                <a:solidFill>
                  <a:srgbClr val="84aa33"/>
                </a:solidFill>
                <a:latin typeface="Corbe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 написания, служащие для различения на письме  слов –омофонов) </a:t>
            </a:r>
            <a:r>
              <a:rPr b="0" lang="ru-RU" sz="1800" spc="-1" strike="noStrike">
                <a:solidFill>
                  <a:srgbClr val="feb80a"/>
                </a:solidFill>
                <a:latin typeface="Corbel"/>
              </a:rPr>
              <a:t>поджег  (глаг.) – поджог (сущ.) компания-кампания и т.д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5"/>
          <p:cNvSpPr/>
          <p:nvPr/>
        </p:nvSpPr>
        <p:spPr>
          <a:xfrm>
            <a:off x="1571760" y="2500200"/>
            <a:ext cx="0" cy="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7"/>
          <p:cNvSpPr/>
          <p:nvPr/>
        </p:nvSpPr>
        <p:spPr>
          <a:xfrm flipH="1">
            <a:off x="1642680" y="2428920"/>
            <a:ext cx="71640" cy="142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9"/>
          <p:cNvSpPr/>
          <p:nvPr/>
        </p:nvSpPr>
        <p:spPr>
          <a:xfrm flipH="1">
            <a:off x="1213920" y="2428920"/>
            <a:ext cx="71640" cy="142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2" descr=""/>
          <p:cNvPicPr/>
          <p:nvPr/>
        </p:nvPicPr>
        <p:blipFill>
          <a:blip r:embed="rId1"/>
          <a:stretch/>
        </p:blipFill>
        <p:spPr>
          <a:xfrm>
            <a:off x="-317520" y="139680"/>
            <a:ext cx="9010800" cy="1287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/МАК/- /МО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Corbe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пишется в словах со значением –погрузи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1" lang="ru-RU" sz="1800" spc="-1" strike="noStrike">
                <a:solidFill>
                  <a:srgbClr val="feb80a"/>
                </a:solidFill>
                <a:latin typeface="Corbe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 значением пропускать жидкость, мокнуть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2.   /РАВН/ -/ РОВН/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А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 значением равный, одинаковы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со значением ровный, прямо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2" descr=""/>
          <p:cNvPicPr/>
          <p:nvPr/>
        </p:nvPicPr>
        <p:blipFill>
          <a:blip r:embed="rId1"/>
          <a:stretch/>
        </p:blipFill>
        <p:spPr>
          <a:xfrm>
            <a:off x="-334800" y="268200"/>
            <a:ext cx="9028080" cy="11588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каждом был непром-каемый плащ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егодня вым-кнешь, завтра высохнеш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ужно галушки обм-кнуть в сметан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ломов  взял перо, обм-кнул в чернильницу, но чернил не было. (Гонч.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2" descr=""/>
          <p:cNvPicPr/>
          <p:nvPr/>
        </p:nvPicPr>
        <p:blipFill>
          <a:blip r:embed="rId1"/>
          <a:stretch/>
        </p:blipFill>
        <p:spPr>
          <a:xfrm>
            <a:off x="-255600" y="195120"/>
            <a:ext cx="8948880" cy="12319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гар-(загар)   искл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згарь, пригарь, выгарки, зорянка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гор-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твар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зар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зор-(зорька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клан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клон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твар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твор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рямая соединительная линия 4"/>
          <p:cNvSpPr/>
          <p:nvPr/>
        </p:nvSpPr>
        <p:spPr>
          <a:xfrm flipH="1">
            <a:off x="1356840" y="1499400"/>
            <a:ext cx="142920" cy="716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6"/>
          <p:cNvSpPr/>
          <p:nvPr/>
        </p:nvSpPr>
        <p:spPr>
          <a:xfrm flipH="1">
            <a:off x="2571480" y="1499400"/>
            <a:ext cx="214200" cy="142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8"/>
          <p:cNvSpPr/>
          <p:nvPr/>
        </p:nvSpPr>
        <p:spPr>
          <a:xfrm flipH="1">
            <a:off x="1356840" y="2928960"/>
            <a:ext cx="142920" cy="712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10"/>
          <p:cNvSpPr/>
          <p:nvPr/>
        </p:nvSpPr>
        <p:spPr>
          <a:xfrm flipH="1">
            <a:off x="2285640" y="2928960"/>
            <a:ext cx="142920" cy="142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12"/>
          <p:cNvSpPr/>
          <p:nvPr/>
        </p:nvSpPr>
        <p:spPr>
          <a:xfrm flipH="1">
            <a:off x="1642680" y="3786120"/>
            <a:ext cx="71640" cy="142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14"/>
          <p:cNvSpPr/>
          <p:nvPr/>
        </p:nvSpPr>
        <p:spPr>
          <a:xfrm flipH="1">
            <a:off x="1571760" y="4714920"/>
            <a:ext cx="71280" cy="142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2" descr=""/>
          <p:cNvPicPr/>
          <p:nvPr/>
        </p:nvPicPr>
        <p:blipFill>
          <a:blip r:embed="rId1"/>
          <a:stretch/>
        </p:blipFill>
        <p:spPr>
          <a:xfrm>
            <a:off x="-244440" y="244440"/>
            <a:ext cx="9150480" cy="11826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0" y="1643040"/>
            <a:ext cx="8229600" cy="4525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 fontScale="69000"/>
          </a:bodyPr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 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р                                             -бер-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                                              -дер-                                  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                                              -мер-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                                              -пер-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                                               -тер-                                                     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Ч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т                                               -чет-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л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                                           -блест-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Ж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г                                              -жег-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51640" indent="-1947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т 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и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л                                             -стел -    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Правая фигурная скобка 33"/>
          <p:cNvSpPr/>
          <p:nvPr/>
        </p:nvSpPr>
        <p:spPr>
          <a:xfrm>
            <a:off x="1857240" y="1785960"/>
            <a:ext cx="2500560" cy="4000320"/>
          </a:xfrm>
          <a:custGeom>
            <a:avLst/>
            <a:gdLst>
              <a:gd name="textAreaLeft" fmla="*/ 0 w 2500560"/>
              <a:gd name="textAreaRight" fmla="*/ 902880 w 2500560"/>
              <a:gd name="textAreaTop" fmla="*/ 65160 h 4000320"/>
              <a:gd name="textAreaBottom" fmla="*/ 3935160 h 400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3"/>
                  <a:pt x="10800" y="1125"/>
                </a:cubicBezTo>
                <a:lnTo>
                  <a:pt x="10800" y="9675"/>
                </a:lnTo>
                <a:cubicBezTo>
                  <a:pt x="10800" y="10238"/>
                  <a:pt x="16200" y="10800"/>
                  <a:pt x="21600" y="10800"/>
                </a:cubicBezTo>
                <a:cubicBezTo>
                  <a:pt x="16200" y="10800"/>
                  <a:pt x="10800" y="11363"/>
                  <a:pt x="10800" y="11925"/>
                </a:cubicBezTo>
                <a:lnTo>
                  <a:pt x="10800" y="20475"/>
                </a:lnTo>
                <a:cubicBezTo>
                  <a:pt x="10800" y="2103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Прямоугольник 35" descr=""/>
          <p:cNvPicPr/>
          <p:nvPr/>
        </p:nvPicPr>
        <p:blipFill>
          <a:blip r:embed="rId2"/>
          <a:stretch/>
        </p:blipFill>
        <p:spPr>
          <a:xfrm>
            <a:off x="3425760" y="2610000"/>
            <a:ext cx="2292480" cy="198576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ая соединительная линия 37"/>
          <p:cNvSpPr/>
          <p:nvPr/>
        </p:nvSpPr>
        <p:spPr>
          <a:xfrm flipV="1">
            <a:off x="4143240" y="2857320"/>
            <a:ext cx="28584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39"/>
          <p:cNvSpPr/>
          <p:nvPr/>
        </p:nvSpPr>
        <p:spPr>
          <a:xfrm>
            <a:off x="4428360" y="2857680"/>
            <a:ext cx="428760" cy="571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2" descr=""/>
          <p:cNvPicPr/>
          <p:nvPr/>
        </p:nvPicPr>
        <p:blipFill>
          <a:blip r:embed="rId1"/>
          <a:stretch/>
        </p:blipFill>
        <p:spPr>
          <a:xfrm>
            <a:off x="1434960" y="338040"/>
            <a:ext cx="7499520" cy="10159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др</a:t>
            </a:r>
            <a:r>
              <a:rPr b="1" lang="ru-RU" sz="30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ж-, -др</a:t>
            </a:r>
            <a:r>
              <a:rPr b="1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г-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рожь, вздрогнуть, вздрагив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-др</a:t>
            </a:r>
            <a:r>
              <a:rPr b="1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ж-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аздр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жение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-др</a:t>
            </a:r>
            <a:r>
              <a:rPr b="1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з-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разнилки, передразнива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-г</a:t>
            </a:r>
            <a:r>
              <a:rPr b="1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д-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заг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ка, г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ание, пог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ать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…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-г</a:t>
            </a:r>
            <a:r>
              <a:rPr b="1" lang="ru-RU" sz="30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д-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г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ен, г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итьс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д</a:t>
            </a:r>
            <a:r>
              <a:rPr b="1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д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ь, под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ь, под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яние, препод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д</a:t>
            </a:r>
            <a:r>
              <a:rPr b="1" lang="ru-RU" sz="30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л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 д</a:t>
            </a:r>
            <a:r>
              <a:rPr b="0" lang="ru-RU" sz="30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лина (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низкое место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), преодоление, под</a:t>
            </a:r>
            <a:r>
              <a:rPr b="0" lang="ru-RU" sz="22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д</a:t>
            </a:r>
            <a:r>
              <a:rPr b="1" lang="ru-RU" sz="22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л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ь- д</a:t>
            </a:r>
            <a:r>
              <a:rPr b="0" lang="ru-RU" sz="22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екий, д</a:t>
            </a:r>
            <a:r>
              <a:rPr b="0" lang="ru-RU" sz="22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ь,  вд</a:t>
            </a:r>
            <a:r>
              <a:rPr b="0" lang="ru-RU" sz="22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и, д</a:t>
            </a:r>
            <a:r>
              <a:rPr b="0" lang="ru-RU" sz="22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ек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2" descr=""/>
          <p:cNvPicPr/>
          <p:nvPr/>
        </p:nvPicPr>
        <p:blipFill>
          <a:blip r:embed="rId1"/>
          <a:stretch/>
        </p:blipFill>
        <p:spPr>
          <a:xfrm>
            <a:off x="195120" y="146160"/>
            <a:ext cx="8624880" cy="1280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/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ст/-/ращ/-/рос/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скл.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тр</a:t>
            </a: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ь, р</a:t>
            </a: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ок, Р</a:t>
            </a: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ов, р</a:t>
            </a: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овщик, подр</a:t>
            </a: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ковый, Р</a:t>
            </a: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ислав, р</a:t>
            </a:r>
            <a:r>
              <a:rPr b="0" lang="ru-RU" sz="2400" spc="-1" strike="noStrike">
                <a:solidFill>
                  <a:srgbClr val="feb80a"/>
                </a:solidFill>
                <a:latin typeface="Corbe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оче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р-стить, взр-стить, подр-сток, выр-щенный,нар-стание, нар-ст, перер-сти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-стовщик,  Р-стисла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WordArt 4"/>
          <p:cNvSpPr txBox="1"/>
          <p:nvPr/>
        </p:nvSpPr>
        <p:spPr>
          <a:xfrm>
            <a:off x="1219320" y="380880"/>
            <a:ext cx="7086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азличай:</a:t>
            </a:r>
            <a:endParaRPr b="1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2821320" y="2056680"/>
            <a:ext cx="3158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Georgia"/>
              </a:rPr>
              <a:t>возраст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Georgia"/>
              </a:rPr>
              <a:t>раста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Georgia"/>
              </a:rPr>
              <a:t>рос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rc 6"/>
          <p:cNvSpPr/>
          <p:nvPr/>
        </p:nvSpPr>
        <p:spPr>
          <a:xfrm flipH="1" rot="3057000">
            <a:off x="3909960" y="1956960"/>
            <a:ext cx="1036800" cy="1084680"/>
          </a:xfrm>
          <a:custGeom>
            <a:avLst/>
            <a:gdLst>
              <a:gd name="textAreaLeft" fmla="*/ 360 w 1036800"/>
              <a:gd name="textAreaRight" fmla="*/ 1037520 w 1036800"/>
              <a:gd name="textAreaTop" fmla="*/ 0 h 1084680"/>
              <a:gd name="textAreaBottom" fmla="*/ 1085040 h 1084680"/>
            </a:gdLst>
            <a:ahLst/>
            <a:rect l="textAreaLeft" t="textAreaTop" r="textAreaRight" b="textAreaBottom"/>
            <a:pathLst>
              <a:path fill="none" w="20995" h="20482">
                <a:moveTo>
                  <a:pt x="6859" y="0"/>
                </a:moveTo>
                <a:cubicBezTo>
                  <a:pt x="13909" y="2361"/>
                  <a:pt x="19249" y="8181"/>
                  <a:pt x="20995" y="15407"/>
                </a:cubicBezTo>
              </a:path>
              <a:path stroke="0" w="20995" h="20482">
                <a:moveTo>
                  <a:pt x="6859" y="0"/>
                </a:moveTo>
                <a:cubicBezTo>
                  <a:pt x="13909" y="2361"/>
                  <a:pt x="19249" y="8181"/>
                  <a:pt x="20995" y="15407"/>
                </a:cubicBezTo>
                <a:lnTo>
                  <a:pt x="0" y="20482"/>
                </a:lnTo>
                <a:close/>
              </a:path>
            </a:pathLst>
          </a:custGeom>
          <a:noFill/>
          <a:ln w="572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4114800" y="1676520"/>
            <a:ext cx="4572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4040280" y="2057400"/>
            <a:ext cx="4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Georgia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9"/>
          <p:cNvSpPr/>
          <p:nvPr/>
        </p:nvSpPr>
        <p:spPr>
          <a:xfrm>
            <a:off x="4114800" y="26668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0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4419720" y="28954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rc 12"/>
          <p:cNvSpPr/>
          <p:nvPr/>
        </p:nvSpPr>
        <p:spPr>
          <a:xfrm flipH="1" rot="3057000">
            <a:off x="3850560" y="3310920"/>
            <a:ext cx="1025640" cy="1108080"/>
          </a:xfrm>
          <a:custGeom>
            <a:avLst/>
            <a:gdLst>
              <a:gd name="textAreaLeft" fmla="*/ -360 w 1025640"/>
              <a:gd name="textAreaRight" fmla="*/ 1025640 w 102564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fill="none" w="18906" h="18640">
                <a:moveTo>
                  <a:pt x="10913" y="0"/>
                </a:moveTo>
                <a:cubicBezTo>
                  <a:pt x="14266" y="1962"/>
                  <a:pt x="17026" y="4793"/>
                  <a:pt x="18905" y="8193"/>
                </a:cubicBezTo>
              </a:path>
              <a:path stroke="0" w="18906" h="18640">
                <a:moveTo>
                  <a:pt x="10913" y="0"/>
                </a:moveTo>
                <a:cubicBezTo>
                  <a:pt x="14266" y="1962"/>
                  <a:pt x="17026" y="4793"/>
                  <a:pt x="18905" y="8193"/>
                </a:cubicBezTo>
                <a:lnTo>
                  <a:pt x="0" y="18640"/>
                </a:lnTo>
                <a:close/>
              </a:path>
            </a:pathLst>
          </a:custGeom>
          <a:noFill/>
          <a:ln w="572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3"/>
          <p:cNvSpPr/>
          <p:nvPr/>
        </p:nvSpPr>
        <p:spPr>
          <a:xfrm>
            <a:off x="3200400" y="335268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5"/>
          <p:cNvSpPr/>
          <p:nvPr/>
        </p:nvSpPr>
        <p:spPr>
          <a:xfrm>
            <a:off x="4038480" y="33526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3737160" y="3276720"/>
            <a:ext cx="4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Georgi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7"/>
          <p:cNvSpPr/>
          <p:nvPr/>
        </p:nvSpPr>
        <p:spPr>
          <a:xfrm>
            <a:off x="3809880" y="3886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8"/>
          <p:cNvSpPr/>
          <p:nvPr/>
        </p:nvSpPr>
        <p:spPr>
          <a:xfrm>
            <a:off x="4038480" y="39625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9"/>
          <p:cNvSpPr/>
          <p:nvPr/>
        </p:nvSpPr>
        <p:spPr>
          <a:xfrm>
            <a:off x="4038480" y="40384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rc 21"/>
          <p:cNvSpPr/>
          <p:nvPr/>
        </p:nvSpPr>
        <p:spPr>
          <a:xfrm flipH="1" rot="3057000">
            <a:off x="3147120" y="4395240"/>
            <a:ext cx="1036440" cy="1084320"/>
          </a:xfrm>
          <a:custGeom>
            <a:avLst/>
            <a:gdLst>
              <a:gd name="textAreaLeft" fmla="*/ -360 w 1036440"/>
              <a:gd name="textAreaRight" fmla="*/ 1036440 w 103644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fill="none" w="20995" h="20482">
                <a:moveTo>
                  <a:pt x="6859" y="0"/>
                </a:moveTo>
                <a:cubicBezTo>
                  <a:pt x="13909" y="2361"/>
                  <a:pt x="19249" y="8181"/>
                  <a:pt x="20995" y="15407"/>
                </a:cubicBezTo>
              </a:path>
              <a:path stroke="0" w="20995" h="20482">
                <a:moveTo>
                  <a:pt x="6859" y="0"/>
                </a:moveTo>
                <a:cubicBezTo>
                  <a:pt x="13909" y="2361"/>
                  <a:pt x="19249" y="8181"/>
                  <a:pt x="20995" y="15407"/>
                </a:cubicBezTo>
                <a:lnTo>
                  <a:pt x="0" y="20482"/>
                </a:lnTo>
                <a:close/>
              </a:path>
            </a:pathLst>
          </a:custGeom>
          <a:noFill/>
          <a:ln w="572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>
            <a:off x="3512520" y="44956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b80a"/>
                </a:solidFill>
                <a:latin typeface="Georgi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3581280" y="51055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5666760" y="457200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Georgia"/>
              </a:rPr>
              <a:t>(ро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6:48:09Z</dcterms:created>
  <dc:creator>Атаманов Дмитрий</dc:creator>
  <dc:description/>
  <dc:language>en-US</dc:language>
  <cp:lastModifiedBy>Пользователь</cp:lastModifiedBy>
  <dcterms:modified xsi:type="dcterms:W3CDTF">2018-11-27T13:55:59Z</dcterms:modified>
  <cp:revision>54</cp:revision>
  <dc:subject/>
  <dc:title>Тема: Орфограмма в корне (обобщение)</dc:title>
</cp:coreProperties>
</file>