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7F5-76B5-44C3-9864-23C856C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5B8-276F-47DF-818D-B6D78B37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DAB-F1B8-43AA-B9B5-B104EA24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23A-78B0-4F02-A004-926FAEE8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8EE7-27BA-475D-A932-B5C18A7E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5080-D5C2-4AF9-8791-C9A1E19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660-2AD7-4B18-8A26-02FDD344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1A9D-60AB-4E49-8DA0-E415590A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2AEC-06A2-40C6-BFBD-BE26BF9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5176-BBB9-486B-B6D2-EC2EEEF0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7815-1BAC-4C78-BB6D-C3D0883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480-6587-435D-B326-EFAFC8DF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8B09-AC25-4917-8895-22BA560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F21-C50F-4A90-8575-A3D2F93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891F-4B15-48E1-AD9A-70A1D5C0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0D9F-6400-4345-9E3E-66C09D61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3758-B7CC-481E-ACDF-C1F693E6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68EE-2C08-40BC-90C6-16C125EE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B7B23-69FF-45DF-98D4-E5C760B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A1A6-C751-4041-8006-C1D5F79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43C1-5EB5-49A7-BAC1-9BED144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F275-AD13-4D22-8F4D-67D040B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9B8-14E7-4D75-8E91-C8DABDD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C285-146B-4582-9FB2-5912F513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A4A5-5268-4B6B-9ABA-8B2AF5F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BCC8-B5F1-4B06-9661-64033FE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0640-4F13-4CB4-9914-FAA424C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59DD-3494-48EE-B9D3-28F9E660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BAAF8-DBFE-4DF1-B13B-8FBD236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0FB6-42E2-4723-BA60-529D86CD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83C3D-B84F-4508-98B0-C136732E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0D07-D0FB-442A-B636-A2448AE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B467-BE26-477A-95AC-DB010101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366-553C-4E8D-8309-850947A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EC7E-E7D3-4774-AF12-B55A9F5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13B9-E880-48AC-A610-659449B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2069-275F-4CB9-B4FF-A07C876A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5896-95F8-46A1-A260-0D0CB930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E426-CCC9-4C3E-9C5C-739B497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F673-C45B-48FD-BF9A-6F3C5C5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35D4-6377-4188-AF06-DEF2DE3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4EF5-100C-49C9-A86C-1B3C29D1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6162-322C-431E-957F-8610CCF8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C2F2-7C63-4402-8574-6AF3C33F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C3D-5B3C-42D4-85A4-245A3B85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28CB-1057-4823-B4E4-586C3AC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8D26-5D7E-46E4-BF70-922E88D4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633D-0C87-46F7-B6F9-B934A57C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9242-224B-4359-AB2A-689CFAC8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A871-C914-421C-85E6-AB7C10B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CC73-38FC-4407-BDBA-F974C5C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EE76-7890-4B26-98EE-E6B152E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2A60-F0B5-4A69-B58D-071A4371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FD88-2903-4ABD-9C51-6D4C4C9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A6C2-B5B6-43EA-AD9D-6FFA9F12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CE2-C50D-4924-8D5B-030BC8D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7DAE-935D-43CC-B42B-5A2E2FF4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6523-804B-47D8-98C5-B30429DE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9FD8-4373-4106-AF08-9205225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C81C-4270-4D4E-863B-6E6E1B6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F4B2-874E-4DED-BC65-7D9EF8E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52A4-FCE3-458E-BEC0-E3B836C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A29F-814D-42CE-A797-10DAED5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6176-5EF6-4B11-9405-5770F04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34BF-9125-418E-8131-7E8A559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60914-558E-44A2-B5F1-9C7B872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180-6D43-4F63-BE3E-552EDC2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C323-6776-4551-94F8-019FD73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6683-9C1B-4EFD-A080-ACBF60E5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22C6-2A9C-49A2-BFE6-22EFA820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90AE-434E-473A-8346-1E734C8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169D-34AC-463D-8B75-554FA38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A65B-4319-4524-BE6A-B9570A0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4165-7345-4ECD-8280-AA0C8AD6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78B6-951F-4FA5-818B-3E951D9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0B6A1-493C-435D-BFC9-145EA56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FDFF0-0377-44D0-AA54-D64DC73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799-1959-4FE5-8B32-0DC9C82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985A-4A99-4A8C-9AB4-7E98B91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E8FE-D885-408F-B838-16C6313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C676-9B3F-4190-8490-412C2DD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9341-177D-42B2-B5D5-CBB6C70E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AE27-2AB3-4FFB-961B-87DCCFB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E6B-84B0-4AB7-8A19-C0A57D20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5BFD-4AEF-4354-A4D0-F97AF4907E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3E5-F20A-4C51-8134-9B27DDDD1B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0DFF-DE43-4781-A1B5-C6236C29CA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FEE3-2B6C-4044-90C4-C24D74D395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2BE-257C-46F5-8EC6-69B4A820CC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FE4-D1CE-4C08-B20F-1FCC4C20A0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645-439A-4136-B8A7-0208E364F3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332000" y="1727280"/>
            <a:ext cx="885672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описание -н- и –нн- в  прилагательных, причастиях, наречия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я для разграничения кратких прилагательных, кратких причастий и наречий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предложении краткие прилагательные и краткие причастия могут выступать в роли сказуемого. В кратком причастии всегда пишется одна буква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, его можно заменить глаголом в прошедшем времени. Краткое прилагательное можно заменить прилагательным в полной форме. В нем пишется столько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, сколько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в полн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Если в предложении обстоятельство образа действия относится к глаголу – это наречие, в котором пишется столько Н, сколько в слове, от которого оно образовано. Его можно заменить другим наречи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Девочка рассеянна и невнимательна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Рассеянна – можно заменить полным прилагательным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ная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 Следовательно, это краткое прилагательное, в котором пишется столько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, сколько в полной форме. Часто при кратком прилагательном используются однородные сказуемые, также выраженные краткими прилагательн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Семена рассеяны по пол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ы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– сказуемое, его можно заменить глаголом рассеяли. Следовательно, это краткое причастие, в котором всегда пишется одна буква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Он рассеянно смотрел по сторонам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Смотрел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(как?) – обстоятельство образа действия, выраженное наречием; его можно заменить наречием невнимательно. Следовательно,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но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– наречие, в котором пишется столько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, сколько в слове, от которого оно образова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при выборе написания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в словах необходимо определить, от какой части речи образовалось слов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для правильного написания слов важно не только знать правила (хотя без этого ничего не получится), но и информацию предназначенную для запомин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Богданова Г.А.  Уроки русского языка в 9 класс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М., «Просвещение», 2001 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М., «Просвещение», 1997 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Цели и задач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7640" y="1412640"/>
            <a:ext cx="878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рассмотреть правописание глаголов и глагольных фор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сформулировать орфографические правила правопис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привести примеры иллюстрирующие предлагаемые правила.</a:t>
            </a:r>
            <a:r>
              <a:rPr b="0" lang="en-US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-Н- и –НН- в отымен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2060640"/>
          <a:ext cx="8280360" cy="37796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ин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ополиный, комариный, гост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ах –ан-,-ян- (употребляются в прилагательных со значением «из чего сделано» или «для чего сделано»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ж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– из кожи, др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й – из дров, сереб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– из сереб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.: стек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ол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дере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-Н- и –НН- в отымен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87280" y="5157360"/>
            <a:ext cx="867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ледует отличать прилагательные, образованные от имен существительных (отыменные прилагательные) и образованные от глагола (отглагольные прилагательные)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79280" y="1628640"/>
          <a:ext cx="8496360" cy="343224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ах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онн-,-енн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пунктуационная, невежественный, искусственный, ави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существительного с основой н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ман – карма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сон - со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авописание кратки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700280"/>
          <a:ext cx="8713800" cy="38876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0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их прилагательных пишется столько же букв Н, сколько и в полных прилагательных, от которых они образованы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ом прилагательном, если в полном одна Н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ный - иску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ом прилагательном, если в полном две буквы НН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ная вещь – вещь це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те написание слов: ветреный (день, человек), ветряной (двигатель), ветряная (мельница), свиной, багряный, рьяный, пьяный, румяный, юный, си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авописание отглаголь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413000"/>
          <a:ext cx="8640720" cy="50562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глагола несовершенного вида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опать (несов.в.) – 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чулок, не писать (несов.в.) – непис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глаголов с суффиксами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ова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ва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иновать – мар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, лакировать – лаки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.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жева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ый, кова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те правописание слов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мышле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жданный, негаданный, невиданный, неслыханный, нечаянный, желанный, медленный, деланны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авописание Н и НН в причастия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341360"/>
          <a:ext cx="8642160" cy="5523120"/>
        </p:xfrm>
        <a:graphic>
          <a:graphicData uri="http://schemas.openxmlformats.org/drawingml/2006/table">
            <a:tbl>
              <a:tblPr/>
              <a:tblGrid>
                <a:gridCol w="2233440"/>
                <a:gridCol w="640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их причастиях: книга прочи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, работа не провер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в суффиксах полных причастий, образованных от бесприставочных глаголов совершенного вида: бросить (сов.в.) – бро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решить (сов.в.) – ре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в суффиксах полных причастий, образованных приставочным (кроме приставки НЕ-) способом: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если причастие имеет зависимые слова (причастный оборот): пис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сл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артина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ного ра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 кур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й – алгорит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892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При выборе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отглагольных прилагательных и причастиях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9280" y="2565360"/>
          <a:ext cx="8425080" cy="295128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гать – глагол несовершенн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агательное (отглагольн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г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я вор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й непуг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х птиц (образовано от глагола (не) пугать – несов.в.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е влияет на написание суффик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й – алгорит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При выборе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отглагольных прилагательных и причастиях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79280" y="1557360"/>
          <a:ext cx="8785440" cy="4937040"/>
        </p:xfrm>
        <a:graphic>
          <a:graphicData uri="http://schemas.openxmlformats.org/drawingml/2006/table">
            <a:tbl>
              <a:tblPr/>
              <a:tblGrid>
                <a:gridCol w="4676760"/>
                <a:gridCol w="41086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угать – глагол совершенного в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полное причастие пишется с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ш ис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раткое причастие, пишется одна букв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на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полное причастие образовано от глагола совершенного ви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 раз 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добавили зависимые слова – получили причастие, в полной форме пишется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7:24:26Z</dcterms:created>
  <dc:creator>TEST</dc:creator>
  <dc:description/>
  <dc:language>en-US</dc:language>
  <cp:lastModifiedBy>Пользователь</cp:lastModifiedBy>
  <dcterms:modified xsi:type="dcterms:W3CDTF">2018-11-27T13:57:16Z</dcterms:modified>
  <cp:revision>23</cp:revision>
  <dc:subject/>
  <dc:title>Презентация по русскому языку</dc:title>
</cp:coreProperties>
</file>