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0DD-13B9-4E0A-B871-2777F27F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5DF-B38E-4D4E-96AD-CE96DFCD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E3C-F837-4C71-A6D3-F8B6C350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E55-2449-47C7-8BEF-54C68086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BBCA-BE62-4C2D-941F-772CE95B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921C-D134-44E8-B053-8642AD33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D4D9-7E63-4D82-A071-13FFB651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2F23-EB11-4AE1-93DD-396239FE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707F-0059-4556-87D5-CCB1D59A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B8BE-BBB0-4F38-A41E-3E28FD18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4987-3046-4244-AB38-A6B1EE2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F6F-2753-448C-92D2-8282C5A5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2B79-E257-4E2F-A20B-8718F799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281F-0E15-4E13-8534-74F6A2F4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6A4C-D93A-4A00-9FE4-7C735566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128B-AAB1-4A40-8291-6066AE7F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6F93-2E3F-4F34-A610-4E0DC491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D3F8-FA7F-4431-9B21-CD1C48D9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4535-E1FD-411D-A5E7-3CCCDE4F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2FD7-204F-460C-A34E-325CB08A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B6AF-94F7-4371-8A6B-8C6405C9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0B021-8E42-49C1-B19F-35D6884B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D7F-0C84-4629-8E12-22F2A46C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8C46-D357-4FDD-A1E6-EE3DA977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414B-ABEE-46CB-9704-9F230283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EFD7-A611-488D-88E9-BD2980CA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FA53-B1E8-4AAC-B336-2889219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B7E6-0E3D-4BA2-ACE6-D45EC776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EC32-DDF4-4CAA-A57E-D662C862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A209-4B2E-49CD-8058-53509DDF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14068-4476-4FE5-A652-2283CAF0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8747E-6241-4B22-829D-C5D0DCC5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16DE-96CA-48CF-8BCD-CCAEB337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934-91CE-4311-9332-70C82D0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09E4-E0FC-4333-B3A6-A6664D49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4650-C2BB-4094-BD7A-D6DC179C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738D-2FAC-43BA-A01D-81D3DD09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5BB4-CCE8-48AC-8FB8-D35BF231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D15D2-A45A-48C9-8A3F-0936DD2D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3CA21-9944-4FB9-9361-0B35ED31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6AE5A-10A9-40CC-9E14-5FC3A15E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2C6C4-5F12-451A-9C93-25612B99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2A907-0A7D-4834-B7F2-AE87A5EF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0B25C-3E0A-42E8-BBAE-37443250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5B7-EAFE-43D0-868E-2D6763CB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D6F22-24F8-4434-96A3-BD699882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4ABBB-69DB-468A-8CF6-40D4C37E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7866D-C1D8-4CA1-8D66-AFAA6E7A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3E326-5A21-4206-AB06-130F5F85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A057F-FF9E-49C8-B036-9865B639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FBD3-DB44-43EC-ABB8-44E69DD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4CFC6-1073-4C96-9719-FAB2D48F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CD34-2E9B-4E02-B9FD-C77D625F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034D2-62D4-4F8E-B094-FB362919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6D671-A68C-40F4-BF56-527F0F65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CE1-13FF-49F2-B162-3891FD10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E464D-66D5-4171-B16B-B34BF83C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6E442-2E4D-4F09-8F45-EA9DBBF1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0D556-9082-4A61-91E5-F54C81F2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0B022-6A45-4425-8F0B-91229F70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44ECA-24F3-4511-8011-ED56E9BD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AB808-1A8E-4B9B-86F6-A6499F70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81387-54F9-4835-9CF2-0DD679C6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D3CB9-A6AA-4418-B1DA-E1FAEF3B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F1CF4-DCF3-43D8-B155-E9110D74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8884B-1799-4EF6-AE4F-E3ABD70B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2B8-71F8-49DB-9204-D7F259D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95E0-4208-405C-87BC-4EDCB429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FCACE-AB2F-4584-BBDA-DD0F6A45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201C8-F74E-41DD-9D14-A3DB7088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FCF6-99A9-4F2C-BFCE-37958E5E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FC66F-36A8-41C8-A49B-9F9ECA91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D193F-F0A2-483A-BE88-29A18242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6B1CF-50FC-4D98-B4B5-7FEA8F9E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26DB6-52B6-4979-AD9B-90555C8F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73C29-BC40-4790-AEEB-3FF27501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16079-5D46-4E31-8CDF-ED283423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DA2-04AD-44A1-B557-14F1F972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8B6B-8445-40B4-A833-A0003989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994DB-9090-4251-8C89-67380B39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23534-9406-4D7C-9B04-BDAC9ECD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A7117-AF9B-4352-9C84-31E9B0F6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B1159-478A-4A86-9311-778516F4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28C-964F-4EF2-8792-7A61FB11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83E3-CBD5-4C99-A71A-EB52B419C42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101C-A009-4D7A-9623-B9EF1C32F13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563E-CA3B-4E64-BEFB-5B085F94DC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B2FE-5C2F-4FA2-8AE6-89FDA6680FA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A943-A8AA-4B09-981D-DB989E5E45B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8002-30CF-48C4-9101-455A1AB3D17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6A5D-B28E-4DFD-8FBE-72988A1281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332000" y="1727280"/>
            <a:ext cx="885672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описание -н- и –нн- в  прилагательных, причастиях, наречиях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Способ действия для разграничения кратких прилагательных, кратких причастий и наречий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79280" y="234900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В предложении краткие прилагательные и краткие причастия могут выступать в роли сказуемого. В кратком причастии всегда пишется одна буква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, его можно заменить глаголом в прошедшем времени. Краткое прилагательное можно заменить прилагательным в полной форме. В нем пишется столько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, сколько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 в полной форм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Если в предложении обстоятельство образа действия относится к глаголу – это наречие, в котором пишется столько Н, сколько в слове, от которого оно образовано. Его можно заменить другим наречие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римеры рассуждения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Девочка рассеянна и невнимательна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Рассеянна – можно заменить полным прилагательным </a:t>
            </a: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рассеянная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. Следовательно, это краткое прилагательное, в котором пишется столько </a:t>
            </a:r>
            <a:r>
              <a:rPr b="1" lang="ru-RU" sz="28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, сколько в полной форме. Часто при кратком прилагательном используются однородные сказуемые, также выраженные краткими прилагательны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римеры рассуждения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Семена рассеяны по полю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Рассеяны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– сказуемое, его можно заменить глаголом рассеяли. Следовательно, это краткое причастие, в котором всегда пишется одна буква </a:t>
            </a:r>
            <a:r>
              <a:rPr b="1" lang="ru-RU" sz="28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римеры рассуждения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Он рассеянно смотрел по сторонам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Смотрел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(как?) – обстоятельство образа действия, выраженное наречием; его можно заменить наречием невнимательно. Следовательно, </a:t>
            </a:r>
            <a:r>
              <a:rPr b="0" i="1" lang="ru-RU" sz="2800" spc="-1" strike="noStrike">
                <a:solidFill>
                  <a:srgbClr val="320e04"/>
                </a:solidFill>
                <a:latin typeface="Times New Roman"/>
              </a:rPr>
              <a:t>рассеянно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– наречие, в котором пишется столько </a:t>
            </a:r>
            <a:r>
              <a:rPr b="1" lang="ru-RU" sz="28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, сколько в слове, от которого оно образован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Вывод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640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при выборе написания </a:t>
            </a:r>
            <a:r>
              <a:rPr b="1" lang="ru-RU" sz="2800" spc="-1" strike="noStrike">
                <a:solidFill>
                  <a:srgbClr val="320e04"/>
                </a:solidFill>
                <a:latin typeface="Times New Roman"/>
              </a:rPr>
              <a:t>НН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в словах необходимо определить, от какой части речи образовалось слово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для правильного написания слов важно не только знать правила (хотя без этого ничего не получится), но и информацию предназначенную для запомин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Информационные ресурс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79280" y="1699920"/>
            <a:ext cx="86407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Богданова Г.А.  Уроки русского языка в 9 класс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М., «Просвещение», 2001 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Богданова Г.А., Кириченко Г.И.  Материалы для подготовки к экзаменам по русскому язык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М., «Просвещение», 1997 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Цели и задачи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07640" y="1412640"/>
            <a:ext cx="8785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рассмотреть правописание глаголов и глагольных форм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сформулировать орфографические правила правописа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Times New Roman"/>
              </a:rPr>
              <a:t>привести примеры иллюстрирующие предлагаемые правила.</a:t>
            </a:r>
            <a:r>
              <a:rPr b="0" lang="en-US" sz="2800" spc="-1" strike="noStrike">
                <a:solidFill>
                  <a:srgbClr val="320e0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-Н- и –НН- в отыменных прилагательных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2060640"/>
          <a:ext cx="8280360" cy="37796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ш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уффиксе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ин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тополиный, комариный, гости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уффиксах –ан-,-ян- (употребляются в прилагательных со значением «из чего сделано» или «для чего сделано»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ж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– из кожи, др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й – из дров, сереб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– из сереб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.: стекл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ол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дере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-Н- и –НН- в отыменных прилагательных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87280" y="5157360"/>
            <a:ext cx="867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ледует отличать прилагательные, образованные от имен существительных (отыменные прилагательные) и образованные от глагола (отглагольные прилагательные)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79280" y="1628640"/>
          <a:ext cx="8496360" cy="343224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иш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уффиксах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онн-,-енн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пунктуационная, невежественный, искусственный, авиаци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прилагательное образовано от существительного с основой на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ман – карма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сон - со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Правописание кратких прилагательных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50920" y="1700280"/>
          <a:ext cx="8713800" cy="388764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100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ратких прилагательных пишется столько же букв Н, сколько и в полных прилагательных, от которых они образованы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ратком прилагательном, если в полном одна Н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усный - иску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ратком прилагательном, если в полном две буквы НН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ная вещь – вещь цен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ните написание слов: ветреный (день, человек), ветряной (двигатель), ветряная (мельница), свиной, багряный, рьяный, пьяный, румяный, юный, син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</a:rPr>
              <a:t>Правописание отглагольных прилагательных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0920" y="1413000"/>
          <a:ext cx="8640720" cy="505620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прилагательное образовано от глагола несовершенного вида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опать (несов.в.) – штоп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чулок, не писать (несов.в.) – непис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за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прилагательное образовано от глаголов с суффиксами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ова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ва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иновать – мари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в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, лакировать – лаки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в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ы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.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жева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ый, кова</a:t>
                      </a: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мните правописание слов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мышле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ежданный, негаданный, невиданный, неслыханный, нечаянный, желанный, медленный, деланны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Правописание Н и НН в причастиях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341360"/>
          <a:ext cx="8642160" cy="5523120"/>
        </p:xfrm>
        <a:graphic>
          <a:graphicData uri="http://schemas.openxmlformats.org/drawingml/2006/table">
            <a:tbl>
              <a:tblPr/>
              <a:tblGrid>
                <a:gridCol w="2233440"/>
                <a:gridCol w="640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ратких причастиях: книга прочит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, работа не провер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в суффиксах полных причастий, образованных от бесприставочных глаголов совершенного вида: бросить (сов.в.) – брош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решить (сов.в.) – реш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в суффиксах полных причастий, образованных приставочным (кроме приставки НЕ-) способом: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ш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оп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т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если причастие имеет зависимые слова (причастный оборот): пис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я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асло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артина,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ного ра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штоп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я кур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Способ действий – алгорит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8928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При выборе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Н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в отглагольных прилагательных и причастиях рассуждаем так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79280" y="2565360"/>
          <a:ext cx="8425080" cy="295128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угать – глагол несовершенного 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лагательное (отглагольно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уг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я воро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й непуг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х птиц (образовано от глагола (не) пугать – несов.в.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не влияет на написание суффик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Times New Roman"/>
              </a:rPr>
              <a:t>Способ действий – алгоритм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08000" y="691920"/>
            <a:ext cx="8928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При выборе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320e04"/>
                </a:solidFill>
                <a:latin typeface="Times New Roman"/>
              </a:rPr>
              <a:t>НН </a:t>
            </a:r>
            <a:r>
              <a:rPr b="0" lang="ru-RU" sz="2400" spc="-1" strike="noStrike">
                <a:solidFill>
                  <a:srgbClr val="320e04"/>
                </a:solidFill>
                <a:latin typeface="Times New Roman"/>
              </a:rPr>
              <a:t>в отглагольных прилагательных и причастиях рассуждаем так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79280" y="1557360"/>
          <a:ext cx="8785440" cy="4937040"/>
        </p:xfrm>
        <a:graphic>
          <a:graphicData uri="http://schemas.openxmlformats.org/drawingml/2006/table">
            <a:tbl>
              <a:tblPr/>
              <a:tblGrid>
                <a:gridCol w="4676760"/>
                <a:gridCol w="41086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угать – глагол совершенного в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у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малыш (полное причастие пишется с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ыш испу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краткое причастие, пишется одна буква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напу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малыш (полное причастие образовано от глагола совершенного вид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 раз пуг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й малыш (добавили зависимые слова – получили причастие, в полной форме пишется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7:24:26Z</dcterms:created>
  <dc:creator>TEST</dc:creator>
  <dc:description/>
  <dc:language>en-US</dc:language>
  <cp:lastModifiedBy>Пользователь</cp:lastModifiedBy>
  <dcterms:modified xsi:type="dcterms:W3CDTF">2018-11-27T13:57:16Z</dcterms:modified>
  <cp:revision>23</cp:revision>
  <dc:subject/>
  <dc:title>Презентация по русскому языку</dc:title>
</cp:coreProperties>
</file>