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8.png" ContentType="image/png"/>
  <Override PartName="/ppt/media/image12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9.gif" ContentType="image/gif"/>
  <Override PartName="/ppt/media/image10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19E-9E16-4F6B-A609-5C3F6073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153-7AC7-4F55-88F4-B91EDEC6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A3955-005B-47F5-A251-947465C0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77F0E-AB7E-4757-B3DA-BEBB998B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A6521-F370-483F-95B6-D2DDA762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78D7B-432C-406D-A05B-4150A04D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3AAC8-6220-41E9-BB02-E58E3863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BBCB4-D43C-4B24-8DDD-05A1D44A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355DC-EAB3-46CD-A975-46C70706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86A89-D738-41DC-973C-684FB833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68833-148C-4AA7-ACDA-A672AA13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69B-7FA5-4CE5-AB0D-BC651F50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C90-4D30-4F85-AF00-30B584D9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BF71-4138-45DD-9C6C-67C2BBFB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699C-1EAF-4C27-A0E9-1FDC8095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B1E7-8ADE-484F-8194-68B7334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33B0-2BAC-4411-A503-DC975BF5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1468-5D92-4225-B724-B0D793D1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3CF7-652E-42D0-9AB1-C07C1ACC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2D5A-53CD-4106-AEAE-7E15D875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DD8-1178-41AB-A987-FF33A32C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E8DA-4D57-4AFF-8CF4-7EDC60D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2A22-36A6-4BBF-B181-FDE865D0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296F-7BC7-4A32-BE4B-52B4783E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C8A2-9645-4CF7-98D0-5F814981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22F5-3AC0-422B-B0A5-BAA4E5F1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CE8E-FCDD-4ED4-95CB-953C1D76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DE17-A588-4949-91DC-03379107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F9AA-F339-4500-A7F1-B30DEFA0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AE359-DC51-44CB-A101-5BB3A2DE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4D84-24C9-4D18-B86B-67A67C63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A3B-1384-4014-B905-39614510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C8CAC-4780-4B11-B334-F710A18A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049E-A458-4C64-986E-B59AC46C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DE4C-B82C-420C-A8F2-4D713EA2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43F9C-2C87-4FEA-BCFF-0685736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0A69-26C3-49F1-AA94-B87135E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CBFE-B08D-48EB-94E4-2660D1BB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C254-5F55-4673-BD5E-1A381A8A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6282-EF82-4306-9722-23E3071C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8DF7-34E5-4FF6-9833-A22544B3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E3C2-D80C-4D27-BA48-CE86D048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EE3-38E4-4BC3-A6FF-2E9AFE44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2C2D8-0939-4DB0-A6BE-DA84D53F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0BFD-4321-45E2-A284-8944A857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CD48-ACD5-4777-A526-CFE31DAA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72B9-5ECF-42D3-9F6E-A0D19A35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F80FE-71D3-4EFE-AED3-8837A82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C38A-4EC2-4F5C-AF1D-1BFECC9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92B2-9CA0-4FDF-89E9-1F41BBAE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E20A-308E-4C41-995A-11481539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F4EA-601A-4AF3-B9E4-EDBC3DBA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D6744-5EC8-4BAC-8E3B-A8007C99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120-8D28-4CEA-81E5-8B8771AD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937A-7E2C-499B-B066-F057EDF2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33EE7-7022-44CA-8758-61B9ACB2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406B-933D-4195-AC35-76775914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71598-8B56-4205-888C-73C238BF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0457-551A-4C42-B266-9BBA32F3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30B64-91AC-4DFB-A3D4-E48F977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472E-5522-48BA-8E05-5C4D723A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BB9F-6986-48C8-B9E9-D042FEA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13B9E-7961-4CE0-8132-5CB201D0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3639-3E6F-462C-837C-44535A6C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DE3-C8E4-4B42-84D6-E380DDB6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DF53-CCCC-4A17-8677-9C278710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89C2-C236-4A52-87BD-DDAB790F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B67C3-A422-4EBD-98DD-ECEDF89F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6B90-3420-4348-8450-AAE45AC6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66ECD-54AA-400A-A51B-177169E2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FFB5-5B42-4870-84B5-F95243F3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1E024-43C2-4FF0-A97B-80685AC5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86D5-AD5F-4F59-AB74-332667E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65C68-D8DB-4F3B-922A-4F38EA0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A27E5-9E32-45E2-AFBF-22DFD78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84C-3569-4AAC-A2CF-8D5911B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0FD9C-894A-4E7E-A33A-3E28692D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3C16-0A4C-4CDE-B20A-2974FC97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F54A-F1D6-4573-853F-F61D68BF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64A80-4BFE-48FB-AD45-B6FC3353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8D350-3528-4CBB-B4CA-03149F87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65C06-823F-4A2A-BCC5-0C61C5DD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FFE18-424F-4312-9402-D559CB70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BCB8-D651-4791-8F69-3F142271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296D8-1DC1-4EA1-82A6-71FE44BA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3F637-10FA-49E7-94E8-A66FBEBB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D8D-5E07-443A-A805-56AD540C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65783-5501-4F91-A8A3-57DF8BD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3B80A-CB2F-4606-BC2F-15C7130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7AAB4-63F7-459F-9F6F-164AD66B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0B12C-76E2-446C-9E8B-0F9D0793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42E3E-4337-4DE8-955C-12171A93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FE6A0-815E-4FC8-8C56-5D2BE12D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BA14F-C335-4D63-B8C8-3242D283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3D7DBF-DCA1-467D-BA5F-78E606BF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1FB9F5-D300-4838-97CF-730133B1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029DFC-76B2-4AD2-A130-71727A8B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6D9-7D9B-4191-B444-6D1FFEF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1277E-3E27-439A-9C90-0B06CB03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DC1421-B213-4299-A1D7-61AD64C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7D073A-439B-4DDF-9ADE-D5ADDADA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11C4B-22DE-48DD-8C16-7D1B2702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A8220-471A-4E52-A406-1F35A86A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194B20-5B4D-490C-AC53-ECE68601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0D9921-E647-403B-B1FC-6E390E47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DD3BC-9858-4FA3-ABC1-4839D403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7B267-5A4D-45AB-8FB2-AEE4827F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90590-BBD9-432D-8B20-9613187C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C15-8B74-474E-AE3D-BD2EDDA06B1E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1D3D-002B-4102-BD5E-7D28415796AA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D2BD-5B1C-4F07-9A16-D02A516F8C88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8EEE-734E-4934-B03E-A65AE731BD01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123E-985F-48CC-9CC8-26401294C737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B276-C13A-4B1B-9720-EBBD73DB12AF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E54F-AC51-4986-98DD-22EAE186CE13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D4EF-59F9-4674-9264-E1DD06093ED8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DA3F-E8EF-410F-BC8B-45BA22DF8F20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5"/>
          <p:cNvSpPr txBox="1"/>
          <p:nvPr/>
        </p:nvSpPr>
        <p:spPr>
          <a:xfrm>
            <a:off x="1692360" y="1341360"/>
            <a:ext cx="705636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i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WordArt 10"/>
          <p:cNvSpPr txBox="1"/>
          <p:nvPr/>
        </p:nvSpPr>
        <p:spPr>
          <a:xfrm>
            <a:off x="4356000" y="981000"/>
            <a:ext cx="172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1547640" y="2492280"/>
            <a:ext cx="54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тавки ПРИ- ПРЕ-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9000">
    <p:wheel spokes="3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4"/>
          <p:cNvSpPr/>
          <p:nvPr/>
        </p:nvSpPr>
        <p:spPr>
          <a:xfrm>
            <a:off x="250920" y="2760120"/>
            <a:ext cx="8424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настье – это непогод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ождь или снег с ветр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9" descr="j0237591"/>
          <p:cNvPicPr/>
          <p:nvPr/>
        </p:nvPicPr>
        <p:blipFill>
          <a:blip r:embed="rId1"/>
          <a:stretch/>
        </p:blipFill>
        <p:spPr>
          <a:xfrm>
            <a:off x="250920" y="3284640"/>
            <a:ext cx="2520720" cy="2663640"/>
          </a:xfrm>
          <a:prstGeom prst="rect">
            <a:avLst/>
          </a:prstGeom>
          <a:ln w="0">
            <a:noFill/>
          </a:ln>
        </p:spPr>
      </p:pic>
      <p:sp>
        <p:nvSpPr>
          <p:cNvPr id="451" name="WordArt 21"/>
          <p:cNvSpPr txBox="1"/>
          <p:nvPr/>
        </p:nvSpPr>
        <p:spPr>
          <a:xfrm rot="1452600">
            <a:off x="5651640" y="4292280"/>
            <a:ext cx="41904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2" name="WordArt 22"/>
          <p:cNvSpPr txBox="1"/>
          <p:nvPr/>
        </p:nvSpPr>
        <p:spPr>
          <a:xfrm rot="19817400">
            <a:off x="7451640" y="4220640"/>
            <a:ext cx="45900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3" name="WordArt 23"/>
          <p:cNvSpPr txBox="1"/>
          <p:nvPr/>
        </p:nvSpPr>
        <p:spPr>
          <a:xfrm rot="5695800">
            <a:off x="4834800" y="2660400"/>
            <a:ext cx="43200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4" name="WordArt 24"/>
          <p:cNvSpPr txBox="1"/>
          <p:nvPr/>
        </p:nvSpPr>
        <p:spPr>
          <a:xfrm rot="10800000">
            <a:off x="6372360" y="1125000"/>
            <a:ext cx="41904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5" name="WordArt 25"/>
          <p:cNvSpPr txBox="1"/>
          <p:nvPr/>
        </p:nvSpPr>
        <p:spPr>
          <a:xfrm rot="16200000">
            <a:off x="7626960" y="2851560"/>
            <a:ext cx="576360" cy="16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11488b"/>
                </a:solidFill>
                <a:latin typeface="Corbel"/>
              </a:rPr>
              <a:t>Из каждой группы слов с заданным значением приставки уберите лишнее слово</a:t>
            </a:r>
            <a:endParaRPr b="0" lang="en-US" sz="3400" spc="-1" strike="noStrike">
              <a:solidFill>
                <a:srgbClr val="11488b"/>
              </a:solidFill>
              <a:latin typeface="Corbe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79280" y="1600200"/>
          <a:ext cx="8507520" cy="4781520"/>
        </p:xfrm>
        <a:graphic>
          <a:graphicData uri="http://schemas.openxmlformats.org/drawingml/2006/table">
            <a:tbl>
              <a:tblPr/>
              <a:tblGrid>
                <a:gridCol w="2835360"/>
                <a:gridCol w="1125720"/>
                <a:gridCol w="1766880"/>
                <a:gridCol w="2779560"/>
              </a:tblGrid>
              <a:tr h="601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иближение,  присоединение, прибавл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хождение вблиз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ота действи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вивка  </a:t>
                      </a: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    Прида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чуда        Призыв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карпатье  </a:t>
                      </a:r>
                      <a:r>
                        <a:rPr b="0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стро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сказка           Приво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морь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солить           Прилож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поднять         Прикуп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заня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п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ходство с приставкой пере-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 степень качества или действ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дание                Превра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восходство      Преподнес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одо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вышение         Прес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сыщение         Преувели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мудр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8" name="WordArt 93"/>
          <p:cNvSpPr txBox="1"/>
          <p:nvPr/>
        </p:nvSpPr>
        <p:spPr>
          <a:xfrm>
            <a:off x="2700360" y="1700280"/>
            <a:ext cx="1800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</a:t>
            </a:r>
            <a:endParaRPr b="1" i="1" lang="en-US" sz="2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WordArt 95"/>
          <p:cNvSpPr txBox="1"/>
          <p:nvPr/>
        </p:nvSpPr>
        <p:spPr>
          <a:xfrm>
            <a:off x="2916360" y="4149720"/>
            <a:ext cx="1800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wheel spokes="3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Ответ: 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0e0e"/>
                </a:solidFill>
                <a:latin typeface="Corbel"/>
              </a:rPr>
              <a:t>около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чуда (в совр. знач. Причу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удо, историч. чуд – «нрав», «настроение», т.е. присущее нраву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0e0e"/>
                </a:solidFill>
                <a:latin typeface="Corbel"/>
              </a:rPr>
              <a:t>присоединение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стройка (пристроить что-либо к чему-либ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0e0e"/>
                </a:solidFill>
                <a:latin typeface="Corbel"/>
              </a:rPr>
              <a:t>Присоединение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ложить (добавить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0e0e"/>
                </a:solidFill>
                <a:latin typeface="Corbel"/>
              </a:rPr>
              <a:t>Высшая степень качества или действия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восходств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=пере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Пресечение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11488b"/>
                </a:solidFill>
                <a:latin typeface="Corbel"/>
              </a:rPr>
              <a:t>Алгоритм</a:t>
            </a: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grpSp>
        <p:nvGrpSpPr>
          <p:cNvPr id="418" name="Organization Chart 25"/>
          <p:cNvGrpSpPr/>
          <p:nvPr/>
        </p:nvGrpSpPr>
        <p:grpSpPr>
          <a:xfrm>
            <a:off x="431640" y="1052640"/>
            <a:ext cx="8208360" cy="4999680"/>
            <a:chOff x="431640" y="1052640"/>
            <a:chExt cx="8208360" cy="4999680"/>
          </a:xfrm>
        </p:grpSpPr>
        <p:cxnSp>
          <p:nvCxnSpPr>
            <p:cNvPr id="419" name="_s1028"/>
            <p:cNvCxnSpPr>
              <a:stCxn id="420" idx="0"/>
              <a:endCxn id="421" idx="2"/>
            </p:cNvCxnSpPr>
            <p:nvPr/>
          </p:nvCxnSpPr>
          <p:spPr>
            <a:xfrm flipV="1" rot="16200000">
              <a:off x="6470640" y="3805560"/>
              <a:ext cx="625680" cy="136836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2" name="_s1029"/>
            <p:cNvCxnSpPr>
              <a:stCxn id="423" idx="0"/>
              <a:endCxn id="421" idx="2"/>
            </p:cNvCxnSpPr>
            <p:nvPr/>
          </p:nvCxnSpPr>
          <p:spPr>
            <a:xfrm flipH="1" flipV="1" rot="5400000">
              <a:off x="5102640" y="3805200"/>
              <a:ext cx="625680" cy="136908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4" name="_s1030"/>
            <p:cNvCxnSpPr>
              <a:stCxn id="421" idx="1"/>
              <a:endCxn id="425" idx="2"/>
            </p:cNvCxnSpPr>
            <p:nvPr/>
          </p:nvCxnSpPr>
          <p:spPr>
            <a:xfrm rot="10800000">
              <a:off x="3166920" y="2301840"/>
              <a:ext cx="1760040" cy="12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6" name="_s1031"/>
            <p:cNvCxnSpPr>
              <a:stCxn id="427" idx="3"/>
              <a:endCxn id="425" idx="2"/>
            </p:cNvCxnSpPr>
            <p:nvPr/>
          </p:nvCxnSpPr>
          <p:spPr>
            <a:xfrm flipV="1">
              <a:off x="2776320" y="2302200"/>
              <a:ext cx="391320" cy="12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25" name="_s1032"/>
            <p:cNvSpPr/>
            <p:nvPr/>
          </p:nvSpPr>
          <p:spPr>
            <a:xfrm>
              <a:off x="1995120" y="105264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Если можно заменить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иставку словом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ОЧЕНЬ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ли приставкой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ЕР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_s1033"/>
            <p:cNvSpPr/>
            <p:nvPr/>
          </p:nvSpPr>
          <p:spPr>
            <a:xfrm>
              <a:off x="431640" y="292752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Пиши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ПР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_s1034"/>
            <p:cNvSpPr/>
            <p:nvPr/>
          </p:nvSpPr>
          <p:spPr>
            <a:xfrm>
              <a:off x="4926960" y="292752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предели, есть ли в ней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значения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«чуть-чуть»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«друг к другу»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«близко»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«около»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_s1035"/>
            <p:cNvSpPr/>
            <p:nvPr/>
          </p:nvSpPr>
          <p:spPr>
            <a:xfrm>
              <a:off x="3558600" y="480240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иши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_s1036"/>
            <p:cNvSpPr/>
            <p:nvPr/>
          </p:nvSpPr>
          <p:spPr>
            <a:xfrm>
              <a:off x="6294960" y="480240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Загляни в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СЛОВАРЬ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WordArt 42"/>
            <p:cNvSpPr txBox="1"/>
            <p:nvPr/>
          </p:nvSpPr>
          <p:spPr>
            <a:xfrm>
              <a:off x="4642200" y="1916640"/>
              <a:ext cx="1009440" cy="78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Нет</a:t>
              </a:r>
              <a:endPara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29" name="WordArt 44"/>
            <p:cNvSpPr txBox="1"/>
            <p:nvPr/>
          </p:nvSpPr>
          <p:spPr>
            <a:xfrm>
              <a:off x="684360" y="1842840"/>
              <a:ext cx="1080000" cy="86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Да</a:t>
              </a:r>
              <a:endParaRPr b="0" lang="en-US" sz="1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30" name="WordArt 40"/>
          <p:cNvSpPr txBox="1"/>
          <p:nvPr/>
        </p:nvSpPr>
        <p:spPr>
          <a:xfrm>
            <a:off x="7380360" y="3645000"/>
            <a:ext cx="100800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WordArt 41"/>
          <p:cNvSpPr txBox="1"/>
          <p:nvPr/>
        </p:nvSpPr>
        <p:spPr>
          <a:xfrm>
            <a:off x="3276720" y="3789360"/>
            <a:ext cx="107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6000">
    <p:wheel spokes="3"/>
    <p:sndAc>
      <p:stSnd>
        <p:snd r:embed="rId9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7" descr="j0336916"/>
          <p:cNvPicPr/>
          <p:nvPr/>
        </p:nvPicPr>
        <p:blipFill>
          <a:blip r:embed="rId1"/>
          <a:stretch/>
        </p:blipFill>
        <p:spPr>
          <a:xfrm>
            <a:off x="0" y="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79280" y="2565360"/>
          <a:ext cx="8713800" cy="3710160"/>
        </p:xfrm>
        <a:graphic>
          <a:graphicData uri="http://schemas.openxmlformats.org/drawingml/2006/table">
            <a:tbl>
              <a:tblPr/>
              <a:tblGrid>
                <a:gridCol w="4670640"/>
                <a:gridCol w="40431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ыдать кого-либо, передать врагу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ать (добавить) 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туп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ереступить через что-то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упить (начать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бывать (находитьс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раниц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ывать (приезжать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олиц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ем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должатель, последователь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ник (устройство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рать (считать недостойны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реть (приютить) сиро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WordArt 25"/>
          <p:cNvSpPr txBox="1"/>
          <p:nvPr/>
        </p:nvSpPr>
        <p:spPr>
          <a:xfrm>
            <a:off x="2771640" y="836640"/>
            <a:ext cx="389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зелок на память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2411280" y="692280"/>
            <a:ext cx="4535640" cy="790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8000">
    <p:wheel spokes="3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1488b"/>
                </a:solidFill>
                <a:uFillTx/>
                <a:latin typeface="Corbel"/>
              </a:rPr>
              <a:t>А теперь приглашаю Вас </a:t>
            </a:r>
            <a:br>
              <a:rPr sz="3600"/>
            </a:br>
            <a:r>
              <a:rPr b="0" lang="ru-RU" sz="3600" spc="-1" strike="noStrike" u="sng">
                <a:solidFill>
                  <a:srgbClr val="11488b"/>
                </a:solidFill>
                <a:uFillTx/>
                <a:latin typeface="Corbel"/>
              </a:rPr>
              <a:t>на тренировку.</a:t>
            </a:r>
            <a:endParaRPr b="0" lang="en-US" sz="36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438" name="Picture 22" descr="j0283641"/>
          <p:cNvPicPr/>
          <p:nvPr/>
        </p:nvPicPr>
        <p:blipFill>
          <a:blip r:embed="rId1"/>
          <a:stretch/>
        </p:blipFill>
        <p:spPr>
          <a:xfrm>
            <a:off x="3054240" y="3403440"/>
            <a:ext cx="419040" cy="905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3" descr="j0279242"/>
          <p:cNvPicPr/>
          <p:nvPr/>
        </p:nvPicPr>
        <p:blipFill>
          <a:blip r:embed="rId2"/>
          <a:stretch/>
        </p:blipFill>
        <p:spPr>
          <a:xfrm>
            <a:off x="5416560" y="2637000"/>
            <a:ext cx="2433600" cy="25207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2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2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488b"/>
                </a:solidFill>
                <a:latin typeface="Corbel"/>
              </a:rPr>
              <a:t>Упр. 122. Запишите слова на ПРИ- в четыре столбика, выделите приставки.</a:t>
            </a:r>
            <a:endParaRPr b="0" lang="en-US" sz="2800" spc="-1" strike="noStrike">
              <a:solidFill>
                <a:srgbClr val="11488b"/>
              </a:solidFill>
              <a:latin typeface="Corbe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50920" y="1600200"/>
          <a:ext cx="8435880" cy="4054320"/>
        </p:xfrm>
        <a:graphic>
          <a:graphicData uri="http://schemas.openxmlformats.org/drawingml/2006/table">
            <a:tbl>
              <a:tblPr/>
              <a:tblGrid>
                <a:gridCol w="2047680"/>
                <a:gridCol w="2189160"/>
                <a:gridCol w="2098800"/>
                <a:gridCol w="2100240"/>
              </a:tblGrid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Прибл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Присоеди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Приб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Распо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вблизи чего - нибу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Неполнота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Словарное 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егну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ирить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ы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вал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школь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ро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вор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е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становить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ы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адумать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иго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ау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а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редл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то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ыч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ю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488b"/>
                </a:solidFill>
                <a:latin typeface="Corbel"/>
              </a:rPr>
              <a:t> </a:t>
            </a:r>
            <a:r>
              <a:rPr b="0" lang="ru-RU" sz="2900" spc="-1" strike="noStrike">
                <a:solidFill>
                  <a:srgbClr val="11488b"/>
                </a:solidFill>
                <a:latin typeface="Corbel"/>
              </a:rPr>
              <a:t>Запишите   в тетрадях слова с приставкой ПРЕ-, объясняя значение,  в три столбика:</a:t>
            </a:r>
            <a:endParaRPr b="0" lang="en-US" sz="2900" spc="-1" strike="noStrike">
              <a:solidFill>
                <a:srgbClr val="11488b"/>
              </a:solidFill>
              <a:latin typeface="Corbe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57200" y="2060640"/>
          <a:ext cx="8229600" cy="4321080"/>
        </p:xfrm>
        <a:graphic>
          <a:graphicData uri="http://schemas.openxmlformats.org/drawingml/2006/table">
            <a:tbl>
              <a:tblPr/>
              <a:tblGrid>
                <a:gridCol w="2817720"/>
                <a:gridCol w="2778120"/>
                <a:gridCol w="263376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20e0e"/>
                          </a:solidFill>
                          <a:latin typeface="Times New Roman"/>
                          <a:ea typeface="Times New Roman"/>
                        </a:rPr>
                        <a:t>= оч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20e0e"/>
                          </a:solidFill>
                          <a:latin typeface="Times New Roman"/>
                          <a:ea typeface="Times New Roman"/>
                        </a:rPr>
                        <a:t>= пер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20e0e"/>
                          </a:solidFill>
                          <a:latin typeface="Times New Roman"/>
                          <a:ea typeface="Times New Roman"/>
                        </a:rPr>
                        <a:t>Словарное сло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мудр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с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еч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град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бы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р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ращ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сподня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0">
    <p:wheel spokes="3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4"/>
          <p:cNvSpPr/>
          <p:nvPr/>
        </p:nvSpPr>
        <p:spPr>
          <a:xfrm>
            <a:off x="250920" y="-149400"/>
            <a:ext cx="8893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ставьте гласные в приставки.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Если вы употребили букву </a:t>
            </a:r>
            <a:r>
              <a:rPr b="1" i="1" lang="ru-RU" sz="2800" spc="-1" strike="noStrike">
                <a:solidFill>
                  <a:srgbClr val="f20e0e"/>
                </a:solidFill>
                <a:latin typeface="Tahoma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, то из заданного к слову числа </a:t>
            </a:r>
            <a:r>
              <a:rPr b="0" i="1" lang="ru-RU" sz="2800" spc="-1" strike="noStrike">
                <a:solidFill>
                  <a:srgbClr val="66ffcc"/>
                </a:solidFill>
                <a:latin typeface="Tahoma"/>
              </a:rPr>
              <a:t>вычтите 5 единиц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если букву </a:t>
            </a:r>
            <a:r>
              <a:rPr b="1" i="1" lang="ru-RU" sz="2800" spc="-1" strike="noStrike">
                <a:solidFill>
                  <a:srgbClr val="f20e0e"/>
                </a:solidFill>
                <a:latin typeface="Tahoma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0" i="1" lang="ru-RU" sz="2800" spc="-1" strike="noStrike">
                <a:solidFill>
                  <a:srgbClr val="66ffcc"/>
                </a:solidFill>
                <a:latin typeface="Tahoma"/>
              </a:rPr>
              <a:t>прибавьте к числу 5 единиц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мените вновь получившиеся числа буквами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пишите предложение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оторое сложилось из этих бук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асставьте в нем знаки препинан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1511280" y="189000"/>
          <a:ext cx="7632720" cy="6408720"/>
        </p:xfrm>
        <a:graphic>
          <a:graphicData uri="http://schemas.openxmlformats.org/drawingml/2006/table">
            <a:tbl>
              <a:tblPr/>
              <a:tblGrid>
                <a:gridCol w="2973240"/>
                <a:gridCol w="747720"/>
                <a:gridCol w="3040200"/>
                <a:gridCol w="871560"/>
              </a:tblGrid>
              <a:tr h="69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крепкий с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уральская дол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украсить костю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думать расска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красный д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следовать зве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тупиться от ржав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бавка к зарпла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_станно грохот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обрести това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берегать на зи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кратить разгов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вратиться в ста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твориться глухи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баут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готовиться к работе Пр_вышать власть Пр_крепить к доск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брежный рай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лечь посп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увеличивать опас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пятствие на пу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слоняться к сте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ломить сопроти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сытиться сладким Пр_ласкать собак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одолеть труд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_рывно боле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нудить к рабо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_менно  сдел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гореть к сковород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сечь разгов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морский кра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возмочь болез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даное к свадь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образить жиз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восходить все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возносить до небе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5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0" y="189000"/>
          <a:ext cx="9144000" cy="6408720"/>
        </p:xfrm>
        <a:graphic>
          <a:graphicData uri="http://schemas.openxmlformats.org/drawingml/2006/table">
            <a:tbl>
              <a:tblPr/>
              <a:tblGrid>
                <a:gridCol w="3174840"/>
                <a:gridCol w="1373400"/>
                <a:gridCol w="3038400"/>
                <a:gridCol w="1557360"/>
              </a:tblGrid>
              <a:tr h="85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крепкий с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уральская дол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украсить костю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думать расска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красный д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следовать зве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тупиться от ржав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бавка к зарпла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Естанно грохот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обрести това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берегать на зи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кратить разгов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вратиться в ста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твориться глухи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баут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готовиться к работе ПрЕвышать власть ПрИкрепить к доск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брежный рай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+5=15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-5=6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-5=15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-5=1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+5=19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+5=20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5-5=30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-5=6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+5=31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-5=20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-5=16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+5=15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+5=6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-5=17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-5=16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-5=4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 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+5=16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-5=5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-5=1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лечь посп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увеличивать опас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пятствие на пу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слоняться к сте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ломить сопроти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сытиться сладким ПрИласкать собак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одолеть труд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Ерывно боле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удить к рабо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Еменно  сдел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гореть к сковород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сечь разгов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морский кра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возмочь болез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даное к свадь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образить жиз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восходить все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возносить до небе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-5=5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+5=16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+5=8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-5=5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+5=30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+5=10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-5=13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+5=10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+5=19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-5=15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+5=6  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-5=4   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+5=19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-5=3   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+5=6  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-5=20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+5=18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+5=16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+5=14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5000">
    <p:wheel spokes="3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2:55:54Z</dcterms:created>
  <dc:creator>Витамин</dc:creator>
  <dc:description/>
  <dc:language>en-US</dc:language>
  <cp:lastModifiedBy>Пользователь</cp:lastModifiedBy>
  <dcterms:modified xsi:type="dcterms:W3CDTF">2018-11-27T13:58:01Z</dcterms:modified>
  <cp:revision>42</cp:revision>
  <dc:subject/>
  <dc:title>Слайд 1</dc:title>
</cp:coreProperties>
</file>