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8.png" ContentType="image/png"/>
  <Override PartName="/ppt/media/image12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9.gif" ContentType="image/gif"/>
  <Override PartName="/ppt/media/image10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994-D303-473C-A5E2-5CA9A04C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22E-541E-4F0D-B538-16D68EE1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04F73-CDA9-455E-A6B5-272F21C6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F8201-D188-4BC8-83D5-B0247E62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67B16-95D5-4109-A20C-B5E458A7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E079D-10BB-45E7-AC3D-18D32052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51193-0084-4101-B61B-13476867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60F62-76FF-47FA-A031-C0F442CF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BC62A-8850-4114-A89E-4C25C0CB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D5EA8-11DF-4EF0-99EE-FCCB8E61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46E9A-3528-41C0-AC2C-D8B00C79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1CF-281F-4CEC-A165-027C0B13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A9B-AA18-4515-8288-3F1E0BF0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A23A-D378-4036-8AF1-8D50CEDE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6E10-2E85-47B3-B205-E96B4299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9521-FFCF-4341-BDD1-B81C6078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FDDE-B7D3-4688-A7FD-75FBE3F0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3E12-AF1C-4C1C-BE4A-6A4E2E54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9B97-5C07-4D39-88AA-1AF876CC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6513-F7BF-42C2-9FF6-7B7E28A0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6DA-A054-42D6-B749-3E4331EF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3635-E992-4B54-B562-4CEE8F2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CA93-8771-4026-9199-65AB6568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64B7-1EF1-4EBE-B412-CC10D020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4ADE-F25A-4C04-BB35-39ABB871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1A99-EFE8-43F4-86D6-BD1ABDBA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DCC1-A3BA-49DD-8D45-C47AD742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CD69-81D1-4F60-995F-B6D2BD22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86C4-DB43-4835-ADC2-70CFDE6C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C7CF-2316-4EB4-95E7-B15F6C73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8268-BF82-4B55-BEBD-F0447EDA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249-EEDF-434E-9CC5-6355A4B7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B2F0-9FBB-4B97-8A67-74F43251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2EAA-A83A-43AA-9EAF-516B8F48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6A4A-F7AA-48F0-B698-9A09E349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55DE-2C7B-469D-80B4-E225244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F0D4-AA09-419A-9C24-A32E0615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BAF1-8C24-412B-B67F-D09557DB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CF4D-70AA-4EA5-9662-5E4183F5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1209-9B96-4997-91E6-87A2A54A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5DEC5-B2DD-4437-8A50-2C5A071D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C73E-55EB-4365-9CCB-E48331C0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911-67C2-490B-AB27-76BF06D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BECC5-93D6-4971-A962-879412F4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C917-6E2D-48D4-B64C-C34A13DF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806E6-09BD-426A-AC4D-D15A0064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F878-B580-47C7-8B91-C20A21C7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AFC8-0E4D-4B1C-A0C8-D4A5634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EC76-AEFE-44ED-90EC-37DA4356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5AAF-EF8A-4F47-B8DA-114F0F7E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2F4B-1ACF-4A37-AA7B-463857CB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D7C5-8F6D-4A3C-AB70-5025DECD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E9B2-15C5-4053-914C-4D751025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541-E5F6-4A9A-B815-8E96B2CE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866AA-10F2-4632-B0BD-783EEA09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5918D-F05D-4F28-9D1B-9EFE544C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434C0-6AEE-4DF5-B869-0B29063F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6AE5-42E8-45DB-8B84-25C8349E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F8A61-68DF-43CA-BB74-DD6CC68E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40228-FEC7-498F-9373-00BCF69B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742B1-E026-4454-AA68-76B89EC3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7892-ABBB-46DF-8141-1A908671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DF866-4F76-49D0-8743-7E2CA41F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D02ED-B07F-4236-B52F-1FB94B36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4EF-A52A-4F2D-B19F-D07CEC21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C473E-E7BE-47B3-828D-D15F31A6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FFFE0-DA3F-494D-9AA1-1B89FB03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4AE6D-1CC9-40AF-9AAC-7E144982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C1211-30A3-4C77-AC97-F690DEA1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503A2-4E7F-4419-B439-B1B42BE6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A63AB-5FDB-4645-B229-D24586B7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E4B57-C60B-4870-A693-998B389E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60B22-A226-43F6-B648-9FB0EAC6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15E1E-19D4-4054-90FA-C13C9F7C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7FDB1-D50C-4715-910F-61CF04E3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790-49A6-4A41-9E2F-A8C3F4C4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84728-F3FE-4221-B89E-32343766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7A402-B1A0-4E66-B7F1-3D8DDB08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ABB60-4EF7-4C5B-BE8D-2B65CD8C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599DD-8CC3-437D-A388-F35907F9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CB7D8-2B6A-4925-8182-812B6545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07453-66C8-4B75-A2D2-ABB109E8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655B8-CA64-4091-B9E2-66DDB1C9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2CD9B-1D49-427D-A305-50A41D50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40D99-698A-416E-A192-1E71C5D4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04426-62AE-4623-9ED8-7B0B0D64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B48-95E6-48E7-A6C5-65D0225F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3CC68-ABE4-4C15-BA86-0287BEEC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FE594-D193-41A3-80F4-6F27AF72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7C996-1392-4B8C-8E6E-DBE0CFA2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7CE5D-0AD3-4F85-BD44-9267921F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5864B-1FF9-4079-B013-A0BA354C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C70C05-FEC5-435F-80DE-C5977847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E5BF37-08A6-41D9-828D-211F4AF9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75E443-6D10-40BB-8786-D69BEA66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5B6F5-5ABA-4396-A974-26653BA1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24F5F-270D-43E3-84A0-C57CD035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23F-7F63-466A-B244-C4CD2B5B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0DF85F-2EA1-49A5-8598-5A76C56C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114CB1-C6BD-42DB-B795-7708EBC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BC4AC8-258D-40E7-9D9C-8FA8855F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6315CD-40AC-406D-B7FE-1FBA9F43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EA87FE-88D3-4341-A249-45A615B4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B508D-7525-432C-90C4-60BBCBD9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652983-43A7-41BA-8F9E-A86E0986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BFD83-F288-4222-ABE0-AC74E27D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E477D-B5FB-4582-A8F9-0E616608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FFA6E-7E73-4FD3-A6A0-88803DFB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B904-91CD-4C8F-94B3-B995B10A4278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F53D-EA16-418C-BC33-D1B27C462C87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2ED7-1778-4952-A380-83AB9D828639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4758-2AA1-4E98-91A8-4F7E48DDC8B1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665-84E6-4926-9C13-58AFDC891F80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E047-8C53-4EC8-A580-DA281DB2749A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54E5-D1FB-419C-8A18-E5CFA8088209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779D-7CC4-44BA-8ACB-D32FBCD14525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14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064a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FDEF-97B0-43B2-A61F-9AB5C08A7309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5"/>
          <p:cNvSpPr txBox="1"/>
          <p:nvPr/>
        </p:nvSpPr>
        <p:spPr>
          <a:xfrm>
            <a:off x="1692360" y="1341360"/>
            <a:ext cx="705636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i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WordArt 10"/>
          <p:cNvSpPr txBox="1"/>
          <p:nvPr/>
        </p:nvSpPr>
        <p:spPr>
          <a:xfrm>
            <a:off x="4356000" y="981000"/>
            <a:ext cx="172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1547640" y="2492280"/>
            <a:ext cx="54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тавки ПРИ- ПРЕ-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19000">
    <p:wheel spokes="3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4"/>
          <p:cNvSpPr/>
          <p:nvPr/>
        </p:nvSpPr>
        <p:spPr>
          <a:xfrm>
            <a:off x="250920" y="2760120"/>
            <a:ext cx="8424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настье – это непогод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ождь или снег с ветр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9" descr="j0237591"/>
          <p:cNvPicPr/>
          <p:nvPr/>
        </p:nvPicPr>
        <p:blipFill>
          <a:blip r:embed="rId1"/>
          <a:stretch/>
        </p:blipFill>
        <p:spPr>
          <a:xfrm>
            <a:off x="250920" y="3284640"/>
            <a:ext cx="2520720" cy="2663640"/>
          </a:xfrm>
          <a:prstGeom prst="rect">
            <a:avLst/>
          </a:prstGeom>
          <a:ln w="0">
            <a:noFill/>
          </a:ln>
        </p:spPr>
      </p:pic>
      <p:sp>
        <p:nvSpPr>
          <p:cNvPr id="451" name="WordArt 21"/>
          <p:cNvSpPr txBox="1"/>
          <p:nvPr/>
        </p:nvSpPr>
        <p:spPr>
          <a:xfrm rot="1452600">
            <a:off x="5651640" y="4292280"/>
            <a:ext cx="41904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2" name="WordArt 22"/>
          <p:cNvSpPr txBox="1"/>
          <p:nvPr/>
        </p:nvSpPr>
        <p:spPr>
          <a:xfrm rot="19817400">
            <a:off x="7451640" y="4220640"/>
            <a:ext cx="45900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3" name="WordArt 23"/>
          <p:cNvSpPr txBox="1"/>
          <p:nvPr/>
        </p:nvSpPr>
        <p:spPr>
          <a:xfrm rot="5695800">
            <a:off x="4834800" y="2660400"/>
            <a:ext cx="43200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4" name="WordArt 24"/>
          <p:cNvSpPr txBox="1"/>
          <p:nvPr/>
        </p:nvSpPr>
        <p:spPr>
          <a:xfrm rot="10800000">
            <a:off x="6372360" y="1125000"/>
            <a:ext cx="419040" cy="21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5" name="WordArt 25"/>
          <p:cNvSpPr txBox="1"/>
          <p:nvPr/>
        </p:nvSpPr>
        <p:spPr>
          <a:xfrm rot="16200000">
            <a:off x="7626960" y="2851560"/>
            <a:ext cx="576360" cy="16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11488b"/>
                </a:solidFill>
                <a:latin typeface="Corbel"/>
              </a:rPr>
              <a:t>Из каждой группы слов с заданным значением приставки уберите лишнее слово</a:t>
            </a:r>
            <a:endParaRPr b="0" lang="en-US" sz="3400" spc="-1" strike="noStrike">
              <a:solidFill>
                <a:srgbClr val="11488b"/>
              </a:solidFill>
              <a:latin typeface="Corbe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79280" y="1600200"/>
          <a:ext cx="8507520" cy="4781520"/>
        </p:xfrm>
        <a:graphic>
          <a:graphicData uri="http://schemas.openxmlformats.org/drawingml/2006/table">
            <a:tbl>
              <a:tblPr/>
              <a:tblGrid>
                <a:gridCol w="2835360"/>
                <a:gridCol w="1125720"/>
                <a:gridCol w="1766880"/>
                <a:gridCol w="2779560"/>
              </a:tblGrid>
              <a:tr h="601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иближение,  присоединение, прибавле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хождение вблиз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ота действи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вивка  </a:t>
                      </a: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    Прида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чуда        Призыв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карпатье  </a:t>
                      </a:r>
                      <a:r>
                        <a:rPr b="0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стро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сказка           Приво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морь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солить           Прилож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поднять         Прикуп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изаня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пе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ходство с приставкой пере-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ая степень качества или действ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4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дание                Превра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восходство      Преподнес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одо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вышение         Пресе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сыщение         Преувели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Премудр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8" name="WordArt 93"/>
          <p:cNvSpPr txBox="1"/>
          <p:nvPr/>
        </p:nvSpPr>
        <p:spPr>
          <a:xfrm>
            <a:off x="2700360" y="1700280"/>
            <a:ext cx="1800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</a:t>
            </a:r>
            <a:endParaRPr b="1" i="1" lang="en-US" sz="2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WordArt 95"/>
          <p:cNvSpPr txBox="1"/>
          <p:nvPr/>
        </p:nvSpPr>
        <p:spPr>
          <a:xfrm>
            <a:off x="2916360" y="4149720"/>
            <a:ext cx="1800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wheel spokes="3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Ответ: 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0e0e"/>
                </a:solidFill>
                <a:latin typeface="Corbel"/>
              </a:rPr>
              <a:t>около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чуда (в совр. знач. Причуда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&lt;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удо, историч. чуд – «нрав», «настроение», т.е. присущее нраву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0e0e"/>
                </a:solidFill>
                <a:latin typeface="Corbel"/>
              </a:rPr>
              <a:t>присоединение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стройка (пристроить что-либо к чему-либо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0e0e"/>
                </a:solidFill>
                <a:latin typeface="Corbel"/>
              </a:rPr>
              <a:t>Присоединение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ложить (добавить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20e0e"/>
                </a:solidFill>
                <a:latin typeface="Corbel"/>
              </a:rPr>
              <a:t>Высшая степень качества или действия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восходств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=пере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Пресечение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11488b"/>
                </a:solidFill>
                <a:latin typeface="Corbel"/>
              </a:rPr>
              <a:t>Алгоритм</a:t>
            </a: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grpSp>
        <p:nvGrpSpPr>
          <p:cNvPr id="418" name="Organization Chart 25"/>
          <p:cNvGrpSpPr/>
          <p:nvPr/>
        </p:nvGrpSpPr>
        <p:grpSpPr>
          <a:xfrm>
            <a:off x="431640" y="1052640"/>
            <a:ext cx="8208360" cy="4999680"/>
            <a:chOff x="431640" y="1052640"/>
            <a:chExt cx="8208360" cy="4999680"/>
          </a:xfrm>
        </p:grpSpPr>
        <p:cxnSp>
          <p:nvCxnSpPr>
            <p:cNvPr id="419" name="_s1028"/>
            <p:cNvCxnSpPr>
              <a:stCxn id="420" idx="0"/>
              <a:endCxn id="421" idx="2"/>
            </p:cNvCxnSpPr>
            <p:nvPr/>
          </p:nvCxnSpPr>
          <p:spPr>
            <a:xfrm flipV="1" rot="16200000">
              <a:off x="6470640" y="3805560"/>
              <a:ext cx="625680" cy="1368360"/>
            </a:xfrm>
            <a:prstGeom prst="bentConnector3">
              <a:avLst>
                <a:gd name="adj1" fmla="val 20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2" name="_s1029"/>
            <p:cNvCxnSpPr>
              <a:stCxn id="423" idx="0"/>
              <a:endCxn id="421" idx="2"/>
            </p:cNvCxnSpPr>
            <p:nvPr/>
          </p:nvCxnSpPr>
          <p:spPr>
            <a:xfrm flipH="1" flipV="1" rot="5400000">
              <a:off x="5102640" y="3805200"/>
              <a:ext cx="625680" cy="1369080"/>
            </a:xfrm>
            <a:prstGeom prst="bentConnector3">
              <a:avLst>
                <a:gd name="adj1" fmla="val 20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4" name="_s1030"/>
            <p:cNvCxnSpPr>
              <a:stCxn id="421" idx="1"/>
              <a:endCxn id="425" idx="2"/>
            </p:cNvCxnSpPr>
            <p:nvPr/>
          </p:nvCxnSpPr>
          <p:spPr>
            <a:xfrm rot="10800000">
              <a:off x="3166920" y="2301840"/>
              <a:ext cx="1760040" cy="125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6" name="_s1031"/>
            <p:cNvCxnSpPr>
              <a:stCxn id="427" idx="3"/>
              <a:endCxn id="425" idx="2"/>
            </p:cNvCxnSpPr>
            <p:nvPr/>
          </p:nvCxnSpPr>
          <p:spPr>
            <a:xfrm flipV="1">
              <a:off x="2776320" y="2302200"/>
              <a:ext cx="391320" cy="125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25" name="_s1032"/>
            <p:cNvSpPr/>
            <p:nvPr/>
          </p:nvSpPr>
          <p:spPr>
            <a:xfrm>
              <a:off x="1995120" y="1052640"/>
              <a:ext cx="2345040" cy="1249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Если можно заменить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иставку словом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ОЧЕНЬ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или приставкой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ЕР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_s1033"/>
            <p:cNvSpPr/>
            <p:nvPr/>
          </p:nvSpPr>
          <p:spPr>
            <a:xfrm>
              <a:off x="431640" y="2927520"/>
              <a:ext cx="2345040" cy="1249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Пиши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ПР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_s1034"/>
            <p:cNvSpPr/>
            <p:nvPr/>
          </p:nvSpPr>
          <p:spPr>
            <a:xfrm>
              <a:off x="4926960" y="2927520"/>
              <a:ext cx="2345040" cy="1249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предели, есть ли в ней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значения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«чуть-чуть»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«друг к другу»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«близко»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«около»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_s1035"/>
            <p:cNvSpPr/>
            <p:nvPr/>
          </p:nvSpPr>
          <p:spPr>
            <a:xfrm>
              <a:off x="3558600" y="4802400"/>
              <a:ext cx="2345040" cy="1249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иши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Р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_s1036"/>
            <p:cNvSpPr/>
            <p:nvPr/>
          </p:nvSpPr>
          <p:spPr>
            <a:xfrm>
              <a:off x="6294960" y="4802400"/>
              <a:ext cx="2345040" cy="1249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Загляни в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СЛОВАРЬ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WordArt 42"/>
            <p:cNvSpPr txBox="1"/>
            <p:nvPr/>
          </p:nvSpPr>
          <p:spPr>
            <a:xfrm>
              <a:off x="4642200" y="1916640"/>
              <a:ext cx="1009440" cy="78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Нет</a:t>
              </a:r>
              <a:endParaRPr b="0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29" name="WordArt 44"/>
            <p:cNvSpPr txBox="1"/>
            <p:nvPr/>
          </p:nvSpPr>
          <p:spPr>
            <a:xfrm>
              <a:off x="684360" y="1842840"/>
              <a:ext cx="1080000" cy="86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Да</a:t>
              </a:r>
              <a:endParaRPr b="0" lang="en-US" sz="1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30" name="WordArt 40"/>
          <p:cNvSpPr txBox="1"/>
          <p:nvPr/>
        </p:nvSpPr>
        <p:spPr>
          <a:xfrm>
            <a:off x="7380360" y="3645000"/>
            <a:ext cx="100800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WordArt 41"/>
          <p:cNvSpPr txBox="1"/>
          <p:nvPr/>
        </p:nvSpPr>
        <p:spPr>
          <a:xfrm>
            <a:off x="3276720" y="3789360"/>
            <a:ext cx="107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6000">
    <p:wheel spokes="3"/>
    <p:sndAc>
      <p:stSnd>
        <p:snd r:embed="rId9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7" descr="j0336916"/>
          <p:cNvPicPr/>
          <p:nvPr/>
        </p:nvPicPr>
        <p:blipFill>
          <a:blip r:embed="rId1"/>
          <a:stretch/>
        </p:blipFill>
        <p:spPr>
          <a:xfrm>
            <a:off x="0" y="0"/>
            <a:ext cx="2166840" cy="2708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11488b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11488b"/>
              </a:solidFill>
              <a:latin typeface="Corbe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79280" y="2565360"/>
          <a:ext cx="8713800" cy="3710160"/>
        </p:xfrm>
        <a:graphic>
          <a:graphicData uri="http://schemas.openxmlformats.org/drawingml/2006/table">
            <a:tbl>
              <a:tblPr/>
              <a:tblGrid>
                <a:gridCol w="4670640"/>
                <a:gridCol w="40431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ыдать кого-либо, передать врагу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ать (добавить) 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ступи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ереступить через что-то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упить (начать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бывать (находитьс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раниц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ывать (приезжать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олиц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ем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должатель, последователь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ник (устройство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ирать (считать недостойным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реть (приютить) сиро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WordArt 25"/>
          <p:cNvSpPr txBox="1"/>
          <p:nvPr/>
        </p:nvSpPr>
        <p:spPr>
          <a:xfrm>
            <a:off x="2771640" y="836640"/>
            <a:ext cx="389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зелок на память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6" name="AutoShape 30"/>
          <p:cNvSpPr/>
          <p:nvPr/>
        </p:nvSpPr>
        <p:spPr>
          <a:xfrm>
            <a:off x="2411280" y="692280"/>
            <a:ext cx="4535640" cy="790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48000">
    <p:wheel spokes="3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1488b"/>
                </a:solidFill>
                <a:uFillTx/>
                <a:latin typeface="Corbel"/>
              </a:rPr>
              <a:t>А теперь приглашаю Вас </a:t>
            </a:r>
            <a:br>
              <a:rPr sz="3600"/>
            </a:br>
            <a:r>
              <a:rPr b="0" lang="ru-RU" sz="3600" spc="-1" strike="noStrike" u="sng">
                <a:solidFill>
                  <a:srgbClr val="11488b"/>
                </a:solidFill>
                <a:uFillTx/>
                <a:latin typeface="Corbel"/>
              </a:rPr>
              <a:t>на тренировку.</a:t>
            </a:r>
            <a:endParaRPr b="0" lang="en-US" sz="3600" spc="-1" strike="noStrike">
              <a:solidFill>
                <a:srgbClr val="11488b"/>
              </a:solidFill>
              <a:latin typeface="Corbel"/>
            </a:endParaRPr>
          </a:p>
        </p:txBody>
      </p:sp>
      <p:pic>
        <p:nvPicPr>
          <p:cNvPr id="438" name="Picture 22" descr="j0283641"/>
          <p:cNvPicPr/>
          <p:nvPr/>
        </p:nvPicPr>
        <p:blipFill>
          <a:blip r:embed="rId1"/>
          <a:stretch/>
        </p:blipFill>
        <p:spPr>
          <a:xfrm>
            <a:off x="3054240" y="3403440"/>
            <a:ext cx="419040" cy="905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3" descr="j0279242"/>
          <p:cNvPicPr/>
          <p:nvPr/>
        </p:nvPicPr>
        <p:blipFill>
          <a:blip r:embed="rId2"/>
          <a:stretch/>
        </p:blipFill>
        <p:spPr>
          <a:xfrm>
            <a:off x="5416560" y="2637000"/>
            <a:ext cx="2433600" cy="25207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24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2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488b"/>
                </a:solidFill>
                <a:latin typeface="Corbel"/>
              </a:rPr>
              <a:t>Упр. 122. Запишите слова на ПРИ- в четыре столбика, выделите приставки.</a:t>
            </a:r>
            <a:endParaRPr b="0" lang="en-US" sz="2800" spc="-1" strike="noStrike">
              <a:solidFill>
                <a:srgbClr val="11488b"/>
              </a:solidFill>
              <a:latin typeface="Corbe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50920" y="1600200"/>
          <a:ext cx="8435880" cy="4054320"/>
        </p:xfrm>
        <a:graphic>
          <a:graphicData uri="http://schemas.openxmlformats.org/drawingml/2006/table">
            <a:tbl>
              <a:tblPr/>
              <a:tblGrid>
                <a:gridCol w="2047680"/>
                <a:gridCol w="2189160"/>
                <a:gridCol w="2098800"/>
                <a:gridCol w="2100240"/>
              </a:tblGrid>
              <a:tr h="12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Прибл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Присоеди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Приб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Распо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вблизи чего - нибу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Неполнота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ffcc"/>
                          </a:solidFill>
                          <a:latin typeface="Times New Roman"/>
                          <a:ea typeface="Times New Roman"/>
                        </a:rPr>
                        <a:t>Словарное 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егну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ирить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лаш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ыв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вал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школь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оро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вори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е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становить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ы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адумать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игод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ау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а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редл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гото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ыч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ю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0000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1488b"/>
                </a:solidFill>
                <a:latin typeface="Corbel"/>
              </a:rPr>
              <a:t> </a:t>
            </a:r>
            <a:r>
              <a:rPr b="0" lang="ru-RU" sz="2900" spc="-1" strike="noStrike">
                <a:solidFill>
                  <a:srgbClr val="11488b"/>
                </a:solidFill>
                <a:latin typeface="Corbel"/>
              </a:rPr>
              <a:t>Запишите   в тетрадях слова с приставкой ПРЕ-, объясняя значение,  в три столбика:</a:t>
            </a:r>
            <a:endParaRPr b="0" lang="en-US" sz="2900" spc="-1" strike="noStrike">
              <a:solidFill>
                <a:srgbClr val="11488b"/>
              </a:solidFill>
              <a:latin typeface="Corbe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57200" y="2060640"/>
          <a:ext cx="8229600" cy="4321080"/>
        </p:xfrm>
        <a:graphic>
          <a:graphicData uri="http://schemas.openxmlformats.org/drawingml/2006/table">
            <a:tbl>
              <a:tblPr/>
              <a:tblGrid>
                <a:gridCol w="2817720"/>
                <a:gridCol w="2778120"/>
                <a:gridCol w="263376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20e0e"/>
                          </a:solidFill>
                          <a:latin typeface="Times New Roman"/>
                          <a:ea typeface="Times New Roman"/>
                        </a:rPr>
                        <a:t>= оч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20e0e"/>
                          </a:solidFill>
                          <a:latin typeface="Times New Roman"/>
                          <a:ea typeface="Times New Roman"/>
                        </a:rPr>
                        <a:t>= пер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20e0e"/>
                          </a:solidFill>
                          <a:latin typeface="Times New Roman"/>
                          <a:ea typeface="Times New Roman"/>
                        </a:rPr>
                        <a:t>Словарное сло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мудр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с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еч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гради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бы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р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д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ращ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сподня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0000">
    <p:wheel spokes="3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4"/>
          <p:cNvSpPr/>
          <p:nvPr/>
        </p:nvSpPr>
        <p:spPr>
          <a:xfrm>
            <a:off x="250920" y="-149400"/>
            <a:ext cx="8893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ставьте гласные в приставки.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Если вы употребили букву </a:t>
            </a:r>
            <a:r>
              <a:rPr b="1" i="1" lang="ru-RU" sz="2800" spc="-1" strike="noStrike">
                <a:solidFill>
                  <a:srgbClr val="f20e0e"/>
                </a:solidFill>
                <a:latin typeface="Tahoma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, то из заданного к слову числа </a:t>
            </a:r>
            <a:r>
              <a:rPr b="0" i="1" lang="ru-RU" sz="2800" spc="-1" strike="noStrike">
                <a:solidFill>
                  <a:srgbClr val="66ffcc"/>
                </a:solidFill>
                <a:latin typeface="Tahoma"/>
              </a:rPr>
              <a:t>вычтите 5 единиц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если букву </a:t>
            </a:r>
            <a:r>
              <a:rPr b="1" i="1" lang="ru-RU" sz="2800" spc="-1" strike="noStrike">
                <a:solidFill>
                  <a:srgbClr val="f20e0e"/>
                </a:solidFill>
                <a:latin typeface="Tahoma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о </a:t>
            </a:r>
            <a:r>
              <a:rPr b="0" i="1" lang="ru-RU" sz="2800" spc="-1" strike="noStrike">
                <a:solidFill>
                  <a:srgbClr val="66ffcc"/>
                </a:solidFill>
                <a:latin typeface="Tahoma"/>
              </a:rPr>
              <a:t>прибавьте к числу 5 единиц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амените вновь получившиеся числа буквами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апишите предложение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оторое сложилось из этих бук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асставьте в нем знаки препинан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1511280" y="189000"/>
          <a:ext cx="7632720" cy="6408720"/>
        </p:xfrm>
        <a:graphic>
          <a:graphicData uri="http://schemas.openxmlformats.org/drawingml/2006/table">
            <a:tbl>
              <a:tblPr/>
              <a:tblGrid>
                <a:gridCol w="2973240"/>
                <a:gridCol w="747720"/>
                <a:gridCol w="3040200"/>
                <a:gridCol w="871560"/>
              </a:tblGrid>
              <a:tr h="69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крепкий с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уральская дол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украсить костю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думать расска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красный д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следовать зве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тупиться от ржав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бавка к зарпла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_станно грохот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обрести това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берегать на зи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кратить разгов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вратиться в ста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твориться глухи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баут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готовиться к работе Пр_вышать власть Пр_крепить к доск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брежный рай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лечь посп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увеличивать опас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пятствие на пу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слоняться к сте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ломить сопроти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сытиться сладким Пр_ласкать собак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одолеть труд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_рывно боле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нудить к рабо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_менно  сдел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гореть к сковород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сечь разгов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морский кра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возмочь болез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даное к свадь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образить жиз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восходить все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_возносить до небе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5000">
    <p:wheel spokes="3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0" y="189000"/>
          <a:ext cx="9144000" cy="6408720"/>
        </p:xfrm>
        <a:graphic>
          <a:graphicData uri="http://schemas.openxmlformats.org/drawingml/2006/table">
            <a:tbl>
              <a:tblPr/>
              <a:tblGrid>
                <a:gridCol w="3174840"/>
                <a:gridCol w="1373400"/>
                <a:gridCol w="3038400"/>
                <a:gridCol w="1557360"/>
              </a:tblGrid>
              <a:tr h="85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крепкий с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уральская дол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украсить костю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думать расска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красный д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следовать звер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тупиться от ржав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бавка к зарпла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Естанно грохот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обрести това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берегать на зи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кратить разгов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вратиться в ста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твориться глухи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баут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готовиться к работе ПрЕвышать власть ПрИкрепить к доск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брежный рай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+5=15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-5=6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-5=15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-5=1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+5=19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+5=20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5-5=30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-5=6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+5=31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-5=20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-5=16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+5=15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+5=6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-5=17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-5=16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-5=4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 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+5=16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-5=5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-5=1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лечь посп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увеличивать опас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пятствие на пу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слоняться к сте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ломить сопроти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сытиться сладким ПрИласкать собак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одолеть труд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Ерывно боле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нудить к рабо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Еменно  сдел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гореть к сковород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сечь разгов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морский кра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возмочь болез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Иданое к свадь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образить жиз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восходить все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Евозносить до небе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-5=5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+5=16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+5=8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-5=5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+5=30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+5=10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-5=13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+5=10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+5=19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-5=15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+5=6  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-5=4   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+5=19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-5=3   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+5=6   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-5=20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+5=18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+5=16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+5=14       </a:t>
                      </a:r>
                      <a:r>
                        <a:rPr b="0" lang="ru-RU" sz="1800" spc="-1" strike="noStrike">
                          <a:solidFill>
                            <a:srgbClr val="f20e0e"/>
                          </a:solidFill>
                          <a:latin typeface="Garamond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5000">
    <p:wheel spokes="3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2:55:54Z</dcterms:created>
  <dc:creator>Витамин</dc:creator>
  <dc:description/>
  <dc:language>en-US</dc:language>
  <cp:lastModifiedBy>Пользователь</cp:lastModifiedBy>
  <dcterms:modified xsi:type="dcterms:W3CDTF">2018-11-27T13:58:01Z</dcterms:modified>
  <cp:revision>42</cp:revision>
  <dc:subject/>
  <dc:title>Слайд 1</dc:title>
</cp:coreProperties>
</file>