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850-84CC-47BE-8A72-F606A46F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45B-B537-47FD-8A87-C5E14A2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6FE-C84F-45CA-9247-DFFAA13B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A97-6178-427B-90B6-5329EFF6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B6D-731D-4421-ACA4-8A43137B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3993-2FFE-44E9-9227-F80F876C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13DA-9546-4354-A007-6B47A9BA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CA65-97EA-4E42-9400-262F1E51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C8BB-B505-4C97-AC90-2F031192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41AC-1A14-4BBB-8A76-BAE254D8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E1B8-A034-4372-864C-FB50F61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C28-EF3B-49E0-AE56-CCE7234C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91F3-5A4C-4F65-96F3-35FE2B5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7EE-67AB-4044-8D67-E1BB02D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9878-4DEE-4D9E-8397-82AEAF78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6C83-113E-4E66-B26A-5B3B073A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43E4-06CA-4088-B4A9-07FA35D0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82AE-8658-4085-8161-DF94759A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F5AB-D4B8-4412-A5F7-75BB951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DC09-CFCF-42C1-AACB-348A9E91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6821-34EF-4AE9-953D-5D1AE1B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1290-5933-402C-94E2-7E64CA9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B26-B466-4B5B-90D4-C5FDAB50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B541-EBEF-44B2-B5B6-5EA7A0C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FDD3-14C4-4151-AD04-4B5E436B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83DB-61A7-4920-9B46-D73A3A2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1D6A-B378-4CFD-BDD1-809308E6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A131-4303-416C-8286-172266F9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B72A-30C0-400D-86E0-803244D2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4FFF-6B11-4775-8EAA-5F3C1609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65941-70E0-4B62-A6AD-23AE9F82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817C-A8E6-4302-AB1A-314FBBF5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8240-E8B9-4B87-815A-B47ABC03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6C0-6A8B-4C1D-A236-FF39BB40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EBD4-6909-4141-99EF-E43258E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C98D-209E-4E59-8010-651E95B7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6732-E738-4B68-A7BB-EE19477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A16A-A909-440B-B180-6A0CFDA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AA79-211D-4728-B6E4-B385CA4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FC6C-7A19-4D8E-8DC2-3FD8D21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BF30D-3E30-4ECA-93AC-66760246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CD8C-9078-4C08-88CC-CE0AE9F1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1369-7C7A-4D68-B33B-0240BA54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C36A-7813-4B72-9D75-ED843C5F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568-D38E-416A-AF12-B39F2D0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1EC5-C3CC-41AF-A6C7-8464884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4EDC-2215-493B-B22E-DB4C861D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E336-4FFF-47E2-9701-0C1A3F3F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7F0C-3B7C-40D4-B2E9-14747BA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582D-283F-49C5-ADC0-C673524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0B4F-7E1A-49A0-AEE2-912FBD9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10BA4-4967-4F0B-AA5E-A54A16B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83C7B-1D61-4A96-89DC-708030D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0404-79BF-4FDB-B3CA-9C3E151C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B074-9920-42B0-AEA1-A8F10C62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9EE-664E-4923-879C-D64B882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51518-6371-4E44-9C4A-DA925DA1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ED09-2B20-4ECD-BCAC-EA28A5B4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F3BA-0A07-46EB-A9F6-0CA3CB3E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681C-ADD9-4A39-BBE6-B57E501F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6CA5-4EF4-427A-9A12-07112188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07BF-BBD5-4A14-90BD-2BA5F06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FC330-6193-4026-9EC2-4B47264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E3B2-4DC3-4250-B44F-A38D276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CF9D-4EBE-4972-B4E4-838F78E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FA62-42A9-4FFB-8928-823C487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E1A-6343-4D52-8BAE-658282F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F2164-C6BF-4330-9742-F833CCAD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4134-EB56-4551-AFC2-891BA9C1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3138-B72E-4236-B4DC-CBBC9188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FBE3A-9CCA-4423-B403-30A6CE38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C363-B2ED-4718-B522-246A0734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62A0-6D73-4A88-B4B9-8A541CF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C0D70-4288-4BDD-97F9-4D7B966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CFB9-110B-4E4A-BC30-BE19C74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DD96-27A7-43F4-8243-003F776F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65D53-3471-4D7A-941D-FB53F86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596-6480-466D-8236-1858D5B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C8D1-4272-44F4-BF85-54D15E3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803D-2702-49F3-ABDD-6E76213E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62FE7-7D9E-4D86-A6D3-AA762CE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65F2-0FD5-4F41-AAE7-D6D20EBC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B755-CD32-4A82-B1ED-432DFBA2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6DD-AFFD-4F03-AA92-65BB5A73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892E-5FA5-4767-A25C-383F48BFCA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14C-4921-4AAE-966D-4BDC565DE4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9315-1F84-406B-A3B0-DD32AF0A7D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BDA9-6B2E-4DB2-953C-D811DB2CDB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D36-148B-41C1-A593-7A06696BEAC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1A07-41AC-4DCE-BD78-6EFF313939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A3C-2361-491C-BDA5-BFE859504D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785880" y="234936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Синтаксический и пунктуационный разбор предложений с различными видами связ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2000160" y="500040"/>
            <a:ext cx="507204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ложны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"/>
          <p:cNvSpPr/>
          <p:nvPr/>
        </p:nvSpPr>
        <p:spPr>
          <a:xfrm>
            <a:off x="714240" y="1785960"/>
            <a:ext cx="2500560" cy="64296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ою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6215040" y="1785960"/>
            <a:ext cx="2643120" cy="71424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бессою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428760" y="3429000"/>
            <a:ext cx="2071440" cy="78588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ложносочин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5"/>
          <p:cNvSpPr/>
          <p:nvPr/>
        </p:nvSpPr>
        <p:spPr>
          <a:xfrm>
            <a:off x="3286080" y="3429000"/>
            <a:ext cx="2286000" cy="78588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сложноподчин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6"/>
          <p:cNvSpPr/>
          <p:nvPr/>
        </p:nvSpPr>
        <p:spPr>
          <a:xfrm>
            <a:off x="3786120" y="5500800"/>
            <a:ext cx="5000760" cy="857160"/>
          </a:xfrm>
          <a:prstGeom prst="rect">
            <a:avLst/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Предложения сложной ко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 стрелкой 8"/>
          <p:cNvCxnSpPr/>
          <p:nvPr/>
        </p:nvCxnSpPr>
        <p:spPr>
          <a:xfrm flipH="1">
            <a:off x="2642760" y="1284840"/>
            <a:ext cx="57240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0"/>
          <p:cNvCxnSpPr/>
          <p:nvPr/>
        </p:nvCxnSpPr>
        <p:spPr>
          <a:xfrm>
            <a:off x="5000760" y="1213920"/>
            <a:ext cx="135792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2"/>
          <p:cNvCxnSpPr>
            <a:stCxn id="320" idx="2"/>
          </p:cNvCxnSpPr>
          <p:nvPr/>
        </p:nvCxnSpPr>
        <p:spPr>
          <a:xfrm flipH="1">
            <a:off x="1928160" y="2428920"/>
            <a:ext cx="356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4"/>
          <p:cNvCxnSpPr/>
          <p:nvPr/>
        </p:nvCxnSpPr>
        <p:spPr>
          <a:xfrm>
            <a:off x="3142080" y="2428560"/>
            <a:ext cx="786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6"/>
          <p:cNvCxnSpPr/>
          <p:nvPr/>
        </p:nvCxnSpPr>
        <p:spPr>
          <a:xfrm>
            <a:off x="1856880" y="4285800"/>
            <a:ext cx="23583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18"/>
          <p:cNvCxnSpPr/>
          <p:nvPr/>
        </p:nvCxnSpPr>
        <p:spPr>
          <a:xfrm flipH="1">
            <a:off x="4785480" y="428796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0"/>
          <p:cNvCxnSpPr/>
          <p:nvPr/>
        </p:nvCxnSpPr>
        <p:spPr>
          <a:xfrm flipH="1">
            <a:off x="7357680" y="2571480"/>
            <a:ext cx="2160" cy="278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357120" y="229500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коре был 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учен прогноз метеослужбы 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од ожид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я завтра так что необходимо срочно 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готови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я к борьбе со стих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85680"/>
            <a:ext cx="8748720" cy="19749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285840" y="47228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4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426"/>
                </a:solidFill>
                <a:latin typeface="Times New Roman"/>
                <a:ea typeface="Calibri"/>
              </a:rPr>
              <a:t>Рас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4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426"/>
                </a:solidFill>
                <a:latin typeface="Times New Roman"/>
                <a:ea typeface="Calibri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4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426"/>
                </a:solidFill>
                <a:latin typeface="Times New Roman"/>
                <a:ea typeface="Calibri"/>
              </a:rPr>
              <a:t>Сделайте синтаксический раз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6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857160" y="1078200"/>
            <a:ext cx="67150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огонь родного очаг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озарься на костры чужие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законом наши предки жи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ещали нам через ве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огонь родного очага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ей лоскут отеческой зем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 не болотист как не каменист он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янись за черноземом чисты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 тебя другие обрел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лей лоскут отеческо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.Фокин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85840" y="2167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Какова тема текста, главная мысль текста? Стиль? Тип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454320" y="585792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Расставить знаки препи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C:\Documents and Settings\Администратор\Мои документы\Мои рисунки\Организатор клипов (Microsoft)\j0426054.wmf"/>
          <p:cNvPicPr/>
          <p:nvPr/>
        </p:nvPicPr>
        <p:blipFill>
          <a:blip r:embed="rId1"/>
          <a:stretch/>
        </p:blipFill>
        <p:spPr>
          <a:xfrm>
            <a:off x="7000920" y="1428840"/>
            <a:ext cx="1841400" cy="1606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На месте пропусков нужно вставить слова из скобок.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214200" y="1518480"/>
            <a:ext cx="857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Глубоко символично, что у слов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и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один корень; для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ёмкое понятие Родин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связано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, где ты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, с речкой, на берегах которой прошло твоё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, с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. , посаженной вместе с друзьями з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…………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Родина, многие из нас, дом, природа, родился, неразрывно, детство, роща, вырос, околиц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6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79200"/>
            <a:ext cx="8431200" cy="165276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2"/>
          <p:cNvSpPr/>
          <p:nvPr/>
        </p:nvSpPr>
        <p:spPr>
          <a:xfrm>
            <a:off x="428760" y="121428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ктан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яю себ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дни сомнений во дни тягостных раздумий о судьбах моей Родины ты один мне поддержка и опора о великий могучий правдивый и свободный русский язык! Не будь тебя как не впасть в отчаяние при виде всего что совершается дома? Но нельзя верить чтобы такой язык не был дан великому на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И.С.Тургене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357120" y="1595520"/>
            <a:ext cx="85010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ктан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яю себ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дни сомнений, во дни тягостных раздумий о судьбах моей Родины,- ты один мне поддержка и опора, о великий, могучий, правдивый и свободный русский язык! Не будь теб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к не впасть в отчаяние при виде всего, что совершается дома? Но нельзя верить, чтобы такой язык не был дан великому нар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И.С.Тургене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Прямоугольник 2" descr=""/>
          <p:cNvPicPr/>
          <p:nvPr/>
        </p:nvPicPr>
        <p:blipFill>
          <a:blip r:embed="rId1"/>
          <a:stretch/>
        </p:blipFill>
        <p:spPr>
          <a:xfrm>
            <a:off x="6480" y="-133200"/>
            <a:ext cx="83692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orbel"/>
              </a:rPr>
              <a:t>Сочинение-миниатюра</a:t>
            </a:r>
            <a:br>
              <a:rPr sz="4900"/>
            </a:b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500040" y="1795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  <a:ea typeface="Times New Roman"/>
              </a:rPr>
              <a:t>Задание.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Используя предложения сложной конструкции, напишите сочинение на тему: 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“</a:t>
            </a: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Что для вас является образом родины?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C:\Documents and Settings\Администратор\Мои документы\Мои рисунки\Организатор клипов (Microsoft)\j0426054.wmf"/>
          <p:cNvPicPr/>
          <p:nvPr/>
        </p:nvPicPr>
        <p:blipFill>
          <a:blip r:embed="rId1"/>
          <a:stretch/>
        </p:blipFill>
        <p:spPr>
          <a:xfrm>
            <a:off x="500040" y="4643280"/>
            <a:ext cx="1841400" cy="1606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8:56:56Z</dcterms:created>
  <dc:creator>Zver</dc:creator>
  <dc:description/>
  <dc:language>en-US</dc:language>
  <cp:lastModifiedBy>Пользователь</cp:lastModifiedBy>
  <dcterms:modified xsi:type="dcterms:W3CDTF">2018-11-27T13:58:23Z</dcterms:modified>
  <cp:revision>14</cp:revision>
  <dc:subject/>
  <dc:title>Слайд 1</dc:title>
</cp:coreProperties>
</file>