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769-2DB4-482A-A334-35293F85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806-7DA5-4D61-8FF9-780BEAD8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A7D-2A11-4426-8ABC-0F1A9EBD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196-0F90-4B48-AD54-38080302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E40-337A-4592-B4A5-680FEFD6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FC37-BD51-49A8-A3A0-E643D101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3FF-F269-44E6-9470-2CFFC70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0D6-A26A-4059-863E-FAA7F57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788B-9543-4007-98C5-5B321207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D5EC-9FC0-450F-9634-ACCB0CA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6794-CA84-4CC4-80AC-3759B60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A22-7A7E-49A8-B1CF-61041E8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41B0-7C69-4CFD-837F-3F4C63E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785A-2CC0-4FA7-B372-40E46C9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00B5-5E76-478B-9CE8-1196B64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ABFA-F5DD-45B0-B693-62C18555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F790-E3B8-4782-86B8-3B06D659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6C28-36CD-4342-A75E-0C5537F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6511-9329-46B6-A67D-2C65F58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F55E-68F1-4176-9B9A-C6279A39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249A-B0E3-4D48-A466-4680D9B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D387-C0E3-4888-A6FE-5F25E286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12E-8ABF-4580-9F1E-4CEDCE5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DD71-F5A8-48C1-BE82-00E1C7CF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7390-BFFD-4857-A1C8-89BB4CB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1EEC-1851-4751-9AC3-AB1A8DA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E03D-4CBD-42FB-9E37-6BC666E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A651-EF74-48D0-847E-AE22A18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CEBB-FEAC-466C-B404-70D47DDC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A974-13C6-4F4D-AD05-1795D20C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AF47-7515-4525-B3AF-7DEA1D35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2E86-FEC8-4EAC-9CA1-947250F6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E192-97E5-404A-BF18-D0D63EB1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541-6591-4DF2-8909-2864B0B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89E7-3B84-4076-85B6-731CE12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9B1B-2B8C-47DA-B27E-BEADBABE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47E4-6815-4A8C-944A-A435D3E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F64E-74E2-4167-B585-CB8F433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7168-8CD5-4C4A-B920-F7F78BC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6DD53-2385-4DB6-8C6D-A7033AC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7904-C51D-4B14-B40F-E8F17E6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0DE5-644A-4AC8-859A-CA2D7DC7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3120-ED41-479B-A8C7-FAC5BB73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3A20-F558-4C33-828D-5CAB9F10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DD6-1956-4D57-A09F-BC5F10A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49DA-5FDB-4AFF-B83A-D5D73FF2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33B15-880B-4114-A0CD-79D7E022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F61F-1C91-4059-A02F-1A23452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9E8B-EC7A-4845-A3FE-163407D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5BC4-5FA3-423B-950E-03388A14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8CA0-33C5-4833-AE6D-67AC612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A031-EACA-455D-BE5E-FBD2A7E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8FD9-B0C2-4975-A96D-4D8361D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9DE2B-5ED1-490D-A093-5D9F7BC1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3676-F5D5-456D-AFFC-E147BF3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48C-61E0-42DE-B774-C5C8599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674B-4882-41C5-80F4-1F28A685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99AD4-4BE8-413F-8A09-9B68073C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E115-B95E-4820-8227-C574893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8582-EE09-4046-BA3A-6D47E95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DE58-B355-460B-B594-9E57F67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C8559-E860-4DD7-A6CD-C5BD44B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AB0A-D2E8-4AE3-8086-8F38A9AB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113E1-BC52-427C-B870-46B6195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F1A1D-633A-404B-A398-9B374A5E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EE59-624F-4F8D-A237-7B6B4FB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27A-438B-44FD-B945-3EC1ADCD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A164-7E8D-4476-B6A6-D5F82622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857C-64E8-49EF-B16E-8BB716CC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E6BC-0F58-4392-B43E-F9412980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362A-77DF-4B93-863E-50DF053F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7A92-BC04-40C5-93BB-8C3C80FC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285A9-DE97-42EA-B202-9DAC8A4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26AC-5EC7-4F31-86F2-7A7C991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FC87-85DA-4F31-A8AD-EA77509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FB67-694E-45E9-90A7-23291AD2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A79E-F32A-4FE1-8FC6-42FE76A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4CF-8858-4CC5-81C8-7F2C9BE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B0E82-EF85-431B-823E-D84B127B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358A-F8C1-41EC-98DE-A7D3A4C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DEA4-3CAB-4EC8-9E1E-F1B5769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E37BF-5143-4BCE-B4BE-0DA8491E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8292-8B1E-4CFC-9E7C-CF9DC89B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508-2C62-415B-881D-7656DAC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8BF-1893-4CC5-84C5-F026B18DAD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36B-AD0F-47A4-AE44-DFDE4855D0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D28-2530-4F6B-A13D-0F241294DF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C651-23F0-406A-84D6-06085CBDC6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92F7-AE9A-40DF-AEEC-F4E37EF7F7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53B-EB6B-4361-81FC-425425BC85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B57-3B9D-4BA2-BDE4-3030F94A54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785880" y="234936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Синтаксический и пунктуационный разбор предложений с различными видами связ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2000160" y="500040"/>
            <a:ext cx="507204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714240" y="1785960"/>
            <a:ext cx="250056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ою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6215040" y="1785960"/>
            <a:ext cx="264312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бессою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428760" y="3429000"/>
            <a:ext cx="2071440" cy="78588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осочи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5"/>
          <p:cNvSpPr/>
          <p:nvPr/>
        </p:nvSpPr>
        <p:spPr>
          <a:xfrm>
            <a:off x="3286080" y="3429000"/>
            <a:ext cx="2286000" cy="78588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оподчи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6"/>
          <p:cNvSpPr/>
          <p:nvPr/>
        </p:nvSpPr>
        <p:spPr>
          <a:xfrm>
            <a:off x="3786120" y="5500800"/>
            <a:ext cx="5000760" cy="85716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Предложения сложной ко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8"/>
          <p:cNvCxnSpPr/>
          <p:nvPr/>
        </p:nvCxnSpPr>
        <p:spPr>
          <a:xfrm flipH="1">
            <a:off x="2642760" y="1284840"/>
            <a:ext cx="5724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0"/>
          <p:cNvCxnSpPr/>
          <p:nvPr/>
        </p:nvCxnSpPr>
        <p:spPr>
          <a:xfrm>
            <a:off x="5000760" y="1213920"/>
            <a:ext cx="13579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2"/>
          <p:cNvCxnSpPr>
            <a:stCxn id="320" idx="2"/>
          </p:cNvCxnSpPr>
          <p:nvPr/>
        </p:nvCxnSpPr>
        <p:spPr>
          <a:xfrm flipH="1">
            <a:off x="1928160" y="2428920"/>
            <a:ext cx="356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4"/>
          <p:cNvCxnSpPr/>
          <p:nvPr/>
        </p:nvCxnSpPr>
        <p:spPr>
          <a:xfrm>
            <a:off x="3142080" y="2428560"/>
            <a:ext cx="786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6"/>
          <p:cNvCxnSpPr/>
          <p:nvPr/>
        </p:nvCxnSpPr>
        <p:spPr>
          <a:xfrm>
            <a:off x="1856880" y="4285800"/>
            <a:ext cx="23583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18"/>
          <p:cNvCxnSpPr/>
          <p:nvPr/>
        </p:nvCxnSpPr>
        <p:spPr>
          <a:xfrm flipH="1">
            <a:off x="4785480" y="428796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0"/>
          <p:cNvCxnSpPr/>
          <p:nvPr/>
        </p:nvCxnSpPr>
        <p:spPr>
          <a:xfrm flipH="1">
            <a:off x="7357680" y="2571480"/>
            <a:ext cx="2160" cy="278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357120" y="229500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коре был 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учен прогноз метеослужбы 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ожид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я завтра так что необходимо срочно 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готови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я к борьбе со стих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8748720" cy="19749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285840" y="47228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Сделайте синтаксический раз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857160" y="1078200"/>
            <a:ext cx="67150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огонь родного очаг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озарься на костры чужие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законом наши предки жи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ещали нам через ве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огонь родного очага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ей лоскут отеческой зем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 не болотист как не каменист он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янись за черноземом чисты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 тебя другие обре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ей лоскут отеческ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.Фокин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85840" y="2167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Какова тема текста, главная мысль текста? Стиль? Тип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454320" y="58579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Расставить знаки препи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C:\Documents and Settings\Администратор\Мои документы\Мои рисунки\Организатор клипов (Microsoft)\j0426054.wmf"/>
          <p:cNvPicPr/>
          <p:nvPr/>
        </p:nvPicPr>
        <p:blipFill>
          <a:blip r:embed="rId1"/>
          <a:stretch/>
        </p:blipFill>
        <p:spPr>
          <a:xfrm>
            <a:off x="7000920" y="1428840"/>
            <a:ext cx="1841400" cy="1606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На месте пропусков нужно вставить слова из скобок.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214200" y="15184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Глубоко символично, что у слов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и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один корень; дл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ёмкое понятие Родин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связано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, где ты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, с речкой, на берегах которой прошло твоё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, 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, посаженной вместе с друзьями з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Родина, многие из нас, дом, природа, родился, неразрывно, детство, роща, вырос, околиц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6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431200" cy="165276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2"/>
          <p:cNvSpPr/>
          <p:nvPr/>
        </p:nvSpPr>
        <p:spPr>
          <a:xfrm>
            <a:off x="428760" y="121428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ктан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яю себ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дни сомнений во дни тягостных раздумий о судьбах моей Родины ты один мне поддержка и опора о великий могучий правдивый и свободный русский язык! Не будь тебя как не впасть в отчаяние при виде всего что совершается дома? Но нельзя верить чтобы такой язык не был дан великому на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И.С.Тургене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357120" y="159552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ктан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яю себ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дни сомнений, во дни тягостных раздумий о судьбах моей Родины,- ты один мне поддержка и опора, о великий, могучий, правдивый и свободный русский язык! Не будь теб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к не впасть в отчаяние при виде всего, что совершается дома? Но нельзя верить, чтобы такой язык не был дан великому на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И.С.Тургене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Прямоугольник 2" descr=""/>
          <p:cNvPicPr/>
          <p:nvPr/>
        </p:nvPicPr>
        <p:blipFill>
          <a:blip r:embed="rId1"/>
          <a:stretch/>
        </p:blipFill>
        <p:spPr>
          <a:xfrm>
            <a:off x="6480" y="-133200"/>
            <a:ext cx="8369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orbel"/>
              </a:rPr>
              <a:t>Сочинение-миниатюра</a:t>
            </a: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500040" y="1795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Используя предложения сложной конструкции, напишите сочинение на тему: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“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Что для вас является образом родины?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Documents and Settings\Администратор\Мои документы\Мои рисунки\Организатор клипов (Microsoft)\j0426054.wmf"/>
          <p:cNvPicPr/>
          <p:nvPr/>
        </p:nvPicPr>
        <p:blipFill>
          <a:blip r:embed="rId1"/>
          <a:stretch/>
        </p:blipFill>
        <p:spPr>
          <a:xfrm>
            <a:off x="500040" y="4643280"/>
            <a:ext cx="184140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8:56:56Z</dcterms:created>
  <dc:creator>Zver</dc:creator>
  <dc:description/>
  <dc:language>en-US</dc:language>
  <cp:lastModifiedBy>Пользователь</cp:lastModifiedBy>
  <dcterms:modified xsi:type="dcterms:W3CDTF">2018-11-27T13:58:23Z</dcterms:modified>
  <cp:revision>14</cp:revision>
  <dc:subject/>
  <dc:title>Слайд 1</dc:title>
</cp:coreProperties>
</file>