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A5C-818C-4B8F-A2AB-D5CA77DD3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8C7-0E4D-45D5-ABFD-A19AAC467B25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D75-F3C3-4BC0-A646-3082FA7C2F95}" type="slidenum"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66C-9C03-49C7-8093-C680ABD9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B52-806C-48AB-A157-B049FA9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7BD-7E94-4F36-B067-E62FA5F4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F9F-78DF-4B00-A5AA-805E3780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460-2E56-4A1E-A3EF-CE692A20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B452-5798-4E35-8D33-EBABE36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56D1-DA0C-4BA9-99E7-78EAFE0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7B0F-056F-47A3-90B9-8B3FA4CA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6F9F-8F7A-4E0D-97C0-6DA596EA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F6D-FF59-46F1-8499-DD9FA8FE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AFB7-AD84-46FB-A9CC-B9AEFBF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DE6-085A-45C9-A991-F5D36634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C13-E605-4EA8-90A8-71A92D6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0279-D8A3-4AC2-83C7-5FE8D1A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C1D-4B03-459F-B041-08FFB07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8573-B694-4149-83EE-4B3EA38B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7506-7FD6-4E4B-A4B4-F6752E61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192C-B5CB-4D84-843C-3230C6AC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4676-7C8D-4132-9BBB-340CD2D4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C42C-D5FE-4DD6-BF0B-8B943582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2022-42EF-4881-B1C4-5AFD11C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785F-6831-4B0F-A644-A11ECEC8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9EC-C120-46CF-B376-177B2A80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5F3B-6286-45AC-8D73-34B703F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AC5A-5F19-4058-A656-3607C988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CA6B-5EAD-4027-9BA9-662B442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BE14-8E59-4095-81A9-92A09F8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A8BE-F695-408E-B95B-38E9994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D25F-F0ED-4B51-A76C-8CDA4C27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BB4F-0D0E-46E8-B4B3-E8E966CB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39E6-1363-48C0-9BE1-6852FDA4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13A2-6EC8-4583-B979-CBF95C6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4155-7343-48B4-B511-B7733B8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A60-1887-40A5-9C3C-9BDFE50B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35B4-CC9D-49CB-ADD2-0ACE4ED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8CC7-2A80-4848-93BA-B43B7AE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901A-A882-4E44-BEEA-3F9CBEF0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9967-FD72-4F05-9BE7-0C4F36F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4BA1-0584-4EC2-8675-C8CF004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F061-BC52-41A4-9D8B-0E8CEBA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27BB-6634-469F-A3C9-70BEB64A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63F9-1244-4F58-947E-E0C15D9E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FC71-202A-43AB-99EE-371144D4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717A-27D8-4956-BFF6-44139C50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252-CCBB-499C-A884-9137D25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B23F-970B-4EEF-AE5A-98F3C73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159D-AD76-464F-A797-D6FE0E0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0E42-D086-498E-BE41-4924B4D2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67BB-2EB1-4657-B263-431B002D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57E9-DE39-4E11-A7BD-AD186168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2E2E-C25B-4686-9B2A-39AFB30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C14A-DE89-4BF5-B28A-B85B05F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7790-234A-4080-BBC8-13FC747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AF26-F56B-42ED-BDD9-4534DA2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9938-4E53-491D-A313-63E84FE8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FC6-4820-4E19-9D93-C5CD417B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7F8E-7F06-49AF-9B02-496D6E4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58E9-C77A-437C-AC2C-0E6B0A71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6287-E6C1-45C1-AAF5-2C4BC29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B64CC-5748-46F7-853E-6D89A7D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135A-A36E-4FD9-A8FA-5CF26A5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DFF1-08FA-44FA-9079-268FC78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5A8C-8CE0-4E7A-A837-D0292A6A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EFE3-3253-41E5-8705-005F20F6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D9D5-EDE1-4B67-AF16-11007A6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6925-912F-4955-A952-F3D5453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38D-4835-4114-BD29-1F031917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559C-3469-4B96-AF62-AD98B177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B5E7-516E-4026-B9F5-E88606C8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2FB6F-C4FC-46FA-89E9-73548BB6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7155-D7FF-44DF-A0B7-19E69A0C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4D6F-60A3-4A37-B51D-FC17877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8903-7702-47F4-8101-71C5A1AD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ACA3-33B7-414F-9B06-663BA55F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EC4B-69BA-4E8A-86D7-DB44623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7D83-209F-46A0-A7C8-1AD3C6F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21813-CD32-4106-8CFA-8575EC0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326-822B-4AD3-B3BB-4B800BD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AA71-5178-43FD-8F71-B020A14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8DEE-004A-4414-9335-614B1F3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AC332-1189-4372-86BF-BC6B696E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FECA-385C-4B9C-A8C7-82239499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0CEB-00A8-4E8C-9D41-069E9608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442-7BA0-4439-8A97-022FD03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E28-ADAF-4ED5-8BD4-FFA4E537793E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dfdf9">
              <a:alpha val="33000"/>
            </a:srgbClr>
          </a:solidFill>
          <a:ln cap="rnd" w="3240">
            <a:solidFill>
              <a:srgbClr val="d1cd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efbec"/>
            </a:solidFill>
            <a:miter/>
          </a:ln>
          <a:effectLst>
            <a:outerShdw dist="12600" dir="5400000" blurRad="0" rotWithShape="0">
              <a:srgbClr val="b1af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E3A-CB79-4D21-9A3A-C1C66E37FAFA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471a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9D7-C29D-4782-A9F0-EEEE422EF384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42D-4B0A-4711-B8B4-74D0AAFA9481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726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211A-E2B5-4505-8A05-9DAE78CB2F27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F7CF-A97A-40EC-939F-C9AAB2CCF159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9e6d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eece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4b1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A9A-B301-410F-BE2A-8569C7D80186}" type="slidenum">
              <a:rPr b="0" lang="ru-RU" sz="1200" spc="-1" strike="noStrike">
                <a:solidFill>
                  <a:srgbClr val="b4b1a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orbel"/>
                <a:ea typeface="Arial"/>
              </a:rPr>
              <a:t>Словосочетание. Виды грамматической связи слов в словосочетании»</a:t>
            </a:r>
            <a:br>
              <a:rPr sz="4900"/>
            </a:br>
            <a:r>
              <a:rPr b="1" lang="ru-RU" sz="4900" spc="-1" strike="noStrike">
                <a:solidFill>
                  <a:srgbClr val="002060"/>
                </a:solidFill>
                <a:latin typeface="Corbel"/>
                <a:ea typeface="Arial"/>
              </a:rPr>
              <a:t>▪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77777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▪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е выражает и не сообщает мысль, а выполняет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номинативную функцию,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т.е. служит распространенным названием.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определите, что обозначают словосочетания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2286000"/>
          <a:ext cx="9144000" cy="2289240"/>
        </p:xfrm>
        <a:graphic>
          <a:graphicData uri="http://schemas.openxmlformats.org/drawingml/2006/table">
            <a:tbl>
              <a:tblPr/>
              <a:tblGrid>
                <a:gridCol w="2952720"/>
                <a:gridCol w="3094200"/>
                <a:gridCol w="3097080"/>
              </a:tblGrid>
              <a:tr h="1362240"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едме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его призна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Действ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его призна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Действ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 объект действ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50004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имний вечер, говорить по-русски, собирать грибы, хрустящий снег, спокойно спать, читать книги, капризная девочка, радостно смеяться, встретиться с сестр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272880" algn="just">
              <a:lnSpc>
                <a:spcPct val="90000"/>
              </a:lnSpc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Типы словосочетан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714240"/>
          <a:ext cx="9144000" cy="5857920"/>
        </p:xfrm>
        <a:graphic>
          <a:graphicData uri="http://schemas.openxmlformats.org/drawingml/2006/table">
            <a:tbl>
              <a:tblPr/>
              <a:tblGrid>
                <a:gridCol w="2857680"/>
                <a:gridCol w="3357360"/>
                <a:gridCol w="2928960"/>
              </a:tblGrid>
              <a:tr h="144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И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существительно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прилагательно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м. числительно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местоим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душистый цветок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семи любимый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две подруг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что-то смеш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0" y="785880"/>
          <a:ext cx="9144000" cy="6000840"/>
        </p:xfrm>
        <a:graphic>
          <a:graphicData uri="http://schemas.openxmlformats.org/drawingml/2006/table">
            <a:tbl>
              <a:tblPr/>
              <a:tblGrid>
                <a:gridCol w="3143160"/>
                <a:gridCol w="3071880"/>
                <a:gridCol w="292896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Глагольны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формы глагол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риехал поздн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дарить сестр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строенный по проект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Типы словосочетани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714240"/>
          <a:ext cx="9144000" cy="6072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91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Типы словосочет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пособ выражения главного компонен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Наречны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ареч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-матерински ласко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едалеко от озера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чрезвычайно опас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488b"/>
                </a:solidFill>
                <a:latin typeface="Corbel"/>
                <a:ea typeface="Arial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оставьте   словосочетания из данных слов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1</a:t>
            </a: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) глубокий, озер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2) встать, стол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3) мой, книг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4) очень, веселый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5) гулять, парк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6) встретиться, друзь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7) смеяться, весел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8) лепесток, роз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9) всматриваться, пристально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0) лежать, трав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1) фонтан, брызг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2) недалеко, поляна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  <a:ea typeface="Arial"/>
              </a:rPr>
              <a:t>13) уставший, работ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От способа выражения главного компонента словосочетания зависит не только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тип словосочетания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но 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вид грамматической связи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мысловые отношения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которые устанавливаются между компонентами словосочетан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Грамматическая система русского язык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рассматривае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три вида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вязи сл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огласование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управление  примык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Стрелка вниз 4"/>
          <p:cNvSpPr/>
          <p:nvPr/>
        </p:nvSpPr>
        <p:spPr>
          <a:xfrm>
            <a:off x="2214720" y="407196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Стрелка вниз 5"/>
          <p:cNvSpPr/>
          <p:nvPr/>
        </p:nvSpPr>
        <p:spPr>
          <a:xfrm>
            <a:off x="4429080" y="407196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Стрелка вниз 6"/>
          <p:cNvSpPr/>
          <p:nvPr/>
        </p:nvSpPr>
        <p:spPr>
          <a:xfrm>
            <a:off x="6500880" y="407196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1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0" y="1143000"/>
          <a:ext cx="9144000" cy="5578560"/>
        </p:xfrm>
        <a:graphic>
          <a:graphicData uri="http://schemas.openxmlformats.org/drawingml/2006/table">
            <a:tbl>
              <a:tblPr/>
              <a:tblGrid>
                <a:gridCol w="5357880"/>
                <a:gridCol w="378612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1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Согласование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- вид подчинительной связи, при котором зависимое слово согласуется (сочетается) с главным в роде, числе и падеж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тревожный голос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пелое яблоко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аппетитные гриб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мои книг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троящийся до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8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третий д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иды грамматической связи сл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1071720"/>
          <a:ext cx="9144000" cy="55958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6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Управление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- вид подчинительной связи, при котором главное слово «управляет» падежной формой зависимого сло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написать сочине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ыйти из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спускаться  с гор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ходить по лес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стретить друг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гостить  у не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ыбрать из троих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войти  в детскую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строительство 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лучше все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768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Стрелка вниз 5"/>
          <p:cNvSpPr/>
          <p:nvPr/>
        </p:nvSpPr>
        <p:spPr>
          <a:xfrm>
            <a:off x="2000160" y="785880"/>
            <a:ext cx="48420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Стрелка вниз 6"/>
          <p:cNvSpPr/>
          <p:nvPr/>
        </p:nvSpPr>
        <p:spPr>
          <a:xfrm>
            <a:off x="6215040" y="857160"/>
            <a:ext cx="48420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1785960"/>
          <a:ext cx="9144000" cy="5072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379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Имен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вное слово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имя существительное, прилагательное, местоиме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т.е. именные части ре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Глаго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вное  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глагол, глагольные 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строительство до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лучше все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кормить соба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лечить ранено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разделить на д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Стрелка вниз 11"/>
          <p:cNvSpPr/>
          <p:nvPr/>
        </p:nvSpPr>
        <p:spPr>
          <a:xfrm>
            <a:off x="1928880" y="314316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Стрелка вниз 12"/>
          <p:cNvSpPr/>
          <p:nvPr/>
        </p:nvSpPr>
        <p:spPr>
          <a:xfrm>
            <a:off x="6572160" y="300024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иды грамматической связи сл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в словосочетан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1000080"/>
          <a:ext cx="9144000" cy="57866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80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иды грамматической связи с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в словосочетан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е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Примыкание</a:t>
                      </a: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- вид подчинительной связи, при котором в роли зависимого слова выступают неизменяемые слова (наречия, инфинитив, деепричастия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 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по-весеннему свежий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идти напева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·</a:t>
                      </a:r>
                      <a:r>
                        <a:rPr b="1" i="1" lang="ru-RU" sz="2400" spc="-1" strike="noStrike">
                          <a:solidFill>
                            <a:srgbClr val="002060"/>
                          </a:solidFill>
                          <a:latin typeface="Corbel"/>
                        </a:rPr>
                        <a:t> поехать отдохн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с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от греч. </a:t>
            </a:r>
            <a:r>
              <a:rPr b="1" lang="en-US" sz="3600" spc="-1" strike="noStrike">
                <a:solidFill>
                  <a:srgbClr val="002060"/>
                </a:solidFill>
                <a:latin typeface="Gill Sans MT"/>
                <a:ea typeface="Arial"/>
              </a:rPr>
              <a:t>syntaxis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«порядок», «построение», «составление») – раздел науки о языке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в котором изучаются основные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ие единицы 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Corbel"/>
                <a:ea typeface="Arial"/>
              </a:rPr>
              <a:t>(словосочетание, предложение)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и их функц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Основные единицы синтаксиса: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единицы</a:t>
            </a:r>
            <a:r>
              <a:rPr b="1" lang="ru-RU" sz="36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неравнознач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56320" indent="-256320" algn="ctr">
              <a:lnSpc>
                <a:spcPct val="8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orbel"/>
                <a:ea typeface="Arial"/>
              </a:rPr>
              <a:t>Словосочетание  Предложение Текст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Стрелка вниз 3"/>
          <p:cNvSpPr/>
          <p:nvPr/>
        </p:nvSpPr>
        <p:spPr>
          <a:xfrm>
            <a:off x="1714680" y="5572080"/>
            <a:ext cx="48384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Стрелка вниз 4"/>
          <p:cNvSpPr/>
          <p:nvPr/>
        </p:nvSpPr>
        <p:spPr>
          <a:xfrm>
            <a:off x="5643720" y="5572080"/>
            <a:ext cx="4842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Стрелка вниз 5"/>
          <p:cNvSpPr/>
          <p:nvPr/>
        </p:nvSpPr>
        <p:spPr>
          <a:xfrm>
            <a:off x="8001000" y="5500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Стрелка вниз 6"/>
          <p:cNvSpPr/>
          <p:nvPr/>
        </p:nvSpPr>
        <p:spPr>
          <a:xfrm>
            <a:off x="4143240" y="857160"/>
            <a:ext cx="4842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роверьте свои силы: выполните осложнённое упражнени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</a:t>
            </a:r>
            <a:r>
              <a:rPr b="1" lang="ru-RU" sz="2400" spc="-1" strike="noStrike">
                <a:solidFill>
                  <a:srgbClr val="7030a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запишите предложения, расставляя в них знаки препинания; выпишите словосочетания, построенные по типу согласования, управления, примык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1.Тяжелые тучи напитанные холодной влагой висят над землей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.</a:t>
            </a: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2. Направо речка вилась синеватой тенью между белых и пустынных по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3. В распахнутое настежь старенькое оконце врывается росистая свежесть ранних цветов черешн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4. Перед вами на берегу реки высится огромный холм весь покрытый лишь мхом и ольшаником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5. Ветер бил с такой силой что  накрепко припечатывал к щеке сорванный с дерева мокрый лис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ие ошибки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на уровне словосочета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200016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аруше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согласова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зависимого слова с главным в числе, роде, падеже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(нарушения грамматической связи слов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457200" algn="just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нарушен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управления: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неверный выбор падежной формы или предлог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роверьте свои силы: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отредактируйте словосочетания в предложениях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1. Уверены, что ваши советы помогут многим избавиться от недуга, а кому-то обрести надежду выздоровл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2. Он измучил меня со своей ревностью, не разрешает встречаться с друзь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3. Согласно договора при поступлении в вуз абитуриенты будут сдавать только один экзаме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4. В отношении полковника авиации, пилотировавшему самолётом, будет возбуждено уголовное дел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5. Как считают эксперты журнала «Нейчур», увеличение содержания газов, вызывающих парниковый эффект, обусловлено с человеческой деятельностью и в первую очередь происходит из-за сжигания огромного количества топли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Информационное обеспечение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  <a:ea typeface="Arial"/>
              </a:rPr>
              <a:t>Основные источни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1. Герасименко Н.А., Канафьева А. В., Леденева В.В. и др. Русский язык: Учебник для студ. сред. проф. учеб. заведений / Н.А. Герасименко. – М.: Издательский центр «Академия», 201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rbel"/>
                <a:ea typeface="Arial"/>
              </a:rPr>
              <a:t>Дополнительные источник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Интернет-ресурс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1. Изображение «Школьная доска»: фото из личного архи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2. Изображение «Домашнее задание»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http://atyrau.atr.slando.kz/obyavlenie/angliyskiy-yazyk-dlya-detey-i-shkolnikov-ID4oI9z.html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3. Изображение «Тучи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vamm.ucoz.com/publ/rybalka/ot_chego_zavisit_klev/prognozirovanie_pogody/5-1-0-54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4. Изображение «Знаки препинания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www.wiki.vladimir.iedu.ru/index.php?title=%D0%A4%D0%B0%D0%B9%D0%BB:Signs.gif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5. Изображение «А.П. Чехов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a-poli.livejournal.com/1205898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6.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Изображение «Шатер»: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odessa.prom.ua/p110064-poshiv-tentov-navesov.html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7.Изображение «Горная река»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  <a:ea typeface="Arial"/>
              </a:rPr>
              <a:t>http://www.photoline.ru/photo/1263789460?rzd=new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im5-tub-ru.yandex.net/i?id=77456820-09-72&amp;n=21"/>
          <p:cNvPicPr/>
          <p:nvPr/>
        </p:nvPicPr>
        <p:blipFill>
          <a:blip r:embed="rId1"/>
          <a:stretch/>
        </p:blipFill>
        <p:spPr>
          <a:xfrm>
            <a:off x="-6480" y="2992320"/>
            <a:ext cx="9156960" cy="2225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</a:rPr>
              <a:t>Главная единица синтаксиса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Предложение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интаксическая единица, служащая средством обще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единица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Corbel"/>
                <a:ea typeface="Arial"/>
              </a:rPr>
              <a:t>Тяжелые тучи, напитанные холодной влагой, висят над землей.</a:t>
            </a:r>
            <a:r>
              <a:rPr b="1" lang="ru-RU" sz="3600" spc="-1" strike="noStrike">
                <a:solidFill>
                  <a:srgbClr val="ffc000"/>
                </a:solidFill>
                <a:latin typeface="Corbe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(К. Паустовски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с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сегда изучается вместе с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пунктуаци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0" indent="-270000">
              <a:spcBef>
                <a:spcPts val="601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http://www.wiki.vladimir.i-edu.ru/images/a/a5/Signs.gif"/>
          <p:cNvPicPr/>
          <p:nvPr/>
        </p:nvPicPr>
        <p:blipFill>
          <a:blip r:embed="rId1"/>
          <a:stretch/>
        </p:blipFill>
        <p:spPr>
          <a:xfrm>
            <a:off x="-6480" y="4492800"/>
            <a:ext cx="3797280" cy="23716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rbel"/>
                <a:ea typeface="Arial"/>
              </a:rPr>
              <a:t>Пунктуа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от лат. </a:t>
            </a:r>
            <a:r>
              <a:rPr b="1" lang="en-US" sz="3600" spc="-1" strike="noStrike">
                <a:solidFill>
                  <a:srgbClr val="002060"/>
                </a:solidFill>
                <a:latin typeface="Gill Sans MT"/>
                <a:ea typeface="Arial"/>
              </a:rPr>
              <a:t>punktum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точка) –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истема правил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постановки знаков препинания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(препинание – остановка, перерыв)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orbel"/>
                <a:ea typeface="Arial"/>
              </a:rPr>
              <a:t>– это знаки, которые ставятся между словами и группами слов в письменной реч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Казнить нельзя помиловать 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«Знаки препинания –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оты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 при чтении»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А.П. Чехов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42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  <a:ea typeface="Arial"/>
              </a:rPr>
              <a:t>▪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наки препинания служат важным средством оформления письменной реч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так как при их помощи происходит ее член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группа предложени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определенным образом связанных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тематически и логически объединенны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6320" indent="429480" algn="just">
              <a:lnSpc>
                <a:spcPct val="90000"/>
              </a:lnSpc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Стрелка вниз 4"/>
          <p:cNvSpPr/>
          <p:nvPr/>
        </p:nvSpPr>
        <p:spPr>
          <a:xfrm>
            <a:off x="4643280" y="4000680"/>
            <a:ext cx="486000" cy="5713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42" name="Picture 2" descr="http://pics.livejournal.com/pat_cholman/pic/00002cwk"/>
          <p:cNvPicPr/>
          <p:nvPr/>
        </p:nvPicPr>
        <p:blipFill>
          <a:blip r:embed="rId1"/>
          <a:stretch/>
        </p:blipFill>
        <p:spPr>
          <a:xfrm>
            <a:off x="6480000" y="-6480"/>
            <a:ext cx="2670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интаксическая единица,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рассматриваемая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как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один из компонентов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предложен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ВЕСЕЛО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СМЕЯТЬСЯ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ПЕСЧАНЫЙ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БЕРЕ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НАЕДИНЕ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 ДРУГ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ДОМИК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 ПАЛИСАДНИК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7120" indent="-26712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СКАЗОЧНО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КРАСИВ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Стрелка вниз 5"/>
          <p:cNvSpPr/>
          <p:nvPr/>
        </p:nvSpPr>
        <p:spPr>
          <a:xfrm>
            <a:off x="4143240" y="11430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488b"/>
                </a:solidFill>
                <a:latin typeface="Corbel"/>
                <a:ea typeface="Arial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  <a:ea typeface="Arial"/>
              </a:rPr>
              <a:t>Задание: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  <a:ea typeface="Arial"/>
              </a:rPr>
              <a:t>запишите предложение, «разрубите» его на словосочетания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rbel"/>
                <a:ea typeface="Arial"/>
              </a:rPr>
              <a:t>Сильный ураган сорвал с земли шатёр и унёс его в озеро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orbel"/>
                <a:ea typeface="Arial"/>
              </a:rPr>
              <a:t>Справка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Шатёр</a:t>
            </a:r>
            <a:r>
              <a:rPr b="1" lang="ru-RU" sz="2800" spc="-1" strike="noStrike">
                <a:solidFill>
                  <a:srgbClr val="ffc000"/>
                </a:solidFill>
                <a:latin typeface="Corbel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– 1. большая палатка, крытая обычно тканью; 2. высокая пирамидальная четырехгранная или восьмигранная  крыша (колоколен, башен, церквей и т.п.; спец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http://images.prom.ua/988442_w640_h640_348436.jpg"/>
          <p:cNvPicPr/>
          <p:nvPr/>
        </p:nvPicPr>
        <p:blipFill>
          <a:blip r:embed="rId1"/>
          <a:stretch/>
        </p:blipFill>
        <p:spPr>
          <a:xfrm>
            <a:off x="5205240" y="5353200"/>
            <a:ext cx="35848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http://www.photoline.ru/critic/picpart/1263/1263789460.jpg"/>
          <p:cNvPicPr/>
          <p:nvPr/>
        </p:nvPicPr>
        <p:blipFill>
          <a:blip r:embed="rId1"/>
          <a:stretch/>
        </p:blipFill>
        <p:spPr>
          <a:xfrm>
            <a:off x="-6480" y="5353200"/>
            <a:ext cx="2590920" cy="15112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очетание двух и более слов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вязанных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ительной связью и представляющих собой смысловое единств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Признаки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ловосочетан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остав словосочетания –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два (и более) самостоятельных слов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b0f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мысловое единство сло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☀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ительная грамматическая связ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между компонентами словосочет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▪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Структура </a:t>
            </a: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словосочета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главное слово          подчиненное (зависимо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горная </a:t>
            </a:r>
            <a:r>
              <a:rPr b="1" i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рек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главный компонент – </a:t>
            </a:r>
            <a:r>
              <a:rPr b="1" i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река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  <a:ea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  <a:ea typeface="Arial"/>
              </a:rPr>
              <a:t>подчиненный –</a:t>
            </a:r>
            <a:r>
              <a:rPr b="1" lang="ru-RU" sz="2400" spc="-1" strike="noStrike">
                <a:solidFill>
                  <a:srgbClr val="00b050"/>
                </a:solidFill>
                <a:latin typeface="Corbe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rbel"/>
                <a:ea typeface="Arial"/>
              </a:rPr>
              <a:t>горн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Стрелка вниз 5"/>
          <p:cNvSpPr/>
          <p:nvPr/>
        </p:nvSpPr>
        <p:spPr>
          <a:xfrm>
            <a:off x="4071960" y="42876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Стрелка вниз 6"/>
          <p:cNvSpPr/>
          <p:nvPr/>
        </p:nvSpPr>
        <p:spPr>
          <a:xfrm>
            <a:off x="1928880" y="4857840"/>
            <a:ext cx="48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Стрелка вниз 7"/>
          <p:cNvSpPr/>
          <p:nvPr/>
        </p:nvSpPr>
        <p:spPr>
          <a:xfrm>
            <a:off x="4857840" y="4857840"/>
            <a:ext cx="48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Не является словосочетанием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подлежащего и сказуемого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светит солнц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однородных члено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цветы и трав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сочетание предлога и слов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>
              <a:spcBef>
                <a:spcPts val="601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rbel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rbel"/>
              </a:rPr>
              <a:t>у колодц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59200" indent="-259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Словосочетание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 является элементарной единицей синтаксиса, служащей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  <a:ea typeface="Arial"/>
              </a:rPr>
              <a:t>«строительным материалом»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  <a:ea typeface="Arial"/>
              </a:rPr>
              <a:t>для предло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2:17:17Z</dcterms:created>
  <dc:creator>Администратор</dc:creator>
  <dc:description/>
  <dc:language>en-US</dc:language>
  <cp:lastModifiedBy>Пользователь</cp:lastModifiedBy>
  <cp:lastPrinted>2013-02-19T19:28:09Z</cp:lastPrinted>
  <dcterms:modified xsi:type="dcterms:W3CDTF">2018-11-27T13:59:55Z</dcterms:modified>
  <cp:revision>455</cp:revision>
  <dc:subject/>
  <dc:title>Слайд 1</dc:title>
</cp:coreProperties>
</file>