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2EE7-45B7-432E-B02D-8B685FDD81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93D8-C549-4E61-B5D5-784A71443A82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A81-93E6-4267-BA7C-2897EFE8C908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FC4-E35F-4B56-8B31-E4C57968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A32-CADD-43E4-94FD-8339A253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E34-DFE9-45B0-9CBC-9B29B55E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F81-4063-4DD6-8A08-8B760038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D38-CFEA-40F0-914A-48C899A9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8821-E75F-4C75-ADDB-D88A48C0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70C6-EDCA-47DC-9F5D-C73C450B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486E-F92C-4718-B8E1-3801A335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1D40-2F1C-46BC-B241-FC249449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082-3AB6-4EC4-9FCD-2D0D3E1C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EFCB-A020-4ED2-BF20-5B1E240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514-CDA0-48C0-87D6-3DA6113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B538-9201-4119-9299-3535652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910-7801-4DDB-9B92-7D8E299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D73-D0B7-4A1D-907A-E141C4DF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1236-0A2E-4822-BA12-C35EC455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45E-269E-4045-A41F-6DC08BDA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9E5E-0FEB-4BC9-96E9-B6ED0DB6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E00E-F371-49ED-89EA-ABE6719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9724-BB60-4AAC-9E95-FBC955A8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40931-C326-4EDD-91A9-15E7E19E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A53C-ED30-468E-A990-B9B6B00B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DAB-E750-4FF4-8567-218EA9A0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AE05-F5B9-4FF4-8DA0-888CBFFE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D00E-A50A-4FD9-B671-A7A001F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55756-854B-41AE-AD23-3E548BF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6222-07DE-4565-8479-3EA2119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72BD-BC72-436F-A873-AF03D1C2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2213-99BE-4D3B-B4E0-0E8BD172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CF8E1-0FF2-4012-991E-5A6CDF3A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3677-F89D-40CD-9155-619C35C2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B08F-668F-4231-BEE9-98020685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F4D1-C8CD-4BD6-A39E-0C210814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825-12C9-4F34-8A81-E6A05D2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AB077-53FC-4DC8-97C8-C7555E7D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E728-426A-4DA1-8832-2DB1BFDF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83DC5-23A4-4B80-840E-4391A40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192B-992B-4EC0-B394-B48B4B0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4601-BAE0-457F-AFD7-0699F63F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BAE24-AE8E-4B02-BDCC-49DD5FD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FA1E-F68D-433A-A22F-C55AB7EF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357E-02AF-46FB-A7C5-ADF4C970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5A1C-71A9-4157-B8D1-1FA51620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DCB3-0449-4284-BCBF-B5B796AC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027-E6AC-4E72-8714-5DFD5EF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D83C-E222-4FBB-ADCA-87AA6250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DBB99-9821-472A-946E-4EF5A0FF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E59C-0A8D-481C-9E48-76E2BB5D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62CA8-1B48-469A-9534-9F1A26F7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B7F3-0417-42A5-8784-F91A0BF3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71D9-4DA9-43E0-9D0C-7A741C5A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C5EA-FF94-4AEC-BCB5-675750F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4767-394F-470E-8A2C-3659E04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3DD2-103A-4462-8FAC-4B2EA85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B721-5204-414F-A7E6-405E8B55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825-1FA9-412B-90D3-EBD44F1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E1F7-927D-4827-8CCF-11198390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E4735-49D2-493F-A73A-9096EB65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F4B7B-B5B5-489D-A57A-A00F7725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286CA-D144-4285-A3BE-9862F332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59FAD-9B82-4C36-BAE5-F35119C5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C4740-FBDC-4AC7-984B-6142B59D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AF0A2-ECE1-4E5D-9D2D-32F3314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DDAB-64D4-48E4-A7EC-17EA5AD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BF4F-580E-4A69-B9F1-376EE2A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413E-0643-4763-AA7A-2F42B8B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0A4-2575-42FE-A00F-AAE9894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7B84-27B4-463C-80F1-AA7706EF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006E6-C05A-4BEE-952C-3C9B45E0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3445-B08F-48A9-B6C4-F6D0FE3D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38BF8-38F1-411F-8AD5-D1B32D26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B4196-D34E-43D6-BE48-4C7A664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1179-516F-41F7-82CE-88758AE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2974-8F6D-48E5-84CC-7FB777F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BDFD8-693B-4FEE-B8E2-7D3DA9FB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3F1E-325E-485F-B851-DFFC3773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CC74C-62FD-4CC3-A2CA-C4F70CE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017-06F5-4F8A-BB7E-DB51FD3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03FC-0CCD-4669-AB45-F6C40B58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90392-8118-4F39-8E39-5CA9A07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ADA4-9F7B-4B63-A218-2688F1E2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29194-44FE-46CF-8C37-BB0464B7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CBB7-C0F6-491E-B16B-B661B2C2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047-0181-4E5C-93C8-8C5987F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413-6B8B-46A6-8E77-44D15982A102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A5A5-3BF7-43AA-AA38-BD8B6B54F36F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85BC-551B-465F-B9F2-7908B16C03C4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A8C-ECB4-4612-88FE-CB94F1CE8169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EED-C188-41AD-865C-CEECA5A6FE6E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0635-14B2-4687-A49F-F5AF5C7667AE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CDBC-A159-47C3-854A-F70E52919FA4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orbel"/>
                <a:ea typeface="Arial"/>
              </a:rPr>
              <a:t>Словосочетание. Виды грамматической связи слов в словосочетании»</a:t>
            </a:r>
            <a:br>
              <a:rPr sz="4900"/>
            </a:br>
            <a:r>
              <a:rPr b="1" lang="ru-RU" sz="4900" spc="-1" strike="noStrike">
                <a:solidFill>
                  <a:srgbClr val="002060"/>
                </a:solidFill>
                <a:latin typeface="Corbel"/>
                <a:ea typeface="Arial"/>
              </a:rPr>
              <a:t>▪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77777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▪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не выражает и не сообщает мысль, а выполняет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номинативную функцию,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т.е. служит распространенным названием.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определите, что обозначают словосочетания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2286000"/>
          <a:ext cx="9144000" cy="2289240"/>
        </p:xfrm>
        <a:graphic>
          <a:graphicData uri="http://schemas.openxmlformats.org/drawingml/2006/table">
            <a:tbl>
              <a:tblPr/>
              <a:tblGrid>
                <a:gridCol w="2952720"/>
                <a:gridCol w="3094200"/>
                <a:gridCol w="3097080"/>
              </a:tblGrid>
              <a:tr h="1362240">
                <a:tc>
                  <a:txBody>
                    <a:bodyPr lIns="82440" rIns="82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едмет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его призна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Действ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его призна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Действ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объект действ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82440" rIns="824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0" y="50004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Зимний вечер, говорить по-русски, собирать грибы, хрустящий снег, спокойно спать, читать книги, капризная девочка, радостно смеяться, встретиться с сестр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272880" algn="just">
              <a:lnSpc>
                <a:spcPct val="90000"/>
              </a:lnSpc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Типы словосочетани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714240"/>
          <a:ext cx="9144000" cy="5857920"/>
        </p:xfrm>
        <a:graphic>
          <a:graphicData uri="http://schemas.openxmlformats.org/drawingml/2006/table">
            <a:tbl>
              <a:tblPr/>
              <a:tblGrid>
                <a:gridCol w="2857680"/>
                <a:gridCol w="3357360"/>
                <a:gridCol w="2928960"/>
              </a:tblGrid>
              <a:tr h="144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ипы словосочет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пособ выражения главного компонен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Им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м. существительно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м. прилагательно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м. числительно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местоим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душистый цветок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семи любимый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две подруги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что-то смеш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0" y="785880"/>
          <a:ext cx="9144000" cy="6000840"/>
        </p:xfrm>
        <a:graphic>
          <a:graphicData uri="http://schemas.openxmlformats.org/drawingml/2006/table">
            <a:tbl>
              <a:tblPr/>
              <a:tblGrid>
                <a:gridCol w="3143160"/>
                <a:gridCol w="3071880"/>
                <a:gridCol w="292896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ипы словосочет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пособ выражения главного компонен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Глагольные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формы глаго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риехал поздн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дарить сестр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строенный по проект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Типы словосочетани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714240"/>
          <a:ext cx="9144000" cy="6072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91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ипы словосочет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пособ выражения главного компонен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Наречные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нареч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-матерински ласков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недалеко от озера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чрезвычайно опас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488b"/>
                </a:solidFill>
                <a:latin typeface="Corbel"/>
                <a:ea typeface="Arial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оставьте   словосочетания из данных слов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1</a:t>
            </a: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) глубокий, озер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2) встать, стол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3) мой, книг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4) очень, веселый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5) гулять, парк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6) встретиться, друзь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7) смеяться, весел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8) лепесток, роз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9) всматриваться, пристальн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0) лежать, трав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1) фонтан, брызг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2) недалеко, полян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3) уставший, работ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▪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От способа выражения главного компонента словосочетания зависит не только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тип словосочетания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но и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вид грамматической связи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и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мысловые отношения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которые устанавливаются между компонентами словосочетани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Грамматическая система русского язык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рассматривае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три вид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вязи сл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в словосочетан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огласование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управление  примык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Стрелка вниз 4"/>
          <p:cNvSpPr/>
          <p:nvPr/>
        </p:nvSpPr>
        <p:spPr>
          <a:xfrm>
            <a:off x="2214720" y="4071960"/>
            <a:ext cx="484200" cy="692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Стрелка вниз 5"/>
          <p:cNvSpPr/>
          <p:nvPr/>
        </p:nvSpPr>
        <p:spPr>
          <a:xfrm>
            <a:off x="4429080" y="407196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Стрелка вниз 6"/>
          <p:cNvSpPr/>
          <p:nvPr/>
        </p:nvSpPr>
        <p:spPr>
          <a:xfrm>
            <a:off x="6500880" y="407196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0" y="1143000"/>
          <a:ext cx="9144000" cy="5578560"/>
        </p:xfrm>
        <a:graphic>
          <a:graphicData uri="http://schemas.openxmlformats.org/drawingml/2006/table">
            <a:tbl>
              <a:tblPr/>
              <a:tblGrid>
                <a:gridCol w="5357880"/>
                <a:gridCol w="378612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иды грамматической связи с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словосочетан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огласование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- вид подчинительной связи, при котором зависимое слово согласуется (сочетается) с главным в роде, числе и падеж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тревожный голос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спелое яблоко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аппетитные гриб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мои книг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строящийся до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третий д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иды грамматической связи сл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 словосочетан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1071720"/>
          <a:ext cx="9144000" cy="55958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иды грамматической связи сл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словосочетан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6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Управление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- вид подчинительной связи, при котором главное слово «управляет» падежной формой зависимого сло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написать сочине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ыйти из до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спускаться  с гор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ходить по лес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стретить друг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гостить  у нег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ыбрать из троих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ойти  в детскую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строительство  до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лучше все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68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Стрелка вниз 5"/>
          <p:cNvSpPr/>
          <p:nvPr/>
        </p:nvSpPr>
        <p:spPr>
          <a:xfrm>
            <a:off x="2000160" y="785880"/>
            <a:ext cx="484200" cy="7858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Стрелка вниз 6"/>
          <p:cNvSpPr/>
          <p:nvPr/>
        </p:nvSpPr>
        <p:spPr>
          <a:xfrm>
            <a:off x="6215040" y="857160"/>
            <a:ext cx="484200" cy="7858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1785960"/>
          <a:ext cx="9144000" cy="5072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379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мен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Главное слово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имя существительное, прилагательное, местоиме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т.е. именные части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Глаго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Главное  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глагол, глагольные 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строительство до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лучше все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кормить собак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лечить раненог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разделить на д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Стрелка вниз 11"/>
          <p:cNvSpPr/>
          <p:nvPr/>
        </p:nvSpPr>
        <p:spPr>
          <a:xfrm>
            <a:off x="1928880" y="314316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3" name="Стрелка вниз 12"/>
          <p:cNvSpPr/>
          <p:nvPr/>
        </p:nvSpPr>
        <p:spPr>
          <a:xfrm>
            <a:off x="6572160" y="3000240"/>
            <a:ext cx="4842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иды грамматической связи сл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 словосочетан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1000080"/>
          <a:ext cx="9144000" cy="57866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80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иды грамматической связи с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словосочетан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ыкание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- вид подчинительной связи, при котором в роли зависимого слова выступают неизменяемые слова (наречия, инфинитив, деепричастия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по-весеннему свежий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дти напева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ехать отдох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с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(от греч. </a:t>
            </a:r>
            <a:r>
              <a:rPr b="1" lang="en-US" sz="3600" spc="-1" strike="noStrike">
                <a:solidFill>
                  <a:srgbClr val="002060"/>
                </a:solidFill>
                <a:latin typeface="Gill Sans MT"/>
                <a:ea typeface="Arial"/>
              </a:rPr>
              <a:t>syntaxis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– «порядок», «построение», «составление») – раздел науки о языке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6320" indent="-256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в котором изучаются основные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ческие единицы 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Corbel"/>
                <a:ea typeface="Arial"/>
              </a:rPr>
              <a:t>(словосочетание, предложение)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и их функции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6320" indent="-25632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Основные единицы синтаксиса: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единицы</a:t>
            </a:r>
            <a:r>
              <a:rPr b="1" lang="ru-RU" sz="36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неравнознач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6320" indent="-256320" algn="ctr">
              <a:lnSpc>
                <a:spcPct val="8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rbel"/>
                <a:ea typeface="Arial"/>
              </a:rPr>
              <a:t>Словосочетание  Предложение Текст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Стрелка вниз 3"/>
          <p:cNvSpPr/>
          <p:nvPr/>
        </p:nvSpPr>
        <p:spPr>
          <a:xfrm>
            <a:off x="1714680" y="5572080"/>
            <a:ext cx="483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Стрелка вниз 4"/>
          <p:cNvSpPr/>
          <p:nvPr/>
        </p:nvSpPr>
        <p:spPr>
          <a:xfrm>
            <a:off x="5643720" y="5572080"/>
            <a:ext cx="4842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Стрелка вниз 5"/>
          <p:cNvSpPr/>
          <p:nvPr/>
        </p:nvSpPr>
        <p:spPr>
          <a:xfrm>
            <a:off x="8001000" y="5500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Стрелка вниз 6"/>
          <p:cNvSpPr/>
          <p:nvPr/>
        </p:nvSpPr>
        <p:spPr>
          <a:xfrm>
            <a:off x="4143240" y="85716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Проверьте свои силы: выполните осложнённое упражнение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</a:t>
            </a:r>
            <a:r>
              <a:rPr b="1" lang="ru-RU" sz="2400" spc="-1" strike="noStrike">
                <a:solidFill>
                  <a:srgbClr val="7030a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запишите предложения, расставляя в них знаки препинания; выпишите словосочетания, построенные по типу согласования, управления, примык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1.Тяжелые тучи напитанные холодной влагой висят над землей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.</a:t>
            </a: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2. Направо речка вилась синеватой тенью между белых и пустынных по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3. В распахнутое настежь старенькое оконце врывается росистая свежесть ранних цветов черешн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4. Перед вами на берегу реки высится огромный холм весь покрытый лишь мхом и ольшанико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5. Ветер бил с такой силой что  накрепко припечатывал к щеке сорванный с дерева мокрый лис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ческие ошибки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на уровне словосочета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200016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нарушен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согласован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зависимого слова с главным в числе, роде, падеже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(нарушения грамматической связи слов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457200" algn="just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нарушен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управления: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неверный выбор падежной формы или предлог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Проверьте свои силы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отредактируйте словосочетания в предложениях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1. Уверены, что ваши советы помогут многим избавиться от недуга, а кому-то обрести надежду выздоровл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2. Он измучил меня со своей ревностью, не разрешает встречаться с друзь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3. Согласно договора при поступлении в вуз абитуриенты будут сдавать только один экзамен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4. В отношении полковника авиации, пилотировавшему самолётом, будет возбуждено уголовное дел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5. Как считают эксперты журнала «Нейчур», увеличение содержания газов, вызывающих парниковый эффект, обусловлено с человеческой деятельностью и в первую очередь происходит из-за сжигания огромного количества топли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spcBef>
                <a:spcPts val="601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Информационное обеспечение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  <a:ea typeface="Arial"/>
              </a:rPr>
              <a:t>Основные источник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1. Герасименко Н.А., Канафьева А. В., Леденева В.В. и др. Русский язык: Учебник для студ. сред. проф. учеб. заведений / Н.А. Герасименко. – М.: Издательский центр «Академия», 201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  <a:ea typeface="Arial"/>
              </a:rPr>
              <a:t>Дополнительные источник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Интернет-ресурс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1. Изображение «Школьная доска»: фото из личного архи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2. Изображение «Домашнее задание»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http://atyrau.atr.slando.kz/obyavlenie/angliyskiy-yazyk-dlya-detey-i-shkolnikov-ID4oI9z.html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3. Изображение «Тучи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vamm.ucoz.com/publ/rybalka/ot_chego_zavisit_klev/prognozirovanie_pogody/5-1-0-54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4. Изображение «Знаки препинания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www.wiki.vladimir.iedu.ru/index.php?title=%D0%A4%D0%B0%D0%B9%D0%BB:Signs.gif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5. Изображение «А.П. Чехов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a-poli.livejournal.com/1205898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6.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Изображение «Шатер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odessa.prom.ua/p110064-poshiv-tentov-navesov.html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7.Изображение «Горная река»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www.photoline.ru/photo/1263789460?rzd=new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im5-tub-ru.yandex.net/i?id=77456820-09-72&amp;n=21"/>
          <p:cNvPicPr/>
          <p:nvPr/>
        </p:nvPicPr>
        <p:blipFill>
          <a:blip r:embed="rId1"/>
          <a:stretch/>
        </p:blipFill>
        <p:spPr>
          <a:xfrm>
            <a:off x="-6480" y="2992320"/>
            <a:ext cx="9156960" cy="2225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Главная единица синтаксиса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  <a:ea typeface="Arial"/>
              </a:rPr>
              <a:t>Предложение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интаксическая единица, служащая средством обще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единиц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Corbel"/>
                <a:ea typeface="Arial"/>
              </a:rPr>
              <a:t>Тяжелые тучи, напитанные холодной влагой, висят над землей.</a:t>
            </a:r>
            <a:r>
              <a:rPr b="1" lang="ru-RU" sz="3600" spc="-1" strike="noStrike">
                <a:solidFill>
                  <a:srgbClr val="ffc000"/>
                </a:solidFill>
                <a:latin typeface="Corbe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(К. Паустовский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с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всегда изучается вместе с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пунктуаци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>
              <a:spcBef>
                <a:spcPts val="601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>
              <a:spcBef>
                <a:spcPts val="601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http://www.wiki.vladimir.i-edu.ru/images/a/a5/Signs.gif"/>
          <p:cNvPicPr/>
          <p:nvPr/>
        </p:nvPicPr>
        <p:blipFill>
          <a:blip r:embed="rId1"/>
          <a:stretch/>
        </p:blipFill>
        <p:spPr>
          <a:xfrm>
            <a:off x="-6480" y="4492800"/>
            <a:ext cx="3797280" cy="23716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  <a:ea typeface="Arial"/>
              </a:rPr>
              <a:t>Пунктуац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(от лат. </a:t>
            </a:r>
            <a:r>
              <a:rPr b="1" lang="en-US" sz="3600" spc="-1" strike="noStrike">
                <a:solidFill>
                  <a:srgbClr val="002060"/>
                </a:solidFill>
                <a:latin typeface="Gill Sans MT"/>
                <a:ea typeface="Arial"/>
              </a:rPr>
              <a:t>punktum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– точка) –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истема правил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постановки знаков препинания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(препинание – остановка, перерыв)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– это знаки, которые ставятся между словами и группами слов в письменной реч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Казнить нельзя помиловать 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«Знаки препинания –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ноты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 при чтении»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А.П. Чех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42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  <a:ea typeface="Arial"/>
              </a:rPr>
              <a:t>▪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Знаки препинания служат важным средством оформления письменной реч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так как при их помощи происходит ее член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Текс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группа предложени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определенным образом связанных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тематически и логически объединенны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lnSpc>
                <a:spcPct val="90000"/>
              </a:lnSpc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Стрелка вниз 4"/>
          <p:cNvSpPr/>
          <p:nvPr/>
        </p:nvSpPr>
        <p:spPr>
          <a:xfrm>
            <a:off x="4643280" y="4000680"/>
            <a:ext cx="486000" cy="5713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2" name="Picture 2" descr="http://pics.livejournal.com/pat_cholman/pic/00002cwk"/>
          <p:cNvPicPr/>
          <p:nvPr/>
        </p:nvPicPr>
        <p:blipFill>
          <a:blip r:embed="rId1"/>
          <a:stretch/>
        </p:blipFill>
        <p:spPr>
          <a:xfrm>
            <a:off x="6480000" y="-6480"/>
            <a:ext cx="2670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ческая единица,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рассматриваемая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как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один из компонентов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предлож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ВЕСЕЛО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МЕЯТЬСЯ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ПЕСЧАНЫЙ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БЕР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НАЕДИНЕ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 ДРУГ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ДОМИК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 ПАЛИСАДНИК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КАЗОЧНО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КРАСИВЫ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Стрелка вниз 5"/>
          <p:cNvSpPr/>
          <p:nvPr/>
        </p:nvSpPr>
        <p:spPr>
          <a:xfrm>
            <a:off x="4143240" y="11430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488b"/>
                </a:solidFill>
                <a:latin typeface="Corbel"/>
                <a:ea typeface="Arial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запишите предложение, «разрубите» его на словосочетания.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rbel"/>
                <a:ea typeface="Arial"/>
              </a:rPr>
              <a:t>Сильный ураган сорвал с земли шатёр и унёс его в озеро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Справка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Шатёр</a:t>
            </a:r>
            <a:r>
              <a:rPr b="1" lang="ru-RU" sz="2800" spc="-1" strike="noStrike">
                <a:solidFill>
                  <a:srgbClr val="ffc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– 1. большая палатка, крытая обычно тканью; 2. высокая пирамидальная четырехгранная или восьмигранная  крыша (колоколен, башен, церквей и т.п.; спец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4" descr="http://images.prom.ua/988442_w640_h640_348436.jpg"/>
          <p:cNvPicPr/>
          <p:nvPr/>
        </p:nvPicPr>
        <p:blipFill>
          <a:blip r:embed="rId1"/>
          <a:stretch/>
        </p:blipFill>
        <p:spPr>
          <a:xfrm>
            <a:off x="5205240" y="5353200"/>
            <a:ext cx="35848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http://www.photoline.ru/critic/picpart/1263/1263789460.jpg"/>
          <p:cNvPicPr/>
          <p:nvPr/>
        </p:nvPicPr>
        <p:blipFill>
          <a:blip r:embed="rId1"/>
          <a:stretch/>
        </p:blipFill>
        <p:spPr>
          <a:xfrm>
            <a:off x="-6480" y="5353200"/>
            <a:ext cx="2590920" cy="15112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очетание двух и более сло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вязанных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подчинительной связью и представляющих собой смысловое еди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Признаки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ловосочетания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☀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остав словосочетания –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два (и более) самостоятельных слов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☀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мысловое единство сл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☀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подчинительная грамматическая связ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между компонентами словосочет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Структура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ловосочета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главное слово          подчиненное (зависимо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  <a:ea typeface="Arial"/>
              </a:rPr>
              <a:t>горная </a:t>
            </a:r>
            <a:r>
              <a:rPr b="1" i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рек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главный компонент – </a:t>
            </a:r>
            <a:r>
              <a:rPr b="1" i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река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подчиненный –</a:t>
            </a:r>
            <a:r>
              <a:rPr b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  <a:ea typeface="Arial"/>
              </a:rPr>
              <a:t>горн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Стрелка вниз 5"/>
          <p:cNvSpPr/>
          <p:nvPr/>
        </p:nvSpPr>
        <p:spPr>
          <a:xfrm>
            <a:off x="4071960" y="42876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Стрелка вниз 6"/>
          <p:cNvSpPr/>
          <p:nvPr/>
        </p:nvSpPr>
        <p:spPr>
          <a:xfrm>
            <a:off x="1928880" y="4857840"/>
            <a:ext cx="48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Стрелка вниз 7"/>
          <p:cNvSpPr/>
          <p:nvPr/>
        </p:nvSpPr>
        <p:spPr>
          <a:xfrm>
            <a:off x="4857840" y="4857840"/>
            <a:ext cx="48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Не является словосочетанием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▪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сочетание подлежащего и сказуемог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rbel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светит солнц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сочетание однородных члено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rbel"/>
              </a:rPr>
              <a:t>☀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цветы и травы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сочетание предлога и слов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601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rbel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у колодц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 является элементарной единицей синтаксиса, служащей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«строительным материалом»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для предло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2:17:17Z</dcterms:created>
  <dc:creator>Администратор</dc:creator>
  <dc:description/>
  <dc:language>en-US</dc:language>
  <cp:lastModifiedBy>Пользователь</cp:lastModifiedBy>
  <cp:lastPrinted>2013-02-19T19:28:09Z</cp:lastPrinted>
  <dcterms:modified xsi:type="dcterms:W3CDTF">2018-11-27T13:59:55Z</dcterms:modified>
  <cp:revision>455</cp:revision>
  <dc:subject/>
  <dc:title>Слайд 1</dc:title>
</cp:coreProperties>
</file>