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7C22-3018-4C47-B1B8-10BB0A59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DFC5-E54F-4C48-BB49-69477EE7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5A5B-15C9-457A-9B2C-949C5582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FFB9-2A58-40CC-9C8B-62FEBD5B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111B-1F02-4277-83FB-03C0478F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2B19-E886-462C-AF19-8A7D1F0B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3B56-BB54-4E1E-93F3-97616534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EF77-A0EC-44AF-B455-B98FC8A9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8380-EA0D-472C-A287-0F428D4C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08F3-D00F-4A41-9558-8B0B712E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B1A5-21A4-44D5-8C14-757B4EC4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F19-6E11-4741-B2F9-8AE6262C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B85A-5A50-4204-A9A5-6382CCA5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7BD4-3599-44B0-BED2-D760A9E6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0E4C-239F-4704-BD68-BAB32169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96D4-F841-4B83-9BAF-2F7E7E6E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6B22-2607-4371-86A5-E5C46114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8D96D-18F1-4090-A2C6-C20E7AE7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3623D-DD42-4E49-AD90-2D6BA5A3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3E7E7-53F6-4FD9-9347-63CE8725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E2501-5AAF-46C4-BFC8-00843D07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71511-C685-4581-923F-8DB00250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FD0-655B-4214-9CCE-788E0B02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54534-01BF-4888-8A0A-809F9082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87EBD-400B-4230-8E8A-6C4A85A7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FE1ED-66E1-4936-9D3D-924BAD3B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32678-D2DE-4202-A1B2-03D24EF7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AFDF3-AE26-43AB-A3FE-AB9D5FD5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7024C-1046-4D34-A52F-EBE24116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2388B-A473-4EA3-A8C4-29250A1B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76BE9-A333-4EC0-80CF-343454AB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C94FF-CF4D-40F9-8DB7-A004F2D5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38242-6DC9-4046-9E4A-D1C85CC8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ECDA-7B5A-48C8-8CEB-BB5A6815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D4BDD-B388-451C-80D6-24AD006C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8766B-D191-44FD-8E30-2B342735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F2CB6-587B-422F-8FAA-737C2E4F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AE34A-EE55-4E6C-B369-30AD36A1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07961-6B39-45FD-8770-3024E9ED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8A01D-830A-4741-9276-13EF2481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EC833-4EE7-4BAD-910C-B42ABB31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9A3EE-8C9B-4121-8CB0-644A772F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B5D03-BF48-4150-BAF4-7C2E328A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CE5D7-3995-4827-A484-6F615123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3D97-FEAF-4D7E-85FB-B37D44D1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B13BA-930A-4329-99A9-E52447D1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6089E-745B-4A23-9073-B9A127D8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3DDA3-DEF7-447D-88C7-32386FF7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6BBF2-6CBF-46F0-8DCC-548BFA42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0042B-6683-4BAD-B68C-3F5571C5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84C96-B447-40CC-B2A5-9C4A4EEC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A2907-11DA-4FD7-8C69-548F942A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ACED7-3F54-461A-8DDB-BD28A02B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9BB55-CBA9-4D01-A57F-5FFC7E8C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E92EB-665B-456A-AFBB-B57A9654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31E-22A6-400A-9D40-A40BCE32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AAF36-ED4D-42A7-8B97-DA385710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C2166-D669-4DEF-AD83-A68FDA4F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9255F-FC24-4372-B1B6-40139C10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B8AEB-DA4F-4124-B288-51218F6C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13C4A-F94B-4162-B31B-CDC56798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9BB88-BFA1-4044-8DA4-322570A2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5A52C-CB68-4997-B171-B5874028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9D900-295A-4912-89AA-6A43DFAE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05831-11D2-4D19-8503-51F287FF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FBB6B-9A3B-4D16-BE50-5E068D68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F9A-14AD-4F0C-9410-55122F21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D16F9-8233-4FE6-A11B-8C7FA758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4FEB4-F8A5-4A2D-9AFC-25E744E9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23143-ED64-4914-9EF7-3BF60476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D6956-5B43-40DB-96D4-EE215D75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B16F1-5611-43F2-85DA-29DCAE46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2265D-C002-455D-AEE2-1A9CC996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FA1FA-4E63-4183-BAF3-3589D162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084C9-1EFA-4015-B850-55A73C4A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47B4F-1B89-4E62-8BED-EDC032B7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574DE-463B-497A-B823-097F0239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6F7-EA85-4F8E-9E27-06A46404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2CDAD-BA72-42FB-B700-53BDF4AF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72899-517F-4BEA-8439-F8FF3C79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A52CB-0AB4-4793-AFC0-FF50C9C9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CB733-2CB6-4BD2-8385-E3BF1A66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F3771-DD6F-4F50-9948-FF6FA28A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BDD-2678-4B89-BDBF-3D9B4720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A5D7-79BE-4915-8D3B-7C0997FF027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A7A9-58DC-4465-9D0F-AB680B6FC82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407C-F522-4697-A081-302A88E0FFB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9F16-1CD1-45F1-B591-446DB3F53D6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948F-11AE-406A-A5E0-0CFC08DFE64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B8F3-1129-4672-AD45-87C678A92A9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F6D2-448D-46D8-9A31-67B834EF6E4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3300"/>
                </a:solidFill>
                <a:latin typeface="Gill Sans MT"/>
              </a:rPr>
              <a:t>СОЧЕТАЕМОСТ</a:t>
            </a:r>
            <a:r>
              <a:rPr b="0" lang="ru-RU" sz="3800" spc="-1" strike="noStrike">
                <a:solidFill>
                  <a:srgbClr val="ff3300"/>
                </a:solidFill>
                <a:latin typeface="Corbel"/>
              </a:rPr>
              <a:t>Ь</a:t>
            </a:r>
            <a:r>
              <a:rPr b="0" lang="en-US" sz="3800" spc="-1" strike="noStrike">
                <a:solidFill>
                  <a:srgbClr val="ff3300"/>
                </a:solidFill>
                <a:latin typeface="Gill Sans MT"/>
              </a:rPr>
              <a:t> СЛОВ</a:t>
            </a:r>
            <a:endParaRPr b="0" lang="en-US" sz="3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b80a"/>
                </a:solidFill>
                <a:latin typeface="Gill Sans MT"/>
              </a:rPr>
              <a:t>УПРАЖНЕНИЕ 4.</a:t>
            </a:r>
            <a:br>
              <a:rPr sz="2400"/>
            </a:br>
            <a:r>
              <a:rPr b="0" i="1" lang="en-US" sz="2400" spc="-1" strike="noStrike">
                <a:solidFill>
                  <a:srgbClr val="feb80a"/>
                </a:solidFill>
                <a:latin typeface="Gill Sans MT"/>
              </a:rPr>
              <a:t>В каких предложениях слово “свой” – лишнее, а в каких необходимо.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26920" y="19890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Русская литература прошла длительный путь (своего) развит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Вдруг Софья теряет (свое) созна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Директор итерната (свое) главное внимание уделяет воспитательной работ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В приведенной точке зрения есть и (свое) рациональное зерн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Справка дана Ивановой А.В. в том, что ей действительно разрешается продать (свое) мяс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Прохожий снял (свою) шляпу и поклонилс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Иногда сам минерал на самом себе записывает (свой) возраст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Gill Sans MT"/>
              </a:rPr>
              <a:t>ГРАММАТИЧЕСКИЕ НОРМЫ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1" lang="ru-RU" sz="2400" spc="-1" strike="noStrike">
                <a:solidFill>
                  <a:srgbClr val="ff9900"/>
                </a:solidFill>
                <a:latin typeface="Corbel"/>
              </a:rPr>
              <a:t>Морфологические нормы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это правила образования форм слов разных частей речи. Ср.: </a:t>
            </a:r>
            <a:r>
              <a:rPr b="0" i="1" lang="ru-RU" sz="2400" spc="-1" strike="noStrike">
                <a:solidFill>
                  <a:srgbClr val="008000"/>
                </a:solidFill>
                <a:latin typeface="Corbel"/>
              </a:rPr>
              <a:t>бухгалтеры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i="1" lang="ru-RU" sz="2400" spc="-1" strike="noStrike">
                <a:solidFill>
                  <a:srgbClr val="8dc765"/>
                </a:solidFill>
                <a:latin typeface="Corbel"/>
              </a:rPr>
              <a:t>не бухгалтера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), </a:t>
            </a:r>
            <a:r>
              <a:rPr b="0" i="1" lang="ru-RU" sz="2400" spc="-1" strike="noStrike">
                <a:solidFill>
                  <a:srgbClr val="008000"/>
                </a:solidFill>
                <a:latin typeface="Corbel"/>
              </a:rPr>
              <a:t>слезай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i="1" lang="ru-RU" sz="2400" spc="-1" strike="noStrike">
                <a:solidFill>
                  <a:srgbClr val="8dc765"/>
                </a:solidFill>
                <a:latin typeface="Corbel"/>
              </a:rPr>
              <a:t>не слаз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), </a:t>
            </a:r>
            <a:r>
              <a:rPr b="0" i="1" lang="ru-RU" sz="2400" spc="-1" strike="noStrike">
                <a:solidFill>
                  <a:srgbClr val="008000"/>
                </a:solidFill>
                <a:latin typeface="Corbel"/>
              </a:rPr>
              <a:t>крас'ивее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i="1" lang="ru-RU" sz="2400" spc="-1" strike="noStrike">
                <a:solidFill>
                  <a:srgbClr val="8dc765"/>
                </a:solidFill>
                <a:latin typeface="Corbel"/>
              </a:rPr>
              <a:t>не красивше и не более красивее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), </a:t>
            </a:r>
            <a:r>
              <a:rPr b="0" i="1" lang="ru-RU" sz="2400" spc="-1" strike="noStrike">
                <a:solidFill>
                  <a:srgbClr val="008000"/>
                </a:solidFill>
                <a:latin typeface="Corbel"/>
              </a:rPr>
              <a:t>три студентки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i="1" lang="ru-RU" sz="2400" spc="-1" strike="noStrike">
                <a:solidFill>
                  <a:srgbClr val="8dc765"/>
                </a:solidFill>
                <a:latin typeface="Corbel"/>
              </a:rPr>
              <a:t>не трое студенток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Corbel"/>
              </a:rPr>
              <a:t>Синтаксические нормы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 это правила построения словосочетаний и предложений. Ср.: </a:t>
            </a:r>
            <a:r>
              <a:rPr b="0" i="1" lang="ru-RU" sz="2400" spc="-1" strike="noStrike">
                <a:solidFill>
                  <a:srgbClr val="008000"/>
                </a:solidFill>
                <a:latin typeface="Corbel"/>
              </a:rPr>
              <a:t>управляющий банком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(не </a:t>
            </a:r>
            <a:r>
              <a:rPr b="0" i="1" lang="ru-RU" sz="2400" spc="-1" strike="noStrike">
                <a:solidFill>
                  <a:srgbClr val="8dc765"/>
                </a:solidFill>
                <a:latin typeface="Corbel"/>
              </a:rPr>
              <a:t>банка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), </a:t>
            </a:r>
            <a:r>
              <a:rPr b="0" i="1" lang="ru-RU" sz="2400" spc="-1" strike="noStrike">
                <a:solidFill>
                  <a:srgbClr val="008000"/>
                </a:solidFill>
                <a:latin typeface="Corbel"/>
              </a:rPr>
              <a:t>выйти из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400" spc="-1" strike="noStrike">
                <a:solidFill>
                  <a:srgbClr val="008000"/>
                </a:solidFill>
                <a:latin typeface="Corbel"/>
              </a:rPr>
              <a:t>положения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(не </a:t>
            </a:r>
            <a:r>
              <a:rPr b="0" i="1" lang="ru-RU" sz="2400" spc="-1" strike="noStrike">
                <a:solidFill>
                  <a:srgbClr val="8dc765"/>
                </a:solidFill>
                <a:latin typeface="Corbel"/>
              </a:rPr>
              <a:t>с положения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), </a:t>
            </a:r>
            <a:r>
              <a:rPr b="0" i="1" lang="ru-RU" sz="2400" spc="-1" strike="noStrike">
                <a:solidFill>
                  <a:srgbClr val="008000"/>
                </a:solidFill>
                <a:latin typeface="Corbel"/>
              </a:rPr>
              <a:t>думая о детстве,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400" spc="-1" strike="noStrike">
                <a:solidFill>
                  <a:srgbClr val="008000"/>
                </a:solidFill>
                <a:latin typeface="Corbel"/>
              </a:rPr>
              <a:t>представляю наш старый дом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(не</a:t>
            </a:r>
            <a:r>
              <a:rPr b="0" i="1" lang="ru-RU" sz="2400" spc="-1" strike="noStrike">
                <a:solidFill>
                  <a:srgbClr val="8dc765"/>
                </a:solidFill>
                <a:latin typeface="Corbel"/>
              </a:rPr>
              <a:t> думая о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400" spc="-1" strike="noStrike">
                <a:solidFill>
                  <a:srgbClr val="8dc765"/>
                </a:solidFill>
                <a:latin typeface="Corbel"/>
              </a:rPr>
              <a:t>детстве, представляется наш старый дом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b80a"/>
                </a:solidFill>
                <a:latin typeface="Gill Sans MT"/>
              </a:rPr>
              <a:t>УПРАЖНЕНИЕ 5.</a:t>
            </a:r>
            <a:br>
              <a:rPr sz="2400"/>
            </a:br>
            <a:r>
              <a:rPr b="1" i="1" lang="en-US" sz="2400" spc="-1" strike="noStrike">
                <a:solidFill>
                  <a:srgbClr val="feb80a"/>
                </a:solidFill>
                <a:latin typeface="Gill Sans MT"/>
              </a:rPr>
              <a:t>Образуйте от существительных форму именительного падежа множественного числа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Бухгалте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Инжене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Конструкто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Офице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Почер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Тор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Шофе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Догово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Директо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Купо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Орде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Пова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Профессо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Склад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Штабел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Штемпел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Шуле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Трюфел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Простын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Свите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Джемпе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b80a"/>
                </a:solidFill>
                <a:latin typeface="Gill Sans MT"/>
              </a:rPr>
              <a:t>ЗАПОМНИТЕ!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dc765"/>
                </a:solidFill>
                <a:latin typeface="Corbel"/>
              </a:rPr>
              <a:t>бухгалтеры, инженеры, конструкторы, офицеры, почерки, торты, шоферы, договоры, директора, купола, ордера, повара, профессора, склады, штабеля, штемпеля, шулера, трюфели, простыни, свитеры, джемперы, возраст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Corbel"/>
              </a:rPr>
              <a:t>Определение рода </a:t>
            </a:r>
            <a:br>
              <a:rPr sz="3200"/>
            </a:br>
            <a:r>
              <a:rPr b="1" i="1" lang="ru-RU" sz="3200" spc="-1" strike="noStrike">
                <a:solidFill>
                  <a:srgbClr val="ff3300"/>
                </a:solidFill>
                <a:latin typeface="Corbel"/>
              </a:rPr>
              <a:t>несклоняемых существительных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826920" y="21333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А) </a:t>
            </a:r>
            <a:r>
              <a:rPr b="0" lang="ru-RU" sz="2200" spc="-1" strike="noStrike">
                <a:solidFill>
                  <a:srgbClr val="8dc765"/>
                </a:solidFill>
                <a:latin typeface="Corbel"/>
              </a:rPr>
              <a:t>по более общему родовому понятию: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хинди («язык»), кольраби  («капуста»), авеню («улица»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Б) </a:t>
            </a:r>
            <a:r>
              <a:rPr b="0" lang="ru-RU" sz="2200" spc="-1" strike="noStrike">
                <a:solidFill>
                  <a:srgbClr val="8dc765"/>
                </a:solidFill>
                <a:latin typeface="Corbel"/>
              </a:rPr>
              <a:t>по роду нарицательных существительных у слов, обозначающих географические названия: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Сочи (город), Миссури (река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) </a:t>
            </a:r>
            <a:r>
              <a:rPr b="0" lang="ru-RU" sz="2200" spc="-1" strike="noStrike">
                <a:solidFill>
                  <a:srgbClr val="8dc765"/>
                </a:solidFill>
                <a:latin typeface="Corbel"/>
              </a:rPr>
              <a:t>несклоняемые существительные, обозначающие одушевленные предметы, относятся к м.р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: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забавный пони, смешной шимпанзе, но иваси (рыба) – ж.р., колибри (птица), цеце (муха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Г) </a:t>
            </a:r>
            <a:r>
              <a:rPr b="0" lang="ru-RU" sz="2200" spc="-1" strike="noStrike">
                <a:solidFill>
                  <a:srgbClr val="8dc765"/>
                </a:solidFill>
                <a:latin typeface="Corbel"/>
              </a:rPr>
              <a:t>несклоняемые существительные, обозначающие лиц, относящихся к м. и ж.р. в зависимости от пола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красивая леди, известный конферансь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3300"/>
                </a:solidFill>
                <a:latin typeface="Gill Sans MT"/>
              </a:rPr>
              <a:t>ЗАПОМНИТЕ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826920" y="23270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dc765"/>
                </a:solidFill>
                <a:latin typeface="Corbel"/>
              </a:rPr>
              <a:t>слова мужского рода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рельс, толь, тюль, погон, шампунь,  эполет, кофе, рюш, клипс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9900"/>
                </a:solidFill>
                <a:latin typeface="Corbel"/>
              </a:rPr>
              <a:t>слова женского рода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босоножка, клавиша, манжета (в одежде), мозоль, салями, сандалия, туфля, вуаль, фасоль, плацкарта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rbel"/>
              </a:rPr>
              <a:t>слова среднего рода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алоэ, мочало, повидло, щупальце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Corbel"/>
              </a:rPr>
              <a:t>слова общего рода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неряха, сирота,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невежда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неженка, трудяга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sh dir="r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УПРАЖНЕНИЕ 6.</a:t>
            </a:r>
            <a:br>
              <a:rPr sz="2400"/>
            </a:br>
            <a:r>
              <a:rPr b="1" i="1" lang="ru-RU" sz="2400" spc="-1" strike="noStrike">
                <a:solidFill>
                  <a:srgbClr val="ff3300"/>
                </a:solidFill>
                <a:latin typeface="Corbel"/>
              </a:rPr>
              <a:t>Определите род следующих существительных. В каких случаях возможны варианты?</a:t>
            </a:r>
            <a:br>
              <a:rPr sz="28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00000" y="20602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Gill Sans MT"/>
              </a:rPr>
              <a:t>К</a:t>
            </a:r>
            <a:r>
              <a:rPr b="0" lang="ru-RU" sz="2400" spc="-1" strike="noStrike">
                <a:solidFill>
                  <a:srgbClr val="0000ff"/>
                </a:solidFill>
                <a:latin typeface="Corbel"/>
              </a:rPr>
              <a:t>офе, алоэ, плакса, киви,  вуаль, рандеву, кольраби, салями, пенальти,  хинди, Батуми, Тбилиси, Дели, Онтарио, По, Гоби,  камикадзе, кепи, самбо, табу, турне, цунами, чау-чау, иваси, шимпанзе, невежа, Миссури,  бандероль, непоседа, бистро,  манго, мокко,  какаду, колибри, бра, панно, такси, авеню, Сочи,   кимоно, туника, мачо, идальго, резюме, какао, рефери, мисс, мадам, кутюрье, хобби, алиби, ножницы, разиня,  цеце, гуру, ФСБ, МЧС, СНГ,  ФБР, МГИМО, «Таймс»</a:t>
            </a:r>
            <a:r>
              <a:rPr b="0" lang="en-US" sz="2400" spc="-1" strike="noStrike">
                <a:solidFill>
                  <a:srgbClr val="0000ff"/>
                </a:solidFill>
                <a:latin typeface="Gill Sans MT"/>
              </a:rPr>
              <a:t>, шампунь, тюл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Gill Sans MT"/>
              </a:rPr>
              <a:t>УПРАЖНЕНИЕ 7. </a:t>
            </a:r>
            <a:br>
              <a:rPr sz="2000"/>
            </a:br>
            <a:r>
              <a:rPr b="1" i="1" lang="ru-RU" sz="2000" spc="-1" strike="noStrike">
                <a:solidFill>
                  <a:srgbClr val="ff3300"/>
                </a:solidFill>
                <a:latin typeface="Corbel"/>
              </a:rPr>
              <a:t>Найдите в предложениях, взятых из выступлений современных политиков и журналистов, случаи нарушения морфологических норм.</a:t>
            </a:r>
            <a:br>
              <a:rPr sz="38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00000" y="20602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Мощность взрыва была эквивалентна двухстам килограммам тротил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Евгений Максимович говорил с господином Гор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Я свою подпись из-под этого документа не убер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Без финансовых поддержек нам нельзя существова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Сколько время вы отводите на решение этого вопроса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Что касается моих первых работ на ТВ, то они были гораздо слабж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В течение полтора суток все говорит о том, что состояние президента стабилизируетс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Об этом заявила глава налоговой службы Георгий Боос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b80a"/>
                </a:solidFill>
                <a:latin typeface="Gill Sans MT"/>
              </a:rPr>
              <a:t>УПОТРЕБЛЕНИЕ ДЕЕПРИЧАСТНЫХ</a:t>
            </a:r>
            <a:br>
              <a:rPr sz="2400"/>
            </a:br>
            <a:r>
              <a:rPr b="1" i="1" lang="en-US" sz="2400" spc="-1" strike="noStrike">
                <a:solidFill>
                  <a:srgbClr val="feb80a"/>
                </a:solidFill>
                <a:latin typeface="Gill Sans MT"/>
              </a:rPr>
              <a:t>ОБОРОТОВ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dc765"/>
                </a:solidFill>
                <a:latin typeface="Corbel"/>
              </a:rPr>
              <a:t>Два действия, одно из которых выражено глаголом-сказуемым, а другое – деепричастием, должны осуществляться одним и тем же лицом (или относиться к одному лицу):  </a:t>
            </a:r>
            <a:r>
              <a:rPr b="0" i="1" lang="ru-RU" sz="2700" spc="-1" strike="noStrike">
                <a:solidFill>
                  <a:srgbClr val="4f271c"/>
                </a:solidFill>
                <a:latin typeface="Corbel"/>
              </a:rPr>
              <a:t>Прочитав рукопись</a:t>
            </a:r>
            <a:r>
              <a:rPr b="0" i="1" lang="ru-RU" sz="2700" spc="-1" strike="noStrike">
                <a:solidFill>
                  <a:srgbClr val="8dc765"/>
                </a:solidFill>
                <a:latin typeface="Corbel"/>
              </a:rPr>
              <a:t> </a:t>
            </a:r>
            <a:r>
              <a:rPr b="0" i="1" lang="ru-RU" sz="2700" spc="-1" strike="noStrike">
                <a:solidFill>
                  <a:srgbClr val="4f271c"/>
                </a:solidFill>
                <a:latin typeface="Corbel"/>
              </a:rPr>
              <a:t>вторично, я понял, что она нуждается в серьезной доработке.</a:t>
            </a:r>
            <a:r>
              <a:rPr b="0" i="1" lang="ru-RU" sz="2700" spc="-1" strike="noStrike">
                <a:solidFill>
                  <a:srgbClr val="8dc765"/>
                </a:solidFill>
                <a:latin typeface="Corbe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dc765"/>
                </a:solidFill>
                <a:latin typeface="Corbel"/>
              </a:rPr>
              <a:t>Допустимым является употребление деепричастного оборота в безличном предложении при инфинитиве: </a:t>
            </a:r>
            <a:r>
              <a:rPr b="0" i="1" lang="ru-RU" sz="2700" spc="-1" strike="noStrike">
                <a:solidFill>
                  <a:srgbClr val="4f271c"/>
                </a:solidFill>
                <a:latin typeface="Corbel"/>
              </a:rPr>
              <a:t>Редактируя рукопись, необходимо учитывать авторский стиль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Gill Sans MT"/>
              </a:rPr>
              <a:t>УПРАЖНЕНИЕ 8.</a:t>
            </a:r>
            <a:br>
              <a:rPr sz="2000"/>
            </a:b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Найдите предложения, в которых есть ошибки в употреблении деепричастного оборота</a:t>
            </a:r>
            <a:r>
              <a:rPr b="1" i="1" lang="en-US" sz="2000" spc="-1" strike="noStrike">
                <a:solidFill>
                  <a:srgbClr val="ff33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2692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шая свои проблемы, не забывайте помогать други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став после занятий, мне не читалос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крыв книгу, я задумал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вершая затяжной прыжок с парашютом, нашим спортсменом был поставлен мировой рекор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Торговый зал был очищен от людей, опасаясь, что рухнет потолок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рочитав вторично рукопись, мне думается, она нуждается в серьезной доработке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72720" y="277560"/>
            <a:ext cx="77137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Gill Sans MT"/>
              </a:rPr>
              <a:t>СЛОВАРНАЯ РАБОТА</a:t>
            </a:r>
            <a:br>
              <a:rPr sz="2200"/>
            </a:br>
            <a:r>
              <a:rPr b="0" lang="en-US" sz="2200" spc="-1" strike="noStrike">
                <a:solidFill>
                  <a:srgbClr val="ff3300"/>
                </a:solidFill>
                <a:latin typeface="Gill Sans MT"/>
              </a:rPr>
              <a:t> “</a:t>
            </a:r>
            <a:r>
              <a:rPr b="1" i="1" lang="en-US" sz="2200" spc="-1" strike="noStrike">
                <a:solidFill>
                  <a:srgbClr val="ff3300"/>
                </a:solidFill>
                <a:latin typeface="Gill Sans MT"/>
              </a:rPr>
              <a:t>УЗНАЙ СЛОВО ПО ЕГО ЛЕКСИЧЕСКОМУ ЗНАЧЕНИЮ”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71640" y="1341360"/>
            <a:ext cx="7726320" cy="48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c765"/>
                </a:solidFill>
                <a:latin typeface="Gill Sans MT"/>
              </a:rPr>
              <a:t>1. Испорченный, разбитый, разделенный на куски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c765"/>
                </a:solidFill>
                <a:latin typeface="Gill Sans MT"/>
              </a:rPr>
              <a:t>2. Заключить между распростертыми руками, пальцами, лапами, плотно прижать кого/что-либо к себе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c765"/>
                </a:solidFill>
                <a:latin typeface="Gill Sans MT"/>
              </a:rPr>
              <a:t>3. Достойный звания человека, отзывчивый, гуманный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c765"/>
                </a:solidFill>
                <a:latin typeface="Gill Sans MT"/>
              </a:rPr>
              <a:t>4. Только один такой, кроме него, нет никакого другого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c765"/>
                </a:solidFill>
                <a:latin typeface="Gill Sans MT"/>
              </a:rPr>
              <a:t>5. Являющийся типом, обнаруживающий общее в частном, индивидуальном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c765"/>
                </a:solidFill>
                <a:latin typeface="Gill Sans MT"/>
              </a:rPr>
              <a:t>6. Отправитель послания, почтового или телеграфного сообщения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c765"/>
                </a:solidFill>
                <a:latin typeface="Gill Sans MT"/>
              </a:rPr>
              <a:t>7. Общий, одинаковый, один для всех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c765"/>
                </a:solidFill>
                <a:latin typeface="Gill Sans MT"/>
              </a:rPr>
              <a:t>8. Благозвучная последовательность звуков, образующая музыкальное единство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c765"/>
                </a:solidFill>
                <a:latin typeface="Gill Sans MT"/>
              </a:rPr>
              <a:t>9. Заключить в свои пределы, ввести в круг чего-либо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c765"/>
                </a:solidFill>
                <a:latin typeface="Gill Sans MT"/>
              </a:rPr>
              <a:t>10. Лишенный воли, подавленный морально, принужденный к покорности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c765"/>
                </a:solidFill>
                <a:latin typeface="Gill Sans MT"/>
              </a:rPr>
              <a:t>11. Ярко выраженный, обладающий особенностями, свойственными какому-нибудь типу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eb80a"/>
                </a:solidFill>
                <a:latin typeface="Gill Sans MT"/>
              </a:rPr>
              <a:t>НОРМЫ УПРАВЛЕНИЯ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26920" y="213336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dc765"/>
                </a:solidFill>
                <a:latin typeface="Corbel"/>
              </a:rPr>
              <a:t>Беспокоиться о ком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dc765"/>
                </a:solidFill>
                <a:latin typeface="Corbel"/>
              </a:rPr>
              <a:t>Идентичный чему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dc765"/>
                </a:solidFill>
                <a:latin typeface="Corbel"/>
              </a:rPr>
              <a:t>Надеть что на чт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dc765"/>
                </a:solidFill>
                <a:latin typeface="Corbel"/>
              </a:rPr>
              <a:t>Обращать внимание на чт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dc765"/>
                </a:solidFill>
                <a:latin typeface="Corbel"/>
              </a:rPr>
              <a:t>Отзыв о чем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dc765"/>
                </a:solidFill>
                <a:latin typeface="Corbel"/>
              </a:rPr>
              <a:t>Превосходство над чем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dc765"/>
                </a:solidFill>
                <a:latin typeface="Corbel"/>
              </a:rPr>
              <a:t>Предостеречь от чег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dc765"/>
                </a:solidFill>
                <a:latin typeface="Corbel"/>
              </a:rPr>
              <a:t>Препятствовать чему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dc765"/>
                </a:solidFill>
                <a:latin typeface="Corbel"/>
              </a:rPr>
              <a:t>Уверенность в чем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dc765"/>
                </a:solidFill>
                <a:latin typeface="Corbel"/>
              </a:rPr>
              <a:t>Уплатить за чт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787640" y="213336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b80a"/>
                </a:solidFill>
                <a:latin typeface="Corbel"/>
              </a:rPr>
              <a:t>Тревожиться за ког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b80a"/>
                </a:solidFill>
                <a:latin typeface="Corbel"/>
              </a:rPr>
              <a:t>Сходный с чем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b80a"/>
                </a:solidFill>
                <a:latin typeface="Corbel"/>
              </a:rPr>
              <a:t>Одеть кого во чт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b80a"/>
                </a:solidFill>
                <a:latin typeface="Corbel"/>
              </a:rPr>
              <a:t>Уделять внимание чему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b80a"/>
                </a:solidFill>
                <a:latin typeface="Corbel"/>
              </a:rPr>
              <a:t>Рецензия на чт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b80a"/>
                </a:solidFill>
                <a:latin typeface="Corbel"/>
              </a:rPr>
              <a:t>Преимущество перед чем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b80a"/>
                </a:solidFill>
                <a:latin typeface="Corbel"/>
              </a:rPr>
              <a:t>Предупредить о чем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b80a"/>
                </a:solidFill>
                <a:latin typeface="Corbel"/>
              </a:rPr>
              <a:t>Тормозить чт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b80a"/>
                </a:solidFill>
                <a:latin typeface="Corbel"/>
              </a:rPr>
              <a:t>Вера во чт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b80a"/>
                </a:solidFill>
                <a:latin typeface="Corbel"/>
              </a:rPr>
              <a:t>Оплатить чт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Gill Sans MT"/>
              </a:rPr>
              <a:t>УПРАЖНЕНИЕ 9.</a:t>
            </a:r>
            <a:br>
              <a:rPr sz="2000"/>
            </a:b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Найдите предложения, в которых есть ошибки в управлении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ы увлекаемся и любим посещать выставки филателистов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лодые супруги посетовали на нехватку денег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своих заметках автор детально описывает о путешествии на Кавказ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гласно приказа командира батальона, солдаты должны были идти в наступлени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Gill Sans MT"/>
              </a:rPr>
              <a:t>УПРАЖНЕНИЕ 10.</a:t>
            </a:r>
            <a:br>
              <a:rPr sz="2000"/>
            </a:b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Найдите предложения, в которых есть ошибки в управлении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ставители всех стран СНГ съехались на совещание в Москву, а также Эстонии и Латв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ька не столько пел, сколько раскрывал рот и делал вид, что поет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знакомец протянул руки к огню, пылавшему в камине и который притягивал е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b80a"/>
                </a:solidFill>
                <a:latin typeface="Gill Sans MT"/>
              </a:rPr>
              <a:t>УПРАЖНЕНИЕ 11. </a:t>
            </a:r>
            <a:br>
              <a:rPr sz="2400"/>
            </a:br>
            <a:r>
              <a:rPr b="0" i="1" lang="ru-RU" sz="2400" spc="-1" strike="noStrike">
                <a:solidFill>
                  <a:srgbClr val="feb80a"/>
                </a:solidFill>
                <a:latin typeface="Corbel"/>
              </a:rPr>
              <a:t>Найдите ошибки, вызванные неполнотой предложений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26920" y="19890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Интересующих вас лиц вышлем почт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Пассажиры с необмотанными рогами к посадке не допускаются (Объявление в аэропорту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Для домашних насекомых в магазине ничего н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Сдается квартира с ребенко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Женщине присудили 25% муж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В кабинете литературы висят великие писател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Футболисты ушли с поля без гол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Несмотря на то, что ей за сорок, выглядит она на все ст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Врач на заборе (Объявление о том, что врач уехал к донорам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Делаем только срочные переломы (На двери рентгенкабинета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ПРОВЕРЬ!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276720" y="1557360"/>
            <a:ext cx="54100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Сломанны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Обхватить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Человечны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Единственны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Типически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 </a:t>
            </a: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Адресант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Едины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Мелодия</a:t>
            </a: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Охватить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Сломленны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Типичны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ЛЕКСИЧЕСКАЯ СОЧЕТАЕМОСТЬ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ЛЕКСИЧЕСКИЕ НОРМЫ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Слова в предложении связаны друг с другом грамматически и по смыслу. Грамматические связи обеспечивают грамма-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тическую правильность реч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Например, </a:t>
            </a:r>
            <a:r>
              <a:rPr b="0" i="1" lang="en-US" sz="2000" spc="-1" strike="noStrike">
                <a:solidFill>
                  <a:srgbClr val="008000"/>
                </a:solidFill>
                <a:latin typeface="Gill Sans MT"/>
              </a:rPr>
              <a:t>спелый колос – спелая вишня – спелое яблоко – спелые плоды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согласование прилагательного с существительным в роде, числе, падеже)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en-US" sz="2000" spc="-1" strike="noStrike">
                <a:solidFill>
                  <a:srgbClr val="008000"/>
                </a:solidFill>
                <a:latin typeface="Gill Sans MT"/>
              </a:rPr>
              <a:t>забиваю гвоздь, вышел на улицу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000" spc="-1" strike="noStrike">
                <a:solidFill>
                  <a:srgbClr val="008000"/>
                </a:solidFill>
                <a:latin typeface="Gill Sans MT"/>
              </a:rPr>
              <a:t>занимались спортом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 глагольное управление существительными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Смысловые связи обеспечивают правильность высказыва-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ния по смысл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ЛЕКСИЧЕСКАЯ СОЧЕТАЕМОСТЬ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ЛЕКСИЧЕСКИЕ НОРМЫ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Лексическая сочетаемость слова – это его способность вступать в сочетания не с любым словом, а только с некоторыми. Например, существует класс слов, объеди-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няемых общим смыслом “ </a:t>
            </a:r>
            <a:r>
              <a:rPr b="0" lang="en-US" sz="2000" spc="-1" strike="noStrike">
                <a:solidFill>
                  <a:srgbClr val="008000"/>
                </a:solidFill>
                <a:latin typeface="Gill Sans MT"/>
              </a:rPr>
              <a:t>множество, совокупность”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Gill Sans MT"/>
              </a:rPr>
              <a:t>стадо, табун, стая, рой, косяк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и т.д. При обозначении множества каких-нибудь животных нельзя сочетать название любого животного с любым из этих сл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Говорят : </a:t>
            </a:r>
            <a:r>
              <a:rPr b="1" i="1" lang="en-US" sz="2400" spc="-1" strike="noStrike">
                <a:solidFill>
                  <a:srgbClr val="008000"/>
                </a:solidFill>
                <a:latin typeface="Gill Sans MT"/>
              </a:rPr>
              <a:t>стадо коров, табун лошадей, стая птиц, рой пчел, косяк рыбы ( </a:t>
            </a:r>
            <a:r>
              <a:rPr b="1" i="1" lang="en-US" sz="2000" spc="-1" strike="noStrike">
                <a:solidFill>
                  <a:srgbClr val="000000"/>
                </a:solidFill>
                <a:latin typeface="Gill Sans MT"/>
              </a:rPr>
              <a:t>но не</a:t>
            </a:r>
            <a:r>
              <a:rPr b="1" i="1" lang="en-US" sz="2400" spc="-1" strike="noStrike">
                <a:solidFill>
                  <a:srgbClr val="008000"/>
                </a:solidFill>
                <a:latin typeface="Gill Sans MT"/>
              </a:rPr>
              <a:t> </a:t>
            </a:r>
            <a:r>
              <a:rPr b="1" i="1" lang="en-US" sz="2400" spc="-1" strike="noStrike">
                <a:solidFill>
                  <a:srgbClr val="8dc765"/>
                </a:solidFill>
                <a:latin typeface="Gill Sans MT"/>
              </a:rPr>
              <a:t>“стая</a:t>
            </a:r>
            <a:r>
              <a:rPr b="1" i="1" lang="en-US" sz="2400" spc="-1" strike="noStrike">
                <a:solidFill>
                  <a:srgbClr val="008000"/>
                </a:solidFill>
                <a:latin typeface="Gill Sans MT"/>
              </a:rPr>
              <a:t> </a:t>
            </a:r>
            <a:r>
              <a:rPr b="1" i="1" lang="en-US" sz="2400" spc="-1" strike="noStrike">
                <a:solidFill>
                  <a:srgbClr val="8dc765"/>
                </a:solidFill>
                <a:latin typeface="Gill Sans MT"/>
              </a:rPr>
              <a:t>рыбы”, “стадо пчел”, “рой лошадей</a:t>
            </a: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и т.п.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ЛЕКСИЧЕСКАЯ СОЧЕТАЕМОСТЬ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ЛЕКСИЧЕСКИЕ НОРМЫ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Corbel"/>
              </a:rPr>
              <a:t>Лексическая норма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орма, определяющая правила употребления слов в соответствии с их значением и сочетания слов в реч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Выгнутая влево стрелка 4"/>
          <p:cNvSpPr/>
          <p:nvPr/>
        </p:nvSpPr>
        <p:spPr>
          <a:xfrm>
            <a:off x="4572000" y="1857240"/>
            <a:ext cx="1800360" cy="178776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279360 h 1787760"/>
              <a:gd name="textAreaBottom" fmla="*/ 1285200 h 178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038815"/>
                <a:lnTo>
                  <a:pt x="16238" y="21389"/>
                </a:lnTo>
                <a:lnTo>
                  <a:pt x="21600" y="16200"/>
                </a:lnTo>
                <a:lnTo>
                  <a:pt x="16238" y="10589"/>
                </a:lnTo>
                <a:lnTo>
                  <a:pt x="16238" y="13289"/>
                </a:lnTo>
                <a:arcTo wR="21600" hR="6750" stAng="7761185" swAng="2572829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УПРАЖНЕНИЕ 1. </a:t>
            </a:r>
            <a:r>
              <a:rPr b="1" i="1" lang="ru-RU" sz="2400" spc="-1" strike="noStrike">
                <a:solidFill>
                  <a:srgbClr val="ff3300"/>
                </a:solidFill>
                <a:latin typeface="Corbel"/>
              </a:rPr>
              <a:t>Дайте оценку употреблению выделенных слов. В случае неправильного использования слова исправьте предложения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ш город </a:t>
            </a:r>
            <a:r>
              <a:rPr b="1" i="1" lang="ru-RU" sz="2400" spc="-1" strike="noStrike">
                <a:solidFill>
                  <a:srgbClr val="8dc765"/>
                </a:solidFill>
                <a:latin typeface="Corbel"/>
              </a:rPr>
              <a:t>характерен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аринными парками, за что его </a:t>
            </a:r>
            <a:r>
              <a:rPr b="1" i="1" lang="ru-RU" sz="2400" spc="-1" strike="noStrike">
                <a:solidFill>
                  <a:srgbClr val="8dc765"/>
                </a:solidFill>
                <a:latin typeface="Corbel"/>
              </a:rPr>
              <a:t>уважают</a:t>
            </a:r>
            <a:r>
              <a:rPr b="0" lang="ru-RU" sz="2400" spc="-1" strike="noStrike">
                <a:solidFill>
                  <a:srgbClr val="8dc765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се жител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ш завод славится </a:t>
            </a:r>
            <a:r>
              <a:rPr b="1" i="1" lang="ru-RU" sz="2400" spc="-1" strike="noStrike">
                <a:solidFill>
                  <a:srgbClr val="8dc765"/>
                </a:solidFill>
                <a:latin typeface="Corbel"/>
              </a:rPr>
              <a:t>возделыванием комфортабельны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троллейбус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dc765"/>
                </a:solidFill>
                <a:latin typeface="Gill Sans MT"/>
              </a:rPr>
              <a:t>Притормози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коня, командир подождал Марус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ой брат </a:t>
            </a:r>
            <a:r>
              <a:rPr b="1" i="1" lang="ru-RU" sz="2400" spc="-1" strike="noStrike">
                <a:solidFill>
                  <a:srgbClr val="8dc765"/>
                </a:solidFill>
                <a:latin typeface="Corbel"/>
              </a:rPr>
              <a:t>увлекаетс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мифами Древней Греции и знает </a:t>
            </a:r>
            <a:r>
              <a:rPr b="1" i="1" lang="ru-RU" sz="2400" spc="-1" strike="noStrike">
                <a:solidFill>
                  <a:srgbClr val="8dc765"/>
                </a:solidFill>
                <a:latin typeface="Corbel"/>
              </a:rPr>
              <a:t>фамилии</a:t>
            </a:r>
            <a:r>
              <a:rPr b="0" lang="ru-RU" sz="2400" spc="-1" strike="noStrike">
                <a:solidFill>
                  <a:srgbClr val="8dc765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сех античных героев и бог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На космодроме высилось </a:t>
            </a:r>
            <a:r>
              <a:rPr b="1" i="1" lang="en-US" sz="2400" spc="-1" strike="noStrike">
                <a:solidFill>
                  <a:srgbClr val="8dc765"/>
                </a:solidFill>
                <a:latin typeface="Gill Sans MT"/>
              </a:rPr>
              <a:t>чудищ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человеческого разума- раке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Автор </a:t>
            </a:r>
            <a:r>
              <a:rPr b="1" i="1" lang="en-US" sz="2400" spc="-1" strike="noStrike">
                <a:solidFill>
                  <a:srgbClr val="8dc765"/>
                </a:solidFill>
                <a:latin typeface="Gill Sans MT"/>
              </a:rPr>
              <a:t>делит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своих героев на </a:t>
            </a:r>
            <a:r>
              <a:rPr b="1" i="1" lang="en-US" sz="2400" spc="-1" strike="noStrike">
                <a:solidFill>
                  <a:srgbClr val="8dc765"/>
                </a:solidFill>
                <a:latin typeface="Gill Sans MT"/>
              </a:rPr>
              <a:t>две част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У нас в столовой самообслуживание: покушал – </a:t>
            </a:r>
            <a:r>
              <a:rPr b="1" i="1" lang="en-US" sz="2400" spc="-1" strike="noStrike">
                <a:solidFill>
                  <a:srgbClr val="8dc765"/>
                </a:solidFill>
                <a:latin typeface="Gill Sans MT"/>
              </a:rPr>
              <a:t>убирайся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са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b80a"/>
                </a:solidFill>
                <a:latin typeface="Gill Sans MT"/>
              </a:rPr>
              <a:t>УПРАЖНЕНИЕ 2.</a:t>
            </a:r>
            <a:br>
              <a:rPr sz="2400"/>
            </a:br>
            <a:r>
              <a:rPr b="1" i="1" lang="en-US" sz="2800" spc="-1" strike="noStrike">
                <a:solidFill>
                  <a:srgbClr val="feb80a"/>
                </a:solidFill>
                <a:latin typeface="Gill Sans MT"/>
              </a:rPr>
              <a:t>Найдите лишние слова </a:t>
            </a:r>
            <a:r>
              <a:rPr b="1" i="1" lang="ru-RU" sz="2800" spc="-1" strike="noStrike">
                <a:solidFill>
                  <a:srgbClr val="feb80a"/>
                </a:solidFill>
                <a:latin typeface="Corbel"/>
              </a:rPr>
              <a:t>в следующих контекстах</a:t>
            </a:r>
            <a:r>
              <a:rPr b="0" i="1" lang="ru-RU" sz="2800" spc="-1" strike="noStrike">
                <a:solidFill>
                  <a:srgbClr val="feb80a"/>
                </a:solidFill>
                <a:latin typeface="Corbel"/>
              </a:rPr>
              <a:t>.</a:t>
            </a:r>
            <a:br>
              <a:rPr sz="3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333440" y="1947600"/>
            <a:ext cx="735336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Знаменитый режиссер поделился со зрителями своими планами на будуще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Толпа людей ворвалась на территорию пар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Цена пребывания в этой больнице не финансируется государство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Демобилизовавшись из армии, Сергей решил вернуться на завод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Мы выполнили работу по </a:t>
            </a: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возрождению </a:t>
            </a: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народного</a:t>
            </a:r>
            <a:r>
              <a:rPr b="0" i="1" lang="ru-RU" sz="2000" spc="-1" strike="noStrike">
                <a:solidFill>
                  <a:srgbClr val="8dc765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фолькло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Это был первый</a:t>
            </a:r>
            <a:r>
              <a:rPr b="0" i="1" lang="ru-RU" sz="2000" spc="-1" strike="noStrike">
                <a:solidFill>
                  <a:srgbClr val="8dc765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литературный дебют будущего великого писател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Вопросы экологии сейчас стоят на повестке жизни и</a:t>
            </a:r>
            <a:r>
              <a:rPr b="0" i="1" lang="ru-RU" sz="2000" spc="-1" strike="noStrike">
                <a:solidFill>
                  <a:srgbClr val="8dc765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смер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eb80a"/>
                </a:solidFill>
                <a:latin typeface="Gill Sans MT"/>
              </a:rPr>
              <a:t>УПРАЖНЕНИЕ 3.</a:t>
            </a:r>
            <a:br>
              <a:rPr sz="2800"/>
            </a:br>
            <a:r>
              <a:rPr b="0" i="1" lang="ru-RU" sz="2800" spc="-1" strike="noStrike">
                <a:solidFill>
                  <a:srgbClr val="feb80a"/>
                </a:solidFill>
                <a:latin typeface="Corbel"/>
              </a:rPr>
              <a:t>Укажите разные виды речевой изб</a:t>
            </a:r>
            <a:r>
              <a:rPr b="0" i="1" lang="en-US" sz="2800" spc="-1" strike="noStrike">
                <a:solidFill>
                  <a:srgbClr val="feb80a"/>
                </a:solidFill>
                <a:latin typeface="Gill Sans MT"/>
              </a:rPr>
              <a:t>ыточности.</a:t>
            </a:r>
            <a:br>
              <a:rPr sz="2800"/>
            </a:br>
            <a:r>
              <a:rPr b="0" i="1" lang="ru-RU" sz="2800" spc="-1" strike="noStrike">
                <a:solidFill>
                  <a:srgbClr val="feb80a"/>
                </a:solidFill>
                <a:latin typeface="Corbel"/>
              </a:rPr>
              <a:t>Отредактируйте предложения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4000" y="1916280"/>
            <a:ext cx="793116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Сегодня у нас в гостях гость из солнечной Грузи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На совещании обсуждались вопросы и проблемы, связанные с началом отопительного сезон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Мы не устраиваем каких-то всенародных соревнований на лучшего аса шоферского дел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Возникает необходимость принятия мер в деле распространения апробированного и одобренного передового опыт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Открытие вернисажа намечено на конец сентября месяц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В области сложилась сложная ситуация с водоснабжением населения обла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Всем участникам семинара организаторы подарили сувениры на памя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Мертвый труп лежал без движения и не проявлял признаков жизн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7:33:22Z</dcterms:created>
  <dc:creator>Agisheva I.L</dc:creator>
  <dc:description/>
  <dc:language>en-US</dc:language>
  <cp:lastModifiedBy>Пользователь</cp:lastModifiedBy>
  <dcterms:modified xsi:type="dcterms:W3CDTF">2018-11-27T13:45:04Z</dcterms:modified>
  <cp:revision>10</cp:revision>
  <dc:subject/>
  <dc:title>ПОГОВОРИМ О СОЧЕТАЕМОСТИ СЛОВ</dc:title>
</cp:coreProperties>
</file>