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DFD-D42E-4A5D-B866-12028993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A5F-D24A-4A92-81D0-A28D7D3D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05A-FEB4-4243-B788-0E5DF4FD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494-3A98-4ED9-B422-82B75AD5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F44-0FE0-4AFC-A5BB-6E1856F4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AF0-D077-49ED-97CB-C74AEF2F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8805-37E5-45D2-B332-52B69792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E352-4C24-4AEA-9643-4215723E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AE96-CE18-4291-AC58-B93322F2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FD7A-6943-4824-A58F-A9811A47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1992-5A4B-46C2-90F6-EA7E7E7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C9D-B292-4797-B19C-37BB07DE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FDC5-EB84-46A8-BE60-08DFA804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779C-AA95-42C0-9246-9505D5AE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6903-FB5A-4EE5-9857-0BADEB26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EF62-9D32-4F2F-84F7-A4BBCC53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F1AB-862C-4AC4-AC68-A5866960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7CA-8ACD-41C4-9880-74DB7725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11E-7017-453F-AF17-F5991CFA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A96-B8C8-46F6-9AC4-C0D9952C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2C5-334E-4CCC-963C-55383AC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0E4-F665-4F25-B334-C95CDB6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7B4-E869-4174-8FA3-6B761CE6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AE2-74F5-443E-B03B-43A9E4F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6059-5641-4372-8740-C864D35C24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74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15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56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7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38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ct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DE3C-C0D5-4C99-BE0A-4C1A8D80CE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Рисунок 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7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8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9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10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51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92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33" name="CustomShape 2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Рисунок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Shape 1"/>
          <p:cNvSpPr/>
          <p:nvPr/>
        </p:nvSpPr>
        <p:spPr>
          <a:xfrm>
            <a:off x="714240" y="142920"/>
            <a:ext cx="7715520" cy="3286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Турнир семейных коман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«Нарвская застава-2019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Турнир </a:t>
            </a:r>
            <a:r>
              <a:rPr b="0" i="1" lang="ru-RU" sz="3600" spc="-1" strike="noStrike">
                <a:solidFill>
                  <a:srgbClr val="ff0000"/>
                </a:solidFill>
                <a:latin typeface="Arial Black"/>
              </a:rPr>
              <a:t>старпо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CustomShape 2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CustomShape 3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7" name=""/>
          <p:cNvGraphicFramePr/>
          <p:nvPr/>
        </p:nvGraphicFramePr>
        <p:xfrm>
          <a:off x="2643120" y="1643040"/>
          <a:ext cx="4748400" cy="2879640"/>
        </p:xfrm>
        <a:graphic>
          <a:graphicData uri="http://schemas.openxmlformats.org/drawingml/2006/table">
            <a:tbl>
              <a:tblPr/>
              <a:tblGrid>
                <a:gridCol w="357120"/>
                <a:gridCol w="1500480"/>
                <a:gridCol w="242640"/>
                <a:gridCol w="255600"/>
                <a:gridCol w="255600"/>
                <a:gridCol w="257400"/>
                <a:gridCol w="255600"/>
                <a:gridCol w="766440"/>
                <a:gridCol w="857520"/>
              </a:tblGrid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митрий Никола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вгения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Александр Сергее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Евгений Кирилл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Алекс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Александро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 Black"/>
              </a:rPr>
              <a:t>Командный ит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CustomShape 2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CustomShape 3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2857680" y="1357200"/>
          <a:ext cx="6143400" cy="3110040"/>
        </p:xfrm>
        <a:graphic>
          <a:graphicData uri="http://schemas.openxmlformats.org/drawingml/2006/table">
            <a:tbl>
              <a:tblPr/>
              <a:tblGrid>
                <a:gridCol w="647640"/>
                <a:gridCol w="1137960"/>
                <a:gridCol w="571680"/>
                <a:gridCol w="500040"/>
                <a:gridCol w="571680"/>
                <a:gridCol w="571320"/>
                <a:gridCol w="500040"/>
                <a:gridCol w="857160"/>
                <a:gridCol w="785880"/>
              </a:tblGrid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манда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Цибрю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ухо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Гаврилов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Кру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Бутусо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19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Цибрюк Матвей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Дмитрий Николаевич</a:t>
            </a:r>
            <a:r>
              <a:rPr b="1" lang="ru-RU" sz="11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438280" y="3948120"/>
            <a:ext cx="64008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Обухов Александр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Евгени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title"/>
          </p:nvPr>
        </p:nvSpPr>
        <p:spPr>
          <a:xfrm>
            <a:off x="2428920" y="228240"/>
            <a:ext cx="6410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Составы команд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50" name="Picture 10" descr="D:\ТУРНИР СЕМЕЙНЫХ КОМАНД\IMG_1538 Цибрюк.JPG"/>
          <p:cNvPicPr/>
          <p:nvPr/>
        </p:nvPicPr>
        <p:blipFill>
          <a:blip r:embed="rId1"/>
          <a:stretch/>
        </p:blipFill>
        <p:spPr>
          <a:xfrm>
            <a:off x="2786040" y="121428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9" descr="D:\ТУРНИР СЕМЕЙНЫХ КОМАНД\IMG_1579.JPG Обухов"/>
          <p:cNvPicPr/>
          <p:nvPr/>
        </p:nvPicPr>
        <p:blipFill>
          <a:blip r:embed="rId2"/>
          <a:stretch/>
        </p:blipFill>
        <p:spPr>
          <a:xfrm>
            <a:off x="2857680" y="3929040"/>
            <a:ext cx="1606320" cy="2143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8" descr="C:\IMG_1612 Цибрюк Д.jpg"/>
          <p:cNvPicPr/>
          <p:nvPr/>
        </p:nvPicPr>
        <p:blipFill>
          <a:blip r:embed="rId3"/>
          <a:stretch/>
        </p:blipFill>
        <p:spPr>
          <a:xfrm>
            <a:off x="-10858680" y="-15644880"/>
            <a:ext cx="1889280" cy="2519280"/>
          </a:xfrm>
          <a:prstGeom prst="rect">
            <a:avLst/>
          </a:prstGeom>
          <a:ln w="0">
            <a:noFill/>
          </a:ln>
        </p:spPr>
      </p:pic>
      <p:pic>
        <p:nvPicPr>
          <p:cNvPr id="1053" name="Рисунок 9" descr="C:\IMG_1612 Цибрюк Д.jpg"/>
          <p:cNvPicPr/>
          <p:nvPr/>
        </p:nvPicPr>
        <p:blipFill>
          <a:blip r:embed="rId4"/>
          <a:stretch/>
        </p:blipFill>
        <p:spPr>
          <a:xfrm>
            <a:off x="6357960" y="1214280"/>
            <a:ext cx="1857240" cy="2143440"/>
          </a:xfrm>
          <a:prstGeom prst="rect">
            <a:avLst/>
          </a:prstGeom>
          <a:ln w="0">
            <a:noFill/>
          </a:ln>
        </p:spPr>
      </p:pic>
      <p:pic>
        <p:nvPicPr>
          <p:cNvPr id="1054" name="Рисунок 10" descr="C:\IMG_1611 Обухова.jpg"/>
          <p:cNvPicPr/>
          <p:nvPr/>
        </p:nvPicPr>
        <p:blipFill>
          <a:blip r:embed="rId5"/>
          <a:stretch/>
        </p:blipFill>
        <p:spPr>
          <a:xfrm>
            <a:off x="6357960" y="4000680"/>
            <a:ext cx="185724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/>
          </p:nvPr>
        </p:nvSpPr>
        <p:spPr>
          <a:xfrm>
            <a:off x="2652480" y="499680"/>
            <a:ext cx="649116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Гаврилов Константин                Александр Сергеевич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2356920" y="3428640"/>
            <a:ext cx="635796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рузе София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Евгений Кирилл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Picture 8" descr="D:\ТУРНИР СЕМЕЙНЫХ КОМАНД\IMG_1593 Крузе С..JPG"/>
          <p:cNvPicPr/>
          <p:nvPr/>
        </p:nvPicPr>
        <p:blipFill>
          <a:blip r:embed="rId1"/>
          <a:stretch/>
        </p:blipFill>
        <p:spPr>
          <a:xfrm>
            <a:off x="2786040" y="3429000"/>
            <a:ext cx="18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058" name="Рисунок 7" descr="C:\IMG_1598 Гаврилов А.jpg"/>
          <p:cNvPicPr/>
          <p:nvPr/>
        </p:nvPicPr>
        <p:blipFill>
          <a:blip r:embed="rId2"/>
          <a:stretch/>
        </p:blipFill>
        <p:spPr>
          <a:xfrm>
            <a:off x="6572160" y="642960"/>
            <a:ext cx="1643040" cy="2185920"/>
          </a:xfrm>
          <a:prstGeom prst="rect">
            <a:avLst/>
          </a:prstGeom>
          <a:ln w="0">
            <a:noFill/>
          </a:ln>
        </p:spPr>
      </p:pic>
      <p:pic>
        <p:nvPicPr>
          <p:cNvPr id="1059" name="Рисунок 8" descr="C:\IMG_1603 Гаврилов.jpg"/>
          <p:cNvPicPr/>
          <p:nvPr/>
        </p:nvPicPr>
        <p:blipFill>
          <a:blip r:embed="rId3"/>
          <a:stretch/>
        </p:blipFill>
        <p:spPr>
          <a:xfrm>
            <a:off x="2786040" y="642960"/>
            <a:ext cx="1928880" cy="2190600"/>
          </a:xfrm>
          <a:prstGeom prst="rect">
            <a:avLst/>
          </a:prstGeom>
          <a:ln w="0">
            <a:noFill/>
          </a:ln>
        </p:spPr>
      </p:pic>
      <p:pic>
        <p:nvPicPr>
          <p:cNvPr id="1060" name="Рисунок 9" descr="C:\IMG_1599 Крузе Е.jpg"/>
          <p:cNvPicPr/>
          <p:nvPr/>
        </p:nvPicPr>
        <p:blipFill>
          <a:blip r:embed="rId4"/>
          <a:stretch/>
        </p:blipFill>
        <p:spPr>
          <a:xfrm>
            <a:off x="6572160" y="3429000"/>
            <a:ext cx="164304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2438280" y="856800"/>
            <a:ext cx="649152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356920" y="3428640"/>
            <a:ext cx="635796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Бутусов  Дмитрий         Алексей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8" descr="D:\ТУРНИР СЕМЕЙНЫХ КОМАНД\IMG_1559 Бутусов.jpg"/>
          <p:cNvPicPr/>
          <p:nvPr/>
        </p:nvPicPr>
        <p:blipFill>
          <a:blip r:embed="rId1"/>
          <a:stretch/>
        </p:blipFill>
        <p:spPr>
          <a:xfrm>
            <a:off x="3071880" y="1643040"/>
            <a:ext cx="2089080" cy="2786040"/>
          </a:xfrm>
          <a:prstGeom prst="rect">
            <a:avLst/>
          </a:prstGeom>
          <a:ln w="0">
            <a:noFill/>
          </a:ln>
        </p:spPr>
      </p:pic>
      <p:pic>
        <p:nvPicPr>
          <p:cNvPr id="1064" name="Рисунок 10" descr="C:\IMG_1610 Бутусов А..jpg"/>
          <p:cNvPicPr/>
          <p:nvPr/>
        </p:nvPicPr>
        <p:blipFill>
          <a:blip r:embed="rId2"/>
          <a:stretch/>
        </p:blipFill>
        <p:spPr>
          <a:xfrm>
            <a:off x="6215040" y="1643040"/>
            <a:ext cx="19288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Фотографи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урн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Рисунок 8" descr="C:\Общая 1.jpg"/>
          <p:cNvPicPr/>
          <p:nvPr/>
        </p:nvPicPr>
        <p:blipFill>
          <a:blip r:embed="rId1"/>
          <a:stretch/>
        </p:blipFill>
        <p:spPr>
          <a:xfrm>
            <a:off x="3500280" y="1214280"/>
            <a:ext cx="507240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Рисунок 1" descr="C:\IMG_1608 общая 2.jpg"/>
          <p:cNvPicPr/>
          <p:nvPr/>
        </p:nvPicPr>
        <p:blipFill>
          <a:blip r:embed="rId1"/>
          <a:stretch/>
        </p:blipFill>
        <p:spPr>
          <a:xfrm>
            <a:off x="3571920" y="1000080"/>
            <a:ext cx="50007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Рисунок 1" descr="C:\IMG_1607 общая 3.jpg"/>
          <p:cNvPicPr/>
          <p:nvPr/>
        </p:nvPicPr>
        <p:blipFill>
          <a:blip r:embed="rId1"/>
          <a:stretch/>
        </p:blipFill>
        <p:spPr>
          <a:xfrm>
            <a:off x="3652920" y="1357200"/>
            <a:ext cx="5133960" cy="49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Рисунок 1" descr="C:\IMG_1606 общая 4.jpg"/>
          <p:cNvPicPr/>
          <p:nvPr/>
        </p:nvPicPr>
        <p:blipFill>
          <a:blip r:embed="rId1"/>
          <a:stretch/>
        </p:blipFill>
        <p:spPr>
          <a:xfrm>
            <a:off x="36432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Shape 1"/>
          <p:cNvSpPr/>
          <p:nvPr/>
        </p:nvSpPr>
        <p:spPr>
          <a:xfrm>
            <a:off x="2438280" y="228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Турнир капит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CustomShape 2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CustomShape 3"/>
          <p:cNvSpPr/>
          <p:nvPr/>
        </p:nvSpPr>
        <p:spPr>
          <a:xfrm>
            <a:off x="0" y="557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3429000" y="1235160"/>
          <a:ext cx="4748040" cy="3101760"/>
        </p:xfrm>
        <a:graphic>
          <a:graphicData uri="http://schemas.openxmlformats.org/drawingml/2006/table">
            <a:tbl>
              <a:tblPr/>
              <a:tblGrid>
                <a:gridCol w="500040"/>
                <a:gridCol w="1357200"/>
                <a:gridCol w="243000"/>
                <a:gridCol w="255600"/>
                <a:gridCol w="255600"/>
                <a:gridCol w="257040"/>
                <a:gridCol w="255600"/>
                <a:gridCol w="766800"/>
                <a:gridCol w="85716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Цибрюк Матв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ухов Александ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Гаврилов Констант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Крузе Со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утусов Дмит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23:53:43Z</dcterms:created>
  <dc:creator>Пользователь</dc:creator>
  <dc:description/>
  <dc:language>en-US</dc:language>
  <cp:lastModifiedBy>Lenovo</cp:lastModifiedBy>
  <dcterms:modified xsi:type="dcterms:W3CDTF">2019-05-16T07:27:06Z</dcterms:modified>
  <cp:revision>138</cp:revision>
  <dc:subject/>
  <dc:title>Турнир семейных команд</dc:title>
</cp:coreProperties>
</file>