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sldIdLst>
    <p:sldId id="256" r:id="rId28"/>
    <p:sldId id="257" r:id="rId29"/>
    <p:sldId id="258" r:id="rId30"/>
    <p:sldId id="259" r:id="rId31"/>
    <p:sldId id="260" r:id="rId32"/>
    <p:sldId id="261" r:id="rId33"/>
    <p:sldId id="262" r:id="rId34"/>
    <p:sldId id="263" r:id="rId35"/>
    <p:sldId id="264" r:id="rId36"/>
    <p:sldId id="265" r:id="rId37"/>
    <p:sldId id="266" r:id="rId38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1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" Target="slides/slide1.xml"/><Relationship Id="rId29" Type="http://schemas.openxmlformats.org/officeDocument/2006/relationships/slide" Target="slides/slide2.xml"/><Relationship Id="rId30" Type="http://schemas.openxmlformats.org/officeDocument/2006/relationships/slide" Target="slides/slide3.xml"/><Relationship Id="rId31" Type="http://schemas.openxmlformats.org/officeDocument/2006/relationships/slide" Target="slides/slide4.xml"/><Relationship Id="rId32" Type="http://schemas.openxmlformats.org/officeDocument/2006/relationships/slide" Target="slides/slide5.xml"/><Relationship Id="rId33" Type="http://schemas.openxmlformats.org/officeDocument/2006/relationships/slide" Target="slides/slide6.xml"/><Relationship Id="rId34" Type="http://schemas.openxmlformats.org/officeDocument/2006/relationships/slide" Target="slides/slide7.xml"/><Relationship Id="rId35" Type="http://schemas.openxmlformats.org/officeDocument/2006/relationships/slide" Target="slides/slide8.xml"/><Relationship Id="rId36" Type="http://schemas.openxmlformats.org/officeDocument/2006/relationships/slide" Target="slides/slide9.xml"/><Relationship Id="rId37" Type="http://schemas.openxmlformats.org/officeDocument/2006/relationships/slide" Target="slides/slide10.xml"/><Relationship Id="rId38" Type="http://schemas.openxmlformats.org/officeDocument/2006/relationships/slide" Target="slides/slide11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537B-3155-4E9B-B13C-9B40FC892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A24E-0714-40F0-83FE-2C603E5A4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F789-8C4A-4511-8613-282483D6F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C9CC-50E1-4CA8-878A-EB8ECAA35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B6386-7DD2-4F32-9286-0C3E6A967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6A239-DF89-4DFA-857F-3EB6D7245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8EBCC-7FDE-43B1-A5E1-3B2AE7770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8ED93-0073-43E0-A822-FC07CFE57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5A20F-7D80-4FD6-9460-D7ABE2110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08E4A-62D2-4961-AF26-10465A056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78FBC-6C2C-4E98-A81A-1BE05E515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E63A-08CB-4421-AED3-228B4CD47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D02FD-9013-439C-82D4-C588C2790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6E159-61E9-4C15-8C9D-1D4F7BB86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AB0A3-B70C-4D26-B707-FB7E6BE53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12589-EB4B-4404-8AB2-A27FCC289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A80DA-DA7C-4B4C-863C-AFB879FA1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43BE-252E-4425-A59C-04BA9A802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C485-62C6-4FA0-A4D7-2BB1E93D0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0A09-CA17-457A-887C-871794316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0D29-5905-4B2E-9F5C-8DA6ACD05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D823-880C-4B79-A4B8-00296F35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B4BE-F58A-4092-9209-BE49718EE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9A2A-DFE8-4112-BCEB-E1C4DC7FC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CustomShape 2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Рисунок 1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ctr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ctr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70C1F-5B45-48A9-BA57-BEA66CAA406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3" name="Group 1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374" name="CustomShape 2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5" name="Рисунок 1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Group 1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415" name="CustomShape 2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6" name="Рисунок 1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" name="Group 1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456" name="CustomShape 2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7" name="Рисунок 1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Group 1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497" name="CustomShape 2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8" name="Рисунок 1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Group 1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538" name="CustomShape 2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9" name="Рисунок 1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Рисунок 4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Рисунок 4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Рисунок 4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Рисунок 4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4" name="Рисунок 4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4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ctr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ctr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FF061-E18B-4CBC-BF9A-D776CA1026E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3" name="Рисунок 4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2" name="Рисунок 4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1" name="Рисунок 4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0" name="Рисунок 4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9" name="Рисунок 4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8" name="Рисунок 4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7" name="Рисунок 4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1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87" name="CustomShape 2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Рисунок 1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oup 1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28" name="CustomShape 2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9" name="Рисунок 1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1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69" name="CustomShape 2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0" name="Рисунок 1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Group 1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210" name="CustomShape 2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1" name="Рисунок 1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Group 1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251" name="CustomShape 2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2" name="Рисунок 1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Group 1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292" name="CustomShape 2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3" name="Рисунок 1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Group 1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333" name="CustomShape 2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4" name="Рисунок 1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TextShape 1"/>
          <p:cNvSpPr/>
          <p:nvPr/>
        </p:nvSpPr>
        <p:spPr>
          <a:xfrm>
            <a:off x="714240" y="142920"/>
            <a:ext cx="7715520" cy="328608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Arial"/>
              </a:rPr>
              <a:t>Турнир семейных коман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Arial"/>
              </a:rPr>
              <a:t>«Нарвская застава-2019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TextShape 1"/>
          <p:cNvSpPr/>
          <p:nvPr/>
        </p:nvSpPr>
        <p:spPr>
          <a:xfrm>
            <a:off x="2438280" y="228600"/>
            <a:ext cx="6400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 Black"/>
              </a:rPr>
              <a:t>Турнир </a:t>
            </a:r>
            <a:r>
              <a:rPr b="0" i="1" lang="ru-RU" sz="3600" spc="-1" strike="noStrike">
                <a:solidFill>
                  <a:srgbClr val="ff0000"/>
                </a:solidFill>
                <a:latin typeface="Arial Black"/>
              </a:rPr>
              <a:t>старпом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CustomShape 2"/>
          <p:cNvSpPr/>
          <p:nvPr/>
        </p:nvSpPr>
        <p:spPr>
          <a:xfrm>
            <a:off x="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CustomShape 3"/>
          <p:cNvSpPr/>
          <p:nvPr/>
        </p:nvSpPr>
        <p:spPr>
          <a:xfrm>
            <a:off x="0" y="557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7" name=""/>
          <p:cNvGraphicFramePr/>
          <p:nvPr/>
        </p:nvGraphicFramePr>
        <p:xfrm>
          <a:off x="2643120" y="1643040"/>
          <a:ext cx="4748400" cy="2879640"/>
        </p:xfrm>
        <a:graphic>
          <a:graphicData uri="http://schemas.openxmlformats.org/drawingml/2006/table">
            <a:tbl>
              <a:tblPr/>
              <a:tblGrid>
                <a:gridCol w="357120"/>
                <a:gridCol w="1500480"/>
                <a:gridCol w="242640"/>
                <a:gridCol w="255600"/>
                <a:gridCol w="255600"/>
                <a:gridCol w="257400"/>
                <a:gridCol w="255600"/>
                <a:gridCol w="766440"/>
                <a:gridCol w="857520"/>
              </a:tblGrid>
              <a:tr h="425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Фамил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Оч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Мес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Дмитрий Николаеви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Евгения Анатол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Александр Сергееви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Евгений Кириллови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2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Алекс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Александрови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TextShape 1"/>
          <p:cNvSpPr/>
          <p:nvPr/>
        </p:nvSpPr>
        <p:spPr>
          <a:xfrm>
            <a:off x="2438280" y="228600"/>
            <a:ext cx="6400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Arial Black"/>
              </a:rPr>
              <a:t>Командный ито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CustomShape 2"/>
          <p:cNvSpPr/>
          <p:nvPr/>
        </p:nvSpPr>
        <p:spPr>
          <a:xfrm>
            <a:off x="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CustomShape 3"/>
          <p:cNvSpPr/>
          <p:nvPr/>
        </p:nvSpPr>
        <p:spPr>
          <a:xfrm>
            <a:off x="0" y="557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1" name=""/>
          <p:cNvGraphicFramePr/>
          <p:nvPr/>
        </p:nvGraphicFramePr>
        <p:xfrm>
          <a:off x="2857680" y="1357200"/>
          <a:ext cx="6143400" cy="3110040"/>
        </p:xfrm>
        <a:graphic>
          <a:graphicData uri="http://schemas.openxmlformats.org/drawingml/2006/table">
            <a:tbl>
              <a:tblPr/>
              <a:tblGrid>
                <a:gridCol w="647640"/>
                <a:gridCol w="1137960"/>
                <a:gridCol w="571680"/>
                <a:gridCol w="500040"/>
                <a:gridCol w="571680"/>
                <a:gridCol w="571320"/>
                <a:gridCol w="500040"/>
                <a:gridCol w="857160"/>
                <a:gridCol w="785880"/>
              </a:tblGrid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Команда семь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Оч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Мес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1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Цибрюк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1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Обухов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1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Гаврилов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1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Круз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1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Бутусов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19000"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Цибрюк Матвей </a:t>
            </a: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Дмитрий Николаевич</a:t>
            </a:r>
            <a:r>
              <a:rPr b="1" lang="ru-RU" sz="11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ru-RU" sz="11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ru-RU" sz="1100" spc="-1" strike="noStrike">
                <a:solidFill>
                  <a:srgbClr val="1f497d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2438280" y="3948120"/>
            <a:ext cx="6400800" cy="26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Обухов Александр</a:t>
            </a: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       Евгения Анато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 type="title"/>
          </p:nvPr>
        </p:nvSpPr>
        <p:spPr>
          <a:xfrm>
            <a:off x="2428920" y="228240"/>
            <a:ext cx="641016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Arial"/>
              </a:rPr>
              <a:t>Составы команд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050" name="Picture 10" descr="D:\ТУРНИР СЕМЕЙНЫХ КОМАНД\IMG_1538 Цибрюк.JPG"/>
          <p:cNvPicPr/>
          <p:nvPr/>
        </p:nvPicPr>
        <p:blipFill>
          <a:blip r:embed="rId1"/>
          <a:stretch/>
        </p:blipFill>
        <p:spPr>
          <a:xfrm>
            <a:off x="2786040" y="1214280"/>
            <a:ext cx="1643040" cy="219096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9" descr="D:\ТУРНИР СЕМЕЙНЫХ КОМАНД\IMG_1579.JPG Обухов"/>
          <p:cNvPicPr/>
          <p:nvPr/>
        </p:nvPicPr>
        <p:blipFill>
          <a:blip r:embed="rId2"/>
          <a:stretch/>
        </p:blipFill>
        <p:spPr>
          <a:xfrm>
            <a:off x="2857680" y="3929040"/>
            <a:ext cx="1606320" cy="214308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8" descr="C:\IMG_1612 Цибрюк Д.jpg"/>
          <p:cNvPicPr/>
          <p:nvPr/>
        </p:nvPicPr>
        <p:blipFill>
          <a:blip r:embed="rId3"/>
          <a:stretch/>
        </p:blipFill>
        <p:spPr>
          <a:xfrm>
            <a:off x="-10858680" y="-15644880"/>
            <a:ext cx="1889280" cy="2519280"/>
          </a:xfrm>
          <a:prstGeom prst="rect">
            <a:avLst/>
          </a:prstGeom>
          <a:ln w="0">
            <a:noFill/>
          </a:ln>
        </p:spPr>
      </p:pic>
      <p:pic>
        <p:nvPicPr>
          <p:cNvPr id="1053" name="Рисунок 9" descr="C:\IMG_1612 Цибрюк Д.jpg"/>
          <p:cNvPicPr/>
          <p:nvPr/>
        </p:nvPicPr>
        <p:blipFill>
          <a:blip r:embed="rId4"/>
          <a:stretch/>
        </p:blipFill>
        <p:spPr>
          <a:xfrm>
            <a:off x="6357960" y="1214280"/>
            <a:ext cx="1857240" cy="2143440"/>
          </a:xfrm>
          <a:prstGeom prst="rect">
            <a:avLst/>
          </a:prstGeom>
          <a:ln w="0">
            <a:noFill/>
          </a:ln>
        </p:spPr>
      </p:pic>
      <p:pic>
        <p:nvPicPr>
          <p:cNvPr id="1054" name="Рисунок 10" descr="C:\IMG_1611 Обухова.jpg"/>
          <p:cNvPicPr/>
          <p:nvPr/>
        </p:nvPicPr>
        <p:blipFill>
          <a:blip r:embed="rId5"/>
          <a:stretch/>
        </p:blipFill>
        <p:spPr>
          <a:xfrm>
            <a:off x="6357960" y="4000680"/>
            <a:ext cx="1857240" cy="221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/>
          </p:nvPr>
        </p:nvSpPr>
        <p:spPr>
          <a:xfrm>
            <a:off x="2652480" y="499680"/>
            <a:ext cx="6491160" cy="31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Гаврилов Константин                Александр Сергеевич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2356920" y="3428640"/>
            <a:ext cx="6357960" cy="31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Крузе София</a:t>
            </a: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Евгений Кириллович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7" name="Picture 8" descr="D:\ТУРНИР СЕМЕЙНЫХ КОМАНД\IMG_1593 Крузе С..JPG"/>
          <p:cNvPicPr/>
          <p:nvPr/>
        </p:nvPicPr>
        <p:blipFill>
          <a:blip r:embed="rId1"/>
          <a:stretch/>
        </p:blipFill>
        <p:spPr>
          <a:xfrm>
            <a:off x="2786040" y="3429000"/>
            <a:ext cx="1874880" cy="2500200"/>
          </a:xfrm>
          <a:prstGeom prst="rect">
            <a:avLst/>
          </a:prstGeom>
          <a:ln w="0">
            <a:noFill/>
          </a:ln>
        </p:spPr>
      </p:pic>
      <p:pic>
        <p:nvPicPr>
          <p:cNvPr id="1058" name="Рисунок 7" descr="C:\IMG_1598 Гаврилов А.jpg"/>
          <p:cNvPicPr/>
          <p:nvPr/>
        </p:nvPicPr>
        <p:blipFill>
          <a:blip r:embed="rId2"/>
          <a:stretch/>
        </p:blipFill>
        <p:spPr>
          <a:xfrm>
            <a:off x="6572160" y="642960"/>
            <a:ext cx="1643040" cy="2185920"/>
          </a:xfrm>
          <a:prstGeom prst="rect">
            <a:avLst/>
          </a:prstGeom>
          <a:ln w="0">
            <a:noFill/>
          </a:ln>
        </p:spPr>
      </p:pic>
      <p:pic>
        <p:nvPicPr>
          <p:cNvPr id="1059" name="Рисунок 8" descr="C:\IMG_1603 Гаврилов.jpg"/>
          <p:cNvPicPr/>
          <p:nvPr/>
        </p:nvPicPr>
        <p:blipFill>
          <a:blip r:embed="rId3"/>
          <a:stretch/>
        </p:blipFill>
        <p:spPr>
          <a:xfrm>
            <a:off x="2786040" y="642960"/>
            <a:ext cx="1928880" cy="2190600"/>
          </a:xfrm>
          <a:prstGeom prst="rect">
            <a:avLst/>
          </a:prstGeom>
          <a:ln w="0">
            <a:noFill/>
          </a:ln>
        </p:spPr>
      </p:pic>
      <p:pic>
        <p:nvPicPr>
          <p:cNvPr id="1060" name="Рисунок 9" descr="C:\IMG_1599 Крузе Е.jpg"/>
          <p:cNvPicPr/>
          <p:nvPr/>
        </p:nvPicPr>
        <p:blipFill>
          <a:blip r:embed="rId4"/>
          <a:stretch/>
        </p:blipFill>
        <p:spPr>
          <a:xfrm>
            <a:off x="6572160" y="3429000"/>
            <a:ext cx="164304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2438280" y="856800"/>
            <a:ext cx="6491520" cy="20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2356920" y="3428640"/>
            <a:ext cx="6357960" cy="31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Бутусов  Дмитрий         Алексей Александр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3" name="Picture 8" descr="D:\ТУРНИР СЕМЕЙНЫХ КОМАНД\IMG_1559 Бутусов.jpg"/>
          <p:cNvPicPr/>
          <p:nvPr/>
        </p:nvPicPr>
        <p:blipFill>
          <a:blip r:embed="rId1"/>
          <a:stretch/>
        </p:blipFill>
        <p:spPr>
          <a:xfrm>
            <a:off x="3071880" y="1643040"/>
            <a:ext cx="2089080" cy="2786040"/>
          </a:xfrm>
          <a:prstGeom prst="rect">
            <a:avLst/>
          </a:prstGeom>
          <a:ln w="0">
            <a:noFill/>
          </a:ln>
        </p:spPr>
      </p:pic>
      <p:pic>
        <p:nvPicPr>
          <p:cNvPr id="1064" name="Рисунок 10" descr="C:\IMG_1610 Бутусов А..jpg"/>
          <p:cNvPicPr/>
          <p:nvPr/>
        </p:nvPicPr>
        <p:blipFill>
          <a:blip r:embed="rId2"/>
          <a:stretch/>
        </p:blipFill>
        <p:spPr>
          <a:xfrm>
            <a:off x="6215040" y="1643040"/>
            <a:ext cx="1928880" cy="280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TextShape 1"/>
          <p:cNvSpPr/>
          <p:nvPr/>
        </p:nvSpPr>
        <p:spPr>
          <a:xfrm>
            <a:off x="2438280" y="228600"/>
            <a:ext cx="6400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Фотографии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турни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6" name="Рисунок 8" descr="C:\Общая 1.jpg"/>
          <p:cNvPicPr/>
          <p:nvPr/>
        </p:nvPicPr>
        <p:blipFill>
          <a:blip r:embed="rId1"/>
          <a:stretch/>
        </p:blipFill>
        <p:spPr>
          <a:xfrm>
            <a:off x="3500280" y="1214280"/>
            <a:ext cx="5072400" cy="542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7" name="Рисунок 1" descr="C:\IMG_1608 общая 2.jpg"/>
          <p:cNvPicPr/>
          <p:nvPr/>
        </p:nvPicPr>
        <p:blipFill>
          <a:blip r:embed="rId1"/>
          <a:stretch/>
        </p:blipFill>
        <p:spPr>
          <a:xfrm>
            <a:off x="3571920" y="1000080"/>
            <a:ext cx="5000760" cy="492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8" name="Рисунок 1" descr="C:\IMG_1607 общая 3.jpg"/>
          <p:cNvPicPr/>
          <p:nvPr/>
        </p:nvPicPr>
        <p:blipFill>
          <a:blip r:embed="rId1"/>
          <a:stretch/>
        </p:blipFill>
        <p:spPr>
          <a:xfrm>
            <a:off x="3652920" y="1357200"/>
            <a:ext cx="5133960" cy="492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9" name="Рисунок 1" descr="C:\IMG_1606 общая 4.jpg"/>
          <p:cNvPicPr/>
          <p:nvPr/>
        </p:nvPicPr>
        <p:blipFill>
          <a:blip r:embed="rId1"/>
          <a:stretch/>
        </p:blipFill>
        <p:spPr>
          <a:xfrm>
            <a:off x="3643200" y="1428840"/>
            <a:ext cx="5072040" cy="507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TextShape 1"/>
          <p:cNvSpPr/>
          <p:nvPr/>
        </p:nvSpPr>
        <p:spPr>
          <a:xfrm>
            <a:off x="2438280" y="228600"/>
            <a:ext cx="6400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 Black"/>
              </a:rPr>
              <a:t>Турнир капитан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CustomShape 2"/>
          <p:cNvSpPr/>
          <p:nvPr/>
        </p:nvSpPr>
        <p:spPr>
          <a:xfrm>
            <a:off x="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CustomShape 3"/>
          <p:cNvSpPr/>
          <p:nvPr/>
        </p:nvSpPr>
        <p:spPr>
          <a:xfrm>
            <a:off x="0" y="557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3" name=""/>
          <p:cNvGraphicFramePr/>
          <p:nvPr/>
        </p:nvGraphicFramePr>
        <p:xfrm>
          <a:off x="3429000" y="1235160"/>
          <a:ext cx="4748040" cy="3101760"/>
        </p:xfrm>
        <a:graphic>
          <a:graphicData uri="http://schemas.openxmlformats.org/drawingml/2006/table">
            <a:tbl>
              <a:tblPr/>
              <a:tblGrid>
                <a:gridCol w="500040"/>
                <a:gridCol w="1357200"/>
                <a:gridCol w="243000"/>
                <a:gridCol w="255600"/>
                <a:gridCol w="255600"/>
                <a:gridCol w="257040"/>
                <a:gridCol w="255600"/>
                <a:gridCol w="766800"/>
                <a:gridCol w="857160"/>
              </a:tblGrid>
              <a:tr h="490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Фамил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Оч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Мес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2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Цибрюк Матв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2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Обухов Александ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2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Гаврилов Констант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2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Крузе Соф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2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утусов Дмитр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23:53:43Z</dcterms:created>
  <dc:creator>Пользователь</dc:creator>
  <dc:description/>
  <dc:language>en-US</dc:language>
  <cp:lastModifiedBy>Lenovo</cp:lastModifiedBy>
  <dcterms:modified xsi:type="dcterms:W3CDTF">2019-05-16T07:27:06Z</dcterms:modified>
  <cp:revision>138</cp:revision>
  <dc:subject/>
  <dc:title>Турнир семейных команд</dc:title>
</cp:coreProperties>
</file>