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7FBF-57CF-41BE-BBC9-3733B6E98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34949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AFF3-2F8E-4EEA-89BB-CC28860EF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34949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E5C5-1C1B-44AE-B522-0DECC4D25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34949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589F-2FDB-4C27-8F3C-D7E347C09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3C4C1-9777-4F51-AE54-5757B6ED7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34949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F08B1-E170-47A0-91FA-698B61777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34949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A5F00-E3B4-4F33-8D4E-B30DB7649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34949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AEC0C-73C7-4E88-9343-10152F227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34949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AD4A6-B2F2-43A5-A6EE-0D9EAC064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70D81-3D90-41CC-AA61-764F583DF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34949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723FB-DA50-4B55-B53A-631D75668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34949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3682-2044-4A45-89B1-3120AADD0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34949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40144-5C35-4818-8965-E9763F2D8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34949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660AE-9870-4E6C-A299-0EB4528F6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34949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B3732-36CB-4128-9FAB-7729ED39D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34949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E29AA-6D7F-49AE-BF0C-47D335DB5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34949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B67C6-2A4A-46D5-A625-12E5841E7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5F7FE8-BCB0-4B1F-8D55-89BF38301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34949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E6E6EC-A595-48EF-AFCB-BBEF108AC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34949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2225DB-7918-454A-AD1C-DD7C4A9E8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34949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1292B4-EEEE-4789-8054-AFD205C5C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34949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58AB32-EB06-4DC7-9ECE-E4475F325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34949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D903-0F88-4BAE-A2A7-D64702852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461C9C-9AA2-4F79-A84E-9DA706D5D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34949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880716-6D28-41AF-8488-35F5E62D4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34949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DD088F-225A-4EB7-8AA3-5D5D53FE7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34949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CBFDEC-4AC3-4978-9188-2B0F1E5F6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34949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D80B81-6DF3-4C8C-8229-F366FD9C2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34949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24AF5C-9A3F-43AA-A0C6-580F252F1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34949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F03B3B-CB47-4796-8507-AF5FE6862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016E2F-7CB2-4BF3-AF01-88F9ED686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34949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5E6486-51BF-479C-BA39-B69645B82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34949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0B119F-4628-46B2-8AC7-101441774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34949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7302-6301-4D83-8739-592EBC2D5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34949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EECCBC-1F81-45ED-9E35-E0611DB4B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34949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957836-3D38-4BE3-8DBE-B9E76B30C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B76B63-0ED6-41CC-8666-32DED436B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34949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8DBACC-5936-40D3-8CE0-E154AA3CF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34949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1E5C8A-EA46-432C-AC8B-EFC73B550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34949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770A99-A64A-4D7E-8A19-D04D2F616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34949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83A5A5-86CF-4212-8E54-68B65090E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34949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BED525-2885-4DC6-8D8F-4CD017BF4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34949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37E1F2-9674-495F-B5D8-C53EB68A6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6EE66E-7704-4B13-8F78-C024E85FF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34949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BC9A-6965-4719-9699-3A1FD4930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34949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56F766-C926-433D-94B1-D8A460C80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34949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62D3DFA-585E-4D09-9316-01E8C39D3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34949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E7B0AF-8D24-4381-BDD2-B915D014D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34949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74DF19-680E-48D2-9163-4D6F5EF65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FF7E414-412C-4216-83C8-672D98D62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34949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45557B-F7CD-4021-9411-237E9FD96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34949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2D95CB-DD0B-4D58-A95D-AD481FD77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34949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3A9B71-450C-478E-B4F3-1A29DE991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34949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D91CBB-9EB0-43E0-8575-57950EDAB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34949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B6866E-BEFD-4709-94BC-FE5C50257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98A4-A069-4464-BA76-90AEE04B7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34949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809274-9B56-4BE6-BA0F-920475CA8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6537AD-DC51-4ADD-BED5-1049C16D2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34949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607CE3-3084-4FCA-B395-D0050C4A2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34949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CC9311-50A3-4319-A0DB-46A36FC61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34949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A264C0D-30AF-49B0-82C8-BD0EB1D4D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34949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244862D-F8C6-4BBD-A7BC-2C1AA3BB2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7360B84-B42D-4188-9F6D-290E80A1E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34949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D1A21CF-5E48-45E0-872C-F4D265156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34949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0B10D9B-6269-41B3-B23F-BFB83B80B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34949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64FCA2E-0A3D-428C-8A53-5158076BB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34949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0E2C-0D0C-4E92-AF18-609829027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34949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0130FB-BF01-4665-A77A-8F27198B4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34949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521E3B-3077-4744-95BE-917DAB1B2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34949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931513A-9A6B-4512-A50B-9AB17548A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26673C1-A067-45A3-BCEE-3FD6A26CE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34949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BEA7881-B73A-4DBA-8AD8-2C950349A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34949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DAFF6DC-BB59-4FDD-8337-BD2D3AE29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34949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CA92172-5652-4101-A82D-D1FB44F22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34949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5632B4E-48F9-456B-8766-F37BFF3F2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9055392-68ED-4CF4-A3C6-94EC64E98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34949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5A82ED5-3FC6-43EE-922F-B9AE93C0F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34949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7388-D135-455E-9C51-5F8110F48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34949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764F6D6-24C3-47B9-B986-3A805CFC8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34949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315B88F-B4D1-4CE0-9B60-00F97201E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34949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F9B3F5E-268A-483D-85A5-CCD9ED76C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34949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D100EDC-7A2F-49AC-9639-B9A01C445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34949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0E739AF-FC82-4F5F-9011-190128515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34949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EFE7-14A7-493E-81B4-3DEE0AFE7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dfb9b3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34949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34949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6695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c6695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ae5c4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fb9b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c9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3494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3494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dfb9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c669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dfb9b3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c669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c669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06335-9455-4BCB-BC27-9142239150B0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dfb9b3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ead4d0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ead4d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5ebe9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dfb9b3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5ebe9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dfb9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dfb9b3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dfb9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dfb9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dfb9b3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c669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c669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c669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c669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c669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34949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34949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6695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c6695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ae5c4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fb9b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c9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3494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3494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57D25-0BC4-4B28-96AA-A29862C5BF6C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dfb9b3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dfb9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c669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dfb9b3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c669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c669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34949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34949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6695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c6695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ae5c4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fb9b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c9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3494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3494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807B0-EAA9-4177-A852-B3BF54C33380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49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dfb9b3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ead4d0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ead4d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5ebe9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dfb9b3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5ebe9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dfb9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dfb9b3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dfb9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dfb9b3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c669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c669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c669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c669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c669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dfb9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d1b9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ccd1b9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6695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c6695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ae5c4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fb9b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c9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cd1b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d1b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1CC22-C5AA-46D9-9B8D-AE1C2E4B5A5D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dfb9b3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dfb9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c669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dfb9b3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c669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c669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34949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34949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6695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c6695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ae5c4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fb9b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c9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3494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3494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B8CA4-9D99-481E-8C0C-06E8F466B8DD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dfb9b3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dfb9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Прямая соединительная линия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c669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Прямая соединительная линия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c669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dfb9b3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Прямая соединительная линия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c669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c669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34949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34949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6695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c6695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ae5c4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fb9b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c9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3494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3494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C8E6A-3484-49AB-B7D6-F44D187C3E7A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dfb9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c669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dfb9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c669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dfb9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Прямая соединительная линия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c669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34949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34949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6695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c6695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ae5c4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fb9b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c9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3494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3494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8B74B-0751-4270-8810-913A774EAE0E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00000" y="1412640"/>
            <a:ext cx="813600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 РАЗВИВАЮЩЕГО ОБУЧЕНИЯ </a:t>
            </a:r>
            <a:br>
              <a:rPr sz="5200"/>
            </a:br>
            <a:r>
              <a:rPr b="1" lang="ru-RU" sz="5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.Б. ЭЛЬКОНИНА – В.В.ДАВЫДОВА</a:t>
            </a:r>
            <a:endParaRPr b="0" lang="en-US" sz="5200" spc="-1" strike="noStrike">
              <a:solidFill>
                <a:srgbClr val="534949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534949"/>
              </a:solidFill>
              <a:latin typeface="Century Schoolbook"/>
            </a:endParaRPr>
          </a:p>
        </p:txBody>
      </p:sp>
      <p:pic>
        <p:nvPicPr>
          <p:cNvPr id="367" name="Picture 2" descr=""/>
          <p:cNvPicPr/>
          <p:nvPr/>
        </p:nvPicPr>
        <p:blipFill>
          <a:blip r:embed="rId1"/>
          <a:srcRect l="-208" t="0" r="0" b="0"/>
          <a:stretch/>
        </p:blipFill>
        <p:spPr>
          <a:xfrm>
            <a:off x="30240" y="358920"/>
            <a:ext cx="9005760" cy="58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68000" y="11556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ПАРАГРАФОВ УЧЕБНИКОВ 1-4 КЛАССОВ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4400" spc="-1" strike="noStrike">
              <a:solidFill>
                <a:srgbClr val="534949"/>
              </a:solidFill>
              <a:latin typeface="Century Schoolbook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250920" y="1125360"/>
            <a:ext cx="85802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мотивационный материал, предваряющий основную часть параграфа, в котором представлена проблемная ситуация в виде сюжета с участием сквозных персонажей;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система основных заданий, отражающих понятийную логику параграфа, выполнение которых приведет учащихся к решению учебной задачи;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блок упражнений и заданий, направленный на систематизацию и отработку материала;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разноуровневые контрольные задания, предназначенные для самостоятельного контроля и оценки ребенком своего владения открытым в  способом, новыми знаниями.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 txBox="1"/>
          <p:nvPr/>
        </p:nvSpPr>
        <p:spPr>
          <a:xfrm>
            <a:off x="394920" y="620280"/>
            <a:ext cx="7993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 образования Эльконина Давыдова начала формироваться в 50-х годах прошлого века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80-90 начала применяться массово в школах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996 году была утверждена как одна из официальных программ обучения в начальных классах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spcBef>
                <a:spcPts val="601"/>
              </a:spcBef>
              <a:buClr>
                <a:srgbClr val="c6695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spcBef>
                <a:spcPts val="601"/>
              </a:spcBef>
              <a:buClr>
                <a:srgbClr val="c6695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74674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ДЕЯ</a:t>
            </a:r>
            <a:endParaRPr b="0" lang="en-US" sz="4400" spc="-1" strike="noStrike">
              <a:solidFill>
                <a:srgbClr val="534949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317160" y="1125360"/>
            <a:ext cx="648180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 не предполагает заучивания фактов, классификаций и установленных правил. Она направлена на выявление системности в подходе к решению той или иной задачи, выявлению главного и второстепенного в этой системности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5" name="Picture 2" descr=""/>
          <p:cNvPicPr/>
          <p:nvPr/>
        </p:nvPicPr>
        <p:blipFill>
          <a:blip r:embed="rId1"/>
          <a:stretch/>
        </p:blipFill>
        <p:spPr>
          <a:xfrm>
            <a:off x="6799320" y="333360"/>
            <a:ext cx="2049480" cy="61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68000" y="115920"/>
            <a:ext cx="7467480" cy="86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Ы:</a:t>
            </a:r>
            <a:endParaRPr b="0" lang="en-US" sz="4400" spc="-1" strike="noStrike">
              <a:solidFill>
                <a:srgbClr val="534949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395280" y="981000"/>
            <a:ext cx="81374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Предметом усвоения являются общие способы действия – способы решения класса задач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Освоение общего способа ни в коем случае не может быть его сообщением – информацией о нем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Ученическая работа строится как поиск и проба средств решения задачи.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539640" y="620640"/>
            <a:ext cx="784872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формирования системы научных понятий, а также учебной самостоятельности и инициативности. Ее достижение оказывается возможным поскольку знания (модели) выступают не как сведения об объектах, а как средства их отыскания, выведения или конструирования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456840" y="404280"/>
            <a:ext cx="8002440" cy="606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езультате обучения по системе Эльконина – Давыдова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т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buClr>
                <a:srgbClr val="c66951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гументировано отстаивать свою точку зрения;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buClr>
                <a:srgbClr val="c66951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ывать позицию другого;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buClr>
                <a:srgbClr val="c66951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принимают информацию на веру, а требуют доказательств и объяснений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ение проводится в рамках обычных школьных программ, но на другом качественном уровне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50920" y="90756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РЕАЛИЗАЦИИ ТЕХНОЛОГИИ РАЗВИВАЮЩЕГО ОБУЧЕНИЯ НА УРОКАХ У ДЕТЕЙ ФОРМИРУЮТСЯ:</a:t>
            </a:r>
            <a:endParaRPr b="0" lang="en-US" sz="4300" spc="-1" strike="noStrike">
              <a:solidFill>
                <a:srgbClr val="534949"/>
              </a:solidFill>
              <a:latin typeface="Century Schoolbook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324000" y="2133720"/>
            <a:ext cx="84340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c6695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ность ставить учебную задачу и находить способы её решения;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c6695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ность к рефлексии собственных действий;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c6695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работать с модельными средствами;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c6695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стоятельность суждений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746748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ЮСЫ</a:t>
            </a:r>
            <a:endParaRPr b="0" lang="en-US" sz="4400" spc="-1" strike="noStrike">
              <a:solidFill>
                <a:srgbClr val="534949"/>
              </a:solidFill>
              <a:latin typeface="Century Schoolbook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68360" y="1052640"/>
            <a:ext cx="79912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c6695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кольники имеют очень глубокие знания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c6695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ята не получают оценок, значит и не стремятся к ним. Они стремятся к получению знаний. У них высокая мотивация к учебе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c6695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умеют нестандартно мыслить, докапываться до сути проблемы или задачи, анализировать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c6695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оценке работы ученика оценивается не общий и целый результат, а каждое его отдельное усилие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c6695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68000" y="115920"/>
            <a:ext cx="7467480" cy="86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УСЫ</a:t>
            </a:r>
            <a:endParaRPr b="0" lang="en-US" sz="4400" spc="-1" strike="noStrike">
              <a:solidFill>
                <a:srgbClr val="534949"/>
              </a:solidFill>
              <a:latin typeface="Century Schoolbook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57200" y="907560"/>
            <a:ext cx="8291520" cy="556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c6695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чень высокий и сложный уровень преподаваемых предметов. 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c6695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ное несоответствие программы Эльконина - Давыдова классическим системам обучения. Так, что, если ребенок учится в развивающемся классе, то необходимо, чтобы он и учился по данной системе вплоть до окончания школы. Иначе ребенку будет  очень сложно перестроиться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c6695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0:17:18Z</dcterms:created>
  <dc:creator>Дима</dc:creator>
  <dc:description/>
  <dc:language>en-US</dc:language>
  <cp:lastModifiedBy>Дима</cp:lastModifiedBy>
  <dcterms:modified xsi:type="dcterms:W3CDTF">2019-05-23T14:41:11Z</dcterms:modified>
  <cp:revision>7</cp:revision>
  <dc:subject/>
  <dc:title>Презентация PowerPoint</dc:title>
</cp:coreProperties>
</file>