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B463-1517-4ECB-A178-C58BCFEA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BE8-051B-491A-81B8-13E1D611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6D71-D968-474A-9A70-051D3375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E76D-7A54-43F0-BB99-071BE11D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2BE6-C913-4C38-94A3-51924612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7F59-BE93-46F9-874C-373DE1B5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7D07-C537-4591-943E-4B1FE8B1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51BC-C472-4280-870F-BDE59134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ED61-74C3-40AC-8703-1FD35052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D8DC-195C-40D7-B1EB-45656213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4CA1-4440-44CC-8603-59EF64A1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BA5A-46B0-4F84-884F-9C138643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CC1C-2C0E-4372-9048-A3CC7DA8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CA1F-5DEA-4E8F-B347-33D899EB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9822-8004-4F29-98EF-AD2273EA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5411-C827-411A-B6A8-A4DB3E2A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8749-D3A8-433E-8B15-07D758A1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74DAA3-DB62-4F9A-A587-184B1443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A6BC30-3D0F-4EFC-826C-2281CCD7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A4E57-0AB4-44D5-A163-C9C2C112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74E08-6F91-4E0E-9312-670E623D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A179A-0845-409E-B281-C9F77B2A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5869-F28D-4710-A3C7-893112D8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03BCF-1EC7-4C38-8276-0A3CD9FC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D9FD5-4054-47A5-85BC-DB2B8B19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4AB95-7245-402A-96E8-3EE2C7EB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697F5-2A7D-490F-BC72-7D6DFAA8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F585C-FACD-4C23-BB2D-7913F29C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8A7E2-F314-4F14-9C0C-0A2C0186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A7E7B-7C3E-47D1-A1A8-83646DCC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F00A9-B748-466A-9ACA-3F6195C5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83565-A30C-4B4F-B84C-4D2D3AE1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52B54-56AB-4291-AA74-38F6EB0A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B232-0BA4-45B9-B3AC-F6284777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F5F6F-96F6-4DA4-9FAC-2F06FE27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DB53E-71D7-4B44-B753-9685A652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5D6A2-20C7-4E8A-89AE-52894756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6C6DD-9959-43F5-89CA-53A2080C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858C1-04FA-4659-8AB2-0A104CB8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620FB-4305-4855-A171-5115FE05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DE44B-0D18-45A7-BC5A-AE29B225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2760B-D740-49E9-935A-2CC975C8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596B3-A78E-46E2-8FA0-C8D0940B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691032-C071-4C4B-8F13-8B0B6FF3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896-E827-431E-90B3-E8111C68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4105A-17E8-49C7-97D2-727A0771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05B81F-D75A-4C48-96FF-3908571C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5CCDEE-B100-427A-81D4-E53C0BC0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D6DCAC-7BFC-40CE-A4BA-4114A4F2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726B1E-9608-4B58-9A04-290EFCEC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80AB90-B5DC-4795-9823-8D79E5A6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F21F94-D61A-408D-A00D-6777F4BC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6FDF12-9727-4083-896A-7BBFA2AD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5FB355-4854-4448-A77D-F8B52B2F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280B0-1922-443D-BD83-12934827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41E2-B014-4AA1-880A-3E1CE1B2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8700A0-DE01-422F-9464-02AA670D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260B57-D388-4FA3-9CB8-C6D1F44B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BC751-8DF7-49E9-9631-77DC0C8F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7A2461-B0CE-497D-8DFA-57F75C8D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7A3326-A983-4CAC-9827-585458EA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6A955E-AB3D-4BF6-A9C5-85407712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7244B6-52AD-4378-B6ED-A8D0FA2A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F1AE3-BCF5-49E4-8D7C-81EEC058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E6C06B-8CA1-4F0E-9F3C-784DB7E9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ADD0CB-9F49-4A9B-B0A6-AAE88242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9F2-DA96-4AC7-B82D-E76FC3A8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035BF5-A3E1-459A-894A-F5433C46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946D88-A700-417E-82BE-65AE0218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7F608E-04A0-44CD-AAC5-4CFAED63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D1314A-8CF0-4B6C-8BD5-7EC66FA6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CFB17F-48C0-47C8-8935-EB3E4728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4A5571-29B9-4289-9DFC-E51E7012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D40E9F-DEB4-4182-9758-C60C223C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3E45C1-BD81-41B8-A489-F305B757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7B49B9-A503-416B-8771-6A14AAE6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D0588-09C2-430B-99E5-9C8E1F67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4E11-86C2-4312-A731-FB5E6697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DA5010-F9FF-48C3-A384-B5B49588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6FF3B5-227A-437F-AD5D-D84C05A3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4E533B-280F-4516-B4DE-FB90DBBD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C50811-C3BA-420B-8111-7075FAA9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1DA62B-0D03-4A36-8083-826CDD95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013-1566-48F7-9321-61B7314F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fb9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6695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e5c4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fb9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c9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fb9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8FC3-47F9-49DE-BE32-4E81B8E51B5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fb9b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ad4d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ad4d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5ebe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fb9b3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5ebe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fb9b3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fb9b3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6695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e5c4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fb9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c9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8EC3-0F13-44EE-BDAE-39FEF323731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fb9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fb9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6695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e5c4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fb9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c9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0D66-73A5-412E-87D0-F7BB7993190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fb9b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ad4d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ad4d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5ebe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fb9b3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5ebe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fb9b3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fb9b3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d1b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ccd1b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6695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e5c4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fb9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c9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B086-7101-4ABE-866E-8EB1C8B5F3F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fb9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fb9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6695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e5c4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fb9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c9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6333-8BF4-4615-9B28-F88D7803005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fb9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fb9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6695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e5c4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fb9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c9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561B-8A33-48AB-9255-13B29C074D4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fb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6695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e5c4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fb9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c9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CD76-4575-4A77-B8BA-670FE46F15E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00000" y="1412640"/>
            <a:ext cx="8136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РАЗВИВАЮЩЕГО ОБУЧЕНИЯ </a:t>
            </a:r>
            <a:br>
              <a:rPr sz="5200"/>
            </a:br>
            <a:r>
              <a:rPr b="1" lang="ru-RU" sz="5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Б. ЭЛЬКОНИНА – В.В.ДАВЫДОВА</a:t>
            </a:r>
            <a:endParaRPr b="0" lang="en-US" sz="5200" spc="-1" strike="noStrike">
              <a:solidFill>
                <a:srgbClr val="53494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rcRect l="-208" t="0" r="0" b="0"/>
          <a:stretch/>
        </p:blipFill>
        <p:spPr>
          <a:xfrm>
            <a:off x="30240" y="358920"/>
            <a:ext cx="900576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АРАГРАФОВ УЧЕБНИКОВ 1-4 КЛАССОВ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50920" y="1125360"/>
            <a:ext cx="85802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отивационный материал, предваряющий основную часть параграфа, в котором представлена проблемная ситуация в виде сюжета с участием сквозных персонажей;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истема основных заданий, отражающих понятийную логику параграфа, выполнение которых приведет учащихся к решению учебной задачи;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лок упражнений и заданий, направленный на систематизацию и отработку материала;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разноуровневые контрольные задания, предназначенные для самостоятельного контроля и оценки ребенком своего владения открытым в  способом, новыми знаниями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94920" y="62028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бразования Эльконина Давыдова начала формироваться в 50-х годах прошлого век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80-90 начала применяться массово в школах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96 году была утверждена как одна из официальных программ обучения в начальных классах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</a:t>
            </a:r>
            <a:endParaRPr b="0" lang="en-US" sz="44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17160" y="1125360"/>
            <a:ext cx="6481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не предполагает заучивания фактов, классификаций и установленных правил. Она направлена на выявление системности в подходе к решению той или иной задачи, выявлению главного и второстепенного в этой системност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6799320" y="333360"/>
            <a:ext cx="204948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46748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:</a:t>
            </a:r>
            <a:endParaRPr b="0" lang="en-US" sz="44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95280" y="981000"/>
            <a:ext cx="8137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едметом усвоения являются общие способы действия – способы решения класса задач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воение общего способа ни в коем случае не может быть его сообщением – информацией о нем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ченическая работа строится как поиск и проба средств решения задачи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39640" y="62064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формирования системы научных понятий, а также учебной самостоятельности и инициативности. Ее достижение оказывается возможным поскольку знания (модели) выступают не как сведения об объектах, а как средства их отыскания, выведения или конструирования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6840" y="404280"/>
            <a:ext cx="8002440" cy="60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обучения по системе Эльконина – Давыдов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гументировано отстаивать свою точку зрения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ть позицию другого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нимают информацию на веру, а требуют доказательств и объяснени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проводится в рамках обычных школьных программ, но на другом качественном уровне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ЕАЛИЗАЦИИ ТЕХНОЛОГИИ РАЗВИВАЮЩЕГО ОБУЧЕНИЯ НА УРОКАХ У ДЕТЕЙ ФОРМИРУЮТСЯ:</a:t>
            </a:r>
            <a:endParaRPr b="0" lang="en-US" sz="43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24000" y="2133720"/>
            <a:ext cx="8434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ставить учебную задачу и находить способы её решения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рефлексии собственных действий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аботать с модельными средствами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ь суждени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ЮСЫ</a:t>
            </a:r>
            <a:endParaRPr b="0" lang="en-US" sz="44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68360" y="1052640"/>
            <a:ext cx="7991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ики имеют очень глубокие знания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не получают оценок, значит и не стремятся к ним. Они стремятся к получению знаний. У них высокая мотивация к учеб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умеют нестандартно мыслить, докапываться до сути проблемы или задачи, анализировать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ценке работы ученика оценивается не общий и целый результат, а каждое его отдельное усили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46748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УСЫ</a:t>
            </a:r>
            <a:endParaRPr b="0" lang="en-US" sz="44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907560"/>
            <a:ext cx="829152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ысокий и сложный уровень преподаваемых предметов. 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несоответствие программы Эльконина - Давыдова классическим системам обучения. Так, что, если ребенок учится в развивающемся классе, то необходимо, чтобы он и учился по данной системе вплоть до окончания школы. Иначе ребенку будет  очень сложно перестроитьс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0:17:18Z</dcterms:created>
  <dc:creator>Дима</dc:creator>
  <dc:description/>
  <dc:language>en-US</dc:language>
  <cp:lastModifiedBy>Дима</cp:lastModifiedBy>
  <dcterms:modified xsi:type="dcterms:W3CDTF">2019-05-23T14:41:11Z</dcterms:modified>
  <cp:revision>7</cp:revision>
  <dc:subject/>
  <dc:title>Презентация PowerPoint</dc:title>
</cp:coreProperties>
</file>