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CDD5-84AA-421B-B12C-FA0589AF3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5B16-1584-4E52-97B9-84D07582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9250-7568-4E51-9A83-083F787D5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C5F3-36A8-4FE3-AE80-3CD0ED375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E9A9-56D1-4280-86A8-6A382526A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36A4-5935-480C-B350-72F730D4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FED7-43D6-42F5-887F-EEE6C5E7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3DCE-135C-47BE-8D8D-982473C1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561FE-0088-4E10-A011-420654E0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405A-6695-4DF4-9E9D-3832DC0F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5892F-8F75-427F-8B7B-A8D1A3A9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C3B7-D6FE-4621-8C8F-CD406CCE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FA97-96D8-43B7-8086-19C9745C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4533-7B81-4AC1-BF6F-36E73000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AC76-EDB8-4CAE-9D6F-4FD2746C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21873-D078-4773-B289-98A3F4E51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61FE-B721-415A-AD6F-3BF3DC07F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51E1-922E-4F08-A317-B16C1E29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2C99-906C-445A-9F1F-5630CC68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9D03-FB82-40D1-87DC-06F17631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7291-0A3A-4876-917B-43FB45B0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3FF1-64F6-4CB9-B926-58880814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6E50-1B3C-49BA-88C1-82C56C8A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5145-9A3C-46E5-910E-F8CBF0FB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9F17-5671-4BD1-AE9E-BF26A2A38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3CF1-6F50-43CD-BCC5-0BA405762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10"/>
          <p:cNvSpPr txBox="1"/>
          <p:nvPr/>
        </p:nvSpPr>
        <p:spPr>
          <a:xfrm>
            <a:off x="395280" y="3070080"/>
            <a:ext cx="83534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ПОЭЗИЯ ПЕРИОДА</a:t>
            </a:r>
            <a:endParaRPr b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 </a:t>
            </a:r>
            <a:r>
              <a:rPr b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ВЕЛИКОЙ ОТЕЧЕСТВЕННОЙ ВОЙНЫ</a:t>
            </a:r>
            <a:endParaRPr b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1403280" y="2421000"/>
            <a:ext cx="1292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43"/>
          <p:cNvSpPr/>
          <p:nvPr/>
        </p:nvSpPr>
        <p:spPr>
          <a:xfrm>
            <a:off x="2627280" y="1989000"/>
            <a:ext cx="3672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УРОК ЛИТЕРАТУРЫ в 6-7 класса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5157720"/>
            <a:ext cx="360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26d18"/>
                </a:solidFill>
                <a:latin typeface="Times New Roman"/>
              </a:rPr>
              <a:t>ЧОУ Православная школ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26d18"/>
                </a:solidFill>
                <a:latin typeface="Times New Roman"/>
              </a:rPr>
              <a:t>Г. Иваново, 2014 го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5950080"/>
            <a:ext cx="93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858920" y="2205000"/>
            <a:ext cx="374508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В ЧАСЫ КОРОТКОГО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ОТДЫХА СОЛДАТ ДУМАЛ О ДОМЕ, О ТОМ, ЧТО ЕГО ЖДУТ, ЛЮБЯТ, И ПОЭТОМУ ОН ДОЛЖЕН НЕПРЕМЕННО ВЕРНУТЬСЯ. ВЕРНУТЬСЯ РАДИ МАЛЕНЬКОГ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СЫ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WordArt 14"/>
          <p:cNvSpPr txBox="1"/>
          <p:nvPr/>
        </p:nvSpPr>
        <p:spPr>
          <a:xfrm>
            <a:off x="1763640" y="333360"/>
            <a:ext cx="6121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ТЫ МЕНЯ ЖДЁШЬ -</a:t>
            </a:r>
            <a:endParaRPr b="1" lang="en-US" sz="2800" spc="1" strike="noStrike">
              <a:ln w="0">
                <a:noFill/>
              </a:ln>
              <a:solidFill>
                <a:srgbClr val="3366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2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О МНОЙ НИЧЕГО НЕ СЛУЧИТЬСЯ</a:t>
            </a:r>
            <a:endParaRPr b="1" lang="en-US" sz="2800" spc="1" strike="noStrike">
              <a:ln w="0">
                <a:noFill/>
              </a:ln>
              <a:solidFill>
                <a:srgbClr val="3366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2" name="Picture 15" descr="img3"/>
          <p:cNvPicPr/>
          <p:nvPr/>
        </p:nvPicPr>
        <p:blipFill>
          <a:blip r:embed="rId1"/>
          <a:stretch/>
        </p:blipFill>
        <p:spPr>
          <a:xfrm>
            <a:off x="539640" y="1989000"/>
            <a:ext cx="3630600" cy="42483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7"/>
          <p:cNvSpPr/>
          <p:nvPr/>
        </p:nvSpPr>
        <p:spPr>
          <a:xfrm>
            <a:off x="755640" y="637056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М.ЖДАЛИЛЬ С СЫНО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371600" y="2492280"/>
            <a:ext cx="7772400" cy="36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АК НАЗЫВАЕТСЯ СБОРНИК, В КОТОРОМ СОБРАНЫ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ТИХИ 24 МОЛОДЫХ ПОЭТОВ, УШЕДШИХ НА ВОЙНУ И НЕВЕРНУВШИХСЯ… ОДНИ УПАЛИ В СНЕГ ИЛИ ВЫЖЖЕННУЮ ПОЛЫНЬ, НЕ ВЫПУСКАЯ ИЗ РУК АВТОМАТА, ДРУГИЕ СГОРЕЛИ В САМОЛЁТЕ, УМЕРЛИ В ФАШИСТСКИХ ЗАСТЕНКАХ. КОГО-ТО РАССТРЕЛЯЛИ ВО ВРЕМЯ ОККУПАЦИИ, КТО-ТО УМЕР ОТ РАН ПОСЛЕ ВОЙ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«НАС НЕ НАДО ЖАЛЕТЬ, ВЕДЬ И МЫ НИКОГО Б НЕ ЖАЛЕЛИ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ЭТО НАША СУДЬБА, ЭТО С НЕЙ МЫ РУГАЛИСЬ И ПЕЛИ, ПОДЫМАЛИСЬ В АТАКУ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.ГУДЗЕНК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WordArt 4"/>
          <p:cNvSpPr txBox="1"/>
          <p:nvPr/>
        </p:nvSpPr>
        <p:spPr>
          <a:xfrm>
            <a:off x="1619280" y="404640"/>
            <a:ext cx="6985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ИМЕНА НА ПОВЕРКЕ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211280" y="1916280"/>
            <a:ext cx="4608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ПИСАТЬ ПРАВДУ О ВОЙНЕ</a:t>
            </a:r>
            <a:r>
              <a:rPr b="1" lang="en-US" sz="2000" spc="-1" strike="noStrike">
                <a:solidFill>
                  <a:srgbClr val="777777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ОЧЕНЬ ОПАСНО, И ОЧЕНЬ ОПАСНО ДОИСКИВАТЬСЯ</a:t>
            </a:r>
            <a:r>
              <a:rPr b="1" lang="en-US" sz="2000" spc="-1" strike="noStrike">
                <a:solidFill>
                  <a:srgbClr val="777777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ПРАВДЫ… А КОГДА ЧЕЛОВЕК ЕДЕТ НА ФРОНТ ИСКАТЬ ПРАВДУ, ОН МОЖЕТ НАЙТИ ВМЕСТО НЕЁ СМЕРТЬ. НО ЕСЛИ ЕДУТ 12, А ВОЗВРАЩАЮТСЯ ТОЛЬКО ДВОЕ – ПРАВДА, КОТОРУЮ ОНИ ПРИВЕЗУТ С СОБОЙ, БУДЕТ ДЕЙСТВИТЕЛЬНО ПРАВДОЙ, А НЕ ИСКАЖЁННЫМИ СЛУХАМ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КОТОРЫЕ МЫ ВЫДАЁМ ЗА ИСТОРИ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WordArt 7"/>
          <p:cNvSpPr txBox="1"/>
          <p:nvPr/>
        </p:nvSpPr>
        <p:spPr>
          <a:xfrm>
            <a:off x="1258920" y="333360"/>
            <a:ext cx="7489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cc99">
                    <a:alpha val="98000"/>
                  </a:srgbClr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ЭЗИЯ НАДЕЛА ФРОНТОВУЮ ШИНЕЛЬ</a:t>
            </a:r>
            <a:endParaRPr b="1" lang="en-US" sz="3200" spc="1" strike="noStrike">
              <a:ln w="9360">
                <a:solidFill>
                  <a:srgbClr val="ff9900"/>
                </a:solidFill>
                <a:miter/>
              </a:ln>
              <a:solidFill>
                <a:srgbClr val="ffcc99">
                  <a:alpha val="98000"/>
                </a:srgbClr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cc99">
                    <a:alpha val="98000"/>
                  </a:srgbClr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32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cc99">
                    <a:alpha val="98000"/>
                  </a:srgbClr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 ШАГНУЛА В ГОРНИЛО БОЯ</a:t>
            </a:r>
            <a:endParaRPr b="1" lang="en-US" sz="3200" spc="1" strike="noStrike">
              <a:ln w="9360">
                <a:solidFill>
                  <a:srgbClr val="ff9900"/>
                </a:solidFill>
                <a:miter/>
              </a:ln>
              <a:solidFill>
                <a:srgbClr val="ffcc99">
                  <a:alpha val="98000"/>
                </a:srgbClr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8" name="Picture 13" descr="хемингуэй"/>
          <p:cNvPicPr/>
          <p:nvPr/>
        </p:nvPicPr>
        <p:blipFill>
          <a:blip r:embed="rId1"/>
          <a:stretch/>
        </p:blipFill>
        <p:spPr>
          <a:xfrm>
            <a:off x="826920" y="2060640"/>
            <a:ext cx="3219480" cy="40323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4"/>
          <p:cNvSpPr/>
          <p:nvPr/>
        </p:nvSpPr>
        <p:spPr>
          <a:xfrm>
            <a:off x="971640" y="629928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Э. ХЕМИНГУЭ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8" descr="5"/>
          <p:cNvPicPr/>
          <p:nvPr/>
        </p:nvPicPr>
        <p:blipFill>
          <a:blip r:embed="rId1"/>
          <a:stretch/>
        </p:blipFill>
        <p:spPr>
          <a:xfrm>
            <a:off x="4572000" y="1773360"/>
            <a:ext cx="1846440" cy="2232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dzalil"/>
          <p:cNvPicPr/>
          <p:nvPr/>
        </p:nvPicPr>
        <p:blipFill>
          <a:blip r:embed="rId2"/>
          <a:stretch/>
        </p:blipFill>
        <p:spPr>
          <a:xfrm>
            <a:off x="395280" y="4365720"/>
            <a:ext cx="1714680" cy="2303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суворов"/>
          <p:cNvPicPr/>
          <p:nvPr/>
        </p:nvPicPr>
        <p:blipFill>
          <a:blip r:embed="rId3"/>
          <a:stretch/>
        </p:blipFill>
        <p:spPr>
          <a:xfrm>
            <a:off x="250920" y="1844640"/>
            <a:ext cx="1728720" cy="2173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кульчицкий"/>
          <p:cNvPicPr/>
          <p:nvPr/>
        </p:nvPicPr>
        <p:blipFill>
          <a:blip r:embed="rId4"/>
          <a:stretch/>
        </p:blipFill>
        <p:spPr>
          <a:xfrm>
            <a:off x="2843280" y="4508640"/>
            <a:ext cx="3168720" cy="2079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utkin"/>
          <p:cNvPicPr/>
          <p:nvPr/>
        </p:nvPicPr>
        <p:blipFill>
          <a:blip r:embed="rId5"/>
          <a:stretch/>
        </p:blipFill>
        <p:spPr>
          <a:xfrm>
            <a:off x="6732720" y="189000"/>
            <a:ext cx="2031840" cy="2628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3" descr="гудзенко"/>
          <p:cNvPicPr/>
          <p:nvPr/>
        </p:nvPicPr>
        <p:blipFill>
          <a:blip r:embed="rId6"/>
          <a:stretch/>
        </p:blipFill>
        <p:spPr>
          <a:xfrm>
            <a:off x="6659640" y="3500280"/>
            <a:ext cx="2124000" cy="2665440"/>
          </a:xfrm>
          <a:prstGeom prst="rect">
            <a:avLst/>
          </a:prstGeom>
          <a:ln w="0">
            <a:noFill/>
          </a:ln>
        </p:spPr>
      </p:pic>
      <p:sp>
        <p:nvSpPr>
          <p:cNvPr id="166" name="WordArt 14"/>
          <p:cNvSpPr txBox="1"/>
          <p:nvPr/>
        </p:nvSpPr>
        <p:spPr>
          <a:xfrm>
            <a:off x="250920" y="476280"/>
            <a:ext cx="6265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>
                    <a:alpha val="99000"/>
                  </a:srgbClr>
                </a:solidFill>
                <a:latin typeface="Times New Roman"/>
              </a:rPr>
              <a:t>МЫ ВАМ ЖИТЬ ЗАВЕЩАЕМ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>
                  <a:alpha val="99000"/>
                </a:srgbClr>
              </a:solidFill>
              <a:latin typeface="Times New Roman"/>
              <a:ea typeface="Times New Roman"/>
            </a:endParaRPr>
          </a:p>
        </p:txBody>
      </p:sp>
      <p:pic>
        <p:nvPicPr>
          <p:cNvPr id="167" name="Picture 15" descr="шубин"/>
          <p:cNvPicPr/>
          <p:nvPr/>
        </p:nvPicPr>
        <p:blipFill>
          <a:blip r:embed="rId7"/>
          <a:stretch/>
        </p:blipFill>
        <p:spPr>
          <a:xfrm>
            <a:off x="2124000" y="1700280"/>
            <a:ext cx="2032200" cy="244944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6"/>
          <p:cNvSpPr/>
          <p:nvPr/>
        </p:nvSpPr>
        <p:spPr>
          <a:xfrm>
            <a:off x="250920" y="4005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Г.СУВОР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-324000" y="646128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М.ДЖАЛИ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18"/>
          <p:cNvSpPr/>
          <p:nvPr/>
        </p:nvSpPr>
        <p:spPr>
          <a:xfrm>
            <a:off x="6877080" y="28414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.УТКИ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3132000" y="649116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М.КУЛЬЧИЦК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20"/>
          <p:cNvSpPr/>
          <p:nvPr/>
        </p:nvSpPr>
        <p:spPr>
          <a:xfrm>
            <a:off x="6948360" y="6093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.ГУДЗЕНК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2411280" y="4076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.ШУБИН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23"/>
          <p:cNvSpPr/>
          <p:nvPr/>
        </p:nvSpPr>
        <p:spPr>
          <a:xfrm>
            <a:off x="4716360" y="4005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.МАЙОР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41036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НЕ БЫ ТОЛЬК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ОТ ЭТУ ГРАНАТУ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ЛОРАДНО ПОСТАВИВ НА ВЗВОД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САДИТЬ ЕЁ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РЕЗАТЬ, КАК НАДО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ЧЕТЫРЕЖДЫ ПРОКЛЯТЫЙ ДЗОТ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ЧТОБЫ СТАЛО В НЁМ ПУСТО И ТИХО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ЧТОБЫ ПЫЛЬЮ ОСЕЛ ОН В ТРАВУ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ОЖИТЬ БЫ МНЕ ЭТИ ПОЛМИГА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 ТАМ Я СТО ЛЕТ ПРОЖИВУ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.ШУБИН. «ПОЛМИГА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WordArt 7"/>
          <p:cNvSpPr txBox="1"/>
          <p:nvPr/>
        </p:nvSpPr>
        <p:spPr>
          <a:xfrm>
            <a:off x="1403280" y="404640"/>
            <a:ext cx="7345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993366">
                    <a:alpha val="93000"/>
                  </a:srgbClr>
                </a:solidFill>
                <a:latin typeface="Arial"/>
              </a:rPr>
              <a:t>КТО ГОВОРИТ, ЧТО НА ВОЙНЕ НЕСТРАШНО,</a:t>
            </a:r>
            <a:endParaRPr b="0" lang="en-US" sz="3200" spc="1" strike="noStrike">
              <a:ln w="9360">
                <a:solidFill>
                  <a:srgbClr val="ff0066"/>
                </a:solidFill>
                <a:miter/>
              </a:ln>
              <a:solidFill>
                <a:srgbClr val="993366">
                  <a:alpha val="93000"/>
                </a:srgbClr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993366">
                    <a:alpha val="93000"/>
                  </a:srgbClr>
                </a:solidFill>
                <a:latin typeface="Arial"/>
              </a:rPr>
              <a:t>ТОТ НИЧЕГО НЕ ЗНАЕТ О ВОЙНЕ</a:t>
            </a:r>
            <a:endParaRPr b="0" lang="en-US" sz="3200" spc="1" strike="noStrike">
              <a:ln w="9360">
                <a:solidFill>
                  <a:srgbClr val="ff0066"/>
                </a:solidFill>
                <a:miter/>
              </a:ln>
              <a:solidFill>
                <a:srgbClr val="993366">
                  <a:alpha val="93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177" name="Picture 8" descr="1"/>
          <p:cNvPicPr/>
          <p:nvPr/>
        </p:nvPicPr>
        <p:blipFill>
          <a:blip r:embed="rId1"/>
          <a:stretch/>
        </p:blipFill>
        <p:spPr>
          <a:xfrm>
            <a:off x="5003640" y="1916280"/>
            <a:ext cx="3889440" cy="46083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0"/>
          <p:cNvSpPr/>
          <p:nvPr/>
        </p:nvSpPr>
        <p:spPr>
          <a:xfrm>
            <a:off x="5292720" y="6156360"/>
            <a:ext cx="38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МНЕ БЫ ТОЛЬКО ВОТ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ЭТУ ГРАНАТУ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0" y="2276640"/>
            <a:ext cx="4176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ИСЬМО И КАРТОЧКА В КОНВЕРТЕ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НАПИСАН ЧЁТКО АДРЕС ТВО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ОБЯЗАН БЫТЬ ГОТОВЫМ К СМЕР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ОЛДАТ, НЕ РАЗ ХОДИВШИЙ В БО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МЫ ЗДЕСЬ ПРИВЫКЛИ К ЭТОЙ МЫСЛ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И, ЖАЖДУ ЖИЗНИ ЗАТАЯ, ВИСИМ НА ШАТКОМ КОРОМЫСЛ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У САМОЙ ГРАНИ БЫТИЯ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УСТЬ НЕЛЕГКО НАМ, НУ ТАК ЧТО ЖЕ, К НАМ ВЕК ТРЕВОЖНЫЙ НАШ РЕВНИ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МЫ ЧИЩЕ СДЕЛАЛИСЬ И СТРОЖЕ, ВСЁ СУЕТНОЕ ОТСТРАНИ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Н.РЫЛЕНК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WordArt 5"/>
          <p:cNvSpPr txBox="1"/>
          <p:nvPr/>
        </p:nvSpPr>
        <p:spPr>
          <a:xfrm>
            <a:off x="539640" y="476280"/>
            <a:ext cx="81583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МЫ ЗДЕСЬ В ГЛАЗА ГЛЯДЕЛИ СМЕРТИ,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И МЫ НЕ ОПУСТИЛИ ГЛАЗ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81" name="Picture 14" descr="img2"/>
          <p:cNvPicPr/>
          <p:nvPr/>
        </p:nvPicPr>
        <p:blipFill>
          <a:blip r:embed="rId5"/>
          <a:stretch/>
        </p:blipFill>
        <p:spPr>
          <a:xfrm>
            <a:off x="4500720" y="1989000"/>
            <a:ext cx="4464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427280" y="1773000"/>
            <a:ext cx="43923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«</a:t>
            </a:r>
            <a:r>
              <a:rPr b="1" lang="en-US" sz="2000" spc="-1" strike="noStrike">
                <a:solidFill>
                  <a:srgbClr val="969696"/>
                </a:solidFill>
                <a:latin typeface="Times New Roman"/>
              </a:rPr>
              <a:t>ЧТОБ СТАТЬ</a:t>
            </a: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69696"/>
                </a:solidFill>
                <a:latin typeface="Times New Roman"/>
              </a:rPr>
              <a:t>МУЖЧИНОЙ</a:t>
            </a: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Times New Roman"/>
              </a:rPr>
              <a:t>МАЛО ИМ РОДИТЬСЯ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«</a:t>
            </a:r>
            <a:r>
              <a:rPr b="1" lang="en-US" sz="2000" spc="-1" strike="noStrike">
                <a:solidFill>
                  <a:srgbClr val="969696"/>
                </a:solidFill>
                <a:latin typeface="Times New Roman"/>
              </a:rPr>
              <a:t>ЕСТЬ МУЖЕСТВО, ДОСТУПНОЕ НЕМНОГИМ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69696"/>
                </a:solidFill>
                <a:uFillTx/>
                <a:latin typeface="Times New Roman"/>
              </a:rPr>
              <a:t>«ВЫСОТА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Times New Roman"/>
              </a:rPr>
              <a:t>У КАЖДОГО ЕСТЬ В ЖИЗНИ ВЫСОТ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Times New Roman"/>
              </a:rPr>
              <a:t>КОТОРУЮ ОН ДОЛЖЕН ВЗЯТЬ КОГДА-Т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Times New Roman"/>
              </a:rPr>
              <a:t>А ЕСЛИ ПО ДОРОГЕ МЫ УМРЁМ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Times New Roman"/>
              </a:rPr>
              <a:t>СВОЕЮ СМЕРТЬЮ РАЗРЫВАЯ ДОТЫ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Times New Roman"/>
              </a:rPr>
              <a:t>ТО ПУСТЬ НАС ПОХОРОНЯТ НА ВЫСОТАХ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Times New Roman"/>
              </a:rPr>
              <a:t>КОТОРЫЕ МЫ ВСЁ-ТАКИ БЕРЁ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WordArt 6"/>
          <p:cNvSpPr txBox="1"/>
          <p:nvPr/>
        </p:nvSpPr>
        <p:spPr>
          <a:xfrm>
            <a:off x="1403280" y="836640"/>
            <a:ext cx="58294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ff0066"/>
                  </a:solidFill>
                  <a:miter/>
                </a:ln>
                <a:solidFill>
                  <a:srgbClr val="cc0066">
                    <a:alpha val="99000"/>
                  </a:srgbClr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УЖЧИНЫ УМИРАЮТ, ЕСЛИ НУЖНО,</a:t>
            </a:r>
            <a:endParaRPr b="1" lang="en-US" sz="2800" spc="1" strike="noStrike">
              <a:ln w="19080">
                <a:solidFill>
                  <a:srgbClr val="ff0066"/>
                </a:solidFill>
                <a:miter/>
              </a:ln>
              <a:solidFill>
                <a:srgbClr val="cc0066">
                  <a:alpha val="99000"/>
                </a:srgbClr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ff0066"/>
                  </a:solidFill>
                  <a:miter/>
                </a:ln>
                <a:solidFill>
                  <a:srgbClr val="cc0066">
                    <a:alpha val="99000"/>
                  </a:srgbClr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 ПОТОМУ ЖИВУТ В ВЕКАХ ОНИ</a:t>
            </a:r>
            <a:endParaRPr b="1" lang="en-US" sz="2800" spc="1" strike="noStrike">
              <a:ln w="19080">
                <a:solidFill>
                  <a:srgbClr val="ff0066"/>
                </a:solidFill>
                <a:miter/>
              </a:ln>
              <a:solidFill>
                <a:srgbClr val="cc0066">
                  <a:alpha val="99000"/>
                </a:srgbClr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84" name="Picture 10" descr="львов"/>
          <p:cNvPicPr/>
          <p:nvPr/>
        </p:nvPicPr>
        <p:blipFill>
          <a:blip r:embed="rId1"/>
          <a:stretch/>
        </p:blipFill>
        <p:spPr>
          <a:xfrm>
            <a:off x="611280" y="2060640"/>
            <a:ext cx="3286080" cy="42480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1"/>
          <p:cNvSpPr/>
          <p:nvPr/>
        </p:nvSpPr>
        <p:spPr>
          <a:xfrm>
            <a:off x="684360" y="6308640"/>
            <a:ext cx="37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М.ЛЬВ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4392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ЭЗИЯ БЫЛА НЕИЗМЕННЫМ ДОВЕРЕННЫМ ДУШИ ВОИНА, РАЗДУВАЯ В ЕГО СЕРДЦЕ НЕУГАСИМЫЙ ОГОНЬ ЛЮБВИ К ОТЕЧЕСТВУ И ИСПЕПЕЛЯЮЩУЮ НЕНАВИСТЬ К ЕЁ ВРАГ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УЧШЕ ПРИЙТИ С ПУСТЫМ РУКАВОМ, ЧЕМ С ПУСТОЙ ДУШ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WordArt 7"/>
          <p:cNvSpPr txBox="1"/>
          <p:nvPr/>
        </p:nvSpPr>
        <p:spPr>
          <a:xfrm>
            <a:off x="1403280" y="-171360"/>
            <a:ext cx="6553440" cy="18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ЭЗИЯ - ДОВЕРЕННЫЙ ДУШИ</a:t>
            </a:r>
            <a:endParaRPr b="1" lang="en-US" sz="3200" spc="1" strike="noStrike">
              <a:ln w="19080">
                <a:solidFill>
                  <a:srgbClr val="ffcc99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8" name="Picture 8" descr="post-8232-1243071264"/>
          <p:cNvPicPr/>
          <p:nvPr/>
        </p:nvPicPr>
        <p:blipFill>
          <a:blip r:embed="rId1"/>
          <a:stretch/>
        </p:blipFill>
        <p:spPr>
          <a:xfrm>
            <a:off x="5148360" y="1989000"/>
            <a:ext cx="36716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4"/>
          <p:cNvSpPr txBox="1"/>
          <p:nvPr/>
        </p:nvSpPr>
        <p:spPr>
          <a:xfrm>
            <a:off x="3024360" y="3075120"/>
            <a:ext cx="309528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</a:t>
            </a:r>
            <a:endParaRPr b="1" lang="en-US" sz="4800" spc="1" strike="noStrike">
              <a:ln w="12600">
                <a:solidFill>
                  <a:srgbClr val="ff0000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10"/>
          <p:cNvSpPr txBox="1"/>
          <p:nvPr/>
        </p:nvSpPr>
        <p:spPr>
          <a:xfrm>
            <a:off x="1476360" y="260280"/>
            <a:ext cx="7128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ОЙНА - ЖЕСТОЧЕ НЕТУ СЛОВА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324000" y="2060640"/>
            <a:ext cx="44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19"/>
          <p:cNvSpPr/>
          <p:nvPr/>
        </p:nvSpPr>
        <p:spPr>
          <a:xfrm>
            <a:off x="179280" y="2133720"/>
            <a:ext cx="3456000" cy="49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На этом уроке вы</a:t>
            </a: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познакомитесь с поэзией периода Великой Отечественной войны,  многообразием её тем; узнаете, что своё назначение поэты видели в служении Отечеству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НАМ БЫЛО ВСЁ ОТПУЩЕНО СВЕРХ НОРМЫ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ЛЮБОВЬ, И ГНЕВ, И МУЖЕСТВО В БОЮ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        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Н.Рыленк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20"/>
          <p:cNvSpPr/>
          <p:nvPr/>
        </p:nvSpPr>
        <p:spPr>
          <a:xfrm>
            <a:off x="4284720" y="2637000"/>
            <a:ext cx="4319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ВОЙНА – ПЕЧАЛЬНЕЙ НЕТУ</a:t>
            </a:r>
            <a:r>
              <a:rPr b="1" i="1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СЛОВА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ВОЙНА – СВЯТЕЕ НЕТУ СЛО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В ТОСКЕ И СЛАВЕ ЭТИХ ЛЕТ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И НА УСТАХ У НАС ИНОГ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ЕЩЁ НЕ МОЖЕТ БЫТЬ И Н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ТВАРДОВСКИЙ А.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7"/>
          <p:cNvSpPr txBox="1"/>
          <p:nvPr/>
        </p:nvSpPr>
        <p:spPr>
          <a:xfrm>
            <a:off x="1547640" y="260280"/>
            <a:ext cx="6985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2 ИЮНЯ 1941 ГОДА...ВОЙНА</a:t>
            </a:r>
            <a:endParaRPr b="1" lang="en-US" sz="2000" spc="1" strike="noStrike">
              <a:ln w="0">
                <a:noFill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30" name="Picture 8" descr="родина-мать"/>
          <p:cNvPicPr/>
          <p:nvPr/>
        </p:nvPicPr>
        <p:blipFill>
          <a:blip r:embed="rId1"/>
          <a:stretch/>
        </p:blipFill>
        <p:spPr>
          <a:xfrm>
            <a:off x="250920" y="2033640"/>
            <a:ext cx="3529080" cy="46353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0"/>
          <p:cNvSpPr/>
          <p:nvPr/>
        </p:nvSpPr>
        <p:spPr>
          <a:xfrm>
            <a:off x="4356000" y="1844640"/>
            <a:ext cx="460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Решается судьба страны,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народа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Впервые в истории было опровергнуто суждение о том, что когда говорят пушки, музы молчат. Война стала для литераторов «не материалом для книг, а судьбой – народа и их собственной». С первых дней они почувствовали себя «мобилизованными и призванными»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4"/>
          <p:cNvSpPr txBox="1"/>
          <p:nvPr/>
        </p:nvSpPr>
        <p:spPr>
          <a:xfrm>
            <a:off x="684360" y="549360"/>
            <a:ext cx="784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ИРИКА СТАЛА ВТОРЫМ ОТКРЫТИЕМ 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МЫ ВОЙНЫ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3" name="Picture 8" descr="ee37eb90a28ba4ca9bf21832245"/>
          <p:cNvPicPr/>
          <p:nvPr/>
        </p:nvPicPr>
        <p:blipFill>
          <a:blip r:embed="rId1"/>
          <a:stretch/>
        </p:blipFill>
        <p:spPr>
          <a:xfrm>
            <a:off x="324000" y="1989000"/>
            <a:ext cx="3951000" cy="4653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9"/>
          <p:cNvSpPr/>
          <p:nvPr/>
        </p:nvSpPr>
        <p:spPr>
          <a:xfrm>
            <a:off x="4643280" y="1844640"/>
            <a:ext cx="4249800" cy="484884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Стихи первых нед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ЕЛЬ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войны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–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грозная речь, открытая публицистика, но чем дальше, тем исповедальней, лиричнее они становятс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Лирика умеет говорить всеми голосами человеческого сердца. Она вселяет в людей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надежду и яри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Т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ненависть к враг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4"/>
          <p:cNvSpPr txBox="1"/>
          <p:nvPr/>
        </p:nvSpPr>
        <p:spPr>
          <a:xfrm>
            <a:off x="1871640" y="404640"/>
            <a:ext cx="60674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" ТЫ ПОМНИШЬ, АЛЁША,</a:t>
            </a:r>
            <a:endParaRPr b="1" lang="en-US" sz="2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ОРОГИ СМОЛЕНЩИНЫ..."</a:t>
            </a:r>
            <a:endParaRPr b="1" lang="en-US" sz="2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6" name="Picture 8" descr="симонов"/>
          <p:cNvPicPr/>
          <p:nvPr/>
        </p:nvPicPr>
        <p:blipFill>
          <a:blip r:embed="rId1"/>
          <a:stretch/>
        </p:blipFill>
        <p:spPr>
          <a:xfrm>
            <a:off x="130320" y="1844640"/>
            <a:ext cx="3649680" cy="46087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9"/>
          <p:cNvSpPr/>
          <p:nvPr/>
        </p:nvSpPr>
        <p:spPr>
          <a:xfrm>
            <a:off x="468360" y="649116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0" y="6491160"/>
            <a:ext cx="38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К. СИМОНОВ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3780000" y="1413000"/>
            <a:ext cx="5040000" cy="53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Стихотворение адресовано другу и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товарищу по литературной судьбе А.А.Сурков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Торжественный пафос соединяется с тонким лиризмо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Нас пули с тобой пока ещё милуют, но трижды поверив, что жизнь уже вся, я всё -таки горд был за самую милую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, З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русскую землю, где я родилс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Поэтично, с душевной болью воспевает поэт родную природу, деревню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Чувство надежды, вера и любовь к Отчизне не покидают ег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4"/>
          <p:cNvSpPr txBox="1"/>
          <p:nvPr/>
        </p:nvSpPr>
        <p:spPr>
          <a:xfrm>
            <a:off x="3319560" y="476280"/>
            <a:ext cx="31971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"ЖДИ  МЕНЯ"</a:t>
            </a:r>
            <a:endParaRPr b="1" lang="en-US" sz="2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4859280" y="1844640"/>
            <a:ext cx="40338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СТИХОТВОРЕНИЕ ПРОНИЗАНО</a:t>
            </a:r>
            <a:r>
              <a:rPr b="0" lang="en-US" sz="18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ГЛУБОКИМ ЛИРИЗМОМ.</a:t>
            </a: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ОБРАЩЁННОЕ АВТОРОМ К КОНКРЕТНОЙ ЖЕНЩИНЕ – АКТРИСЕ В.СЕРОВОЙ, ОНО СТАЛО ИСПОВЕДАЛЬНЫМ ПОСЛАНИЕМ ВСЕХ ЛЮБЯЩИХ КО ВСЕМ ЛЮБИМЫМ. ВОТ ПОЧЕМУ ПОЭТ ЗАКЛИНАЕТ ДОРОГУЮ ДЛЯ НЕГО ЖЕНЩИНУ ЖДАТЬ ЕГО , НЕСМОТРЯ НИ НА ЧТО, И ОБЕЩАЕТ ЕЙ ВЕРНУТЬСЯ «ВСЕМ СМЕРТЯМ НАЗЛО</a:t>
            </a: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»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9" descr="serova"/>
          <p:cNvPicPr/>
          <p:nvPr/>
        </p:nvPicPr>
        <p:blipFill>
          <a:blip r:embed="rId1"/>
          <a:stretch/>
        </p:blipFill>
        <p:spPr>
          <a:xfrm>
            <a:off x="755640" y="1844640"/>
            <a:ext cx="3427560" cy="48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4"/>
          <p:cNvSpPr txBox="1"/>
          <p:nvPr/>
        </p:nvSpPr>
        <p:spPr>
          <a:xfrm>
            <a:off x="468360" y="476280"/>
            <a:ext cx="8351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>
                    <a:alpha val="99000"/>
                  </a:srgbClr>
                </a:solidFill>
                <a:latin typeface="Times New Roman"/>
              </a:rPr>
              <a:t>ПЕРО БЫЛО ПРИРАВНЕНО К ШТЫКУ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>
                  <a:alpha val="99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539640" y="2492280"/>
            <a:ext cx="828036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ИЗ ОБРАЩЕНИЯ БЕЛОРУССКИХ ПАРТИЗАН К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СВОЕМУ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КОМАНДОВАНИЮ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«ПРИШЛИТЕ ПЕСНЮ. ОРУЖИЕ МОЖНО ОТНЯТЬ У ВРАГА. ПЕСНЮ У ВРАГА НЕ ОТНИМЕШЬ. ПРИШЛИТЕ ПЕСНЮ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333760" y="1844640"/>
            <a:ext cx="38098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ИСПОКОН ВЕКОВ ШЛА БОК О БОК С ЧЕЛОВЕКОМ ПЕСНЯ: ПРАЗДНОВАЛА СВАДЬБЫ И РОЖДЕНИЯ, ОБЪЯСНЯЛАСЬ В ЛЮБВИ, МЁРЗЛА У КОСТРОВ В ДАЛЬНЕМ ПОХОДЕ, НЕ СДАВАЛАСЬ НА МИЛОСТЬ ВРАГУ, ЗАЩИЩАЛА ЗЕМЛЮ РУССКУЮ И РУССКУЮ ЧЕ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ЕРВЫМИ ПЕСНЯМИ ВЕЛИКОЙ ОТЕЧЕСТВЕННОЙ ВОЙНЫ БЫЛИ «СВЯЩЕННАЯ ВОЙНА», «ПЕСНЯ СМЕЛЫХ», «ДО СВИДАНЬЯ, ГОРОДА И ХАТЫ. В НИХ СОЕДИНИЛИСЬ ГОРЕЧЬ И ГОРДОСТЬ, ГЕРОИКА И ЛИРИ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WordArt 4"/>
          <p:cNvSpPr txBox="1"/>
          <p:nvPr/>
        </p:nvSpPr>
        <p:spPr>
          <a:xfrm>
            <a:off x="900000" y="189000"/>
            <a:ext cx="8244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>
                    <a:alpha val="98000"/>
                  </a:srgbClr>
                </a:solidFill>
                <a:latin typeface="Times New Roman"/>
              </a:rPr>
              <a:t>ВОЕННОЙ ПЕСНИ НЕГАСИМЫЙ СВЕТ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5050">
                  <a:alpha val="98000"/>
                </a:srgbClr>
              </a:solidFill>
              <a:latin typeface="Times New Roman"/>
              <a:ea typeface="Times New Roman"/>
            </a:endParaRPr>
          </a:p>
        </p:txBody>
      </p:sp>
      <p:pic>
        <p:nvPicPr>
          <p:cNvPr id="147" name="Picture 10" descr="img1"/>
          <p:cNvPicPr/>
          <p:nvPr/>
        </p:nvPicPr>
        <p:blipFill>
          <a:blip r:embed="rId1"/>
          <a:stretch/>
        </p:blipFill>
        <p:spPr>
          <a:xfrm>
            <a:off x="395280" y="2276640"/>
            <a:ext cx="4608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07600" y="2349360"/>
            <a:ext cx="84567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НАЖДЫ НА ФРОНТЕ К Е.ДОЛМАТОВСКОМ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ДОШЁЛ МОЛОДОЙ ЛЕЙТЕНАНТ И РАССКАЗАЛ СВОЮ ИСТОРИЮ: ПЕРЕД ОТПРАВКОЙ НА ПЕРЕДОВУЮ ОН ВТРЕТИЛ   ДЕВУШКУ, НО ВСТРЕЧА БЫЛА СТОЛЬ КОРОТКОЙ, ЧТО ЛЕЙТЕНАНТ НЕ УСПЕЛ УЗНАТЬ ДАЖЕ ЕЁ ИМЕНИ. ОН ПОПРОСИЛ ПОЭТА НАПИСАТЬ ОБ ЭТОМ В НАДЕЖДЕ, ЧТО ДЕВУШКА УСЛЫШИТ И ОТЗОВЁТСЯ. СТИХИ БЫЛИ НАПИСАНЫ, М. ФРАДКИН ПОЛОЖИЛ ИХ НА МУЗЫКУ. ДЕВУШКА УСЛЫШАЛА ПЕСНЮ, ОДНАКО БЫЛО УЖЕ ПОЗДНО: В ОДНОМ ИЗ БОЁВ НАШ ГЕРОЙ ПОГИ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2050920" y="0"/>
            <a:ext cx="561672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latin typeface="Times New Roman"/>
              </a:rPr>
              <a:t>"СЛУЧАЙНЫЙ ВАЛЬС"</a:t>
            </a:r>
            <a:endParaRPr b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cc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17:54:59Z</dcterms:created>
  <dc:creator>XP GAME 2008</dc:creator>
  <dc:description/>
  <dc:language>en-US</dc:language>
  <cp:lastModifiedBy>Admin</cp:lastModifiedBy>
  <dcterms:modified xsi:type="dcterms:W3CDTF">2014-05-29T16:39:07Z</dcterms:modified>
  <cp:revision>2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