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8D2-BF0A-46C3-845D-BBA51DBD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6CD-4BA3-4A04-8F90-4238FA41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4923-7D1B-4989-9229-39F37FF0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514-D44E-44C7-8CFB-644BA577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72B9-6B41-47DF-A8CF-19B8ECA0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5CC1-C475-4325-B48B-0B625AE1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02D1-5C3F-49D5-962B-5660C4A7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EEF1-5720-41E1-8C7F-0E9AE013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E526-66C3-41F0-9B66-766BA244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4190-B97E-4D93-84F1-9CA17219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D4DC-61C7-4136-BEF1-C4E61539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DA8-7915-4723-BA1D-88151A37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807F-CF35-480A-BE0D-8513AC1E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F30C-31EF-49D7-8B35-720F4511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89F6-95E4-4D48-B378-78E51FB2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7985-3962-463F-B0EF-EEA8E6D2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F0FA-7CC3-4EC3-9328-5C145FDB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7518-F8EF-41D2-910D-752BF2D2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992-3386-44DD-B232-6F335288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43D-62FC-4436-BECC-E0975E69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9FC-38D1-4F58-8B93-836A2D53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1C4-C61F-48DB-A90C-71AC938D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808-971D-402C-BBAC-EEBE21A6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45C-1A9E-4D69-B09F-CDEB650C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758C-C8A2-4986-9B59-51F789045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D68A-0A16-4E0E-BA38-723B47344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10"/>
          <p:cNvSpPr txBox="1"/>
          <p:nvPr/>
        </p:nvSpPr>
        <p:spPr>
          <a:xfrm>
            <a:off x="395280" y="3070080"/>
            <a:ext cx="8353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ПОЭЗИЯ ПЕРИОДА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ВЕЛИКОЙ ОТЕЧЕСТВЕННОЙ ВОЙНЫ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403280" y="2421000"/>
            <a:ext cx="129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43"/>
          <p:cNvSpPr/>
          <p:nvPr/>
        </p:nvSpPr>
        <p:spPr>
          <a:xfrm>
            <a:off x="2627280" y="1989000"/>
            <a:ext cx="367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УРОК ЛИТЕРАТУРЫ в 6-7 класс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5157720"/>
            <a:ext cx="36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6d18"/>
                </a:solidFill>
                <a:latin typeface="Times New Roman"/>
              </a:rPr>
              <a:t>ЧОУ Православная школ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6d18"/>
                </a:solidFill>
                <a:latin typeface="Times New Roman"/>
              </a:rPr>
              <a:t>Г. Иваново, 2014 г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595008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858920" y="2205000"/>
            <a:ext cx="374508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 ЧАСЫ КОРОТКОГО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ОТДЫХА СОЛДАТ ДУМАЛ О ДОМЕ, О ТОМ, ЧТО ЕГО ЖДУТ, ЛЮБЯТ, И ПОЭТОМУ ОН ДОЛЖЕН НЕПРЕМЕННО ВЕРНУТЬСЯ. ВЕРНУТЬСЯ РАДИ МАЛЕНЬКОГ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Ы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WordArt 14"/>
          <p:cNvSpPr txBox="1"/>
          <p:nvPr/>
        </p:nvSpPr>
        <p:spPr>
          <a:xfrm>
            <a:off x="1763640" y="333360"/>
            <a:ext cx="612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Ы МЕНЯ ЖДЁШЬ -</a:t>
            </a:r>
            <a:endParaRPr b="1" lang="en-US" sz="2800" spc="1" strike="noStrike">
              <a:ln w="0">
                <a:noFill/>
              </a:ln>
              <a:solidFill>
                <a:srgbClr val="33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 МНОЙ НИЧЕГО НЕ СЛУЧИТЬСЯ</a:t>
            </a:r>
            <a:endParaRPr b="1" lang="en-US" sz="2800" spc="1" strike="noStrike">
              <a:ln w="0">
                <a:noFill/>
              </a:ln>
              <a:solidFill>
                <a:srgbClr val="33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2" name="Picture 15" descr="img3"/>
          <p:cNvPicPr/>
          <p:nvPr/>
        </p:nvPicPr>
        <p:blipFill>
          <a:blip r:embed="rId1"/>
          <a:stretch/>
        </p:blipFill>
        <p:spPr>
          <a:xfrm>
            <a:off x="539640" y="1989000"/>
            <a:ext cx="3630600" cy="4248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7"/>
          <p:cNvSpPr/>
          <p:nvPr/>
        </p:nvSpPr>
        <p:spPr>
          <a:xfrm>
            <a:off x="755640" y="63705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.ЖДАЛИЛЬ С СЫН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36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К НАЗЫВАЕТСЯ СБОРНИК, В КОТОРОМ СОБРАН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ИХИ 24 МОЛОДЫХ ПОЭТОВ, УШЕДШИХ НА ВОЙНУ И НЕВЕРНУВШИХСЯ… ОДНИ УПАЛИ В СНЕГ ИЛИ ВЫЖЖЕННУЮ ПОЛЫНЬ, НЕ ВЫПУСКАЯ ИЗ РУК АВТОМАТА, ДРУГИЕ СГОРЕЛИ В САМОЛЁТЕ, УМЕРЛИ В ФАШИСТСКИХ ЗАСТЕНКАХ. КОГО-ТО РАССТРЕЛЯЛИ ВО ВРЕМЯ ОККУПАЦИИ, КТО-ТО УМЕР ОТ РАН ПОСЛЕ ВОЙ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НАС НЕ НАДО ЖАЛЕТЬ, ВЕДЬ И МЫ НИКОГО Б НЕ ЖАЛЕЛИ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О НАША СУДЬБА, ЭТО С НЕЙ МЫ РУГАЛИСЬ И ПЕЛИ, ПОДЫМАЛИСЬ В АТАКУ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.ГУДЗЕНК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619280" y="404640"/>
            <a:ext cx="698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ИМЕНА НА ПОВЕРК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11280" y="1916280"/>
            <a:ext cx="4608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ПИСАТЬ ПРАВДУ О ВОЙНЕ</a:t>
            </a:r>
            <a:r>
              <a:rPr b="1" lang="en-US" sz="2000" spc="-1" strike="noStrike">
                <a:solidFill>
                  <a:srgbClr val="777777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ОЧЕНЬ ОПАСНО, И ОЧЕНЬ ОПАСНО ДОИСКИВАТЬСЯ</a:t>
            </a:r>
            <a:r>
              <a:rPr b="1" lang="en-US" sz="2000" spc="-1" strike="noStrike">
                <a:solidFill>
                  <a:srgbClr val="777777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ПРАВДЫ… А КОГДА ЧЕЛОВЕК ЕДЕТ НА ФРОНТ ИСКАТЬ ПРАВДУ, ОН МОЖЕТ НАЙТИ ВМЕСТО НЕЁ СМЕРТЬ. НО ЕСЛИ ЕДУТ 12, А ВОЗВРАЩАЮТСЯ ТОЛЬКО ДВОЕ – ПРАВДА, КОТОРУЮ ОНИ ПРИВЕЗУТ С СОБОЙ, БУДЕТ ДЕЙСТВИТЕЛЬНО ПРАВДОЙ, А НЕ ИСКАЖЁННЫМИ СЛУХАМ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КОТОРЫЕ МЫ ВЫДАЁМ ЗА ИСТОР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WordArt 7"/>
          <p:cNvSpPr txBox="1"/>
          <p:nvPr/>
        </p:nvSpPr>
        <p:spPr>
          <a:xfrm>
            <a:off x="1258920" y="333360"/>
            <a:ext cx="7489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99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ЭЗИЯ НАДЕЛА ФРОНТОВУЮ ШИНЕЛЬ</a:t>
            </a:r>
            <a:endParaRPr b="1" lang="en-US" sz="3200" spc="1" strike="noStrike">
              <a:ln w="9360">
                <a:solidFill>
                  <a:srgbClr val="ff9900"/>
                </a:solidFill>
                <a:miter/>
              </a:ln>
              <a:solidFill>
                <a:srgbClr val="ffcc99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99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3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99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ШАГНУЛА В ГОРНИЛО БОЯ</a:t>
            </a:r>
            <a:endParaRPr b="1" lang="en-US" sz="3200" spc="1" strike="noStrike">
              <a:ln w="9360">
                <a:solidFill>
                  <a:srgbClr val="ff9900"/>
                </a:solidFill>
                <a:miter/>
              </a:ln>
              <a:solidFill>
                <a:srgbClr val="ffcc99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8" name="Picture 13" descr="хемингуэй"/>
          <p:cNvPicPr/>
          <p:nvPr/>
        </p:nvPicPr>
        <p:blipFill>
          <a:blip r:embed="rId1"/>
          <a:stretch/>
        </p:blipFill>
        <p:spPr>
          <a:xfrm>
            <a:off x="826920" y="2060640"/>
            <a:ext cx="3219480" cy="4032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4"/>
          <p:cNvSpPr/>
          <p:nvPr/>
        </p:nvSpPr>
        <p:spPr>
          <a:xfrm>
            <a:off x="971640" y="629928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Э. ХЕМИНГУЭ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5"/>
          <p:cNvPicPr/>
          <p:nvPr/>
        </p:nvPicPr>
        <p:blipFill>
          <a:blip r:embed="rId1"/>
          <a:stretch/>
        </p:blipFill>
        <p:spPr>
          <a:xfrm>
            <a:off x="4572000" y="1773360"/>
            <a:ext cx="1846440" cy="2232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dzalil"/>
          <p:cNvPicPr/>
          <p:nvPr/>
        </p:nvPicPr>
        <p:blipFill>
          <a:blip r:embed="rId2"/>
          <a:stretch/>
        </p:blipFill>
        <p:spPr>
          <a:xfrm>
            <a:off x="395280" y="4365720"/>
            <a:ext cx="1714680" cy="2303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суворов"/>
          <p:cNvPicPr/>
          <p:nvPr/>
        </p:nvPicPr>
        <p:blipFill>
          <a:blip r:embed="rId3"/>
          <a:stretch/>
        </p:blipFill>
        <p:spPr>
          <a:xfrm>
            <a:off x="250920" y="1844640"/>
            <a:ext cx="1728720" cy="217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кульчицкий"/>
          <p:cNvPicPr/>
          <p:nvPr/>
        </p:nvPicPr>
        <p:blipFill>
          <a:blip r:embed="rId4"/>
          <a:stretch/>
        </p:blipFill>
        <p:spPr>
          <a:xfrm>
            <a:off x="2843280" y="4508640"/>
            <a:ext cx="3168720" cy="2079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utkin"/>
          <p:cNvPicPr/>
          <p:nvPr/>
        </p:nvPicPr>
        <p:blipFill>
          <a:blip r:embed="rId5"/>
          <a:stretch/>
        </p:blipFill>
        <p:spPr>
          <a:xfrm>
            <a:off x="6732720" y="189000"/>
            <a:ext cx="2031840" cy="2628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гудзенко"/>
          <p:cNvPicPr/>
          <p:nvPr/>
        </p:nvPicPr>
        <p:blipFill>
          <a:blip r:embed="rId6"/>
          <a:stretch/>
        </p:blipFill>
        <p:spPr>
          <a:xfrm>
            <a:off x="6659640" y="3500280"/>
            <a:ext cx="2124000" cy="2665440"/>
          </a:xfrm>
          <a:prstGeom prst="rect">
            <a:avLst/>
          </a:prstGeom>
          <a:ln w="0">
            <a:noFill/>
          </a:ln>
        </p:spPr>
      </p:pic>
      <p:sp>
        <p:nvSpPr>
          <p:cNvPr id="166" name="WordArt 14"/>
          <p:cNvSpPr txBox="1"/>
          <p:nvPr/>
        </p:nvSpPr>
        <p:spPr>
          <a:xfrm>
            <a:off x="250920" y="476280"/>
            <a:ext cx="626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>
                    <a:alpha val="99000"/>
                  </a:srgbClr>
                </a:solidFill>
                <a:latin typeface="Times New Roman"/>
              </a:rPr>
              <a:t>МЫ ВАМ ЖИТЬ ЗАВЕЩАЕМ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>
                  <a:alpha val="99000"/>
                </a:srgbClr>
              </a:solidFill>
              <a:latin typeface="Times New Roman"/>
              <a:ea typeface="Times New Roman"/>
            </a:endParaRPr>
          </a:p>
        </p:txBody>
      </p:sp>
      <p:pic>
        <p:nvPicPr>
          <p:cNvPr id="167" name="Picture 15" descr="шубин"/>
          <p:cNvPicPr/>
          <p:nvPr/>
        </p:nvPicPr>
        <p:blipFill>
          <a:blip r:embed="rId7"/>
          <a:stretch/>
        </p:blipFill>
        <p:spPr>
          <a:xfrm>
            <a:off x="2124000" y="1700280"/>
            <a:ext cx="2032200" cy="24494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6"/>
          <p:cNvSpPr/>
          <p:nvPr/>
        </p:nvSpPr>
        <p:spPr>
          <a:xfrm>
            <a:off x="250920" y="4005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.СУВОР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-324000" y="646128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.ДЖАЛИ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6877080" y="28414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.УТК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3132000" y="64911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.КУЛЬЧИЦ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6948360" y="609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.ГУДЗЕНК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2411280" y="40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.ШУБИ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4716360" y="400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.МАЙОР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1036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НЕ БЫ ТОЛЬК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Т ЭТУ ГРАНАТУ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ЛОРАДНО ПОСТАВИВ НА ВЗВОД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САДИТЬ ЕЁ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РЕЗАТЬ, КАК НАДО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ЧЕТЫРЕЖДЫ ПРОКЛЯТЫЙ ДЗОТ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ТОБЫ СТАЛО В НЁМ ПУСТО И ТИХО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ТОБЫ ПЫЛЬЮ ОСЕЛ ОН В ТРАВУ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ЖИТЬ БЫ МНЕ ЭТИ ПОЛМИГ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 ТАМ Я СТО ЛЕТ ПРОЖИВУ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.ШУБИН. «ПОЛМИГ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1403280" y="404640"/>
            <a:ext cx="734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993366">
                    <a:alpha val="93000"/>
                  </a:srgbClr>
                </a:solidFill>
                <a:latin typeface="Arial"/>
              </a:rPr>
              <a:t>КТО ГОВОРИТ, ЧТО НА ВОЙНЕ НЕСТРАШНО,</a:t>
            </a:r>
            <a:endParaRPr b="0" lang="en-US" sz="3200" spc="1" strike="noStrike">
              <a:ln w="9360">
                <a:solidFill>
                  <a:srgbClr val="ff0066"/>
                </a:solidFill>
                <a:miter/>
              </a:ln>
              <a:solidFill>
                <a:srgbClr val="993366">
                  <a:alpha val="93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993366">
                    <a:alpha val="93000"/>
                  </a:srgbClr>
                </a:solidFill>
                <a:latin typeface="Arial"/>
              </a:rPr>
              <a:t>ТОТ НИЧЕГО НЕ ЗНАЕТ О ВОЙНЕ</a:t>
            </a:r>
            <a:endParaRPr b="0" lang="en-US" sz="3200" spc="1" strike="noStrike">
              <a:ln w="9360">
                <a:solidFill>
                  <a:srgbClr val="ff0066"/>
                </a:solidFill>
                <a:miter/>
              </a:ln>
              <a:solidFill>
                <a:srgbClr val="993366">
                  <a:alpha val="93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177" name="Picture 8" descr="1"/>
          <p:cNvPicPr/>
          <p:nvPr/>
        </p:nvPicPr>
        <p:blipFill>
          <a:blip r:embed="rId1"/>
          <a:stretch/>
        </p:blipFill>
        <p:spPr>
          <a:xfrm>
            <a:off x="5003640" y="1916280"/>
            <a:ext cx="3889440" cy="46083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"/>
          <p:cNvSpPr/>
          <p:nvPr/>
        </p:nvSpPr>
        <p:spPr>
          <a:xfrm>
            <a:off x="5292720" y="615636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МНЕ БЫ ТОЛЬКО ВО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ЭТУ ГРАНАТУ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2276640"/>
            <a:ext cx="4176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ИСЬМО И КАРТОЧКА В КОНВЕРТЕ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ПИСАН ЧЁТКО АДРЕС ТВО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БЯЗАН БЫТЬ ГОТОВЫМ К СМЕР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ОЛДАТ, НЕ РАЗ ХОДИВШИЙ В БО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Ы ЗДЕСЬ ПРИВЫКЛИ К ЭТОЙ МЫ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, ЖАЖДУ ЖИЗНИ ЗАТАЯ, ВИСИМ НА ШАТКОМ КОРОМЫСЛ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 САМОЙ ГРАНИ БЫТИЯ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УСТЬ НЕЛЕГКО НАМ, НУ ТАК ЧТО ЖЕ, К НАМ ВЕК ТРЕВОЖНЫЙ НАШ РЕВНИ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Ы ЧИЩЕ СДЕЛАЛИСЬ И СТРОЖЕ, ВСЁ СУЕТНОЕ ОТСТРАНИ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.РЫЛЕН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WordArt 5"/>
          <p:cNvSpPr txBox="1"/>
          <p:nvPr/>
        </p:nvSpPr>
        <p:spPr>
          <a:xfrm>
            <a:off x="539640" y="476280"/>
            <a:ext cx="81583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Ы ЗДЕСЬ В ГЛАЗА ГЛЯДЕЛИ СМЕРТИ,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И МЫ НЕ ОПУСТИЛИ ГЛАЗ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81" name="Picture 14" descr="img2"/>
          <p:cNvPicPr/>
          <p:nvPr/>
        </p:nvPicPr>
        <p:blipFill>
          <a:blip r:embed="rId5"/>
          <a:stretch/>
        </p:blipFill>
        <p:spPr>
          <a:xfrm>
            <a:off x="4500720" y="1989000"/>
            <a:ext cx="446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427280" y="1773000"/>
            <a:ext cx="4392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«</a:t>
            </a: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ЧТОБ СТАТЬ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МУЖЧИНОЙ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МАЛО ИМ РОДИТЬС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«</a:t>
            </a: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ЕСТЬ МУЖЕСТВО, ДОСТУПНОЕ НЕМНОГИМ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69696"/>
                </a:solidFill>
                <a:uFillTx/>
                <a:latin typeface="Times New Roman"/>
              </a:rPr>
              <a:t>«ВЫСОТ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У КАЖДОГО ЕСТЬ В ЖИЗНИ ВЫСОТ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КОТОРУЮ ОН ДОЛЖЕН ВЗЯТЬ КОГДА-Т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А ЕСЛИ ПО ДОРОГЕ МЫ УМРЁ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СВОЕЮ СМЕРТЬЮ РАЗРЫВАЯ ДОТ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ТО ПУСТЬ НАС ПОХОРОНЯТ НА ВЫСОТА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КОТОРЫЕ МЫ ВСЁ-ТАКИ БЕРЁ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1403280" y="836640"/>
            <a:ext cx="58294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cc0066">
                    <a:alpha val="99000"/>
                  </a:srgbClr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УЖЧИНЫ УМИРАЮТ, ЕСЛИ НУЖНО,</a:t>
            </a:r>
            <a:endParaRPr b="1" lang="en-US" sz="2800" spc="1" strike="noStrike">
              <a:ln w="19080">
                <a:solidFill>
                  <a:srgbClr val="ff0066"/>
                </a:solidFill>
                <a:miter/>
              </a:ln>
              <a:solidFill>
                <a:srgbClr val="cc0066">
                  <a:alpha val="99000"/>
                </a:srgbClr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cc0066">
                    <a:alpha val="99000"/>
                  </a:srgbClr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 ПОТОМУ ЖИВУТ В ВЕКАХ ОНИ</a:t>
            </a:r>
            <a:endParaRPr b="1" lang="en-US" sz="2800" spc="1" strike="noStrike">
              <a:ln w="19080">
                <a:solidFill>
                  <a:srgbClr val="ff0066"/>
                </a:solidFill>
                <a:miter/>
              </a:ln>
              <a:solidFill>
                <a:srgbClr val="cc0066">
                  <a:alpha val="99000"/>
                </a:srgbClr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4" name="Picture 10" descr="львов"/>
          <p:cNvPicPr/>
          <p:nvPr/>
        </p:nvPicPr>
        <p:blipFill>
          <a:blip r:embed="rId1"/>
          <a:stretch/>
        </p:blipFill>
        <p:spPr>
          <a:xfrm>
            <a:off x="611280" y="2060640"/>
            <a:ext cx="3286080" cy="424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1"/>
          <p:cNvSpPr/>
          <p:nvPr/>
        </p:nvSpPr>
        <p:spPr>
          <a:xfrm>
            <a:off x="684360" y="630864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.ЛЬВ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439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ЭЗИЯ БЫЛА НЕИЗМЕННЫМ ДОВЕРЕННЫМ ДУШИ ВОИНА, РАЗДУВАЯ В ЕГО СЕРДЦЕ НЕУГАСИМЫЙ ОГОНЬ ЛЮБВИ К ОТЕЧЕСТВУ И ИСПЕПЕЛЯЮЩУЮ НЕНАВИСТЬ К ЕЁ ВРАГ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УЧШЕ ПРИЙТИ С ПУСТЫМ РУКАВОМ, ЧЕМ С ПУСТОЙ ДУШ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WordArt 7"/>
          <p:cNvSpPr txBox="1"/>
          <p:nvPr/>
        </p:nvSpPr>
        <p:spPr>
          <a:xfrm>
            <a:off x="1403280" y="-171360"/>
            <a:ext cx="655344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ЭЗИЯ - ДОВЕРЕННЫЙ ДУШИ</a:t>
            </a:r>
            <a:endParaRPr b="1" lang="en-US" sz="3200" spc="1" strike="noStrike">
              <a:ln w="19080">
                <a:solidFill>
                  <a:srgbClr val="ffcc99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8" name="Picture 8" descr="post-8232-1243071264"/>
          <p:cNvPicPr/>
          <p:nvPr/>
        </p:nvPicPr>
        <p:blipFill>
          <a:blip r:embed="rId1"/>
          <a:stretch/>
        </p:blipFill>
        <p:spPr>
          <a:xfrm>
            <a:off x="5148360" y="1989000"/>
            <a:ext cx="3671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4"/>
          <p:cNvSpPr txBox="1"/>
          <p:nvPr/>
        </p:nvSpPr>
        <p:spPr>
          <a:xfrm>
            <a:off x="3024360" y="3075120"/>
            <a:ext cx="30952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4800" spc="1" strike="noStrike">
              <a:ln w="1260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10"/>
          <p:cNvSpPr txBox="1"/>
          <p:nvPr/>
        </p:nvSpPr>
        <p:spPr>
          <a:xfrm>
            <a:off x="1476360" y="260280"/>
            <a:ext cx="712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ЙНА - ЖЕСТОЧЕ НЕТУ СЛОВ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324000" y="206064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179280" y="2133720"/>
            <a:ext cx="3456000" cy="49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а этом уроке вы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ознакомитесь с поэзией периода Великой Отечественной войны,  многообразием её тем; узнаете, что своё назначение поэты видели в служении Отечеству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АМ БЫЛО ВСЁ ОТПУЩЕНО СВЕРХ НОРМ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ЛЮБОВЬ, И ГНЕВ, И МУЖЕСТВО В БО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.Рылен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4284720" y="2637000"/>
            <a:ext cx="431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ВОЙНА – ПЕЧАЛЬНЕЙ НЕТУ</a:t>
            </a:r>
            <a:r>
              <a:rPr b="1" i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СЛОВ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ВОЙНА – СВЯТЕЕ НЕТУ СЛО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В ТОСКЕ И СЛАВЕ ЭТИХ ЛЕТ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И НА УСТАХ У НАС И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ЕЩЁ НЕ МОЖЕТ БЫТЬ И Н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ТВАРДОВСКИЙ А.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7"/>
          <p:cNvSpPr txBox="1"/>
          <p:nvPr/>
        </p:nvSpPr>
        <p:spPr>
          <a:xfrm>
            <a:off x="1547640" y="260280"/>
            <a:ext cx="6985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2 ИЮНЯ 1941 ГОДА...ВОЙНА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0" name="Picture 8" descr="родина-мать"/>
          <p:cNvPicPr/>
          <p:nvPr/>
        </p:nvPicPr>
        <p:blipFill>
          <a:blip r:embed="rId1"/>
          <a:stretch/>
        </p:blipFill>
        <p:spPr>
          <a:xfrm>
            <a:off x="250920" y="2033640"/>
            <a:ext cx="3529080" cy="4635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4356000" y="1844640"/>
            <a:ext cx="460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шается судьба страны,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арода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первые в истории было опровергнуто суждение о том, что когда говорят пушки, музы молчат. Война стала для литераторов «не материалом для книг, а судьбой – народа и их собственной». С первых дней они почувствовали себя «мобилизованными и призванными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84360" y="549360"/>
            <a:ext cx="78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ИРИКА СТАЛА ВТОРЫМ ОТКРЫТИЕМ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Ы ВОЙНЫ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8" descr="ee37eb90a28ba4ca9bf21832245"/>
          <p:cNvPicPr/>
          <p:nvPr/>
        </p:nvPicPr>
        <p:blipFill>
          <a:blip r:embed="rId1"/>
          <a:stretch/>
        </p:blipFill>
        <p:spPr>
          <a:xfrm>
            <a:off x="324000" y="1989000"/>
            <a:ext cx="3951000" cy="4653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4643280" y="1844640"/>
            <a:ext cx="4249800" cy="484884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тихи первых нед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ЕЛЬ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ойны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розная речь, открытая публицистика, но чем дальше, тем исповедальней, лиричнее они становя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Лирика умеет говорить всеми голосами человеческого сердца. Она вселяет в людей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адежду и яри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Т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енависть к враг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1871640" y="404640"/>
            <a:ext cx="6067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 ТЫ ПОМНИШЬ, АЛЁША,</a:t>
            </a:r>
            <a:endParaRPr b="1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РОГИ СМОЛЕНЩИНЫ..."</a:t>
            </a:r>
            <a:endParaRPr b="1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Picture 8" descr="симонов"/>
          <p:cNvPicPr/>
          <p:nvPr/>
        </p:nvPicPr>
        <p:blipFill>
          <a:blip r:embed="rId1"/>
          <a:stretch/>
        </p:blipFill>
        <p:spPr>
          <a:xfrm>
            <a:off x="130320" y="1844640"/>
            <a:ext cx="3649680" cy="4608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468360" y="649116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0" y="649116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. СИМОН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780000" y="1413000"/>
            <a:ext cx="504000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тихотворение адресовано другу 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товарищу по литературной судьбе А.А.Сурков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Торжественный пафос соединяется с тонким лиризм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с пули с тобой пока ещё милуют, но трижды поверив, что жизнь уже вся, я всё -таки горд был за самую милую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, З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русскую землю, где я родил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оэтично, с душевной болью воспевает поэт родную природу, деревн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Чувство надежды, вера и любовь к Отчизне не покидают ег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3319560" y="476280"/>
            <a:ext cx="3197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ЖДИ  МЕНЯ"</a:t>
            </a:r>
            <a:endParaRPr b="1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859280" y="1844640"/>
            <a:ext cx="4033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СТИХОТВОРЕНИЕ ПРОНИЗАНО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ГЛУБОКИМ ЛИРИЗМОМ.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ОБРАЩЁННОЕ АВТОРОМ К КОНКРЕТНОЙ ЖЕНЩИНЕ – АКТРИСЕ В.СЕРОВОЙ, ОНО СТАЛО ИСПОВЕДАЛЬНЫМ ПОСЛАНИЕМ ВСЕХ ЛЮБЯЩИХ КО ВСЕМ ЛЮБИМЫМ. ВОТ ПОЧЕМУ ПОЭТ ЗАКЛИНАЕТ ДОРОГУЮ ДЛЯ НЕГО ЖЕНЩИНУ ЖДАТЬ ЕГО , НЕСМОТРЯ НИ НА ЧТО, И ОБЕЩАЕТ ЕЙ ВЕРНУТЬСЯ «ВСЕМ СМЕРТЯМ НАЗЛО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9" descr="serova"/>
          <p:cNvPicPr/>
          <p:nvPr/>
        </p:nvPicPr>
        <p:blipFill>
          <a:blip r:embed="rId1"/>
          <a:stretch/>
        </p:blipFill>
        <p:spPr>
          <a:xfrm>
            <a:off x="755640" y="1844640"/>
            <a:ext cx="342756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468360" y="476280"/>
            <a:ext cx="835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>
                    <a:alpha val="99000"/>
                  </a:srgbClr>
                </a:solidFill>
                <a:latin typeface="Times New Roman"/>
              </a:rPr>
              <a:t>ПЕРО БЫЛО ПРИРАВНЕНО К ШТЫКУ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>
                  <a:alpha val="99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39640" y="2492280"/>
            <a:ext cx="82803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ИЗ ОБРАЩЕНИЯ БЕЛОРУССКИХ ПАРТИЗАН 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ВОЕМУ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КОМАНДОВАНИЮ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«ПРИШЛИТЕ ПЕСНЮ. ОРУЖИЕ МОЖНО ОТНЯТЬ У ВРАГА. ПЕСНЮ У ВРАГА НЕ ОТНИМЕШЬ. ПРИШЛИТЕ ПЕСНЮ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3760" y="1844640"/>
            <a:ext cx="3809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СПОКОН ВЕКОВ ШЛА БОК О БОК С ЧЕЛОВЕКОМ ПЕСНЯ: ПРАЗДНОВАЛА СВАДЬБЫ И РОЖДЕНИЯ, ОБЪЯСНЯЛАСЬ В ЛЮБВИ, МЁРЗЛА У КОСТРОВ В ДАЛЬНЕМ ПОХОДЕ, НЕ СДАВАЛАСЬ НА МИЛОСТЬ ВРАГУ, ЗАЩИЩАЛА ЗЕМЛЮ РУССКУЮ И РУССКУЮ ЧЕ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ЕРВЫМИ ПЕСНЯМИ ВЕЛИКОЙ ОТЕЧЕСТВЕННОЙ ВОЙНЫ БЫЛИ «СВЯЩЕННАЯ ВОЙНА», «ПЕСНЯ СМЕЛЫХ», «ДО СВИДАНЬЯ, ГОРОДА И ХАТЫ. В НИХ СОЕДИНИЛИСЬ ГОРЕЧЬ И ГОРДОСТЬ, ГЕРОИКА И ЛИР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WordArt 4"/>
          <p:cNvSpPr txBox="1"/>
          <p:nvPr/>
        </p:nvSpPr>
        <p:spPr>
          <a:xfrm>
            <a:off x="900000" y="189000"/>
            <a:ext cx="824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>
                    <a:alpha val="98000"/>
                  </a:srgbClr>
                </a:solidFill>
                <a:latin typeface="Times New Roman"/>
              </a:rPr>
              <a:t>ВОЕННОЙ ПЕСНИ НЕГАСИМЫЙ СВЕТ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>
                  <a:alpha val="98000"/>
                </a:srgbClr>
              </a:solidFill>
              <a:latin typeface="Times New Roman"/>
              <a:ea typeface="Times New Roman"/>
            </a:endParaRPr>
          </a:p>
        </p:txBody>
      </p:sp>
      <p:pic>
        <p:nvPicPr>
          <p:cNvPr id="147" name="Picture 10" descr="img1"/>
          <p:cNvPicPr/>
          <p:nvPr/>
        </p:nvPicPr>
        <p:blipFill>
          <a:blip r:embed="rId1"/>
          <a:stretch/>
        </p:blipFill>
        <p:spPr>
          <a:xfrm>
            <a:off x="395280" y="2276640"/>
            <a:ext cx="460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07600" y="2349360"/>
            <a:ext cx="84567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НАЖДЫ НА ФРОНТЕ К Е.ДОЛМАТОВСКОМ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ОШЁЛ МОЛОДОЙ ЛЕЙТЕНАНТ И РАССКАЗАЛ СВОЮ ИСТОРИЮ: ПЕРЕД ОТПРАВКОЙ НА ПЕРЕДОВУЮ ОН ВТРЕТИЛ   ДЕВУШКУ, НО ВСТРЕЧА БЫЛА СТОЛЬ КОРОТКОЙ, ЧТО ЛЕЙТЕНАНТ НЕ УСПЕЛ УЗНАТЬ ДАЖЕ ЕЁ ИМЕНИ. ОН ПОПРОСИЛ ПОЭТА НАПИСАТЬ ОБ ЭТОМ В НАДЕЖДЕ, ЧТО ДЕВУШКА УСЛЫШИТ И ОТЗОВЁТСЯ. СТИХИ БЫЛИ НАПИСАНЫ, М. ФРАДКИН ПОЛОЖИЛ ИХ НА МУЗЫКУ. ДЕВУШКА УСЛЫШАЛА ПЕСНЮ, ОДНАКО БЫЛО УЖЕ ПОЗДНО: В ОДНОМ ИЗ БОЁВ НАШ ГЕРОЙ ПОГИ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2050920" y="0"/>
            <a:ext cx="5616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latin typeface="Times New Roman"/>
              </a:rPr>
              <a:t>"СЛУЧАЙНЫЙ ВАЛЬС"</a:t>
            </a:r>
            <a:endParaRPr b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cc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7:54:59Z</dcterms:created>
  <dc:creator>XP GAME 2008</dc:creator>
  <dc:description/>
  <dc:language>en-US</dc:language>
  <cp:lastModifiedBy>Admin</cp:lastModifiedBy>
  <dcterms:modified xsi:type="dcterms:W3CDTF">2014-05-29T16:39:07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