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7C3-DF77-458E-83FB-7AA14E86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5E5-4414-427E-B55E-475A99A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12116-A86D-46E4-868E-259F1A4D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E95A8-7647-4034-94E0-B977F065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8300F-ADD7-4E5A-9D5C-1AD3EB48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41396-51F8-4783-959C-D2DF172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AB10F-12E5-49AB-A3E1-6AD449D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369C6-D0EE-4B30-93BF-86EAAC3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CD62-BC35-4EE6-A413-611A30D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3D706-EE11-44EF-995E-5BB369B2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7FC4-D091-437C-AFD0-80B51D05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1FD-713F-42B7-9668-FFE68A8D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B01-D43F-4A01-B626-080A76F8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61E1-6463-4780-A266-E7A0753B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AF61-6354-482E-80AB-BC49D43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C7F6-0874-46C3-9854-BBC2F6A3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62B-6FAC-414C-860B-2B3B028A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52F-0CDF-4C8B-9D78-E82D9C42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2605-67A0-4F31-A641-AB422549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D579-46E9-4551-AB45-1202528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0A8-0F77-4555-8450-15AE5066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5116-18A7-487F-A7EC-DF0A8E2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970C-2ED5-4B6D-B495-394265A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2630-4E78-4FDE-BFE6-917D371E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DDA9-F7B6-4D17-9788-15BC32F9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9ED9-33C0-4294-AE4F-FDAEB8E6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6AC1-DCB6-445D-999A-A7633175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C7E4-C847-4AA2-865F-21C25E1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41B7-4858-4BFA-83FB-583F39FD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C349-F863-4012-BC17-8997AB8C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4C22-CD22-4D9A-A352-15324CC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61E-18F4-414A-8B97-89E01B7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1FD5-0E71-4B28-9887-29F42333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DAD6-B2AE-472D-84C9-2624C352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93CA-1E92-4F6F-A75C-79F6E2E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E49F-6B22-4F3A-8B42-6D5AA73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9537-F3C4-4D73-B7A8-D615C925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7181-E06E-444D-AF7E-95AE3483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739B-494E-46B9-9691-31E94019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483A0-B179-4384-92A4-B5F0B38A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22F22-83EB-435D-9C84-43B17D2C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6F09-BF0F-4CB7-B78F-DA15665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3B9-A582-487D-8333-D79C157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A7E6-87D5-4A25-B9B4-2399CAAA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0453-ECE9-4CFF-A4A1-F9E350B2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67C0-D4CC-43D2-B18D-23DEB96A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93AE-44E8-4773-9AC6-15D0FF34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A15A-9F9E-4058-B78C-3ED9200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77CD-BE46-4A5E-825E-8D39E7A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1708-341A-473C-AF37-B65E8CA0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F5FE-70CD-4434-A17C-7015B0C3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4BF1-DB42-40D9-8F16-F84C50A9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F481-5ED3-4813-BE6D-C0C00B30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859-A7C6-4F4A-850A-29EFC2F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B80B-4717-49A7-9277-E11C2448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93967-19BB-4F88-AA97-3FBBB4A6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8F943-A3E1-4614-B4A3-ECF01F91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763B9-486E-4071-8455-0D83E85A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EEA2-CB32-4169-9822-C85C18ED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29C4-74F5-46B2-A65F-22D816A5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0DD46-6DEF-44B9-9855-AF73861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9A1D-6318-4D6F-92AB-F9A6587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62D3-30EF-49E3-BEDC-4A3AFACC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7153-332D-4F53-89F0-76F814AB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238-0C32-477D-A2A2-B7EA40B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F5E83-8626-45AE-95E9-8C4FDC70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E5DB-E408-45CF-BDEB-BEF5A04D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834F8-D05E-4755-A0E8-5E18B00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1146-DCEB-40CE-AB07-AECD6254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73E4-5036-4879-BB1B-17CD3D9D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F196A-A88C-4F41-8B4F-D8FF9254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9032-539F-4D22-9BE5-D9D7FAA6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3241B-C152-4B08-9D4D-93B4B78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DD89-E1DD-4161-A0C3-680EAFB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85CEF-EDBF-4273-B2C1-0078422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E7-6FEC-43D6-B43A-04EE605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E34F-29A6-484A-AFAF-C9A91AE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34F3-7897-427B-97D6-3A629350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B095D-153A-4CCC-911C-A038A824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AC00-5095-42D2-A1CD-A4E481AD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93C4-A697-4484-94E2-77F9148C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DCAD-B77C-452A-8224-0FB3D076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7C0B-AC45-4BEA-AB8C-438BD0E6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3DB92-6C1C-4795-8817-180688E0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7A65-E52D-4FF7-B100-987C4D4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AE9B-C680-45B7-BBB8-7234415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657-F1F6-43C0-90E7-6879831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4E415-5760-47C7-9F5E-59FBECBA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4EB8-F39F-47C5-9989-3077716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4CD6-65C2-4276-ACD4-271D5E7A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54415-98C1-4876-8AD8-8A75FCCB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4B52-962A-40FC-BC5D-9B70B51A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22E6-B349-4ED2-B73E-6F4D35EC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317BE-9368-4B88-9AF9-056DD17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2070-E1BC-4013-AFCC-C90E174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1CEB-8F2C-4876-8383-5C32B104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465C2-47DB-42A6-A090-E2404E77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A26-0A09-4B70-89B1-C3FA1928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3339-A703-4580-9255-4C80F6F1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8615-8FEE-4CA5-8501-A92A96CE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917F2-5661-4929-A26F-CC9533E9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B4803-9549-4F95-9888-9331319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E5748-625A-4FAC-86FD-33E405CC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2216F-1B95-412B-98A7-B983C823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38CE-9BF2-4CE5-A4A5-9AC44618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5DC85-BED1-4D32-B2F0-C240FD58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53B20-DFF8-4E41-982E-AE55DAC9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D6DB6-BF0C-4FE8-97DE-D44B2D6F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5407-EDCD-4CDC-AD17-C02E727214E1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F582-6927-4D92-AD76-30E089CFA2D9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5FB2-15D1-4FB2-8227-818CD65A41E6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4818-46BC-4A38-9DFD-B8B361D1FA16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392C-F3C4-494E-94D2-6780C38E8946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719D-B162-42AF-AE4B-CC30095D09C1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F779-0014-4AC0-A430-630595B6D216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8D5A-46D4-4871-9DE7-A46FC0D65AF9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B769-AFE1-440A-A343-9ADAFC9F897A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ffcc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1980720"/>
            <a:ext cx="889308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       </a:t>
            </a: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Второстепенные члены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             </a:t>
            </a: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предложения.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                                     </a:t>
            </a:r>
            <a:r>
              <a:rPr b="0" lang="ru-RU" sz="2400" spc="-1" strike="noStrike">
                <a:solidFill>
                  <a:srgbClr val="0033cc"/>
                </a:solidFill>
                <a:latin typeface="Corbe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1c1c1c"/>
                </a:solidFill>
                <a:latin typeface="Corbel"/>
              </a:rPr>
              <a:t>Несогласованные определения выражаются существительными с предлогами и без предлогов.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  Климат в Санк- Петербурге неважный, сырой. сравнительной степенью прилагательного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Я не видел реки великлепнее Енисея. Инфинитвом: Бесконечна возможность познавать себя. </a:t>
            </a:r>
            <a:r>
              <a:rPr b="0" lang="ru-RU" sz="2400" spc="-1" strike="noStrike">
                <a:solidFill>
                  <a:srgbClr val="1c1c1c"/>
                </a:solidFill>
                <a:latin typeface="Corbel"/>
              </a:rPr>
              <a:t>Несогласованные опред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еления обычно стоят посл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пределяемых сл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971640" y="620640"/>
            <a:ext cx="71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согласованные предложения.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бстоятельство- второстепенный член предложения, который обозначает место, время, причину, образ действ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и т.д. и отвечают на вопросы гд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когда? почему? как? и д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бстоятельство обычно выражается наречиями и существительными с пред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логами и чаще всего зависят от сказуем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Над рекой(где?)опустился туман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2124000" y="47628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бстоятельство.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8893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Чтобы определить вид второсте-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пенного члена предложения, нужно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найти слово, от которого этот второстепен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ный член зависи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выяснить, что он обозначае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на какой вопрос отвечае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какой частью речи выражен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1503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99ccff"/>
                </a:solidFill>
                <a:latin typeface="Monotype Corsiva"/>
              </a:rPr>
              <a:t>По значению,которое выясняется</a:t>
            </a:r>
            <a:br>
              <a:rPr sz="4000"/>
            </a:br>
            <a:r>
              <a:rPr b="0" lang="tt-RU" sz="4000" spc="-1" strike="noStrike">
                <a:solidFill>
                  <a:srgbClr val="99ccff"/>
                </a:solidFill>
                <a:latin typeface="Monotype Corsiva"/>
              </a:rPr>
              <a:t>вопросами,обстоятел</a:t>
            </a:r>
            <a:r>
              <a:rPr b="0" lang="ru-RU" sz="4000" spc="-1" strike="noStrike">
                <a:solidFill>
                  <a:srgbClr val="99ccff"/>
                </a:solidFill>
                <a:latin typeface="Monotype Corsiva"/>
              </a:rPr>
              <a:t>ь</a:t>
            </a:r>
            <a:r>
              <a:rPr b="0" lang="tt-RU" sz="4000" spc="-1" strike="noStrike">
                <a:solidFill>
                  <a:srgbClr val="99ccff"/>
                </a:solidFill>
                <a:latin typeface="Monotype Corsiva"/>
              </a:rPr>
              <a:t>ства делятся на следующие основные вид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1916280"/>
            <a:ext cx="9144000" cy="46814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1.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Места. вопросы: где? куда? откуд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 С горы бежит поток провор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2.Времени. вопросы: когда? с каких по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От восхода до заката жизнью улицы кипя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3.Причины. вопросы: почему ?отчег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От жары и духоты книзу клонятся цве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4.Образа действия и степени вопросы: как? каким образом? в какой степени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Снег </a:t>
            </a:r>
            <a:br>
              <a:rPr sz="3200"/>
            </a:b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адал меделенно и бесшумно.</a:t>
            </a:r>
            <a:br>
              <a:rPr sz="3200"/>
            </a:b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5.Сравнения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как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За печкой тикал, как ходики, сверчок.</a:t>
            </a:r>
            <a:br>
              <a:rPr sz="3200"/>
            </a:b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6.Цели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зачем? Для чего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Ягнёнок в жаркий день зашел к ручью напиться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3640" y="6858000"/>
            <a:ext cx="1810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7.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Условия</a:t>
            </a: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при каком условии?</a:t>
            </a:r>
            <a:br>
              <a:rPr sz="3200"/>
            </a:b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Чуден Днепр при тихой погоде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1988640"/>
            <a:ext cx="93963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8.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Уступки</a:t>
            </a: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несмотря на что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</a:t>
            </a:r>
            <a:r>
              <a:rPr b="1" i="1" lang="ru-RU" sz="2400" spc="-1" strike="noStrike">
                <a:solidFill>
                  <a:srgbClr val="1c1c1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В домах, несмотря на ранни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час, горели ламп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В начале предложения могут стоять обстоятельства места и времени, ес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они устанавливают для всего сооб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остранственные и временные рам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В степи за хутором стыла прзрачная тиш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2063880" y="1298520"/>
            <a:ext cx="5016240" cy="38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Organization Chart 7"/>
          <p:cNvGrpSpPr/>
          <p:nvPr/>
        </p:nvGrpSpPr>
        <p:grpSpPr>
          <a:xfrm>
            <a:off x="685800" y="1981080"/>
            <a:ext cx="7771680" cy="4113360"/>
            <a:chOff x="685800" y="1981080"/>
            <a:chExt cx="7771680" cy="4113360"/>
          </a:xfrm>
        </p:grpSpPr>
        <p:cxnSp>
          <p:nvCxnSpPr>
            <p:cNvPr id="417" name="_s1028"/>
            <p:cNvCxnSpPr>
              <a:stCxn id="418" idx="0"/>
              <a:endCxn id="419" idx="2"/>
            </p:cNvCxnSpPr>
            <p:nvPr/>
          </p:nvCxnSpPr>
          <p:spPr>
            <a:xfrm flipV="1" rot="16200000">
              <a:off x="5519880" y="2676600"/>
              <a:ext cx="823320" cy="2720880"/>
            </a:xfrm>
            <a:prstGeom prst="bentConnector3">
              <a:avLst>
                <a:gd name="adj1" fmla="val 94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0" name="_s1029"/>
            <p:cNvCxnSpPr>
              <a:stCxn id="421" idx="0"/>
              <a:endCxn id="419" idx="2"/>
            </p:cNvCxnSpPr>
            <p:nvPr/>
          </p:nvCxnSpPr>
          <p:spPr>
            <a:xfrm flipV="1">
              <a:off x="4571640" y="3625560"/>
              <a:ext cx="360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2" name="_s1030"/>
            <p:cNvCxnSpPr>
              <a:stCxn id="423" idx="0"/>
              <a:endCxn id="419" idx="2"/>
            </p:cNvCxnSpPr>
            <p:nvPr/>
          </p:nvCxnSpPr>
          <p:spPr>
            <a:xfrm flipH="1" flipV="1" rot="5400000">
              <a:off x="2800080" y="2676960"/>
              <a:ext cx="823320" cy="2720880"/>
            </a:xfrm>
            <a:prstGeom prst="bentConnector3">
              <a:avLst>
                <a:gd name="adj1" fmla="val 94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9" name="_s1031"/>
            <p:cNvSpPr/>
            <p:nvPr/>
          </p:nvSpPr>
          <p:spPr>
            <a:xfrm>
              <a:off x="3405960" y="19810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3399"/>
                  </a:solidFill>
                  <a:latin typeface="Arial Black"/>
                </a:rPr>
                <a:t>Второстепенные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3399"/>
                  </a:solidFill>
                  <a:latin typeface="Arial Black"/>
                </a:rPr>
                <a:t> </a:t>
              </a:r>
              <a:r>
                <a:rPr b="0" lang="en-US" sz="2100" spc="-1" strike="noStrike">
                  <a:solidFill>
                    <a:srgbClr val="ff3399"/>
                  </a:solidFill>
                  <a:latin typeface="Arial Black"/>
                </a:rPr>
                <a:t>члены предложения</a:t>
              </a: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18" name="_s1032"/>
            <p:cNvSpPr/>
            <p:nvPr/>
          </p:nvSpPr>
          <p:spPr>
            <a:xfrm>
              <a:off x="612612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Определение</a:t>
              </a:r>
              <a:r>
                <a:rPr b="0" lang="en-US" sz="2100" spc="-1" strike="noStrike">
                  <a:solidFill>
                    <a:srgbClr val="00ff00"/>
                  </a:solidFill>
                  <a:latin typeface="Arial Black"/>
                </a:rPr>
                <a:t>.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23" name="_s1033"/>
            <p:cNvSpPr/>
            <p:nvPr/>
          </p:nvSpPr>
          <p:spPr>
            <a:xfrm>
              <a:off x="68580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Дополнение.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>
              <a:off x="340596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Обстоятельство.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3399"/>
                </a:solidFill>
                <a:latin typeface="Corbel"/>
              </a:rPr>
              <a:t>        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Дополнение второстепенный член предложения, который обозначае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едмет и отвечает на вопросы косвенных падежей: кого?(чего?)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кому?(чему?)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Дополнения выражаются существитель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и местоимениями и чаще всего завися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т сказуем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Старик ловил (чем?) неводом (что?) рыб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WordArt 18"/>
          <p:cNvSpPr txBox="1"/>
          <p:nvPr/>
        </p:nvSpPr>
        <p:spPr>
          <a:xfrm>
            <a:off x="2411280" y="54936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полнение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755280" y="19890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1.предмет,на который распространяет-ся действие: писать письмо, выбрать профессию, стирать бельё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2.предмет,в пользу которого совершает-ся действие: принести брату, написать матери, подарить сестре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3.Орудие или средство действия: писать фломастером, рубить топо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WordArt 31"/>
          <p:cNvSpPr txBox="1"/>
          <p:nvPr/>
        </p:nvSpPr>
        <p:spPr>
          <a:xfrm>
            <a:off x="539640" y="47628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полнение может обозначать: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528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4.Предмет для сравнения: выше Казбека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Быстрее ветра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5.лицо,которое испытывает то или иное состояние: мне нездоровится, ему груст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6.предмет,на который распространяется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остояние: жалеть собак, жаль срубленну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берёзу, нужно книгу и т 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Дополнение может быть выражено теми     же частями речи, что и подлежащее, та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как и подлежащее, и дополнение  обозна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чают предме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    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ложение- определение, выраженное существительным, которое даёт другое название, характеризующее прдм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ложение может давать характеристику предмета, указывать на степень родст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национальность, звание, профессию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белые чайки-рыболовы с криком но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ились над море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2556000" y="549360"/>
            <a:ext cx="43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ложение.</a:t>
            </a:r>
            <a:endParaRPr b="1" lang="en-US" sz="96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пределение -второстепенный член предложения, который обозначает признак предмета и отвечает на вопросы какой? чей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пределения обычно выражается прилагательными и местоимениями и зависят от членов предложений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выраженных существительны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Наша (чья?)дорога вывела нас 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(какую?)широкую полян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WordArt 5"/>
          <p:cNvSpPr txBox="1"/>
          <p:nvPr/>
        </p:nvSpPr>
        <p:spPr>
          <a:xfrm>
            <a:off x="1476360" y="260280"/>
            <a:ext cx="532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.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tt-RU" sz="2800" spc="-1" strike="noStrike">
                <a:solidFill>
                  <a:srgbClr val="ff3399"/>
                </a:solidFill>
                <a:latin typeface="Corbel"/>
              </a:rPr>
              <a:t>        </a:t>
            </a:r>
            <a:r>
              <a:rPr b="0" lang="tt-RU" sz="5400" spc="-1" strike="noStrike">
                <a:solidFill>
                  <a:srgbClr val="ff3399"/>
                </a:solidFill>
                <a:latin typeface="Corbel"/>
              </a:rPr>
              <a:t>П</a:t>
            </a: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о способу выражения            </a:t>
            </a:r>
            <a:br>
              <a:rPr sz="5400"/>
            </a:b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  определение делятся на       </a:t>
            </a:r>
            <a:br>
              <a:rPr sz="5400"/>
            </a:b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  </a:t>
            </a:r>
            <a:r>
              <a:rPr b="0" lang="ru-RU" sz="5400" spc="-1" strike="noStrike">
                <a:solidFill>
                  <a:srgbClr val="33cccc"/>
                </a:solidFill>
                <a:latin typeface="Corbel"/>
              </a:rPr>
              <a:t>согласованные </a:t>
            </a: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и </a:t>
            </a:r>
            <a:r>
              <a:rPr b="0" lang="ru-RU" sz="5400" spc="-1" strike="noStrike">
                <a:solidFill>
                  <a:srgbClr val="33cccc"/>
                </a:solidFill>
                <a:latin typeface="Corbel"/>
              </a:rPr>
              <a:t>несогла-               </a:t>
            </a:r>
            <a:br>
              <a:rPr sz="5400"/>
            </a:br>
            <a:r>
              <a:rPr b="0" lang="ru-RU" sz="5400" spc="-1" strike="noStrike">
                <a:solidFill>
                  <a:srgbClr val="33cccc"/>
                </a:solidFill>
                <a:latin typeface="Corbel"/>
              </a:rPr>
              <a:t>           сованные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 rot="10800000">
            <a:off x="9325080" y="7173360"/>
            <a:ext cx="1079280" cy="502920"/>
          </a:xfrm>
          <a:prstGeom prst="rect">
            <a:avLst/>
          </a:prstGeom>
          <a:noFill/>
          <a:ln w="9360">
            <a:solidFill>
              <a:srgbClr val="4f271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Corbe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огласованные определения выражаю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лагательными, причастиями, числитель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ными, которые согласуются  с определяем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ловом в роде, числе и падеже. Пример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(чья?)Наша (какая?)кочевая дорога вьё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(сколькими?)двумя колеями. Согласов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ные определения обычно стоят перед определительными слов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WordArt 6"/>
          <p:cNvSpPr txBox="1"/>
          <p:nvPr/>
        </p:nvSpPr>
        <p:spPr>
          <a:xfrm>
            <a:off x="1187280" y="476280"/>
            <a:ext cx="64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891a7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гласованные определения.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3891a7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3:28:26Z</dcterms:created>
  <dc:creator>Энже и Раиля</dc:creator>
  <dc:description/>
  <dc:language>en-US</dc:language>
  <cp:lastModifiedBy>Пользователь</cp:lastModifiedBy>
  <dcterms:modified xsi:type="dcterms:W3CDTF">2018-11-27T13:34:39Z</dcterms:modified>
  <cp:revision>18</cp:revision>
  <dc:subject/>
  <dc:title>Второстепенные члены                                                предложения.                         </dc:title>
</cp:coreProperties>
</file>