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7D8-E9B5-452A-B785-5432FAD2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EAE-0036-4207-B06B-6E6D2FD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CEC95-DED3-48B2-8CF5-34F2E888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68EF0-D2C3-4249-AAB1-61B23D7C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A5066-5C1D-4091-AB59-554712D3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C78A2-1025-4381-95BA-7E9CB283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B4869-BAFB-4946-BDC2-24F6970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0B129-EE83-4055-91D0-B609114E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E983D-4F24-413B-AAD0-86B90CF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ED02F-5B83-40D0-8B9B-CF3467E6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DA9F1-68FC-4314-8694-E04C1751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038-7A63-4FBA-8B44-C523A34D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768-2134-45E4-9ED2-D0D27D0D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BE5-88D6-44AC-BB6A-0A5B0C84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3A60-431E-4866-9C52-8D956C3F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3B19-B3D6-447A-B60B-76D82DEA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896E-7FA4-4F33-9B9E-B3D9CF68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7EF4-B374-410C-B718-C5ACA82C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03A9-936B-4E76-8E5B-AF300D85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7307-0AB5-4740-A99D-018A856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1AF-0810-4706-9F70-0F789CF3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322F-AB89-4AA3-A93B-C05EB31A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50B7-BD93-475C-816C-75CA4AC5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E516-683E-48EC-9EDF-22191149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F52A-5ACF-4FC9-BD77-1FCBB43A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6C0-134B-4AEE-BE2A-AC42924A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C294-237C-4A10-B34B-882815A6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5DD8-6127-4DF1-AB86-178918D2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0F99-1270-4DC0-8631-135F9D8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A58F-4A48-4B42-AD08-725FD257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C16C-A724-428C-8ABF-0EF388F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863-28A9-4653-A4B1-72FA4487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37CB-D2A9-457A-8603-F8176AD1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2512-2316-4A18-BCBC-2B1BDB7D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2024-1A7B-4D87-BBF6-4B66150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21D6-B8E1-498C-8849-0AD5C08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32D7-BB10-4FD3-88AA-6EFD0DB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8566-095D-4455-A74F-B890D44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472C-86AD-497B-9C7C-A46BFACE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7822-B6AA-44DC-AFE6-A5DB315E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C8E0-CE6B-471D-8DCB-4152318E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2950-F878-4A33-9091-91E968C9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BD9-0BE9-420D-B561-9254FD43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D6B8-71E7-48D8-AA3C-3E12060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FC87-B8AE-4D8F-AF84-7F04A942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3B77-5600-477A-B0FA-5CE8919A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F36A-5E8D-4238-A362-FB8589FE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97E3-0034-4BF3-AFCB-E012E42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9FD7-EFC0-4831-B2E9-A573973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8052-9BA2-4CA1-9723-02FFDE25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1076-855C-438F-A592-8AA33E54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0B5D-9820-4850-A790-3409FE03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9ED5A-7E45-4442-A307-7FCD1C74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148-CFC6-47C1-9BFF-F4C49F79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E5350-2C33-45D3-B957-18F392F6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482D1-A565-4E24-9FC4-7AD02134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6021-43E5-453C-9055-3B3ED86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4DF25-B9A7-46D8-8D82-29D8FCB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B008-BA21-42DE-A6A2-13C67E6B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F0EE-DCD6-40D5-AD9A-49C1D07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70598-76E6-4976-BDC8-26B6776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F2B8-CC78-4619-8ADE-7315846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0786-8176-4086-A7AE-EFFC2BC7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1C58-DB87-4739-BC96-C74E414A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5FE-BF96-41FF-89A7-513443E7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8DCD-2EE0-47E5-9CB7-2EA9FE96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96A4D-E1F0-4B8E-8032-35E6AA24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AA836-390D-4603-AD5C-8FB0B8AC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00CC-E7E2-488F-BFB3-F06345E4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6B383-4235-426A-8733-7BAE857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730A-65F9-4BBE-99CE-8AD2BE2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98D0-AB9A-4F84-8C83-A44EDC6D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85BD6-BF66-4A4E-9714-81972CDD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D62F-577D-4F73-8D7B-8FB5D31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A120-4A39-4F3A-8646-8CF81C1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F05-BC00-43EC-8D99-AF3EFF1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DD2A-8E78-4503-A23D-14FC13DB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BD476-90E9-478E-AEE9-5B724908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8EE38-CA6D-43C6-A907-1684716D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E92AC-B2D8-4DBB-9A8F-89C9E33C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D25C-797D-4708-9C24-40E6571B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39EC-D628-487E-A20A-709F385B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9C330-278A-4F8E-BE8F-6064BC3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00492-9D12-4B94-82D0-4511C9CA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5713-F2F2-42BE-B33E-777E0544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1366-3455-4F0C-B913-7FAB5CE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2BC-1816-4BF0-86E4-20C7ED1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7D09F-F99A-467C-B128-D2C03ED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2E86-9D23-4ED9-917C-246FF3F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1751D-8E8B-4FB9-907E-B81C854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E437D-5C62-4380-B9A5-B3B0632A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B2B7-9ACF-4B68-AE01-5C5D7B00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30FB3-ECC6-4319-A63E-AD585804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F36CD-2242-42ED-A5A0-AC6DE223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95BC-042E-4F68-B20A-14E06029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EC21-8BC5-43A7-A84F-3469C2DB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B6FBC-CC81-4426-A21F-A343B7BF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42E-6DDD-406E-8A29-0B19A11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93B98-78F4-4B97-A00C-9194F256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D78CA-9203-45AE-9882-E83F67A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2BD19-F395-427F-B821-3318BB7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00DA-128C-4478-95B2-1312D252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A0AB9-26CD-4260-B5D9-300A53E5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7B60D-D231-4AC3-A68B-6A37F615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1512E-CD95-4855-BEB2-46DC2B54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53AD5-2770-4D25-BA7E-5BD7FB1A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5AB70-674B-4A53-BA4E-66E2DCF3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ED549-8EBB-454B-AA82-323B7FD6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E17A-F636-4208-ABA9-B6E707C77DED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82E-A8E4-44D9-9994-10A6244815E0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5BD-C701-4458-9E82-93745876AF04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39AC-A5CF-46DB-A617-7D924E1EF0E3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3F99-6614-4F0E-88A4-BF9F052D2422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10E3-1ED4-4000-A88F-4A8D524E233F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0DCF-0708-4DC1-BFB8-D242B2394FDE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DF4-950B-4BEB-A95B-69A0613DD81A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5a788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6B38-C4D7-4216-905B-1F2DBABD746F}" type="slidenum">
              <a:rPr b="1" lang="ru-RU" sz="1200" spc="-1" strike="noStrike">
                <a:solidFill>
                  <a:srgbClr val="b5a788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ffcc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1980720"/>
            <a:ext cx="889308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rbe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       </a:t>
            </a: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Второстепенные члены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             </a:t>
            </a: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предложения.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                                     </a:t>
            </a:r>
            <a:r>
              <a:rPr b="0" lang="ru-RU" sz="2400" spc="-1" strike="noStrike">
                <a:solidFill>
                  <a:srgbClr val="0033cc"/>
                </a:solidFill>
                <a:latin typeface="Corbe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1c1c1c"/>
                </a:solidFill>
                <a:latin typeface="Corbel"/>
              </a:rPr>
              <a:t>Несогласованные определения выражаются существительными с предлогами и без предлогов.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  Климат в Санк- Петербурге неважный, сырой. сравнительной степенью прилагательного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Я не видел реки великлепнее Енисея. Инфинитвом: Бесконечна возможность познавать себя. </a:t>
            </a:r>
            <a:r>
              <a:rPr b="0" lang="ru-RU" sz="2400" spc="-1" strike="noStrike">
                <a:solidFill>
                  <a:srgbClr val="1c1c1c"/>
                </a:solidFill>
                <a:latin typeface="Corbel"/>
              </a:rPr>
              <a:t>Несогласованные опред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еления обычно стоят посл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пределяемых сл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971640" y="620640"/>
            <a:ext cx="71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согласованные предложения.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бстоятельство- второстепенный член предложения, который обозначает место, время, причину, образ действ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и т.д. и отвечают на вопросы где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когда? почему? как? и д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бстоятельство обычно выражается наречиями и существительными с пред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логами и чаще всего зависят от сказуем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Над рекой(где?)опустился туман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2124000" y="47628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бстоятельство.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8893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Чтобы определить вид второсте-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пенного члена предложения, нужно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найти слово, от которого этот второстепен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ный член зависи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выяснить, что он обозначае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на какой вопрос отвечает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99"/>
                </a:solidFill>
                <a:latin typeface="Corbel"/>
              </a:rPr>
              <a:t>-какой частью речи выражен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1503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99ccff"/>
                </a:solidFill>
                <a:latin typeface="Monotype Corsiva"/>
              </a:rPr>
              <a:t>По значению,которое выясняется</a:t>
            </a:r>
            <a:br>
              <a:rPr sz="4000"/>
            </a:br>
            <a:r>
              <a:rPr b="0" lang="tt-RU" sz="4000" spc="-1" strike="noStrike">
                <a:solidFill>
                  <a:srgbClr val="99ccff"/>
                </a:solidFill>
                <a:latin typeface="Monotype Corsiva"/>
              </a:rPr>
              <a:t>вопросами,обстоятел</a:t>
            </a:r>
            <a:r>
              <a:rPr b="0" lang="ru-RU" sz="4000" spc="-1" strike="noStrike">
                <a:solidFill>
                  <a:srgbClr val="99ccff"/>
                </a:solidFill>
                <a:latin typeface="Monotype Corsiva"/>
              </a:rPr>
              <a:t>ь</a:t>
            </a:r>
            <a:r>
              <a:rPr b="0" lang="tt-RU" sz="4000" spc="-1" strike="noStrike">
                <a:solidFill>
                  <a:srgbClr val="99ccff"/>
                </a:solidFill>
                <a:latin typeface="Monotype Corsiva"/>
              </a:rPr>
              <a:t>ства делятся на следующие основные вид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1916280"/>
            <a:ext cx="9144000" cy="46814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1.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Места. вопросы: где? куда? откуд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 С горы бежит поток проворны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2.Времени. вопросы: когда? с каких пор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От восхода до заката жизнью улицы кипя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3.Причины. вопросы: почему ?отчег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От жары и духоты книзу клонятся цве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4.Образа действия и степени вопросы: как? каким образом? в какой степени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Снег </a:t>
            </a:r>
            <a:br>
              <a:rPr sz="3200"/>
            </a:b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адал меделенно и бесшумно.</a:t>
            </a:r>
            <a:br>
              <a:rPr sz="3200"/>
            </a:b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5.Сравнения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как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За печкой тикал, как ходики, сверчок.</a:t>
            </a:r>
            <a:br>
              <a:rPr sz="3200"/>
            </a:b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6.Цели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зачем? Для чего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Ягнёнок в жаркий день зашел к ручью напиться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3640" y="6858000"/>
            <a:ext cx="1810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7.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Условия</a:t>
            </a: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при каком условии?</a:t>
            </a:r>
            <a:br>
              <a:rPr sz="3200"/>
            </a:b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 Чуден Днепр при тихой погоде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1988640"/>
            <a:ext cx="93963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8.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Уступки</a:t>
            </a: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. </a:t>
            </a:r>
            <a:r>
              <a:rPr b="1" lang="ru-RU" sz="3200" spc="-1" strike="noStrike">
                <a:solidFill>
                  <a:srgbClr val="1c1c1c"/>
                </a:solidFill>
                <a:latin typeface="Corbel"/>
              </a:rPr>
              <a:t>вопросы: несмотря на что?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имер:</a:t>
            </a:r>
            <a:r>
              <a:rPr b="1" i="1" lang="ru-RU" sz="2400" spc="-1" strike="noStrike">
                <a:solidFill>
                  <a:srgbClr val="1c1c1c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В домах, несмотря на ранни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час, горели ламп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В начале предложения могут стоять обстоятельства места и времени, ес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они устанавливают для всего сооб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пространственные и временные рам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c1c1c"/>
                </a:solidFill>
                <a:latin typeface="Corbel"/>
              </a:rPr>
              <a:t>В степи за хутором стыла прзрачная тишин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сканирование0001"/>
          <p:cNvPicPr/>
          <p:nvPr/>
        </p:nvPicPr>
        <p:blipFill>
          <a:blip r:embed="rId1"/>
          <a:stretch/>
        </p:blipFill>
        <p:spPr>
          <a:xfrm>
            <a:off x="2063880" y="1298520"/>
            <a:ext cx="5016240" cy="38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Organization Chart 7"/>
          <p:cNvGrpSpPr/>
          <p:nvPr/>
        </p:nvGrpSpPr>
        <p:grpSpPr>
          <a:xfrm>
            <a:off x="685800" y="1981080"/>
            <a:ext cx="7771680" cy="4113360"/>
            <a:chOff x="685800" y="1981080"/>
            <a:chExt cx="7771680" cy="4113360"/>
          </a:xfrm>
        </p:grpSpPr>
        <p:cxnSp>
          <p:nvCxnSpPr>
            <p:cNvPr id="417" name="_s1028"/>
            <p:cNvCxnSpPr>
              <a:stCxn id="418" idx="0"/>
              <a:endCxn id="419" idx="2"/>
            </p:cNvCxnSpPr>
            <p:nvPr/>
          </p:nvCxnSpPr>
          <p:spPr>
            <a:xfrm flipV="1" rot="16200000">
              <a:off x="5519880" y="2676600"/>
              <a:ext cx="823320" cy="2720880"/>
            </a:xfrm>
            <a:prstGeom prst="bentConnector3">
              <a:avLst>
                <a:gd name="adj1" fmla="val 94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0" name="_s1029"/>
            <p:cNvCxnSpPr>
              <a:stCxn id="421" idx="0"/>
              <a:endCxn id="419" idx="2"/>
            </p:cNvCxnSpPr>
            <p:nvPr/>
          </p:nvCxnSpPr>
          <p:spPr>
            <a:xfrm flipV="1">
              <a:off x="4571640" y="3625560"/>
              <a:ext cx="360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2" name="_s1030"/>
            <p:cNvCxnSpPr>
              <a:stCxn id="423" idx="0"/>
              <a:endCxn id="419" idx="2"/>
            </p:cNvCxnSpPr>
            <p:nvPr/>
          </p:nvCxnSpPr>
          <p:spPr>
            <a:xfrm flipH="1" flipV="1" rot="5400000">
              <a:off x="2800080" y="2676960"/>
              <a:ext cx="823320" cy="2720880"/>
            </a:xfrm>
            <a:prstGeom prst="bentConnector3">
              <a:avLst>
                <a:gd name="adj1" fmla="val 94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19" name="_s1031"/>
            <p:cNvSpPr/>
            <p:nvPr/>
          </p:nvSpPr>
          <p:spPr>
            <a:xfrm>
              <a:off x="3405960" y="19810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3399"/>
                  </a:solidFill>
                  <a:latin typeface="Arial Black"/>
                </a:rPr>
                <a:t>Второстепенные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3399"/>
                  </a:solidFill>
                  <a:latin typeface="Arial Black"/>
                </a:rPr>
                <a:t> </a:t>
              </a:r>
              <a:r>
                <a:rPr b="0" lang="en-US" sz="2100" spc="-1" strike="noStrike">
                  <a:solidFill>
                    <a:srgbClr val="ff3399"/>
                  </a:solidFill>
                  <a:latin typeface="Arial Black"/>
                </a:rPr>
                <a:t>члены предложения</a:t>
              </a: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18" name="_s1032"/>
            <p:cNvSpPr/>
            <p:nvPr/>
          </p:nvSpPr>
          <p:spPr>
            <a:xfrm>
              <a:off x="612612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Определение</a:t>
              </a:r>
              <a:r>
                <a:rPr b="0" lang="en-US" sz="2100" spc="-1" strike="noStrike">
                  <a:solidFill>
                    <a:srgbClr val="00ff00"/>
                  </a:solidFill>
                  <a:latin typeface="Arial Black"/>
                </a:rPr>
                <a:t>.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23" name="_s1033"/>
            <p:cNvSpPr/>
            <p:nvPr/>
          </p:nvSpPr>
          <p:spPr>
            <a:xfrm>
              <a:off x="68580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Дополнение.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>
              <a:off x="3405960" y="444924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 Black"/>
                </a:rPr>
                <a:t>Обстоятельство.</a:t>
              </a:r>
              <a:endParaRPr b="1" lang="en-US" sz="21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3399"/>
                </a:solidFill>
                <a:latin typeface="Corbel"/>
              </a:rPr>
              <a:t>        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Дополнение второстепенный член предложения, который обозначае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едмет и отвечает на вопросы косвенных падежей: кого?(чего?)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кому?(чему?)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Дополнения выражаются существитель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и местоимениями и чаще всего завися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т сказуем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Старик ловил (чем?) неводом (что?) рыб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WordArt 18"/>
          <p:cNvSpPr txBox="1"/>
          <p:nvPr/>
        </p:nvSpPr>
        <p:spPr>
          <a:xfrm>
            <a:off x="2411280" y="54936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полнение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755280" y="19890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1.предмет,на который распространяет-ся действие: писать письмо, выбрать профессию, стирать бельё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2.предмет,в пользу которого совершает-ся действие: принести брату, написать матери, подарить сестре и т.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Corbel"/>
              </a:rPr>
              <a:t>3.Орудие или средство действия: писать фломастером, рубить топо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080" indent="-8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WordArt 31"/>
          <p:cNvSpPr txBox="1"/>
          <p:nvPr/>
        </p:nvSpPr>
        <p:spPr>
          <a:xfrm>
            <a:off x="539640" y="47628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полнение может обозначать: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528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4.Предмет для сравнения: выше Казбека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Быстрее ветра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5.лицо,которое испытывает то или иное состояние: мне нездоровится, ему груст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6.предмет,на который распространяется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остояние: жалеть собак, жаль срубленну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берёзу, нужно книгу и т 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Дополнение может быть выражено теми     же частями речи, что и подлежащее, та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как и подлежащее, и дополнение  обозна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чают предме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8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     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ложение- определение, выраженное существительным, которое даёт другое название, характеризующее прдм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ложение может давать характеристику предмета, указывать на степень родст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национальность, звание, профессию и т.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белые чайки-рыболовы с криком но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ились над море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2556000" y="549360"/>
            <a:ext cx="43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ложение.</a:t>
            </a:r>
            <a:endParaRPr b="1" lang="en-US" sz="96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пределение -второстепенный член предложения, который обозначает признак предмета и отвечает на вопросы какой? чей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Определения обычно выражается прилагательными и местоимениями и зависят от членов предложений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выраженных существительны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мер: Наша (чья?)дорога вывела нас 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(какую?)широкую полян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WordArt 5"/>
          <p:cNvSpPr txBox="1"/>
          <p:nvPr/>
        </p:nvSpPr>
        <p:spPr>
          <a:xfrm>
            <a:off x="1476360" y="260280"/>
            <a:ext cx="532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ределение.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tt-RU" sz="2800" spc="-1" strike="noStrike">
                <a:solidFill>
                  <a:srgbClr val="ff3399"/>
                </a:solidFill>
                <a:latin typeface="Corbel"/>
              </a:rPr>
              <a:t>        </a:t>
            </a:r>
            <a:r>
              <a:rPr b="0" lang="tt-RU" sz="5400" spc="-1" strike="noStrike">
                <a:solidFill>
                  <a:srgbClr val="ff3399"/>
                </a:solidFill>
                <a:latin typeface="Corbel"/>
              </a:rPr>
              <a:t>П</a:t>
            </a: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о способу выражения            </a:t>
            </a:r>
            <a:br>
              <a:rPr sz="5400"/>
            </a:b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  определение делятся на       </a:t>
            </a:r>
            <a:br>
              <a:rPr sz="5400"/>
            </a:b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  </a:t>
            </a:r>
            <a:r>
              <a:rPr b="0" lang="ru-RU" sz="5400" spc="-1" strike="noStrike">
                <a:solidFill>
                  <a:srgbClr val="33cccc"/>
                </a:solidFill>
                <a:latin typeface="Corbel"/>
              </a:rPr>
              <a:t>согласованные </a:t>
            </a:r>
            <a:r>
              <a:rPr b="0" lang="ru-RU" sz="5400" spc="-1" strike="noStrike">
                <a:solidFill>
                  <a:srgbClr val="ff3399"/>
                </a:solidFill>
                <a:latin typeface="Corbel"/>
              </a:rPr>
              <a:t>и </a:t>
            </a:r>
            <a:r>
              <a:rPr b="0" lang="ru-RU" sz="5400" spc="-1" strike="noStrike">
                <a:solidFill>
                  <a:srgbClr val="33cccc"/>
                </a:solidFill>
                <a:latin typeface="Corbel"/>
              </a:rPr>
              <a:t>несогла-               </a:t>
            </a:r>
            <a:br>
              <a:rPr sz="5400"/>
            </a:br>
            <a:r>
              <a:rPr b="0" lang="ru-RU" sz="5400" spc="-1" strike="noStrike">
                <a:solidFill>
                  <a:srgbClr val="33cccc"/>
                </a:solidFill>
                <a:latin typeface="Corbel"/>
              </a:rPr>
              <a:t>           сованные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 rot="10800000">
            <a:off x="9325080" y="7173360"/>
            <a:ext cx="1079280" cy="502920"/>
          </a:xfrm>
          <a:prstGeom prst="rect">
            <a:avLst/>
          </a:prstGeom>
          <a:noFill/>
          <a:ln w="9360">
            <a:solidFill>
              <a:srgbClr val="4f271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Corbe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огласованные определения выражаю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прилагательными, причастиями, числитель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ными, которые согласуются  с определяем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словом в роде, числе и падеже. Пример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(чья?)Наша (какая?)кочевая дорога вьё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(сколькими?)двумя колеями. Согласов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1c1c1c"/>
                </a:solidFill>
                <a:latin typeface="Corbel"/>
              </a:rPr>
              <a:t>ные определения обычно стоят перед определительными слов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WordArt 6"/>
          <p:cNvSpPr txBox="1"/>
          <p:nvPr/>
        </p:nvSpPr>
        <p:spPr>
          <a:xfrm>
            <a:off x="1187280" y="476280"/>
            <a:ext cx="648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891a7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гласованные определения.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solidFill>
                <a:srgbClr val="3891a7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3:28:26Z</dcterms:created>
  <dc:creator>Энже и Раиля</dc:creator>
  <dc:description/>
  <dc:language>en-US</dc:language>
  <cp:lastModifiedBy>Пользователь</cp:lastModifiedBy>
  <dcterms:modified xsi:type="dcterms:W3CDTF">2018-11-27T13:34:39Z</dcterms:modified>
  <cp:revision>18</cp:revision>
  <dc:subject/>
  <dc:title>Второстепенные члены                                                предложения.                         </dc:title>
</cp:coreProperties>
</file>