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60E-2862-4406-AEAF-9A09D1FE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181-477C-4E23-83EB-D2AAAD2B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114-5241-4609-AA22-9A69F104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FB1-5AE1-4449-930C-307CBE3E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65FC-23BB-403D-81A4-55A09229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9950-B75B-41D6-9A74-2EDCE0C3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A144-0C92-4E2B-9AFE-B1B81461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B688-223F-4C8B-B923-B408C567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1812-E808-4647-8F27-39114436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76D2-A6AE-42FB-8A35-504CA2FD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30FD-BB33-4DC6-AB4A-C3B01F4A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BD2-46CD-4136-B692-ABE40C97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A876-CD13-4BF9-AAA5-03801C55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3C63-6537-4F87-A7D6-AA2E9E00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FB08-358A-486D-9C03-3B2035FA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3585-640C-4A28-AF97-5027E317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9072-E151-4BF0-BAFD-776EC727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0A59B-C4CE-41C1-9FC4-2D8552E6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73209-996E-4019-9C5C-67510235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0FB5-E58F-4388-A1D7-15E9F2E0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8E96-D643-423C-9DA5-8CE70E0E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ECB83-8829-41BF-A480-0351A9DB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923-CED2-48B6-AC1B-519B4C6F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BCC1-6F62-4567-834A-1F7EC22A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5ABA-38BB-42DD-BBD3-F0D15B3C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F791-E3A5-4838-B121-6AF1CD4D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7DD9-E414-4D3B-8DA1-16607A6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D042-CC84-4354-9DF4-038CDBC1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8717-6CEA-4C7B-AAE9-6015C03D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E076-74CE-4961-A4F4-CB1AD52E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11A78-D505-4819-BA18-3AD685F7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E4B3-BD63-45E2-A47A-AB520C9E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C864A-B5C8-45D7-9B89-22D2D7C7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82A-1DD3-45BB-8174-471DF1E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F825-03BF-4E13-B389-DB270B5B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71738-38CB-4371-B1CB-292EC380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CD1F8-E948-411C-B1EC-3796452D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4940-95CC-470F-875F-DD521148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034D-3568-4E17-A4F6-4C68FAB0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B3E5-43BD-4FC5-B838-268C3409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736F1-8C13-49D0-91D1-9464B411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0DDC3-39A3-4A94-B8AB-0139FFBA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586B-BB18-471A-BB71-87B2FE4F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42AD6-8346-43A2-8233-81611E95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DF6-033F-4EAD-BC85-C3A9414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1273-4B72-461F-9678-A57DE2DB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30F9F-DD05-451A-8708-D27082AB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EFC3C-7FD3-4FF8-973D-44613255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CA1EB-A64D-45C1-BE98-C4A99DB5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2F2EF-3178-48A5-A9DB-7A77A2A5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EE68F-7C85-46D3-BA9D-1C9767B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EFB54-F556-4B94-B2E0-E1412B14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3765B-D851-4620-9B75-976F1B23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5494A-6710-40B8-B1F0-C8F4F544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67335-28DF-4B56-99D4-E28A1C92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51D-B4AC-469F-AE01-3ED40B20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CE1A2-9B87-41C7-8907-4D60A05F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6869E-4D8D-47A6-BCFE-1EDB2E7D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52A6D-F973-462B-ADE1-5E899C66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FE7D4-B5A0-4339-B8F2-57D9051D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4B815-C4B6-49E3-AEB0-A945722E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430F9-B1E5-4DE2-B69D-191E8FED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4B330-2509-403D-A91C-3E1AED0D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8609C-825B-4D75-A9AE-071A649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771D5-5D42-4D79-A9B6-3ECFD5EA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ED960-8FB4-439F-899A-600107F4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1CD-3344-4978-A418-18D98338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A73D6-C2A8-444A-9262-19835A82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49F8B-3521-4797-B9F2-6153591F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D67E8-16DC-43CE-89EE-99983CC7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259-EB03-4018-9162-6456B6F6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3FA-434D-4377-B5B8-0ABE0491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1D0A-8DE3-4022-AAC7-BB4177252C9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EDC7-0651-400C-AEAF-93214D3939E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472D-EDD8-4CB4-8CE6-A470D0A2AB0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B073-0BAC-4A58-997C-3730CDC7064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D583-EDC8-4977-BDA2-437C97F4FE5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C175-DB87-404E-AD39-AD1DCB690DC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7.xml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4.xml"/><Relationship Id="rId14" Type="http://schemas.openxmlformats.org/officeDocument/2006/relationships/image" Target="../media/image3.png"/><Relationship Id="rId15" Type="http://schemas.openxmlformats.org/officeDocument/2006/relationships/slide" Target="slide19.xml"/><Relationship Id="rId16" Type="http://schemas.openxmlformats.org/officeDocument/2006/relationships/image" Target="../media/image3.png"/><Relationship Id="rId17" Type="http://schemas.openxmlformats.org/officeDocument/2006/relationships/slide" Target="slide10.xml"/><Relationship Id="rId18" Type="http://schemas.openxmlformats.org/officeDocument/2006/relationships/image" Target="../media/image3.png"/><Relationship Id="rId19" Type="http://schemas.openxmlformats.org/officeDocument/2006/relationships/slide" Target="slide9.xml"/><Relationship Id="rId20" Type="http://schemas.openxmlformats.org/officeDocument/2006/relationships/image" Target="../media/image3.png"/><Relationship Id="rId21" Type="http://schemas.openxmlformats.org/officeDocument/2006/relationships/slide" Target="slide8.xml"/><Relationship Id="rId22" Type="http://schemas.openxmlformats.org/officeDocument/2006/relationships/image" Target="../media/image3.png"/><Relationship Id="rId23" Type="http://schemas.openxmlformats.org/officeDocument/2006/relationships/slide" Target="slide14.xml"/><Relationship Id="rId24" Type="http://schemas.openxmlformats.org/officeDocument/2006/relationships/image" Target="../media/image3.png"/><Relationship Id="rId25" Type="http://schemas.openxmlformats.org/officeDocument/2006/relationships/slide" Target="slide13.xml"/><Relationship Id="rId26" Type="http://schemas.openxmlformats.org/officeDocument/2006/relationships/image" Target="../media/image3.png"/><Relationship Id="rId27" Type="http://schemas.openxmlformats.org/officeDocument/2006/relationships/slide" Target="slide12.xml"/><Relationship Id="rId28" Type="http://schemas.openxmlformats.org/officeDocument/2006/relationships/image" Target="../media/image3.png"/><Relationship Id="rId29" Type="http://schemas.openxmlformats.org/officeDocument/2006/relationships/slide" Target="slide18.xml"/><Relationship Id="rId30" Type="http://schemas.openxmlformats.org/officeDocument/2006/relationships/image" Target="../media/image3.png"/><Relationship Id="rId31" Type="http://schemas.openxmlformats.org/officeDocument/2006/relationships/slide" Target="slide17.xml"/><Relationship Id="rId32" Type="http://schemas.openxmlformats.org/officeDocument/2006/relationships/image" Target="../media/image3.png"/><Relationship Id="rId33" Type="http://schemas.openxmlformats.org/officeDocument/2006/relationships/slide" Target="slide16.xml"/><Relationship Id="rId34" Type="http://schemas.openxmlformats.org/officeDocument/2006/relationships/image" Target="../media/image3.png"/><Relationship Id="rId35" Type="http://schemas.openxmlformats.org/officeDocument/2006/relationships/slide" Target="slide22.xml"/><Relationship Id="rId36" Type="http://schemas.openxmlformats.org/officeDocument/2006/relationships/image" Target="../media/image3.png"/><Relationship Id="rId37" Type="http://schemas.openxmlformats.org/officeDocument/2006/relationships/slide" Target="slide21.xml"/><Relationship Id="rId38" Type="http://schemas.openxmlformats.org/officeDocument/2006/relationships/image" Target="../media/image3.png"/><Relationship Id="rId39" Type="http://schemas.openxmlformats.org/officeDocument/2006/relationships/slide" Target="slide20.xml"/><Relationship Id="rId40" Type="http://schemas.openxmlformats.org/officeDocument/2006/relationships/image" Target="../media/image3.png"/><Relationship Id="rId4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 задача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уровня 1 бал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 задача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уровня 2 балл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 задача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I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уровня 3 балл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-2 балл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-4 балл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 и более балл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частие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Сердце 3"/>
          <p:cNvSpPr/>
          <p:nvPr/>
        </p:nvSpPr>
        <p:spPr>
          <a:xfrm>
            <a:off x="4140360" y="2637000"/>
            <a:ext cx="1152360" cy="792000"/>
          </a:xfrm>
          <a:custGeom>
            <a:avLst/>
            <a:gdLst>
              <a:gd name="textAreaLeft" fmla="*/ 191880 w 1152360"/>
              <a:gd name="textAreaRight" fmla="*/ 960480 w 1152360"/>
              <a:gd name="textAreaTop" fmla="*/ 198000 h 792000"/>
              <a:gd name="textAreaBottom" fmla="*/ 528120 h 792000"/>
            </a:gdLst>
            <a:ahLst/>
            <a:rect l="textAreaLeft" t="textAreaTop" r="textAreaRight" b="textAreaBottom"/>
            <a:pathLst>
              <a:path w="1152525" h="792162">
                <a:moveTo>
                  <a:pt x="576263" y="198041"/>
                </a:moveTo>
                <a:cubicBezTo>
                  <a:pt x="816372" y="-264054"/>
                  <a:pt x="1752798" y="198041"/>
                  <a:pt x="576263" y="792162"/>
                </a:cubicBezTo>
                <a:cubicBezTo>
                  <a:pt x="-600273" y="198041"/>
                  <a:pt x="336153" y="-264054"/>
                  <a:pt x="576263" y="198041"/>
                </a:cubicBezTo>
                <a:close/>
              </a:path>
            </a:pathLst>
          </a:custGeom>
          <a:solidFill>
            <a:srgbClr val="92d050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ердце 4"/>
          <p:cNvSpPr/>
          <p:nvPr/>
        </p:nvSpPr>
        <p:spPr>
          <a:xfrm>
            <a:off x="4356000" y="3789360"/>
            <a:ext cx="1152720" cy="792000"/>
          </a:xfrm>
          <a:custGeom>
            <a:avLst/>
            <a:gdLst>
              <a:gd name="textAreaLeft" fmla="*/ 191880 w 1152720"/>
              <a:gd name="textAreaRight" fmla="*/ 960840 w 1152720"/>
              <a:gd name="textAreaTop" fmla="*/ 198000 h 792000"/>
              <a:gd name="textAreaBottom" fmla="*/ 528120 h 792000"/>
            </a:gdLst>
            <a:ahLst/>
            <a:rect l="textAreaLeft" t="textAreaTop" r="textAreaRight" b="textAreaBottom"/>
            <a:pathLst>
              <a:path w="1152525" h="792162">
                <a:moveTo>
                  <a:pt x="576263" y="198041"/>
                </a:moveTo>
                <a:cubicBezTo>
                  <a:pt x="816372" y="-264054"/>
                  <a:pt x="1752798" y="198041"/>
                  <a:pt x="576263" y="792162"/>
                </a:cubicBezTo>
                <a:cubicBezTo>
                  <a:pt x="-600273" y="198041"/>
                  <a:pt x="336153" y="-264054"/>
                  <a:pt x="576263" y="198041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ердце 5"/>
          <p:cNvSpPr/>
          <p:nvPr/>
        </p:nvSpPr>
        <p:spPr>
          <a:xfrm>
            <a:off x="4500720" y="4869000"/>
            <a:ext cx="1150920" cy="792000"/>
          </a:xfrm>
          <a:custGeom>
            <a:avLst/>
            <a:gdLst>
              <a:gd name="textAreaLeft" fmla="*/ 191880 w 1150920"/>
              <a:gd name="textAreaRight" fmla="*/ 959040 w 1150920"/>
              <a:gd name="textAreaTop" fmla="*/ 198000 h 792000"/>
              <a:gd name="textAreaBottom" fmla="*/ 528120 h 792000"/>
            </a:gdLst>
            <a:ahLst/>
            <a:rect l="textAreaLeft" t="textAreaTop" r="textAreaRight" b="textAreaBottom"/>
            <a:pathLst>
              <a:path w="1150937" h="792162">
                <a:moveTo>
                  <a:pt x="575469" y="198041"/>
                </a:moveTo>
                <a:cubicBezTo>
                  <a:pt x="815247" y="-264054"/>
                  <a:pt x="1750383" y="198041"/>
                  <a:pt x="575469" y="792162"/>
                </a:cubicBezTo>
                <a:cubicBezTo>
                  <a:pt x="-599446" y="198041"/>
                  <a:pt x="335690" y="-264054"/>
                  <a:pt x="575469" y="198041"/>
                </a:cubicBezTo>
                <a:close/>
              </a:path>
            </a:pathLst>
          </a:custGeom>
          <a:solidFill>
            <a:srgbClr val="ff9f9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ердце 6"/>
          <p:cNvSpPr/>
          <p:nvPr/>
        </p:nvSpPr>
        <p:spPr>
          <a:xfrm>
            <a:off x="4572000" y="5805360"/>
            <a:ext cx="1152360" cy="792360"/>
          </a:xfrm>
          <a:custGeom>
            <a:avLst/>
            <a:gdLst>
              <a:gd name="textAreaLeft" fmla="*/ 191880 w 1152360"/>
              <a:gd name="textAreaRight" fmla="*/ 960480 w 1152360"/>
              <a:gd name="textAreaTop" fmla="*/ 198000 h 792360"/>
              <a:gd name="textAreaBottom" fmla="*/ 528480 h 792360"/>
            </a:gdLst>
            <a:ahLst/>
            <a:rect l="textAreaLeft" t="textAreaTop" r="textAreaRight" b="textAreaBottom"/>
            <a:pathLst>
              <a:path w="1152525" h="792162">
                <a:moveTo>
                  <a:pt x="576263" y="198041"/>
                </a:moveTo>
                <a:cubicBezTo>
                  <a:pt x="816372" y="-264054"/>
                  <a:pt x="1752798" y="198041"/>
                  <a:pt x="576263" y="792162"/>
                </a:cubicBezTo>
                <a:cubicBezTo>
                  <a:pt x="-600273" y="198041"/>
                  <a:pt x="336153" y="-264054"/>
                  <a:pt x="576263" y="198041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4">
            <a:hlinkClick r:id="rId1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2050920" y="112680"/>
            <a:ext cx="6993000" cy="25956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a0300"/>
                </a:solidFill>
                <a:latin typeface="Verdana"/>
              </a:rPr>
              <a:t>Что дорож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ле того, как Сереже сказали, что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рандашей стоят дороже, чем 8 тетра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го спросили :"Что дороже стоит,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рандашей или 9 тетрадей 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 если спросят Вас, что Вы ответит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/>
          <p:cNvSpPr/>
          <p:nvPr/>
        </p:nvSpPr>
        <p:spPr>
          <a:xfrm>
            <a:off x="131760" y="2781360"/>
            <a:ext cx="2592360" cy="1655640"/>
          </a:xfrm>
          <a:custGeom>
            <a:avLst/>
            <a:gdLst>
              <a:gd name="textAreaLeft" fmla="*/ 107280 w 2592360"/>
              <a:gd name="textAreaRight" fmla="*/ 2485080 w 259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3818" h="21600">
                <a:moveTo>
                  <a:pt x="0" y="0"/>
                </a:moveTo>
                <a:lnTo>
                  <a:pt x="33818" y="0"/>
                </a:lnTo>
                <a:lnTo>
                  <a:pt x="33818" y="21600"/>
                </a:lnTo>
                <a:lnTo>
                  <a:pt x="0" y="21600"/>
                </a:lnTo>
                <a:close/>
              </a:path>
              <a:path fill="lightenLess" w="33818" h="21600">
                <a:moveTo>
                  <a:pt x="0" y="0"/>
                </a:moveTo>
                <a:lnTo>
                  <a:pt x="33818" y="0"/>
                </a:lnTo>
                <a:lnTo>
                  <a:pt x="32418" y="1400"/>
                </a:lnTo>
                <a:lnTo>
                  <a:pt x="1400" y="1400"/>
                </a:lnTo>
                <a:close/>
              </a:path>
              <a:path fill="darken" w="33818" h="21600">
                <a:moveTo>
                  <a:pt x="33818" y="0"/>
                </a:moveTo>
                <a:lnTo>
                  <a:pt x="33818" y="21600"/>
                </a:lnTo>
                <a:lnTo>
                  <a:pt x="32418" y="20200"/>
                </a:lnTo>
                <a:lnTo>
                  <a:pt x="32418" y="1400"/>
                </a:lnTo>
                <a:close/>
              </a:path>
              <a:path fill="darkenLess" w="33818" h="21600">
                <a:moveTo>
                  <a:pt x="33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18" y="20200"/>
                </a:lnTo>
                <a:close/>
              </a:path>
              <a:path fill="lighten" w="33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арандаш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ят с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,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тетрадей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3270240" y="2781360"/>
            <a:ext cx="2544840" cy="1657440"/>
          </a:xfrm>
          <a:custGeom>
            <a:avLst/>
            <a:gdLst>
              <a:gd name="textAreaLeft" fmla="*/ 107280 w 2544840"/>
              <a:gd name="textAreaRight" fmla="*/ 2437560 w 2544840"/>
              <a:gd name="textAreaTop" fmla="*/ 107280 h 1657440"/>
              <a:gd name="textAreaBottom" fmla="*/ 1550160 h 1657440"/>
            </a:gdLst>
            <a:ahLst/>
            <a:rect l="textAreaLeft" t="textAreaTop" r="textAreaRight" b="textAreaBottom"/>
            <a:pathLst>
              <a:path w="33162" h="21600">
                <a:moveTo>
                  <a:pt x="0" y="0"/>
                </a:moveTo>
                <a:lnTo>
                  <a:pt x="33162" y="0"/>
                </a:lnTo>
                <a:lnTo>
                  <a:pt x="33162" y="21600"/>
                </a:lnTo>
                <a:lnTo>
                  <a:pt x="0" y="21600"/>
                </a:lnTo>
                <a:close/>
              </a:path>
              <a:path fill="lightenLess" w="33162" h="21600">
                <a:moveTo>
                  <a:pt x="0" y="0"/>
                </a:moveTo>
                <a:lnTo>
                  <a:pt x="33162" y="0"/>
                </a:lnTo>
                <a:lnTo>
                  <a:pt x="31762" y="1400"/>
                </a:lnTo>
                <a:lnTo>
                  <a:pt x="1400" y="1400"/>
                </a:lnTo>
                <a:close/>
              </a:path>
              <a:path fill="darken" w="33162" h="21600">
                <a:moveTo>
                  <a:pt x="33162" y="0"/>
                </a:moveTo>
                <a:lnTo>
                  <a:pt x="33162" y="21600"/>
                </a:lnTo>
                <a:lnTo>
                  <a:pt x="31762" y="20200"/>
                </a:lnTo>
                <a:lnTo>
                  <a:pt x="31762" y="1400"/>
                </a:lnTo>
                <a:close/>
              </a:path>
              <a:path fill="darkenLess" w="33162" h="21600">
                <a:moveTo>
                  <a:pt x="3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62" y="20200"/>
                </a:lnTo>
                <a:close/>
              </a:path>
              <a:path fill="lighten" w="3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арандаш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ят доро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тетрадей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>
            <a:off x="6300720" y="2781360"/>
            <a:ext cx="2598840" cy="1655640"/>
          </a:xfrm>
          <a:custGeom>
            <a:avLst/>
            <a:gdLst>
              <a:gd name="textAreaLeft" fmla="*/ 107280 w 2598840"/>
              <a:gd name="textAreaRight" fmla="*/ 2491560 w 25988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3903" h="21600">
                <a:moveTo>
                  <a:pt x="0" y="0"/>
                </a:moveTo>
                <a:lnTo>
                  <a:pt x="33903" y="0"/>
                </a:lnTo>
                <a:lnTo>
                  <a:pt x="33903" y="21600"/>
                </a:lnTo>
                <a:lnTo>
                  <a:pt x="0" y="21600"/>
                </a:lnTo>
                <a:close/>
              </a:path>
              <a:path fill="lightenLess" w="33903" h="21600">
                <a:moveTo>
                  <a:pt x="0" y="0"/>
                </a:moveTo>
                <a:lnTo>
                  <a:pt x="33903" y="0"/>
                </a:lnTo>
                <a:lnTo>
                  <a:pt x="32503" y="1400"/>
                </a:lnTo>
                <a:lnTo>
                  <a:pt x="1400" y="1400"/>
                </a:lnTo>
                <a:close/>
              </a:path>
              <a:path fill="darken" w="33903" h="21600">
                <a:moveTo>
                  <a:pt x="33903" y="0"/>
                </a:moveTo>
                <a:lnTo>
                  <a:pt x="33903" y="21600"/>
                </a:lnTo>
                <a:lnTo>
                  <a:pt x="32503" y="20200"/>
                </a:lnTo>
                <a:lnTo>
                  <a:pt x="32503" y="1400"/>
                </a:lnTo>
                <a:close/>
              </a:path>
              <a:path fill="darkenLess" w="33903" h="21600">
                <a:moveTo>
                  <a:pt x="33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3" y="20200"/>
                </a:lnTo>
                <a:close/>
              </a:path>
              <a:path fill="lighten" w="33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арандаш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ят дешев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тетр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http://www.develop-kinder.com/z/2/01/2/z6a.gif"/>
          <p:cNvPicPr/>
          <p:nvPr/>
        </p:nvPicPr>
        <p:blipFill>
          <a:blip r:embed="rId2"/>
          <a:stretch/>
        </p:blipFill>
        <p:spPr>
          <a:xfrm>
            <a:off x="88920" y="4540320"/>
            <a:ext cx="1866960" cy="2085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develop-kinder.com/z/2/01/2/z6b.gif"/>
          <p:cNvPicPr/>
          <p:nvPr/>
        </p:nvPicPr>
        <p:blipFill>
          <a:blip r:embed="rId3"/>
          <a:stretch/>
        </p:blipFill>
        <p:spPr>
          <a:xfrm>
            <a:off x="7048440" y="4848120"/>
            <a:ext cx="1981440" cy="1820880"/>
          </a:xfrm>
          <a:prstGeom prst="rect">
            <a:avLst/>
          </a:prstGeom>
          <a:ln w="0">
            <a:noFill/>
          </a:ln>
        </p:spPr>
      </p:pic>
      <p:sp>
        <p:nvSpPr>
          <p:cNvPr id="425" name="Стрелка влево 12">
            <a:hlinkClick r:id="rId4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437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445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Arial"/>
                <a:hlinkClick r:id="rId1" action="ppaction://hlinksldjump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2050920" y="115920"/>
            <a:ext cx="6913800" cy="439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Конфеты и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й дедушка очень любит розыгр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закрыл дверь комнаты, где моя бабуш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ранит конфеты, на ключ. Ключ он положил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у из коробочек, которые он замаркировал так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А, Б, 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Затем он прикрепил записочки к каж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робоч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Ключ не в коробке</a:t>
            </a:r>
            <a:r>
              <a:rPr b="0" lang="ru-RU" sz="1800" spc="-1" strike="noStrike">
                <a:solidFill>
                  <a:srgbClr val="ca03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ca03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ca03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Ключ не в этой коробке</a:t>
            </a:r>
            <a:br>
              <a:rPr sz="1800"/>
            </a:br>
            <a:r>
              <a:rPr b="1" lang="ru-RU" sz="1800" spc="-1" strike="noStrike">
                <a:solidFill>
                  <a:srgbClr val="ca03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Ключ в этой коробке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бушка сказала мн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которые из этих утверждений правильные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которые - ложны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 если, не заглядывая в коробочки, я протя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душке коробочку, в которой будет лежать клю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меня будет столько конфет, сколько я захо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ую коробочку надо протянуть дедушк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8"/>
          <p:cNvSpPr/>
          <p:nvPr/>
        </p:nvSpPr>
        <p:spPr>
          <a:xfrm>
            <a:off x="241128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9"/>
          <p:cNvSpPr/>
          <p:nvPr/>
        </p:nvSpPr>
        <p:spPr>
          <a:xfrm>
            <a:off x="184320" y="458136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0"/>
          <p:cNvSpPr/>
          <p:nvPr/>
        </p:nvSpPr>
        <p:spPr>
          <a:xfrm>
            <a:off x="471636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6966000" y="4581360"/>
            <a:ext cx="2016000" cy="648000"/>
          </a:xfrm>
          <a:custGeom>
            <a:avLst/>
            <a:gdLst>
              <a:gd name="textAreaLeft" fmla="*/ 41760 w 2016000"/>
              <a:gd name="textAreaRight" fmla="*/ 1974240 w 2016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67175" h="21600">
                <a:moveTo>
                  <a:pt x="0" y="0"/>
                </a:moveTo>
                <a:lnTo>
                  <a:pt x="67175" y="0"/>
                </a:lnTo>
                <a:lnTo>
                  <a:pt x="67175" y="21600"/>
                </a:lnTo>
                <a:lnTo>
                  <a:pt x="0" y="21600"/>
                </a:lnTo>
                <a:close/>
              </a:path>
              <a:path fill="lightenLess" w="67175" h="21600">
                <a:moveTo>
                  <a:pt x="0" y="0"/>
                </a:moveTo>
                <a:lnTo>
                  <a:pt x="67175" y="0"/>
                </a:lnTo>
                <a:lnTo>
                  <a:pt x="65775" y="1400"/>
                </a:lnTo>
                <a:lnTo>
                  <a:pt x="1400" y="1400"/>
                </a:lnTo>
                <a:close/>
              </a:path>
              <a:path fill="darken" w="67175" h="21600">
                <a:moveTo>
                  <a:pt x="67175" y="0"/>
                </a:moveTo>
                <a:lnTo>
                  <a:pt x="67175" y="21600"/>
                </a:lnTo>
                <a:lnTo>
                  <a:pt x="65775" y="20200"/>
                </a:lnTo>
                <a:lnTo>
                  <a:pt x="65775" y="1400"/>
                </a:lnTo>
                <a:close/>
              </a:path>
              <a:path fill="darkenLess" w="67175" h="21600">
                <a:moveTo>
                  <a:pt x="67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75" y="20200"/>
                </a:lnTo>
                <a:close/>
              </a:path>
              <a:path fill="lighten" w="67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http://www.develop-kinder.com/z/2/01/2/z3b.gif"/>
          <p:cNvPicPr/>
          <p:nvPr/>
        </p:nvPicPr>
        <p:blipFill>
          <a:blip r:embed="rId2"/>
          <a:stretch/>
        </p:blipFill>
        <p:spPr>
          <a:xfrm>
            <a:off x="431640" y="2009880"/>
            <a:ext cx="1295640" cy="2220840"/>
          </a:xfrm>
          <a:prstGeom prst="rect">
            <a:avLst/>
          </a:prstGeom>
          <a:ln w="0">
            <a:noFill/>
          </a:ln>
        </p:spPr>
      </p:pic>
      <p:sp>
        <p:nvSpPr>
          <p:cNvPr id="435" name="Стрелка влево 1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482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518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>
            <a:hlinkClick r:id="rId1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2122560" y="260280"/>
            <a:ext cx="6913440" cy="4032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Разберемся с обложками кн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библиотеке есть книги по истории, математик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з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ложки этих кн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красны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9933"/>
                </a:solidFill>
                <a:latin typeface="Verdana"/>
              </a:rPr>
              <a:t>зеле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голуб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м известно, что обложки книг по истории не голуб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ложки математических книг либо голубые, либ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еленые, и что обложки книг по физике не красные,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зеле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го цвета обложки исторических книг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8"/>
          <p:cNvSpPr/>
          <p:nvPr/>
        </p:nvSpPr>
        <p:spPr>
          <a:xfrm>
            <a:off x="2411280" y="465300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Verdana"/>
              </a:rPr>
              <a:t>зеле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9"/>
          <p:cNvSpPr/>
          <p:nvPr/>
        </p:nvSpPr>
        <p:spPr>
          <a:xfrm>
            <a:off x="133200" y="465300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a0300"/>
                </a:solidFill>
                <a:latin typeface="Verdana"/>
              </a:rPr>
              <a:t>кра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0"/>
          <p:cNvSpPr/>
          <p:nvPr/>
        </p:nvSpPr>
        <p:spPr>
          <a:xfrm>
            <a:off x="4643280" y="465300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голуб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1"/>
          <p:cNvSpPr/>
          <p:nvPr/>
        </p:nvSpPr>
        <p:spPr>
          <a:xfrm>
            <a:off x="6929280" y="4579920"/>
            <a:ext cx="2016360" cy="720720"/>
          </a:xfrm>
          <a:custGeom>
            <a:avLst/>
            <a:gdLst>
              <a:gd name="textAreaLeft" fmla="*/ 46440 w 2016360"/>
              <a:gd name="textAreaRight" fmla="*/ 1969920 w 201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0411" h="21600">
                <a:moveTo>
                  <a:pt x="0" y="0"/>
                </a:moveTo>
                <a:lnTo>
                  <a:pt x="60411" y="0"/>
                </a:lnTo>
                <a:lnTo>
                  <a:pt x="60411" y="21600"/>
                </a:lnTo>
                <a:lnTo>
                  <a:pt x="0" y="21600"/>
                </a:lnTo>
                <a:close/>
              </a:path>
              <a:path fill="lightenLess" w="60411" h="21600">
                <a:moveTo>
                  <a:pt x="0" y="0"/>
                </a:moveTo>
                <a:lnTo>
                  <a:pt x="60411" y="0"/>
                </a:lnTo>
                <a:lnTo>
                  <a:pt x="59011" y="1400"/>
                </a:lnTo>
                <a:lnTo>
                  <a:pt x="1400" y="1400"/>
                </a:lnTo>
                <a:close/>
              </a:path>
              <a:path fill="darken" w="60411" h="21600">
                <a:moveTo>
                  <a:pt x="60411" y="0"/>
                </a:moveTo>
                <a:lnTo>
                  <a:pt x="60411" y="21600"/>
                </a:lnTo>
                <a:lnTo>
                  <a:pt x="59011" y="20200"/>
                </a:lnTo>
                <a:lnTo>
                  <a:pt x="59011" y="1400"/>
                </a:lnTo>
                <a:close/>
              </a:path>
              <a:path fill="darkenLess" w="60411" h="21600">
                <a:moveTo>
                  <a:pt x="60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11" y="20200"/>
                </a:lnTo>
                <a:close/>
              </a:path>
              <a:path fill="lighten" w="60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Не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опред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http://www.develop-kinder.com/z/3/01/2/z5a.gif"/>
          <p:cNvPicPr/>
          <p:nvPr/>
        </p:nvPicPr>
        <p:blipFill>
          <a:blip r:embed="rId2"/>
          <a:stretch/>
        </p:blipFill>
        <p:spPr>
          <a:xfrm>
            <a:off x="106200" y="2289240"/>
            <a:ext cx="2040120" cy="1297080"/>
          </a:xfrm>
          <a:prstGeom prst="rect">
            <a:avLst/>
          </a:prstGeom>
          <a:ln w="0">
            <a:noFill/>
          </a:ln>
        </p:spPr>
      </p:pic>
      <p:sp>
        <p:nvSpPr>
          <p:cNvPr id="445" name="Стрелка влево 1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541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577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http://www.develop-kinder.com/z/1/01/2/z6.gif"/>
          <p:cNvPicPr/>
          <p:nvPr/>
        </p:nvPicPr>
        <p:blipFill>
          <a:blip r:embed="rId1"/>
          <a:stretch/>
        </p:blipFill>
        <p:spPr>
          <a:xfrm>
            <a:off x="3564000" y="4076640"/>
            <a:ext cx="2502000" cy="256392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2122560" y="260280"/>
            <a:ext cx="691344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Улитка поднимается 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итка за 2 мин. проползает по грибу 2 см ввер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ем 1 мин. отдыхает и момент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кальзывает вниз на 1 см. После этого 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ова начинает подниматься вверх все в той 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н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какой высоте она будет через 5 мин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8"/>
          <p:cNvSpPr/>
          <p:nvPr/>
        </p:nvSpPr>
        <p:spPr>
          <a:xfrm>
            <a:off x="304920" y="4365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9"/>
          <p:cNvSpPr/>
          <p:nvPr/>
        </p:nvSpPr>
        <p:spPr>
          <a:xfrm>
            <a:off x="214164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0"/>
          <p:cNvSpPr/>
          <p:nvPr/>
        </p:nvSpPr>
        <p:spPr>
          <a:xfrm>
            <a:off x="521964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1"/>
          <p:cNvSpPr/>
          <p:nvPr/>
        </p:nvSpPr>
        <p:spPr>
          <a:xfrm>
            <a:off x="6875640" y="4365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лево 1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608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22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636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http://www.develop-kinder.com/z/2/01/1/z3.gif"/>
          <p:cNvPicPr/>
          <p:nvPr/>
        </p:nvPicPr>
        <p:blipFill>
          <a:blip r:embed="rId1"/>
          <a:stretch/>
        </p:blipFill>
        <p:spPr>
          <a:xfrm>
            <a:off x="2389320" y="2870280"/>
            <a:ext cx="4356000" cy="36846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2122560" y="260280"/>
            <a:ext cx="691344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Разгадываем математический реб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тавьте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1, 2, 3, 4,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олонк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трочке из диназавриков, так, чтобы су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исел как в колонке, так и в строчке была 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в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е число стоит на месте вопроса 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9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0"/>
          <p:cNvSpPr/>
          <p:nvPr/>
        </p:nvSpPr>
        <p:spPr>
          <a:xfrm>
            <a:off x="695484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1"/>
          <p:cNvSpPr/>
          <p:nvPr/>
        </p:nvSpPr>
        <p:spPr>
          <a:xfrm>
            <a:off x="6954840" y="450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трелка влево 1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667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0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Развивающие занятия "/>
          <p:cNvPicPr/>
          <p:nvPr/>
        </p:nvPicPr>
        <p:blipFill>
          <a:blip r:embed="rId1"/>
          <a:stretch/>
        </p:blipFill>
        <p:spPr>
          <a:xfrm>
            <a:off x="3348000" y="3606840"/>
            <a:ext cx="2625840" cy="30970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2050920" y="115920"/>
            <a:ext cx="7058160" cy="3381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Вернуться вовремя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и подружки, Лена, Катя и Вера договори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гулять в парке и вернуться домой в 12 ча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на живет в десяти минутах от парка, Ка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ираться до дома один час, а Вере - 4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 сколько должна покинуть своих подр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вочка, которой добираться до дома дольше все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8"/>
          <p:cNvSpPr/>
          <p:nvPr/>
        </p:nvSpPr>
        <p:spPr>
          <a:xfrm>
            <a:off x="179280" y="364500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час.2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9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час.3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0"/>
          <p:cNvSpPr/>
          <p:nvPr/>
        </p:nvSpPr>
        <p:spPr>
          <a:xfrm>
            <a:off x="6954840" y="364500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час.4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1"/>
          <p:cNvSpPr/>
          <p:nvPr/>
        </p:nvSpPr>
        <p:spPr>
          <a:xfrm>
            <a:off x="6954840" y="472428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час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Стрелка влево 12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718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726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740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http://www.develop-kinder.com/z/2/01/1/z4.gif"/>
          <p:cNvPicPr/>
          <p:nvPr/>
        </p:nvPicPr>
        <p:blipFill>
          <a:blip r:embed="rId1"/>
          <a:stretch/>
        </p:blipFill>
        <p:spPr>
          <a:xfrm>
            <a:off x="3492360" y="2997360"/>
            <a:ext cx="2629080" cy="295272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050920" y="260280"/>
            <a:ext cx="7021800" cy="2592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Погонщики верблю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 и дву-горбые верблюды пересекают пустын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сех у них 14 горбов и 40 н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каждом втором двугорбом верблюде сид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гонщ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всего погонщиков путешествуют вмес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верблюдам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погон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9"/>
          <p:cNvSpPr/>
          <p:nvPr/>
        </p:nvSpPr>
        <p:spPr>
          <a:xfrm>
            <a:off x="6954840" y="458136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огонщика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0"/>
          <p:cNvSpPr/>
          <p:nvPr/>
        </p:nvSpPr>
        <p:spPr>
          <a:xfrm>
            <a:off x="695484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погон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1"/>
          <p:cNvSpPr/>
          <p:nvPr/>
        </p:nvSpPr>
        <p:spPr>
          <a:xfrm>
            <a:off x="17928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погон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лево 1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777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785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813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http://www.develop-kinder.com/z/1/01/2/z5a.gif"/>
          <p:cNvPicPr/>
          <p:nvPr/>
        </p:nvPicPr>
        <p:blipFill>
          <a:blip r:embed="rId1"/>
          <a:stretch/>
        </p:blipFill>
        <p:spPr>
          <a:xfrm>
            <a:off x="6012000" y="4245120"/>
            <a:ext cx="2881080" cy="18777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2484360" y="115920"/>
            <a:ext cx="6480360" cy="4465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a0300"/>
                </a:solidFill>
                <a:latin typeface="Verdana"/>
              </a:rPr>
              <a:t>Необыкновенные маш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ы пришли на фабрику (рисунок слев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нутри фабрики особые "машины" : они изменя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цвет поступающей к ним детальк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мотри, дружок, на рисун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нутри фабрики. И ты увидиш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то красный цвет переходит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иний (видишь т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казывающую стрелочку ?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синий, как ты видишь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зменяется на зеленый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что красный квадратик стал - синим, зеле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ужочек- стал красным, а синий треугольник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л зеле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если на "вход" этих машин поступят деталь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е нарисованы на рисунке слева, какими э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тальки станут на "выходе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8"/>
          <p:cNvSpPr/>
          <p:nvPr/>
        </p:nvSpPr>
        <p:spPr>
          <a:xfrm>
            <a:off x="168120" y="2276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9"/>
          <p:cNvSpPr/>
          <p:nvPr/>
        </p:nvSpPr>
        <p:spPr>
          <a:xfrm>
            <a:off x="168120" y="3141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0"/>
          <p:cNvSpPr/>
          <p:nvPr/>
        </p:nvSpPr>
        <p:spPr>
          <a:xfrm>
            <a:off x="179280" y="487980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21"/>
          <p:cNvSpPr/>
          <p:nvPr/>
        </p:nvSpPr>
        <p:spPr>
          <a:xfrm>
            <a:off x="179280" y="399240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http://www.develop-kinder.com/z/1/01/2/z5.gif"/>
          <p:cNvPicPr/>
          <p:nvPr/>
        </p:nvPicPr>
        <p:blipFill>
          <a:blip r:embed="rId3"/>
          <a:stretch/>
        </p:blipFill>
        <p:spPr>
          <a:xfrm>
            <a:off x="2700360" y="126828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" descr="http://www.develop-kinder.com/z/1/01/2/z5b.gif"/>
          <p:cNvPicPr/>
          <p:nvPr/>
        </p:nvPicPr>
        <p:blipFill>
          <a:blip r:embed="rId4"/>
          <a:stretch/>
        </p:blipFill>
        <p:spPr>
          <a:xfrm>
            <a:off x="1979640" y="4581360"/>
            <a:ext cx="4000320" cy="304920"/>
          </a:xfrm>
          <a:prstGeom prst="rect">
            <a:avLst/>
          </a:prstGeom>
          <a:ln w="0">
            <a:noFill/>
          </a:ln>
        </p:spPr>
      </p:pic>
      <p:sp>
        <p:nvSpPr>
          <p:cNvPr id="498" name="Стрелка влево 16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0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844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872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3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050920" y="260280"/>
            <a:ext cx="7021800" cy="3456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Посчитаем сп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ешения головоломок из спичек уч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нес в класс 10 короб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2411280" y="38624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9"/>
          <p:cNvSpPr/>
          <p:nvPr/>
        </p:nvSpPr>
        <p:spPr>
          <a:xfrm>
            <a:off x="688644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0"/>
          <p:cNvSpPr/>
          <p:nvPr/>
        </p:nvSpPr>
        <p:spPr>
          <a:xfrm>
            <a:off x="4643280" y="38624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1"/>
          <p:cNvSpPr/>
          <p:nvPr/>
        </p:nvSpPr>
        <p:spPr>
          <a:xfrm>
            <a:off x="17928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556000" y="1285920"/>
          <a:ext cx="4525920" cy="2324160"/>
        </p:xfrm>
        <a:graphic>
          <a:graphicData uri="http://schemas.openxmlformats.org/drawingml/2006/table">
            <a:tbl>
              <a:tblPr/>
              <a:tblGrid>
                <a:gridCol w="2263680"/>
                <a:gridCol w="2262240"/>
              </a:tblGrid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перв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1 спич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 втор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2 спичк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третье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3 спичк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четверт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4 спичк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пят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5 спичек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шест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6 спичек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седьм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7 спичек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восьм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8 спи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девят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9 спичек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десят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10 спи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Стрелка влево 12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895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903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4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917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6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931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http://www.develop-kinder.com/z/2/01/2/z5b.gif"/>
          <p:cNvPicPr/>
          <p:nvPr/>
        </p:nvPicPr>
        <p:blipFill>
          <a:blip r:embed="rId1"/>
          <a:stretch/>
        </p:blipFill>
        <p:spPr>
          <a:xfrm>
            <a:off x="3497400" y="5148360"/>
            <a:ext cx="2038320" cy="16556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2050920" y="260280"/>
            <a:ext cx="7021800" cy="4176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Весы для детей на ярма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ярмарке установили громадные рычажные ве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звешиван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посадить Анну и Олега вместе, на одну чаш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 на другую чашу надо поставить груз весом 82 к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уравновесить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посадить детей по разные стороны, ну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авить груз весом 12 кг на чашу, где сидит Ан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весы были в равнове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весит Олег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дите вес Олега и скажите, чему равна су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ифр этого числ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201600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>
            <a:off x="7074000" y="579420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0"/>
          <p:cNvSpPr/>
          <p:nvPr/>
        </p:nvSpPr>
        <p:spPr>
          <a:xfrm>
            <a:off x="7056360" y="483408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1"/>
          <p:cNvSpPr/>
          <p:nvPr/>
        </p:nvSpPr>
        <p:spPr>
          <a:xfrm>
            <a:off x="4427640" y="458136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http://www.develop-kinder.com/z/2/01/2/z5a.gif"/>
          <p:cNvPicPr/>
          <p:nvPr/>
        </p:nvPicPr>
        <p:blipFill>
          <a:blip r:embed="rId2"/>
          <a:stretch/>
        </p:blipFill>
        <p:spPr>
          <a:xfrm>
            <a:off x="155520" y="2633760"/>
            <a:ext cx="1728720" cy="2200320"/>
          </a:xfrm>
          <a:prstGeom prst="rect">
            <a:avLst/>
          </a:prstGeom>
          <a:ln w="0">
            <a:noFill/>
          </a:ln>
        </p:spPr>
      </p:pic>
      <p:sp>
        <p:nvSpPr>
          <p:cNvPr id="519" name="Стрелка влево 13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954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962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976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990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9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Скругленный прямоугольник 1"/>
          <p:cNvGrpSpPr/>
          <p:nvPr/>
        </p:nvGrpSpPr>
        <p:grpSpPr>
          <a:xfrm>
            <a:off x="268200" y="158760"/>
            <a:ext cx="1621080" cy="901800"/>
            <a:chOff x="268200" y="158760"/>
            <a:chExt cx="1621080" cy="901800"/>
          </a:xfrm>
        </p:grpSpPr>
        <p:pic>
          <p:nvPicPr>
            <p:cNvPr id="27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68200" y="158760"/>
              <a:ext cx="1621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61800" y="227160"/>
              <a:ext cx="1435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cc9900"/>
                  </a:solidFill>
                  <a:uFillTx/>
                  <a:latin typeface="Perpetua"/>
                  <a:hlinkClick r:id="rId2" action="ppaction://hlinksldjump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Скругленный прямоугольник 6"/>
          <p:cNvGrpSpPr/>
          <p:nvPr/>
        </p:nvGrpSpPr>
        <p:grpSpPr>
          <a:xfrm>
            <a:off x="268200" y="4121280"/>
            <a:ext cx="1621080" cy="901440"/>
            <a:chOff x="268200" y="4121280"/>
            <a:chExt cx="1621080" cy="901440"/>
          </a:xfrm>
        </p:grpSpPr>
        <p:pic>
          <p:nvPicPr>
            <p:cNvPr id="280" name="Скругленный прямоугольник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68200" y="4121280"/>
              <a:ext cx="162108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61800" y="418788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Скругленный прямоугольник 7"/>
          <p:cNvGrpSpPr/>
          <p:nvPr/>
        </p:nvGrpSpPr>
        <p:grpSpPr>
          <a:xfrm>
            <a:off x="268200" y="2773440"/>
            <a:ext cx="1621080" cy="903240"/>
            <a:chOff x="268200" y="2773440"/>
            <a:chExt cx="1621080" cy="903240"/>
          </a:xfrm>
        </p:grpSpPr>
        <p:pic>
          <p:nvPicPr>
            <p:cNvPr id="283" name="Скругленный прямоугольник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68200" y="2773440"/>
              <a:ext cx="16210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61800" y="284328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Скругленный прямоугольник 8"/>
          <p:cNvGrpSpPr/>
          <p:nvPr/>
        </p:nvGrpSpPr>
        <p:grpSpPr>
          <a:xfrm>
            <a:off x="268200" y="1407960"/>
            <a:ext cx="1621080" cy="901800"/>
            <a:chOff x="268200" y="1407960"/>
            <a:chExt cx="1621080" cy="901800"/>
          </a:xfrm>
        </p:grpSpPr>
        <p:pic>
          <p:nvPicPr>
            <p:cNvPr id="286" name="Скругленный прямоугольник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68200" y="1407960"/>
              <a:ext cx="1621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61800" y="1474920"/>
              <a:ext cx="1435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Скругленный прямоугольник 9"/>
          <p:cNvGrpSpPr/>
          <p:nvPr/>
        </p:nvGrpSpPr>
        <p:grpSpPr>
          <a:xfrm>
            <a:off x="6821640" y="219240"/>
            <a:ext cx="1620720" cy="903240"/>
            <a:chOff x="6821640" y="219240"/>
            <a:chExt cx="1620720" cy="903240"/>
          </a:xfrm>
        </p:grpSpPr>
        <p:pic>
          <p:nvPicPr>
            <p:cNvPr id="289" name="Скругленный прямоугольник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821640" y="219240"/>
              <a:ext cx="1620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913440" y="287280"/>
              <a:ext cx="143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Скругленный прямоугольник 10"/>
          <p:cNvGrpSpPr/>
          <p:nvPr/>
        </p:nvGrpSpPr>
        <p:grpSpPr>
          <a:xfrm>
            <a:off x="4443480" y="189000"/>
            <a:ext cx="1622520" cy="901440"/>
            <a:chOff x="4443480" y="189000"/>
            <a:chExt cx="1622520" cy="901440"/>
          </a:xfrm>
        </p:grpSpPr>
        <p:pic>
          <p:nvPicPr>
            <p:cNvPr id="292" name="Скругленный прямоугольник 1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443480" y="189000"/>
              <a:ext cx="16225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538520" y="25560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Скругленный прямоугольник 11"/>
          <p:cNvGrpSpPr/>
          <p:nvPr/>
        </p:nvGrpSpPr>
        <p:grpSpPr>
          <a:xfrm>
            <a:off x="2273400" y="176040"/>
            <a:ext cx="1622160" cy="903600"/>
            <a:chOff x="2273400" y="176040"/>
            <a:chExt cx="1622160" cy="903600"/>
          </a:xfrm>
        </p:grpSpPr>
        <p:pic>
          <p:nvPicPr>
            <p:cNvPr id="295" name="Скругленный прямоугольник 1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2273400" y="176040"/>
              <a:ext cx="1622160" cy="9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367000" y="247680"/>
              <a:ext cx="14349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Скругленный прямоугольник 12"/>
          <p:cNvGrpSpPr/>
          <p:nvPr/>
        </p:nvGrpSpPr>
        <p:grpSpPr>
          <a:xfrm>
            <a:off x="268200" y="5486400"/>
            <a:ext cx="1621080" cy="901800"/>
            <a:chOff x="268200" y="5486400"/>
            <a:chExt cx="1621080" cy="901800"/>
          </a:xfrm>
        </p:grpSpPr>
        <p:pic>
          <p:nvPicPr>
            <p:cNvPr id="298" name="Скругленный прямоугольник 12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268200" y="5486400"/>
              <a:ext cx="1621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61800" y="5554800"/>
              <a:ext cx="1435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Скругленный прямоугольник 15"/>
          <p:cNvGrpSpPr/>
          <p:nvPr/>
        </p:nvGrpSpPr>
        <p:grpSpPr>
          <a:xfrm>
            <a:off x="6821640" y="1450800"/>
            <a:ext cx="1620720" cy="901800"/>
            <a:chOff x="6821640" y="1450800"/>
            <a:chExt cx="1620720" cy="901800"/>
          </a:xfrm>
        </p:grpSpPr>
        <p:pic>
          <p:nvPicPr>
            <p:cNvPr id="301" name="Скругленный прямоугольник 15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6821640" y="1450800"/>
              <a:ext cx="16207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913440" y="1522440"/>
              <a:ext cx="143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Скругленный прямоугольник 16"/>
          <p:cNvGrpSpPr/>
          <p:nvPr/>
        </p:nvGrpSpPr>
        <p:grpSpPr>
          <a:xfrm>
            <a:off x="4443480" y="1450800"/>
            <a:ext cx="1622520" cy="901800"/>
            <a:chOff x="4443480" y="1450800"/>
            <a:chExt cx="1622520" cy="901800"/>
          </a:xfrm>
        </p:grpSpPr>
        <p:pic>
          <p:nvPicPr>
            <p:cNvPr id="304" name="Скругленный прямоугольник 16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4443480" y="1450800"/>
              <a:ext cx="1622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38520" y="152244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Скругленный прямоугольник 17"/>
          <p:cNvGrpSpPr/>
          <p:nvPr/>
        </p:nvGrpSpPr>
        <p:grpSpPr>
          <a:xfrm>
            <a:off x="2236680" y="1450800"/>
            <a:ext cx="1622520" cy="901800"/>
            <a:chOff x="2236680" y="1450800"/>
            <a:chExt cx="1622520" cy="901800"/>
          </a:xfrm>
        </p:grpSpPr>
        <p:pic>
          <p:nvPicPr>
            <p:cNvPr id="307" name="Скругленный прямоугольник 17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2236680" y="1450800"/>
              <a:ext cx="1622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330280" y="1522440"/>
              <a:ext cx="143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18"/>
          <p:cNvGrpSpPr/>
          <p:nvPr/>
        </p:nvGrpSpPr>
        <p:grpSpPr>
          <a:xfrm>
            <a:off x="6821640" y="2773440"/>
            <a:ext cx="1620720" cy="903240"/>
            <a:chOff x="6821640" y="2773440"/>
            <a:chExt cx="1620720" cy="903240"/>
          </a:xfrm>
        </p:grpSpPr>
        <p:pic>
          <p:nvPicPr>
            <p:cNvPr id="310" name="Скругленный прямоугольник 18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6821640" y="2773440"/>
              <a:ext cx="1620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913440" y="2843280"/>
              <a:ext cx="143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19"/>
          <p:cNvGrpSpPr/>
          <p:nvPr/>
        </p:nvGrpSpPr>
        <p:grpSpPr>
          <a:xfrm>
            <a:off x="4443480" y="2773440"/>
            <a:ext cx="1622520" cy="903240"/>
            <a:chOff x="4443480" y="2773440"/>
            <a:chExt cx="1622520" cy="903240"/>
          </a:xfrm>
        </p:grpSpPr>
        <p:pic>
          <p:nvPicPr>
            <p:cNvPr id="313" name="Скругленный прямоугольник 19" descr="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4443480" y="2773440"/>
              <a:ext cx="16225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38520" y="284328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20"/>
          <p:cNvGrpSpPr/>
          <p:nvPr/>
        </p:nvGrpSpPr>
        <p:grpSpPr>
          <a:xfrm>
            <a:off x="2273400" y="2773440"/>
            <a:ext cx="1622160" cy="903240"/>
            <a:chOff x="2273400" y="2773440"/>
            <a:chExt cx="1622160" cy="903240"/>
          </a:xfrm>
        </p:grpSpPr>
        <p:pic>
          <p:nvPicPr>
            <p:cNvPr id="316" name="Скругленный прямоугольник 20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2273400" y="2773440"/>
              <a:ext cx="16221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367000" y="2843280"/>
              <a:ext cx="14349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Скругленный прямоугольник 21"/>
          <p:cNvGrpSpPr/>
          <p:nvPr/>
        </p:nvGrpSpPr>
        <p:grpSpPr>
          <a:xfrm>
            <a:off x="6821640" y="4121280"/>
            <a:ext cx="1620720" cy="901440"/>
            <a:chOff x="6821640" y="4121280"/>
            <a:chExt cx="1620720" cy="901440"/>
          </a:xfrm>
        </p:grpSpPr>
        <p:pic>
          <p:nvPicPr>
            <p:cNvPr id="319" name="Скругленный прямоугольник 21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6821640" y="4121280"/>
              <a:ext cx="16207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913440" y="4187880"/>
              <a:ext cx="143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Скругленный прямоугольник 22"/>
          <p:cNvGrpSpPr/>
          <p:nvPr/>
        </p:nvGrpSpPr>
        <p:grpSpPr>
          <a:xfrm>
            <a:off x="4443480" y="4102200"/>
            <a:ext cx="1622520" cy="903240"/>
            <a:chOff x="4443480" y="4102200"/>
            <a:chExt cx="1622520" cy="903240"/>
          </a:xfrm>
        </p:grpSpPr>
        <p:pic>
          <p:nvPicPr>
            <p:cNvPr id="322" name="Скругленный прямоугольник 22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4443480" y="4102200"/>
              <a:ext cx="16225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538520" y="417204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Скругленный прямоугольник 23"/>
          <p:cNvGrpSpPr/>
          <p:nvPr/>
        </p:nvGrpSpPr>
        <p:grpSpPr>
          <a:xfrm>
            <a:off x="2273400" y="4121280"/>
            <a:ext cx="1622160" cy="901440"/>
            <a:chOff x="2273400" y="4121280"/>
            <a:chExt cx="1622160" cy="901440"/>
          </a:xfrm>
        </p:grpSpPr>
        <p:pic>
          <p:nvPicPr>
            <p:cNvPr id="325" name="Скругленный прямоугольник 23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2273400" y="4121280"/>
              <a:ext cx="16221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2367000" y="4187880"/>
              <a:ext cx="14349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Скругленный прямоугольник 24"/>
          <p:cNvGrpSpPr/>
          <p:nvPr/>
        </p:nvGrpSpPr>
        <p:grpSpPr>
          <a:xfrm>
            <a:off x="6821640" y="5486400"/>
            <a:ext cx="1620720" cy="901800"/>
            <a:chOff x="6821640" y="5486400"/>
            <a:chExt cx="1620720" cy="901800"/>
          </a:xfrm>
        </p:grpSpPr>
        <p:pic>
          <p:nvPicPr>
            <p:cNvPr id="328" name="Скругленный прямоугольник 24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6821640" y="5486400"/>
              <a:ext cx="16207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13440" y="5554800"/>
              <a:ext cx="14367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Скругленный прямоугольник 25"/>
          <p:cNvGrpSpPr/>
          <p:nvPr/>
        </p:nvGrpSpPr>
        <p:grpSpPr>
          <a:xfrm>
            <a:off x="4443480" y="5486400"/>
            <a:ext cx="1622520" cy="901800"/>
            <a:chOff x="4443480" y="5486400"/>
            <a:chExt cx="1622520" cy="901800"/>
          </a:xfrm>
        </p:grpSpPr>
        <p:pic>
          <p:nvPicPr>
            <p:cNvPr id="331" name="Скругленный прямоугольник 25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4443480" y="5486400"/>
              <a:ext cx="1622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538520" y="5554800"/>
              <a:ext cx="1435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Скругленный прямоугольник 26"/>
          <p:cNvGrpSpPr/>
          <p:nvPr/>
        </p:nvGrpSpPr>
        <p:grpSpPr>
          <a:xfrm>
            <a:off x="2236680" y="5486400"/>
            <a:ext cx="1622520" cy="901800"/>
            <a:chOff x="2236680" y="5486400"/>
            <a:chExt cx="1622520" cy="901800"/>
          </a:xfrm>
        </p:grpSpPr>
        <p:pic>
          <p:nvPicPr>
            <p:cNvPr id="334" name="Скругленный прямоугольник 26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2236680" y="5486400"/>
              <a:ext cx="1622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330280" y="5554800"/>
              <a:ext cx="14367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Развивающие занятия "/>
          <p:cNvPicPr/>
          <p:nvPr/>
        </p:nvPicPr>
        <p:blipFill>
          <a:blip r:embed="rId1"/>
          <a:stretch/>
        </p:blipFill>
        <p:spPr>
          <a:xfrm>
            <a:off x="2932200" y="3068640"/>
            <a:ext cx="3220920" cy="34196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050920" y="260280"/>
            <a:ext cx="7021800" cy="2592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Сколько страниц отсутствует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сколько страниц пропущено в открытой кни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левой странице девочка увидела но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ницы - 12, а на правой -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страниц было пропуще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9"/>
          <p:cNvSpPr/>
          <p:nvPr/>
        </p:nvSpPr>
        <p:spPr>
          <a:xfrm>
            <a:off x="179280" y="456408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0"/>
          <p:cNvSpPr/>
          <p:nvPr/>
        </p:nvSpPr>
        <p:spPr>
          <a:xfrm>
            <a:off x="6804000" y="456408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1"/>
          <p:cNvSpPr/>
          <p:nvPr/>
        </p:nvSpPr>
        <p:spPr>
          <a:xfrm>
            <a:off x="6804000" y="332568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Стрелка влево 12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0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035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2050920" y="260280"/>
            <a:ext cx="7021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Какое число закрыла бабочк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бочка села на правильно решенный при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е число она закрыл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8"/>
          <p:cNvSpPr/>
          <p:nvPr/>
        </p:nvSpPr>
        <p:spPr>
          <a:xfrm>
            <a:off x="1835280" y="357336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9"/>
          <p:cNvSpPr/>
          <p:nvPr/>
        </p:nvSpPr>
        <p:spPr>
          <a:xfrm>
            <a:off x="1084320" y="456408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0"/>
          <p:cNvSpPr/>
          <p:nvPr/>
        </p:nvSpPr>
        <p:spPr>
          <a:xfrm>
            <a:off x="5091120" y="363708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1"/>
          <p:cNvSpPr/>
          <p:nvPr/>
        </p:nvSpPr>
        <p:spPr>
          <a:xfrm>
            <a:off x="6443640" y="458136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800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http://www.develop-kinder.com/z/3/01/1/z2a.gif"/>
          <p:cNvPicPr/>
          <p:nvPr/>
        </p:nvPicPr>
        <p:blipFill>
          <a:blip r:embed="rId1"/>
          <a:stretch/>
        </p:blipFill>
        <p:spPr>
          <a:xfrm>
            <a:off x="1193760" y="1944720"/>
            <a:ext cx="6402600" cy="1373040"/>
          </a:xfrm>
          <a:prstGeom prst="rect">
            <a:avLst/>
          </a:prstGeom>
          <a:ln w="0">
            <a:noFill/>
          </a:ln>
        </p:spPr>
      </p:pic>
      <p:sp>
        <p:nvSpPr>
          <p:cNvPr id="539" name="Стрелка влево 12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0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1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072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080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3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7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1108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http://www.develop-kinder.com/z/4/01/2/z4a.gif"/>
          <p:cNvPicPr/>
          <p:nvPr/>
        </p:nvPicPr>
        <p:blipFill>
          <a:blip r:embed="rId1"/>
          <a:stretch/>
        </p:blipFill>
        <p:spPr>
          <a:xfrm>
            <a:off x="4932360" y="4292640"/>
            <a:ext cx="2303640" cy="246852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2050920" y="260280"/>
            <a:ext cx="7021800" cy="4176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Лыжный кросс и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и девочки : Александра, Настя и Раи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нишировали в лыжном кроссе на перв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ом и третьем ме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следующий день в школе девочки сказали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иса : "Александра не финишировала на пер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сте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ександра : "Настя не финишировала на вто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сте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тя : "Раиса не финишировала ни на перв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и на третьем месте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зднее, однако, стало ясно, что только одна из девоч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казала прав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то финишировал на третьем мест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8"/>
          <p:cNvSpPr/>
          <p:nvPr/>
        </p:nvSpPr>
        <p:spPr>
          <a:xfrm>
            <a:off x="34920" y="270828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9"/>
          <p:cNvSpPr/>
          <p:nvPr/>
        </p:nvSpPr>
        <p:spPr>
          <a:xfrm>
            <a:off x="144360" y="5192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0"/>
          <p:cNvSpPr/>
          <p:nvPr/>
        </p:nvSpPr>
        <p:spPr>
          <a:xfrm>
            <a:off x="34920" y="404028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трелка влево 13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nodeType="clickEffect" fill="hold">
                      <p:stCondLst>
                        <p:cond delay="0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9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144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152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166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1" descr="Развивающие занятия "/>
          <p:cNvPicPr/>
          <p:nvPr/>
        </p:nvPicPr>
        <p:blipFill>
          <a:blip r:embed="rId1"/>
          <a:stretch/>
        </p:blipFill>
        <p:spPr>
          <a:xfrm>
            <a:off x="2556000" y="2070000"/>
            <a:ext cx="4103640" cy="42386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050920" y="115920"/>
            <a:ext cx="6913800" cy="1728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жа поднимается по лестнице. Кажд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ерепрыгивает через одну ступень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он - на третьей ступеньке. На ка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пеньке он окажется, сделав три своих "шага"?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179280" y="270828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179280" y="501336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"/>
          <p:cNvSpPr/>
          <p:nvPr/>
        </p:nvSpPr>
        <p:spPr>
          <a:xfrm>
            <a:off x="6948360" y="270828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2"/>
          <p:cNvSpPr/>
          <p:nvPr/>
        </p:nvSpPr>
        <p:spPr>
          <a:xfrm>
            <a:off x="6948360" y="501336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2124000" y="4005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7"/>
          <p:cNvSpPr/>
          <p:nvPr/>
        </p:nvSpPr>
        <p:spPr>
          <a:xfrm>
            <a:off x="2195640" y="350028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лево 26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3" descr="http://www.develop-kinder.com/z/2/01/1/z5a.gif"/>
          <p:cNvPicPr/>
          <p:nvPr/>
        </p:nvPicPr>
        <p:blipFill>
          <a:blip r:embed="rId1"/>
          <a:stretch/>
        </p:blipFill>
        <p:spPr>
          <a:xfrm>
            <a:off x="4067280" y="2644920"/>
            <a:ext cx="4752720" cy="39607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2"/>
          <p:cNvSpPr/>
          <p:nvPr/>
        </p:nvSpPr>
        <p:spPr>
          <a:xfrm>
            <a:off x="2195640" y="260280"/>
            <a:ext cx="6913440" cy="2232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ачок хочет вставить в три разные рам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реты Винни-Пуха, Тигры и Иа-И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может разместить портрет Винни-Пух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овой рамочке, Тигры - бирюзовой, а Иа-Иа -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ичне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колько всего разных способов есть у Пятач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разместить портреты своих друзей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>
            <a:hlinkClick r:id="rId2" action="ppaction://hlinksldjump"/>
          </p:cNvPr>
          <p:cNvSpPr/>
          <p:nvPr/>
        </p:nvSpPr>
        <p:spPr>
          <a:xfrm>
            <a:off x="187200" y="25560"/>
            <a:ext cx="1800360" cy="15127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1987560" y="2781360"/>
            <a:ext cx="180036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1987560" y="3429000"/>
            <a:ext cx="180036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>
            <a:off x="1987560" y="4056120"/>
            <a:ext cx="180036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5"/>
          <p:cNvSpPr/>
          <p:nvPr/>
        </p:nvSpPr>
        <p:spPr>
          <a:xfrm>
            <a:off x="1987560" y="4653000"/>
            <a:ext cx="180036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7"/>
          <p:cNvSpPr/>
          <p:nvPr/>
        </p:nvSpPr>
        <p:spPr>
          <a:xfrm>
            <a:off x="2556000" y="5597640"/>
            <a:ext cx="4824360" cy="100800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8"/>
          <p:cNvSpPr/>
          <p:nvPr/>
        </p:nvSpPr>
        <p:spPr>
          <a:xfrm>
            <a:off x="2556000" y="530064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5" descr="http://www.develop-kinder.com/z/2/01/1/z5b.gif"/>
          <p:cNvPicPr/>
          <p:nvPr/>
        </p:nvPicPr>
        <p:blipFill>
          <a:blip r:embed="rId3"/>
          <a:stretch/>
        </p:blipFill>
        <p:spPr>
          <a:xfrm>
            <a:off x="324000" y="1701720"/>
            <a:ext cx="1525320" cy="1800360"/>
          </a:xfrm>
          <a:prstGeom prst="rect">
            <a:avLst/>
          </a:prstGeom>
          <a:ln w="0">
            <a:noFill/>
          </a:ln>
        </p:spPr>
      </p:pic>
      <p:sp>
        <p:nvSpPr>
          <p:cNvPr id="356" name="Стрелка влево 21">
            <a:hlinkClick r:id="rId4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6"/>
          <p:cNvSpPr/>
          <p:nvPr/>
        </p:nvSpPr>
        <p:spPr>
          <a:xfrm>
            <a:off x="6710400" y="464328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3" descr="Развивающие занятия "/>
          <p:cNvPicPr/>
          <p:nvPr/>
        </p:nvPicPr>
        <p:blipFill>
          <a:blip r:embed="rId1"/>
          <a:stretch/>
        </p:blipFill>
        <p:spPr>
          <a:xfrm>
            <a:off x="2641680" y="1801800"/>
            <a:ext cx="3889440" cy="4989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2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2124000" y="260280"/>
            <a:ext cx="684072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нгвин строит себе домик изо льда. Ост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роить крышу. Но он никак не мо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ть, какую взять льдинку. Помоги е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201600" y="2276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6710400" y="2276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179280" y="379080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6686640" y="396720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2195640" y="491004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7"/>
          <p:cNvSpPr/>
          <p:nvPr/>
        </p:nvSpPr>
        <p:spPr>
          <a:xfrm>
            <a:off x="2268360" y="3716280"/>
            <a:ext cx="4824720" cy="100800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201600" y="306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464328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6710400" y="306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трелка влево 33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Объект 3" descr="Развивающие занятия "/>
          <p:cNvPicPr/>
          <p:nvPr/>
        </p:nvPicPr>
        <p:blipFill>
          <a:blip r:embed="rId1"/>
          <a:stretch/>
        </p:blipFill>
        <p:spPr>
          <a:xfrm>
            <a:off x="1335240" y="1600200"/>
            <a:ext cx="2282760" cy="2185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2122560" y="260280"/>
            <a:ext cx="691344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посмотри на рисунок, най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й город, а потом посмотри в от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н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9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-Йорк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0"/>
          <p:cNvSpPr/>
          <p:nvPr/>
        </p:nvSpPr>
        <p:spPr>
          <a:xfrm>
            <a:off x="695484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1"/>
          <p:cNvSpPr/>
          <p:nvPr/>
        </p:nvSpPr>
        <p:spPr>
          <a:xfrm>
            <a:off x="6954840" y="450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о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"/>
          <p:cNvSpPr/>
          <p:nvPr/>
        </p:nvSpPr>
        <p:spPr>
          <a:xfrm>
            <a:off x="2203200" y="18900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ин папа часто ездит в командир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5"/>
          <p:cNvSpPr/>
          <p:nvPr/>
        </p:nvSpPr>
        <p:spPr>
          <a:xfrm>
            <a:off x="2195640" y="54936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й город он ездит чаще всего, если, по возвращении домой, он приклеивает наклей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азванием города, на свой чемодан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лево 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>
            <a:hlinkClick r:id="rId1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122560" y="260280"/>
            <a:ext cx="6913440" cy="2808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Кащея Бессмертного до Киким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т три дороги (№1, №2, №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Кикиморы до Бабы-Яги - 2 доро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№4, №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ими способами может добр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щей до Бабы-Яги, заходя в гост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кимо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9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696600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"/>
          <p:cNvSpPr/>
          <p:nvPr/>
        </p:nvSpPr>
        <p:spPr>
          <a:xfrm>
            <a:off x="6954840" y="450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10" descr="http://www.develop-kinder.com/z/2/01/2/z2b.gif"/>
          <p:cNvPicPr/>
          <p:nvPr/>
        </p:nvPicPr>
        <p:blipFill>
          <a:blip r:embed="rId2"/>
          <a:stretch/>
        </p:blipFill>
        <p:spPr>
          <a:xfrm>
            <a:off x="2098800" y="26028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9" descr="http://www.develop-kinder.com/z/2/01/2/z2a.gif"/>
          <p:cNvPicPr/>
          <p:nvPr/>
        </p:nvPicPr>
        <p:blipFill>
          <a:blip r:embed="rId3"/>
          <a:stretch/>
        </p:blipFill>
        <p:spPr>
          <a:xfrm>
            <a:off x="7846920" y="155736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8" descr="http://www.develop-kinder.com/z/2/01/2/z2c.gif"/>
          <p:cNvPicPr/>
          <p:nvPr/>
        </p:nvPicPr>
        <p:blipFill>
          <a:blip r:embed="rId4"/>
          <a:stretch/>
        </p:blipFill>
        <p:spPr>
          <a:xfrm>
            <a:off x="2103480" y="3357720"/>
            <a:ext cx="4911840" cy="1828800"/>
          </a:xfrm>
          <a:prstGeom prst="rect">
            <a:avLst/>
          </a:prstGeom>
          <a:ln w="0">
            <a:noFill/>
          </a:ln>
        </p:spPr>
      </p:pic>
      <p:sp>
        <p:nvSpPr>
          <p:cNvPr id="394" name="Стрелка влево 16">
            <a:hlinkClick r:id="rId5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Рисунок 9" descr="http://www.develop-kinder.com/z/2/01/2/z4b.gif"/>
          <p:cNvPicPr/>
          <p:nvPr/>
        </p:nvPicPr>
        <p:blipFill>
          <a:blip r:embed="rId1"/>
          <a:stretch/>
        </p:blipFill>
        <p:spPr>
          <a:xfrm>
            <a:off x="2625840" y="2371680"/>
            <a:ext cx="3855960" cy="33847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2109960" y="230040"/>
            <a:ext cx="6913440" cy="1903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Юля может прочитать и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го любимого кота Марсика, если ей разреш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ься только вправо или вниз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696600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0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1"/>
          <p:cNvSpPr/>
          <p:nvPr/>
        </p:nvSpPr>
        <p:spPr>
          <a:xfrm>
            <a:off x="6954840" y="450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трелка влево 35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http://www.develop-kinder.com/z/1/01/1/z1a.gif"/>
          <p:cNvPicPr/>
          <p:nvPr/>
        </p:nvPicPr>
        <p:blipFill>
          <a:blip r:embed="rId1"/>
          <a:stretch/>
        </p:blipFill>
        <p:spPr>
          <a:xfrm>
            <a:off x="2587680" y="3317760"/>
            <a:ext cx="4145040" cy="2841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2122560" y="260280"/>
            <a:ext cx="691344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чество у мамы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синого отца зовут Ив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иколаевич, а дедушку - Се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трович. Какое отчество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синой ма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8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9"/>
          <p:cNvSpPr/>
          <p:nvPr/>
        </p:nvSpPr>
        <p:spPr>
          <a:xfrm>
            <a:off x="179280" y="33177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0"/>
          <p:cNvSpPr/>
          <p:nvPr/>
        </p:nvSpPr>
        <p:spPr>
          <a:xfrm>
            <a:off x="697392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1"/>
          <p:cNvSpPr/>
          <p:nvPr/>
        </p:nvSpPr>
        <p:spPr>
          <a:xfrm>
            <a:off x="6954840" y="450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" descr="http://www.develop-kinder.com/z/1/01/1/z1.gif"/>
          <p:cNvPicPr/>
          <p:nvPr/>
        </p:nvPicPr>
        <p:blipFill>
          <a:blip r:embed="rId3"/>
          <a:stretch/>
        </p:blipFill>
        <p:spPr>
          <a:xfrm>
            <a:off x="2124000" y="189000"/>
            <a:ext cx="1368360" cy="2525760"/>
          </a:xfrm>
          <a:prstGeom prst="rect">
            <a:avLst/>
          </a:prstGeom>
          <a:ln w="0">
            <a:noFill/>
          </a:ln>
        </p:spPr>
      </p:pic>
      <p:sp>
        <p:nvSpPr>
          <p:cNvPr id="415" name="Стрелка влево 11">
            <a:hlinkClick r:id="rId4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365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0:13:57Z</dcterms:created>
  <dc:creator>КарМаН</dc:creator>
  <dc:description/>
  <dc:language>en-US</dc:language>
  <cp:lastModifiedBy>Илья</cp:lastModifiedBy>
  <dcterms:modified xsi:type="dcterms:W3CDTF">2019-05-20T18:44:50Z</dcterms:modified>
  <cp:revision>26</cp:revision>
  <dc:subject/>
  <dc:title>Слайд 1</dc:title>
</cp:coreProperties>
</file>