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591-A0F2-4ADB-9B50-B049FAB3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8EC-12A3-4DA8-A2FB-495A75CB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FFB-3E69-4B03-A1D9-799840D8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2FB-37C1-4138-9D5F-42CF92A5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5B91-BEA5-4306-A0DC-CE694F4F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B451-9E85-42C8-9FBE-66F52747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C3B-D0F9-440E-9EC0-19318E0B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C9C-AD7F-441A-A308-174F8570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F1F8-8F5F-467F-8AD6-C6C9894E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1EE9-3E53-4162-8670-59C0EDD0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CB3C-38B4-474F-A2D1-C22D19F2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5E9-D19C-44AE-9E00-7A370BE2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4309-F1C4-4A0B-B228-596A235B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D96C-B263-44BC-8764-547BCE7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EF42-FFC1-47BB-A109-18BDAB1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F474-59B6-4E4C-9311-93AF558A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93C-B41D-4CCF-B990-93954A2F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F2F9-7D08-4B4E-9653-BCD83951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F3A3-4D9F-49DC-AF58-44A5A9F4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94DF-E70D-4B47-9DA8-2AE04648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7EF2-A0D3-44C2-82F8-D19C5CFD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1CF0-EF37-4CD4-8B00-24BD56B4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28E-71E3-4855-8102-309DF63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F43A-36FC-4D6E-A1D0-3EC3EF39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563A-1F37-4991-B468-377BA6E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2F2F-BE90-42F8-8828-A358F854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17E61-4410-44F6-8C78-093984F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9B6F-FD23-4F2F-9DAC-5DE1F7E5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D172-B633-4EE9-927A-0891D6AB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700A-6CAA-4C38-AE42-4DCC43C2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B4C3-7A62-4412-B172-103C6F31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46A4-AFF9-478C-AF44-2EE88BE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CC13-683B-4D28-A259-D9C0E7C1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A3D-DB3F-4A2A-AF99-12255A71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8883-68BD-4D32-94DF-316F49A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9A03-BC0B-4A85-B22E-F3CAE2DC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B224-D0E7-4455-9943-36D45F6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5267-F119-4460-A3C7-E0A2D1D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6BF3-D40B-45EA-A63F-812AC1E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2DA9-F07A-4793-91B7-0F81E820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5915-73F7-4EC3-990C-1725FFC4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20E4-C8E8-4E89-A0CF-0A5A9C4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DB40-52A2-4D8E-A693-92652383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E0972-E8B5-4A34-A5A6-C5C94BE9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9C1-57BA-41F4-9D51-83A3B980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A93A-AD5A-459D-95DA-D0664C8B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EA5E-7F17-4256-9CED-575E6A7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36CF-DFB1-4B06-918A-8E9B594B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509B-533F-4F71-8EEE-89D0B3D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09E27-5CCB-49C2-8914-802E6701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EC85-8738-49E7-A904-16D6609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390D-4477-4666-A427-8FB783C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E4D2-866C-4711-8E34-EB7C34A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D670-02B8-48F7-99BD-D5C4CF27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A84C5-C483-48B9-ACEF-BE95B337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AC6-77F0-4052-AE68-A0F4053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F8790-4C47-48D7-8806-7E7BE1DB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66D4-AD9E-4DD3-B506-329A2A59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6ACF8-1840-48FB-B9AA-9F995616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4EB4-C9AE-4531-A061-5F59F671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9F85-9CE4-40A1-8188-C1BFE96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94140-0BB4-4A26-943E-1BECA41F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732FB-6D3C-45F6-87EA-93F38E6D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AF418-0163-49E2-B84E-D6E6125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B92A-0E5D-4B7F-AA02-E2D17D0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B7176-4B1A-4940-B985-13EB4F5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B3E-746E-435E-9B18-32BD95C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BAB0-110A-4310-A23B-C00E4E55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DD1AF-FC84-4B75-99EA-FCB4CE10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0E1AF-D787-49D2-930B-EDA62DC9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6A3-5D0A-4FAD-9F23-DC02CDA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063-612F-4A90-993E-CE10F94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8769-7202-4194-B086-6E1680D47B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7981-522C-4C10-851B-8B3A0E5CF9E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63D-ACA9-4925-9674-D91E262D47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9AB0-53A1-46F6-887D-57953AE4C7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BD1D-517C-427D-9C90-B357A9E35ED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A309-BBF7-4365-85D9-B4F23C9DEAD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7.xml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4.xml"/><Relationship Id="rId14" Type="http://schemas.openxmlformats.org/officeDocument/2006/relationships/image" Target="../media/image3.png"/><Relationship Id="rId15" Type="http://schemas.openxmlformats.org/officeDocument/2006/relationships/slide" Target="slide19.xml"/><Relationship Id="rId16" Type="http://schemas.openxmlformats.org/officeDocument/2006/relationships/image" Target="../media/image3.png"/><Relationship Id="rId17" Type="http://schemas.openxmlformats.org/officeDocument/2006/relationships/slide" Target="slide10.xml"/><Relationship Id="rId18" Type="http://schemas.openxmlformats.org/officeDocument/2006/relationships/image" Target="../media/image3.png"/><Relationship Id="rId19" Type="http://schemas.openxmlformats.org/officeDocument/2006/relationships/slide" Target="slide9.xml"/><Relationship Id="rId20" Type="http://schemas.openxmlformats.org/officeDocument/2006/relationships/image" Target="../media/image3.png"/><Relationship Id="rId21" Type="http://schemas.openxmlformats.org/officeDocument/2006/relationships/slide" Target="slide8.xml"/><Relationship Id="rId22" Type="http://schemas.openxmlformats.org/officeDocument/2006/relationships/image" Target="../media/image3.png"/><Relationship Id="rId23" Type="http://schemas.openxmlformats.org/officeDocument/2006/relationships/slide" Target="slide14.xml"/><Relationship Id="rId24" Type="http://schemas.openxmlformats.org/officeDocument/2006/relationships/image" Target="../media/image3.png"/><Relationship Id="rId25" Type="http://schemas.openxmlformats.org/officeDocument/2006/relationships/slide" Target="slide13.xml"/><Relationship Id="rId26" Type="http://schemas.openxmlformats.org/officeDocument/2006/relationships/image" Target="../media/image3.png"/><Relationship Id="rId27" Type="http://schemas.openxmlformats.org/officeDocument/2006/relationships/slide" Target="slide12.xml"/><Relationship Id="rId28" Type="http://schemas.openxmlformats.org/officeDocument/2006/relationships/image" Target="../media/image3.png"/><Relationship Id="rId29" Type="http://schemas.openxmlformats.org/officeDocument/2006/relationships/slide" Target="slide18.xml"/><Relationship Id="rId30" Type="http://schemas.openxmlformats.org/officeDocument/2006/relationships/image" Target="../media/image3.png"/><Relationship Id="rId31" Type="http://schemas.openxmlformats.org/officeDocument/2006/relationships/slide" Target="slide17.xml"/><Relationship Id="rId32" Type="http://schemas.openxmlformats.org/officeDocument/2006/relationships/image" Target="../media/image3.png"/><Relationship Id="rId33" Type="http://schemas.openxmlformats.org/officeDocument/2006/relationships/slide" Target="slide16.xml"/><Relationship Id="rId34" Type="http://schemas.openxmlformats.org/officeDocument/2006/relationships/image" Target="../media/image3.png"/><Relationship Id="rId35" Type="http://schemas.openxmlformats.org/officeDocument/2006/relationships/slide" Target="slide22.xml"/><Relationship Id="rId36" Type="http://schemas.openxmlformats.org/officeDocument/2006/relationships/image" Target="../media/image3.png"/><Relationship Id="rId37" Type="http://schemas.openxmlformats.org/officeDocument/2006/relationships/slide" Target="slide21.xml"/><Relationship Id="rId38" Type="http://schemas.openxmlformats.org/officeDocument/2006/relationships/image" Target="../media/image3.png"/><Relationship Id="rId39" Type="http://schemas.openxmlformats.org/officeDocument/2006/relationships/slide" Target="slide20.xml"/><Relationship Id="rId40" Type="http://schemas.openxmlformats.org/officeDocument/2006/relationships/image" Target="../media/image3.png"/><Relationship Id="rId4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задач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уровня 1 бал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задач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уровня 2 бал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 задача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уровня 3 бал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-2 балл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-4 балл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 и более балл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астие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Сердце 3"/>
          <p:cNvSpPr/>
          <p:nvPr/>
        </p:nvSpPr>
        <p:spPr>
          <a:xfrm>
            <a:off x="4140360" y="2637000"/>
            <a:ext cx="1152360" cy="792000"/>
          </a:xfrm>
          <a:custGeom>
            <a:avLst/>
            <a:gdLst>
              <a:gd name="textAreaLeft" fmla="*/ 191880 w 1152360"/>
              <a:gd name="textAreaRight" fmla="*/ 960480 w 1152360"/>
              <a:gd name="textAreaTop" fmla="*/ 198000 h 792000"/>
              <a:gd name="textAreaBottom" fmla="*/ 528120 h 792000"/>
            </a:gdLst>
            <a:ahLst/>
            <a:rect l="textAreaLeft" t="textAreaTop" r="textAreaRight" b="textAreaBottom"/>
            <a:pathLst>
              <a:path w="1152525" h="792162">
                <a:moveTo>
                  <a:pt x="576263" y="198041"/>
                </a:moveTo>
                <a:cubicBezTo>
                  <a:pt x="816372" y="-264054"/>
                  <a:pt x="1752798" y="198041"/>
                  <a:pt x="576263" y="792162"/>
                </a:cubicBezTo>
                <a:cubicBezTo>
                  <a:pt x="-600273" y="198041"/>
                  <a:pt x="336153" y="-264054"/>
                  <a:pt x="576263" y="198041"/>
                </a:cubicBezTo>
                <a:close/>
              </a:path>
            </a:pathLst>
          </a:custGeom>
          <a:solidFill>
            <a:srgbClr val="92d050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ердце 4"/>
          <p:cNvSpPr/>
          <p:nvPr/>
        </p:nvSpPr>
        <p:spPr>
          <a:xfrm>
            <a:off x="4356000" y="3789360"/>
            <a:ext cx="1152720" cy="792000"/>
          </a:xfrm>
          <a:custGeom>
            <a:avLst/>
            <a:gdLst>
              <a:gd name="textAreaLeft" fmla="*/ 191880 w 1152720"/>
              <a:gd name="textAreaRight" fmla="*/ 960840 w 1152720"/>
              <a:gd name="textAreaTop" fmla="*/ 198000 h 792000"/>
              <a:gd name="textAreaBottom" fmla="*/ 528120 h 792000"/>
            </a:gdLst>
            <a:ahLst/>
            <a:rect l="textAreaLeft" t="textAreaTop" r="textAreaRight" b="textAreaBottom"/>
            <a:pathLst>
              <a:path w="1152525" h="792162">
                <a:moveTo>
                  <a:pt x="576263" y="198041"/>
                </a:moveTo>
                <a:cubicBezTo>
                  <a:pt x="816372" y="-264054"/>
                  <a:pt x="1752798" y="198041"/>
                  <a:pt x="576263" y="792162"/>
                </a:cubicBezTo>
                <a:cubicBezTo>
                  <a:pt x="-600273" y="198041"/>
                  <a:pt x="336153" y="-264054"/>
                  <a:pt x="576263" y="198041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ердце 5"/>
          <p:cNvSpPr/>
          <p:nvPr/>
        </p:nvSpPr>
        <p:spPr>
          <a:xfrm>
            <a:off x="4500720" y="4869000"/>
            <a:ext cx="1150920" cy="792000"/>
          </a:xfrm>
          <a:custGeom>
            <a:avLst/>
            <a:gdLst>
              <a:gd name="textAreaLeft" fmla="*/ 191880 w 1150920"/>
              <a:gd name="textAreaRight" fmla="*/ 959040 w 1150920"/>
              <a:gd name="textAreaTop" fmla="*/ 198000 h 792000"/>
              <a:gd name="textAreaBottom" fmla="*/ 528120 h 792000"/>
            </a:gdLst>
            <a:ahLst/>
            <a:rect l="textAreaLeft" t="textAreaTop" r="textAreaRight" b="textAreaBottom"/>
            <a:pathLst>
              <a:path w="1150937" h="792162">
                <a:moveTo>
                  <a:pt x="575469" y="198041"/>
                </a:moveTo>
                <a:cubicBezTo>
                  <a:pt x="815247" y="-264054"/>
                  <a:pt x="1750383" y="198041"/>
                  <a:pt x="575469" y="792162"/>
                </a:cubicBezTo>
                <a:cubicBezTo>
                  <a:pt x="-599446" y="198041"/>
                  <a:pt x="335690" y="-264054"/>
                  <a:pt x="575469" y="198041"/>
                </a:cubicBezTo>
                <a:close/>
              </a:path>
            </a:pathLst>
          </a:custGeom>
          <a:solidFill>
            <a:srgbClr val="ff9f9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ердце 6"/>
          <p:cNvSpPr/>
          <p:nvPr/>
        </p:nvSpPr>
        <p:spPr>
          <a:xfrm>
            <a:off x="4572000" y="5805360"/>
            <a:ext cx="1152360" cy="792360"/>
          </a:xfrm>
          <a:custGeom>
            <a:avLst/>
            <a:gdLst>
              <a:gd name="textAreaLeft" fmla="*/ 191880 w 1152360"/>
              <a:gd name="textAreaRight" fmla="*/ 960480 w 1152360"/>
              <a:gd name="textAreaTop" fmla="*/ 198000 h 792360"/>
              <a:gd name="textAreaBottom" fmla="*/ 528480 h 792360"/>
            </a:gdLst>
            <a:ahLst/>
            <a:rect l="textAreaLeft" t="textAreaTop" r="textAreaRight" b="textAreaBottom"/>
            <a:pathLst>
              <a:path w="1152525" h="792162">
                <a:moveTo>
                  <a:pt x="576263" y="198041"/>
                </a:moveTo>
                <a:cubicBezTo>
                  <a:pt x="816372" y="-264054"/>
                  <a:pt x="1752798" y="198041"/>
                  <a:pt x="576263" y="792162"/>
                </a:cubicBezTo>
                <a:cubicBezTo>
                  <a:pt x="-600273" y="198041"/>
                  <a:pt x="336153" y="-264054"/>
                  <a:pt x="576263" y="198041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4">
            <a:hlinkClick r:id="rId1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050920" y="112680"/>
            <a:ext cx="6993000" cy="2595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a0300"/>
                </a:solidFill>
                <a:latin typeface="Verdana"/>
              </a:rPr>
              <a:t>Что дорож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ле того, как Сереже сказали, что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рандашей стоят дороже, чем 8 тетра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го спросили :"Что дороже стоит,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рандашей или 9 тетрадей 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 если спросят Вас, что Вы ответит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>
            <a:off x="131760" y="2781360"/>
            <a:ext cx="2592360" cy="1655640"/>
          </a:xfrm>
          <a:custGeom>
            <a:avLst/>
            <a:gdLst>
              <a:gd name="textAreaLeft" fmla="*/ 107280 w 2592360"/>
              <a:gd name="textAreaRight" fmla="*/ 2485080 w 259236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3818" h="21600">
                <a:moveTo>
                  <a:pt x="0" y="0"/>
                </a:moveTo>
                <a:lnTo>
                  <a:pt x="33818" y="0"/>
                </a:lnTo>
                <a:lnTo>
                  <a:pt x="33818" y="21600"/>
                </a:lnTo>
                <a:lnTo>
                  <a:pt x="0" y="21600"/>
                </a:lnTo>
                <a:close/>
              </a:path>
              <a:path fill="lightenLess" w="33818" h="21600">
                <a:moveTo>
                  <a:pt x="0" y="0"/>
                </a:moveTo>
                <a:lnTo>
                  <a:pt x="33818" y="0"/>
                </a:lnTo>
                <a:lnTo>
                  <a:pt x="32418" y="1400"/>
                </a:lnTo>
                <a:lnTo>
                  <a:pt x="1400" y="1400"/>
                </a:lnTo>
                <a:close/>
              </a:path>
              <a:path fill="darken" w="33818" h="21600">
                <a:moveTo>
                  <a:pt x="33818" y="0"/>
                </a:moveTo>
                <a:lnTo>
                  <a:pt x="33818" y="21600"/>
                </a:lnTo>
                <a:lnTo>
                  <a:pt x="32418" y="20200"/>
                </a:lnTo>
                <a:lnTo>
                  <a:pt x="32418" y="1400"/>
                </a:lnTo>
                <a:close/>
              </a:path>
              <a:path fill="darkenLess" w="33818" h="21600">
                <a:moveTo>
                  <a:pt x="33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18" y="20200"/>
                </a:lnTo>
                <a:close/>
              </a:path>
              <a:path fill="lighten" w="33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аранд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т с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,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тетрадей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270240" y="2781360"/>
            <a:ext cx="2544840" cy="1657440"/>
          </a:xfrm>
          <a:custGeom>
            <a:avLst/>
            <a:gdLst>
              <a:gd name="textAreaLeft" fmla="*/ 107280 w 2544840"/>
              <a:gd name="textAreaRight" fmla="*/ 2437560 w 2544840"/>
              <a:gd name="textAreaTop" fmla="*/ 107280 h 1657440"/>
              <a:gd name="textAreaBottom" fmla="*/ 1550160 h 1657440"/>
            </a:gdLst>
            <a:ahLst/>
            <a:rect l="textAreaLeft" t="textAreaTop" r="textAreaRight" b="textAreaBottom"/>
            <a:pathLst>
              <a:path w="33162" h="21600">
                <a:moveTo>
                  <a:pt x="0" y="0"/>
                </a:moveTo>
                <a:lnTo>
                  <a:pt x="33162" y="0"/>
                </a:lnTo>
                <a:lnTo>
                  <a:pt x="33162" y="21600"/>
                </a:lnTo>
                <a:lnTo>
                  <a:pt x="0" y="21600"/>
                </a:lnTo>
                <a:close/>
              </a:path>
              <a:path fill="lightenLess" w="33162" h="21600">
                <a:moveTo>
                  <a:pt x="0" y="0"/>
                </a:moveTo>
                <a:lnTo>
                  <a:pt x="33162" y="0"/>
                </a:lnTo>
                <a:lnTo>
                  <a:pt x="31762" y="1400"/>
                </a:lnTo>
                <a:lnTo>
                  <a:pt x="1400" y="1400"/>
                </a:lnTo>
                <a:close/>
              </a:path>
              <a:path fill="darken" w="33162" h="21600">
                <a:moveTo>
                  <a:pt x="33162" y="0"/>
                </a:moveTo>
                <a:lnTo>
                  <a:pt x="33162" y="21600"/>
                </a:lnTo>
                <a:lnTo>
                  <a:pt x="31762" y="20200"/>
                </a:lnTo>
                <a:lnTo>
                  <a:pt x="31762" y="1400"/>
                </a:lnTo>
                <a:close/>
              </a:path>
              <a:path fill="darkenLess" w="33162" h="21600">
                <a:moveTo>
                  <a:pt x="3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62" y="20200"/>
                </a:lnTo>
                <a:close/>
              </a:path>
              <a:path fill="lighten" w="3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аранд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т доро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тетрадей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6300720" y="2781360"/>
            <a:ext cx="2598840" cy="1655640"/>
          </a:xfrm>
          <a:custGeom>
            <a:avLst/>
            <a:gdLst>
              <a:gd name="textAreaLeft" fmla="*/ 107280 w 2598840"/>
              <a:gd name="textAreaRight" fmla="*/ 2491560 w 25988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3903" h="21600">
                <a:moveTo>
                  <a:pt x="0" y="0"/>
                </a:moveTo>
                <a:lnTo>
                  <a:pt x="33903" y="0"/>
                </a:lnTo>
                <a:lnTo>
                  <a:pt x="33903" y="21600"/>
                </a:lnTo>
                <a:lnTo>
                  <a:pt x="0" y="21600"/>
                </a:lnTo>
                <a:close/>
              </a:path>
              <a:path fill="lightenLess" w="33903" h="21600">
                <a:moveTo>
                  <a:pt x="0" y="0"/>
                </a:moveTo>
                <a:lnTo>
                  <a:pt x="33903" y="0"/>
                </a:lnTo>
                <a:lnTo>
                  <a:pt x="32503" y="1400"/>
                </a:lnTo>
                <a:lnTo>
                  <a:pt x="1400" y="1400"/>
                </a:lnTo>
                <a:close/>
              </a:path>
              <a:path fill="darken" w="33903" h="21600">
                <a:moveTo>
                  <a:pt x="33903" y="0"/>
                </a:moveTo>
                <a:lnTo>
                  <a:pt x="33903" y="21600"/>
                </a:lnTo>
                <a:lnTo>
                  <a:pt x="32503" y="20200"/>
                </a:lnTo>
                <a:lnTo>
                  <a:pt x="32503" y="1400"/>
                </a:lnTo>
                <a:close/>
              </a:path>
              <a:path fill="darkenLess" w="33903" h="21600">
                <a:moveTo>
                  <a:pt x="33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3" y="20200"/>
                </a:lnTo>
                <a:close/>
              </a:path>
              <a:path fill="lighten" w="33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арандаш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т дешев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тет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http://www.develop-kinder.com/z/2/01/2/z6a.gif"/>
          <p:cNvPicPr/>
          <p:nvPr/>
        </p:nvPicPr>
        <p:blipFill>
          <a:blip r:embed="rId2"/>
          <a:stretch/>
        </p:blipFill>
        <p:spPr>
          <a:xfrm>
            <a:off x="88920" y="4540320"/>
            <a:ext cx="1866960" cy="2085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develop-kinder.com/z/2/01/2/z6b.gif"/>
          <p:cNvPicPr/>
          <p:nvPr/>
        </p:nvPicPr>
        <p:blipFill>
          <a:blip r:embed="rId3"/>
          <a:stretch/>
        </p:blipFill>
        <p:spPr>
          <a:xfrm>
            <a:off x="7048440" y="4848120"/>
            <a:ext cx="1981440" cy="1820880"/>
          </a:xfrm>
          <a:prstGeom prst="rect">
            <a:avLst/>
          </a:prstGeom>
          <a:ln w="0">
            <a:noFill/>
          </a:ln>
        </p:spPr>
      </p:pic>
      <p:sp>
        <p:nvSpPr>
          <p:cNvPr id="425" name="Стрелка влево 12">
            <a:hlinkClick r:id="rId4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445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Arial"/>
                <a:hlinkClick r:id="rId1" action="ppaction://hlinksldjump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2050920" y="115920"/>
            <a:ext cx="6913800" cy="439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Конфеты и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й дедушка очень любит розыгр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закрыл дверь комнаты, где моя бабу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ранит конфеты, на ключ. Ключ он положил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у из коробочек, которые он замаркировал та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А, Б, 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Затем он прикрепил записочки к каж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робоч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Ключ не в коробке</a:t>
            </a:r>
            <a:r>
              <a:rPr b="0" lang="ru-RU" sz="1800" spc="-1" strike="noStrike">
                <a:solidFill>
                  <a:srgbClr val="ca03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Ключ не в этой коробке</a:t>
            </a:r>
            <a:br>
              <a:rPr sz="1800"/>
            </a:br>
            <a:r>
              <a:rPr b="1" lang="ru-RU" sz="1800" spc="-1" strike="noStrike">
                <a:solidFill>
                  <a:srgbClr val="ca03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Ключ в этой коробке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бушка сказала мн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которые из этих утверждений правильные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которые - ложны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 если, не заглядывая в коробочки, я протя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душке коробочку, в которой будет лежать клю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меня будет столько конфет, сколько я захо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ую коробочку надо протянуть дедушк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8"/>
          <p:cNvSpPr/>
          <p:nvPr/>
        </p:nvSpPr>
        <p:spPr>
          <a:xfrm>
            <a:off x="241128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9"/>
          <p:cNvSpPr/>
          <p:nvPr/>
        </p:nvSpPr>
        <p:spPr>
          <a:xfrm>
            <a:off x="18432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0"/>
          <p:cNvSpPr/>
          <p:nvPr/>
        </p:nvSpPr>
        <p:spPr>
          <a:xfrm>
            <a:off x="471636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966000" y="4581360"/>
            <a:ext cx="2016000" cy="648000"/>
          </a:xfrm>
          <a:custGeom>
            <a:avLst/>
            <a:gdLst>
              <a:gd name="textAreaLeft" fmla="*/ 41760 w 2016000"/>
              <a:gd name="textAreaRight" fmla="*/ 1974240 w 2016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67175" h="21600">
                <a:moveTo>
                  <a:pt x="0" y="0"/>
                </a:moveTo>
                <a:lnTo>
                  <a:pt x="67175" y="0"/>
                </a:lnTo>
                <a:lnTo>
                  <a:pt x="67175" y="21600"/>
                </a:lnTo>
                <a:lnTo>
                  <a:pt x="0" y="21600"/>
                </a:lnTo>
                <a:close/>
              </a:path>
              <a:path fill="lightenLess" w="67175" h="21600">
                <a:moveTo>
                  <a:pt x="0" y="0"/>
                </a:moveTo>
                <a:lnTo>
                  <a:pt x="67175" y="0"/>
                </a:lnTo>
                <a:lnTo>
                  <a:pt x="65775" y="1400"/>
                </a:lnTo>
                <a:lnTo>
                  <a:pt x="1400" y="1400"/>
                </a:lnTo>
                <a:close/>
              </a:path>
              <a:path fill="darken" w="67175" h="21600">
                <a:moveTo>
                  <a:pt x="67175" y="0"/>
                </a:moveTo>
                <a:lnTo>
                  <a:pt x="67175" y="21600"/>
                </a:lnTo>
                <a:lnTo>
                  <a:pt x="65775" y="20200"/>
                </a:lnTo>
                <a:lnTo>
                  <a:pt x="65775" y="1400"/>
                </a:lnTo>
                <a:close/>
              </a:path>
              <a:path fill="darkenLess" w="67175" h="21600">
                <a:moveTo>
                  <a:pt x="67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775" y="20200"/>
                </a:lnTo>
                <a:close/>
              </a:path>
              <a:path fill="lighten" w="67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http://www.develop-kinder.com/z/2/01/2/z3b.gif"/>
          <p:cNvPicPr/>
          <p:nvPr/>
        </p:nvPicPr>
        <p:blipFill>
          <a:blip r:embed="rId2"/>
          <a:stretch/>
        </p:blipFill>
        <p:spPr>
          <a:xfrm>
            <a:off x="431640" y="2009880"/>
            <a:ext cx="1295640" cy="2220840"/>
          </a:xfrm>
          <a:prstGeom prst="rect">
            <a:avLst/>
          </a:prstGeom>
          <a:ln w="0">
            <a:noFill/>
          </a:ln>
        </p:spPr>
      </p:pic>
      <p:sp>
        <p:nvSpPr>
          <p:cNvPr id="43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>
            <a:hlinkClick r:id="rId1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122560" y="260280"/>
            <a:ext cx="6913440" cy="4032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Разберемся с обложками кн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библиотеке есть книги по истории, математик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з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ложки этих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красны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9933"/>
                </a:solidFill>
                <a:latin typeface="Verdana"/>
              </a:rPr>
              <a:t>зеле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голуб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м известно, что обложки книг по истории не голуб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ложки математических книг либо голубые, ли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еленые, и что обложки книг по физике не красные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зеле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го цвета обложки исторических книг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8"/>
          <p:cNvSpPr/>
          <p:nvPr/>
        </p:nvSpPr>
        <p:spPr>
          <a:xfrm>
            <a:off x="2411280" y="4653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Verdana"/>
              </a:rPr>
              <a:t>зеле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9"/>
          <p:cNvSpPr/>
          <p:nvPr/>
        </p:nvSpPr>
        <p:spPr>
          <a:xfrm>
            <a:off x="133200" y="4653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a0300"/>
                </a:solidFill>
                <a:latin typeface="Verdana"/>
              </a:rPr>
              <a:t>кр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0"/>
          <p:cNvSpPr/>
          <p:nvPr/>
        </p:nvSpPr>
        <p:spPr>
          <a:xfrm>
            <a:off x="4643280" y="4653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голуб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1"/>
          <p:cNvSpPr/>
          <p:nvPr/>
        </p:nvSpPr>
        <p:spPr>
          <a:xfrm>
            <a:off x="6929280" y="4579920"/>
            <a:ext cx="2016360" cy="720720"/>
          </a:xfrm>
          <a:custGeom>
            <a:avLst/>
            <a:gdLst>
              <a:gd name="textAreaLeft" fmla="*/ 46440 w 2016360"/>
              <a:gd name="textAreaRight" fmla="*/ 1969920 w 201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0411" h="21600">
                <a:moveTo>
                  <a:pt x="0" y="0"/>
                </a:moveTo>
                <a:lnTo>
                  <a:pt x="60411" y="0"/>
                </a:lnTo>
                <a:lnTo>
                  <a:pt x="60411" y="21600"/>
                </a:lnTo>
                <a:lnTo>
                  <a:pt x="0" y="21600"/>
                </a:lnTo>
                <a:close/>
              </a:path>
              <a:path fill="lightenLess" w="60411" h="21600">
                <a:moveTo>
                  <a:pt x="0" y="0"/>
                </a:moveTo>
                <a:lnTo>
                  <a:pt x="60411" y="0"/>
                </a:lnTo>
                <a:lnTo>
                  <a:pt x="59011" y="1400"/>
                </a:lnTo>
                <a:lnTo>
                  <a:pt x="1400" y="1400"/>
                </a:lnTo>
                <a:close/>
              </a:path>
              <a:path fill="darken" w="60411" h="21600">
                <a:moveTo>
                  <a:pt x="60411" y="0"/>
                </a:moveTo>
                <a:lnTo>
                  <a:pt x="60411" y="21600"/>
                </a:lnTo>
                <a:lnTo>
                  <a:pt x="59011" y="20200"/>
                </a:lnTo>
                <a:lnTo>
                  <a:pt x="59011" y="1400"/>
                </a:lnTo>
                <a:close/>
              </a:path>
              <a:path fill="darkenLess" w="60411" h="21600">
                <a:moveTo>
                  <a:pt x="60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11" y="20200"/>
                </a:lnTo>
                <a:close/>
              </a:path>
              <a:path fill="lighten" w="60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Невоз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http://www.develop-kinder.com/z/3/01/2/z5a.gif"/>
          <p:cNvPicPr/>
          <p:nvPr/>
        </p:nvPicPr>
        <p:blipFill>
          <a:blip r:embed="rId2"/>
          <a:stretch/>
        </p:blipFill>
        <p:spPr>
          <a:xfrm>
            <a:off x="106200" y="2289240"/>
            <a:ext cx="2040120" cy="1297080"/>
          </a:xfrm>
          <a:prstGeom prst="rect">
            <a:avLst/>
          </a:prstGeom>
          <a:ln w="0">
            <a:noFill/>
          </a:ln>
        </p:spPr>
      </p:pic>
      <p:sp>
        <p:nvSpPr>
          <p:cNvPr id="44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541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ttp://www.develop-kinder.com/z/1/01/2/z6.gif"/>
          <p:cNvPicPr/>
          <p:nvPr/>
        </p:nvPicPr>
        <p:blipFill>
          <a:blip r:embed="rId1"/>
          <a:stretch/>
        </p:blipFill>
        <p:spPr>
          <a:xfrm>
            <a:off x="3564000" y="4076640"/>
            <a:ext cx="2502000" cy="25639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Улитка поднимается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итка за 2 мин. проползает по грибу 2 см ввер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ем 1 мин. отдыхает и момент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кальзывает вниз на 1 см. После этого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ова начинает подниматься вверх все в той 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н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акой высоте она будет через 5 мин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8"/>
          <p:cNvSpPr/>
          <p:nvPr/>
        </p:nvSpPr>
        <p:spPr>
          <a:xfrm>
            <a:off x="304920" y="4365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9"/>
          <p:cNvSpPr/>
          <p:nvPr/>
        </p:nvSpPr>
        <p:spPr>
          <a:xfrm>
            <a:off x="21416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0"/>
          <p:cNvSpPr/>
          <p:nvPr/>
        </p:nvSpPr>
        <p:spPr>
          <a:xfrm>
            <a:off x="521964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1"/>
          <p:cNvSpPr/>
          <p:nvPr/>
        </p:nvSpPr>
        <p:spPr>
          <a:xfrm>
            <a:off x="6875640" y="4365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08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22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636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http://www.develop-kinder.com/z/2/01/1/z3.gif"/>
          <p:cNvPicPr/>
          <p:nvPr/>
        </p:nvPicPr>
        <p:blipFill>
          <a:blip r:embed="rId1"/>
          <a:stretch/>
        </p:blipFill>
        <p:spPr>
          <a:xfrm>
            <a:off x="2389320" y="2870280"/>
            <a:ext cx="4356000" cy="36846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Разгадываем математический реб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тавьте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1, 2, 3, 4,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лонк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трочке из диназавриков, так, чтобы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исел как в колонке, так и в строчке была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е число стоит на месте вопроса 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0"/>
          <p:cNvSpPr/>
          <p:nvPr/>
        </p:nvSpPr>
        <p:spPr>
          <a:xfrm>
            <a:off x="69548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667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Развивающие занятия "/>
          <p:cNvPicPr/>
          <p:nvPr/>
        </p:nvPicPr>
        <p:blipFill>
          <a:blip r:embed="rId1"/>
          <a:stretch/>
        </p:blipFill>
        <p:spPr>
          <a:xfrm>
            <a:off x="3348000" y="3606840"/>
            <a:ext cx="2625840" cy="30970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2050920" y="115920"/>
            <a:ext cx="7058160" cy="3381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Вернуться вовремя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и подружки, Лена, Катя и Вера договори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гулять в парке и вернуться домой в 12 ча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на живет в десяти минутах от парка, Ка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ираться до дома один час, а Вере - 4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 сколько должна покинуть своих подр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вочка, которой добираться до дома дольше все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8"/>
          <p:cNvSpPr/>
          <p:nvPr/>
        </p:nvSpPr>
        <p:spPr>
          <a:xfrm>
            <a:off x="179280" y="364500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час.2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час.3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0"/>
          <p:cNvSpPr/>
          <p:nvPr/>
        </p:nvSpPr>
        <p:spPr>
          <a:xfrm>
            <a:off x="6954840" y="364500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час.4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1"/>
          <p:cNvSpPr/>
          <p:nvPr/>
        </p:nvSpPr>
        <p:spPr>
          <a:xfrm>
            <a:off x="6954840" y="472428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час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трелка влево 12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718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740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http://www.develop-kinder.com/z/2/01/1/z4.gif"/>
          <p:cNvPicPr/>
          <p:nvPr/>
        </p:nvPicPr>
        <p:blipFill>
          <a:blip r:embed="rId1"/>
          <a:stretch/>
        </p:blipFill>
        <p:spPr>
          <a:xfrm>
            <a:off x="3492360" y="2997360"/>
            <a:ext cx="2629080" cy="295272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050920" y="260280"/>
            <a:ext cx="7021800" cy="2592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Погонщики верблю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 и дву-горбые верблюды пересекают пустын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сех у них 14 горбов и 40 н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аждом втором двугорбом верблюде сид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гонщ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сего погонщиков путешествуют вме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верблюдам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гон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9"/>
          <p:cNvSpPr/>
          <p:nvPr/>
        </p:nvSpPr>
        <p:spPr>
          <a:xfrm>
            <a:off x="695484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огонщика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0"/>
          <p:cNvSpPr/>
          <p:nvPr/>
        </p:nvSpPr>
        <p:spPr>
          <a:xfrm>
            <a:off x="69548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погон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1"/>
          <p:cNvSpPr/>
          <p:nvPr/>
        </p:nvSpPr>
        <p:spPr>
          <a:xfrm>
            <a:off x="17928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погон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лево 1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777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785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http://www.develop-kinder.com/z/1/01/2/z5a.gif"/>
          <p:cNvPicPr/>
          <p:nvPr/>
        </p:nvPicPr>
        <p:blipFill>
          <a:blip r:embed="rId1"/>
          <a:stretch/>
        </p:blipFill>
        <p:spPr>
          <a:xfrm>
            <a:off x="6012000" y="4245120"/>
            <a:ext cx="2881080" cy="18777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2484360" y="115920"/>
            <a:ext cx="6480360" cy="4465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a0300"/>
                </a:solidFill>
                <a:latin typeface="Verdana"/>
              </a:rPr>
              <a:t>Необыкновенные маш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ы пришли на фабрику (рисунок слев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нутри фабрики особые "машины" : они измен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цвет поступающей к ним детальк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мотри, дружок, на рису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нутри фабрики. И ты увидиш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то красный цвет переходит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иний (видишь т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казывающую стрелочку ?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синий, как ты видишь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зменяется на зеленый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что красный квадратик стал - синим, зеле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ужочек- стал красным, а синий треугольник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л зеле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если на "вход" этих машин поступят деталь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е нарисованы на рисунке слева, какими э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тальки станут на "выходе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8"/>
          <p:cNvSpPr/>
          <p:nvPr/>
        </p:nvSpPr>
        <p:spPr>
          <a:xfrm>
            <a:off x="168120" y="2276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9"/>
          <p:cNvSpPr/>
          <p:nvPr/>
        </p:nvSpPr>
        <p:spPr>
          <a:xfrm>
            <a:off x="168120" y="3141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0"/>
          <p:cNvSpPr/>
          <p:nvPr/>
        </p:nvSpPr>
        <p:spPr>
          <a:xfrm>
            <a:off x="179280" y="487980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1"/>
          <p:cNvSpPr/>
          <p:nvPr/>
        </p:nvSpPr>
        <p:spPr>
          <a:xfrm>
            <a:off x="179280" y="399240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http://www.develop-kinder.com/z/1/01/2/z5.gif"/>
          <p:cNvPicPr/>
          <p:nvPr/>
        </p:nvPicPr>
        <p:blipFill>
          <a:blip r:embed="rId3"/>
          <a:stretch/>
        </p:blipFill>
        <p:spPr>
          <a:xfrm>
            <a:off x="2700360" y="126828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http://www.develop-kinder.com/z/1/01/2/z5b.gif"/>
          <p:cNvPicPr/>
          <p:nvPr/>
        </p:nvPicPr>
        <p:blipFill>
          <a:blip r:embed="rId4"/>
          <a:stretch/>
        </p:blipFill>
        <p:spPr>
          <a:xfrm>
            <a:off x="1979640" y="4581360"/>
            <a:ext cx="4000320" cy="304920"/>
          </a:xfrm>
          <a:prstGeom prst="rect">
            <a:avLst/>
          </a:prstGeom>
          <a:ln w="0">
            <a:noFill/>
          </a:ln>
        </p:spPr>
      </p:pic>
      <p:sp>
        <p:nvSpPr>
          <p:cNvPr id="498" name="Стрелка влево 16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0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844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872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050920" y="260280"/>
            <a:ext cx="7021800" cy="3456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Посчитаем сп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ешения головоломок из спичек уч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ес в класс 10 короб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2411280" y="38624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9"/>
          <p:cNvSpPr/>
          <p:nvPr/>
        </p:nvSpPr>
        <p:spPr>
          <a:xfrm>
            <a:off x="688644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0"/>
          <p:cNvSpPr/>
          <p:nvPr/>
        </p:nvSpPr>
        <p:spPr>
          <a:xfrm>
            <a:off x="4643280" y="38624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1"/>
          <p:cNvSpPr/>
          <p:nvPr/>
        </p:nvSpPr>
        <p:spPr>
          <a:xfrm>
            <a:off x="17928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556000" y="1285920"/>
          <a:ext cx="4525920" cy="2324160"/>
        </p:xfrm>
        <a:graphic>
          <a:graphicData uri="http://schemas.openxmlformats.org/drawingml/2006/table">
            <a:tbl>
              <a:tblPr/>
              <a:tblGrid>
                <a:gridCol w="2263680"/>
                <a:gridCol w="2262240"/>
              </a:tblGrid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перв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1 спич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 втор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2 спич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третье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3 спич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четвер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4 спичк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пя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5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шес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6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седьм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7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восьм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8 сп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евя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9 спиче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есятой коробоч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10 сп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Стрелка влево 12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895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903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6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931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www.develop-kinder.com/z/2/01/2/z5b.gif"/>
          <p:cNvPicPr/>
          <p:nvPr/>
        </p:nvPicPr>
        <p:blipFill>
          <a:blip r:embed="rId1"/>
          <a:stretch/>
        </p:blipFill>
        <p:spPr>
          <a:xfrm>
            <a:off x="3497400" y="5148360"/>
            <a:ext cx="2038320" cy="16556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2050920" y="260280"/>
            <a:ext cx="7021800" cy="417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Весы для детей на ярма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ярмарке установили громадные рычажные ве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звешивани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посадить Анну и Олега вместе, на одну чаш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 на другую чашу надо поставить груз весом 82 к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уравновеси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посадить детей по разные стороны, 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авить груз весом 12 кг на чашу, где сидит Ан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весы были в равнове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есит Олег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дите вес Олега и скажите, чему равна су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фр этого числ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2016000" y="45813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7074000" y="579420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0"/>
          <p:cNvSpPr/>
          <p:nvPr/>
        </p:nvSpPr>
        <p:spPr>
          <a:xfrm>
            <a:off x="7056360" y="48340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1"/>
          <p:cNvSpPr/>
          <p:nvPr/>
        </p:nvSpPr>
        <p:spPr>
          <a:xfrm>
            <a:off x="442764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http://www.develop-kinder.com/z/2/01/2/z5a.gif"/>
          <p:cNvPicPr/>
          <p:nvPr/>
        </p:nvPicPr>
        <p:blipFill>
          <a:blip r:embed="rId2"/>
          <a:stretch/>
        </p:blipFill>
        <p:spPr>
          <a:xfrm>
            <a:off x="155520" y="2633760"/>
            <a:ext cx="1728720" cy="2200320"/>
          </a:xfrm>
          <a:prstGeom prst="rect">
            <a:avLst/>
          </a:prstGeom>
          <a:ln w="0">
            <a:noFill/>
          </a:ln>
        </p:spPr>
      </p:pic>
      <p:sp>
        <p:nvSpPr>
          <p:cNvPr id="519" name="Стрелка влево 13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954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5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990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9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Скругленный прямоугольник 1"/>
          <p:cNvGrpSpPr/>
          <p:nvPr/>
        </p:nvGrpSpPr>
        <p:grpSpPr>
          <a:xfrm>
            <a:off x="268200" y="158760"/>
            <a:ext cx="1621080" cy="901800"/>
            <a:chOff x="268200" y="158760"/>
            <a:chExt cx="1621080" cy="901800"/>
          </a:xfrm>
        </p:grpSpPr>
        <p:pic>
          <p:nvPicPr>
            <p:cNvPr id="27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68200" y="158760"/>
              <a:ext cx="1621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61800" y="22716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cc9900"/>
                  </a:solidFill>
                  <a:uFillTx/>
                  <a:latin typeface="Perpetua"/>
                  <a:hlinkClick r:id="rId2" action="ppaction://hlinksldjump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Скругленный прямоугольник 6"/>
          <p:cNvGrpSpPr/>
          <p:nvPr/>
        </p:nvGrpSpPr>
        <p:grpSpPr>
          <a:xfrm>
            <a:off x="268200" y="4121280"/>
            <a:ext cx="1621080" cy="901440"/>
            <a:chOff x="268200" y="4121280"/>
            <a:chExt cx="1621080" cy="901440"/>
          </a:xfrm>
        </p:grpSpPr>
        <p:pic>
          <p:nvPicPr>
            <p:cNvPr id="280" name="Скругленный прямоугольник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68200" y="4121280"/>
              <a:ext cx="162108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61800" y="418788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Скругленный прямоугольник 7"/>
          <p:cNvGrpSpPr/>
          <p:nvPr/>
        </p:nvGrpSpPr>
        <p:grpSpPr>
          <a:xfrm>
            <a:off x="268200" y="2773440"/>
            <a:ext cx="1621080" cy="903240"/>
            <a:chOff x="268200" y="2773440"/>
            <a:chExt cx="1621080" cy="903240"/>
          </a:xfrm>
        </p:grpSpPr>
        <p:pic>
          <p:nvPicPr>
            <p:cNvPr id="283" name="Скругленный прямоугольник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68200" y="2773440"/>
              <a:ext cx="16210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61800" y="284328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Скругленный прямоугольник 8"/>
          <p:cNvGrpSpPr/>
          <p:nvPr/>
        </p:nvGrpSpPr>
        <p:grpSpPr>
          <a:xfrm>
            <a:off x="268200" y="1407960"/>
            <a:ext cx="1621080" cy="901800"/>
            <a:chOff x="268200" y="1407960"/>
            <a:chExt cx="1621080" cy="901800"/>
          </a:xfrm>
        </p:grpSpPr>
        <p:pic>
          <p:nvPicPr>
            <p:cNvPr id="286" name="Скругленный прямоугольник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68200" y="1407960"/>
              <a:ext cx="1621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61800" y="147492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Скругленный прямоугольник 9"/>
          <p:cNvGrpSpPr/>
          <p:nvPr/>
        </p:nvGrpSpPr>
        <p:grpSpPr>
          <a:xfrm>
            <a:off x="6821640" y="219240"/>
            <a:ext cx="1620720" cy="903240"/>
            <a:chOff x="6821640" y="219240"/>
            <a:chExt cx="1620720" cy="903240"/>
          </a:xfrm>
        </p:grpSpPr>
        <p:pic>
          <p:nvPicPr>
            <p:cNvPr id="289" name="Скругленный прямоугольник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6821640" y="219240"/>
              <a:ext cx="1620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913440" y="28728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Скругленный прямоугольник 10"/>
          <p:cNvGrpSpPr/>
          <p:nvPr/>
        </p:nvGrpSpPr>
        <p:grpSpPr>
          <a:xfrm>
            <a:off x="4443480" y="189000"/>
            <a:ext cx="1622520" cy="901440"/>
            <a:chOff x="4443480" y="189000"/>
            <a:chExt cx="1622520" cy="901440"/>
          </a:xfrm>
        </p:grpSpPr>
        <p:pic>
          <p:nvPicPr>
            <p:cNvPr id="292" name="Скругленный прямоугольник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443480" y="189000"/>
              <a:ext cx="16225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38520" y="25560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Скругленный прямоугольник 11"/>
          <p:cNvGrpSpPr/>
          <p:nvPr/>
        </p:nvGrpSpPr>
        <p:grpSpPr>
          <a:xfrm>
            <a:off x="2273400" y="176040"/>
            <a:ext cx="1622160" cy="903600"/>
            <a:chOff x="2273400" y="176040"/>
            <a:chExt cx="1622160" cy="903600"/>
          </a:xfrm>
        </p:grpSpPr>
        <p:pic>
          <p:nvPicPr>
            <p:cNvPr id="295" name="Скругленный прямоугольник 1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2273400" y="176040"/>
              <a:ext cx="1622160" cy="9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367000" y="247680"/>
              <a:ext cx="1434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Скругленный прямоугольник 12"/>
          <p:cNvGrpSpPr/>
          <p:nvPr/>
        </p:nvGrpSpPr>
        <p:grpSpPr>
          <a:xfrm>
            <a:off x="268200" y="5486400"/>
            <a:ext cx="1621080" cy="901800"/>
            <a:chOff x="268200" y="5486400"/>
            <a:chExt cx="1621080" cy="901800"/>
          </a:xfrm>
        </p:grpSpPr>
        <p:pic>
          <p:nvPicPr>
            <p:cNvPr id="298" name="Скругленный прямоугольник 1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268200" y="5486400"/>
              <a:ext cx="1621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61800" y="555480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Скругленный прямоугольник 15"/>
          <p:cNvGrpSpPr/>
          <p:nvPr/>
        </p:nvGrpSpPr>
        <p:grpSpPr>
          <a:xfrm>
            <a:off x="6821640" y="1450800"/>
            <a:ext cx="1620720" cy="901800"/>
            <a:chOff x="6821640" y="1450800"/>
            <a:chExt cx="1620720" cy="901800"/>
          </a:xfrm>
        </p:grpSpPr>
        <p:pic>
          <p:nvPicPr>
            <p:cNvPr id="301" name="Скругленный прямоугольник 15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821640" y="1450800"/>
              <a:ext cx="1620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913440" y="152244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Скругленный прямоугольник 16"/>
          <p:cNvGrpSpPr/>
          <p:nvPr/>
        </p:nvGrpSpPr>
        <p:grpSpPr>
          <a:xfrm>
            <a:off x="4443480" y="1450800"/>
            <a:ext cx="1622520" cy="901800"/>
            <a:chOff x="4443480" y="1450800"/>
            <a:chExt cx="1622520" cy="901800"/>
          </a:xfrm>
        </p:grpSpPr>
        <p:pic>
          <p:nvPicPr>
            <p:cNvPr id="304" name="Скругленный прямоугольник 16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4443480" y="14508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38520" y="152244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Скругленный прямоугольник 17"/>
          <p:cNvGrpSpPr/>
          <p:nvPr/>
        </p:nvGrpSpPr>
        <p:grpSpPr>
          <a:xfrm>
            <a:off x="2236680" y="1450800"/>
            <a:ext cx="1622520" cy="901800"/>
            <a:chOff x="2236680" y="1450800"/>
            <a:chExt cx="1622520" cy="901800"/>
          </a:xfrm>
        </p:grpSpPr>
        <p:pic>
          <p:nvPicPr>
            <p:cNvPr id="307" name="Скругленный прямоугольник 17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236680" y="14508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330280" y="152244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18"/>
          <p:cNvGrpSpPr/>
          <p:nvPr/>
        </p:nvGrpSpPr>
        <p:grpSpPr>
          <a:xfrm>
            <a:off x="6821640" y="2773440"/>
            <a:ext cx="1620720" cy="903240"/>
            <a:chOff x="6821640" y="2773440"/>
            <a:chExt cx="1620720" cy="903240"/>
          </a:xfrm>
        </p:grpSpPr>
        <p:pic>
          <p:nvPicPr>
            <p:cNvPr id="310" name="Скругленный прямоугольник 18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6821640" y="2773440"/>
              <a:ext cx="16207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13440" y="284328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19"/>
          <p:cNvGrpSpPr/>
          <p:nvPr/>
        </p:nvGrpSpPr>
        <p:grpSpPr>
          <a:xfrm>
            <a:off x="4443480" y="2773440"/>
            <a:ext cx="1622520" cy="903240"/>
            <a:chOff x="4443480" y="2773440"/>
            <a:chExt cx="1622520" cy="903240"/>
          </a:xfrm>
        </p:grpSpPr>
        <p:pic>
          <p:nvPicPr>
            <p:cNvPr id="313" name="Скругленный прямоугольник 19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4443480" y="2773440"/>
              <a:ext cx="16225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38520" y="284328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20"/>
          <p:cNvGrpSpPr/>
          <p:nvPr/>
        </p:nvGrpSpPr>
        <p:grpSpPr>
          <a:xfrm>
            <a:off x="2273400" y="2773440"/>
            <a:ext cx="1622160" cy="903240"/>
            <a:chOff x="2273400" y="2773440"/>
            <a:chExt cx="1622160" cy="903240"/>
          </a:xfrm>
        </p:grpSpPr>
        <p:pic>
          <p:nvPicPr>
            <p:cNvPr id="316" name="Скругленный прямоугольник 20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2273400" y="2773440"/>
              <a:ext cx="16221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2367000" y="2843280"/>
              <a:ext cx="1434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кругленный прямоугольник 21"/>
          <p:cNvGrpSpPr/>
          <p:nvPr/>
        </p:nvGrpSpPr>
        <p:grpSpPr>
          <a:xfrm>
            <a:off x="6821640" y="4121280"/>
            <a:ext cx="1620720" cy="901440"/>
            <a:chOff x="6821640" y="4121280"/>
            <a:chExt cx="1620720" cy="901440"/>
          </a:xfrm>
        </p:grpSpPr>
        <p:pic>
          <p:nvPicPr>
            <p:cNvPr id="319" name="Скругленный прямоугольник 21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821640" y="4121280"/>
              <a:ext cx="16207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913440" y="4187880"/>
              <a:ext cx="143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кругленный прямоугольник 22"/>
          <p:cNvGrpSpPr/>
          <p:nvPr/>
        </p:nvGrpSpPr>
        <p:grpSpPr>
          <a:xfrm>
            <a:off x="4443480" y="4102200"/>
            <a:ext cx="1622520" cy="903240"/>
            <a:chOff x="4443480" y="4102200"/>
            <a:chExt cx="1622520" cy="903240"/>
          </a:xfrm>
        </p:grpSpPr>
        <p:pic>
          <p:nvPicPr>
            <p:cNvPr id="322" name="Скругленный прямоугольник 22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4443480" y="4102200"/>
              <a:ext cx="16225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538520" y="4172040"/>
              <a:ext cx="143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кругленный прямоугольник 23"/>
          <p:cNvGrpSpPr/>
          <p:nvPr/>
        </p:nvGrpSpPr>
        <p:grpSpPr>
          <a:xfrm>
            <a:off x="2273400" y="4121280"/>
            <a:ext cx="1622160" cy="901440"/>
            <a:chOff x="2273400" y="4121280"/>
            <a:chExt cx="1622160" cy="901440"/>
          </a:xfrm>
        </p:grpSpPr>
        <p:pic>
          <p:nvPicPr>
            <p:cNvPr id="325" name="Скругленный прямоугольник 23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2273400" y="4121280"/>
              <a:ext cx="16221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367000" y="4187880"/>
              <a:ext cx="1434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кругленный прямоугольник 24"/>
          <p:cNvGrpSpPr/>
          <p:nvPr/>
        </p:nvGrpSpPr>
        <p:grpSpPr>
          <a:xfrm>
            <a:off x="6821640" y="5486400"/>
            <a:ext cx="1620720" cy="901800"/>
            <a:chOff x="6821640" y="5486400"/>
            <a:chExt cx="1620720" cy="901800"/>
          </a:xfrm>
        </p:grpSpPr>
        <p:pic>
          <p:nvPicPr>
            <p:cNvPr id="328" name="Скругленный прямоугольник 24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6821640" y="5486400"/>
              <a:ext cx="1620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13440" y="5554800"/>
              <a:ext cx="14367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Скругленный прямоугольник 25"/>
          <p:cNvGrpSpPr/>
          <p:nvPr/>
        </p:nvGrpSpPr>
        <p:grpSpPr>
          <a:xfrm>
            <a:off x="4443480" y="5486400"/>
            <a:ext cx="1622520" cy="901800"/>
            <a:chOff x="4443480" y="5486400"/>
            <a:chExt cx="1622520" cy="901800"/>
          </a:xfrm>
        </p:grpSpPr>
        <p:pic>
          <p:nvPicPr>
            <p:cNvPr id="331" name="Скругленный прямоугольник 25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4443480" y="54864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538520" y="5554800"/>
              <a:ext cx="14353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Скругленный прямоугольник 26"/>
          <p:cNvGrpSpPr/>
          <p:nvPr/>
        </p:nvGrpSpPr>
        <p:grpSpPr>
          <a:xfrm>
            <a:off x="2236680" y="5486400"/>
            <a:ext cx="1622520" cy="901800"/>
            <a:chOff x="2236680" y="5486400"/>
            <a:chExt cx="1622520" cy="901800"/>
          </a:xfrm>
        </p:grpSpPr>
        <p:pic>
          <p:nvPicPr>
            <p:cNvPr id="334" name="Скругленный прямоугольник 26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2236680" y="5486400"/>
              <a:ext cx="16225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330280" y="5554800"/>
              <a:ext cx="14367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erpetua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Развивающие занятия "/>
          <p:cNvPicPr/>
          <p:nvPr/>
        </p:nvPicPr>
        <p:blipFill>
          <a:blip r:embed="rId1"/>
          <a:stretch/>
        </p:blipFill>
        <p:spPr>
          <a:xfrm>
            <a:off x="2932200" y="3068640"/>
            <a:ext cx="3220920" cy="34196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050920" y="260280"/>
            <a:ext cx="7021800" cy="2592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Сколько страниц отсутствует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сколько страниц пропущено в открытой кн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левой странице девочка увидела но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ницы - 12, а на правой -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страниц было пропуще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9"/>
          <p:cNvSpPr/>
          <p:nvPr/>
        </p:nvSpPr>
        <p:spPr>
          <a:xfrm>
            <a:off x="179280" y="45640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0"/>
          <p:cNvSpPr/>
          <p:nvPr/>
        </p:nvSpPr>
        <p:spPr>
          <a:xfrm>
            <a:off x="6804000" y="45640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1"/>
          <p:cNvSpPr/>
          <p:nvPr/>
        </p:nvSpPr>
        <p:spPr>
          <a:xfrm>
            <a:off x="6804000" y="332568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трелка влево 12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035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2050920" y="260280"/>
            <a:ext cx="7021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0300"/>
                </a:solidFill>
                <a:latin typeface="Verdana"/>
              </a:rPr>
              <a:t>Какое число закрыла бабочк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бочка села на правильно решенный при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е число она закрыл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8"/>
          <p:cNvSpPr/>
          <p:nvPr/>
        </p:nvSpPr>
        <p:spPr>
          <a:xfrm>
            <a:off x="1835280" y="3573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9"/>
          <p:cNvSpPr/>
          <p:nvPr/>
        </p:nvSpPr>
        <p:spPr>
          <a:xfrm>
            <a:off x="1084320" y="45640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0"/>
          <p:cNvSpPr/>
          <p:nvPr/>
        </p:nvSpPr>
        <p:spPr>
          <a:xfrm>
            <a:off x="5091120" y="36370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1"/>
          <p:cNvSpPr/>
          <p:nvPr/>
        </p:nvSpPr>
        <p:spPr>
          <a:xfrm>
            <a:off x="6443640" y="458136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800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http://www.develop-kinder.com/z/3/01/1/z2a.gif"/>
          <p:cNvPicPr/>
          <p:nvPr/>
        </p:nvPicPr>
        <p:blipFill>
          <a:blip r:embed="rId1"/>
          <a:stretch/>
        </p:blipFill>
        <p:spPr>
          <a:xfrm>
            <a:off x="1193760" y="1944720"/>
            <a:ext cx="6402600" cy="1373040"/>
          </a:xfrm>
          <a:prstGeom prst="rect">
            <a:avLst/>
          </a:prstGeom>
          <a:ln w="0">
            <a:noFill/>
          </a:ln>
        </p:spPr>
      </p:pic>
      <p:sp>
        <p:nvSpPr>
          <p:cNvPr id="539" name="Стрелка влево 12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0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1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072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1108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http://www.develop-kinder.com/z/4/01/2/z4a.gif"/>
          <p:cNvPicPr/>
          <p:nvPr/>
        </p:nvPicPr>
        <p:blipFill>
          <a:blip r:embed="rId1"/>
          <a:stretch/>
        </p:blipFill>
        <p:spPr>
          <a:xfrm>
            <a:off x="4932360" y="4292640"/>
            <a:ext cx="2303640" cy="24685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2050920" y="260280"/>
            <a:ext cx="7021800" cy="4176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0300"/>
                </a:solidFill>
                <a:latin typeface="Verdana"/>
              </a:rPr>
              <a:t>Лыжный кросс и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 девочки : Александра, Настя и Раи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нишировали в лыжном кроссе на перв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ом и третьем ме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следующий день в школе девочки сказали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иса : "Александра не финишировала на пер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сте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а : "Настя не финишировала на вт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сте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тя : "Раиса не финишировала ни на перв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и на третьем месте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зднее, однако, стало ясно, что только одна из девоч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казала прав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то финишировал на третьем мест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8"/>
          <p:cNvSpPr/>
          <p:nvPr/>
        </p:nvSpPr>
        <p:spPr>
          <a:xfrm>
            <a:off x="34920" y="27082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9"/>
          <p:cNvSpPr/>
          <p:nvPr/>
        </p:nvSpPr>
        <p:spPr>
          <a:xfrm>
            <a:off x="144360" y="5192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0"/>
          <p:cNvSpPr/>
          <p:nvPr/>
        </p:nvSpPr>
        <p:spPr>
          <a:xfrm>
            <a:off x="34920" y="404028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трелка влево 13"/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0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9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166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1" descr="Развивающие занятия "/>
          <p:cNvPicPr/>
          <p:nvPr/>
        </p:nvPicPr>
        <p:blipFill>
          <a:blip r:embed="rId1"/>
          <a:stretch/>
        </p:blipFill>
        <p:spPr>
          <a:xfrm>
            <a:off x="2556000" y="2070000"/>
            <a:ext cx="4103640" cy="42386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050920" y="115920"/>
            <a:ext cx="6913800" cy="1728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жа поднимается по лестнице. Кажд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ерепрыгивает через одну ступень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он - на третьей ступеньке. На ка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еньке он окажется, сделав три своих "шага"?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179280" y="27082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179280" y="501336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/>
          <p:cNvSpPr/>
          <p:nvPr/>
        </p:nvSpPr>
        <p:spPr>
          <a:xfrm>
            <a:off x="6948360" y="270828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/>
          <p:cNvSpPr/>
          <p:nvPr/>
        </p:nvSpPr>
        <p:spPr>
          <a:xfrm>
            <a:off x="6948360" y="501336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2124000" y="4005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7"/>
          <p:cNvSpPr/>
          <p:nvPr/>
        </p:nvSpPr>
        <p:spPr>
          <a:xfrm>
            <a:off x="2195640" y="350028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лево 26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3" descr="http://www.develop-kinder.com/z/2/01/1/z5a.gif"/>
          <p:cNvPicPr/>
          <p:nvPr/>
        </p:nvPicPr>
        <p:blipFill>
          <a:blip r:embed="rId1"/>
          <a:stretch/>
        </p:blipFill>
        <p:spPr>
          <a:xfrm>
            <a:off x="4067280" y="264492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2"/>
          <p:cNvSpPr/>
          <p:nvPr/>
        </p:nvSpPr>
        <p:spPr>
          <a:xfrm>
            <a:off x="2195640" y="260280"/>
            <a:ext cx="6913440" cy="2232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ачок хочет вставить в три разные рам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реты Винни-Пуха, Тигры и Иа-И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может разместить портрет Винни-Пух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овой рамочке, Тигры - бирюзовой, а Иа-Иа -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ичн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колько всего разных способов есть у Пята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разместить портреты своих друзей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>
            <a:hlinkClick r:id="rId2" action="ppaction://hlinksldjump"/>
          </p:cNvPr>
          <p:cNvSpPr/>
          <p:nvPr/>
        </p:nvSpPr>
        <p:spPr>
          <a:xfrm>
            <a:off x="187200" y="25560"/>
            <a:ext cx="1800360" cy="15127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1987560" y="278136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1987560" y="342900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>
            <a:off x="1987560" y="405612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1987560" y="4653000"/>
            <a:ext cx="180036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7"/>
          <p:cNvSpPr/>
          <p:nvPr/>
        </p:nvSpPr>
        <p:spPr>
          <a:xfrm>
            <a:off x="2556000" y="5597640"/>
            <a:ext cx="4824360" cy="100800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8"/>
          <p:cNvSpPr/>
          <p:nvPr/>
        </p:nvSpPr>
        <p:spPr>
          <a:xfrm>
            <a:off x="2556000" y="530064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5" descr="http://www.develop-kinder.com/z/2/01/1/z5b.gif"/>
          <p:cNvPicPr/>
          <p:nvPr/>
        </p:nvPicPr>
        <p:blipFill>
          <a:blip r:embed="rId3"/>
          <a:stretch/>
        </p:blipFill>
        <p:spPr>
          <a:xfrm>
            <a:off x="324000" y="1701720"/>
            <a:ext cx="1525320" cy="1800360"/>
          </a:xfrm>
          <a:prstGeom prst="rect">
            <a:avLst/>
          </a:prstGeom>
          <a:ln w="0">
            <a:noFill/>
          </a:ln>
        </p:spPr>
      </p:pic>
      <p:sp>
        <p:nvSpPr>
          <p:cNvPr id="356" name="Стрелка влево 21">
            <a:hlinkClick r:id="rId4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6"/>
          <p:cNvSpPr/>
          <p:nvPr/>
        </p:nvSpPr>
        <p:spPr>
          <a:xfrm>
            <a:off x="6710400" y="4643280"/>
            <a:ext cx="2016000" cy="50508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69" h="21600">
                <a:moveTo>
                  <a:pt x="0" y="0"/>
                </a:moveTo>
                <a:lnTo>
                  <a:pt x="86169" y="0"/>
                </a:lnTo>
                <a:lnTo>
                  <a:pt x="86169" y="21600"/>
                </a:lnTo>
                <a:lnTo>
                  <a:pt x="0" y="21600"/>
                </a:lnTo>
                <a:close/>
              </a:path>
              <a:path fill="lightenLess" w="86169" h="21600">
                <a:moveTo>
                  <a:pt x="0" y="0"/>
                </a:moveTo>
                <a:lnTo>
                  <a:pt x="86169" y="0"/>
                </a:lnTo>
                <a:lnTo>
                  <a:pt x="84769" y="1400"/>
                </a:lnTo>
                <a:lnTo>
                  <a:pt x="1400" y="1400"/>
                </a:lnTo>
                <a:close/>
              </a:path>
              <a:path fill="darken" w="86169" h="21600">
                <a:moveTo>
                  <a:pt x="86169" y="0"/>
                </a:moveTo>
                <a:lnTo>
                  <a:pt x="86169" y="21600"/>
                </a:lnTo>
                <a:lnTo>
                  <a:pt x="84769" y="20200"/>
                </a:lnTo>
                <a:lnTo>
                  <a:pt x="84769" y="1400"/>
                </a:lnTo>
                <a:close/>
              </a:path>
              <a:path fill="darkenLess" w="86169" h="21600">
                <a:moveTo>
                  <a:pt x="86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69" y="20200"/>
                </a:lnTo>
                <a:close/>
              </a:path>
              <a:path fill="lighten" w="86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3" descr="Развивающие занятия "/>
          <p:cNvPicPr/>
          <p:nvPr/>
        </p:nvPicPr>
        <p:blipFill>
          <a:blip r:embed="rId1"/>
          <a:stretch/>
        </p:blipFill>
        <p:spPr>
          <a:xfrm>
            <a:off x="2641680" y="1801800"/>
            <a:ext cx="3889440" cy="4989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2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2124000" y="260280"/>
            <a:ext cx="684072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нгвин строит себе домик изо льда. Ост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роить крышу. Но он никак не 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, какую взять льдинку. Помоги е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201600" y="2276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6710400" y="2276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179280" y="379080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6686640" y="396720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195640" y="491004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2268360" y="3716280"/>
            <a:ext cx="4824720" cy="100800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201600" y="306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464328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6710400" y="306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лево 33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Объект 3" descr="Развивающие занятия "/>
          <p:cNvPicPr/>
          <p:nvPr/>
        </p:nvPicPr>
        <p:blipFill>
          <a:blip r:embed="rId1"/>
          <a:stretch/>
        </p:blipFill>
        <p:spPr>
          <a:xfrm>
            <a:off x="1335240" y="1600200"/>
            <a:ext cx="2282760" cy="2185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посмотри на рисунок, най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город, а потом посмотри в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н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695484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о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"/>
          <p:cNvSpPr/>
          <p:nvPr/>
        </p:nvSpPr>
        <p:spPr>
          <a:xfrm>
            <a:off x="2203200" y="18900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ин папа часто ездит в командир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2195640" y="54936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город он ездит чаще всего, если, по возвращении домой, он приклеивает наклей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названием города, на свой чемодан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лево 1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>
            <a:hlinkClick r:id="rId1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122560" y="260280"/>
            <a:ext cx="6913440" cy="2808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Кащея Бессмертного до Киким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 три дороги (№1, №2, №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Кикиморы до Бабы-Яги - 2 доро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№4, №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ими способами может добр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щей до Бабы-Яги, заходя в гост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кимо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696600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10" descr="http://www.develop-kinder.com/z/2/01/2/z2b.gif"/>
          <p:cNvPicPr/>
          <p:nvPr/>
        </p:nvPicPr>
        <p:blipFill>
          <a:blip r:embed="rId2"/>
          <a:stretch/>
        </p:blipFill>
        <p:spPr>
          <a:xfrm>
            <a:off x="2098800" y="26028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http://www.develop-kinder.com/z/2/01/2/z2a.gif"/>
          <p:cNvPicPr/>
          <p:nvPr/>
        </p:nvPicPr>
        <p:blipFill>
          <a:blip r:embed="rId3"/>
          <a:stretch/>
        </p:blipFill>
        <p:spPr>
          <a:xfrm>
            <a:off x="7846920" y="155736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8" descr="http://www.develop-kinder.com/z/2/01/2/z2c.gif"/>
          <p:cNvPicPr/>
          <p:nvPr/>
        </p:nvPicPr>
        <p:blipFill>
          <a:blip r:embed="rId4"/>
          <a:stretch/>
        </p:blipFill>
        <p:spPr>
          <a:xfrm>
            <a:off x="2103480" y="3357720"/>
            <a:ext cx="4911840" cy="1828800"/>
          </a:xfrm>
          <a:prstGeom prst="rect">
            <a:avLst/>
          </a:prstGeom>
          <a:ln w="0">
            <a:noFill/>
          </a:ln>
        </p:spPr>
      </p:pic>
      <p:sp>
        <p:nvSpPr>
          <p:cNvPr id="394" name="Стрелка влево 16">
            <a:hlinkClick r:id="rId5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Рисунок 9" descr="http://www.develop-kinder.com/z/2/01/2/z4b.gif"/>
          <p:cNvPicPr/>
          <p:nvPr/>
        </p:nvPicPr>
        <p:blipFill>
          <a:blip r:embed="rId1"/>
          <a:stretch/>
        </p:blipFill>
        <p:spPr>
          <a:xfrm>
            <a:off x="2625840" y="2371680"/>
            <a:ext cx="3855960" cy="33847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2109960" y="230040"/>
            <a:ext cx="6913440" cy="1903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ими способами Юля может прочитать и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го любимого кота Марсика, если ей разреш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ься только вправо или вниз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179280" y="335772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696600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трелка влево 35">
            <a:hlinkClick r:id="rId3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www.develop-kinder.com/z/1/01/1/z1a.gif"/>
          <p:cNvPicPr/>
          <p:nvPr/>
        </p:nvPicPr>
        <p:blipFill>
          <a:blip r:embed="rId1"/>
          <a:stretch/>
        </p:blipFill>
        <p:spPr>
          <a:xfrm>
            <a:off x="2587680" y="3317760"/>
            <a:ext cx="4145040" cy="2841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">
            <a:hlinkClick r:id="rId2" action="ppaction://hlinksldjump"/>
          </p:cNvPr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fde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2122560" y="260280"/>
            <a:ext cx="691344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чество у мамы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синого отца зовут Ив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иколаевич, а дедушку - Сем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трович. Какое отчество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синой ма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8"/>
          <p:cNvSpPr/>
          <p:nvPr/>
        </p:nvSpPr>
        <p:spPr>
          <a:xfrm>
            <a:off x="179280" y="4508640"/>
            <a:ext cx="2016360" cy="50472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46" h="21600">
                <a:moveTo>
                  <a:pt x="0" y="0"/>
                </a:moveTo>
                <a:lnTo>
                  <a:pt x="86246" y="0"/>
                </a:lnTo>
                <a:lnTo>
                  <a:pt x="86246" y="21600"/>
                </a:lnTo>
                <a:lnTo>
                  <a:pt x="0" y="21600"/>
                </a:lnTo>
                <a:close/>
              </a:path>
              <a:path fill="lightenLess" w="86246" h="21600">
                <a:moveTo>
                  <a:pt x="0" y="0"/>
                </a:moveTo>
                <a:lnTo>
                  <a:pt x="86246" y="0"/>
                </a:lnTo>
                <a:lnTo>
                  <a:pt x="84846" y="1400"/>
                </a:lnTo>
                <a:lnTo>
                  <a:pt x="1400" y="1400"/>
                </a:lnTo>
                <a:close/>
              </a:path>
              <a:path fill="darken" w="86246" h="21600">
                <a:moveTo>
                  <a:pt x="86246" y="0"/>
                </a:moveTo>
                <a:lnTo>
                  <a:pt x="86246" y="21600"/>
                </a:lnTo>
                <a:lnTo>
                  <a:pt x="84846" y="20200"/>
                </a:lnTo>
                <a:lnTo>
                  <a:pt x="84846" y="1400"/>
                </a:lnTo>
                <a:close/>
              </a:path>
              <a:path fill="darkenLess" w="86246" h="21600">
                <a:moveTo>
                  <a:pt x="86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6" y="20200"/>
                </a:lnTo>
                <a:close/>
              </a:path>
              <a:path fill="lighten" w="86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ме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9"/>
          <p:cNvSpPr/>
          <p:nvPr/>
        </p:nvSpPr>
        <p:spPr>
          <a:xfrm>
            <a:off x="179280" y="3317760"/>
            <a:ext cx="2016360" cy="505080"/>
          </a:xfrm>
          <a:custGeom>
            <a:avLst/>
            <a:gdLst>
              <a:gd name="textAreaLeft" fmla="*/ 32400 w 2016360"/>
              <a:gd name="textAreaRight" fmla="*/ 1983960 w 201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86185" h="21600">
                <a:moveTo>
                  <a:pt x="0" y="0"/>
                </a:moveTo>
                <a:lnTo>
                  <a:pt x="86185" y="0"/>
                </a:lnTo>
                <a:lnTo>
                  <a:pt x="86185" y="21600"/>
                </a:lnTo>
                <a:lnTo>
                  <a:pt x="0" y="21600"/>
                </a:lnTo>
                <a:close/>
              </a:path>
              <a:path fill="lightenLess" w="86185" h="21600">
                <a:moveTo>
                  <a:pt x="0" y="0"/>
                </a:moveTo>
                <a:lnTo>
                  <a:pt x="86185" y="0"/>
                </a:lnTo>
                <a:lnTo>
                  <a:pt x="84785" y="1400"/>
                </a:lnTo>
                <a:lnTo>
                  <a:pt x="1400" y="1400"/>
                </a:lnTo>
                <a:close/>
              </a:path>
              <a:path fill="darken" w="86185" h="21600">
                <a:moveTo>
                  <a:pt x="86185" y="0"/>
                </a:moveTo>
                <a:lnTo>
                  <a:pt x="86185" y="21600"/>
                </a:lnTo>
                <a:lnTo>
                  <a:pt x="84785" y="20200"/>
                </a:lnTo>
                <a:lnTo>
                  <a:pt x="84785" y="1400"/>
                </a:lnTo>
                <a:close/>
              </a:path>
              <a:path fill="darkenLess" w="86185" h="21600">
                <a:moveTo>
                  <a:pt x="86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5" y="20200"/>
                </a:lnTo>
                <a:close/>
              </a:path>
              <a:path fill="lighten" w="86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0"/>
          <p:cNvSpPr/>
          <p:nvPr/>
        </p:nvSpPr>
        <p:spPr>
          <a:xfrm>
            <a:off x="6973920" y="335772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1"/>
          <p:cNvSpPr/>
          <p:nvPr/>
        </p:nvSpPr>
        <p:spPr>
          <a:xfrm>
            <a:off x="6954840" y="4508640"/>
            <a:ext cx="2016000" cy="504720"/>
          </a:xfrm>
          <a:custGeom>
            <a:avLst/>
            <a:gdLst>
              <a:gd name="textAreaLeft" fmla="*/ 32400 w 2016000"/>
              <a:gd name="textAreaRight" fmla="*/ 1983600 w 201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6231" h="21600">
                <a:moveTo>
                  <a:pt x="0" y="0"/>
                </a:moveTo>
                <a:lnTo>
                  <a:pt x="86231" y="0"/>
                </a:lnTo>
                <a:lnTo>
                  <a:pt x="86231" y="21600"/>
                </a:lnTo>
                <a:lnTo>
                  <a:pt x="0" y="21600"/>
                </a:lnTo>
                <a:close/>
              </a:path>
              <a:path fill="lightenLess" w="86231" h="21600">
                <a:moveTo>
                  <a:pt x="0" y="0"/>
                </a:moveTo>
                <a:lnTo>
                  <a:pt x="86231" y="0"/>
                </a:lnTo>
                <a:lnTo>
                  <a:pt x="84831" y="1400"/>
                </a:lnTo>
                <a:lnTo>
                  <a:pt x="1400" y="1400"/>
                </a:lnTo>
                <a:close/>
              </a:path>
              <a:path fill="darken" w="86231" h="21600">
                <a:moveTo>
                  <a:pt x="86231" y="0"/>
                </a:moveTo>
                <a:lnTo>
                  <a:pt x="86231" y="21600"/>
                </a:lnTo>
                <a:lnTo>
                  <a:pt x="84831" y="20200"/>
                </a:lnTo>
                <a:lnTo>
                  <a:pt x="84831" y="1400"/>
                </a:lnTo>
                <a:close/>
              </a:path>
              <a:path fill="darkenLess" w="86231" h="21600">
                <a:moveTo>
                  <a:pt x="862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31" y="20200"/>
                </a:lnTo>
                <a:close/>
              </a:path>
              <a:path fill="lighten" w="862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2b7be"/>
              </a:gs>
              <a:gs pos="50000">
                <a:srgbClr val="ffffff"/>
              </a:gs>
              <a:gs pos="100000">
                <a:srgbClr val="62b7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2130480" y="5445000"/>
            <a:ext cx="4824360" cy="1008360"/>
          </a:xfrm>
          <a:prstGeom prst="rect">
            <a:avLst/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2141640" y="5229360"/>
            <a:ext cx="4824360" cy="1008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" descr="http://www.develop-kinder.com/z/1/01/1/z1.gif"/>
          <p:cNvPicPr/>
          <p:nvPr/>
        </p:nvPicPr>
        <p:blipFill>
          <a:blip r:embed="rId3"/>
          <a:stretch/>
        </p:blipFill>
        <p:spPr>
          <a:xfrm>
            <a:off x="2124000" y="189000"/>
            <a:ext cx="1368360" cy="2525760"/>
          </a:xfrm>
          <a:prstGeom prst="rect">
            <a:avLst/>
          </a:prstGeom>
          <a:ln w="0">
            <a:noFill/>
          </a:ln>
        </p:spPr>
      </p:pic>
      <p:sp>
        <p:nvSpPr>
          <p:cNvPr id="415" name="Стрелка влево 11">
            <a:hlinkClick r:id="rId4" action="ppaction://hlinksldjump"/>
          </p:cNvPr>
          <p:cNvSpPr/>
          <p:nvPr/>
        </p:nvSpPr>
        <p:spPr>
          <a:xfrm>
            <a:off x="7812000" y="6237360"/>
            <a:ext cx="1224000" cy="5763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мо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0:13:57Z</dcterms:created>
  <dc:creator>КарМаН</dc:creator>
  <dc:description/>
  <dc:language>en-US</dc:language>
  <cp:lastModifiedBy>Илья</cp:lastModifiedBy>
  <dcterms:modified xsi:type="dcterms:W3CDTF">2019-05-20T18:44:50Z</dcterms:modified>
  <cp:revision>26</cp:revision>
  <dc:subject/>
  <dc:title>Слайд 1</dc:title>
</cp:coreProperties>
</file>