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834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981-E9AD-40F3-B157-80C9A5BC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26B-9523-4B20-B758-EB178A24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164-C0F8-4795-942D-636376B0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7040-259A-45AA-8C37-F11F7AE0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88C4-4FF2-4F10-90A9-F145B950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8C3E-B70A-43E4-8542-FA2A658A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2316-0529-425A-BC63-71F15865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B1F5-F3E9-4544-A758-4E29C123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C7FC-4716-4BA0-BEBE-FDAE3232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2415-0A82-4926-B696-3BD79E3B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84F8-4ABE-4DF3-99B9-08BBF0A9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585-C1E1-4322-A46B-9D92E8D0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9CEA-CE2D-4BBC-9F9B-2B2FC55B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EBE0-0CF5-40C2-A136-A75C469F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0206-C7CB-406E-BDEB-3A767A50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74C1-D307-43C9-BB84-6BDA152D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CDE8-F23F-43C0-9AC0-489ED704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A8468-BA80-463D-A856-EC32802D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18D4A-1CD2-49B8-982C-54FC0DCE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F4AE8-B7D6-4E45-8BBD-5E2FBAFF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58660-6801-421C-94DB-2A6FDCBD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A5F9E-752F-4F27-B5AB-423CFDCC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BE8-D789-40AF-94C6-B8AA8609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10E7-DFE7-4655-92C9-56F3CEB5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F5AF-3C0D-48DC-BB4C-DCDAAA7E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3173-6907-4FA6-AA2B-9E4EFE70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22F98-A7E9-4D58-81C9-C04F4DE0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5C9C8-0EFC-4571-9243-F098B44C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4A71E-EC7D-4A57-B36B-1035F11A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17BE9-6820-4168-9593-CF78F4FD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78636-66BC-48C5-A232-2487DBFD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E3B39-8B13-4298-B869-07478F32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2BF5E-E994-499F-A4C2-F422B451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C66-8707-4E86-83AF-18387968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691D8-58DA-4A6D-A03D-7917CF82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C3B6B-6D81-4FC0-990F-D167F07A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DF732-BC89-4A95-B3CD-1B713AD4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83F9-35BE-4543-BD10-7605093B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67035-3C01-4EC1-B7C2-BDE1F434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C929D-75DC-490A-8CB1-2EFFE1A3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5FB93-BFAC-4B0A-A03A-E058CD2D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0CCDF-4058-49C8-9641-67775769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CB6CE-159A-4666-BDB5-307BCED4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49B-EC27-47D8-BC30-922A4EAE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6FB-7F16-4AF5-90B1-B44CFADF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A82-8E7C-40D5-8F1B-09330A69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07C-978B-4C51-B773-75886553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44B-D0C0-4B7B-8574-4A8FDC68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CC43-7C63-4140-A67E-2AC2E010C1C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E615-6AC1-438E-A94F-AFA4B1F6C3C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3DEE-48B0-420C-9895-85F3E2C9BC3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2FBC-7088-4823-B4F8-718E37F1ECD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etsad-shop.ru/index.php?cPath=32_43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detsad-shop.ru/product_info.php?products_id=1235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2123640" y="2636640"/>
            <a:ext cx="6172200" cy="237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саморазвития по Монтессори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611280" y="3020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зона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которой обычно ребенок начинает свою работу по приходу в группу,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она упражнений практической жиз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39640" y="1125360"/>
            <a:ext cx="828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познает практическую часть жизни: переливает воду из кувшина в кувшин, моет и чистит овощи, стирает, застегивает молнию, завязывает шнурки. Для всего этого подойдут как обычные бытовые предметы (всевозможные кастрюли, емкости, и так далее), так и специальные игровые пособия — 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Times New Roman"/>
                <a:hlinkClick r:id="rId1"/>
              </a:rPr>
              <a:t>шнуров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montessori8"/>
          <p:cNvPicPr/>
          <p:nvPr/>
        </p:nvPicPr>
        <p:blipFill>
          <a:blip r:embed="rId2"/>
          <a:stretch/>
        </p:blipFill>
        <p:spPr>
          <a:xfrm>
            <a:off x="826920" y="3429000"/>
            <a:ext cx="3743640" cy="276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7" name="Picture 7" descr="shnurovk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456000" cy="30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 flipV="1" rot="10786800">
            <a:off x="395280" y="547560"/>
            <a:ext cx="62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орая зона - Зона сенсорн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учится различать температуру, трогая нагретые на солнышке камушки и лед, вынутый из холодильника; различать цвета, предметы по весу; знакомится с разнообразием запахов, нюхая баночки с различным на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montessori6"/>
          <p:cNvPicPr/>
          <p:nvPr/>
        </p:nvPicPr>
        <p:blipFill>
          <a:blip r:embed="rId1"/>
          <a:stretch/>
        </p:blipFill>
        <p:spPr>
          <a:xfrm>
            <a:off x="3708360" y="2637000"/>
            <a:ext cx="4753080" cy="3452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395280" y="403560"/>
            <a:ext cx="576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тематическая з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учится простым математическим действиям, знакомится с четырехзначными цифрами. Самый простой пример Монтессори-пособия, который можно встретить в математической зоне — обычные сч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montessori5"/>
          <p:cNvPicPr/>
          <p:nvPr/>
        </p:nvPicPr>
        <p:blipFill>
          <a:blip r:embed="rId1"/>
          <a:stretch/>
        </p:blipFill>
        <p:spPr>
          <a:xfrm>
            <a:off x="1763640" y="2997360"/>
            <a:ext cx="6408720" cy="3252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403280" y="257760"/>
            <a:ext cx="694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она языков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у зону наполняет большое количество предметов, направленных на развитие мелкой моторики. Изучая азбуку, дети обводят пальчиками шершавые буквы, а затем стараются воспроизвести очертания букв, рисуя их на кру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montessori4"/>
          <p:cNvPicPr/>
          <p:nvPr/>
        </p:nvPicPr>
        <p:blipFill>
          <a:blip r:embed="rId1"/>
          <a:stretch/>
        </p:blipFill>
        <p:spPr>
          <a:xfrm>
            <a:off x="2771640" y="2565360"/>
            <a:ext cx="4392720" cy="400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250920" y="332280"/>
            <a:ext cx="87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она естественнонаучного воспитания (космо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а зона дает ребенку первые представления об окружающем мире: ботанике и географ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montessori9"/>
          <p:cNvPicPr/>
          <p:nvPr/>
        </p:nvPicPr>
        <p:blipFill>
          <a:blip r:embed="rId1"/>
          <a:stretch/>
        </p:blipFill>
        <p:spPr>
          <a:xfrm>
            <a:off x="684360" y="2060640"/>
            <a:ext cx="8064360" cy="313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614160" y="332280"/>
            <a:ext cx="51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ехступенчатый урок Монтессо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24000" y="97884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етоде Монтессори есть такое понятие как трехступенчатый урок. Это урок, который состоит из трех этапов или ступеней. Он применяется для того, чтобы дать ребенку новые понятия, пополнить его словарный зап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731520" y="273564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ступень – это ступень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731160" y="316764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ступень – это уровень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735120" y="3599280"/>
            <a:ext cx="76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ступень – проверка переданных знаний, их усв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250920" y="423072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хступенчатый урок проводится, как правило, с не более чем тремя новыми предметами или понят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1694880" y="22896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оведи Марии Монтессо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montessori"/>
          <p:cNvPicPr/>
          <p:nvPr/>
        </p:nvPicPr>
        <p:blipFill>
          <a:blip r:embed="rId1"/>
          <a:stretch/>
        </p:blipFill>
        <p:spPr>
          <a:xfrm>
            <a:off x="6877080" y="549360"/>
            <a:ext cx="1909800" cy="1481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4" name="Rectangle 7"/>
          <p:cNvSpPr/>
          <p:nvPr/>
        </p:nvSpPr>
        <p:spPr>
          <a:xfrm>
            <a:off x="250920" y="80532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Никогда не трогай ребенка, пока он сам к тебе не обратится (в какой-либо фор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48400" y="1460880"/>
            <a:ext cx="57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икогда не говори плохо о ребенке, ни при н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 без н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50920" y="21024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Концентрируйся на развитии хорошего в ребенке, так что в итоге плохому будет оставаться все меньше и меньше м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324000" y="2851560"/>
            <a:ext cx="84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Будь активен в подготовке среды. Проявляй постоянную педантичную заботу о ней. Помогай ребенку устанавливать конструктивное взаимодействие с ней. Показывай место каждого развивающего материала и правильные способы работы с н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324000" y="4148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Будь готов откликнуться на призыв ребенка, который нуждается в тебе, всегда прислушивайся и отвечай ребенку, который обращается к т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324000" y="486792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Уважай ребенка, который сделал ошибку и сможет сейчас или чуть позже исправить ее. Но немедленно и твердо останавливай любое некорректное использование материала и любое действие, угрожающее безопасности самого ребенка или других детей, его развит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395280" y="35136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Уважай ребенка отдыхающего или наблюдающего за работой других, или размышляющего о том, что он делал или собирается делать. Никогда не зови его и не принуждай к другим активным действ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88080" y="1397520"/>
            <a:ext cx="64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Помогай тем, кто ищет работу и не может выбрать ее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95280" y="1915200"/>
            <a:ext cx="81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Будь неустанным, помогай ребенку осваивать ранее неосвоенное, преодолевать несовершенство. Делай это, наполняя окружающий мир заботой, сдержанностью и тишиной, милосердием и любовью. Сделай свою готовность помочь очевидной для ребенка, который находится в поиске, и незаметной для того ребенка, который уже все наш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95280" y="3599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. Всегда в обращении с ребенком используй лучшие манеры и предлагай ему лучшее в тебе и лучшее из того, что есть в твоем распоряжен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8" descr="montessori1"/>
          <p:cNvPicPr/>
          <p:nvPr/>
        </p:nvPicPr>
        <p:blipFill>
          <a:blip r:embed="rId1"/>
          <a:stretch/>
        </p:blipFill>
        <p:spPr>
          <a:xfrm>
            <a:off x="3635280" y="4508640"/>
            <a:ext cx="20527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делить учащихся на 4 групп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Ребята, сейчас я каждой группе раздам по мешочку, ваша задача не глядя, наощупь определить что же это такое. (Это семена гороха и подсолнух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Верно, молодцы! А сейчас, я предлагаю вам послушать о необычных превращениях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гороха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(показывает последовательность развития с помощью карточе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Как приятно зимой съесть тарелочку горохового супа или салат, заправленный ароматным зеленым горошком! Начинается путешествие гороха на обеденный стол с одной-единственной маленькой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орошин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Весной, попав в землю. Маленькая горошинка начинает набухать, впитывая в себя влагу из земли. Кожура ее раскрывается, и из нее появляется молодой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рен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Затем начинает развиватьс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родыш-стебеле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поднимающий наверх почечку, из которой появляется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осто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Вскоре на нем появляются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истья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отростки-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ик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нежно-белые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вет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Из цветка в скором времени вырастет удлиненная коробочка-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учок,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полный вкусных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ороши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611280" y="-6120"/>
            <a:ext cx="7705800" cy="67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ременное российское общество подвергается глобальным социальным, экономическим, политическим и культурным изменениям, что делает необходимым обновление содержания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т уже почти сто лет имя Марии Монтессори приковывает к себе неослабевающее внимание педагогов и ученых более чем в восьмидесяти странах мира. Известная как выдающийся ученый и гуманист она создала систему, равной которой в мировом опыте не было и нет. Европа, Америка, Индия, Китай, Япония - тысячи Монтессори школ открыты по всему миру. Что же делает метод Монтессори таким привлекательным? Он удивительно технологичный, продуманный, цельный и включает в себя не только развитие интеллектуальных способностей, но и будущих «доспехов духа». М. Монтессори действительно нашла уникальный способ работы с каждым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95280" y="691920"/>
            <a:ext cx="829152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Итак, ребята, вы прослушали, как превращается (прорастает) горох, теперь вам нужно выполнить задание в группах. Сейчас я раздам вам волшебный кроссовок, вы должны последовательно соединить этапы превращения (прорастания) гороха. (Выполняют задание)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Давайте проверим. (Горошина, корень, зародыш-стебелек, росток, листья, отростки-усики, цветы, стручок, полный куст горошин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Молодцы, ребята! А вы любите горох? Почему? (потому что он такой вкусный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Сейчас, я расскажу вам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вращениях 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подсолнух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(показывает последовательность развития с помощью карточе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68000" y="-360"/>
            <a:ext cx="8218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Подсолнух- любимец солнышка. Первый подсолнух приехал к нам из-за океана, из далекой Мексики. Он начинает свое развитие с небольшого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емечка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покрытого темной шкуркой- кожурой. Попав в землю, семя подсолнуха под действием тепла и влаги образует и питает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родыш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 Затем появляется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решок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который растет и укрепляется в почве. Зародыш- проросток растет и становится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тебле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 Стебель у подсолнуха один, очень мощный. От него на длинных черешках отходят крупные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листь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с резными краями. Ближе к осени на конце стебля появляется сначала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утон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а затем крупная корзинка-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цвети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окрытая снизу небольшими листьями. На месте мелких настоящих цветков образовываютс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емен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подсолнечника. Из них изготавливают подсолнечное масло, маргарин, халву и многие другие необходимые человеку продукты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95280" y="333000"/>
            <a:ext cx="829152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бята, вы прослушали, как превращается (прорастает) подсолнул, сейчас вам нужно выполнить такое же задание со шнуровкой. Напоминаю, что вы должны последовательно соединить этапы превращения (прорастания) подсолнуха. (Выполняют задание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Давайте проверим. (Семечко, зародыш, корешок, стебель, листья, бутон, соцветие, семена подсолнечника, подсолнух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Дети, некоторые детали развития повторяются. Подумайте, что в их развитии похож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Чем отличается развит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Как можно назвать одним словом горох, подсолнух? (Растения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Где растут эти растения? (На огороде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3547800"/>
            <a:ext cx="316692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04617b"/>
                </a:solidFill>
                <a:latin typeface="Times New Roman"/>
              </a:rPr>
              <a:t>Девиз педагогики М.Монтессори «Помоги мне сделать это самому..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735280" y="404640"/>
            <a:ext cx="640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55240">
              <a:lnSpc>
                <a:spcPct val="7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рия Монтессо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родилась в 1870 году в небольшом итальянском городе. В детстве Мария Монтессори проявила неординарные способности в математик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2 лет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рия Монтессо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 поступила в техническую школу, где была единственной девочкой среди мальчик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школы Мария поступила в университет. Обучаться медицине в университете имели право только мужчины. Девушку  сначала принили вольной слушательницей, а затем, ввиду особых успехов, зачислили полноправной студенткой на курс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рия Монтессо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устраивается работать в университетскую клинику. К ней приходит мысль о необходимости создания особой развивающей среды вокруг ребен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5524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900 году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рия Монтессо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возглавляет ортофреническую школу — первое учебное заведение в Европе для детей с отклонениями в развитии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рия Монтессо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вплотную занялась изучением развития здоровых детей. В 1907 году в Риме под ее руководством открывается первый Дом Ребенка. Работа в этом заведении строится строго по принципам, предложенным М.Монтессор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7" descr="ANd9GcTyHHiCcWxd4mQfWmB9U0fuDy6fhL6qVF0yl8g5hLuvUApnPBl9Sw"/>
          <p:cNvPicPr/>
          <p:nvPr/>
        </p:nvPicPr>
        <p:blipFill>
          <a:blip r:embed="rId1"/>
          <a:stretch/>
        </p:blipFill>
        <p:spPr>
          <a:xfrm>
            <a:off x="108000" y="260280"/>
            <a:ext cx="2452680" cy="328788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sp>
        <p:nvSpPr>
          <p:cNvPr id="200" name="Rectangle 8"/>
          <p:cNvSpPr/>
          <p:nvPr/>
        </p:nvSpPr>
        <p:spPr>
          <a:xfrm>
            <a:off x="2626920" y="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графическая справ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324000" y="333360"/>
            <a:ext cx="864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лема: Технология саморазвития была создана как альтернатива муштре и догматизму в обучении, распространенным в конце XIX ве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ассификационные парамет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уровню примен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общепедаг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характеру содерж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воспитательная, обучающая,общеобразовательная, гуманистиче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типу управления познавательной деятельностью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стема малых групп + консультант + репети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организационным форм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альтернативная,индивидуальная + групп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преобладающему метод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игровая + творче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направлению модерниз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природосообраз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категории обучаем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все катег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50920" y="-9720"/>
            <a:ext cx="8675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евые ориентац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сестороннее развитие, воспитание самостоятельности, соединение в сознании ребенка предметного мира и мысли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птуальны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ение должно проходить совершенно естественно в соответствии с развитием - ребенок сам себя разви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я жизнь ребенка - от рождения до гражданской зрелости - есть развитие его независимости и самосто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т сензитивности и спонтанности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аз от миссии обучать детей; вместо обучения предоставить им условия для самостоятельного развития и освоения человеческ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шление ребенка должно проходить все необходимые стадии: от предметно-действенного к наглядно-образному, и только после этого достигается абстрактный уров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нание ребенка является «впитывающим», поэтому приоритет дидактики — организовать окружающую среду для такого «впитыв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79280" y="-1440"/>
            <a:ext cx="896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содерж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лы развития заложены в ребенке, но они могут не реализоваться, если не будет подготовленной среды. При создании ее учитывается прежде всег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нзи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наивысшая восприимчивость к тем или иным внешним явл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тессори-материа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ь часть педагогической подготовительной среды, которая побуждает ребенка проявить возможности его собственного развития через самодеятельность, соответствующую его индивидуальности, и отвечает стремлению ребенка к движ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http://www.det-sad.com/wp-content/uploads/2011/11/montessori3_1.jpg"/>
          <p:cNvPicPr/>
          <p:nvPr/>
        </p:nvPicPr>
        <p:blipFill>
          <a:blip r:embed="rId1"/>
          <a:stretch/>
        </p:blipFill>
        <p:spPr>
          <a:xfrm>
            <a:off x="250920" y="2852640"/>
            <a:ext cx="2592360" cy="197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5" name="Picture 6" descr="http://www.det-sad.com/wp-content/uploads/2011/11/montessori3_2.jpg"/>
          <p:cNvPicPr/>
          <p:nvPr/>
        </p:nvPicPr>
        <p:blipFill>
          <a:blip r:embed="rId2"/>
          <a:stretch/>
        </p:blipFill>
        <p:spPr>
          <a:xfrm>
            <a:off x="3132000" y="3284640"/>
            <a:ext cx="3095640" cy="23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6" name="Picture 7" descr="http://www.det-sad.com/wp-content/uploads/2011/11/montessori3_3.jpg"/>
          <p:cNvPicPr/>
          <p:nvPr/>
        </p:nvPicPr>
        <p:blipFill>
          <a:blip r:embed="rId3"/>
          <a:stretch/>
        </p:blipFill>
        <p:spPr>
          <a:xfrm>
            <a:off x="6516720" y="2997360"/>
            <a:ext cx="2378160" cy="1879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7" name="Picture 8" descr="http://www.det-sad.com/wp-content/uploads/2011/11/montessori3_4.jpg"/>
          <p:cNvPicPr/>
          <p:nvPr/>
        </p:nvPicPr>
        <p:blipFill>
          <a:blip r:embed="rId4"/>
          <a:stretch/>
        </p:blipFill>
        <p:spPr>
          <a:xfrm>
            <a:off x="1042920" y="5084640"/>
            <a:ext cx="1981440" cy="143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8" name="Rectangle 10"/>
          <p:cNvSpPr/>
          <p:nvPr/>
        </p:nvSpPr>
        <p:spPr>
          <a:xfrm>
            <a:off x="3276720" y="5805360"/>
            <a:ext cx="56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таринные материалы Монтессори, хранящиеся в Институте Детства в Санкт-Петер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826920" y="260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растная периодизация, разработанная М.Монтессо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-3 года: предметно-чувственная ориентиро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-6 лет: сензитивность к речи, освоение языка, наглядно-образное мыш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-9 лет: освоение абстрактных дей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-12 лет: завершение первого, начального концентра шк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-18 лет: гимназическая и старшая ступ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montessori2_31"/>
          <p:cNvPicPr/>
          <p:nvPr/>
        </p:nvPicPr>
        <p:blipFill>
          <a:blip r:embed="rId1"/>
          <a:stretch/>
        </p:blipFill>
        <p:spPr>
          <a:xfrm>
            <a:off x="468360" y="4149720"/>
            <a:ext cx="3816360" cy="2478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1" name="Picture 6" descr="montessori2_1"/>
          <p:cNvPicPr/>
          <p:nvPr/>
        </p:nvPicPr>
        <p:blipFill>
          <a:blip r:embed="rId2"/>
          <a:stretch/>
        </p:blipFill>
        <p:spPr>
          <a:xfrm>
            <a:off x="2738520" y="2757600"/>
            <a:ext cx="366696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250920" y="-6120"/>
            <a:ext cx="85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сциплина в своб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сциплина в свободе - вот великий принцип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торый нелегко понять стороннику традиционных школьных методов. Как добиться дисциплины в классе свободных детей? Разумеется, в системе Монтессори понятие дисциплины весьма отличается от обычного понятия ее. Раз дисциплина основана на свободе, то и самая дисциплина обязательно должна быть деятельной, активной. Это отлично от понимания дисциплинированного ребенка, когда он становится молчаливым, тихим, по сути, пассивным и неподвиж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сципли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же Монтессори понимала владение собой ка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утреннюю способ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мение найти баланс между тем, ч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б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тем, что хорош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друг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чь идет об умен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ировать себ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Это активность, которая контролируется и регулируется самим ребенком и предполагает действия, определяемые им сам, а не налагаемые извне педаго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68360" y="190440"/>
            <a:ext cx="79041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дготовленная среда у Марии Монтесс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тод М.Монтессори состоит из трех основных частей: ребен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окружающей (подготовленной) среды,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школе М. Монтессори придается большое значение организации специально подготовленного учебного простр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готовленная среда включает в себя также атмосферу помещени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гиена важна для ребенка не только как фактор сохранения его здоровья, но и с точки зрения его воспи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готовленная среда состоит из </a:t>
            </a:r>
            <a:r>
              <a:rPr b="1" lang="ru-RU" sz="2000" spc="-1" strike="noStrike">
                <a:solidFill>
                  <a:srgbClr val="f10505"/>
                </a:solidFill>
                <a:latin typeface="Times New Roman"/>
              </a:rPr>
              <a:t>5</a:t>
            </a:r>
            <a:r>
              <a:rPr b="1" lang="ru-RU" sz="2000" spc="-1" strike="noStrike">
                <a:solidFill>
                  <a:srgbClr val="fca2e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он развития, которые ребенок последовательно осваивает за время пребывания в груп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8:55:44Z</dcterms:created>
  <dc:creator>1</dc:creator>
  <dc:description/>
  <dc:language>en-US</dc:language>
  <cp:lastModifiedBy>Андрей</cp:lastModifiedBy>
  <cp:lastPrinted>2016-01-20T12:42:34Z</cp:lastPrinted>
  <dcterms:modified xsi:type="dcterms:W3CDTF">2019-05-24T09:24:37Z</dcterms:modified>
  <cp:revision>30</cp:revision>
  <dc:subject/>
  <dc:title>Технологии  саморазвития по М. Монтессори.</dc:title>
</cp:coreProperties>
</file>