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5CD-D178-4E7D-905F-4CD7CB21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542-4160-4E1E-BDEB-C7C847B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52F-B4C6-41B8-BB6F-A1C88D5F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0B4-4E83-4692-BA92-FD43F97B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A8B9-53C7-4FC0-8D7D-A885A99A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F98A-D794-4F46-84DB-1599A95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602-F4A8-422F-8CC1-010803D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896-5CED-48AB-AA52-C1CF1B8A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30A-EC3F-455E-A1B5-D47685A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5F3-34D5-4D5A-ADE2-633FE56C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CC2-FB5D-432E-A9A9-679F8CF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5A1-EBD2-48CB-BE90-927C5FD8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0B76-A495-43CF-B072-A8EB6AE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FB6E-846C-46B1-97C0-82024F48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04D7-7169-4A74-9560-3E82C13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58E-1F18-4D00-931F-7DBC4149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2E4-F713-4751-B9D9-B8503A00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A401-2156-46F9-BD1E-CD2D6D1D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B6AB-6F39-42E1-84E3-77839E87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948A-0F25-46A5-9211-18918F4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A721-9334-4DD5-8D76-8404EA13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A856-B651-4140-89B0-24B4684B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623-738F-4858-89B0-4A8C1359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5B3E-B932-4995-B13F-C96B0C1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4501-B1ED-4EE5-9998-6FD04C9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CBA9-20DF-4BFE-8669-9DAC98E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535E-95B8-48BF-98EF-78DA17D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FC63-0ACB-41C4-931C-A3765C34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72FD-2526-4C1A-890A-595AF735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4424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79720" y="175212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4424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479720" y="4037040"/>
            <a:ext cx="32713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0134-A3B8-40CB-A664-CCA6B7EC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BC7-EDA2-4EA9-BF1B-ECA5B1A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776-AA2F-46A2-A238-F189491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7721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121-2DF3-42C8-B467-30ACAADC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976-8030-48BB-8EF2-1DA6BBF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15440" y="403704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B9E-051C-429D-8DB9-D612C3B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15440" y="1752120"/>
            <a:ext cx="49579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1602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D64-F509-475A-B65C-ADC316D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9AE-8F43-42DF-8B29-C73CA5E1C48B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12001680" y="0"/>
            <a:ext cx="19044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2001680" y="1371600"/>
            <a:ext cx="19044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2001680" y="4846680"/>
            <a:ext cx="19044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2001680" y="0"/>
            <a:ext cx="19044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023C-4571-425A-957A-3A3B65E3E9E0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2001680" y="4846680"/>
            <a:ext cx="19044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2001680" y="0"/>
            <a:ext cx="19044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160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9480" y="61718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9480" y="6492600"/>
            <a:ext cx="4572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11188080" y="5824440"/>
            <a:ext cx="131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8864-9D0C-43BD-8E1B-5703340788B5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s://russian-kenguru.ru/konkursy/kenguru" TargetMode="External"/><Relationship Id="rId4" Type="http://schemas.openxmlformats.org/officeDocument/2006/relationships/hyperlink" Target="https://russian-kenguru.ru/konkursy/kenguru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ussian-kenguru.ru/konkursy/kit" TargetMode="External"/><Relationship Id="rId4" Type="http://schemas.openxmlformats.org/officeDocument/2006/relationships/hyperlink" Target="https://russian-kenguru.ru/konkursy/kit" TargetMode="External"/><Relationship Id="rId5" Type="http://schemas.openxmlformats.org/officeDocument/2006/relationships/hyperlink" Target="https://russian-kenguru.ru/konkursy/ki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runodog.ru/news/zolotoe_runo/2019-05-13-125" TargetMode="External"/><Relationship Id="rId4" Type="http://schemas.openxmlformats.org/officeDocument/2006/relationships/hyperlink" Target="http://runodog.ru/news/zolotoe_runo/2019-05-13-125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hyperlink" Target="https://russian-kenguru.ru/konkursy/russkii-medvezhonok" TargetMode="External"/><Relationship Id="rId4" Type="http://schemas.openxmlformats.org/officeDocument/2006/relationships/hyperlink" Target="https://russian-kenguru.ru/konkursy/russkii-medvezhonok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10363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093680" y="1122480"/>
            <a:ext cx="10004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ы для учеников начальной шко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457440" y="524664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Игонина Светл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2227320" y="365040"/>
            <a:ext cx="7737480" cy="1733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1008000" y="2344680"/>
            <a:ext cx="1017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ssian-kenguru.ru/konkursy/kengu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2465280" y="365040"/>
            <a:ext cx="7543800" cy="21988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081080" y="2809800"/>
            <a:ext cx="1002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1,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russian-kenguru.ru/konkursy/ki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414360" y="731880"/>
            <a:ext cx="7192800" cy="53942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7824960" y="2416320"/>
            <a:ext cx="35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nodog.ru/news/zolotoe_runo/2019-05-13-12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631800" y="430200"/>
            <a:ext cx="4576680" cy="3436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715000" y="365040"/>
            <a:ext cx="587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самый популярный в стране конкурс школьников по русскому языку. Участвуют в конкурсе все желающие, без какого-либо предварительного отбора. Конкурс проводится в пяти разных возрастных группах: 2 и 3, 4 и 5, 6 и 7, 8 и 9, а также 10 и 11 классы. Участникам в игровой форме предлагается в каждом из заданий выбрать один из пяти предложенных вариантов ответа. Победителям и призёрам после подведения итогов и вывешивания результатов конкурса выдаются ценные пр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12840" y="4297320"/>
            <a:ext cx="52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https://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russian-kenguru.ru/konkursy/russkii-medvezhono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279360" y="571680"/>
            <a:ext cx="617220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7010280" y="1474920"/>
            <a:ext cx="45072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й конкурс по информатике и информационным технолог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bras.ru/bebras18/main/go/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120" y="1752120"/>
            <a:ext cx="10160280" cy="43736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2070000" y="365040"/>
            <a:ext cx="8051760" cy="20383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955800" y="2754360"/>
            <a:ext cx="105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Bulldo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сероссийский конкурс по английскому языку. К участию приглашаются все школьники, без какого-либо предварительного отбора. Задания делятся по нескольким возрастным группам: 3-4, 5-6, 7-8 и 9-11 классы. Участникам предлагается ответить на 60 вопросов (в каждом — 4 варианта ответа), а также пройти аудирование. Письменная часть расчитана на 75 минут. Задания проверяют уровень знания грамматики, лексики, понимание реч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british-bulldo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8T10:49:03Z</dcterms:created>
  <dc:creator>User</dc:creator>
  <dc:description/>
  <dc:language>en-US</dc:language>
  <cp:lastModifiedBy>HP</cp:lastModifiedBy>
  <dcterms:modified xsi:type="dcterms:W3CDTF">2019-05-24T18:10:47Z</dcterms:modified>
  <cp:revision>6</cp:revision>
  <dc:subject/>
  <dc:title>Презентация PowerPoint</dc:title>
</cp:coreProperties>
</file>