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99D-EADC-4624-B617-C01CB3B1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1602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4037040"/>
            <a:ext cx="101602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2D4-B3CB-49DF-AF59-330A5DEC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15440" y="403704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DF68-5A3C-48CD-86E2-C77E31A5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44240" y="175212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79720" y="175212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403704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44240" y="403704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79720" y="403704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E41E-75BE-4274-B8F2-E6FCC2AF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42E0-FF56-4A5B-BE98-BFD4E64B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1016028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7B0D-A466-405A-8958-F9B33118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1602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D262-B480-488D-B851-3535CF91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BECC-FD00-4A34-96A1-2BF7FE2F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8490-2E59-4E86-BBB8-11FB93CD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120" y="152280"/>
            <a:ext cx="77216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7FBB-EC03-445D-AE06-12103934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45F8-C1DA-4366-89B8-5D2C025C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1016028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B493-8601-469B-A305-12898A77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815440" y="403704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6287-7C82-4497-912B-4C043C2D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101602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1E02-9D57-48BD-A86A-5E0CDD9E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1602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4037040"/>
            <a:ext cx="101602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D520-460D-4327-B983-090C7262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815440" y="403704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084E-F22D-4857-8EF8-9D0E295B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44240" y="175212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479720" y="175212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403704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44240" y="403704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479720" y="403704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5549-7D5F-4B83-A796-5F94C551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BC287-D7B1-4679-B465-E4A74EFB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1016028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7C131-968C-4E37-AB8B-83FF2763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1602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B8E26-04F3-4A22-BD4F-E6507CBF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AA92C-8AF5-4BE8-A44A-0672806C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75529-9AB1-4D48-A0A2-12E6A264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1602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B57B-2E10-4E67-934C-B01716A0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120" y="152280"/>
            <a:ext cx="77216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28E3D-B0D6-4D80-886F-43A5900C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F589E-CB54-40C2-8879-1F434C7E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815440" y="403704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82DC3-9C76-46FC-8178-B22ECC30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101602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3DB34-4E46-4F6C-8A95-1192A728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1602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120" y="4037040"/>
            <a:ext cx="101602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8C338-9556-43A1-9DDF-5B5EF425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815440" y="403704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19399-B123-4593-AE1B-BAD2DAB5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44240" y="175212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479720" y="175212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120" y="403704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044240" y="403704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479720" y="403704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9D731-3C04-4015-82D3-65A01D78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B071-8463-4074-BE9A-6B18234F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3A4A-58BC-4C59-B7ED-F235EA71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152280"/>
            <a:ext cx="77216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6C5-C594-4ACE-9AB0-D5983AF3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9E1-64D1-4B36-BD0C-A1EDB195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815440" y="403704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627D-9975-4E5E-A438-1421DE97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101602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3C5B-F65A-4E29-8092-961FC2CC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752120"/>
            <a:ext cx="101602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171840"/>
            <a:ext cx="457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492600"/>
            <a:ext cx="4572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11188080" y="5824440"/>
            <a:ext cx="13161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5AAE-B3A4-499C-8087-A8211F42F8F9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12001680" y="0"/>
            <a:ext cx="19044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12001680" y="1371600"/>
            <a:ext cx="19044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12001680" y="4846680"/>
            <a:ext cx="19044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2001680" y="0"/>
            <a:ext cx="19044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120" y="1752120"/>
            <a:ext cx="101602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09480" y="6171840"/>
            <a:ext cx="457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9480" y="6492600"/>
            <a:ext cx="4572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11188080" y="5824440"/>
            <a:ext cx="13161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5F5D-5010-4D7A-BD46-354DB8397AB9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12001680" y="4846680"/>
            <a:ext cx="19044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2001680" y="0"/>
            <a:ext cx="19044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09120" y="1752120"/>
            <a:ext cx="101602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09480" y="6171840"/>
            <a:ext cx="457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609480" y="6492600"/>
            <a:ext cx="4572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11188080" y="5824440"/>
            <a:ext cx="13161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D25A-66DB-4060-855D-4BFA4991C389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s://russian-kenguru.ru/konkursy/kenguru" TargetMode="External"/><Relationship Id="rId4" Type="http://schemas.openxmlformats.org/officeDocument/2006/relationships/hyperlink" Target="https://russian-kenguru.ru/konkursy/kenguru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s://russian-kenguru.ru/konkursy/kit" TargetMode="External"/><Relationship Id="rId4" Type="http://schemas.openxmlformats.org/officeDocument/2006/relationships/hyperlink" Target="https://russian-kenguru.ru/konkursy/kit" TargetMode="External"/><Relationship Id="rId5" Type="http://schemas.openxmlformats.org/officeDocument/2006/relationships/hyperlink" Target="https://russian-kenguru.ru/konkursy/kit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hyperlink" Target="http://runodog.ru/news/zolotoe_runo/2019-05-13-125" TargetMode="External"/><Relationship Id="rId4" Type="http://schemas.openxmlformats.org/officeDocument/2006/relationships/hyperlink" Target="http://runodog.ru/news/zolotoe_runo/2019-05-13-125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hyperlink" Target="https://russian-kenguru.ru/konkursy/russkii-medvezhonok" TargetMode="External"/><Relationship Id="rId4" Type="http://schemas.openxmlformats.org/officeDocument/2006/relationships/hyperlink" Target="https://russian-kenguru.ru/konkursy/russkii-medvezhonok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10363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480" y="4800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1093680" y="1122480"/>
            <a:ext cx="10004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лимпиады для учеников начальной школ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3457440" y="524664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Игонина Светлан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120" y="1752120"/>
            <a:ext cx="10160280" cy="43736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"/>
          <p:cNvPicPr/>
          <p:nvPr/>
        </p:nvPicPr>
        <p:blipFill>
          <a:blip r:embed="rId2"/>
          <a:stretch/>
        </p:blipFill>
        <p:spPr>
          <a:xfrm>
            <a:off x="2227320" y="365040"/>
            <a:ext cx="7737480" cy="1733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1008000" y="2344680"/>
            <a:ext cx="10175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нгур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один из самых популярных конкурсов школьников по математике в мире. Каждый год в нём участвуют более шести миллионов школьников, из них около двух — в России. Каждый желающий, вне зависимости от уровня знания математики, может поучаствовать в конкурсе-игре «Кенгуру». Сложность заданий делится по возрастным группам: 2 класс, 3-4 классы, 5-6 классы, 7-8 классы и 9-10 классы. После подведения итогов всем участникам выдаётся сертификат участника с указанием места, занятого в школе, в районе, в стране. Победители и призёры получают ценные при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3"/>
              </a:rPr>
              <a:t>https://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4"/>
              </a:rPr>
              <a:t>russian-kenguru.ru/konkursy/kengur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09120" y="1752120"/>
            <a:ext cx="10160280" cy="43736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"/>
          <p:cNvPicPr/>
          <p:nvPr/>
        </p:nvPicPr>
        <p:blipFill>
          <a:blip r:embed="rId2"/>
          <a:stretch/>
        </p:blipFill>
        <p:spPr>
          <a:xfrm>
            <a:off x="2465280" y="365040"/>
            <a:ext cx="7543800" cy="21988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1081080" y="2809800"/>
            <a:ext cx="10029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Кит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самый популярный конкурс в России по информатике среди школьников. Начиная с 2008 года, игровой конкурс собирает порядка 300 000 школьников ежегодно, в нём участвуют жители РФ, а также 4 стран Европы и Азии. Конкурс проводится в формате тестов, и делится по классам: 1, 2-3, 4-5, 6-7, 8-9 и 10-11. В каждом из 30 заданий предлагается 5 вариантов ответа, из который необходимо выделить единственный верный. На выполнение тестовых заданий отводится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ча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3"/>
              </a:rPr>
              <a:t>https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4"/>
              </a:rPr>
              <a:t>://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5"/>
              </a:rPr>
              <a:t>russian-kenguru.ru/konkursy/ki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9120" y="1752120"/>
            <a:ext cx="10160280" cy="43736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"/>
          <p:cNvPicPr/>
          <p:nvPr/>
        </p:nvPicPr>
        <p:blipFill>
          <a:blip r:embed="rId2"/>
          <a:stretch/>
        </p:blipFill>
        <p:spPr>
          <a:xfrm>
            <a:off x="414360" y="731880"/>
            <a:ext cx="7192800" cy="53942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7824960" y="2416320"/>
            <a:ext cx="352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3"/>
              </a:rPr>
              <a:t>http://</a:t>
            </a:r>
            <a:r>
              <a:rPr b="0" lang="en-US" sz="28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4"/>
              </a:rPr>
              <a:t>runodog.ru/news/zolotoe_runo/2019-05-13-12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9120" y="1752120"/>
            <a:ext cx="10160280" cy="43736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"/>
          <p:cNvPicPr/>
          <p:nvPr/>
        </p:nvPicPr>
        <p:blipFill>
          <a:blip r:embed="rId2"/>
          <a:stretch/>
        </p:blipFill>
        <p:spPr>
          <a:xfrm>
            <a:off x="631800" y="430200"/>
            <a:ext cx="4576680" cy="34369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5715000" y="365040"/>
            <a:ext cx="587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медвежон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самый популярный в стране конкурс школьников по русскому языку. Участвуют в конкурсе все желающие, без какого-либо предварительного отбора. Конкурс проводится в пяти разных возрастных группах: 2 и 3, 4 и 5, 6 и 7, 8 и 9, а также 10 и 11 классы. Участникам в игровой форме предлагается в каждом из заданий выбрать один из пяти предложенных вариантов ответа. Победителям и призёрам после подведения итогов и вывешивания результатов конкурса выдаются ценные при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312840" y="4297320"/>
            <a:ext cx="52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3"/>
              </a:rPr>
              <a:t>https://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4"/>
              </a:rPr>
              <a:t>russian-kenguru.ru/konkursy/russkii-medvezhono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9120" y="1752120"/>
            <a:ext cx="10160280" cy="43736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"/>
          <p:cNvPicPr/>
          <p:nvPr/>
        </p:nvPicPr>
        <p:blipFill>
          <a:blip r:embed="rId2"/>
          <a:stretch/>
        </p:blipFill>
        <p:spPr>
          <a:xfrm>
            <a:off x="279360" y="571680"/>
            <a:ext cx="6172200" cy="57150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7010280" y="1474920"/>
            <a:ext cx="450720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й конкурс по информатике и информационным технология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ebras.ru/bebras18/main/go/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9120" y="1752120"/>
            <a:ext cx="10160280" cy="43736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4" descr=""/>
          <p:cNvPicPr/>
          <p:nvPr/>
        </p:nvPicPr>
        <p:blipFill>
          <a:blip r:embed="rId2"/>
          <a:stretch/>
        </p:blipFill>
        <p:spPr>
          <a:xfrm>
            <a:off x="2070000" y="365040"/>
            <a:ext cx="8051760" cy="20383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5"/>
          <p:cNvSpPr/>
          <p:nvPr/>
        </p:nvSpPr>
        <p:spPr>
          <a:xfrm>
            <a:off x="955800" y="2754360"/>
            <a:ext cx="1051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Bulldo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всероссийский конкурс по английскому языку. К участию приглашаются все школьники, без какого-либо предварительного отбора. Задания делятся по нескольким возрастным группам: 3-4, 5-6, 7-8 и 9-11 классы. Участникам предлагается ответить на 60 вопросов (в каждом — 4 варианта ответа), а также пройти аудирование. Письменная часть расчитана на 75 минут. Задания проверяют уровень знания грамматики, лексики, понимание реч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russian-kenguru.ru/konkursy/british-bulldo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8T10:49:03Z</dcterms:created>
  <dc:creator>User</dc:creator>
  <dc:description/>
  <dc:language>en-US</dc:language>
  <cp:lastModifiedBy>HP</cp:lastModifiedBy>
  <dcterms:modified xsi:type="dcterms:W3CDTF">2019-05-24T18:10:47Z</dcterms:modified>
  <cp:revision>6</cp:revision>
  <dc:subject/>
  <dc:title>Презентация PowerPoint</dc:title>
</cp:coreProperties>
</file>