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dt" idx="2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ftr" idx="2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 type="sldNum" idx="2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3B282-B761-4466-B117-BCB598E403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86E91-D42E-4662-BD8B-5F646D27E5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733F3-4258-409D-AA55-BB05328CD7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CE461-5DB7-44A4-8CAE-0F776D6C21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20AA1-4DC3-4812-9A95-FA68CCBA2A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D8341-C0E2-4006-9E36-84869D2C4D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58CE4-F99B-4C57-A3AE-0B686280CD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79177-6B30-4659-894C-CC685C9C2F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851B3-978B-471C-BF15-BE1471C499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D90E1-E48B-4DD1-AC49-A714C663E5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37543-D2A1-48DF-B557-37723469F8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4A1E8-20FE-4B17-9AA2-B02F0E65C1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D5832-A220-490D-820F-9320967F2D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FECF8-E9DE-4CA3-B7DF-871BDAF123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1449-7D43-44EB-9B89-E99E9A57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3E29-B687-4CB4-BD77-BD48B1BD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3D0C-DEEA-4DA8-BBDE-C2F22949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E4D1-D08B-455D-AB15-277565FA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D7E3-FB49-401D-B383-74F81149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733B-2C68-4376-9C9A-A7E23228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7B16-2164-4FB9-A8D5-DE878AF2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9D25-94F3-4548-9083-355E8AA7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4458-A4F9-4EFC-BFC1-1662BF37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4DEE-F4A5-43A4-BA2B-47A36B7F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CA30-4115-493A-9CC4-C0695358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79D3-89E4-4F90-9D7E-5BAFF841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5BC9-0E3E-4C89-8DF7-D43931BF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AA3D-6E6E-4BDE-8B0D-0724A611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F61F-0B16-4631-BD79-428A4E1C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CAAA-F587-4DDA-8FA4-04197202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525D-EE7D-4029-8F4E-6780B37A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B07CE-E3FA-4A3B-9913-3B4BF333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B6041-FA89-45FF-84A6-128480E7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B38B7-22F5-4753-99B7-3B6D7918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2123A-5B04-48FC-968F-C915FF06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E35DD-4D20-4780-8821-6E67D1AA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6551-8A4D-4351-8E4C-BEA8D514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5AA30-2C54-4048-9495-F99C7E60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47A4B-20D0-4F88-99DF-7AA877F5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8E375-C263-439C-8101-1233C075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50662-BB31-4D8F-BBBA-3167FF05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0B06E-59A9-4A2F-A875-347F92AE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CA041-09C4-4343-81A6-F7AF13D8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8A403-256C-4503-9D83-36849DCCA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2100D-99C7-4DB3-900F-37322568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33D4F-0C2C-475C-ACD4-C98E45FA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6E20F-6176-4B0E-B92B-4C6801F4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95D1-CB66-4509-BBB0-8A3A6AEE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7D1C2-D8A2-47D0-84F2-07809560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510EF-3BE9-4A14-BC2C-A5070EF4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8641F-1544-4BDE-8B98-E574934D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55CD7-15C6-4F2B-9B08-93A1B9C3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0A5BB-2E59-4C96-B0C3-355A44A3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D5387-84B1-4729-8B22-62EC1EA4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9FA2D-4C84-4E78-A9D9-CD50CA49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65E09-4A7B-459D-88B3-7AF5F52B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062F9-F23C-4FC5-B984-175B2F5A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AE65A6-D066-42D2-8DFC-8F129BB65B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890A-ACDE-49AB-A763-CE9EC5B4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B96D7A-523E-4948-8BA8-A73C06B7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4A9FD6-B1EE-4DA8-93A3-BA5066AD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95E778-261F-40A1-9A3F-14A9BE8D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FFFA4E-7037-4BDB-AF11-591F6337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135B28-D49F-4F9C-84DD-72B31F67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883272-2FB3-4F26-8069-8B927B59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BB6112-9D65-44D2-B56B-49DF2C47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076779-C5E6-4585-AC81-A98AFF44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1FB2C0-BC5A-4365-8DB5-2547E763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E00A3B-CFF7-4D77-95BC-4B8B75B1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12EB-4904-47F2-97CD-08CD0D0E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DBCD35-9A79-4B96-A924-5B40002099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09E660-EEF9-44A8-92C2-D16574CCF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D25D1E-6798-4504-87E9-99F897A4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0B1088-30DD-4695-AA1D-53872D6F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1C30A8-725E-4412-8776-C57A7009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835BFA-D0CA-4F84-B18C-92820DDE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4F6AE5-28BC-42DC-AEC0-54F6A55F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D38446-4D13-40CA-B2FD-D293E4A2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D5630D-49E4-462F-A1D4-DD7A72F8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9D5EEE-7AA7-4CD7-BBDA-8FD9B454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60A4-F6EC-4CB9-9760-CDA043AD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277296-73D2-4155-B3D9-2C39E056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6A0284-1FCB-4F91-A306-E919575F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12A505-E275-4D14-BF81-C5198A1D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6E58EF-95E8-488E-B136-D4DB37BE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04F87A-2714-4854-BCCB-49EC5D09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A8D392-CD82-4FE1-9296-051CB120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4013C7-0449-4900-A8B3-DD748EA8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23FC50-FE72-455B-BE39-F6D4A6C8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4FFF3A-D596-4AFB-B4F1-B8717F9D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80D7BF-9418-4B1A-83F1-53CF38D1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773B-D0CD-4CD6-BF2D-E721F42F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4D113E-4388-4865-9242-46659783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6FD6A0-B373-40D4-BC49-127B776A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F798EE-8666-4FF9-B5D9-F6C9077D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DFA53D-D64F-496D-87BA-12643069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286001-8D7B-4CB6-8363-E50AF257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C5F0-3B2E-4386-9E27-98B04DF9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C394BB-E5F2-447E-B776-A3BB9F1BE54F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E027CC-0F06-49E9-8DD3-8EF442E6C1BD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3AFE4A-D96A-4698-B0DC-CBDA966AD464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0D5F84-5349-40D8-A1B8-7DAED67A7DE6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3C0E5F-353D-44B8-B4CB-98AC4B10FCAD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BDDBFC-72C1-4169-9CF2-3B0A957727AD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12E0C2-CA11-4E32-BC1E-0116634BB97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DA4996-52D4-4E7F-BE94-B9CE446F147F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9506B0-1302-41C5-8993-3AEC273237E2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4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687F34-BD5F-42CF-B102-42878DFBF802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5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7F3FAE-B15C-4D90-9E14-291E1405971E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6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7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3D3477-0BE0-409D-9FF3-6A63796D07E5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8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7E55036-BA0B-42E1-89F3-132E2D6DD654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9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0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E7BAA7-CF04-4B58-A11F-11E498CB8DE4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36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1" lang="ru-RU" sz="4900" spc="-1" strike="noStrike">
                <a:solidFill>
                  <a:srgbClr val="01181f"/>
                </a:solidFill>
                <a:latin typeface="Arial Black"/>
              </a:rPr>
              <a:t>«ПРЕДМЕТНО-РАЗВИВАЮЩАЯ СРЕДА КАБИНЕТА НАЧАЛЬНЫХ КЛАССОВ»</a:t>
            </a:r>
            <a:endParaRPr b="0" lang="en-US" sz="49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Рисунок 1" descr=""/>
          <p:cNvPicPr/>
          <p:nvPr/>
        </p:nvPicPr>
        <p:blipFill>
          <a:blip r:embed="rId1"/>
          <a:stretch/>
        </p:blipFill>
        <p:spPr>
          <a:xfrm>
            <a:off x="0" y="468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3" descr=""/>
          <p:cNvPicPr/>
          <p:nvPr/>
        </p:nvPicPr>
        <p:blipFill>
          <a:blip r:embed="rId2"/>
          <a:stretch/>
        </p:blipFill>
        <p:spPr>
          <a:xfrm>
            <a:off x="4067280" y="3191040"/>
            <a:ext cx="4894200" cy="36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САНИТАРНО-ГИГИЕНИЧЕСКАЯ ЗОНА ДОЛЖНА СОДЕРЖАТЬ: </a:t>
            </a:r>
            <a:endParaRPr b="0" lang="en-US" sz="40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32" name="Text Box 2"/>
          <p:cNvSpPr/>
          <p:nvPr/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18432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1843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овину для мытья рук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1843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гигиенические средства(жидкое мыло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1843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алетную бумаг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18432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мажные полотенц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Рисунок 1" descr=""/>
          <p:cNvPicPr/>
          <p:nvPr/>
        </p:nvPicPr>
        <p:blipFill>
          <a:blip r:embed="rId1"/>
          <a:stretch/>
        </p:blipFill>
        <p:spPr>
          <a:xfrm>
            <a:off x="5940360" y="3213000"/>
            <a:ext cx="285768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ОВАЯ ЗОНА: </a:t>
            </a:r>
            <a:endParaRPr b="0" lang="en-US" sz="4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35" name="Text Box 2"/>
          <p:cNvSpPr/>
          <p:nvPr/>
        </p:nvSpPr>
        <p:spPr>
          <a:xfrm>
            <a:off x="468360" y="177336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ы для влажной уборки кабинета(ведра, половые тряпки, веники, мусорные ведра и т.д.)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916360" y="3057480"/>
            <a:ext cx="352728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ТРЕБОВАНИЯ К КАБИНЕТУ НАЧАЛЬНЫХ КЛАССОВ</a:t>
            </a:r>
            <a:endParaRPr b="0" lang="en-US" sz="4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395280" y="1557360"/>
            <a:ext cx="8353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бинет должен отвечать всем санитарно-гигиеническим условиям, эстетическим и техническим требовани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кабинете должно быть хорошее освещение и положительное состояние мебе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змеры проходов, расстояние между предметами, между рядами двухместных столов не менее 60 см, от столов до стены от 50 см до 70 см, от первой парты до доски не менее 2</a:t>
            </a:r>
            <a:r>
              <a:rPr b="0" lang="ru-RU" sz="2800" spc="-1" strike="noStrike">
                <a:solidFill>
                  <a:srgbClr val="000000"/>
                </a:solidFill>
                <a:latin typeface="Stenci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4 -2</a:t>
            </a:r>
            <a:r>
              <a:rPr b="0" lang="ru-RU" sz="2800" spc="-1" strike="noStrike">
                <a:solidFill>
                  <a:srgbClr val="000000"/>
                </a:solidFill>
                <a:latin typeface="Stenci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7 м, наибольшая удаленность ученика от доски 860 см, высота доски от пола 80-90 с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250920" y="-79200"/>
            <a:ext cx="878508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a0c"/>
                </a:solidFill>
                <a:latin typeface="Times New Roman"/>
                <a:ea typeface="Times New Roman"/>
              </a:rPr>
              <a:t>В кабинете должны быть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2818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a0c"/>
                </a:solidFill>
                <a:latin typeface="Times New Roman"/>
                <a:ea typeface="Times New Roman"/>
              </a:rPr>
              <a:t>ОФОРМЛЕНИЕ КАБИНЕТА НАЧАЛЬНЫХ КЛАССОВ: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07640" y="1916280"/>
            <a:ext cx="76201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ративные элементы и методические материалы, но они не должны отвлекать ученика от уроков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ы пастельные тона, не перегружающие зрение детей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ы условия для комфортного обучения детей, где ребенок может обучаться, отдыхать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ПРЕДМЕТНО - РАЗВИВАЮЩАЯ СРЕДА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539640" y="1700280"/>
            <a:ext cx="72010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из следующих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о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гигиен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УЧЕБНАЯ ЗОНА</a:t>
            </a:r>
            <a:endParaRPr b="0" lang="en-US" sz="4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учебной зоне должны быть расположены: парты, учительский стол, учебная доска, интерактивная доска, компьютер, ТВ, проект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остранство должно сочетать строгость и комфорт, где предметы должны быть друг от друга на определенном требованиями расстоянии. 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Рисунок 1" descr=""/>
          <p:cNvPicPr/>
          <p:nvPr/>
        </p:nvPicPr>
        <p:blipFill>
          <a:blip r:embed="rId1"/>
          <a:stretch/>
        </p:blipFill>
        <p:spPr>
          <a:xfrm>
            <a:off x="5508720" y="4192560"/>
            <a:ext cx="3611520" cy="293832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2" descr=""/>
          <p:cNvPicPr/>
          <p:nvPr/>
        </p:nvPicPr>
        <p:blipFill>
          <a:blip r:embed="rId2"/>
          <a:stretch/>
        </p:blipFill>
        <p:spPr>
          <a:xfrm>
            <a:off x="2484360" y="4470480"/>
            <a:ext cx="359100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ИГРОВАЯ ЗОНА</a:t>
            </a:r>
            <a:endParaRPr b="0" lang="en-US" sz="4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395280" y="1197000"/>
            <a:ext cx="822960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игровой зоне должны быть расположены: мягкая мебель, журнальный столик, детские игрушки и иг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анная зона специально предназначена для отдыха детей и ощущения ими домашнего комфор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формление игровой зоны должно соответствовать общему оформлению кабин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2771640" y="3357720"/>
            <a:ext cx="3490920" cy="328608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1" descr=""/>
          <p:cNvPicPr/>
          <p:nvPr/>
        </p:nvPicPr>
        <p:blipFill>
          <a:blip r:embed="rId2"/>
          <a:stretch/>
        </p:blipFill>
        <p:spPr>
          <a:xfrm>
            <a:off x="1225440" y="189000"/>
            <a:ext cx="6296040" cy="30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7848360" cy="216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ИНФОРМАЦИОННАЯ ЗОНА ДОЛЖНА СОДЕРЖАТЬ СЛЕДУЮЩУЮ ИНФОРМАЦИЮ: 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68000" y="1699920"/>
            <a:ext cx="762012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ля родителей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здоровом образе жизни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правилах дорожного движения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 основе безопасности жизнедеятельности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анном классе (список класса, актив класса, дни рождения детей и т.д.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имволика страны, области, района и т.д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"/>
          <p:cNvSpPr/>
          <p:nvPr/>
        </p:nvSpPr>
        <p:spPr>
          <a:xfrm>
            <a:off x="2124000" y="3068640"/>
            <a:ext cx="80740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18432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389640" cy="35622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181f"/>
                </a:solidFill>
                <a:latin typeface="Calibri"/>
              </a:rPr>
              <a:t>ЗЕЛЕНАЯ ЗОНА</a:t>
            </a:r>
            <a:endParaRPr b="0" lang="en-US" sz="4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243000" y="1052640"/>
            <a:ext cx="8569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ая зона должна быть оснащена информационной картой о цветах (название, семейство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же зеленая зона может содержать аквариум, но при этом условии и должна быть информационная карта о рыбах(название, семейство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5T04:06:40Z</dcterms:created>
  <dc:creator>Юлиана</dc:creator>
  <dc:description/>
  <cp:keywords/>
  <dc:language>en-US</dc:language>
  <cp:lastModifiedBy>HP</cp:lastModifiedBy>
  <dcterms:modified xsi:type="dcterms:W3CDTF">2019-05-24T16:08:00Z</dcterms:modified>
  <cp:revision>45</cp:revision>
  <dc:subject/>
  <dc:title>Проект  «Предметно-развивающая среда кабинета начальных классо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5</vt:r8>
  </property>
</Properties>
</file>