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dt" idx="2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ftr" idx="2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 type="sldNum" idx="2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A67E6-D1AE-4C77-8013-FF98816D8A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3E7E2-625B-4AD3-BDC5-FE766C25A3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5DF8A-13D2-46AA-B00A-24E5A06D28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AC59F-314A-48F3-98BE-00E6FCDD39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D5E51-01D4-4A0E-A87E-6738CBB686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86321-1A7F-4601-82DF-005745E097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EBB05-E95D-41C4-9F55-7CF9C230F0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C9008-B6D7-4751-9C3E-211F9E27D0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1D78E-FF9B-406C-9102-AFE1BD19AC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CDDB6-9979-40E8-AE86-6AC14E45CD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E53A1-ECA1-4A69-9577-9C32079BD5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A689F-2990-44A0-A78A-F3C377E0BB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254DE-5DBF-47D4-8744-119D59F5B4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6240B-6056-418D-A184-5352984BCE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3D4A-F2C6-4840-A8E6-2831FFAD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9492-DD50-4C5F-A55D-A2364DB9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6396-491B-47F8-A8AD-DCF94CF6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D32-22BE-457F-BE5B-F88DC61C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184E-6F72-4A8A-9DC7-23BCFB89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4BAE-3265-4B5A-B37D-B9589F66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408F-FD02-4220-8B05-A911CF9A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0074-2084-4CC1-BA36-274E6116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B424-2061-4A15-9CB1-B831891B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3FD8-1141-4917-8C39-44D69911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C0B5-BE9D-4915-80AF-119DF733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64C4-6B28-4BC8-B252-F9EE6F1B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3C8E-2AE0-4813-80E0-FE4647CB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CA76-318E-4A67-A39F-CCB74C88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B91E-F660-44B6-8634-AC449B98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5AE6-6DDB-4D11-ABA9-86AE1B64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3EC3-2F74-4DA5-90BB-5305A423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7D7AB-CBDD-46EE-B683-9A2611ED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A2FBB-01E3-4C17-B8BA-D301620D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BFFBE-5829-406B-977C-C2D2EC34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B0454-2846-4157-8F50-162C95AD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1B27D-112F-4708-8956-4F468270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468B-080E-4F53-9B74-FE671388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8217D-2980-40A4-9259-90A167B1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B395F-5411-45BA-85C1-6F99729D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61429-8811-41DE-9DA8-31299B2B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588BB-A185-4ECC-9741-9BEB2DE9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A7F25-3B07-40BE-8673-0DEF304C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C1DE6-AA92-4302-B69F-32A06E9B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5ABF8-4207-46CE-A553-1EF5430E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01175-8B36-4746-9C6A-BC9FE374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CCC08-4DB5-4D28-BBA2-75E922B3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5B996-75E4-4FE9-86B1-72062D84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B5BF-D08D-45BC-832C-964DAD32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974BC-A080-4907-AF84-0E70880A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BA55F-8E2A-4025-B4D7-356B27A4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1FCD8-3403-43CD-9273-24BA1B39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CB6E9-9728-48C6-A4F1-33F09D97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CC1E2-50D5-41C5-80ED-4AE8B377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5664C-6C63-4F63-A51C-C5ABFBAF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FF6CA-C36D-4A7A-91A4-D5ED1173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A2589-C83F-4CDC-BA16-7FB359FD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1DAE9-BB51-4673-8616-102B756F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20FBF-13A7-45CB-BEB3-21B315DCC2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83E-8907-4E9C-9699-4B067F46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A4C94-F5C5-485A-BE1B-5C99498C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B6AA5D-40AD-43CE-AAD5-F03A3AC8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E3E76C-D3D6-4093-81FF-BA9E96FC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863D95-A271-40E9-8874-0D03C783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1F91F8-36FF-4CE0-AE65-199F7B6E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75043-D833-44FB-8265-AA3AE081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C4035-C46F-4FF1-8389-B68254FB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AA0F72-34D4-4B80-B758-E67474A4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FDB60-1F95-4971-8BEC-00391A25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EB1D64-F264-4296-9296-5DC6AA83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40C-5437-470B-9DA0-10CAECF6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279220-E51A-4F61-B194-3560638E23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DD0561-FCE4-45E0-8D8A-9B9BEF79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2EFB9C-7293-4EBD-ACDB-5469E0E7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ABE90-FC98-4E01-BF9B-8AD481DC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FBF1AF-A156-404C-97BB-9ED186DC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A94EC6-2C0B-4D1B-91BF-B30D19FB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EA9FA-5F0C-437C-9EE5-F5155FBC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0DE214-E5D1-48CC-A7AC-2A134F07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416855-A55F-410C-B0FE-38F6B12E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23163-8E4F-48DA-9470-A4DB61B0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5D8-70DB-4126-9D10-8F791F53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874B62-71B6-4EC8-BFDF-84CEB5C0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EADE80-89C1-4504-8828-626A85A9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F025EC-AFB8-4729-856A-86225316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54A41C-3095-4C0D-8A57-4CA3295A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3D4AD0-37E8-45FC-BE00-63C8D107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F529AB-EDDC-4489-98EC-1634DA3E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38D9CE-9D2D-46AD-AF7E-BABA9735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B66393-B53D-4D39-9268-63C23E42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F6C5B3-A755-4C26-9C64-BBD17F11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D4737C-3D7F-4FB9-993E-249D860C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DF4-9B4A-4118-B571-4ED45B94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CE2BB6-8A6D-40FC-9376-0818AD07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ABFFE7-5E9B-4FBC-96AE-CFCF65DC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EBC525-E19B-4C5F-A419-3078A37E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E86EF6-8E72-404F-A8F8-66170609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1EBC69-520E-4E75-B461-BDA17D5B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BB92-B956-4780-AE2C-EBA232F8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44ED26-555F-4F69-AE9F-7143B435738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BD5AF5-8413-4951-BFF8-E2B86E396D01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DB2FEF-508E-4F0F-BCB8-CCD86B271A0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AFB131-47EB-4BCC-9611-7C71EF20BB0C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C12BCB-89EB-41BB-8792-04A77461836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B651C7-6935-42F7-8EAD-2FD74DCF643B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81DBC6-25D3-4082-9635-57EB8B2C78C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ABDAC2-D849-4FE7-8121-D2AC574E0E2C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6F0217-733E-4B0B-B833-3637BB43C17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550844-6031-4EFA-BBA4-7B5F952BDABE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5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D043CC-B53D-4B2A-ACD9-5B5B58A4701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6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7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6E8654-D319-41DE-9E3A-A3F89CA4590B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8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6BA272-BDC2-4758-8C4D-E540A642622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9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0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D1F9E2-99D4-41D9-8979-029895E71359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36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1" lang="ru-RU" sz="4900" spc="-1" strike="noStrike">
                <a:solidFill>
                  <a:srgbClr val="01181f"/>
                </a:solidFill>
                <a:latin typeface="Arial Black"/>
              </a:rPr>
              <a:t>«ПРЕДМЕТНО-РАЗВИВАЮЩАЯ СРЕДА КАБИНЕТА НАЧАЛЬНЫХ КЛАССОВ»</a:t>
            </a:r>
            <a:endParaRPr b="0" lang="en-US" sz="49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1" descr=""/>
          <p:cNvPicPr/>
          <p:nvPr/>
        </p:nvPicPr>
        <p:blipFill>
          <a:blip r:embed="rId1"/>
          <a:stretch/>
        </p:blipFill>
        <p:spPr>
          <a:xfrm>
            <a:off x="0" y="46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3" descr=""/>
          <p:cNvPicPr/>
          <p:nvPr/>
        </p:nvPicPr>
        <p:blipFill>
          <a:blip r:embed="rId2"/>
          <a:stretch/>
        </p:blipFill>
        <p:spPr>
          <a:xfrm>
            <a:off x="4067280" y="3191040"/>
            <a:ext cx="4894200" cy="36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САНИТАРНО-ГИГИЕНИЧЕСКАЯ ЗОНА ДОЛЖНА СОДЕРЖАТЬ: </a:t>
            </a:r>
            <a:endParaRPr b="0" lang="en-US" sz="4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32" name="Text Box 2"/>
          <p:cNvSpPr/>
          <p:nvPr/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1843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1843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овину для мытья рук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1843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гигиенические средства(жидкое мыло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1843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алетную бумаг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1843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жные полотенц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Рисунок 1" descr=""/>
          <p:cNvPicPr/>
          <p:nvPr/>
        </p:nvPicPr>
        <p:blipFill>
          <a:blip r:embed="rId1"/>
          <a:stretch/>
        </p:blipFill>
        <p:spPr>
          <a:xfrm>
            <a:off x="5940360" y="321300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АЯ ЗОНА: 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468360" y="177336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ы для влажной уборки кабинета(ведра, половые тряпки, веники, мусорные ведра и т.д.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916360" y="3057480"/>
            <a:ext cx="352728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ТРЕБОВАНИЯ К КАБИНЕТУ НАЧАЛЬНЫХ КЛАССОВ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395280" y="1557360"/>
            <a:ext cx="8353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бинет должен отвечать всем санитарно-гигиеническим условиям, эстетическим и техническим требован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кабинете должно быть хорошее освещение и положительное состояние меб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змеры проходов, расстояние между предметами, между рядами двухместных столов не менее 60 см, от столов до стены от 50 см до 70 см, от первой парты до доски не менее 2</a:t>
            </a:r>
            <a:r>
              <a:rPr b="0" lang="ru-RU" sz="2800" spc="-1" strike="noStrike">
                <a:solidFill>
                  <a:srgbClr val="000000"/>
                </a:solidFill>
                <a:latin typeface="Stenci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4 -2</a:t>
            </a:r>
            <a:r>
              <a:rPr b="0" lang="ru-RU" sz="2800" spc="-1" strike="noStrike">
                <a:solidFill>
                  <a:srgbClr val="000000"/>
                </a:solidFill>
                <a:latin typeface="Stenci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7 м, наибольшая удаленность ученика от доски 860 см, высота доски от пола 80-90 с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250920" y="-79200"/>
            <a:ext cx="87850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a0c"/>
                </a:solidFill>
                <a:latin typeface="Times New Roman"/>
                <a:ea typeface="Times New Roman"/>
              </a:rPr>
              <a:t>В кабинете должны быть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2818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a0c"/>
                </a:solidFill>
                <a:latin typeface="Times New Roman"/>
                <a:ea typeface="Times New Roman"/>
              </a:rPr>
              <a:t>ОФОРМЛЕНИЕ КАБИНЕТА НАЧАЛЬНЫХ КЛАССОВ: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07640" y="191628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ративные элементы и методические материалы, но они не должны отвлекать ученика от уроков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ы пастельные тона, не перегружающие зрение детей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ы условия для комфортного обучения детей, где ребенок может обучаться, отдыхать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ПРЕДМЕТНО - РАЗВИВАЮЩАЯ СРЕДА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539640" y="1700280"/>
            <a:ext cx="7201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из следующих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о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гигиен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УЧЕБНАЯ ЗОНА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учебной зоне должны быть расположены: парты, учительский стол, учебная доска, интерактивная доска, компьютер, ТВ, проек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остранство должно сочетать строгость и комфорт, где предметы должны быть друг от друга на определенном требованиями расстоянии.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Рисунок 1" descr=""/>
          <p:cNvPicPr/>
          <p:nvPr/>
        </p:nvPicPr>
        <p:blipFill>
          <a:blip r:embed="rId1"/>
          <a:stretch/>
        </p:blipFill>
        <p:spPr>
          <a:xfrm>
            <a:off x="5508720" y="4192560"/>
            <a:ext cx="3611520" cy="293832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2" descr=""/>
          <p:cNvPicPr/>
          <p:nvPr/>
        </p:nvPicPr>
        <p:blipFill>
          <a:blip r:embed="rId2"/>
          <a:stretch/>
        </p:blipFill>
        <p:spPr>
          <a:xfrm>
            <a:off x="2484360" y="4470480"/>
            <a:ext cx="359100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ИГРОВАЯ ЗОНА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395280" y="1197000"/>
            <a:ext cx="822960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игровой зоне должны быть расположены: мягкая мебель, журнальный столик, детские игрушки и иг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анная зона специально предназначена для отдыха детей и ощущения ими домашнего комфор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формление игровой зоны должно соответствовать общему оформлению кабин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2771640" y="3357720"/>
            <a:ext cx="3490920" cy="328608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1" descr=""/>
          <p:cNvPicPr/>
          <p:nvPr/>
        </p:nvPicPr>
        <p:blipFill>
          <a:blip r:embed="rId2"/>
          <a:stretch/>
        </p:blipFill>
        <p:spPr>
          <a:xfrm>
            <a:off x="1225440" y="189000"/>
            <a:ext cx="6296040" cy="30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7848360" cy="216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ИНФОРМАЦИОННАЯ ЗОНА ДОЛЖНА СОДЕРЖАТЬ СЛЕДУЮЩУЮ ИНФОРМАЦИЮ: 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68000" y="1699920"/>
            <a:ext cx="762012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родителей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здоровом образе жизни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правилах дорожного движения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 основе безопасности жизнедеятельности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нном классе (список класса, актив класса, дни рождения детей и т.д.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имволика страны, области, района и т.д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"/>
          <p:cNvSpPr/>
          <p:nvPr/>
        </p:nvSpPr>
        <p:spPr>
          <a:xfrm>
            <a:off x="2124000" y="3068640"/>
            <a:ext cx="80740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18432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389640" cy="35622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181f"/>
                </a:solidFill>
                <a:latin typeface="Calibri"/>
              </a:rPr>
              <a:t>ЗЕЛЕНАЯ ЗОНА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243000" y="1052640"/>
            <a:ext cx="8569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ая зона должна быть оснащена информационной картой о цветах (название, семейство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же зеленая зона может содержать аквариум, но при этом условии и должна быть информационная карта о рыбах(название, семейство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5T04:06:40Z</dcterms:created>
  <dc:creator>Юлиана</dc:creator>
  <dc:description/>
  <cp:keywords/>
  <dc:language>en-US</dc:language>
  <cp:lastModifiedBy>HP</cp:lastModifiedBy>
  <dcterms:modified xsi:type="dcterms:W3CDTF">2019-05-24T16:08:00Z</dcterms:modified>
  <cp:revision>45</cp:revision>
  <dc:subject/>
  <dc:title>Проект  «Предметно-развивающая среда кабинета начальных класс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5</vt:r8>
  </property>
</Properties>
</file>