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C95F-086E-4199-8C94-AFC37BE16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65CB-59DB-44DF-8F20-E16ED478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F764-3864-4CD3-8225-E4F897D03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FC21-F31F-4013-A1EA-BFBCBC14DF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2BBB-35C5-468D-8845-D963FAD6B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522C-CDEE-43F9-9D97-E02D13E501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510D-0E99-4744-916A-54254861D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2EA9-A525-4B2E-8C8B-FC1DD5C7F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78A6-D8A3-4A77-8C45-241B685CB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0F8F-A5B9-4814-B268-C50C9246F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95C4-0F47-4D5D-9B38-70716D390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F0E9-C975-4143-8323-5A586F4F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13463-227F-4BB8-A3A3-AEE87454D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3880" y="2924280"/>
            <a:ext cx="78868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Челябин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«Челябинский педагогический колледж №1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иностранных языков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ликультурной компетентности у младшего школьника на уроках английского языка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85720" y="4869000"/>
          <a:ext cx="3981600" cy="1595160"/>
        </p:xfrm>
        <a:graphic>
          <a:graphicData uri="http://schemas.openxmlformats.org/drawingml/2006/table">
            <a:tbl>
              <a:tblPr/>
              <a:tblGrid>
                <a:gridCol w="3981600"/>
              </a:tblGrid>
              <a:tr h="11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полнил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Игонина Светл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тудентка 26 груп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140360" y="4869000"/>
          <a:ext cx="4248000" cy="174456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379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Руководитель:Асабина.Т.А.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Преподаватель немецкого язы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шей квалификационной катег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826920" y="-171360"/>
            <a:ext cx="799308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3«Поликультурная компетенция» - как методическое поня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культурная компетенция включает систему поликультурных знаний, интересов, потребностей, ценностей, опыта, социальных норм и правил поведения, необходимых для повседневной деятельности в поликультурном обществе, реализующиеся в способности выстраивать позитивное взаимодействие с представителями разных культу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042920" y="333360"/>
            <a:ext cx="69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4 Поликультурное 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380880" y="162864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культурное обучение требует одновременной реализации двух подхо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лингвоэкологического, который нацелен на осознание учащимися важности и необходимости знания родного языка и культуры и направлен тем самым на сохранение этнической идентичности всех народов Ро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нтерлингвокультурного, ориентированного на изучение и освоение традиций европейской и мировой культур и циви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8088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ерспективе мы планируем изуч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лингвистических игр на основе методов диалога и ролевых иг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20720" y="-539640"/>
            <a:ext cx="7920000" cy="69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spcBef>
                <a:spcPts val="11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Мы готовы ответить  на Ваши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228600" y="609480"/>
            <a:ext cx="8736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уальность проблемы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тодике обучения отмечается, что формирование коммуникативной компетенции неразрывно связанно и с социокультурными и страноведческими знаниями. Без знания социокультурного фона нельзя сформировать коммуникативную компетенцию даже в ограниченных предел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ой исследования занимаются такие ученые, как И.И.Халеева,С.Г.Соловова,Е.А.Сысоев,Е.И.Кривцова и др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246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ние поликультурных компетенций у младшего школьника на уроках англий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0" y="404640"/>
            <a:ext cx="8964720" cy="66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вет на вопрос «Насколько эффективно использование ЛСП при обучении с целью формирования у учащихся поликультурной компетенции?» -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вляется целью моей работы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) Изучить и обобщить теоретическую базу по пробл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) Раскрыть и охарактеризовать понятие «поликультурная компетенция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) Определить роль ЛСП при обуч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) Показать методику использования ЛСП на уроке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11280" y="189000"/>
            <a:ext cx="8820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етоды теоретического 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тбор матери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нализ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тизац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общ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5556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лава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1. ТЕОРЕТИЧЕСКИЕ ОСНОВЫ ПРОБЛЕМЫ ФОРМИРОВАНИЯ ПОЛИКУЛЬТУРНОЙ КОМПЕТЕННОСТИ МЛАДШИХ ШКОЛЬНИКОВНА УРОКАХ АНГЛИЙСКОГО ЯЗЫК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358920" y="2133720"/>
            <a:ext cx="87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учены и освящены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1 Цели и задачи обучения иностранному язы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2 Языковая личность и вторичная языковая лич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3 «Поликультурная компетенция»-как методическое понят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4 Поликультурное образован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24000" y="0"/>
            <a:ext cx="864072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ые понятия  темы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мпетенция - круг вопросов, явлений, в которых данное лицо обладает авторитетностью, познанием, опыто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икультурная или космополитическая компетенция – знакомство со множеством различных образов жизни, образцов поведения и разнообразных идей, происходящих из нескольких культур, и умение к ним приспособиться или пользоваться и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80880" y="380880"/>
            <a:ext cx="858384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 Цели и задачи обучения иностранн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овременном этапе развития общества иностранный язык становится мощным фактором социального прогресса. У людей формируется новое мышление, они начинают осознавать свою принадлежность к единой земной цивилизации и достигнутому уровню культурного развит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50920" y="692280"/>
            <a:ext cx="889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2 Языковая личность и вторичная языковая ли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ьным в методической науке является понятие «вторичная языковая личность». Современная система начального языкового образования должна строится с позиций интересов этой личности. Научное обоснование этой категории в отечественной лингводидактике впервые дано И.И. Халеев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HP</cp:lastModifiedBy>
  <dcterms:modified xsi:type="dcterms:W3CDTF">2019-05-24T18:00:04Z</dcterms:modified>
  <cp:revision>21</cp:revision>
  <dc:subject/>
  <dc:title>PowerPoint Presentation</dc:title>
</cp:coreProperties>
</file>