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8E58-5B87-4298-8B5A-1DF9C3AC2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9AD2-BD11-4831-9B05-8EC5A2964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7394-72BD-484C-8C75-A8F060B2F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3AC8-74DD-4B5C-A4CD-0B2D7E32B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7E8-4BE5-4241-B5EC-693235F8C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80C7-071C-40DB-974F-27FC0377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9856-7BC9-4356-AE4D-EA239E15A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86FA-8148-4677-BA83-6C653D2C6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DB95-D034-464A-A555-1B0059F79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A060-9BBD-4261-B9DF-E9C02C206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9E6F-8BED-4CFC-B538-0F0313C74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C811-C3DC-4CEB-B0DE-A59047174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B8720-99DE-4E88-BD4D-909DF5086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3880" y="2924280"/>
            <a:ext cx="78868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педагогический колледж №1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иностранных языков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ликультурной компетентности у младшего школьника на уроках английского языка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5720" y="4869000"/>
          <a:ext cx="3981600" cy="159516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11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олнил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гонина Свет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удентка 26 груп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40360" y="4869000"/>
          <a:ext cx="4248000" cy="174456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379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уководитель:Асабина.Т.А.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подаватель немецкого язы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шей квалификационной катег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826920" y="-171360"/>
            <a:ext cx="799308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«Поликультурная компетенция» - как методическое по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культурная компетенция включает систему поликультурных знаний, интересов, потребностей, ценностей, опыта, социальных норм и правил поведения, необходимых для повседневной деятельности в поликультурном обществе, реализующиеся в способности выстраивать позитивное взаимодействие с представителями разных культ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042920" y="333360"/>
            <a:ext cx="69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4 Поликультурное 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380880" y="1628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культурное обучение требует одновременной реализации двух подхо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лингвоэкологического, который нацелен на осознание учащимися важности и необходимости знания родного языка и культуры и направлен тем самым на сохранение этнической идентичности всех народов Ро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нтерлингвокультурного, ориентированного на изучение и освоение традиций европейской и мировой культур и циви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8088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ерспективе мы планируем изуч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лингвистических игр на основе методов диалога и ролевых иг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20720" y="-539640"/>
            <a:ext cx="7920000" cy="69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Мы готовы ответить  на Ваши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228600" y="609480"/>
            <a:ext cx="8736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 проблемы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тодике обучения отмечается, что формирование коммуникативной компетенции неразрывно связанно и с социокультурными и страноведческими знаниями. Без знания социокультурного фона нельзя сформировать коммуникативную компетенцию даже в ограниченных предел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ой исследования занимаются такие ученые, как И.И.Халеева,С.Г.Соловова,Е.А.Сысоев,Е.И.Кривцова и др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246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ние поликультурных компетенций у младшего школьника на уроках англий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0" y="404640"/>
            <a:ext cx="8964720" cy="66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вет на вопрос «Насколько эффективно использование ЛСП при обучении с целью формирования у учащихся поликультурной компетенции?» -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вляется целью моей работы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) Изучить и обобщить теоретическую базу по пробл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) Раскрыть и охарактеризовать понятие «поликультурная компетенция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) Определить роль ЛСП при обуч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) Показать методику использования ЛСП на уроке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11280" y="189000"/>
            <a:ext cx="882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етоды теоретического 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бор матери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нали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тиза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общ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1. ТЕОРЕТИЧЕСКИЕ ОСНОВЫ ПРОБЛЕМЫ ФОРМИРОВАНИЯ ПОЛИКУЛЬТУРНОЙ КОМПЕТЕННОСТИ МЛАДШИХ ШКОЛЬНИКОВНА УРОКАХ АНГЛИЙСКОГО ЯЗЫК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8920" y="2133720"/>
            <a:ext cx="87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ены и освящены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 Цели и задачи обучения иностранному язы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2 Языковая личность и вторичная языковая лич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3 «Поликультурная компетенция»-как методическое понят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4 Поликультурное образова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24000" y="0"/>
            <a:ext cx="8640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ые понятия  темы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мпетенция - круг вопросов, явлений, в которых данное лицо обладает авторитетностью, познанием, опыто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икультурная или космополитическая компетенция – знакомство со множеством различных образов жизни, образцов поведения и разнообразных идей, происходящих из нескольких культур, и умение к ним приспособиться или пользоваться и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80880" y="380880"/>
            <a:ext cx="858384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 Цели и задачи обучения иностранн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временном этапе развития общества иностранный язык становится мощным фактором социального прогресса. У людей формируется новое мышление, они начинают осознавать свою принадлежность к единой земной цивилизации и достигнутому уровню культурного развит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50920" y="692280"/>
            <a:ext cx="889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2 Языковая личность и вторичная языковая ли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ьным в методической науке является понятие «вторичная языковая личность». Современная система начального языкового образования должна строится с позиций интересов этой личности. Научное обоснование этой категории в отечественной лингводидактике впервые дано И.И. Халеев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19-05-24T18:00:04Z</dcterms:modified>
  <cp:revision>21</cp:revision>
  <dc:subject/>
  <dc:title>PowerPoint Presentation</dc:title>
</cp:coreProperties>
</file>