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163-4999-46CA-8B1A-DC697513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B8F-585D-4985-A7AE-00D172A4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27C-19DD-4254-A6D7-0DAA9931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7F3-91BA-4612-B794-EB5D50CA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F81-D110-4A9B-BCC5-2041CC3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A58-3A95-4E9B-B72C-774AA59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B60-D3A0-439F-B0FE-437FAFDD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ABE-F148-4F83-96D2-995BA0D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A1F-19C2-4639-8F65-CA0FA98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E79-78F6-4E25-BB66-05FCB80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32A-1272-4ABA-A96B-555A2679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E52-6D87-48E5-8338-F111419B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210-58FC-480D-9A3D-7340269ECE9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3480" y="353880"/>
            <a:ext cx="1042668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педагогический колледж №1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гуманитарных дисциплин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Гиниятуллина Виолет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6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курсовая ра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ФОРМИРОВАНИЕ РЕЧЕВОГО ОПЫТА МЛАДШЕГО ШКОЛЬНИКА В РАБОТЕ С МАЛЫМИ ФОЛЬКЛОРНЫМИ ЖАН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руководитель: Кошкарова Любовь Серг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96920" y="-347760"/>
          <a:ext cx="10302840" cy="7334280"/>
        </p:xfrm>
        <a:graphic>
          <a:graphicData uri="http://schemas.openxmlformats.org/drawingml/2006/table">
            <a:tbl>
              <a:tblPr/>
              <a:tblGrid>
                <a:gridCol w="2032200"/>
                <a:gridCol w="4678200"/>
                <a:gridCol w="3592440"/>
              </a:tblGrid>
              <a:tr h="250920">
                <a:tc gridSpan="3">
                  <a:txBody>
                    <a:bodyPr lIns="14400" rIns="14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78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ыб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, созданные для того, чт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размеренного ритма и монотонного напева укачиват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аюкивать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лыбельных песн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обращаются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у с пожеланиями сна, здоровья, роста, иногда содержатся прось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ся окружающих, не ложиться на край,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ризничать, не поднимать голо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 или сказки, 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овождаемые движениями и забавляющие ребенка сво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м, ритмом, мелоди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роль прибауток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. Реб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ет о людях, животных, явлениях, предметах, об их типических свойствах. Часто по этому служат кумулятивные сюжеты: огонь выжигает лес, вода гасит огнь, быки выпивают воду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336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гов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ое произведение, состоящее из одной или дв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, которое строится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ии слов и звуков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ительных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я, особенно п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м их произнесе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ся для развития артикуляции речевого аппар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3000"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ч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бъясняется поряд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й во время самой иг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из детей начинает 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чаще всего комиче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я, в конце котор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ся указание замолч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4400" rIns="14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мощью молча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ся ум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своими эмоциям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рживать жел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4400" marR="1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89080" y="241200"/>
          <a:ext cx="11585520" cy="6213600"/>
        </p:xfrm>
        <a:graphic>
          <a:graphicData uri="http://schemas.openxmlformats.org/drawingml/2006/table">
            <a:tbl>
              <a:tblPr/>
              <a:tblGrid>
                <a:gridCol w="2286000"/>
                <a:gridCol w="5259240"/>
                <a:gridCol w="4040280"/>
              </a:tblGrid>
              <a:tr h="177192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ян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оревнуются в том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ьше протянет тот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й звук, не переводя дых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ычно они повторя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мованный текст вслед 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ящи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способствов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ю навы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 дыхания, но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ем практически забылас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144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ич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ольшие песенки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мованные приговоры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вшиеся вне празднич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содержат словесно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к силам природы, животным, насекомым и растениям, посвященное определенному случаю и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ающее какую-либо просьбу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0240"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 различ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овой принадлежности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ающие действи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еднамеренным нарушени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ологичес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и событий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но - следственных связ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здающие полну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ообразностей художественну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ину мира. Важным 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ом является алогиз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ления, воображения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гащение речи ребе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5360" y="-65160"/>
          <a:ext cx="11674440" cy="6730920"/>
        </p:xfrm>
        <a:graphic>
          <a:graphicData uri="http://schemas.openxmlformats.org/drawingml/2006/table">
            <a:tbl>
              <a:tblPr/>
              <a:tblGrid>
                <a:gridCol w="2281320"/>
                <a:gridCol w="5253120"/>
                <a:gridCol w="4022640"/>
                <a:gridCol w="117360"/>
              </a:tblGrid>
              <a:tr h="429264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раткое описание предм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явления, часто в поэтическ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е, заключающее в с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ысловатую задачу в ви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ного или предполагаем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ционно загадка состо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двух частей: загадки (вопрос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тгадки (ответа), котор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связан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ая особ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 состоит в том, что она представляет соб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ую задачу. Кажд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 содержит вопрос, поставленный в явной и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ытой форм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настоящее вре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а используется к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лекательное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ффективное средство в обучении и воспитании детей, в организации их досуг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раткое мудрое изреч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ающее в себе, какое-нибудь практическое поучение, народный афориз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ое знач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гащение словаря ребен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3120"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одним из основ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устной народной прозы, 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ческим свойством счит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на вымыс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и используются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лекательных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учительных целях. Обычно выделяют сказки 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х, волшебные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овые. Они различаются между собой по характеру вымысла, по героям и по используемым мотива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154080"/>
            <a:ext cx="10772640" cy="15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А II.  ОСНОВНЫЕ НАПРАВЛЕНИЯ РАБОТЫ ПО ОБОГАЩЕНИЮ РЕЧЕВОГО ОПЫТА МЛАДШЕГО ШК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9600" y="1946160"/>
            <a:ext cx="11044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ны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использования малых фольклорных жанров в развитии речи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работы по обогащению речевого опыта детей на основе использования малых жанров фольклора во внеклассной рабо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работы по обогащению речевого опыта детей на основе использования малых фольклорных жанров на уроках обучения грамоте и чт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75920" y="58320"/>
            <a:ext cx="108774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по обогащению речевого опыта младших школьников, в соответствии с обобщениями ученых и опытом методистов, следует вести в двух направления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организация внеклассной работы по обогащению речевого опыта младших школьников на основе малых фольклорных жан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использование малых фольклорных жанров на различных этапах уроков обучения грамо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6680" y="141120"/>
            <a:ext cx="11055240" cy="63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ечевого опыта детей на основе малых жанров фольклор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представления детей о малых жанрах словесного фольклор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ознавательный интерес к различным формам фолькло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эмоциональной направленностью фольклора (частушки, потешки, прибаутки), его практической соотнесенностью с миром (заклички, считалки, приговорки, скороговорки) и иносказательностью народной речи (загадки, пословицы, поговорк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словарного запаса детей: побуждать интересоваться смыслом слова, совершенствовать умение использовать различные части речи в точном соответствии с их значением и целью высказывания, помогать осваивать выразительные средства языка;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87240" y="419040"/>
          <a:ext cx="10479240" cy="6238800"/>
        </p:xfrm>
        <a:graphic>
          <a:graphicData uri="http://schemas.openxmlformats.org/drawingml/2006/table">
            <a:tbl>
              <a:tblPr/>
              <a:tblGrid>
                <a:gridCol w="1256040"/>
                <a:gridCol w="3935160"/>
                <a:gridCol w="5151600"/>
                <a:gridCol w="136440"/>
              </a:tblGrid>
              <a:tr h="482760"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ное заня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осидел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понятием «фольклор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его вид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 - всему голо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Откуда хлеб прише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разбор пословиц и поговорок о хлеб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 саду ли, в огород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игра «Что растет 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у и в огород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загадками об овощах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ук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потешки «Наш козел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е на дом: придумать загад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овощах или фрук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сенушка-осень - сно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коси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об осени, ее особенностях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м соответствующ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, поговорок, закличек.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заклички «Восенушка -осен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ктябрь - грязик - 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еса, ни полоза 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е заклички «Восенушка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нь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о характерных примет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я на основе поговорок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народном праздни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ров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матреш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240" rIns="12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матрешк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вание пальчиковой игры Знакомство и разучивание частуш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40" marR="1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Линия 2"/>
          <p:cNvSpPr/>
          <p:nvPr/>
        </p:nvSpPr>
        <p:spPr>
          <a:xfrm>
            <a:off x="-12600" y="-6480"/>
            <a:ext cx="0" cy="5748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45720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93800" y="0"/>
          <a:ext cx="10771200" cy="6912000"/>
        </p:xfrm>
        <a:graphic>
          <a:graphicData uri="http://schemas.openxmlformats.org/drawingml/2006/table">
            <a:tbl>
              <a:tblPr/>
              <a:tblGrid>
                <a:gridCol w="1306440"/>
                <a:gridCol w="4098960"/>
                <a:gridCol w="5365800"/>
              </a:tblGrid>
              <a:tr h="158760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 для Ку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 игра «Аюш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о домовом, его значении 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ого на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ение сказки «Домовенок Куз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еному и счастье к лиц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ывание загад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94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а в лицах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вальщ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русскими народ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небылиц Самостоятельное придумывание небы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76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тку шутить -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меш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потеш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ьклор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потешного расска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из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народ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вание докучных сказок Загадывание загадок о предметах домашнего оби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97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руг за друж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ся - ничего 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ятьс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12192120" cy="7599240"/>
        </p:xfrm>
        <a:graphic>
          <a:graphicData uri="http://schemas.openxmlformats.org/drawingml/2006/table">
            <a:tbl>
              <a:tblPr/>
              <a:tblGrid>
                <a:gridCol w="7524720"/>
                <a:gridCol w="4667400"/>
              </a:tblGrid>
              <a:tr h="91476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( использование малых фольклорных жанро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9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ы и погово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ового зн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ыл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ау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ьмину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амостоятельная работа с самопроверкой по этал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льчиковая 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и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, рефлек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ов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19200" y="430200"/>
          <a:ext cx="10985400" cy="5958000"/>
        </p:xfrm>
        <a:graphic>
          <a:graphicData uri="http://schemas.openxmlformats.org/drawingml/2006/table">
            <a:tbl>
              <a:tblPr/>
              <a:tblGrid>
                <a:gridCol w="5492520"/>
                <a:gridCol w="5492880"/>
              </a:tblGrid>
              <a:tr h="59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, темы уро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нры фолькло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. «Час потех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, колыбельные, побасенки, загадки, считалки, скороговорки, небыл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. «Учимся чит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а и журавль. Самое дорогое. Два Мороз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. «Учимся работать с текстом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уд кормит, а лень порти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ц-хваста. Мена. Лисичка со скалоч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 горшок мыть. Дочь-семилетка. Морской царь и Василиса Премудр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. «Что за прелесть эти сказки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у нас, слава богу, хорошо. Петр 1 и мужик. Петр и Петруша. Марья и ведьмы. Василиса Прекрас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365040"/>
            <a:ext cx="10632960" cy="27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блемы исследования заключается: в  создании на уроке речевой ситуации на основе фольклора, побуждающей ученика к коммуник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20720" y="3522240"/>
            <a:ext cx="1063296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блемой исследования занимались: Ф.И. Буслаев, Л. И Поливанов, К. Д. Ушинский, Т. А. Ладыженская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Р Львов, Н.Н.Светловской, Л.П. Федоренко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90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лючен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им образом, малые фольклорные жанры предлагают ребенку обширный круг поэтических ассоциаций. В песнях - пленительные образы белой березы, шумящей на ветру, разлившейся весенней воды, белой лебедушки, серых гусей, частого дождя и др. Все они становятся основой поэтического взгляда на мир и образуют с течением времени систему художественных воз зрений, проникнутых любовью к родной природе, родной речи, родин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82600"/>
            <a:ext cx="1097280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пускной квалификационной работе мы планиру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10958400" cy="57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цесс формирования речевого опыта младших школьников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дмет исследования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емы работы по формированию речевого опыта младших школьников средствами малых фольклорных жанр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5520" y="364680"/>
            <a:ext cx="10928160" cy="619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Задачи исследования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проанализировать научную и методическую литературу по проблеме развития речи младших школьников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определить формы и методы использования малых фольклорных жанров для формирования речевого опыта младших школьников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обобщить материалы по исследованию методических приемов по формированию речевого опыта средствами малых фольклорных жан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31440" y="409680"/>
            <a:ext cx="10721880" cy="57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оретический анализ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общ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ирова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тод обработки дан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4680"/>
            <a:ext cx="10742400" cy="20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а I. ТЕОРЕТИЧЕСКИЕ ОСНОВЫ ПРОБЛЕМЫ ФОРМИРОВАНИЯ РЕЧЕВОГО ОПЫТЫ МЛАДШИХ ШКОЛЬНИКОВ В РАБОТЕ С МАЛЫМИ ФОЛЬКЛОРНЫМИ ЖАН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7720" y="2852640"/>
            <a:ext cx="10515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Общая характеристика речи. Особенности речевого развития детей младшего возра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онятие фолькл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Классификация малых фольклорных жан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ные понятия главы 1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чь - это совокупность произносимых или воспринимаемых звуков, которые имеют тот же смысл и тоже значение, что и соответствующая им система письменных знаков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ольклор - это создаваемая народом и бытующая в народных массах поэзия, в которой он отражает свою трудовую деятельность, общественный и бытовой уклад, знание жизни, природы, культуры и вер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ссмотрены точки зр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лексеева М. М.,  Ахманова Ольга Сергее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3280" y="285840"/>
            <a:ext cx="111204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1800" y="231840"/>
          <a:ext cx="10582200" cy="5657760"/>
        </p:xfrm>
        <a:graphic>
          <a:graphicData uri="http://schemas.openxmlformats.org/drawingml/2006/table">
            <a:tbl>
              <a:tblPr/>
              <a:tblGrid>
                <a:gridCol w="3527280"/>
                <a:gridCol w="3527640"/>
                <a:gridCol w="3527280"/>
              </a:tblGrid>
              <a:tr h="248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ая деятельность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высказывани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еч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язы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3" name="Прямая со стрелкой 8"/>
          <p:cNvCxnSpPr/>
          <p:nvPr/>
        </p:nvCxnSpPr>
        <p:spPr>
          <a:xfrm flipH="1">
            <a:off x="2706480" y="987480"/>
            <a:ext cx="1621440" cy="14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10"/>
          <p:cNvCxnSpPr/>
          <p:nvPr/>
        </p:nvCxnSpPr>
        <p:spPr>
          <a:xfrm>
            <a:off x="5657400" y="1133280"/>
            <a:ext cx="183240" cy="14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12"/>
          <p:cNvCxnSpPr/>
          <p:nvPr/>
        </p:nvCxnSpPr>
        <p:spPr>
          <a:xfrm>
            <a:off x="7534440" y="1085400"/>
            <a:ext cx="1646640" cy="13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95560" y="0"/>
          <a:ext cx="9521640" cy="7207200"/>
        </p:xfrm>
        <a:graphic>
          <a:graphicData uri="http://schemas.openxmlformats.org/drawingml/2006/table">
            <a:tbl>
              <a:tblPr/>
              <a:tblGrid>
                <a:gridCol w="1865160"/>
                <a:gridCol w="4338720"/>
                <a:gridCol w="3317760"/>
              </a:tblGrid>
              <a:tr h="3207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 gridSpan="3"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я, связанные с игровыми действ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33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ушки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е приговорки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енки, сопровожда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движения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тягивание, разведение рук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шение, поглаживан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расывание, щекотан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ют установ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контакт с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, без чего немыслимо норм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ое и физ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бенка, обуч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у и мелодике, д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е представления о реалиях окружающей действи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30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ита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отворное 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истического характера, в котором счет яв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зующей основ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лась в детск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х для устан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и выбора лиц, исполняющих ту или иную роль. Считалки помог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учить большее количество стихотво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 и, следовательно, способствуют развитию памяти. Кроме познавательной функции, они несут в себе также эстетическую и этическую фун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Nelli</dc:creator>
  <dc:description/>
  <dc:language>en-US</dc:language>
  <cp:lastModifiedBy>1</cp:lastModifiedBy>
  <dcterms:modified xsi:type="dcterms:W3CDTF">2017-12-23T19:23:19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5965</vt:lpwstr>
  </property>
</Properties>
</file>