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3DAA-7811-4654-9C36-E7CF5E1BC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78A9-85A8-4576-8EBA-3BE58C08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55BC-5B04-4CAE-908A-C488A5A42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3DDC-8A8C-4946-A736-DDE7F4E15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2A3E-A9C2-47AB-8030-80C4028D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ED70-5659-45E1-A1F4-1D7FB592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52C1-5015-4F36-BCD3-97E84191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1BB1-31B7-4451-842C-3C351067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011B-D379-45CC-BE30-2CCA5382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9073-C96E-4FB0-BD3A-1D325036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EE39-7D39-4EBB-AC46-3DBB1367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83CA-7A76-448F-A9D8-0CDD39A7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91CC-3B2F-41E7-B5AE-42E279BEF424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23480" y="353880"/>
            <a:ext cx="10426680" cy="59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образования и науки Челябинской области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ПОУ «Челябинский педагогический колледж №1»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гуманитарных дисциплин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Гиниятуллина Виолет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36 групп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курсовая рабо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ФОРМИРОВАНИЕ РЕЧЕВОГО ОПЫТА МЛАДШЕГО ШКОЛЬНИКА В РАБОТЕ С МАЛЫМИ ФОЛЬКЛОРНЫМИ ЖАНР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руководитель: Кошкарова Любовь Сергее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096920" y="-347760"/>
          <a:ext cx="10302840" cy="7334280"/>
        </p:xfrm>
        <a:graphic>
          <a:graphicData uri="http://schemas.openxmlformats.org/drawingml/2006/table">
            <a:tbl>
              <a:tblPr/>
              <a:tblGrid>
                <a:gridCol w="2032200"/>
                <a:gridCol w="4678200"/>
                <a:gridCol w="3592440"/>
              </a:tblGrid>
              <a:tr h="250920">
                <a:tc gridSpan="3"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7800">
                <a:tc>
                  <a:txBody>
                    <a:bodyPr lIns="14400" rIns="14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ыбе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с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сни, созданные для того, чтоб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омощью размеренного ритма и монотонного напева укачивать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баюкивать ребен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колыбельных песн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ычно обращаются 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ку с пожеланиями сна, здоровья, роста, иногда содержатся просьб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шаться окружающих, не ложиться на край, 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ризничать, не поднимать голов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9200">
                <a:tc>
                  <a:txBody>
                    <a:bodyPr lIns="14400" rIns="14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ау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казы или сказки, 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провождаемые движениями и забавляющие ребенка сво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м, ритмом, мелодие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ая роль прибауток 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ая. Ребен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знает о людях, животных, явлениях, предметах, об их типических свойствах. Часто по этому служат кумулятивные сюжеты: огонь выжигает лес, вода гасит огнь, быки выпивают воду и т.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3360">
                <a:tc>
                  <a:txBody>
                    <a:bodyPr lIns="14400" rIns="14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гово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большое произведение, состоящее из одной или дву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з, которое строится 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етании слов и звуков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уднительных д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ношения, особенно пр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стром их произнесен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ются для развития артикуляции речевого аппар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3000">
                <a:tc>
                  <a:txBody>
                    <a:bodyPr lIns="14400" rIns="14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чан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объясняется порядк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й во время самой игры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 из детей начинает чита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ст, чаще всего комическ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я, в конце котор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ется указание замолча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омощью молчан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абатывается ум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ть своими эмоциями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держивать жела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289080" y="241200"/>
          <a:ext cx="11585520" cy="6213600"/>
        </p:xfrm>
        <a:graphic>
          <a:graphicData uri="http://schemas.openxmlformats.org/drawingml/2006/table">
            <a:tbl>
              <a:tblPr/>
              <a:tblGrid>
                <a:gridCol w="2286000"/>
                <a:gridCol w="5259240"/>
                <a:gridCol w="4040280"/>
              </a:tblGrid>
              <a:tr h="1771920">
                <a:tc>
                  <a:txBody>
                    <a:bodyPr lIns="12600" rIns="12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лосян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и соревнуются в том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 дольше протянет тот и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ой звук, не переводя дыхания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ычно они повторяю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фмованный текст вслед 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ящим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 способствовал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ю навык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ьного дыхания, но с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енем практически забылась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71440">
                <a:tc>
                  <a:txBody>
                    <a:bodyPr lIns="12600" rIns="12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ич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большие песенки и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фмованные приговоры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явшиеся вне праздничн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туал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и содержат словесно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е к силам природы, животным, насекомым и растениям, посвященное определенному случаю и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ажающее какую-либо просьбу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70240">
                <a:tc>
                  <a:txBody>
                    <a:bodyPr lIns="12600" rIns="12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былиц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едения различно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анровой принадлежности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бражающие действи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еднамеренным нарушение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нологическо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овательности событий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но - следственных связ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оздающие полну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ообразностей художественну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ину мира. Важным 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йством является алогизм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образн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ышления, воображения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гащение речи ребен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225360" y="-65160"/>
          <a:ext cx="11674440" cy="6730920"/>
        </p:xfrm>
        <a:graphic>
          <a:graphicData uri="http://schemas.openxmlformats.org/drawingml/2006/table">
            <a:tbl>
              <a:tblPr/>
              <a:tblGrid>
                <a:gridCol w="2281320"/>
                <a:gridCol w="5253120"/>
                <a:gridCol w="4022640"/>
                <a:gridCol w="117360"/>
              </a:tblGrid>
              <a:tr h="4292640">
                <a:tc>
                  <a:txBody>
                    <a:bodyPr lIns="18360" rIns="183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д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 краткое описание предме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явления, часто в поэтическо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е, заключающее в себ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ысловатую задачу в вид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вного или предполагаем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озиционно загадка состои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двух частей: загадки (вопроса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отгадки (ответа), котор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связаны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360" rIns="183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ая особен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дки состоит в том, что она представляет собо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ическую задачу. Кажд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дка содержит вопрос, поставленный в явной и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рытой форме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в настоящее врем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дка используется ка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лекательное 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ффективное средство в обучении и воспитании детей, в организации их досуг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5160">
                <a:tc>
                  <a:txBody>
                    <a:bodyPr lIns="18360" rIns="183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ови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 краткое мудрое изречение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ающее в себе, какое-нибудь практическое поучение, народный афоризм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ьное значение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гащение словаря ребен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73120">
                <a:tc>
                  <a:txBody>
                    <a:bodyPr lIns="18360" rIns="183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з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вляется одним из основн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ов устной народной прозы, е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ическим свойством считает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ка на вымысе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зки используются 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лекательных 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учительных целях. Обычно выделяют сказки 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отных, волшебные 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товые. Они различаются между собой по характеру вымысла, по героям и по используемым мотивам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81040" y="154080"/>
            <a:ext cx="10772640" cy="15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ЛАВА II.  ОСНОВНЫЕ НАПРАВЛЕНИЯ РАБОТЫ ПО ОБОГАЩЕНИЮ РЕЧЕВОГО ОПЫТА МЛАДШЕГО ШКОЛЬНИ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9600" y="1946160"/>
            <a:ext cx="110440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смотрены вопро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зможность использования малых фольклорных жанров в развитии речи младших школьн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ганизация работы по обогащению речевого опыта детей на основе использования малых жанров фольклора во внеклассной рабо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ганизация работы по обогащению речевого опыта детей на основе использования малых фольклорных жанров на уроках обучения грамоте и чт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75920" y="58320"/>
            <a:ext cx="10877400" cy="61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у по обогащению речевого опыта младших школьников, в соответствии с обобщениями ученых и опытом методистов, следует вести в двух направлениях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организация внеклассной работы по обогащению речевого опыта младших школьников на основе малых фольклорных жанр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использование малых фольклорных жанров на различных этапах уроков обучения грамо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26680" y="141120"/>
            <a:ext cx="11055240" cy="632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речевого опыта детей на основе малых жанров фольклора.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ить представления детей о малых жанрах словесного фольклора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познавательный интерес к различным формам фольклора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ить с эмоциональной направленностью фольклора (частушки, потешки, прибаутки), его практической соотнесенностью с миром (заклички, считалки, приговорки, скороговорки) и иносказательностью народной речи (загадки, пословицы, поговорки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расширению словарного запаса детей: побуждать интересоваться смыслом слова, совершенствовать умение использовать различные части речи в точном соответствии с их значением и целью высказывания, помогать осваивать выразительные средства языка;</a:t>
            </a:r>
            <a:br>
              <a:rPr sz="2400"/>
            </a:b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687240" y="419040"/>
          <a:ext cx="10479240" cy="6238800"/>
        </p:xfrm>
        <a:graphic>
          <a:graphicData uri="http://schemas.openxmlformats.org/drawingml/2006/table">
            <a:tbl>
              <a:tblPr/>
              <a:tblGrid>
                <a:gridCol w="1256040"/>
                <a:gridCol w="3935160"/>
                <a:gridCol w="5151600"/>
                <a:gridCol w="136440"/>
              </a:tblGrid>
              <a:tr h="482760"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заня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2400">
                <a:tc>
                  <a:txBody>
                    <a:bodyPr lIns="12240" rIns="12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240" rIns="12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одное занят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осиделки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2240" rIns="12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комство с понятием «фольклор»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его вида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2760">
                <a:tc>
                  <a:txBody>
                    <a:bodyPr lIns="12240" rIns="12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240" rIns="12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еб - всему голо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2240" rIns="12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 «Откуда хлеб пришел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и разбор пословиц и поговорок о хлеб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85960">
                <a:tc>
                  <a:txBody>
                    <a:bodyPr lIns="12240" rIns="12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240" rIns="12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о саду ли, в огороде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2240" rIns="12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дактическая игра «Что растет 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ду и в огороде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загадками об овощах 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укт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учивание потешки «Наш козел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е на дом: придумать загадк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 овощах или фрукт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6560">
                <a:tc>
                  <a:txBody>
                    <a:bodyPr lIns="12240" rIns="12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240" rIns="12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осенушка-осень - сно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ний косим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2240" rIns="12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 об осени, ее особенностях 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м соответствующи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овиц, поговорок, закличек.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учивание заклички «Восенушка -осень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85960">
                <a:tc>
                  <a:txBody>
                    <a:bodyPr lIns="12240" rIns="12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240" rIns="12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ктябрь - грязик - 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еса, ни полоза н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бит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2240" rIns="12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торение заклички «Восенушка 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ень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 о характерных примет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я на основе поговорок 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овиц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каз о народном праздник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ров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2400">
                <a:tc>
                  <a:txBody>
                    <a:bodyPr lIns="12240" rIns="12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240" rIns="12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ая матреш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240" rIns="12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каз о матрешк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учивание пальчиковой игры Знакомство и разучивание частуш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2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Линия 2"/>
          <p:cNvSpPr/>
          <p:nvPr/>
        </p:nvSpPr>
        <p:spPr>
          <a:xfrm>
            <a:off x="-12600" y="-6480"/>
            <a:ext cx="0" cy="5748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0" y="457200"/>
            <a:ext cx="121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793800" y="0"/>
          <a:ext cx="10771200" cy="6912000"/>
        </p:xfrm>
        <a:graphic>
          <a:graphicData uri="http://schemas.openxmlformats.org/drawingml/2006/table">
            <a:tbl>
              <a:tblPr/>
              <a:tblGrid>
                <a:gridCol w="1306440"/>
                <a:gridCol w="4098960"/>
                <a:gridCol w="5365800"/>
              </a:tblGrid>
              <a:tr h="1587600"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зка для Куз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есная игра «Аюшк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каз о домовом, его значении 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ого нар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инение сказки «Домовенок Куз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дреному и счастье к лиц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дывание загад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49480"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былица в лицах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бывальщ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комство с русскими народны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былиц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небылиц Самостоятельное придумывание небыли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47680"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тку шутить - люд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меши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комство с потешны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ьклоро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потешного расска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2480"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ая изб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есные народные иг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казывание докучных сказок Загадывание загадок о предметах домашнего обих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39720"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вое заня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руг за друж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жаться - ничего н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ятьс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0" y="0"/>
            <a:ext cx="121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0" y="0"/>
          <a:ext cx="12192120" cy="7599240"/>
        </p:xfrm>
        <a:graphic>
          <a:graphicData uri="http://schemas.openxmlformats.org/drawingml/2006/table">
            <a:tbl>
              <a:tblPr/>
              <a:tblGrid>
                <a:gridCol w="7524720"/>
                <a:gridCol w="4667400"/>
              </a:tblGrid>
              <a:tr h="91476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ы ур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( использование малых фольклорных жанров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95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ый мом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говор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тоговор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ш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есные иг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д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овицы и поговор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094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изация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д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ие нового зн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былиц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ичное закреп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аут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ьминут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с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Самостоятельная работа с самопроверкой по эталон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ш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Пальчиковая гимна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читал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репление изученн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ич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 урока, рефлек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овиц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19200" y="430200"/>
          <a:ext cx="10985400" cy="5958000"/>
        </p:xfrm>
        <a:graphic>
          <a:graphicData uri="http://schemas.openxmlformats.org/drawingml/2006/table">
            <a:tbl>
              <a:tblPr/>
              <a:tblGrid>
                <a:gridCol w="5492520"/>
                <a:gridCol w="5492880"/>
              </a:tblGrid>
              <a:tr h="590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, темы урок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анры фольклор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1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асс. «Час потех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шки, колыбельные, побасенки, загадки, считалки, скороговорки, небылиц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ласс. «Учимся читать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а и журавль. Самое дорогое. Два Мороз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асс. «Учимся работать с текстом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Труд кормит, а лень портит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яц-хваста. Мена. Лисичка со скалочко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 горшок мыть. Дочь-семилетка. Морской царь и Василиса Премудр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0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ласс. «Что за прелесть эти сказки!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у нас, слава богу, хорошо. Петр 1 и мужик. Петр и Петруша. Марья и ведьмы. Василиса Прекрасна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0720" y="365040"/>
            <a:ext cx="10632960" cy="278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ктуальность проблемы исследования заключается: в  создании на уроке речевой ситуации на основе фольклора, побуждающей ученика к коммуник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20720" y="3522240"/>
            <a:ext cx="10632960" cy="26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блемой исследования занимались: Ф.И. Буслаев, Л. И Поливанов, К. Д. Ушинский, Т. А. Ладыженская,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Р Львов, Н.Н.Светловской, Л.П. Федоренко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590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ключение: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аким образом, малые фольклорные жанры предлагают ребенку обширный круг поэтических ассоциаций. В песнях - пленительные образы белой березы, шумящей на ветру, разлившейся весенней воды, белой лебедушки, серых гусей, частого дождя и др. Все они становятся основой поэтического взгляда на мир и образуют с течением времени систему художественных воз зрений, проникнутых любовью к родной природе, родной речи, родин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09480" y="282600"/>
            <a:ext cx="10972800" cy="58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выпускной квалификационной работе мы планируем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365040"/>
            <a:ext cx="10958400" cy="570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бъект исследования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цесс формирования речевого опыта младших школьников.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едмет исследования: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емы работы по формированию речевого опыта младших школьников средствами малых фольклорных жанро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5520" y="364680"/>
            <a:ext cx="10928160" cy="619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Задачи исследования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)проанализировать научную и методическую литературу по проблеме развития речи младших школьников;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)определить формы и методы использования малых фольклорных жанров для формирования речевого опыта младших школьников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)обобщить материалы по исследованию методических приемов по формированию речевого опыта средствами малых фольклорных жанр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31440" y="409680"/>
            <a:ext cx="10721880" cy="57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Методы исследовани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еоретический анализ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бобщение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оделирование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етод обработки данных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364680"/>
            <a:ext cx="10742400" cy="201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лава I. ТЕОРЕТИЧЕСКИЕ ОСНОВЫ ПРОБЛЕМЫ ФОРМИРОВАНИЯ РЕЧЕВОГО ОПЫТЫ МЛАДШИХ ШКОЛЬНИКОВ В РАБОТЕ С МАЛЫМИ ФОЛЬКЛОРНЫМИ ЖАНР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47720" y="2852640"/>
            <a:ext cx="10515600" cy="36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 Общая характеристика речи. Особенности речевого развития детей младшего возра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Понятие фольклор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Классификация малых фольклорных жан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Основные понятия главы 1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ечь - это совокупность произносимых или воспринимаемых звуков, которые имеют тот же смысл и тоже значение, что и соответствующая им система письменных знаков.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Фольклор - это создаваемая народом и бытующая в народных массах поэзия, в которой он отражает свою трудовую деятельность, общественный и бытовой уклад, знание жизни, природы, культуры и веровани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ассмотрены точки зрения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Алексеева М. М.,  Ахманова Ольга Сергеевн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33280" y="285840"/>
            <a:ext cx="11120400" cy="58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901800" y="231840"/>
          <a:ext cx="10582200" cy="5657760"/>
        </p:xfrm>
        <a:graphic>
          <a:graphicData uri="http://schemas.openxmlformats.org/drawingml/2006/table">
            <a:tbl>
              <a:tblPr/>
              <a:tblGrid>
                <a:gridCol w="3527280"/>
                <a:gridCol w="3527640"/>
                <a:gridCol w="3527280"/>
              </a:tblGrid>
              <a:tr h="2487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евая деятельность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7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ность в высказывани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речи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а язык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53" name="Прямая со стрелкой 8"/>
          <p:cNvCxnSpPr/>
          <p:nvPr/>
        </p:nvCxnSpPr>
        <p:spPr>
          <a:xfrm flipH="1">
            <a:off x="2706480" y="987480"/>
            <a:ext cx="1621440" cy="1488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" name="Прямая со стрелкой 10"/>
          <p:cNvCxnSpPr/>
          <p:nvPr/>
        </p:nvCxnSpPr>
        <p:spPr>
          <a:xfrm>
            <a:off x="5657400" y="1133280"/>
            <a:ext cx="183240" cy="146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" name="Прямая со стрелкой 12"/>
          <p:cNvCxnSpPr/>
          <p:nvPr/>
        </p:nvCxnSpPr>
        <p:spPr>
          <a:xfrm>
            <a:off x="7534440" y="1085400"/>
            <a:ext cx="1646640" cy="130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195560" y="0"/>
          <a:ext cx="9521640" cy="7207200"/>
        </p:xfrm>
        <a:graphic>
          <a:graphicData uri="http://schemas.openxmlformats.org/drawingml/2006/table">
            <a:tbl>
              <a:tblPr/>
              <a:tblGrid>
                <a:gridCol w="1865160"/>
                <a:gridCol w="4338720"/>
                <a:gridCol w="3317760"/>
              </a:tblGrid>
              <a:tr h="320760"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на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 gridSpan="3"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едения, связанные с игровыми действ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3360"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стушки 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ш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ие приговорки и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сенки, сопровождающ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овые движения и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упраж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тягивание, разведение рук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мошение, поглаживание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брасывание, щекотание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гают установи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оциональный контакт с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, без чего немыслимо нормаль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ое и физиче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ребенка, обуча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зыку и мелодике, да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ые представления о реалиях окружающей действитель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3040"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читал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хотворное произве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имуществен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мористического характера, в котором счет являе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тмизующей основ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лась в детск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х для устано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реди и выбора лиц, исполняющих ту или иную роль. Считалки помога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учить большее количество стихотвор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 и, следовательно, способствуют развитию памяти. Кроме познавательной функции, они несут в себе также эстетическую и этическую функц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6T07:29:02Z</dcterms:created>
  <dc:creator>Nelli</dc:creator>
  <dc:description/>
  <dc:language>en-US</dc:language>
  <cp:lastModifiedBy>1</cp:lastModifiedBy>
  <dcterms:modified xsi:type="dcterms:W3CDTF">2017-12-23T19:23:19Z</dcterms:modified>
  <cp:revision>1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5965</vt:lpwstr>
  </property>
</Properties>
</file>