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8BE9-546B-46DA-924D-DB1327F5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7491-49B2-405F-932E-1054E26F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C363-E357-4D90-95AB-79E3F5BDB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5D6D-E933-4513-B433-172328EBA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B25C-3028-46D5-8163-BAC3F473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5F52-C9AD-4F1C-9C45-D4D6E775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D66A-06B0-42BB-8E13-69449249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723F-D319-48CF-A4AB-53DFD602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C7E4-3EE4-4D01-B077-D85A46F0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E824-4158-43CE-B310-EBDE868D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52BE-BB6C-44EA-AB3F-93E08F5F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E23D-D0E7-4375-9EBB-7C956E2B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824C-0765-4A38-8728-26115A01DD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96520" y="1697040"/>
            <a:ext cx="109854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Black"/>
              </a:rPr>
              <a:t>Индивидуальный проект на тему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 Black"/>
              </a:rPr>
              <a:t>«Изучение гена </a:t>
            </a: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BMPR</a:t>
            </a:r>
            <a:r>
              <a:rPr b="1" lang="ru-RU" sz="2800" spc="-1" strike="noStrike">
                <a:solidFill>
                  <a:srgbClr val="002060"/>
                </a:solidFill>
                <a:latin typeface="Arial Black"/>
              </a:rPr>
              <a:t>2 артериальной легочной гипертензии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59880" y="6146280"/>
            <a:ext cx="108586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Москва - 20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4" descr=""/>
          <p:cNvPicPr/>
          <p:nvPr/>
        </p:nvPicPr>
        <p:blipFill>
          <a:blip r:embed="rId2"/>
          <a:stretch/>
        </p:blipFill>
        <p:spPr>
          <a:xfrm>
            <a:off x="9680400" y="431640"/>
            <a:ext cx="1765440" cy="1963800"/>
          </a:xfrm>
          <a:prstGeom prst="rect">
            <a:avLst/>
          </a:prstGeom>
          <a:ln w="0">
            <a:noFill/>
          </a:ln>
        </p:spPr>
      </p:pic>
      <p:sp>
        <p:nvSpPr>
          <p:cNvPr id="45" name="Подзаголовок 2"/>
          <p:cNvSpPr/>
          <p:nvPr/>
        </p:nvSpPr>
        <p:spPr>
          <a:xfrm>
            <a:off x="5773680" y="4046400"/>
            <a:ext cx="5999400" cy="20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Arial Black"/>
              </a:rPr>
              <a:t>Работа выполнила Веселова А.В.,ученица 10 М класса ГБОУ Школа № 1375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Arial Black"/>
              </a:rPr>
              <a:t>Научный руководитель: Кулагина С.С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Arial Black"/>
              </a:rPr>
              <a:t>учитель биологии, канд. пед. наук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1" descr=""/>
          <p:cNvPicPr/>
          <p:nvPr/>
        </p:nvPicPr>
        <p:blipFill>
          <a:blip r:embed="rId3"/>
          <a:stretch/>
        </p:blipFill>
        <p:spPr>
          <a:xfrm>
            <a:off x="522360" y="393840"/>
            <a:ext cx="3638520" cy="1427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3" descr=""/>
          <p:cNvPicPr/>
          <p:nvPr/>
        </p:nvPicPr>
        <p:blipFill>
          <a:blip r:embed="rId1"/>
          <a:stretch/>
        </p:blipFill>
        <p:spPr>
          <a:xfrm>
            <a:off x="-1764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879120" y="1261800"/>
            <a:ext cx="10093320" cy="48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1. Митрофанов С.И., Панчин А.Ю., Спирин C.A., Панчин Ю.В., Алексеевский А.А. «Исключительные последовательности в геномах различных организмов». // «Информационные технологии и системы» (ИТиС'09). Сборник тезисов. -2009 - С. 351-35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2. Панчин А.Ю., Артамонова И.И. «Эволюция моделей альтернативного сплайсинга паралогичных генов человека». // «Информационные технологии и системы» (ИТиС'09). Сборник тезисов. - 2009 - С. 347-35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 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3. Панчин А.Ю., Митрофанов С.И., Алексеевский А.В., Спирин С.А., Панчин Ю.В. «Зависимость мутационных процессов в геноме человека от контекста». // «Информационные технологии и системы» (ИТиС"10). Сборник тезисов. - 2010 - С. 358-36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4. Панчин А.Ю., Артамонова И.И. «Эволюция сайтов сплайсинга в семействах недавно дуплицированных генов человека». // «Информационные технологии и системы» (ИТиС"11). Сборник тезисов. - 2011 - С. 107-11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 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5. Панчин А.Ю., Макеев В.Ю., Медведева Ю.А. «Снижение частоты мутаций метилцитозинов в CpG островах». // «Информационные технологии и системы» (ИТиС"11). Сборник тезисов. - 2011 - С. 271-275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6. </a:t>
            </a:r>
            <a:r>
              <a:rPr b="0" lang="en-US" sz="1400" spc="-1" strike="noStrike">
                <a:solidFill>
                  <a:srgbClr val="002060"/>
                </a:solidFill>
                <a:latin typeface="Arial"/>
                <a:ea typeface="Arial"/>
              </a:rPr>
              <a:t>Bobadilla JL, Macek M, Jr., Fine JP, Farrell PM Cystic fibrosis: a worldwide analysis of CFTR mutations—correlation with incidence data and application to screening. // Hum Mutat. 2002 - V. 19 - P. 575-606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7. </a:t>
            </a:r>
            <a:r>
              <a:rPr b="0" lang="en-US" sz="1400" spc="-1" strike="noStrike">
                <a:solidFill>
                  <a:srgbClr val="002060"/>
                </a:solidFill>
                <a:latin typeface="Arial"/>
                <a:ea typeface="Arial"/>
              </a:rPr>
              <a:t>Gagnon-Kugler T, Langlois F, Stefanovsky V, Lessard F, Moss T Loss of human ribosomal gene CpG methylation enhances cryptic RNA polymerase II transcription and disrupts ribosomal RNA processing. // Mol Cell. 2009 - V. 35 - P. 414-425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8. </a:t>
            </a:r>
            <a:r>
              <a:rPr b="0" lang="en-US" sz="1400" spc="-1" strike="noStrike">
                <a:solidFill>
                  <a:srgbClr val="002060"/>
                </a:solidFill>
                <a:latin typeface="Arial"/>
                <a:ea typeface="Arial"/>
              </a:rPr>
              <a:t>Markowitz SD, Bertagnolli MM Molecular origins of cancer: Molecular basis of colorectal cancer. // N Engl J Med. 2009 - V. 361 - P. 2449-246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9.</a:t>
            </a:r>
            <a:r>
              <a:rPr b="0" lang="en-US" sz="1400" spc="-1" strike="noStrike">
                <a:solidFill>
                  <a:srgbClr val="002060"/>
                </a:solidFill>
                <a:latin typeface="Arial"/>
                <a:ea typeface="Arial"/>
              </a:rPr>
              <a:t> Mort M, Ivanov D, Cooper DN, Chuzhanova NA A meta-analysis of nonsense mutations causing human genetic disease. // Hum Mutat. 2008 - V. 29 - P. 1037-1047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523800" y="769680"/>
            <a:ext cx="1114416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 Black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3800" y="1923840"/>
            <a:ext cx="1114416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 Black"/>
              </a:rPr>
              <a:t>БЛАГОДАРИМ ЗА ВНИМАНИЕ!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7" name="Рисунок 5" descr=""/>
          <p:cNvPicPr/>
          <p:nvPr/>
        </p:nvPicPr>
        <p:blipFill>
          <a:blip r:embed="rId2"/>
          <a:stretch/>
        </p:blipFill>
        <p:spPr>
          <a:xfrm>
            <a:off x="8442360" y="3270240"/>
            <a:ext cx="2052720" cy="22845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" descr=""/>
          <p:cNvPicPr/>
          <p:nvPr/>
        </p:nvPicPr>
        <p:blipFill>
          <a:blip r:embed="rId3"/>
          <a:stretch/>
        </p:blipFill>
        <p:spPr>
          <a:xfrm>
            <a:off x="733320" y="3083040"/>
            <a:ext cx="6791400" cy="2657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48800" y="1231920"/>
            <a:ext cx="10477800" cy="30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  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Легочная гипертония распространена во всем мире и является одной из основных причин, определяющих заболеваемость и смертность насел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  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Хроническая сердечная недостаточность, является конечной стадией большинства заболеваний сердечно-сосудистой системы и занимает ведущее место среди причин инвалидности и смертности больных с патологией сердца. Легочная артериальная гипертензия (ЛАГ) - это синдром, при котором легочная артериальная обструкция повышает сопротивление легочных сосудов, приводя к недостаточности правого желудочка (ПЖ) и повышению уровню смерт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  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еханизм выявления легочной гипертензии при наследственной предрасположенности к данному заболеванию продолжает оставаться неизученным до конца. Сложность проблемы заключается в том, что легочная гипертензия является мультифакториальным заболеванием, и в стратегии поиска «маркеров предрасположенности» приходится учитывать тот факт, что тесного сцепления генов с заболеванием очень ма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До сих пор не определена важность ряда внешних факторов в развитии легочной гипертензии, нет достаточно убедительных научно-практических рекомендаций, позволяющих прогнозировать ранние формы Л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03000" y="541080"/>
            <a:ext cx="109854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АКТУАЛЬНОСТЬ ИССЛЕДОВАНИЯ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57160" y="1204920"/>
            <a:ext cx="10731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Цель исследования: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изучить влияние гена BMPR 2 на развитие легочной гипертензи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Задачи исследова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- Проанализировать научную литературу по теме исследо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- Выделить ген BMPR2 у людей здоровых и страдающих легочной гипертензи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Используя молекулярно-генетические методы, провести анализ генетических вариабельностей у группы исследуемых люд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Объект исследования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: ген BMPR 2, выделенный у здоровых людей, людей, страдающих болезнями сердца и людей, страдающих легочной гипертензией, 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едмет исследования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- изучение гена BMPR2, выделенного у здоровых людей, людей, страдающих болезнями сердца и людей, страдающих легочной гипертензи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ипотеза исследования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заключается в том, что наличие гена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BMPR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2 артериальной легочной гипертензии не означат возникновение болезни ЛАГ, а мутации в данном гене могут способствовать появлению и развитию болез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03000" y="541080"/>
            <a:ext cx="109854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ЦЕЛЬ И ЗАДАЧИ ПРОЕКТА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556920"/>
            <a:ext cx="77742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Ход исследования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38080" y="13903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1.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Для решения поставленных задач был взят анализ ДНК у 197 респондентов, здоровых и страдающих заболеванием артериальная гипертенз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2. В начале исследования всеми респондентами были подписаны согласия на сбор и обработку генетического материа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3. Вначале мы выделяли ДНК предложенным сорбентом Boo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4. После очистки ДНК нами были добавлена Taq-полимираза, которая достраивает цепочку ДНК, и буфер, обеспечивающий оптимальные условия для реакции, а также стабильное значение рН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5. Затем наш субстрат перемешали системой «Вортекс» и добавили праймеры и зонд, необходимые для работы. ДНК участников эксперимента мы поставили в амплификатор, где происходит полимеразная цепная реакция (ПЦР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504360"/>
            <a:ext cx="105156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2060"/>
              </a:solidFill>
              <a:latin typeface="Arial Black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1"/>
          <a:stretch/>
        </p:blipFill>
        <p:spPr>
          <a:xfrm>
            <a:off x="619200" y="382680"/>
            <a:ext cx="10953720" cy="5661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"/>
          <p:cNvPicPr/>
          <p:nvPr/>
        </p:nvPicPr>
        <p:blipFill>
          <a:blip r:embed="rId2"/>
          <a:stretch/>
        </p:blipFill>
        <p:spPr>
          <a:xfrm>
            <a:off x="-109440" y="0"/>
            <a:ext cx="121917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686880"/>
            <a:ext cx="1051560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</a:rPr>
              <a:t>ИЗУЧЕНИЕ ГЕНА  BMPR2, отвечающего за возникновение и развитие легочной гипертензи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3108240" y="1677960"/>
            <a:ext cx="5592960" cy="43513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627120"/>
            <a:ext cx="10515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 Black"/>
              </a:rPr>
              <a:t>Результаты исследования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38080" y="14950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Выяснено, что большинство участников эксперимента имеет нормальный ген BMPR 2 (ТТ) и не страдает заболеваниями ЛАГ. Беседы с участниками экспериментов для изучения причины заболевания ЛАГ показали, что люди, не страдающие заболеванием ЛАГ, не имели в своей семье родственников, подверженных данному заболеван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Люди, которые являются носителями гена BMPR2 (30%), имели в своем роду либо страдающих сердечно-сосудистыми заболеваниями, либо участники эксперимента вели не здоровый образ жизн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Люди, страдающие заболеванием ЛАГ имеют мутации в гене BMPR 2  и в 89% случав в семье имели родственников, которые скончались в результате проблемы с сердечно-сосудистой систем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627120"/>
            <a:ext cx="10515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 Black"/>
              </a:rPr>
              <a:t>Результаты исследования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66" name="Объект 4"/>
          <p:cNvGraphicFramePr/>
          <p:nvPr/>
        </p:nvGraphicFramePr>
        <p:xfrm>
          <a:off x="787320" y="1444680"/>
          <a:ext cx="1061712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44680"/>
                    <a:ext cx="1061712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Рисунок 5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3" descr=""/>
          <p:cNvPicPr/>
          <p:nvPr/>
        </p:nvPicPr>
        <p:blipFill>
          <a:blip r:embed="rId1"/>
          <a:stretch/>
        </p:blipFill>
        <p:spPr>
          <a:xfrm>
            <a:off x="-1764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84400" y="1596600"/>
            <a:ext cx="97884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Таким образом, исходя из результатов исследования можно представить некоторые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вывод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-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наличие гена BMPR 2 не обуславливает возникновение болезни, однако ее способны спровоцировать негенетические причи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- наличие мутации в гене BMPR 2 может спровоцировать появление болезни, только если есть сопутствующие заболевания или неблагоприятные условия среды (природные или социальные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- развитие заболевания ЛАГ не обязательно зависит от генетических факторов. Большое влияние на здоровье оказывают профилактика и правильный образ жизни, питание и отды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523800" y="769680"/>
            <a:ext cx="1114416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 Black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31T09:41:58Z</dcterms:created>
  <dc:creator>og</dc:creator>
  <dc:description/>
  <dc:language>en-US</dc:language>
  <cp:lastModifiedBy>КулагинаСС</cp:lastModifiedBy>
  <dcterms:modified xsi:type="dcterms:W3CDTF">2019-04-01T11:15:20Z</dcterms:modified>
  <cp:revision>41</cp:revision>
  <dc:subject/>
  <dc:title>ИССЛЕДОВАНИЕ  БЕЗЦЕМЕНТНЫХ ВЯЖУЩИХ МАТЕРИАЛОВ  НА ОСНОВЕ ДОМЕННЫХ ШЛАКОВ  С ДОБАВЛЕНИЕМ НАНОМОДИФИКАТОРОВ</dc:title>
</cp:coreProperties>
</file>