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73B-49C3-4AB3-9178-F04145E4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D81-33ED-43DF-96F3-13799F27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7F9-487F-4093-A054-3EAC6EA9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D50-8F9F-45E6-A910-CB5F4B54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7F4-CD1E-4D9C-B6C0-C1DD6C1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67C-6A31-42E9-85B1-0695670A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8D5-A640-4830-AB07-2E480A9C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192-EF44-4A16-95EC-6D1C079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6D1-98DB-42CC-BDA9-5BACA183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790-B0F0-4E72-B060-654FB0C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797-575F-4B80-B2B3-FA374E5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094-B030-4F83-A0E8-716A49D0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9A60-A99A-4FDD-9456-666CEEF65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6520" y="1697040"/>
            <a:ext cx="10985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Индивидуальный проект на тем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«Изучение гена </a:t>
            </a: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BMPR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2 артериальной легочной гипертензи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9880" y="6146280"/>
            <a:ext cx="108586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Москва -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>
            <a:off x="9680400" y="431640"/>
            <a:ext cx="1765440" cy="196380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5773680" y="4046400"/>
            <a:ext cx="59994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Работа выполнила Веселова А.В.,ученица 10 М класса ГБОУ Школа № 137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Научный руководитель: Кулагина С.С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учитель биологии, канд. пед. нау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3"/>
          <a:stretch/>
        </p:blipFill>
        <p:spPr>
          <a:xfrm>
            <a:off x="522360" y="393840"/>
            <a:ext cx="3638520" cy="142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79120" y="1261800"/>
            <a:ext cx="100933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1. Митрофанов С.И., Панчин А.Ю., Спирин C.A., Панчин Ю.В., Алексеевский А.А. «Исключительные последовательности в геномах различных организмов». // «Информационные технологии и системы» (ИТиС'09). Сборник тезисов. -2009 - С. 351-35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2. Панчин А.Ю., Артамонова И.И. «Эволюция моделей альтернативного сплайсинга паралогичных генов человека». // «Информационные технологии и системы» (ИТиС'09). Сборник тезисов. - 2009 - С. 347-35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. Панчин А.Ю., Митрофанов С.И., Алексеевский А.В., Спирин С.А., Панчин Ю.В. «Зависимость мутационных процессов в геноме человека от контекста». // «Информационные технологии и системы» (ИТиС"10). Сборник тезисов. - 2010 - С. 358-36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4. Панчин А.Ю., Артамонова И.И. «Эволюция сайтов сплайсинга в семействах недавно дуплицированных генов человека». // «Информационные технологии и системы» (ИТиС"11). Сборник тезисов. - 2011 - С. 107-11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5. Панчин А.Ю., Макеев В.Ю., Медведева Ю.А. «Снижение частоты мутаций метилцитозинов в CpG островах». // «Информационные технологии и системы» (ИТиС"11). Сборник тезисов. - 2011 - С. 271-27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6.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Bobadilla JL, Macek M, Jr., Fine JP, Farrell PM Cystic fibrosis: a worldwide analysis of CFTR mutations—correlation with incidence data and application to screening. // Hum Mutat. 2002 - V. 19 - P. 575-60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7.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Gagnon-Kugler T, Langlois F, Stefanovsky V, Lessard F, Moss T Loss of human ribosomal gene CpG methylation enhances cryptic RNA polymerase II transcription and disrupts ribosomal RNA processing. // Mol Cell. 2009 - V. 35 - P. 414-42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8.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Markowitz SD, Bertagnolli MM Molecular origins of cancer: Molecular basis of colorectal cancer. // N Engl J Med. 2009 - V. 361 - P. 2449-246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9.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 Mort M, Ivanov D, Cooper DN, Chuzhanova NA A meta-analysis of nonsense mutations causing human genetic disease. // Hum Mutat. 2008 - V. 29 - P. 1037-104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523800" y="769680"/>
            <a:ext cx="11144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3800" y="1923840"/>
            <a:ext cx="11144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Рисунок 5" descr=""/>
          <p:cNvPicPr/>
          <p:nvPr/>
        </p:nvPicPr>
        <p:blipFill>
          <a:blip r:embed="rId2"/>
          <a:stretch/>
        </p:blipFill>
        <p:spPr>
          <a:xfrm>
            <a:off x="8442360" y="3270240"/>
            <a:ext cx="2052720" cy="2284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3"/>
          <a:stretch/>
        </p:blipFill>
        <p:spPr>
          <a:xfrm>
            <a:off x="733320" y="3083040"/>
            <a:ext cx="679140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48800" y="1231920"/>
            <a:ext cx="104778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егочная гипертония распространена во всем мире и является одной из основных причин, определяющих заболеваемость и смертность насе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Хроническая сердечная недостаточность, является конечной стадией большинства заболеваний сердечно-сосудистой системы и занимает ведущее место среди причин инвалидности и смертности больных с патологией сердца. Легочная артериальная гипертензия (ЛАГ) - это синдром, при котором легочная артериальная обструкция повышает сопротивление легочных сосудов, приводя к недостаточности правого желудочка (ПЖ) и повышению уровню смер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ханизм выявления легочной гипертензии при наследственной предрасположенности к данному заболеванию продолжает оставаться неизученным до конца. Сложность проблемы заключается в том, что легочная гипертензия является мультифакториальным заболеванием, и в стратегии поиска «маркеров предрасположенности» приходится учитывать тот факт, что тесного сцепления генов с заболеванием очень ма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сих пор не определена важность ряда внешних факторов в развитии легочной гипертензии, нет достаточно убедительных научно-практических рекомендаций, позволяющих прогнозировать ранние формы Л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3000" y="541080"/>
            <a:ext cx="109854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АКТУАЛЬНОСТЬ ИССЛЕДОВ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57160" y="1204920"/>
            <a:ext cx="10731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Цель исследования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зучить влияние гена BMPR 2 на развитие легочной гипертенз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Проанализировать научную литературу по теме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Выделить ген BMPR2 у людей здоровых и страдающих легочной гипертенз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спользуя молекулярно-генетические методы, провести анализ генетических вариабельностей у группы исследуемы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ъект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 ген BMPR 2, выделенный у здоровых людей, людей, страдающих болезнями сердца и людей, страдающих легочной гипертензией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изучение гена BMPR2, выделенного у здоровых людей, людей, страдающих болезнями сердца и людей, страдающих легочной гипертенз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ипотеза исследования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ключается в том, что наличие гена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BMPR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2 артериальной легочной гипертензии не означат возникновение болезни ЛАГ, а мутации в данном гене могут способствовать появлению и развитию боле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03000" y="541080"/>
            <a:ext cx="109854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ЦЕЛЬ И ЗАДАЧИ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56920"/>
            <a:ext cx="77742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Ход исследовани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390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1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ля решения поставленных задач был взят анализ ДНК у 197 респондентов, здоровых и страдающих заболеванием артериальная гипертенз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 В начале исследования всеми респондентами были подписаны согласия на сбор и обработку генетическ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. Вначале мы выделяли ДНК предложенным сорбентом Boo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4. После очистки ДНК нами были добавлена Taq-полимираза, которая достраивает цепочку ДНК, и буфер, обеспечивающий оптимальные условия для реакции, а также стабильное значение р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5. Затем наш субстрат перемешали системой «Вортекс» и добавили праймеры и зонд, необходимые для работы. ДНК участников эксперимента мы поставили в амплификатор, где происходит полимеразная цепная реакция (ПЦ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04360"/>
            <a:ext cx="10515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2060"/>
              </a:solidFill>
              <a:latin typeface="Arial Black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619200" y="382680"/>
            <a:ext cx="109537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-10944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86880"/>
            <a:ext cx="10515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ИЗУЧЕНИЕ ГЕНА  BMPR2, отвечающего за возникновение и развитие легочной гипертенз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3108240" y="1677960"/>
            <a:ext cx="5592960" cy="4351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27120"/>
            <a:ext cx="10515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Результаты исследования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495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ыяснено, что большинство участников эксперимента имеет нормальный ген BMPR 2 (ТТ) и не страдает заболеваниями ЛАГ. Беседы с участниками экспериментов для изучения причины заболевания ЛАГ показали, что люди, не страдающие заболеванием ЛАГ, не имели в своей семье родственников, подверженных данному заболева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юди, которые являются носителями гена BMPR2 (30%), имели в своем роду либо страдающих сердечно-сосудистыми заболеваниями, либо участники эксперимента вели не здоровый образ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юди, страдающие заболеванием ЛАГ имеют мутации в гене BMPR 2  и в 89% случав в семье имели родственников, которые скончались в результате проблемы с сердечно-сосудистой систе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627120"/>
            <a:ext cx="10515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Результаты исследования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6" name="Объект 4"/>
          <p:cNvGraphicFramePr/>
          <p:nvPr/>
        </p:nvGraphicFramePr>
        <p:xfrm>
          <a:off x="787320" y="144468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4468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4400" y="1596600"/>
            <a:ext cx="9788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Таким образом, исходя из результатов исследования можно представить некоторые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аличие гена BMPR 2 не обуславливает возникновение болезни, однако ее способны спровоцировать негенетические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наличие мутации в гене BMPR 2 может спровоцировать появление болезни, только если есть сопутствующие заболевания или неблагоприятные условия среды (природные или социальны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развитие заболевания ЛАГ не обязательно зависит от генетических факторов. Большое влияние на здоровье оказывают профилактика и правильный образ жизни, питание и отд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523800" y="769680"/>
            <a:ext cx="11144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09:41:58Z</dcterms:created>
  <dc:creator>og</dc:creator>
  <dc:description/>
  <dc:language>en-US</dc:language>
  <cp:lastModifiedBy>КулагинаСС</cp:lastModifiedBy>
  <dcterms:modified xsi:type="dcterms:W3CDTF">2019-04-01T11:15:20Z</dcterms:modified>
  <cp:revision>41</cp:revision>
  <dc:subject/>
  <dc:title>ИССЛЕДОВАНИЕ  БЕЗЦЕМЕНТНЫХ ВЯЖУЩИХ МАТЕРИАЛОВ  НА ОСНОВЕ ДОМЕННЫХ ШЛАКОВ  С ДОБАВЛЕНИЕМ НАНОМОДИФИКАТОРОВ</dc:title>
</cp:coreProperties>
</file>